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8B6-9403-4250-A361-EA392467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8C0-459C-443E-8384-614E3543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1E1D6-BBEF-4EA9-8AB9-547138FB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4646CC-8019-43A0-BF30-3F042D7D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511A5-2F49-4DDD-8B9E-49475297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8000C-66B8-45B2-8EF3-4BD8B897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8AEE20-D62A-4047-93D5-6F482BA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E7FA6-1244-4B80-AAB8-04DE1587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0317C-8119-4DDE-BFA4-B784D15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E2ABFB-E022-4FA2-A18F-A42F4D93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ADF23F-FE48-48F7-B0A4-50BB16A6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70BF31-ECF7-4251-9085-9285A49F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CDD-5EFA-4D70-B5F4-75D829ED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0929D-9BA8-4C1F-911C-17AEE3B2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DA6549-E53D-4548-8377-BFD9CD6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7B8113-2B8F-4DB5-B918-DD2B9B1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8092D4-05BB-4964-B67D-96A3838B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F41815-3CF1-440F-B83C-5C5E1D3A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D941CF-8A3B-4F00-B5EB-9345F6D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B9CE6E-FA1F-4122-88BB-FB90E76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32433-1DD1-4C2F-A2A9-CACA786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BF525C-76A6-478C-89BB-ADBBD8F0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CEC88F-CE8F-4EB7-B449-D5EB171A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3B4-FE80-4052-8D54-0902C711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FF127A-8531-4E4D-B830-DAA10FEA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952EA-AA00-4C4D-BE55-2726FCB43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EBC8-536E-4397-B9A8-9B2906590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7ECA0-5592-494C-90FB-4A3FA106AF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54227-D1E4-4B51-95B6-B77500374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21F1D-B24F-4190-AC2D-A063AE6D6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236CE-A77E-4764-9C5D-86114E39B2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75E58-4C8E-4301-9B85-484491B21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186-FFA5-46C1-8EF9-11A6F5C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9743E-0B8B-4F73-BC79-D22D365044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C1B6D-837C-420A-A99A-52509F2871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A8B88-37B1-4529-87F9-5AE6E58A6C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20EFE-2BE6-49BE-BE59-8DFB065E6A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E90B8-1E56-4872-A7F8-8EEDDBE203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DF959-4531-46D3-9E4B-B8504142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3BA1A-0F0A-4296-9045-1092A8CF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10A93-23F8-45F6-977F-8B2F614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8F2FF-0A35-4E79-A283-B361A4AE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8C00A-E3F4-4983-8CE1-F57DA727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7B4-71A9-4813-BB6B-A445C32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FAE2D-9BE6-4B28-9BBD-975AD6C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FBD4F-F10A-4464-850F-774BE67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188CB-38BF-44EC-A7C2-B9A8229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51F4F-0C6D-4950-9CDC-9626642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799AB-E306-48A4-A529-02CCDE8C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50B96-96D4-489D-9190-6B11628B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74BD1-37E1-4B56-9EB7-B185705A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F9EB5-26BC-406C-9B41-6583DD43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0088D-1987-4A19-AD56-CB70E81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C9B9A-F9DC-4CDC-90F7-445A3F1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C46-2F5F-4BD0-B3BE-8423F15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902CC-D8FE-4F2C-9860-C917B36B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A1A69-9F54-4DCA-8463-B80249C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E0535-EF92-47E3-9D3C-CF4B05B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6147E-1CDE-4401-836C-E93BB28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7AD14-E3E8-4D63-9F6E-4B3D25D7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A965D-3C68-4BD1-AEB2-C639C49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0817B-695A-46FC-85FF-F6CC70E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12F18-91D7-4B80-96B6-D463E0B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D3B02-7A90-4F84-8AE3-1CB2A08F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58523-C909-4C7B-8FC2-C3841E30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D1E-F1AE-4CA0-8DAC-1063C742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2925E-2F95-413A-897D-43C351B8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02130-70B8-4AD2-9AB1-2F49DEB7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10AC2-21FA-4396-97AC-68877EC8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561FF-14BE-486C-94CA-7C964CEC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EF572-7A50-4B33-AEE3-9EEA6564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62C33-8215-4278-A2F4-84F0869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FB520-5454-4860-B99F-6F9ADEA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BA616-233D-4DD4-9B26-063AB9F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1E350-9F50-48C2-96AF-0B438618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9674A-6ECC-4165-9EA6-825DA9C4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E47-99EE-4BBD-B27D-A904A5E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E1EB8-52EF-48CA-B1E9-0204D1D5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73543-8C76-47CE-8E6D-0FA63CA0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0EC50-CF25-4984-BFD7-FF73C46B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B456F-4D65-4135-B4FE-0C6D7F13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D2EA0-D426-4F13-8A6E-17DA0101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ABE78-1AD0-49F9-B2CD-90BDC9B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1AD7E-E7D0-4446-894F-193E2D87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C40F2-9DF9-430E-A0F3-3E01D75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17116-A94D-401A-B522-ADF8A96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BF672-A467-4E40-A22D-1D0EAC5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339-A4F9-45F6-981E-B169634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2B92D-E20A-4604-83ED-8C5B0C1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103D3-9518-45DF-B6E7-DD05989C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F61CB-9187-4630-8ADA-22EE0B21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8324C-E8AC-47B0-8A3D-CC8C0202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78A43-804F-418B-BC3E-CE6E5F1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F6172-086D-484A-ADC1-4099368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D7C52-92F5-491A-AC59-8FBB0DC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B52B4-A718-4FF3-AA0F-4816B897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99200-CF65-4CDA-BBD8-32A5708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86C44-AFFB-4D65-945F-6C5E035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04A-4484-4295-A2E8-D0FA731E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9A122-6B85-4DF9-9B84-051CC79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E9047-14BC-4986-AE3C-E9BEA34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9305E-C00A-4482-AC4F-EDA34AAC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1D7DF-5AD3-45A1-A58A-8C32434D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3BE3D-B27C-46C4-BD7B-B0E6FB71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E3E96-64DD-41ED-8C3B-7EF414D5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5BE5C-5FA5-43C3-864A-98A4C341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66FCD-062E-4A7F-9A19-CBFBFDF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B1B77-6EA8-45E1-90C3-32D498B9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DCE88-859B-4B02-87B6-2ED11F62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10B-8458-4795-B60F-6BEAE0D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FF263-B1AB-4326-9771-8B49977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539DC-C1E6-4ED2-A53A-DF887E3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CE332-509A-4A20-BA2F-E818B65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095BF-A051-48E1-8607-E7E4BE9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D3DFF-1195-4997-B9EA-BFA0B6B9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6FDEE-B599-4086-BF2D-216423A8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16064-2820-497A-A511-CCE061DC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CE842-11B0-4356-AF95-898A4FE9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5D0F8-8BE9-402D-8D1B-F649BB5F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079CC2-7588-47D5-BE99-BF23EB91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B16B-F55A-4A94-8117-4A0B0A5D2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D1A7-84F5-4AC6-87CA-F9978B4FE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963-AEA0-4393-8651-429EFDAAD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9854-6242-4E56-BF9C-8EB5483BE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E46-398C-47D2-BC59-0BE56F883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9746-E8F7-4CD0-9D7F-9AF03D352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72B-2F4C-419C-963F-C615827C4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BEC-FCA2-4267-B0D8-728B32C58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417-7962-442D-9707-9EE9180A2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9AD-15B3-4E10-82C7-DE002B48D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2960" y="1071720"/>
            <a:ext cx="7772400" cy="40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28400" y="1214280"/>
            <a:ext cx="80010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b050"/>
                </a:solidFill>
                <a:latin typeface="Calibri"/>
              </a:rPr>
              <a:t>Плоды </a:t>
            </a:r>
            <a:br>
              <a:rPr sz="8000"/>
            </a:br>
            <a:r>
              <a:rPr b="0" i="1" lang="ru-RU" sz="8000" spc="-1" strike="noStrike">
                <a:solidFill>
                  <a:srgbClr val="00b050"/>
                </a:solidFill>
                <a:latin typeface="Calibri"/>
              </a:rPr>
              <a:t>и их классификация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14200" y="1500120"/>
          <a:ext cx="8786880" cy="2368440"/>
        </p:xfrm>
        <a:graphic>
          <a:graphicData uri="http://schemas.openxmlformats.org/drawingml/2006/table">
            <a:tbl>
              <a:tblPr/>
              <a:tblGrid>
                <a:gridCol w="2197080"/>
                <a:gridCol w="2089440"/>
                <a:gridCol w="2303280"/>
                <a:gridCol w="2197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пл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пл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растения имеют такой п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су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семянный или многосем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de-DE" sz="3200" spc="-1" strike="noStrike">
                <a:solidFill>
                  <a:srgbClr val="0070c0"/>
                </a:solidFill>
                <a:latin typeface="Calibri"/>
              </a:rPr>
              <a:t>ПЛОД,— </a:t>
            </a:r>
            <a:br>
              <a:rPr sz="2000"/>
            </a:br>
            <a:r>
              <a:rPr b="0" lang="de-DE" sz="2400" spc="-1" strike="noStrike">
                <a:solidFill>
                  <a:srgbClr val="0070c0"/>
                </a:solidFill>
                <a:latin typeface="Calibri"/>
              </a:rPr>
              <a:t>орган покрытосеменных растений, образующийся из цветка и служащий для формирования, защиты и распространения заключенных в нем семя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6" descr="P3159i"/>
          <p:cNvPicPr/>
          <p:nvPr/>
        </p:nvPicPr>
        <p:blipFill>
          <a:blip r:embed="rId1"/>
          <a:stretch/>
        </p:blipFill>
        <p:spPr>
          <a:xfrm>
            <a:off x="3000240" y="1571760"/>
            <a:ext cx="2786040" cy="3278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p_140i"/>
          <p:cNvPicPr/>
          <p:nvPr/>
        </p:nvPicPr>
        <p:blipFill>
          <a:blip r:embed="rId2"/>
          <a:stretch/>
        </p:blipFill>
        <p:spPr>
          <a:xfrm>
            <a:off x="0" y="2500200"/>
            <a:ext cx="3000240" cy="3286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P3158i"/>
          <p:cNvPicPr/>
          <p:nvPr/>
        </p:nvPicPr>
        <p:blipFill>
          <a:blip r:embed="rId3"/>
          <a:stretch/>
        </p:blipFill>
        <p:spPr>
          <a:xfrm>
            <a:off x="5715000" y="3500280"/>
            <a:ext cx="3429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2571840" y="428760"/>
            <a:ext cx="3429000" cy="1071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Прямая со стрелкой 5"/>
          <p:cNvCxnSpPr/>
          <p:nvPr/>
        </p:nvCxnSpPr>
        <p:spPr>
          <a:xfrm flipH="1">
            <a:off x="2642760" y="1499040"/>
            <a:ext cx="9295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4929120" y="1499760"/>
            <a:ext cx="1215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7" name="Овал 9"/>
          <p:cNvSpPr/>
          <p:nvPr/>
        </p:nvSpPr>
        <p:spPr>
          <a:xfrm>
            <a:off x="1285920" y="18572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ч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11"/>
          <p:cNvSpPr/>
          <p:nvPr/>
        </p:nvSpPr>
        <p:spPr>
          <a:xfrm>
            <a:off x="5429160" y="1928880"/>
            <a:ext cx="2000520" cy="1285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х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7"/>
          <p:cNvCxnSpPr>
            <a:stCxn id="477" idx="3"/>
          </p:cNvCxnSpPr>
          <p:nvPr/>
        </p:nvCxnSpPr>
        <p:spPr>
          <a:xfrm flipH="1">
            <a:off x="1071360" y="2953800"/>
            <a:ext cx="49752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0" name="Прямая со стрелкой 19"/>
          <p:cNvCxnSpPr>
            <a:stCxn id="477" idx="5"/>
          </p:cNvCxnSpPr>
          <p:nvPr/>
        </p:nvCxnSpPr>
        <p:spPr>
          <a:xfrm>
            <a:off x="2931120" y="2953800"/>
            <a:ext cx="35460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1" name="Прямая со стрелкой 21"/>
          <p:cNvCxnSpPr/>
          <p:nvPr/>
        </p:nvCxnSpPr>
        <p:spPr>
          <a:xfrm flipH="1">
            <a:off x="5500080" y="3071520"/>
            <a:ext cx="294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2" name="Прямая со стрелкой 23"/>
          <p:cNvCxnSpPr/>
          <p:nvPr/>
        </p:nvCxnSpPr>
        <p:spPr>
          <a:xfrm>
            <a:off x="7214040" y="292896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3" name="Прямоугольник 24"/>
          <p:cNvSpPr/>
          <p:nvPr/>
        </p:nvSpPr>
        <p:spPr>
          <a:xfrm>
            <a:off x="142920" y="3500280"/>
            <a:ext cx="2071800" cy="2571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бл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ык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р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25"/>
          <p:cNvSpPr/>
          <p:nvPr/>
        </p:nvSpPr>
        <p:spPr>
          <a:xfrm>
            <a:off x="2428920" y="3500280"/>
            <a:ext cx="2143080" cy="2571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к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костя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7"/>
          <p:cNvSpPr/>
          <p:nvPr/>
        </p:nvSpPr>
        <p:spPr>
          <a:xfrm>
            <a:off x="6786720" y="3571920"/>
            <a:ext cx="2000160" cy="2500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бочков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обоч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8"/>
          <p:cNvSpPr/>
          <p:nvPr/>
        </p:nvSpPr>
        <p:spPr>
          <a:xfrm>
            <a:off x="4714920" y="3571920"/>
            <a:ext cx="1928880" cy="2500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ех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у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ер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6429600" cy="62150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2"/>
          <p:cNvSpPr/>
          <p:nvPr/>
        </p:nvSpPr>
        <p:spPr>
          <a:xfrm>
            <a:off x="571680" y="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хие и сочные пл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лод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1" name="Прямая со стрелкой 4"/>
          <p:cNvCxnSpPr/>
          <p:nvPr/>
        </p:nvCxnSpPr>
        <p:spPr>
          <a:xfrm flipH="1">
            <a:off x="2285640" y="1143000"/>
            <a:ext cx="200088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2" name="Прямая со стрелкой 6"/>
          <p:cNvCxnSpPr/>
          <p:nvPr/>
        </p:nvCxnSpPr>
        <p:spPr>
          <a:xfrm>
            <a:off x="4785840" y="1143000"/>
            <a:ext cx="171540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3" name="Прямоугольник 7"/>
          <p:cNvSpPr/>
          <p:nvPr/>
        </p:nvSpPr>
        <p:spPr>
          <a:xfrm>
            <a:off x="1143000" y="2500200"/>
            <a:ext cx="2928960" cy="3286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ем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т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ер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5072040" y="2500200"/>
            <a:ext cx="3214800" cy="3286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сем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к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ра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у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бло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3"/>
          <p:cNvSpPr/>
          <p:nvPr/>
        </p:nvSpPr>
        <p:spPr>
          <a:xfrm>
            <a:off x="171468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годовидные пл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457440" cy="2214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547800" cy="3357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6"/>
          <p:cNvSpPr/>
          <p:nvPr/>
        </p:nvSpPr>
        <p:spPr>
          <a:xfrm>
            <a:off x="6215040" y="107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ыкв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1571760" y="12142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3"/>
          <a:stretch/>
        </p:blipFill>
        <p:spPr>
          <a:xfrm>
            <a:off x="285840" y="442908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4"/>
          <a:stretch/>
        </p:blipFill>
        <p:spPr>
          <a:xfrm>
            <a:off x="3929040" y="4714920"/>
            <a:ext cx="2905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янковые пл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S3287i"/>
          <p:cNvPicPr/>
          <p:nvPr/>
        </p:nvPicPr>
        <p:blipFill>
          <a:blip r:embed="rId1"/>
          <a:stretch/>
        </p:blipFill>
        <p:spPr>
          <a:xfrm>
            <a:off x="0" y="35719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2214720" y="1214280"/>
            <a:ext cx="3600360" cy="2571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3"/>
          <a:stretch/>
        </p:blipFill>
        <p:spPr>
          <a:xfrm>
            <a:off x="5786280" y="2214720"/>
            <a:ext cx="3357720" cy="2552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4"/>
          <a:stretch/>
        </p:blipFill>
        <p:spPr>
          <a:xfrm>
            <a:off x="3214800" y="4500720"/>
            <a:ext cx="3714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еховидные пл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4" descr="o_512i"/>
          <p:cNvPicPr/>
          <p:nvPr/>
        </p:nvPicPr>
        <p:blipFill>
          <a:blip r:embed="rId1"/>
          <a:stretch/>
        </p:blipFill>
        <p:spPr>
          <a:xfrm>
            <a:off x="5214960" y="1428840"/>
            <a:ext cx="3714840" cy="3500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d_001i"/>
          <p:cNvPicPr/>
          <p:nvPr/>
        </p:nvPicPr>
        <p:blipFill>
          <a:blip r:embed="rId2"/>
          <a:stretch/>
        </p:blipFill>
        <p:spPr>
          <a:xfrm>
            <a:off x="0" y="1143000"/>
            <a:ext cx="3143160" cy="3214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biol201i"/>
          <p:cNvPicPr/>
          <p:nvPr/>
        </p:nvPicPr>
        <p:blipFill>
          <a:blip r:embed="rId3"/>
          <a:stretch/>
        </p:blipFill>
        <p:spPr>
          <a:xfrm>
            <a:off x="1500120" y="435780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4"/>
          <a:stretch/>
        </p:blipFill>
        <p:spPr>
          <a:xfrm>
            <a:off x="492912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бочковидные пл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5" descr="K:\Светлана\Изо по биологии\викторина цветок и плод\DSCN0169.jpg"/>
          <p:cNvPicPr/>
          <p:nvPr/>
        </p:nvPicPr>
        <p:blipFill>
          <a:blip r:embed="rId1"/>
          <a:stretch/>
        </p:blipFill>
        <p:spPr>
          <a:xfrm>
            <a:off x="0" y="1357200"/>
            <a:ext cx="3257640" cy="35719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6" name="Picture 9" descr="K:\Светлана\Изо по биологии\викторина цветок и плод\ber11.jpg"/>
          <p:cNvPicPr/>
          <p:nvPr/>
        </p:nvPicPr>
        <p:blipFill>
          <a:blip r:embed="rId2"/>
          <a:stretch/>
        </p:blipFill>
        <p:spPr>
          <a:xfrm>
            <a:off x="5429160" y="1357200"/>
            <a:ext cx="3400560" cy="26575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7" name="Picture 2" descr="K:\Светлана\Изо по биологии\Image\f_0848.jpg"/>
          <p:cNvPicPr/>
          <p:nvPr/>
        </p:nvPicPr>
        <p:blipFill>
          <a:blip r:embed="rId3"/>
          <a:srcRect l="18331" t="0" r="18821" b="0"/>
          <a:stretch/>
        </p:blipFill>
        <p:spPr>
          <a:xfrm>
            <a:off x="3214800" y="3571920"/>
            <a:ext cx="3143160" cy="300024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46:13Z</dcterms:created>
  <dc:creator>хосе</dc:creator>
  <dc:description/>
  <dc:language>en-US</dc:language>
  <cp:lastModifiedBy>User</cp:lastModifiedBy>
  <dcterms:modified xsi:type="dcterms:W3CDTF">2014-01-20T10:02:36Z</dcterms:modified>
  <cp:revision>20</cp:revision>
  <dc:subject/>
  <dc:title>Слайд 1</dc:title>
</cp:coreProperties>
</file>