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23B-8572-4102-8D4F-7807905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058-E5E8-4405-B46A-1A60FC7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A6FFB-201C-4DA6-95AF-4F56426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9326B-FC87-42F9-8D77-48836DD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D6620E-7A7B-46DD-8E79-80E932BD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0BE75-0BFF-4320-9EA4-7B14AF0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00840-2125-41BD-AA4C-9352EF9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FE648-42CD-4EF5-BA44-639842D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32B41-F9F7-4D55-99AE-D3B4A1DB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1BC05-C065-4735-AAB5-8938FA96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4F0B1-4A72-40CD-A597-7E01A238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ED8C7-461E-4434-B893-243EF9A0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E26-06B7-41A9-9A31-46C77C0D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F2C54-028A-4751-8D12-53F2E5E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80594D-75B7-456E-A083-0FDC8405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9B178-D22C-4673-8B01-BE7373E7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0370E-8384-494D-AB2A-151D2B9E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860B2B-E762-4A78-B232-30B7F252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6BC636-BFC0-424E-950A-3084AC8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17821C-C21A-4648-ABC0-E00E072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F9665-A0F0-4847-8073-AD2E250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C0101E-6C48-4C13-A797-A2D2253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9D0DE9-49C3-483A-A0D3-B5CF1D9E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E66-F929-4C80-B860-B746D91C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92651C-029E-40BC-9B10-FDF4412A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24776-B685-4C1E-A752-3ED1DEA651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56A8-9298-4C98-ADA5-B95ABF4758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34061-EB5E-417F-8CDB-19FB74ABB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6B4F-0648-41AA-8267-8F547406F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17D6C-6BFD-48D1-9162-8560B86E6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82E7-AF8F-46A7-8998-266016D66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75C7-693E-45B5-B3FA-C41315CBF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090-FC8D-4AA7-B946-93E38117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EB7C4-A04E-46BB-9F68-F5F539C32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7FA7C-CE13-4FFD-BACB-5588C8F2E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658EA-5379-4B6D-A9B6-698112504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9A56F-E437-4652-B3D0-34B6A9F9E3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4592-C53A-48DA-83AA-9C18E73047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05226-9998-4E03-BE18-681E2E17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B154A-46C4-49D4-ACC2-39E0CF5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80C7F-2D73-4791-9A12-B401F259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A3838-5231-4AE6-81B6-96F1CDC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60A54-A92F-4022-8B6B-91EE3AF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1D2-47CE-4631-B3B3-BCA3A27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2E7F8-275F-44FC-AD4B-E1C9A27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4C4F2-1968-4EFC-BAD0-3E4C5C1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81BE0-6A10-4166-8743-AE80755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33EC4-C2C0-4915-8448-2A2403A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DEF40-A53E-4CE4-BCC3-1CCFC8F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6B49B-30CF-4B52-92CB-830A9DFB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299E4-3D82-4B01-94F3-92B90B38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257C6-B5DB-4564-BE00-D6127CC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C61B4-09C6-47CC-8137-1971ED58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C0F58-5220-4D82-9728-75FCCC20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FCA-E38C-478C-9688-C3D9E20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0FFEF-2025-489E-B943-51DF91B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52299-DD00-4884-BF22-D0B8EA1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0BB55-CBBD-4107-8EEA-F0646E6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31426-77D6-4CFC-AD87-1C8D9B9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910A5-5912-44D6-A8A0-0591C2E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71176-DFFB-4DE6-9540-4E826E8B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F3B67-B08D-407E-9E24-55915F2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588F5-A760-451B-ABF7-9F811908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49CBF-478D-4F44-9BBD-0B90793F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366DD-C2F6-42D7-8EDD-4168B67E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721-6FCD-4084-AB3F-284B893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C1722-8082-45CC-B809-4BF6938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ACC71-574D-4FFA-8CC7-9E22B9F0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32EB8-5245-4B57-B015-C52CD17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3FDE2-7CB3-4906-B7B9-9ACC867B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ED288-86FC-4863-84D7-36C9BDD5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0EF53-2C52-4676-9930-9F1B9EE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57735-F17D-4FBC-8584-3849444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88B1B-B1CD-4F6C-849C-BD7ABDB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9500A-230D-4162-8781-9B063E3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9D87D-6F0E-4E0C-B5A1-FBF5E479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1AD-9025-4CAC-801C-3D94E10A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D06A2-2783-4185-94AD-66303258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B4759-3624-48C2-8D8F-66DAD36D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1A3A3-D8D4-4C57-B11E-6FA528C3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BA561-179A-4A28-8739-7D016A0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E49B4-968A-4CDA-BB93-92C37F0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6E1E5-CBFC-4EBF-90AB-50A13F65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CC65B-F8DA-4813-84B8-DBD4E36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D1D84-C330-4D8C-B275-191F81D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1F68D-6CD7-45AA-B6AF-CB8E5B4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EC2CB-7AA5-449E-B5FC-E74FFF6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665-B7B4-419F-995E-0D3FBA74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43FC4-E1F5-4120-A800-CDCA264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EE504-F9A4-4A18-A209-3F8B868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66D99-4C2F-4431-85FD-5600BF3D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7B98B-7777-49D2-86B8-D372EDB4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60985-3C92-4C48-AFB1-CC4B65B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09DC5-916C-498E-A80E-D4BD683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2EE52-5EEE-4605-A8A5-49BB495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C6A83-A262-42D5-9F6F-A7E50A3E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B3BB0-B111-4848-BC5A-E837584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5860F-7C78-425E-A7F0-DA065E4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EA5-FC26-448E-BCD7-468B0AD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E3D28-8B9F-47CB-B649-1FA9A4D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B313C-56E9-420B-86BF-457159D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7152B-BE18-48E2-AD78-3FFA4E51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D0E16-0B62-42F5-A90F-03024F16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D478B-0225-4AFF-84C2-BCC40419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85FAC-2FBC-46D4-8CE1-5C5E9EE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1CCEA-9B65-4239-B834-00029DE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19CA0-A998-4858-BD0A-11F616DE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FCCA2-E251-4EF3-9752-07CAE66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6E089-0A0E-41F1-B206-25A317E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BD6-4A59-45E1-A580-223A89F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BDE64-F514-4B3F-B230-D578F8E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49189-52E2-41F1-8BAC-5BC7414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402D7-C539-4067-8085-4A2D4B3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75E4C-214A-439D-8949-3D6D2A8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F3689-0F72-48D0-8508-870446B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99FB0-D0AD-4D2A-8DE8-C6BDE4FA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B5CAA-F24D-4232-A6CF-F4D85E7B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E9453-2EFB-40B0-BE35-8489F064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8053BA-AAB5-4DF7-9FEE-C01E3CF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BAD74-EF21-4E0C-920E-0A0AD914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990-3D6B-4446-A6C7-ED1A14C25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4D4-0061-470F-A67A-6310893C6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4B7A-8BAC-4307-BEFA-5AE6B0947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52F-CC75-4546-A049-DF9F58494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0C3-74C6-4D9A-B383-289D1BEBE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5900-090B-45B8-B761-ABB74935D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C7C-779A-4B64-9497-39460D9C5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2E4-2616-4748-B760-48EC0561E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413D-9B78-4CF5-A899-20828B9BD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BC0-8628-46BF-9F1D-3E628AD54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2960" y="1071720"/>
            <a:ext cx="7772400" cy="40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28400" y="1214280"/>
            <a:ext cx="80010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Плоды </a:t>
            </a:r>
            <a:br>
              <a:rPr sz="8000"/>
            </a:br>
            <a:r>
              <a:rPr b="0" i="1" lang="ru-RU" sz="8000" spc="-1" strike="noStrike">
                <a:solidFill>
                  <a:srgbClr val="00b050"/>
                </a:solidFill>
                <a:latin typeface="Calibri"/>
              </a:rPr>
              <a:t>и их классификация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14200" y="1500120"/>
          <a:ext cx="8786880" cy="2368440"/>
        </p:xfrm>
        <a:graphic>
          <a:graphicData uri="http://schemas.openxmlformats.org/drawingml/2006/table">
            <a:tbl>
              <a:tblPr/>
              <a:tblGrid>
                <a:gridCol w="2197080"/>
                <a:gridCol w="2089440"/>
                <a:gridCol w="2303280"/>
                <a:gridCol w="2197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пл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пл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растения имеют такой п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су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семянный или многосем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de-DE" sz="3200" spc="-1" strike="noStrike">
                <a:solidFill>
                  <a:srgbClr val="0070c0"/>
                </a:solidFill>
                <a:latin typeface="Calibri"/>
              </a:rPr>
              <a:t>ПЛОД,— </a:t>
            </a:r>
            <a:br>
              <a:rPr sz="2000"/>
            </a:br>
            <a:r>
              <a:rPr b="0" lang="de-DE" sz="2400" spc="-1" strike="noStrike">
                <a:solidFill>
                  <a:srgbClr val="0070c0"/>
                </a:solidFill>
                <a:latin typeface="Calibri"/>
              </a:rPr>
              <a:t>орган покрытосеменных растений, образующийся из цветка и служащий для формирования, защиты и распространения заключенных в нем семя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6" descr="P3159i"/>
          <p:cNvPicPr/>
          <p:nvPr/>
        </p:nvPicPr>
        <p:blipFill>
          <a:blip r:embed="rId1"/>
          <a:stretch/>
        </p:blipFill>
        <p:spPr>
          <a:xfrm>
            <a:off x="3000240" y="1571760"/>
            <a:ext cx="2786040" cy="3278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p_140i"/>
          <p:cNvPicPr/>
          <p:nvPr/>
        </p:nvPicPr>
        <p:blipFill>
          <a:blip r:embed="rId2"/>
          <a:stretch/>
        </p:blipFill>
        <p:spPr>
          <a:xfrm>
            <a:off x="0" y="2500200"/>
            <a:ext cx="3000240" cy="3286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P3158i"/>
          <p:cNvPicPr/>
          <p:nvPr/>
        </p:nvPicPr>
        <p:blipFill>
          <a:blip r:embed="rId3"/>
          <a:stretch/>
        </p:blipFill>
        <p:spPr>
          <a:xfrm>
            <a:off x="5715000" y="3500280"/>
            <a:ext cx="3429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2571840" y="428760"/>
            <a:ext cx="3429000" cy="1071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Прямая со стрелкой 5"/>
          <p:cNvCxnSpPr/>
          <p:nvPr/>
        </p:nvCxnSpPr>
        <p:spPr>
          <a:xfrm flipH="1">
            <a:off x="2642760" y="1499040"/>
            <a:ext cx="9295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4929120" y="1499760"/>
            <a:ext cx="1215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7" name="Овал 9"/>
          <p:cNvSpPr/>
          <p:nvPr/>
        </p:nvSpPr>
        <p:spPr>
          <a:xfrm>
            <a:off x="1285920" y="18572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11"/>
          <p:cNvSpPr/>
          <p:nvPr/>
        </p:nvSpPr>
        <p:spPr>
          <a:xfrm>
            <a:off x="5429160" y="1928880"/>
            <a:ext cx="2000520" cy="1285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х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7"/>
          <p:cNvCxnSpPr>
            <a:stCxn id="477" idx="3"/>
          </p:cNvCxnSpPr>
          <p:nvPr/>
        </p:nvCxnSpPr>
        <p:spPr>
          <a:xfrm flipH="1">
            <a:off x="1071360" y="2953800"/>
            <a:ext cx="49752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0" name="Прямая со стрелкой 19"/>
          <p:cNvCxnSpPr>
            <a:stCxn id="477" idx="5"/>
          </p:cNvCxnSpPr>
          <p:nvPr/>
        </p:nvCxnSpPr>
        <p:spPr>
          <a:xfrm>
            <a:off x="2931120" y="2953800"/>
            <a:ext cx="35460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1" name="Прямая со стрелкой 21"/>
          <p:cNvCxnSpPr/>
          <p:nvPr/>
        </p:nvCxnSpPr>
        <p:spPr>
          <a:xfrm flipH="1">
            <a:off x="5500080" y="3071520"/>
            <a:ext cx="294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2" name="Прямая со стрелкой 23"/>
          <p:cNvCxnSpPr/>
          <p:nvPr/>
        </p:nvCxnSpPr>
        <p:spPr>
          <a:xfrm>
            <a:off x="7214040" y="292896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3" name="Прямоугольник 24"/>
          <p:cNvSpPr/>
          <p:nvPr/>
        </p:nvSpPr>
        <p:spPr>
          <a:xfrm>
            <a:off x="142920" y="3500280"/>
            <a:ext cx="207180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бл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25"/>
          <p:cNvSpPr/>
          <p:nvPr/>
        </p:nvSpPr>
        <p:spPr>
          <a:xfrm>
            <a:off x="2428920" y="3500280"/>
            <a:ext cx="2143080" cy="2571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костя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7"/>
          <p:cNvSpPr/>
          <p:nvPr/>
        </p:nvSpPr>
        <p:spPr>
          <a:xfrm>
            <a:off x="6786720" y="3571920"/>
            <a:ext cx="200016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бочков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обоч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8"/>
          <p:cNvSpPr/>
          <p:nvPr/>
        </p:nvSpPr>
        <p:spPr>
          <a:xfrm>
            <a:off x="4714920" y="3571920"/>
            <a:ext cx="1928880" cy="2500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ови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6429600" cy="62150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"/>
          <p:cNvSpPr/>
          <p:nvPr/>
        </p:nvSpPr>
        <p:spPr>
          <a:xfrm>
            <a:off x="571680" y="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хие и сочные пл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л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1" name="Прямая со стрелкой 4"/>
          <p:cNvCxnSpPr/>
          <p:nvPr/>
        </p:nvCxnSpPr>
        <p:spPr>
          <a:xfrm flipH="1">
            <a:off x="2285640" y="1143000"/>
            <a:ext cx="200088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2" name="Прямая со стрелкой 6"/>
          <p:cNvCxnSpPr/>
          <p:nvPr/>
        </p:nvCxnSpPr>
        <p:spPr>
          <a:xfrm>
            <a:off x="4785840" y="1143000"/>
            <a:ext cx="171540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3" name="Прямоугольник 7"/>
          <p:cNvSpPr/>
          <p:nvPr/>
        </p:nvSpPr>
        <p:spPr>
          <a:xfrm>
            <a:off x="1143000" y="2500200"/>
            <a:ext cx="292896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т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ер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5072040" y="2500200"/>
            <a:ext cx="3214800" cy="3286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сем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к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р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бло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3"/>
          <p:cNvSpPr/>
          <p:nvPr/>
        </p:nvSpPr>
        <p:spPr>
          <a:xfrm>
            <a:off x="171468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годовидные 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457440" cy="2214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547800" cy="3357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6"/>
          <p:cNvSpPr/>
          <p:nvPr/>
        </p:nvSpPr>
        <p:spPr>
          <a:xfrm>
            <a:off x="6215040" y="107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ыкв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1571760" y="12142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3"/>
          <a:stretch/>
        </p:blipFill>
        <p:spPr>
          <a:xfrm>
            <a:off x="285840" y="442908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4"/>
          <a:stretch/>
        </p:blipFill>
        <p:spPr>
          <a:xfrm>
            <a:off x="3929040" y="4714920"/>
            <a:ext cx="2905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янковые пл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S3287i"/>
          <p:cNvPicPr/>
          <p:nvPr/>
        </p:nvPicPr>
        <p:blipFill>
          <a:blip r:embed="rId1"/>
          <a:stretch/>
        </p:blipFill>
        <p:spPr>
          <a:xfrm>
            <a:off x="0" y="35719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2214720" y="1214280"/>
            <a:ext cx="3600360" cy="257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3"/>
          <a:stretch/>
        </p:blipFill>
        <p:spPr>
          <a:xfrm>
            <a:off x="5786280" y="2214720"/>
            <a:ext cx="3357720" cy="2552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4"/>
          <a:stretch/>
        </p:blipFill>
        <p:spPr>
          <a:xfrm>
            <a:off x="3214800" y="4500720"/>
            <a:ext cx="3714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ех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4" descr="o_512i"/>
          <p:cNvPicPr/>
          <p:nvPr/>
        </p:nvPicPr>
        <p:blipFill>
          <a:blip r:embed="rId1"/>
          <a:stretch/>
        </p:blipFill>
        <p:spPr>
          <a:xfrm>
            <a:off x="5214960" y="1428840"/>
            <a:ext cx="3714840" cy="3500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0" descr="d_001i"/>
          <p:cNvPicPr/>
          <p:nvPr/>
        </p:nvPicPr>
        <p:blipFill>
          <a:blip r:embed="rId2"/>
          <a:stretch/>
        </p:blipFill>
        <p:spPr>
          <a:xfrm>
            <a:off x="0" y="1143000"/>
            <a:ext cx="3143160" cy="3214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biol201i"/>
          <p:cNvPicPr/>
          <p:nvPr/>
        </p:nvPicPr>
        <p:blipFill>
          <a:blip r:embed="rId3"/>
          <a:stretch/>
        </p:blipFill>
        <p:spPr>
          <a:xfrm>
            <a:off x="1500120" y="435780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4"/>
          <a:stretch/>
        </p:blipFill>
        <p:spPr>
          <a:xfrm>
            <a:off x="492912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бочковидные пл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5" descr="K:\Светлана\Изо по биологии\викторина цветок и плод\DSCN0169.jpg"/>
          <p:cNvPicPr/>
          <p:nvPr/>
        </p:nvPicPr>
        <p:blipFill>
          <a:blip r:embed="rId1"/>
          <a:stretch/>
        </p:blipFill>
        <p:spPr>
          <a:xfrm>
            <a:off x="0" y="1357200"/>
            <a:ext cx="3257640" cy="35719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6" name="Picture 9" descr="K:\Светлана\Изо по биологии\викторина цветок и плод\ber11.jpg"/>
          <p:cNvPicPr/>
          <p:nvPr/>
        </p:nvPicPr>
        <p:blipFill>
          <a:blip r:embed="rId2"/>
          <a:stretch/>
        </p:blipFill>
        <p:spPr>
          <a:xfrm>
            <a:off x="5429160" y="1357200"/>
            <a:ext cx="3400560" cy="26575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7" name="Picture 2" descr="K:\Светлана\Изо по биологии\Image\f_0848.jpg"/>
          <p:cNvPicPr/>
          <p:nvPr/>
        </p:nvPicPr>
        <p:blipFill>
          <a:blip r:embed="rId3"/>
          <a:srcRect l="18331" t="0" r="18821" b="0"/>
          <a:stretch/>
        </p:blipFill>
        <p:spPr>
          <a:xfrm>
            <a:off x="3214800" y="3571920"/>
            <a:ext cx="3143160" cy="300024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46:13Z</dcterms:created>
  <dc:creator>хосе</dc:creator>
  <dc:description/>
  <dc:language>en-US</dc:language>
  <cp:lastModifiedBy>User</cp:lastModifiedBy>
  <dcterms:modified xsi:type="dcterms:W3CDTF">2014-01-20T10:02:36Z</dcterms:modified>
  <cp:revision>20</cp:revision>
  <dc:subject/>
  <dc:title>Слайд 1</dc:title>
</cp:coreProperties>
</file>