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194-C659-402C-B55D-86727F00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79D-779F-4C34-9EDC-530B6392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8D2274-8DBA-42AE-AF75-E775E655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3026AA-0E9F-4A02-A706-1BEA637B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B1BE60-18DA-4803-9672-E76E91D2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5B1FD6-81EE-46BD-8554-CB1CDB26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B539E2-C011-4BAA-A9AC-D557192E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94572A-9D6C-45B2-8F0F-56D088DD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2A2CF9-7877-434D-9F4A-772E8870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46C2D0-7878-41C9-BA09-2AF1DA97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E97E75-7F75-456E-9C27-EE138603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2B2E40-4755-4945-896D-444C681B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5B3-701C-42CF-8CD0-C462B42C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AED418-9B5D-4138-AE22-13081431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97AE2A-A8B8-4A7B-B18A-2943FC89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635EC6-803E-436E-8113-CAE0B229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836858-FBA6-49F2-B8D4-E99553B7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DF0FC0-A08E-42CD-9FC4-6679E9ED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94B83A-78D0-4E3A-86C4-D73B2E45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7ECE06-41F0-4C6E-A4F5-965B232C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3E24D0-9833-49F0-AC6E-4BA9FF28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6AAF1E-FE8A-4E44-A6B3-6E87B122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BB9D38-36EC-4806-B40F-94854502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D9E-F858-4715-A480-7C47A31B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517531-B591-4930-B4C2-E7B90E84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E9459-603F-40CA-9EC2-41E9F26616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70D00-1878-4B67-9455-87989A7B73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6973C-817D-4A72-AF11-D59C26E8BD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86A2D-54BF-4723-ACAE-D220391AEF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BD84D-7FC7-4689-9236-7005203C77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C1008-F1FB-4D96-A090-4070B27CC8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02827-0255-4C44-821F-156ECA3D26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7EA-EF5A-422A-A4C9-09189A0A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EBEC9-2350-42F8-9BC7-33A1C222C0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C2B5F-F944-431A-BB72-2226CA2586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D60F4-8CC7-49AE-A6B4-DA32840289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DFB7F-5E90-4C51-8948-87D70C48EE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2A764-4393-42C6-9D4F-A1992A4877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F7FA4-A8C2-4065-A5B7-42505EA1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B8EE7-5D46-4D46-960F-18C73044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C2D7A-2D3B-4B23-A6E6-2EB10BD5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05344-3D31-4345-B34C-2241348F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F3326-319A-454F-B1E4-5A035291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9C0-09D2-416F-B284-845137EA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169BC-DBAC-4EE9-A04F-EF89388B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9D441-2DB7-4C62-BDAD-6C9FE9A7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A48C6-4ADE-4E97-B54A-4F601A90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58773-6852-4EE4-81BD-053D8A47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B5D05-778D-4E0F-93F2-44DFDE94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16CCD-16B5-4A31-B9D2-140D1A86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5CCDD-EA9E-432F-A1FE-DB04E7B2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5D5FF7-6746-42E9-AFB0-93FE6DB2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193ECF-25FC-4435-8665-BC748B74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CF705E-575A-471E-9324-7D178B9C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B89-F273-49F6-85F2-0C9EC31D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3FB08F-DFF5-4EB6-BBA1-95EDE7AB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41C65-9783-4560-8949-075442A2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E5BDEF-7D1F-43AF-8386-B0D5A3B6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AC4150-B78B-432A-912A-E9CF6983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ED3367-9051-4387-A5AE-E84A0669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6BD08C-6457-4192-B8DD-3F1FFB31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4D3536-E57B-45B5-8E9D-A5B82D46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E9102-5B6B-475C-BB20-F9D6639D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9BB05-FA41-4B3D-9771-3FBEBA07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531B7-8839-460B-8C78-EB55E313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AF4-699C-42C1-84D2-84FB3C00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5CD49-6CCC-4A18-8EDA-6714E48E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F9304C-5CAA-490A-9E6D-8A5F62A7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EF044-0941-4F80-9726-58E64A8A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7079B-506A-4DB3-B161-793CC20D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2C20B-F65F-48B8-B1F3-7D590337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C5B46-AF73-4F49-98FC-599FCF57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06A1DB-E9F1-42DD-9B33-F79276FC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7FD6E-BFCE-4BE9-8459-85C9DE5D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8FE9C-7B9E-4DAC-AD5A-B8B7B1FF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B8216-0091-46A5-81F2-211DF01B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151-FDEF-4470-9935-8C8A904C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AD45E-B214-434B-B256-BA590604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12CE84-17F2-4AB1-AE72-14CF9E18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E610A-6A1E-4819-824C-BE21802D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AC19B9-B4F0-452B-8D36-92350E47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DE109-22DB-440A-8DF8-B914CA2F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80A4E3-3FCD-467E-986C-7781C8F3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26C00-7A2B-46DA-ABB7-4289941C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DC483-1C73-4B9D-A3EC-94C53F7E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75D2E-9D86-45D2-9435-4831E70F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2E9B9-0248-4D76-A3C3-3662109A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3E3-1553-4B38-9526-0C4EAF3E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F846EC-90C9-4FC7-8CCC-50F4D7C8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56552A-72DA-432C-AE62-ACCF154B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65FE9F-4354-4E44-87AB-A7C347C2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31482A-71B8-48B0-84ED-05135FBC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AD9C3E-C780-48F8-B92B-F8493C3E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2D3C45-A8C5-4CE4-ACDA-D138A016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AC051-8FC9-4DCE-82EB-530D429E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2F3CEA-E099-4DC9-BC78-3B2F712B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0720C-39E2-440E-9884-01350DFD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74071F-EBFF-4349-BF8D-91DC9D98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3C9-02CB-4B01-BDF0-D2A7E379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709AAC-8C1A-401D-A25A-82EFFA20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2FD3C2-32FA-4FCE-8BCF-040131DD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3AD9D-06B3-4D90-AC8B-5F0D89BD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CBF6D6-D049-420F-8A6A-CF5CD644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B5B59-A62C-4D7C-8E25-D924081B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E9A0CB-714F-4F0B-946E-9C7EE53E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B5D165-66E8-4F5A-A02D-7B9A5727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4A7E19-D13C-4C7A-8E75-782DBE09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397610-0470-4E42-B5C6-EF8C173F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AFB7AB-B27A-4B3C-B5FE-7F27CB34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B27-908A-456A-B715-3B26A230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281DBC-20D2-4401-A9FE-32618E20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15F2D8-E327-4D11-B3F0-7086FA59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2B3A0B-3D17-4672-ACB0-7A6A20C4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6C195C-4FA8-4B11-B15F-DF6C2194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8BD200-E9D7-4DFB-AA90-803737D0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BF11C3-A7DA-4021-9DF2-16823F10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A76204-E73B-4E99-A80C-A877A982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5FAAF6-0DA9-4B60-9B2F-9F2B7471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B7DDDC-D568-4475-99C0-C61EB8FA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67E953-2C4A-41D4-9AE3-480C0709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EC44-F7E5-4F39-B25E-EFE2561F11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C:\Documents and Settings\Admin\Рабочий стол\для шаблонов\прозр2.gif"/>
          <p:cNvPicPr/>
          <p:nvPr/>
        </p:nvPicPr>
        <p:blipFill>
          <a:blip r:embed="rId5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EDB8-1C8B-4A3A-B29B-47DFE11BCA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Admin\Рабочий стол\для шаблонов\ввсс.gif"/>
          <p:cNvPicPr/>
          <p:nvPr/>
        </p:nvPicPr>
        <p:blipFill>
          <a:blip r:embed="rId5"/>
          <a:stretch/>
        </p:blipFill>
        <p:spPr>
          <a:xfrm>
            <a:off x="857160" y="1357200"/>
            <a:ext cx="7400880" cy="389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Admin\Рабочий стол\угадай\Зелёный.gif"/>
          <p:cNvPicPr/>
          <p:nvPr/>
        </p:nvPicPr>
        <p:blipFill>
          <a:blip r:embed="rId6"/>
          <a:stretch/>
        </p:blipFill>
        <p:spPr>
          <a:xfrm>
            <a:off x="357120" y="6630840"/>
            <a:ext cx="1067040" cy="22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Admin\Рабочий стол\для шаблонов\Копия прозр.gif"/>
          <p:cNvPicPr/>
          <p:nvPr/>
        </p:nvPicPr>
        <p:blipFill>
          <a:blip r:embed="rId9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Рабочий стол\для шаблонов\прозр2.gif"/>
          <p:cNvPicPr/>
          <p:nvPr/>
        </p:nvPicPr>
        <p:blipFill>
          <a:blip r:embed="rId10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3DAE-4168-459C-8D0A-1A1B3D10DC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\Рабочий стол\для шаблонов\прозр2.gif"/>
          <p:cNvPicPr/>
          <p:nvPr/>
        </p:nvPicPr>
        <p:blipFill>
          <a:blip r:embed="rId7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2C8B-15FB-4C6E-9EAA-D49F60D2F1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9C4A-466E-4A79-9660-4C5FEB8B52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ADB8-42FE-405F-8096-2C61187615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00D8-0B30-4C05-961A-F75FA407AA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1C0F-71A8-43AE-B80B-A2F6E62B0C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B3CB-CA17-4726-9739-059360536D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1E58-9B43-432C-B74E-23031AEF3B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42960" y="1071720"/>
            <a:ext cx="7772400" cy="40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28400" y="1214280"/>
            <a:ext cx="80010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b050"/>
                </a:solidFill>
                <a:latin typeface="Calibri"/>
              </a:rPr>
              <a:t>Плоды </a:t>
            </a:r>
            <a:br>
              <a:rPr sz="8000"/>
            </a:br>
            <a:r>
              <a:rPr b="0" i="1" lang="ru-RU" sz="8000" spc="-1" strike="noStrike">
                <a:solidFill>
                  <a:srgbClr val="00b050"/>
                </a:solidFill>
                <a:latin typeface="Calibri"/>
              </a:rPr>
              <a:t>и их классификация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214200" y="1500120"/>
          <a:ext cx="8786880" cy="2368440"/>
        </p:xfrm>
        <a:graphic>
          <a:graphicData uri="http://schemas.openxmlformats.org/drawingml/2006/table">
            <a:tbl>
              <a:tblPr/>
              <a:tblGrid>
                <a:gridCol w="2197080"/>
                <a:gridCol w="2089440"/>
                <a:gridCol w="2303280"/>
                <a:gridCol w="21970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пло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 пл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ие растения имеют такой пл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ч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и сух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носемянный или многосемя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de-DE" sz="3200" spc="-1" strike="noStrike">
                <a:solidFill>
                  <a:srgbClr val="0070c0"/>
                </a:solidFill>
                <a:latin typeface="Calibri"/>
              </a:rPr>
              <a:t>ПЛОД,— </a:t>
            </a:r>
            <a:br>
              <a:rPr sz="2000"/>
            </a:br>
            <a:r>
              <a:rPr b="0" lang="de-DE" sz="2400" spc="-1" strike="noStrike">
                <a:solidFill>
                  <a:srgbClr val="0070c0"/>
                </a:solidFill>
                <a:latin typeface="Calibri"/>
              </a:rPr>
              <a:t>орган покрытосеменных растений, образующийся из цветка и служащий для формирования, защиты и распространения заключенных в нем семя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6" descr="P3159i"/>
          <p:cNvPicPr/>
          <p:nvPr/>
        </p:nvPicPr>
        <p:blipFill>
          <a:blip r:embed="rId1"/>
          <a:stretch/>
        </p:blipFill>
        <p:spPr>
          <a:xfrm>
            <a:off x="3000240" y="1571760"/>
            <a:ext cx="2786040" cy="3278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8" descr="p_140i"/>
          <p:cNvPicPr/>
          <p:nvPr/>
        </p:nvPicPr>
        <p:blipFill>
          <a:blip r:embed="rId2"/>
          <a:stretch/>
        </p:blipFill>
        <p:spPr>
          <a:xfrm>
            <a:off x="0" y="2500200"/>
            <a:ext cx="3000240" cy="32860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P3158i"/>
          <p:cNvPicPr/>
          <p:nvPr/>
        </p:nvPicPr>
        <p:blipFill>
          <a:blip r:embed="rId3"/>
          <a:stretch/>
        </p:blipFill>
        <p:spPr>
          <a:xfrm>
            <a:off x="5715000" y="3500280"/>
            <a:ext cx="34290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о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Прямоугольник 3"/>
          <p:cNvSpPr/>
          <p:nvPr/>
        </p:nvSpPr>
        <p:spPr>
          <a:xfrm>
            <a:off x="2571840" y="428760"/>
            <a:ext cx="3429000" cy="1071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лод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Прямая со стрелкой 5"/>
          <p:cNvCxnSpPr/>
          <p:nvPr/>
        </p:nvCxnSpPr>
        <p:spPr>
          <a:xfrm flipH="1">
            <a:off x="2642760" y="1499040"/>
            <a:ext cx="92952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6" name="Прямая со стрелкой 7"/>
          <p:cNvCxnSpPr/>
          <p:nvPr/>
        </p:nvCxnSpPr>
        <p:spPr>
          <a:xfrm>
            <a:off x="4929120" y="1499760"/>
            <a:ext cx="1215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7" name="Овал 9"/>
          <p:cNvSpPr/>
          <p:nvPr/>
        </p:nvSpPr>
        <p:spPr>
          <a:xfrm>
            <a:off x="1285920" y="1857240"/>
            <a:ext cx="1928880" cy="128592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чн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11"/>
          <p:cNvSpPr/>
          <p:nvPr/>
        </p:nvSpPr>
        <p:spPr>
          <a:xfrm>
            <a:off x="5429160" y="1928880"/>
            <a:ext cx="2000520" cy="128592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х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Прямая со стрелкой 17"/>
          <p:cNvCxnSpPr>
            <a:stCxn id="477" idx="3"/>
          </p:cNvCxnSpPr>
          <p:nvPr/>
        </p:nvCxnSpPr>
        <p:spPr>
          <a:xfrm flipH="1">
            <a:off x="1071360" y="2953800"/>
            <a:ext cx="497520" cy="546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0" name="Прямая со стрелкой 19"/>
          <p:cNvCxnSpPr>
            <a:stCxn id="477" idx="5"/>
          </p:cNvCxnSpPr>
          <p:nvPr/>
        </p:nvCxnSpPr>
        <p:spPr>
          <a:xfrm>
            <a:off x="2931120" y="2953800"/>
            <a:ext cx="354600" cy="546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1" name="Прямая со стрелкой 21"/>
          <p:cNvCxnSpPr/>
          <p:nvPr/>
        </p:nvCxnSpPr>
        <p:spPr>
          <a:xfrm flipH="1">
            <a:off x="5500080" y="3071520"/>
            <a:ext cx="29412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2" name="Прямая со стрелкой 23"/>
          <p:cNvCxnSpPr/>
          <p:nvPr/>
        </p:nvCxnSpPr>
        <p:spPr>
          <a:xfrm>
            <a:off x="7214040" y="2928960"/>
            <a:ext cx="429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3" name="Прямоугольник 24"/>
          <p:cNvSpPr/>
          <p:nvPr/>
        </p:nvSpPr>
        <p:spPr>
          <a:xfrm>
            <a:off x="142920" y="3500280"/>
            <a:ext cx="2071800" cy="2571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годови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бло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ык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ера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25"/>
          <p:cNvSpPr/>
          <p:nvPr/>
        </p:nvSpPr>
        <p:spPr>
          <a:xfrm>
            <a:off x="2428920" y="3500280"/>
            <a:ext cx="2143080" cy="2571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стянко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стя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костян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7"/>
          <p:cNvSpPr/>
          <p:nvPr/>
        </p:nvSpPr>
        <p:spPr>
          <a:xfrm>
            <a:off x="6786720" y="3571920"/>
            <a:ext cx="2000160" cy="2500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обочков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у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обоч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28"/>
          <p:cNvSpPr/>
          <p:nvPr/>
        </p:nvSpPr>
        <p:spPr>
          <a:xfrm>
            <a:off x="4714920" y="3571920"/>
            <a:ext cx="1928880" cy="2500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ехови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у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я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ерн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1214280" y="642960"/>
            <a:ext cx="6429600" cy="6215040"/>
          </a:xfrm>
          <a:prstGeom prst="rect">
            <a:avLst/>
          </a:prstGeom>
          <a:ln w="0">
            <a:noFill/>
          </a:ln>
        </p:spPr>
      </p:pic>
      <p:sp>
        <p:nvSpPr>
          <p:cNvPr id="488" name="TextBox 2"/>
          <p:cNvSpPr/>
          <p:nvPr/>
        </p:nvSpPr>
        <p:spPr>
          <a:xfrm>
            <a:off x="571680" y="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хие и сочные пл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Плод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1" name="Прямая со стрелкой 4"/>
          <p:cNvCxnSpPr/>
          <p:nvPr/>
        </p:nvCxnSpPr>
        <p:spPr>
          <a:xfrm flipH="1">
            <a:off x="2285640" y="1143000"/>
            <a:ext cx="2000880" cy="13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2" name="Прямая со стрелкой 6"/>
          <p:cNvCxnSpPr/>
          <p:nvPr/>
        </p:nvCxnSpPr>
        <p:spPr>
          <a:xfrm>
            <a:off x="4785840" y="1143000"/>
            <a:ext cx="1715400" cy="13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3" name="Прямоугольник 7"/>
          <p:cNvSpPr/>
          <p:nvPr/>
        </p:nvSpPr>
        <p:spPr>
          <a:xfrm>
            <a:off x="1143000" y="2500200"/>
            <a:ext cx="2928960" cy="32860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сем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ст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м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ер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лу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8"/>
          <p:cNvSpPr/>
          <p:nvPr/>
        </p:nvSpPr>
        <p:spPr>
          <a:xfrm>
            <a:off x="5072040" y="2500200"/>
            <a:ext cx="3214800" cy="32860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сем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ык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б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ера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о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у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Яблок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оугольник 3"/>
          <p:cNvSpPr/>
          <p:nvPr/>
        </p:nvSpPr>
        <p:spPr>
          <a:xfrm>
            <a:off x="1714680" y="28584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годовидные пло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3457440" cy="2214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4857840" y="1428840"/>
            <a:ext cx="3547800" cy="3357360"/>
          </a:xfrm>
          <a:prstGeom prst="rect">
            <a:avLst/>
          </a:prstGeom>
          <a:ln w="0">
            <a:noFill/>
          </a:ln>
        </p:spPr>
      </p:pic>
      <p:sp>
        <p:nvSpPr>
          <p:cNvPr id="500" name="TextBox 6"/>
          <p:cNvSpPr/>
          <p:nvPr/>
        </p:nvSpPr>
        <p:spPr>
          <a:xfrm>
            <a:off x="6215040" y="107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ыкв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7"/>
          <p:cNvSpPr/>
          <p:nvPr/>
        </p:nvSpPr>
        <p:spPr>
          <a:xfrm>
            <a:off x="1571760" y="12142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Я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3"/>
          <a:stretch/>
        </p:blipFill>
        <p:spPr>
          <a:xfrm>
            <a:off x="285840" y="4429080"/>
            <a:ext cx="2928960" cy="20001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"/>
          <p:cNvPicPr/>
          <p:nvPr/>
        </p:nvPicPr>
        <p:blipFill>
          <a:blip r:embed="rId4"/>
          <a:stretch/>
        </p:blipFill>
        <p:spPr>
          <a:xfrm>
            <a:off x="3929040" y="4714920"/>
            <a:ext cx="2905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стянковые пло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5" descr="S3287i"/>
          <p:cNvPicPr/>
          <p:nvPr/>
        </p:nvPicPr>
        <p:blipFill>
          <a:blip r:embed="rId1"/>
          <a:stretch/>
        </p:blipFill>
        <p:spPr>
          <a:xfrm>
            <a:off x="0" y="3571920"/>
            <a:ext cx="3071880" cy="3286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"/>
          <p:cNvPicPr/>
          <p:nvPr/>
        </p:nvPicPr>
        <p:blipFill>
          <a:blip r:embed="rId2"/>
          <a:stretch/>
        </p:blipFill>
        <p:spPr>
          <a:xfrm>
            <a:off x="2214720" y="1214280"/>
            <a:ext cx="3600360" cy="25718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3"/>
          <a:stretch/>
        </p:blipFill>
        <p:spPr>
          <a:xfrm>
            <a:off x="5786280" y="2214720"/>
            <a:ext cx="3357720" cy="2552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"/>
          <p:cNvPicPr/>
          <p:nvPr/>
        </p:nvPicPr>
        <p:blipFill>
          <a:blip r:embed="rId4"/>
          <a:stretch/>
        </p:blipFill>
        <p:spPr>
          <a:xfrm>
            <a:off x="3214800" y="4500720"/>
            <a:ext cx="37144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еховидные пл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Picture 4" descr="o_512i"/>
          <p:cNvPicPr/>
          <p:nvPr/>
        </p:nvPicPr>
        <p:blipFill>
          <a:blip r:embed="rId1"/>
          <a:stretch/>
        </p:blipFill>
        <p:spPr>
          <a:xfrm>
            <a:off x="5214960" y="1428840"/>
            <a:ext cx="3714840" cy="3500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0" descr="d_001i"/>
          <p:cNvPicPr/>
          <p:nvPr/>
        </p:nvPicPr>
        <p:blipFill>
          <a:blip r:embed="rId2"/>
          <a:stretch/>
        </p:blipFill>
        <p:spPr>
          <a:xfrm>
            <a:off x="0" y="1143000"/>
            <a:ext cx="3143160" cy="3214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biol201i"/>
          <p:cNvPicPr/>
          <p:nvPr/>
        </p:nvPicPr>
        <p:blipFill>
          <a:blip r:embed="rId3"/>
          <a:stretch/>
        </p:blipFill>
        <p:spPr>
          <a:xfrm>
            <a:off x="1500120" y="4357800"/>
            <a:ext cx="3143160" cy="25002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"/>
          <p:cNvPicPr/>
          <p:nvPr/>
        </p:nvPicPr>
        <p:blipFill>
          <a:blip r:embed="rId4"/>
          <a:stretch/>
        </p:blipFill>
        <p:spPr>
          <a:xfrm>
            <a:off x="4929120" y="51148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обочковидные пл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5" descr="K:\Светлана\Изо по биологии\викторина цветок и плод\DSCN0169.jpg"/>
          <p:cNvPicPr/>
          <p:nvPr/>
        </p:nvPicPr>
        <p:blipFill>
          <a:blip r:embed="rId1"/>
          <a:stretch/>
        </p:blipFill>
        <p:spPr>
          <a:xfrm>
            <a:off x="0" y="1357200"/>
            <a:ext cx="3257640" cy="357192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16" name="Picture 9" descr="K:\Светлана\Изо по биологии\викторина цветок и плод\ber11.jpg"/>
          <p:cNvPicPr/>
          <p:nvPr/>
        </p:nvPicPr>
        <p:blipFill>
          <a:blip r:embed="rId2"/>
          <a:stretch/>
        </p:blipFill>
        <p:spPr>
          <a:xfrm>
            <a:off x="5429160" y="1357200"/>
            <a:ext cx="3400560" cy="265752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17" name="Picture 2" descr="K:\Светлана\Изо по биологии\Image\f_0848.jpg"/>
          <p:cNvPicPr/>
          <p:nvPr/>
        </p:nvPicPr>
        <p:blipFill>
          <a:blip r:embed="rId3"/>
          <a:srcRect l="18331" t="0" r="18821" b="0"/>
          <a:stretch/>
        </p:blipFill>
        <p:spPr>
          <a:xfrm>
            <a:off x="3214800" y="3571920"/>
            <a:ext cx="3143160" cy="300024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2:46:13Z</dcterms:created>
  <dc:creator>хосе</dc:creator>
  <dc:description/>
  <dc:language>en-US</dc:language>
  <cp:lastModifiedBy>User</cp:lastModifiedBy>
  <dcterms:modified xsi:type="dcterms:W3CDTF">2014-01-20T10:02:36Z</dcterms:modified>
  <cp:revision>20</cp:revision>
  <dc:subject/>
  <dc:title>Слайд 1</dc:title>
</cp:coreProperties>
</file>