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B6F-0DEE-4526-B4E3-78B62FFD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5A7-9F18-44B8-9DCA-C1641428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148-6449-4FB6-94C4-AD9CF92C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9E8-57F7-4C35-A23F-D6747E6E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3DD8-E7EC-4BE8-B77A-4BFA6C59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4F3E-15CA-491D-B2D8-7A1269B6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D1C9-A23F-4799-92A8-D84EB55F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DAA2-43B1-42B8-8D4C-396C0E67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20E0-93FB-4191-8962-87E4C77F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D4D4-67F9-4C4A-83B8-C85EAC27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87CE-3058-49E0-9A4C-E95BF11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5A7-AB1B-45A0-A99D-B87770CD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3062-4FF3-4CC1-83E0-0293CB3A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3F48-9350-4A9B-9524-04E206C2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F838-4228-44E9-BCC9-6E47EEFA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B529-E433-426B-94DD-0E3BE20C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5628-1D35-403B-ABBE-3A8F79EA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4E4-35F9-4681-B395-65BEC291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A93-FBD9-4A3B-8695-80191B6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F1D-E610-48D6-95A2-757AEC4A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501-D2AF-4E4E-A74C-13C489BD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81A-0BB1-4497-95E4-B5BFA1DE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80C-095F-47FA-A7B6-4F8C0B8F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823-4AF2-4B6D-B0B9-312D555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DDBF-1835-4F34-9BB6-AC28FBF603D2}" type="datetime3">
              <a:rPr b="0" lang="ru-RU" sz="1400" spc="-1" strike="noStrike">
                <a:solidFill>
                  <a:srgbClr val="000000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5A5C-183B-478A-99B0-EB7553015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5BCA-D530-4265-BDEB-05072D75AFCB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A68-AFBD-465A-98ED-739950D5FD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239B-26AE-47AC-9E99-34E9289AB406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ижний колонтитул 2"/>
          <p:cNvSpPr/>
          <p:nvPr/>
        </p:nvSpPr>
        <p:spPr>
          <a:xfrm>
            <a:off x="59292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D4E0-46B5-429B-AD83-92B05454DB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22360" y="136440"/>
            <a:ext cx="79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ганская область, Петуховский район, МОУ «Новогеоргиев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250920" y="2924280"/>
            <a:ext cx="432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есневые грибы и дрожжи</a:t>
            </a:r>
            <a:endParaRPr b="0" lang="en-US" sz="1800" spc="1" strike="noStrike">
              <a:ln w="9360">
                <a:solidFill>
                  <a:srgbClr val="080808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927600" cy="2960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447480" y="4529160"/>
            <a:ext cx="41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ковлева Ларис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8B07-331F-46F1-81AF-9E2835AD50C0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7B39-50DF-4D5F-86BF-3D63A37C46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гатик пестиковый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625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FDD9-85A0-4B26-BAA4-8E517445867A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EB4F-E91D-4C48-909A-F8E61B8FA2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старушка вр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не шляпка бл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ога в ботин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чулке пестрин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меня коснё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т уже не проснё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доль лесных дор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 белых н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шляпках разноцв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дали зам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ирай, не мешк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7AC7-F1B7-45FE-866C-758065C61C50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20FD-38B4-4AFB-A6C0-E96B334484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арь грибов на толстой ножке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лучший для луко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головку держит смел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ому что гриб он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весёлые реб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зовут все нас…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назвали нас не зр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на пне живём, друз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2783-9B07-4F4A-8CB8-CFDB367A0208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A386-7AFB-4670-AE23-ECF44B2FC9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ОЖЖИ, сборная группа одноклеточных грибов из различных классов . Широко распространены в природе. Размножаются преимущественно почкованием. Многие вызывают спиртовое брожение. Богаты белком, витаминами группы В. Используются в виноделии, пивоварении, хлебопечении, сельском хозяйстве (дрожжи кормовые) и др.; пивные дрожжи — в медицине при гиповитаминозе B1, нарушениях обмена веществ, фурункулезе и др. Объект генетических исследо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2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AEF5-6F20-4D09-9F5E-859D04B5142C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Нижний колонтитул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FE52-4465-4C1A-B208-8D5191E1EF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419720" cy="33321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 пекарск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85" name="Picture 5" descr="L11p01p02"/>
          <p:cNvPicPr/>
          <p:nvPr/>
        </p:nvPicPr>
        <p:blipFill>
          <a:blip r:embed="rId2"/>
          <a:stretch/>
        </p:blipFill>
        <p:spPr>
          <a:xfrm>
            <a:off x="3780000" y="2727360"/>
            <a:ext cx="4606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BD95-551B-4C3C-BD73-5F52AD4B497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0226-4655-4A46-AAF7-95D33865B1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Муко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216240" cy="28303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коровые грибы широко распространены в природе. Это одни из самых обычных микроскопических грибов, растущих в почве, на прошлогодних листьях и траве, на навозе, пищевых отбро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411280" y="2708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050920" y="3213000"/>
            <a:ext cx="3095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C374-8925-40D5-B978-861B37E2093C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B6C6-EFAA-41F0-882A-A9E48B8170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Асперг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ПЕРГИЛЛ, род несовершенных грибов. Около 160 видов, главным образом в виде плесени на пищевых продуктах, в почве, на сырых стенах и т. д. Некоторые виды вызывают болезни, другие — применяют в производстве лимонной кислоты, антибиотиков, фер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695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9563-4D5B-4B7F-8DBC-B6AA3DCD73B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35E8-F6C8-41BF-B248-669F9A4630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НИЦИЛЛ - род грибов, около 250 видов, в почве, в виде плесеней на пищевых продуктах (вызывают их порчу). Образуют антибиотики (например, пенициллин), используются в сыровар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4917960" y="2519280"/>
            <a:ext cx="39276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C625-65DF-4033-8825-E0B1BA70FCC8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70F6-20A9-44CF-B247-07A8400D20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522600" cy="3759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3511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9B06-56BA-41BB-81C3-2F28F1AE2F5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9264-BB43-4D78-8E2B-889FADCC6B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2C87-87D2-4D20-9447-DEB2581172E9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AAF7-CA4F-4480-8B36-2ECFBDB8E3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 об особенностях строения и условиях жизни плесневых грибов; раскрыть их роль в природе и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1D9A-12D6-4CF9-955E-69C5E57C35BC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0E19-A6B8-41AD-A354-066841FF35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1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Шампиньоны и вёшенки научились выращивать на соломе, на навозе, на обрезках стволов (чурбаках) спиленных лиственных деревьев. Почему нельзя выращивать белые грибы или подосиновики таким же способ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70B8-7274-47A7-99BD-598CBEB12DB0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5B42-DB7A-4602-AC16-2E3ACDC0C5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2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 названных грибов относятся к трубчатым, а какие к пластинчатым: маслята, рыжики, белые грибы, лисички, подосиновики, сыроежки, шампиньоны, подберёзовики, грузди, опя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5B6B-BEE2-4177-B71C-9BA7BC4BDD33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C198-8366-4270-A075-E1D5073562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руб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5" name="Picture 8" descr="Маслёнок"/>
          <p:cNvPicPr/>
          <p:nvPr/>
        </p:nvPicPr>
        <p:blipFill>
          <a:blip r:embed="rId1"/>
          <a:stretch/>
        </p:blipFill>
        <p:spPr>
          <a:xfrm>
            <a:off x="1476360" y="1700280"/>
            <a:ext cx="2544840" cy="2239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824200" cy="217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Подберёзовик №2"/>
          <p:cNvPicPr/>
          <p:nvPr/>
        </p:nvPicPr>
        <p:blipFill>
          <a:blip r:embed="rId3"/>
          <a:stretch/>
        </p:blipFill>
        <p:spPr>
          <a:xfrm>
            <a:off x="1476360" y="4076640"/>
            <a:ext cx="2567160" cy="2019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Белый гриб"/>
          <p:cNvPicPr/>
          <p:nvPr/>
        </p:nvPicPr>
        <p:blipFill>
          <a:blip r:embed="rId4"/>
          <a:stretch/>
        </p:blipFill>
        <p:spPr>
          <a:xfrm>
            <a:off x="5076720" y="4005360"/>
            <a:ext cx="28018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B30B-4C2E-4961-B0F2-B821B3FF9725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62F2-3171-4372-AC93-E33A194D8D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астин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679480" cy="201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Лисичка"/>
          <p:cNvPicPr/>
          <p:nvPr/>
        </p:nvPicPr>
        <p:blipFill>
          <a:blip r:embed="rId2"/>
          <a:stretch/>
        </p:blipFill>
        <p:spPr>
          <a:xfrm>
            <a:off x="3708360" y="1557360"/>
            <a:ext cx="1677960" cy="2019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Груздь настоящий"/>
          <p:cNvPicPr/>
          <p:nvPr/>
        </p:nvPicPr>
        <p:blipFill>
          <a:blip r:embed="rId3"/>
          <a:stretch/>
        </p:blipFill>
        <p:spPr>
          <a:xfrm>
            <a:off x="468360" y="3860640"/>
            <a:ext cx="2716200" cy="2019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Шампиньон"/>
          <p:cNvPicPr/>
          <p:nvPr/>
        </p:nvPicPr>
        <p:blipFill>
          <a:blip r:embed="rId4"/>
          <a:stretch/>
        </p:blipFill>
        <p:spPr>
          <a:xfrm>
            <a:off x="3708360" y="3860640"/>
            <a:ext cx="1673280" cy="2092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136OpenkiNast"/>
          <p:cNvPicPr/>
          <p:nvPr/>
        </p:nvPicPr>
        <p:blipFill>
          <a:blip r:embed="rId5"/>
          <a:stretch/>
        </p:blipFill>
        <p:spPr>
          <a:xfrm>
            <a:off x="5867280" y="3860640"/>
            <a:ext cx="2697120" cy="2022480"/>
          </a:xfrm>
          <a:prstGeom prst="rect">
            <a:avLst/>
          </a:prstGeom>
          <a:ln w="0">
            <a:noFill/>
          </a:ln>
        </p:spPr>
      </p:pic>
      <p:sp>
        <p:nvSpPr>
          <p:cNvPr id="138" name="Line 15"/>
          <p:cNvSpPr/>
          <p:nvPr/>
        </p:nvSpPr>
        <p:spPr>
          <a:xfrm flipH="1" flipV="1">
            <a:off x="2916360" y="2349000"/>
            <a:ext cx="287280" cy="2374920"/>
          </a:xfrm>
          <a:prstGeom prst="line">
            <a:avLst/>
          </a:prstGeom>
          <a:ln w="9360">
            <a:solidFill>
              <a:srgbClr val="080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6"/>
          <a:stretch/>
        </p:blipFill>
        <p:spPr>
          <a:xfrm>
            <a:off x="5867280" y="1557360"/>
            <a:ext cx="2641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62C1-BC1A-4622-953D-2B085E156D2C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6B4F-5A91-43D0-8AC5-932E97CD0B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3,4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гриб самый ядовиты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съедобные грибы можно круглый год выращивать в теплиц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0648-7C84-405F-8974-EC8CDA689A24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C22B-ED7A-4C37-B447-85B01D1346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5,6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лоси и другие копытные животные поедают мухомо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грибы ищут со специально выдрессированными собаками, а во Франции – с домашними свинья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2EB5-2DB8-4426-B24D-15544B55E917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FA34-8FD7-43D0-B00A-C9756556C2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Грибы, занесённые в Красную Книгу Росси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4057560" cy="3530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258720" y="5681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ЮФЕЛЬ ЛЕТ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5:35:56Z</dcterms:created>
  <dc:creator>user</dc:creator>
  <dc:description/>
  <dc:language>en-US</dc:language>
  <cp:lastModifiedBy>Николай</cp:lastModifiedBy>
  <dcterms:modified xsi:type="dcterms:W3CDTF">2013-01-09T08:57:01Z</dcterms:modified>
  <cp:revision>9</cp:revision>
  <dc:subject/>
  <dc:title>Дрожжи, плесневые грибы и грибы - паразиты</dc:title>
</cp:coreProperties>
</file>