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65A-A00F-43C9-BF00-96F93078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552-150B-4F1F-A0EC-90FD85B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298-FB91-4F88-86EA-D3662A92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12B-46E9-4DB2-9003-9241CF24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9403-3396-4C28-961C-C4D5B25C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A7EC-58C9-4287-8F22-E8772C08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B7B-C9B3-4C4F-8790-68A62EC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7F8-2355-43B3-8DBB-B990C0B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7A10-FCF2-47C0-B1D3-3363ABAD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FBED-276A-4F4B-861D-87092AD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680D-5D0F-4232-8321-D27C5ED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4FE-94A6-4A4F-9FEB-C378F85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CA7-7D9D-463D-835C-1277CDCC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463F-FA9A-402F-9F68-9403AAA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98C-5EC6-42E3-9508-E914E69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9BA-98C3-475C-A5C2-95546326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8500-7F46-44C1-A909-0A88FEBC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B39-3256-46F8-B45C-D9BD88D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76B-CF69-4DAB-84E0-1F34F053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0B4-EED3-44CA-8880-65BF03C9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38D-6B0F-45FE-A51F-37FA7202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DBD-7A6E-4CD0-B68F-85025A7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214-B1FC-4921-9315-9A8335D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565-9676-4101-9063-977F1B4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B7B4-6F8E-4E48-AF2A-944496F22C39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3B87-350E-4013-8FDD-45590BFC5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D1AF-6A74-406E-9991-230C69280979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74E-33CA-49A4-87A8-E89788E230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AFB-456F-42DB-9D1E-56654F7C63A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ижний колонтитул 2"/>
          <p:cNvSpPr/>
          <p:nvPr/>
        </p:nvSpPr>
        <p:spPr>
          <a:xfrm>
            <a:off x="59292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2357-09B7-415E-AD90-2443F5CC90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2360" y="13644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250920" y="2924280"/>
            <a:ext cx="432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есневые грибы и дрожжи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27600" cy="2960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447480" y="452916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DC99-FDC7-4D39-B35D-0C847B6DB10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5882-4252-4FD9-87FD-08B36E49C7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гатик пестиковы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25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9857-04A3-4B8B-822E-AC9C0C56357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4AE-9E8A-4E54-8659-5E2A040E32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тарушка вр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не шляпка бл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ога в ботин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чулке пестр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меня коснё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 уже не проснё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доль лесных дор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белых н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ляпках разноцв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ли зам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й, не мешк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9E8B-C81F-4ED5-A25F-9E6B35A0804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275-0E16-4B00-8E22-B74162D666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арь грибов на толстой нож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лучший для лу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головку держит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гриб он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есёлые реб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овут все нас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назвали нас не зр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на пне живём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EF9-3864-4E30-9134-7D7230D97D1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FF36-2D03-4631-BAD0-648FD79207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И, сборная группа одноклеточных грибов из различных классов . Широко распространены в природе. Размножаются преимущественно почкованием. Многие вызывают спиртовое брожение. Богаты белком, витаминами группы В. Используются в виноделии, пивоварении, хлебопечении, сельском хозяйстве (дрожжи кормовые) и др.; пивные дрожжи — в медицине при гиповитаминозе B1, нарушениях обмена веществ, фурункулезе и др. Объект генет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CD74-C91A-4241-9B83-E307B736116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ED70-5210-4301-83EB-D5D5FD5DDE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19720" cy="3332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 пекарск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5" name="Picture 5" descr="L11p01p02"/>
          <p:cNvPicPr/>
          <p:nvPr/>
        </p:nvPicPr>
        <p:blipFill>
          <a:blip r:embed="rId2"/>
          <a:stretch/>
        </p:blipFill>
        <p:spPr>
          <a:xfrm>
            <a:off x="3780000" y="272736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006-B2BF-46AD-A66C-2F0D703F8FD6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A59-453D-41DD-8856-6D7E7EB250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Муко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216240" cy="28303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коровые грибы широко распространены в природе. Это одни из самых обычных микроскопических грибов, растущих в почве, на прошлогодних листьях и траве, на навозе, пищевых отбро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41128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095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6A31-E640-4E99-AF13-30A66F5B463F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4D21-0438-4938-BF81-83E1425151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Асперг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ПЕРГИЛЛ, род несовершенных грибов. Около 160 видов, главным образом в виде плесени на пищевых продуктах, в почве, на сырых стенах и т. д. 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AE80-675B-49C2-8F49-D5BC929A927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00D-42C7-4016-ACFB-474ABADD67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НИЦИЛЛ - род грибов, около 250 видов, в почве, в виде плесеней на пищевых продуктах (вызывают их порчу). Образуют антибиотики (например, пенициллин), используются в сыровар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4917960" y="2519280"/>
            <a:ext cx="3927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A1D-E307-42B0-B5C9-FCC1AFDB833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A16F-7B08-430E-81ED-C2ED74A1CB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22600" cy="375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1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D70-6C80-4AE8-A317-68559BA3616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67B-A58B-4560-9CEF-6D7225A382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BECD-357C-4BEB-AAA6-DB0E4C4FB9E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D646-E94A-442D-BA66-55EC531FC0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об особенностях строения и условиях жизни плесневых грибов; раскрыть их роль в природе и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6CD9-E315-4FAB-A1D0-279220C99FA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D288-7B9E-4205-9650-30BBD29930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Шампиньоны и вёшенки научились выращивать на соломе, на навозе, на обрезках стволов (чурбаках) спиленных лиственных деревьев. Почему нельзя выращивать белые грибы или подосиновики таким же способ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AE3-58D3-4E2F-9B0E-0AEF3588F04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ACE5-4AD7-4BC6-9CBF-33D1F9CBDD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2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азванных грибов относятся к трубчатым, а какие к пластинчатым: маслята, рыжики, белые грибы, лисички, подосиновики, сыроежки, шампиньоны, подберёзовики, грузди, опя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90F-D88A-44CA-97C6-AC1AE22D56FC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EFA-46F8-446D-BEEA-88EB210663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руб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5" name="Picture 8" descr="Маслёнок"/>
          <p:cNvPicPr/>
          <p:nvPr/>
        </p:nvPicPr>
        <p:blipFill>
          <a:blip r:embed="rId1"/>
          <a:stretch/>
        </p:blipFill>
        <p:spPr>
          <a:xfrm>
            <a:off x="1476360" y="1700280"/>
            <a:ext cx="254484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824200" cy="217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1476360" y="4076640"/>
            <a:ext cx="2567160" cy="2019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Белый гриб"/>
          <p:cNvPicPr/>
          <p:nvPr/>
        </p:nvPicPr>
        <p:blipFill>
          <a:blip r:embed="rId4"/>
          <a:stretch/>
        </p:blipFill>
        <p:spPr>
          <a:xfrm>
            <a:off x="5076720" y="4005360"/>
            <a:ext cx="28018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701-D644-46BB-AE7B-14CAF5FF6E8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3234-6626-4357-940A-03BDCC7FF8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астин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Лисичка"/>
          <p:cNvPicPr/>
          <p:nvPr/>
        </p:nvPicPr>
        <p:blipFill>
          <a:blip r:embed="rId2"/>
          <a:stretch/>
        </p:blipFill>
        <p:spPr>
          <a:xfrm>
            <a:off x="3708360" y="1557360"/>
            <a:ext cx="167796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Груздь настоящий"/>
          <p:cNvPicPr/>
          <p:nvPr/>
        </p:nvPicPr>
        <p:blipFill>
          <a:blip r:embed="rId3"/>
          <a:stretch/>
        </p:blipFill>
        <p:spPr>
          <a:xfrm>
            <a:off x="468360" y="386064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Шампиньон"/>
          <p:cNvPicPr/>
          <p:nvPr/>
        </p:nvPicPr>
        <p:blipFill>
          <a:blip r:embed="rId4"/>
          <a:stretch/>
        </p:blipFill>
        <p:spPr>
          <a:xfrm>
            <a:off x="3708360" y="3860640"/>
            <a:ext cx="1673280" cy="2092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36OpenkiNast"/>
          <p:cNvPicPr/>
          <p:nvPr/>
        </p:nvPicPr>
        <p:blipFill>
          <a:blip r:embed="rId5"/>
          <a:stretch/>
        </p:blipFill>
        <p:spPr>
          <a:xfrm>
            <a:off x="5867280" y="3860640"/>
            <a:ext cx="2697120" cy="2022480"/>
          </a:xfrm>
          <a:prstGeom prst="rect">
            <a:avLst/>
          </a:prstGeom>
          <a:ln w="0">
            <a:noFill/>
          </a:ln>
        </p:spPr>
      </p:pic>
      <p:sp>
        <p:nvSpPr>
          <p:cNvPr id="138" name="Line 15"/>
          <p:cNvSpPr/>
          <p:nvPr/>
        </p:nvSpPr>
        <p:spPr>
          <a:xfrm flipH="1" flipV="1">
            <a:off x="2916360" y="2349000"/>
            <a:ext cx="287280" cy="2374920"/>
          </a:xfrm>
          <a:prstGeom prst="line">
            <a:avLst/>
          </a:prstGeom>
          <a:ln w="9360">
            <a:solidFill>
              <a:srgbClr val="080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2641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0209-39B5-40C2-84D9-1ED3E592DE4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6F1-FF71-46C0-BED8-2AFD7F7D39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3,4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5E2-9438-4487-B57B-49F547B57C7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E5E9-6D0A-4F62-B8C6-2422BE475B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5,6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грибы ищут со специально выдрессированными собаками, а во Франции – с домашними свин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393D-22F5-4904-B737-16452B3BC0C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FAEE-833E-429C-A63B-3E8681D627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Грибы, занесённые в Красную Книгу Росси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057560" cy="3530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58720" y="5681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ЮФЕЛЬ ЛЕТ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35:56Z</dcterms:created>
  <dc:creator>user</dc:creator>
  <dc:description/>
  <dc:language>en-US</dc:language>
  <cp:lastModifiedBy>Николай</cp:lastModifiedBy>
  <dcterms:modified xsi:type="dcterms:W3CDTF">2013-01-09T08:57:01Z</dcterms:modified>
  <cp:revision>9</cp:revision>
  <dc:subject/>
  <dc:title>Дрожжи, плесневые грибы и грибы - паразиты</dc:title>
</cp:coreProperties>
</file>