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9CA-BA8A-4A26-B764-C6371CF7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BD7-789C-43C3-85E3-0E90CAF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464-8591-47D8-9134-AC9E9DA8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881-84DC-4392-B1C3-5B2E898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AD6D-DDC8-41AC-8D21-A02E80A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BEC0-DBB9-4393-ADD9-90A482DB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DDB-85E9-4512-8124-B9908D8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2CF3-32E2-4457-9EB5-E1EA9D8D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55D-1A05-448C-89FC-8758566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3C6A-8B03-466A-ABD1-27159AE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B89-FF2D-4A8E-922D-7709C31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52C-187A-47BB-A547-A35C361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E24-8954-4D10-9DAD-0972D2F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4A6-8A63-4E51-B457-42BAC41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8C29-EFFE-4379-BD41-2F84B68F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1FA-199D-4882-9F0C-D1732F1F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AD40-FD63-413E-BBE4-0A7AD1E7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D84-B89B-44E9-8D93-F67F4CA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23B-F710-4ADE-A675-BE50B31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A8F-DB8E-4588-A8C8-36EF24A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9C8-C4BC-4584-B049-1E4FE6BC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D37-DBB2-45E0-B455-12D4BA2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DB4-211D-45CD-A9E4-57EFA26D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285-63CC-44DA-9042-FD22B92A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58C-215A-4863-9BBD-6D4FD7480FD7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6C4A-BC31-455E-ADEE-AB199C865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987-98CC-4B17-B92C-43CFF555E61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2B93-7BD5-4937-B282-0CC5CDD911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B39-C6C5-4DE4-92A0-81F5A4179A76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5B8-3BF7-47A1-A865-26F6873448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E77-3C41-4CF4-B9F6-A59BD61358F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02F-73DF-4827-BB0F-47BEC6DCA0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48C-EE36-4B98-A6C4-D7C349DE7E3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A17-AA9B-4CB9-874A-3B274E0ABF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5CD-267D-46F3-9FA8-8FCEE240357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0481-38A9-4E81-AB2F-540708517C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3CC-9A65-4918-B67C-04F31B017A7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A09B-DE32-4BDF-B803-7771FD1B3E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90A9-666B-481E-85D2-51549B4F2E4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6A08-5765-439F-B195-7A52440DDD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5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B8B-9C42-46BD-A934-EB3946151BC6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619B-56BA-4684-92BE-4C853A46D9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BA08-66F1-4F86-B379-341F5B83104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96E-A079-4E34-9A0A-661B37F824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9866-FC37-4506-A671-8DDD73C052A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0575-FA2D-4473-B3AE-441B077B95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0FAF-D6ED-4402-9495-91B6116011B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AB2-95A2-4A64-AECD-12C526EB68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FF1-0868-4C5C-A33D-06519672FAB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AC0-2441-446D-BBAE-3B88F4A3E2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840-4095-4F96-BDD3-9861C2E040F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D32-9D32-400D-8BBC-A1F49E431B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032-2520-4CD5-84FA-BE80055583A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FEC-2482-44F1-94CB-72ED0DF156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99F7-8F6C-4074-9B95-F6087A13926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1DCE-5E22-4A60-AC57-4A28529E62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9EF-4A0F-45AA-8EDF-B35B837A22D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0BB6-62A6-43B0-A340-B01FCA97AD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5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14D7-165A-4978-8E50-C2BAC12F549D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DAD-F8A3-4898-BEC6-DA1A1E5C8F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8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579-108E-4B9E-A315-BE72735C1FF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D10-4DFC-4022-A813-FA2FFA2DB4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DD2-8458-4F71-ACDE-272095131BB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29AD-A193-4CBB-B25F-9407BA50F9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D66-CDF8-4A39-8FE8-E5102DF18B4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B25-1D3E-443D-8979-BDB568EFF9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Николай</cp:lastModifiedBy>
  <dcterms:modified xsi:type="dcterms:W3CDTF">2013-01-09T08:57:01Z</dcterms:modified>
  <cp:revision>9</cp:revision>
  <dc:subject/>
  <dc:title>Дрожжи, плесневые грибы и грибы - паразиты</dc:title>
</cp:coreProperties>
</file>