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9.jpeg" ContentType="image/jpe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4.gif" ContentType="image/gif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20720" y="179280"/>
            <a:ext cx="7920000" cy="396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ищ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ля ума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79640" y="3780000"/>
            <a:ext cx="755964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0360" y="2700000"/>
            <a:ext cx="85215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Белок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Кальций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Витамин В-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9640" y="360360"/>
            <a:ext cx="7920000" cy="23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Молочные продукт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9280" y="3240000"/>
            <a:ext cx="478152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79640" y="1079640"/>
            <a:ext cx="5940360" cy="1800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Творо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8320" y="2160720"/>
            <a:ext cx="371484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19280" y="1440000"/>
            <a:ext cx="5219640" cy="3600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Твёрдый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сыр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0000" y="3419640"/>
            <a:ext cx="5400360" cy="34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40000" y="-360360"/>
            <a:ext cx="6840360" cy="23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ясо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Белок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Железо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005280" y="3602160"/>
            <a:ext cx="59958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едостаток лецитина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060720" y="360360"/>
            <a:ext cx="8459640" cy="64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23dc"/>
                </a:solidFill>
                <a:latin typeface="Tahoma"/>
              </a:rPr>
              <a:t>  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2323dc"/>
              </a:solidFill>
              <a:latin typeface="Tahoma"/>
              <a:ea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800000"/>
            <a:ext cx="841860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5400" spc="-1" strike="noStrike">
                <a:solidFill>
                  <a:srgbClr val="b80047"/>
                </a:solidFill>
                <a:latin typeface="Arial"/>
              </a:rPr>
              <a:t>Ухудшение памяти</a:t>
            </a: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5400" spc="-1" strike="noStrike">
                <a:solidFill>
                  <a:srgbClr val="4700b8"/>
                </a:solidFill>
                <a:latin typeface="Arial"/>
              </a:rPr>
              <a:t>Дефицит внимания</a:t>
            </a: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5400" spc="-1" strike="noStrike">
                <a:solidFill>
                  <a:srgbClr val="00ae00"/>
                </a:solidFill>
                <a:latin typeface="Arial"/>
              </a:rPr>
              <a:t>Раздражительность</a:t>
            </a:r>
            <a:endParaRPr b="0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99280" y="1619280"/>
            <a:ext cx="720720" cy="41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197480" y="1619280"/>
            <a:ext cx="90324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57480" y="1619280"/>
            <a:ext cx="23432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234000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60720" y="539640"/>
            <a:ext cx="1979640" cy="234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1620720" cy="19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047600" y="3241800"/>
            <a:ext cx="752760" cy="305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419640" y="3600360"/>
            <a:ext cx="2339640" cy="27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659640" y="720720"/>
            <a:ext cx="2520720" cy="23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940360" y="3419640"/>
            <a:ext cx="306072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21880" y="1619280"/>
            <a:ext cx="835812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аствуют в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вательной активности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60360" y="-179280"/>
            <a:ext cx="66614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Овощи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30120" y="3419640"/>
            <a:ext cx="2909880" cy="3497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419640" y="3419640"/>
            <a:ext cx="282708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480000" y="3419640"/>
            <a:ext cx="3240360" cy="34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2120" y="539280"/>
            <a:ext cx="84182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ктивизируют обмен веществ в мозге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9280" y="4319640"/>
            <a:ext cx="2879640" cy="270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59280" y="4500720"/>
            <a:ext cx="270036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59280" y="1800360"/>
            <a:ext cx="2340000" cy="270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79640" y="1800360"/>
            <a:ext cx="197964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79640" y="539640"/>
            <a:ext cx="7559640" cy="19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годы и фрукт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166840" y="2340000"/>
            <a:ext cx="719316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Клюква – укрепляет </a:t>
            </a:r>
            <a:br>
              <a:rPr sz="4400"/>
            </a:b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стенки сосудов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79200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0720" y="360360"/>
            <a:ext cx="810108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ыба  и морепродукт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60720" y="2222640"/>
            <a:ext cx="4860720" cy="46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Бананы – помогают справиться с интенсивными перегрузкам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60360" y="2340000"/>
            <a:ext cx="72010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1240" y="1047600"/>
            <a:ext cx="8609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9640"/>
            <a:ext cx="84186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3280" indent="-432000">
              <a:lnSpc>
                <a:spcPct val="95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Полезны углеводы, содержащиеся в крупах из цельного зер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в  хлебе из муки грубого помола, кукурузе, крахмалистых овощах. </a:t>
            </a: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7480" y="1847880"/>
            <a:ext cx="68580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0360" y="2665440"/>
            <a:ext cx="2879640" cy="381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19640" y="2700360"/>
            <a:ext cx="2790720" cy="324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300720" y="2700360"/>
            <a:ext cx="3060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1880" y="900000"/>
            <a:ext cx="84186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Автор: Носкова Марина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Александровн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МБОУ СОШ № 2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Город Верещагино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60720" y="3600360"/>
            <a:ext cx="270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49440"/>
            <a:ext cx="8609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800" spc="-1" strike="noStrike">
                <a:solidFill>
                  <a:srgbClr val="4700b8"/>
                </a:solidFill>
                <a:latin typeface="Arial"/>
              </a:rPr>
              <a:t>Полиненасыщенные </a:t>
            </a:r>
            <a:br>
              <a:rPr sz="4800"/>
            </a:br>
            <a:r>
              <a:rPr b="1" i="1" lang="en-US" sz="4800" spc="-1" strike="noStrike">
                <a:solidFill>
                  <a:srgbClr val="4700b8"/>
                </a:solidFill>
                <a:latin typeface="Arial"/>
              </a:rPr>
              <a:t>жирные кислоты Омега 3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dc2300"/>
                </a:solidFill>
                <a:latin typeface="Arial"/>
              </a:rPr>
              <a:t>Нервная регуляция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23ff23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80801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8019"/>
                </a:solidFill>
                <a:latin typeface="Arial"/>
              </a:rPr>
              <a:t>Защита мозга от стрессов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238200" y="1979640"/>
            <a:ext cx="1803240" cy="16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00720" y="1979640"/>
            <a:ext cx="72072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1979640"/>
            <a:ext cx="306072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6600" spc="-1" strike="noStrike">
                <a:solidFill>
                  <a:srgbClr val="4700b8"/>
                </a:solidFill>
                <a:latin typeface="Arial"/>
              </a:rPr>
              <a:t>Морская рыба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6600" spc="-1" strike="noStrike">
                <a:solidFill>
                  <a:srgbClr val="99284c"/>
                </a:solidFill>
                <a:latin typeface="Arial"/>
              </a:rPr>
              <a:t>йод      фосфор  </a:t>
            </a:r>
            <a:endParaRPr b="0" lang="en-US" sz="6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17480" y="1800360"/>
            <a:ext cx="23432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0360" y="1800360"/>
            <a:ext cx="126036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477720"/>
            <a:ext cx="860904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6000" spc="-1" strike="noStrike">
                <a:solidFill>
                  <a:srgbClr val="99284c"/>
                </a:solidFill>
                <a:latin typeface="Arial"/>
              </a:rPr>
              <a:t>Полезные породы рыбы: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1880" y="4319640"/>
            <a:ext cx="841860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0047ff"/>
                </a:solidFill>
                <a:latin typeface="Arial"/>
              </a:rPr>
              <a:t>Скумбрия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5440" y="2340000"/>
            <a:ext cx="65149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64840"/>
            <a:ext cx="8609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5400" spc="-1" strike="noStrike">
                <a:solidFill>
                  <a:srgbClr val="99284c"/>
                </a:solidFill>
                <a:latin typeface="Arial"/>
              </a:rPr>
              <a:t>Полезные породы рыбы: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4140000"/>
            <a:ext cx="8418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2300dc"/>
                </a:solidFill>
                <a:latin typeface="Arial"/>
              </a:rPr>
              <a:t>Треска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75280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64840"/>
            <a:ext cx="8609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5400" spc="-1" strike="noStrike">
                <a:solidFill>
                  <a:srgbClr val="99284c"/>
                </a:solidFill>
                <a:latin typeface="Arial"/>
              </a:rPr>
              <a:t>Полезные породы рыбы: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4319280"/>
            <a:ext cx="8418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Arial"/>
              </a:rPr>
              <a:t>Сельдь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774036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477720"/>
            <a:ext cx="860904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6000" spc="-1" strike="noStrike">
                <a:solidFill>
                  <a:srgbClr val="99284c"/>
                </a:solidFill>
                <a:latin typeface="Arial"/>
              </a:rPr>
              <a:t>Полезные породы рыбы: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39440" y="431928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2300dc"/>
                </a:solidFill>
                <a:latin typeface="Arial"/>
              </a:rPr>
              <a:t>Форель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738000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77720"/>
            <a:ext cx="860904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6000" spc="-1" strike="noStrike">
                <a:solidFill>
                  <a:srgbClr val="99284c"/>
                </a:solidFill>
                <a:latin typeface="Arial"/>
              </a:rPr>
              <a:t>Полезные породы рыбы: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99640" y="414000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2300dc"/>
                </a:solidFill>
                <a:latin typeface="Arial"/>
              </a:rPr>
              <a:t>Сёмга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79640" y="2160720"/>
            <a:ext cx="7740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30T10:25:13Z</dcterms:modified>
  <cp:revision>1</cp:revision>
  <dc:subject/>
  <dc:title> </dc:title>
</cp:coreProperties>
</file>