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BA5-420C-48D3-8796-50BF2644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68A-1ABB-4F78-9455-A06D350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EE6-91F1-4B2C-9B79-C0E4FE9D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187-5944-48C4-87AD-133E9DE8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332-9FC3-44A0-89FA-B5506CE9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27F-90EE-4883-8883-863A158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B5D-B674-40D1-82A6-7399CE64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47C-E5B4-4314-B888-B96201A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BB4-0A04-412B-8026-173DF8DF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883-8286-4F85-B2C2-DAD49A7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C5-4740-4D12-957E-5C5F6A4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496-751A-4A43-8994-9C1C1B7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6CF-8756-404C-9958-6374D0C22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Николай</cp:lastModifiedBy>
  <dcterms:modified xsi:type="dcterms:W3CDTF">2013-01-08T12:21:36Z</dcterms:modified>
  <cp:revision>16</cp:revision>
  <dc:subject/>
  <dc:title>Осенние и зимние явления в жизни растений</dc:title>
</cp:coreProperties>
</file>