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D05-63C9-4A16-88FD-8F4BF98E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D3C-CDE8-4909-B761-3E5641E5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2E8-66CF-42F9-B314-FFCFB97E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53E-A563-4DA4-890F-F397C95C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773-8484-4B9E-A32B-93421B7A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289-F240-4C0A-938C-05A1956E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6AB-1764-4013-BB9B-2430915D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386-D4D7-44DA-BFF0-5C369F6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6EA-DBB0-4AC4-95BD-56444983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251-5C5B-42FB-8EE3-460BC15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B88-3173-4F5D-AF8F-EA3F8A5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6F3-52B7-45D8-BD34-AB56DA28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9D3A-7C05-49D6-B198-89FFAE0FA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пасность в Интернете. Как уберечься от Интернет-мошеннико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_Picture_file_path_53289"/>
          <p:cNvPicPr/>
          <p:nvPr/>
        </p:nvPicPr>
        <p:blipFill>
          <a:blip r:embed="rId1"/>
          <a:stretch/>
        </p:blipFill>
        <p:spPr>
          <a:xfrm>
            <a:off x="3059280" y="2924280"/>
            <a:ext cx="2949480" cy="344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нтернете, как и везде, встречаются мошенники, которые всеми способами пытаются вас обмануть и обокрасть! Для этого они пользуются разными средствами, какие только приходят им в голову. В таких случаях обманщики используют наживку, в качестве которой представлены заманчивые предложения о работе и большие гонорары. На самом же деле, их цель – получить ваши деньги незаконным путем. Но вы не волнуйтесь! Мы поможем вам и подскажем, как себя вести в проблемных ситуациях такого рода. В этой статье описаны типичные операции мошенников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52599"/>
          <p:cNvPicPr/>
          <p:nvPr/>
        </p:nvPicPr>
        <p:blipFill>
          <a:blip r:embed="rId1"/>
          <a:stretch/>
        </p:blipFill>
        <p:spPr>
          <a:xfrm>
            <a:off x="2627280" y="3500280"/>
            <a:ext cx="40384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рамиды в Интернет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своего рода сетевой маркетинг, только в Интернете. Вам предлагают электронный товар для распространения, его вы должны периодически покупать и перепродавать своим друзьям и знакомым, которые в последствии тоже становятся участниками пирамиды. Ваши покупатели распространяют товар своим знакомым и так далее. Пока основание пирамиды пополняется новыми клиентами, система живет. Но как только поток участников прекращается, структура рушится, и деньги теряют все, кроме тех, кто находится в верхушке пирамиды. Вы, к сожалению, тоже оказываетесь в проигрыш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уберечься от таких махинаций, не работайте с проектами и предложениями, которые обещают много денег за маленькую работу без особых обязательств. Помните, бесплатный сыр – только в мышеловке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f2ed173dfa41c1ca0e1f6fd799cea834_big"/>
          <p:cNvPicPr/>
          <p:nvPr/>
        </p:nvPicPr>
        <p:blipFill>
          <a:blip r:embed="rId1"/>
          <a:stretch/>
        </p:blipFill>
        <p:spPr>
          <a:xfrm>
            <a:off x="5148360" y="2276640"/>
            <a:ext cx="359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лшебные кошель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гда не покупайтесь на предложение положить деньги в электронный кошелек с последующим их “волшебным” удваиванием. Сколько денег вы ни положите, миллион или одну копейку, сумма не только не увеличится, но и снять вы их уже не сможете. Это чистой воды лохотрон. Не попадайтесь на эту удо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264591808_02"/>
          <p:cNvPicPr/>
          <p:nvPr/>
        </p:nvPicPr>
        <p:blipFill>
          <a:blip r:embed="rId1"/>
          <a:stretch/>
        </p:blipFill>
        <p:spPr>
          <a:xfrm>
            <a:off x="5140440" y="1600200"/>
            <a:ext cx="30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асность для наборщиков тек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попали на объявление, по которому принимаются наборщики текстов, но с одним немаловажным условием – предоплатой. И это объясняется тем, что необходимы стартовые средства для пересылки вам рабочего материала или для покупки носителей. Переслав деньги, считайте, что вы их больше не увидите, как и работу, которую вам предлагали. Это один из примеров деятельности мошенников, которые исчезают, как только соберут с людей деньги. Будьте осторожны! Никогда не соглашайтесь на работу, требующую первоначальных взно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96332"/>
          <p:cNvPicPr/>
          <p:nvPr/>
        </p:nvPicPr>
        <p:blipFill>
          <a:blip r:embed="rId1"/>
          <a:stretch/>
        </p:blipFill>
        <p:spPr>
          <a:xfrm>
            <a:off x="4648320" y="1987560"/>
            <a:ext cx="40384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один пример пирамиды под название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“шесть кошельков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предлагают переслать некоторую сумму на каждый из шести кошельков. После заменить один из них на ваш собственный и сообщить о системе знакомым. Ваши подопечные также положат определенную сумму на шесть кошельков, но при этом одним из них будет ваш. Таким образом, пирамида будет расти, но опять-таки до определенного момента. Мало того, вы можете не только потерять деньги, но и уважение людей, с которыми работаете, как только пришлете им такое объявление с аферой. Берегите себя и свою репута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rais"/>
          <p:cNvPicPr/>
          <p:nvPr/>
        </p:nvPicPr>
        <p:blipFill>
          <a:blip r:embed="rId1"/>
          <a:stretch/>
        </p:blipFill>
        <p:spPr>
          <a:xfrm>
            <a:off x="5148360" y="1844640"/>
            <a:ext cx="27972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ие деньги за клики: миф или реальность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за кликание по ссылкам сайтов предлагают неплохие деньги, а работа, согласитесь, пустяковая. Это не совсем мошенничество – деньги вы не потеряете, но и не заработаете практически ничего. Максимальный доход за день – 10-20 центов, а не то, что предлагают работодатели за такое дело. Нет смысла тратить время на эту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hpThumb_generated_thumbnailjpg"/>
          <p:cNvPicPr/>
          <p:nvPr/>
        </p:nvPicPr>
        <p:blipFill>
          <a:blip r:embed="rId1"/>
          <a:stretch/>
        </p:blipFill>
        <p:spPr>
          <a:xfrm>
            <a:off x="4788000" y="2565360"/>
            <a:ext cx="39942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ИТ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ми же вакансиями пользуются мошенники – давайте обобщим. В их предложениях отсутствует полная информация о требованиях к работе. Они указывают большие суммы за выполненную услугу. Просят о предварительном переводе денег или предлагают сортировать письма и кликать по ссылкам. Запомните эти особенности и старайтесь не попадаться на такие ул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удьте всегда внимательны, читая перечень требований работодател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шенники всегда предлагают много денег за быструю работу. Такого не бывает. Серьезный клиент всегда предоставляет широкий спектр требований к работнику, при этом четко ставит цели и задачи. Только в таком случае у вас есть шанс получить обещанные деньги. Чтобы хорошо зарабатывать, нужно много и эффективно трудиться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алявы в Интернете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44:42Z</dcterms:created>
  <dc:creator>Андрей</dc:creator>
  <dc:description/>
  <dc:language>en-US</dc:language>
  <cp:lastModifiedBy>Ученик</cp:lastModifiedBy>
  <dcterms:modified xsi:type="dcterms:W3CDTF">2010-11-12T07:11:16Z</dcterms:modified>
  <cp:revision>8</cp:revision>
  <dc:subject/>
  <dc:title>Опасность в Интернете. Как уберечься от Интернет-мошенников? </dc:title>
</cp:coreProperties>
</file>