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42E-968D-4B41-BC47-14DA7BE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95B-2883-4DF5-BD8F-AD03A22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42D-77C5-482A-BF95-F8C9EC72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52D-4AA0-4B82-9468-C2D3DFD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422-E922-4A08-898B-D24BE9A0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06F-762B-4083-ADAE-80613BF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B94-6E9F-4C3D-9919-F8C11B8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17A-2DF4-42A5-ADB6-25E14F5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828-6ECA-481F-BAAD-5E300D3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9B2-838C-456C-91BF-E76EBCD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499-890F-4E84-80FD-B07F727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7E3-5947-4923-BBC8-48BC614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9CDE-0476-4571-8B1D-12F81CB9F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асность в Интернете. Как уберечься от Интернет-мошенников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_Picture_file_path_53289"/>
          <p:cNvPicPr/>
          <p:nvPr/>
        </p:nvPicPr>
        <p:blipFill>
          <a:blip r:embed="rId1"/>
          <a:stretch/>
        </p:blipFill>
        <p:spPr>
          <a:xfrm>
            <a:off x="3059280" y="2924280"/>
            <a:ext cx="2949480" cy="344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нтернете, как и везде, встречаются мошенники, которые всеми способами пытаются вас обмануть и обокрасть! Для этого они пользуются разными средствами, какие только приходят им в голову. В таких случаях обманщики используют наживку, в качестве которой представлены заманчивые предложения о работе и большие гонорары. На самом же деле, их цель – получить ваши деньги незаконным путем. Но вы не волнуйтесь! Мы поможем вам и подскажем, как себя вести в проблемных ситуациях такого рода. В этой статье описаны типичные операции мошенников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52599"/>
          <p:cNvPicPr/>
          <p:nvPr/>
        </p:nvPicPr>
        <p:blipFill>
          <a:blip r:embed="rId1"/>
          <a:stretch/>
        </p:blipFill>
        <p:spPr>
          <a:xfrm>
            <a:off x="2627280" y="3500280"/>
            <a:ext cx="40384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ирамиды в Интернет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своего рода сетевой маркетинг, только в Интернете. Вам предлагают электронный товар для распространения, его вы должны периодически покупать и перепродавать своим друзьям и знакомым, которые в последствии тоже становятся участниками пирамиды. Ваши покупатели распространяют товар своим знакомым и так далее. Пока основание пирамиды пополняется новыми клиентами, система живет. Но как только поток участников прекращается, структура рушится, и деньги теряют все, кроме тех, кто находится в верхушке пирамиды. Вы, к сожалению, тоже оказываетесь в проигрыш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уберечься от таких махинаций, не работайте с проектами и предложениями, которые обещают много денег за маленькую работу без особых обязательств. Помните, бесплатный сыр – только в мышеловк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f2ed173dfa41c1ca0e1f6fd799cea834_big"/>
          <p:cNvPicPr/>
          <p:nvPr/>
        </p:nvPicPr>
        <p:blipFill>
          <a:blip r:embed="rId1"/>
          <a:stretch/>
        </p:blipFill>
        <p:spPr>
          <a:xfrm>
            <a:off x="5148360" y="2276640"/>
            <a:ext cx="35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лшебные кошель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 не покупайтесь на предложение положить деньги в электронный кошелек с последующим их “волшебным” удваиванием. Сколько денег вы ни положите, миллион или одну копейку, сумма не только не увеличится, но и снять вы их уже не сможете. Это чистой воды лохотрон. Не попадайтесь на эту удоч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264591808_02"/>
          <p:cNvPicPr/>
          <p:nvPr/>
        </p:nvPicPr>
        <p:blipFill>
          <a:blip r:embed="rId1"/>
          <a:stretch/>
        </p:blipFill>
        <p:spPr>
          <a:xfrm>
            <a:off x="5140440" y="1600200"/>
            <a:ext cx="305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сть для наборщиков тек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попали на объявление, по которому принимаются наборщики текстов, но с одним немаловажным условием – предоплатой. И это объясняется тем, что необходимы стартовые средства для пересылки вам рабочего материала или для покупки носителей. Переслав деньги, считайте, что вы их больше не увидите, как и работу, которую вам предлагали. Это один из примеров деятельности мошенников, которые исчезают, как только соберут с людей деньги. Будьте осторожны! Никогда не соглашайтесь на работу, требующую первоначальных взно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96332"/>
          <p:cNvPicPr/>
          <p:nvPr/>
        </p:nvPicPr>
        <p:blipFill>
          <a:blip r:embed="rId1"/>
          <a:stretch/>
        </p:blipFill>
        <p:spPr>
          <a:xfrm>
            <a:off x="4648320" y="1987560"/>
            <a:ext cx="4038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один пример пирамиды под названи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“шесть кошельков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предлагают переслать некоторую сумму на каждый из шести кошельков. После заменить один из них на ваш собственный и сообщить о системе знакомым. Ваши подопечные также положат определенную сумму на шесть кошельков, но при этом одним из них будет ваш. Таким образом, пирамида будет расти, но опять-таки до определенного момента. Мало того, вы можете не только потерять деньги, но и уважение людей, с которыми работаете, как только пришлете им такое объявление с аферой. Берегите себя и свою репут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rais"/>
          <p:cNvPicPr/>
          <p:nvPr/>
        </p:nvPicPr>
        <p:blipFill>
          <a:blip r:embed="rId1"/>
          <a:stretch/>
        </p:blipFill>
        <p:spPr>
          <a:xfrm>
            <a:off x="5148360" y="1844640"/>
            <a:ext cx="2797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ие деньги за клики: миф или реальность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о за кликание по ссылкам сайтов предлагают неплохие деньги, а работа, согласитесь, пустяковая. Это не совсем мошенничество – деньги вы не потеряете, но и не заработаете практически ничего. Максимальный доход за день – 10-20 центов, а не то, что предлагают работодатели за такое дело. Нет смысла тратить время на эту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4788000" y="2565360"/>
            <a:ext cx="3994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ИТ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и же вакансиями пользуются мошенники – давайте обобщим. В их предложениях отсутствует полная информация о требованиях к работе. Они указывают большие суммы за выполненную услугу. Просят о предварительном переводе денег или предлагают сортировать письма и кликать по ссылкам. Запомните эти особенности и старайтесь не попадаться на такие ул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удьте всегда внимательны, читая перечень требований работодател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шенники всегда предлагают много денег за быструю работу. Такого не бывает. Серьезный клиент всегда предоставляет широкий спектр требований к работнику, при этом четко ставит цели и задачи. Только в таком случае у вас есть шанс получить обещанные деньги. Чтобы хорошо зарабатывать, нужно много и эффективно трудиться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алявы в Интернете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44:42Z</dcterms:created>
  <dc:creator>Андрей</dc:creator>
  <dc:description/>
  <dc:language>en-US</dc:language>
  <cp:lastModifiedBy>Ученик</cp:lastModifiedBy>
  <dcterms:modified xsi:type="dcterms:W3CDTF">2010-11-12T07:11:16Z</dcterms:modified>
  <cp:revision>8</cp:revision>
  <dc:subject/>
  <dc:title>Опасность в Интернете. Как уберечься от Интернет-мошенников? </dc:title>
</cp:coreProperties>
</file>