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7E9A-E0F3-4D82-B2D2-23A48DAB9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F99A-A963-4971-92EC-5BF7650BF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A725-35C9-4EB9-8515-5EB003C39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9AE2-41BD-4B87-B273-13346EE66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7671-9D3C-4DBF-A86C-BF6022E25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D039-4035-4A7E-BD06-9FA52A20B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45F6-5291-4F43-A01C-28933901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C34E-0EE0-45EF-AD2D-0C3116E56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7103-3FAB-41D8-8245-829393425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9E11-D8BA-44C5-BD14-86CDECC6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428F-D76C-43D8-BFFE-64723A8B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E07F-8E2E-46DC-9519-CB10EEA9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07426-2FA1-4D06-AA23-97BE45250F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528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Опасность в Интернете. Как уберечься от Интернет-мошенников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_Picture_file_path_53289"/>
          <p:cNvPicPr/>
          <p:nvPr/>
        </p:nvPicPr>
        <p:blipFill>
          <a:blip r:embed="rId1"/>
          <a:stretch/>
        </p:blipFill>
        <p:spPr>
          <a:xfrm>
            <a:off x="3059280" y="2924280"/>
            <a:ext cx="2949480" cy="3441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821844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Интернете, как и везде, встречаются мошенники, которые всеми способами пытаются вас обмануть и обокрасть! Для этого они пользуются разными средствами, какие только приходят им в голову. В таких случаях обманщики используют наживку, в качестве которой представлены заманчивые предложения о работе и большие гонорары. На самом же деле, их цель – получить ваши деньги незаконным путем. Но вы не волнуйтесь! Мы поможем вам и подскажем, как себя вести в проблемных ситуациях такого рода. В этой статье описаны типичные операции мошенников.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52599"/>
          <p:cNvPicPr/>
          <p:nvPr/>
        </p:nvPicPr>
        <p:blipFill>
          <a:blip r:embed="rId1"/>
          <a:stretch/>
        </p:blipFill>
        <p:spPr>
          <a:xfrm>
            <a:off x="2627280" y="3500280"/>
            <a:ext cx="403848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ирамиды в Интернет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114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то своего рода сетевой маркетинг, только в Интернете. Вам предлагают электронный товар для распространения, его вы должны периодически покупать и перепродавать своим друзьям и знакомым, которые в последствии тоже становятся участниками пирамиды. Ваши покупатели распространяют товар своим знакомым и так далее. Пока основание пирамиды пополняется новыми клиентами, система живет. Но как только поток участников прекращается, структура рушится, и деньги теряют все, кроме тех, кто находится в верхушке пирамиды. Вы, к сожалению, тоже оказываетесь в проигрыше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обы уберечься от таких махинаций, не работайте с проектами и предложениями, которые обещают много денег за маленькую работу без особых обязательств. Помните, бесплатный сыр – только в мышеловке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f2ed173dfa41c1ca0e1f6fd799cea834_big"/>
          <p:cNvPicPr/>
          <p:nvPr/>
        </p:nvPicPr>
        <p:blipFill>
          <a:blip r:embed="rId1"/>
          <a:stretch/>
        </p:blipFill>
        <p:spPr>
          <a:xfrm>
            <a:off x="5148360" y="2276640"/>
            <a:ext cx="359568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8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олшебные кошельк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когда не покупайтесь на предложение положить деньги в электронный кошелек с последующим их “волшебным” удваиванием. Сколько денег вы ни положите, миллион или одну копейку, сумма не только не увеличится, но и снять вы их уже не сможете. Это чистой воды лохотрон. Не попадайтесь на эту удоч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1264591808_02"/>
          <p:cNvPicPr/>
          <p:nvPr/>
        </p:nvPicPr>
        <p:blipFill>
          <a:blip r:embed="rId1"/>
          <a:stretch/>
        </p:blipFill>
        <p:spPr>
          <a:xfrm>
            <a:off x="5140440" y="1600200"/>
            <a:ext cx="3052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асность для наборщиков тексто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 попали на объявление, по которому принимаются наборщики текстов, но с одним немаловажным условием – предоплатой. И это объясняется тем, что необходимы стартовые средства для пересылки вам рабочего материала или для покупки носителей. Переслав деньги, считайте, что вы их больше не увидите, как и работу, которую вам предлагали. Это один из примеров деятельности мошенников, которые исчезают, как только соберут с людей деньги. Будьте осторожны! Никогда не соглашайтесь на работу, требующую первоначальных взнос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1296332"/>
          <p:cNvPicPr/>
          <p:nvPr/>
        </p:nvPicPr>
        <p:blipFill>
          <a:blip r:embed="rId1"/>
          <a:stretch/>
        </p:blipFill>
        <p:spPr>
          <a:xfrm>
            <a:off x="4648320" y="1987560"/>
            <a:ext cx="403848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ще один пример пирамиды под названием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“шесть кошельков”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м предлагают переслать некоторую сумму на каждый из шести кошельков. После заменить один из них на ваш собственный и сообщить о системе знакомым. Ваши подопечные также положат определенную сумму на шесть кошельков, но при этом одним из них будет ваш. Таким образом, пирамида будет расти, но опять-таки до определенного момента. Мало того, вы можете не только потерять деньги, но и уважение людей, с которыми работаете, как только пришлете им такое объявление с аферой. Берегите себя и свою репутаци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prais"/>
          <p:cNvPicPr/>
          <p:nvPr/>
        </p:nvPicPr>
        <p:blipFill>
          <a:blip r:embed="rId1"/>
          <a:stretch/>
        </p:blipFill>
        <p:spPr>
          <a:xfrm>
            <a:off x="5148360" y="1844640"/>
            <a:ext cx="27972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ольшие деньги за клики: миф или реальность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сто за кликание по ссылкам сайтов предлагают неплохие деньги, а работа, согласитесь, пустяковая. Это не совсем мошенничество – деньги вы не потеряете, но и не заработаете практически ничего. Максимальный доход за день – 10-20 центов, а не то, что предлагают работодатели за такое дело. Нет смысла тратить время на эту работ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phpThumb_generated_thumbnailjpg"/>
          <p:cNvPicPr/>
          <p:nvPr/>
        </p:nvPicPr>
        <p:blipFill>
          <a:blip r:embed="rId1"/>
          <a:stretch/>
        </p:blipFill>
        <p:spPr>
          <a:xfrm>
            <a:off x="4788000" y="2565360"/>
            <a:ext cx="39942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ИТОГ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ими же вакансиями пользуются мошенники – давайте обобщим. В их предложениях отсутствует полная информация о требованиях к работе. Они указывают большие суммы за выполненную услугу. Просят о предварительном переводе денег или предлагают сортировать письма и кликать по ссылкам. Запомните эти особенности и старайтесь не попадаться на такие улов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Будьте всегда внимательны, читая перечень требований работодателя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Мошенники всегда предлагают много денег за быструю работу. Такого не бывает. Серьезный клиент всегда предоставляет широкий спектр требований к работнику, при этом четко ставит цели и задачи. Только в таком случае у вас есть шанс получить обещанные деньги. Чтобы хорошо зарабатывать, нужно много и эффективно трудиться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Халявы в Интернете нет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8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8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8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6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2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9:44:42Z</dcterms:created>
  <dc:creator>Андрей</dc:creator>
  <dc:description/>
  <dc:language>en-US</dc:language>
  <cp:lastModifiedBy>Ученик</cp:lastModifiedBy>
  <dcterms:modified xsi:type="dcterms:W3CDTF">2010-11-12T07:11:16Z</dcterms:modified>
  <cp:revision>8</cp:revision>
  <dc:subject/>
  <dc:title>Опасность в Интернете. Как уберечься от Интернет-мошенников? </dc:title>
</cp:coreProperties>
</file>