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E91-DAB6-43EB-AC68-49920533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554-CB22-47BD-A53C-86293CE2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508-4CBA-4589-ADAE-43057361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801-0A61-4488-BB85-249BC586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D4B4-0F5E-482F-99FF-3A7F24AA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BDDC-6086-45B7-9A04-7DCEC38D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A8B7-938D-4324-84BC-C3957AF8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6AC4-9551-43EA-BF13-5424A730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644A-CC4C-41FC-B246-07F3A7E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6022-AE4C-4CB5-BCDB-7E6D9CD5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EDCC-874B-4CBF-A2AC-91C75DF3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C4D-E013-4EA8-B835-6401522C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4B52-62CA-445E-86C8-8424D34D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1304-4E1E-4FBD-A58A-6C75328F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C971-E1AF-4FEC-8885-6C46357A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009F-1622-4728-9A4A-0E66AD21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D3E-C558-4C0C-9082-D953B627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369-0657-4298-90CA-34595DD6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EE7-5A5B-4807-A55D-9CAA0119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640-AD34-4D03-BA22-F7796F40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C13-5F83-4945-8826-2EE31A9A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13A-2B00-4870-8348-ED263180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44E-35F3-429A-9A20-7F16E0DC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5E7-5010-4E4C-AC92-EB78C617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0316-9316-40C8-9F29-BD08EEB26E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7509-800F-40A1-AAB9-AD6938853C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БЛЮДЧАНСКАЯ ОБЩЕОБРАЗОВАТЕЛЬНАЯ СРЕДНЯЯ 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9280" y="1484280"/>
            <a:ext cx="56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по ОБЖ 10 кл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19280" y="2781360"/>
            <a:ext cx="5305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>
                        <a:alpha val="0"/>
                      </a:srgbClr>
                    </a:gs>
                    <a:gs pos="100000">
                      <a:srgbClr val="4d0808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Огневая подготовка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>
                      <a:alpha val="0"/>
                    </a:srgbClr>
                  </a:gs>
                  <a:gs pos="100000">
                    <a:srgbClr val="4d0808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0" y="4724280"/>
            <a:ext cx="345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Учитель Звариченко С. В.</a:t>
            </a:r>
            <a:endParaRPr b="1" lang="en-US" sz="2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 -7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46360" y="3205080"/>
            <a:ext cx="61912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71500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2743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4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5715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-74 УБ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4295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7150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М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5715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5715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571500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4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5715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Огневая подготов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создания огнестрельного оруж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современного огнестрельного оруж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создания автомата Калашникова и его боевые 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И И 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ЗНАКОМЛЕНИЕ С ИСТОРИЕЙ СОЗДАНИЯ ОГНЕСТРЕЛЬНОГО ОРУЖ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КОМСТВО С СОВРЕМЕННЫМ СТРЕЛКОВЫМ АВТОМАТИЧЕСКИМ ОРУЖИЕ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КОМСТВО С НАЗНАЧЕНИЕМ , УСТРОЙСТВОМ И РАБОТОЙ  АК-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74       АК-10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4121280" cy="434484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809880" cy="1771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38098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4121280" cy="434484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336680" y="1127160"/>
          <a:ext cx="6470640" cy="4603680"/>
        </p:xfrm>
        <a:graphic>
          <a:graphicData uri="http://schemas.openxmlformats.org/drawingml/2006/table">
            <a:tbl>
              <a:tblPr/>
              <a:tblGrid>
                <a:gridCol w="647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-74 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0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191280" cy="1638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56000" y="4221000"/>
            <a:ext cx="61912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-7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46360" y="3205080"/>
            <a:ext cx="61912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4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98800" y="2441520"/>
            <a:ext cx="54864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4121280" cy="426096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571500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М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5715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8:51:35Z</dcterms:created>
  <dc:creator>школа</dc:creator>
  <dc:description/>
  <dc:language>en-US</dc:language>
  <cp:lastModifiedBy>user</cp:lastModifiedBy>
  <dcterms:modified xsi:type="dcterms:W3CDTF">2009-04-08T10:12:34Z</dcterms:modified>
  <cp:revision>7</cp:revision>
  <dc:subject/>
  <dc:title>Огневая подготовка</dc:title>
</cp:coreProperties>
</file>