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660-2297-4E68-BF7F-94608D6D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DDF-CB3A-4323-9BFD-F01772C8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77A-98A5-4A05-A562-7FD8646B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CC5-6597-4D71-9CF6-9F871E53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9D6E-9BCB-4602-931A-6D5A4BC6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34CD-64DA-481A-BC61-7E615DB0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3141-09F7-4556-88C1-F25303FA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3093-1A15-4404-9DB8-A691269B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E280-5721-44F9-BC97-3AF3C2C1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29F6-A777-4DEE-9D9D-474BB3E0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7CE4-0EC9-4358-AE36-B4A3870A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F4C-1514-4F82-87A1-B6C5442D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3226-102F-44C4-B8EE-B8F221CD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22C5-BDB6-4239-A297-269CD3B6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6F1F-ADE8-4925-850F-7CE46D59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C6B4-125E-40A0-B681-A9DDD41D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C9B2-8EDE-4844-86D7-F27F31BF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912-7717-4DA0-B16E-848C64C0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A17-2E38-4617-9D8B-8B2A7297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191-57AD-4BD7-B1DD-9CAD2E8C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A7B-2440-4627-BFD7-D8A1A7AD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374-0ABF-4890-B5A1-B86ECCBE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CB7-2515-48A0-9188-59A71DB7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4C2-D753-44C0-B999-B6106630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AA28-BD88-4971-AAB6-B533F30428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CA56-5D75-4FF1-9720-01672EAC99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БЛЮДЧАНСКАЯ ОБЩЕОБРАЗОВАТЕЛЬНАЯ СРЕДНЯЯ 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19280" y="1484280"/>
            <a:ext cx="568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по ОБЖ 10 кл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19280" y="2781360"/>
            <a:ext cx="5305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>
                        <a:alpha val="0"/>
                      </a:srgbClr>
                    </a:gs>
                    <a:gs pos="100000">
                      <a:srgbClr val="4d0808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Огневая подготовка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>
                      <a:alpha val="0"/>
                    </a:srgbClr>
                  </a:gs>
                  <a:gs pos="100000">
                    <a:srgbClr val="4d0808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0" y="4724280"/>
            <a:ext cx="345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Учитель Звариченко С. В.</a:t>
            </a:r>
            <a:endParaRPr b="1" lang="en-US" sz="2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С -7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46360" y="3205080"/>
            <a:ext cx="61912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571500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С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19640" y="3429000"/>
            <a:ext cx="2743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-4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5715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С-74 УБ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4295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К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571500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КМ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5715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К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5715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К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571500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-4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5715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Огневая подготов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создания огнестрельного оруж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современного огнестрельного оруж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создания автомата Калашникова и его боевые сво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ЕЛИ И ЗАДАЧ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ЗНАКОМЛЕНИЕ С ИСТОРИЕЙ СОЗДАНИЯ ОГНЕСТРЕЛЬНОГО ОРУЖ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КОМСТВО С СОВРЕМЕННЫМ СТРЕЛКОВЫМ АВТОМАТИЧЕСКИМ ОРУЖИЕ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КОМСТВО С НАЗНАЧЕНИЕМ , УСТРОЙСТВОМ И РАБОТОЙ  АК-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-74       АК-10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0"/>
          <a:ext cx="4121280" cy="434484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4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9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3809880" cy="1771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380988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4121280" cy="434484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9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336680" y="1127160"/>
          <a:ext cx="6470640" cy="4603680"/>
        </p:xfrm>
        <a:graphic>
          <a:graphicData uri="http://schemas.openxmlformats.org/drawingml/2006/table">
            <a:tbl>
              <a:tblPr/>
              <a:tblGrid>
                <a:gridCol w="647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-74    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0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191280" cy="1638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56000" y="4221000"/>
            <a:ext cx="61912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С-7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46360" y="3205080"/>
            <a:ext cx="61912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-4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98800" y="2441520"/>
            <a:ext cx="548640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0"/>
          <a:ext cx="4121280" cy="426096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571500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М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5715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8:51:35Z</dcterms:created>
  <dc:creator>школа</dc:creator>
  <dc:description/>
  <dc:language>en-US</dc:language>
  <cp:lastModifiedBy>user</cp:lastModifiedBy>
  <dcterms:modified xsi:type="dcterms:W3CDTF">2009-04-08T10:12:34Z</dcterms:modified>
  <cp:revision>7</cp:revision>
  <dc:subject/>
  <dc:title>Огневая подготовка</dc:title>
</cp:coreProperties>
</file>