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630E-000D-4F41-926D-05504475C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4775-6C47-4093-9DDA-F78E11150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97C1-E9D0-4F2B-9DE6-5D1BAE65A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1D51-280A-40A5-A000-B6F603510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C786F-F079-408C-9B28-398A71BA8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CB223-9FE8-4906-9675-5CEB19DC9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F5C21-5007-4763-83B9-0AA9D6FDB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D52F0-4521-4C4C-BFF7-AD245DE7D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8FA69-E8FB-4673-A74C-A4C5B3643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65E74-9951-4EFB-B560-DC26A4943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31E69-EF93-409A-9AE0-7CD6B3BEE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A0EE-4177-4956-9923-E2DC16489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89C0A-E5A2-47D1-A834-D63A477DD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9F0BF-234B-4092-85BF-CAF5637E9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A9144-5D71-4ED9-915F-3E6C752AF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741C3-EB31-4FCB-A2D2-0D910BC0D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FAF76-958C-4FC7-8B47-F5367B8AA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17E7-EBB7-482F-B5F2-7A3A6A249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F6D8-D561-4084-849F-8AAA75478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E790-2978-4304-AD17-0F8EB08C2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31CE-BD79-43F6-ACDA-0B7D93333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0E28-BF3D-4B1D-8A19-8F8694090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3F18-B0E5-47AE-8D50-18344273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9737-C0D4-4A94-8A0F-BAEA845C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CE1D9-FFB5-468A-8474-3A96F33B055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D7DA7-D524-486B-A833-F106E3EF7AC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79280" y="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ОУ БЛЮДЧАНСКАЯ ОБЩЕОБРАЗОВАТЕЛЬНАЯ СРЕДНЯЯ ШКО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19280" y="1484280"/>
            <a:ext cx="5689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Урок по ОБЖ 10 кл.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619280" y="2781360"/>
            <a:ext cx="53053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>
                        <a:alpha val="0"/>
                      </a:srgbClr>
                    </a:gs>
                    <a:gs pos="100000">
                      <a:srgbClr val="4d0808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Огневая подготовка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>
                      <a:alpha val="0"/>
                    </a:srgbClr>
                  </a:gs>
                  <a:gs pos="100000">
                    <a:srgbClr val="4d0808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0" y="4724280"/>
            <a:ext cx="3456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path path="rect">
                    <a:fillToRect l="50000" t="50000" r="50000" b="50000"/>
                  </a:path>
                </a:gradFill>
                <a:latin typeface="Arial"/>
              </a:rPr>
              <a:t>Учитель Звариченко С. В.</a:t>
            </a:r>
            <a:endParaRPr b="1" lang="en-US" sz="20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path path="rect">
                  <a:fillToRect l="50000" t="50000" r="50000" b="50000"/>
                </a:path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АКС -74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746360" y="3205080"/>
            <a:ext cx="619128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АКМ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258920" y="1916280"/>
            <a:ext cx="5715000" cy="184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АКСУ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419640" y="3429000"/>
            <a:ext cx="274320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АК-47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571500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АКС-74 УБ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42958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КС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258920" y="1916280"/>
            <a:ext cx="5715000" cy="34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КМТ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571500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КМ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42920" y="1989000"/>
            <a:ext cx="571500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КС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5715000" cy="32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АК-47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042920" y="1989000"/>
            <a:ext cx="571500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Огневая подготовка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стория создания огнестрельного оруж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стория современного огнестрельного оруж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стория создания автомата Калашникова и его боевые свой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ЦЕЛИ И ЗАДАЧИ УРОКА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ЗНАКОМЛЕНИЕ С ИСТОРИЕЙ СОЗДАНИЯ ОГНЕСТРЕЛЬНОГО ОРУЖ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НАКОМСТВО С СОВРЕМЕННЫМ СТРЕЛКОВЫМ АВТОМАТИЧЕСКИМ ОРУЖИЕМ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НАКОМСТВО С НАЗНАЧЕНИЕМ , УСТРОЙСТВОМ И РАБОТОЙ  АК-7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АК-74       АК-107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0" y="0"/>
          <a:ext cx="4121280" cy="4344840"/>
        </p:xfrm>
        <a:graphic>
          <a:graphicData uri="http://schemas.openxmlformats.org/drawingml/2006/table">
            <a:tbl>
              <a:tblPr/>
              <a:tblGrid>
                <a:gridCol w="412128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34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4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9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71640" y="1989000"/>
            <a:ext cx="3809880" cy="17719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572000" y="4365720"/>
            <a:ext cx="3809880" cy="14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0" y="0"/>
          <a:ext cx="4121280" cy="4344840"/>
        </p:xfrm>
        <a:graphic>
          <a:graphicData uri="http://schemas.openxmlformats.org/drawingml/2006/table">
            <a:tbl>
              <a:tblPr/>
              <a:tblGrid>
                <a:gridCol w="412128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5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70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9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1336680" y="1127160"/>
          <a:ext cx="6470640" cy="4603680"/>
        </p:xfrm>
        <a:graphic>
          <a:graphicData uri="http://schemas.openxmlformats.org/drawingml/2006/table">
            <a:tbl>
              <a:tblPr/>
              <a:tblGrid>
                <a:gridCol w="647064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К-74               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1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0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25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042920" y="2133720"/>
            <a:ext cx="6191280" cy="16383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556000" y="4221000"/>
            <a:ext cx="619128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АКС-74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746360" y="3205080"/>
            <a:ext cx="619128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АК-47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098800" y="2441520"/>
            <a:ext cx="5486400" cy="31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АКМ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0" y="0"/>
          <a:ext cx="4121280" cy="4260960"/>
        </p:xfrm>
        <a:graphic>
          <a:graphicData uri="http://schemas.openxmlformats.org/drawingml/2006/table">
            <a:tbl>
              <a:tblPr/>
              <a:tblGrid>
                <a:gridCol w="412128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7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67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971640" y="1916280"/>
            <a:ext cx="5715000" cy="184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АКМС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042920" y="1989000"/>
            <a:ext cx="571500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8T08:51:35Z</dcterms:created>
  <dc:creator>школа</dc:creator>
  <dc:description/>
  <dc:language>en-US</dc:language>
  <cp:lastModifiedBy>user</cp:lastModifiedBy>
  <dcterms:modified xsi:type="dcterms:W3CDTF">2009-04-08T10:12:34Z</dcterms:modified>
  <cp:revision>7</cp:revision>
  <dc:subject/>
  <dc:title>Огневая подготовка</dc:title>
</cp:coreProperties>
</file>