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5A7E3-15C3-4B33-9081-5BE727FF8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7D76-7F3C-443D-848A-54BC096C5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1F299-B5E3-46A3-83BA-44B990557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C006E-C7F8-40BD-AA47-1063F01D5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4AC24-F6B8-4FC7-B6B1-DFCC3622A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9E28A-CCCF-47BD-9694-9417D2BEF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BFD5A-2D5A-4FD4-9C57-C4AA13EDC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41656-7026-4E78-8990-B43A0D6D6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41043-F0F8-4C0F-9EDA-0E2C317B7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DA5AD-3F7C-404C-9ED2-A4CF840B0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D20D6-118A-4C63-AB79-AEDE00929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B2C82-F0D0-4286-914F-65D26C5EA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87679-4251-4BD8-BA59-237C08C0C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EA923-CF99-4CFC-A9BC-F09F267DB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1ABB2-744B-4E26-AF41-51A0A2052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6D88A-5BA1-4448-AF48-33E27D04B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1283A-E501-4559-B731-7FECA521B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90D23-02FD-4635-9FF5-89E592D9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48729-113C-4390-82DB-11D15058D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94A0D-0C07-4CDE-9571-CF5EACAAE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1FD14-ECF7-4A4B-AFA8-5EBDB0CB9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2260-B04A-4CB4-82FD-2EB7FCC4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E8E4A-825C-4D5B-B1C8-4A5FE2709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4B963-49DC-4C0F-A5E6-20896278A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BABE-8C73-407A-A816-18CB27E3AC6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3664-A299-4F53-89FC-CC246DCABF0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88640"/>
            <a:ext cx="7772400" cy="1584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Энергетические напитки</a:t>
            </a:r>
            <a:endParaRPr b="0" lang="en-US" sz="4800" spc="-1" strike="noStrike">
              <a:solidFill>
                <a:srgbClr val="dbbd71"/>
              </a:solidFill>
              <a:latin typeface="Arial"/>
            </a:endParaRPr>
          </a:p>
        </p:txBody>
      </p:sp>
      <p:sp>
        <p:nvSpPr>
          <p:cNvPr id="153" name="PlaceHolder 2"/>
          <p:cNvSpPr>
            <a:spLocks noGrp="1"/>
          </p:cNvSpPr>
          <p:nvPr>
            <p:ph type="subTitle"/>
          </p:nvPr>
        </p:nvSpPr>
        <p:spPr>
          <a:xfrm>
            <a:off x="2339640" y="5373360"/>
            <a:ext cx="6335640" cy="934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е же наркотики!</a:t>
            </a:r>
            <a:endParaRPr b="0" lang="en-US" sz="3200" spc="-1" strike="noStrike">
              <a:solidFill>
                <a:srgbClr val="ffffff"/>
              </a:solidFill>
              <a:latin typeface="Tahoma"/>
            </a:endParaRPr>
          </a:p>
        </p:txBody>
      </p:sp>
      <p:pic>
        <p:nvPicPr>
          <p:cNvPr id="154" name="" descr=""/>
          <p:cNvPicPr/>
          <p:nvPr/>
        </p:nvPicPr>
        <p:blipFill>
          <a:blip r:embed="rId1"/>
          <a:stretch/>
        </p:blipFill>
        <p:spPr>
          <a:xfrm>
            <a:off x="2556000" y="1700280"/>
            <a:ext cx="5806800" cy="3166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7" name="" descr=""/>
          <p:cNvPicPr/>
          <p:nvPr/>
        </p:nvPicPr>
        <p:blipFill>
          <a:blip r:embed="rId1"/>
          <a:stretch/>
        </p:blipFill>
        <p:spPr>
          <a:xfrm>
            <a:off x="1187280" y="1628640"/>
            <a:ext cx="568980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0" name="" descr=""/>
          <p:cNvPicPr/>
          <p:nvPr/>
        </p:nvPicPr>
        <p:blipFill>
          <a:blip r:embed="rId1"/>
          <a:stretch/>
        </p:blipFill>
        <p:spPr>
          <a:xfrm>
            <a:off x="395280" y="189000"/>
            <a:ext cx="8280360" cy="590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 descr=""/>
          <p:cNvPicPr/>
          <p:nvPr/>
        </p:nvPicPr>
        <p:blipFill>
          <a:blip r:embed="rId1"/>
          <a:stretch/>
        </p:blipFill>
        <p:spPr>
          <a:xfrm>
            <a:off x="468360" y="260280"/>
            <a:ext cx="8207280" cy="59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Или:</a:t>
            </a:r>
            <a:endParaRPr b="0" lang="en-US" sz="44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 descr=""/>
          <p:cNvPicPr/>
          <p:nvPr/>
        </p:nvPicPr>
        <p:blipFill>
          <a:blip r:embed="rId1"/>
          <a:stretch/>
        </p:blipFill>
        <p:spPr>
          <a:xfrm>
            <a:off x="1042920" y="1557360"/>
            <a:ext cx="5834160" cy="453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9" name="" descr=""/>
          <p:cNvPicPr/>
          <p:nvPr/>
        </p:nvPicPr>
        <p:blipFill>
          <a:blip r:embed="rId1"/>
          <a:stretch/>
        </p:blipFill>
        <p:spPr>
          <a:xfrm>
            <a:off x="468360" y="189000"/>
            <a:ext cx="8207280" cy="666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ПОДСЕЛИ НА БАТАРЕЙКИ </a:t>
            </a:r>
            <a:endParaRPr b="0" lang="en-US" sz="4400" spc="-1" strike="noStrike">
              <a:solidFill>
                <a:srgbClr val="dbbd71"/>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оссияне безбожно пьют. Отсутствие чувства меры и жажда активной жизни породили новую проблему - зависимость от энергетических напитков. Несколько лет назад американские ученые вознамерились спасти мир от усталости и хандры. В секретных лабораториях они вывели "волшебную" формулу smart drink - "энергетические напитки". Так появился бодрящий микс энерготоников. Кот в мешке. А может, джинн в бутылке? Попробуем разобратьс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ДОЗА-ПРАВЬСЯ </a:t>
            </a:r>
            <a:endParaRPr b="0" lang="en-US" sz="4400" spc="-1" strike="noStrike">
              <a:solidFill>
                <a:srgbClr val="dbbd71"/>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туденты, клубные тусовщики, а также работники служб с ночными сменами считают это "топливо" важной частью своего образа жизни. "Так точно", - подтверждает наш вывод пожарный Вячеслав. - "Энергетики" помогают быть в тонусе целые сутки. Я выпиваю по три банки". Кстати, этот сотрудник пожарной охраны уже получил направление в кардиологию. У человека возникает ощущение, что он раскрывает резерв своего организма и вместо сердца у него - пламенный мотор. Подъем физических сил от энергетика ощущается прежде всего за счет большой дозы кофеина. Но при этом организм наполненный лжеэнергией, не понимает, как ему быть: бедное сердце колошматится, а печень и желудок старательно пытаются справиться с неизвестными чужеродными компонентами. О "батарейке" с вкусом газированной воды медики уже наслышаны. Например, пациенты частенько упоминают их в списке средств, которые помогают бороться со стрессом и бессонницей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Мнения специалистов.</a:t>
            </a:r>
            <a:endParaRPr b="0" lang="en-US" sz="4400" spc="-1" strike="noStrike">
              <a:solidFill>
                <a:srgbClr val="dbbd71"/>
              </a:solidFill>
              <a:latin typeface="Arial"/>
            </a:endParaRPr>
          </a:p>
        </p:txBody>
      </p:sp>
      <p:sp>
        <p:nvSpPr>
          <p:cNvPr id="160" name="PlaceHolder 2"/>
          <p:cNvSpPr>
            <a:spLocks noGrp="1"/>
          </p:cNvSpPr>
          <p:nvPr>
            <p:ph/>
          </p:nvPr>
        </p:nvSpPr>
        <p:spPr>
          <a:xfrm>
            <a:off x="394920" y="1628640"/>
            <a:ext cx="6635880" cy="4530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сихиатр Светлана Андриевских: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Психостимуляторы, которые используют ся в энергетических напитках, могут вызвать привыкание, если увлекаться ими каждый день. Есть легальные психостимуляторы: чай, кофе и "энергетики" нелегальные, например, амфитамин (?).Человек выпивает напиток, и у него появляется чувство бодрости, отсутствие сна, повышение настроения. А к адреналину организм привыкает, как к наркотику. Поэтому не стоит злоупотреблять "энергетиками" людям с повышенной возбудимостью нервной системы. </a:t>
            </a:r>
            <a:endParaRPr b="0" lang="en-US" sz="2000" spc="-1" strike="noStrike">
              <a:solidFill>
                <a:srgbClr val="ffffff"/>
              </a:solidFill>
              <a:latin typeface="Tahoma"/>
            </a:endParaRPr>
          </a:p>
        </p:txBody>
      </p:sp>
      <p:pic>
        <p:nvPicPr>
          <p:cNvPr id="161" name="" descr=""/>
          <p:cNvPicPr/>
          <p:nvPr/>
        </p:nvPicPr>
        <p:blipFill>
          <a:blip r:embed="rId1"/>
          <a:stretch/>
        </p:blipFill>
        <p:spPr>
          <a:xfrm>
            <a:off x="7093080" y="1197000"/>
            <a:ext cx="1885680" cy="283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ардиолог Вера  Дудкина: </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 точки зрения сердечно-сосудистых эффектов ничего полезного в этих напитках нет. Кофеин и таурин в их составе могут повышать артериальное давление, увеличивать частоту пульса, у некоторых людей провоцировать развитие аритмии. Если человек предрасположен к сердечно-сосудистым заболеваниям, то регулярное употребление энергетиков может спровоцировать проблемы со здоровьем. Есть мнение, что чем реже ритм, тем человек дольше живет. </a:t>
            </a:r>
            <a:endParaRPr b="0" lang="en-US" sz="2400" spc="-1" strike="noStrike">
              <a:solidFill>
                <a:srgbClr val="ffffff"/>
              </a:solidFill>
              <a:latin typeface="Tahoma"/>
            </a:endParaRPr>
          </a:p>
        </p:txBody>
      </p:sp>
      <p:pic>
        <p:nvPicPr>
          <p:cNvPr id="164" name="" descr=""/>
          <p:cNvPicPr/>
          <p:nvPr/>
        </p:nvPicPr>
        <p:blipFill>
          <a:blip r:embed="rId1"/>
          <a:stretch/>
        </p:blipFill>
        <p:spPr>
          <a:xfrm>
            <a:off x="6877080" y="0"/>
            <a:ext cx="2266920" cy="208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6"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Гастроэнтеролог Андрей Кошель: </a:t>
            </a:r>
            <a:endParaRPr b="0" lang="en-US" sz="2400" spc="-1" strike="noStrike">
              <a:solidFill>
                <a:srgbClr val="ffffff"/>
              </a:solidFill>
              <a:latin typeface="Tahoma"/>
            </a:endParaRPr>
          </a:p>
          <a:p>
            <a:pPr marL="335880" indent="-3358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Безусловно, вред на желудочно-кишечный тракт оказывается. Возьмем обычную кока-колу, которая на 99,9 состоит из "химии". Любители этой синтетики получают гастриты в очень короткие сроки. Сейчас среди молодежи гастрит - самое распространнное заболевание желудочно-кишечного тракта. Пить "энергетики" на голодный желудок категорически нельзя. К тому же таурин, содержащийся в этих напитках, помогает желудку выделять соляную кислоту, причем очень быстро. Если же у вас предъязвенное состояние, то частое потребление энергетиков очень быстро переведет его в язву.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11280" y="277920"/>
            <a:ext cx="627552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ПИТЬ-СТОП </a:t>
            </a:r>
            <a:endParaRPr b="0" lang="en-US" sz="4000" spc="-1" strike="noStrike">
              <a:solidFill>
                <a:srgbClr val="dbbd71"/>
              </a:solidFill>
              <a:latin typeface="Arial"/>
            </a:endParaRPr>
          </a:p>
        </p:txBody>
      </p:sp>
      <p:sp>
        <p:nvSpPr>
          <p:cNvPr id="168" name="PlaceHolder 2"/>
          <p:cNvSpPr>
            <a:spLocks noGrp="1"/>
          </p:cNvSpPr>
          <p:nvPr>
            <p:ph/>
          </p:nvPr>
        </p:nvSpPr>
        <p:spPr>
          <a:xfrm>
            <a:off x="0" y="836640"/>
            <a:ext cx="8686800" cy="60213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лавный санитарный врач России Геннадий Онищенко настроен против "энергетиков" довольно серьезно. И не зря. Недаром же в некоторых странах (Франция, Дания и Норвегия) такие "лимонады" продаются исключительно в аптеках, так как считаются лекарством. Официально пока вред "энергетиков" еще не доказан, хотя главный санитарный врач то и дело пытается указать на ингредиенты и запретить это "топливо". Посмотрим на этикетку вслед за Геннадием Петровичем. Так, напиток Red Bul содержит всем известный кофеин, который в больших дозах вызывает бессонницу и привыкание. Adrenalin Rush, сделанный на женьшеневом корне, вызывает сопротивление стрессу и, к сожалению, сну. Ninja содержит таурин, который повышает нервозность. Кроме этого, в составе обнаружен нами глюкуронолактон. Количество этого вещества, содержащееся в двух банках напитка (рекомендованная производителем суточная норма), превышает суточную норму почти в 500 раз. Даже ученые еще не готовы ответить на вопрос, насколько безопасны эти "ингредиенты" для человека и что происходит во время их сочетания с кофеином — обязательной составляющей любого энергетика. Аминокислоты (еще один ингредиент) восполняют недостаток нейромедиаторов - веществ, которые передают импульсы от одной нервной клетки к другой. Их нехватка в организме сказывается в виде подавленности и сонливости. Кроме того, напиток газированный, поэтому "рабочие" компоненты моментально попадают в кровь. Наличие в некоторых из коктейлей таких консервантов, как Е200, Е299, которые "продляют жизнь" напитку, также неблагоприятно сказывается на человеческом организме. Поднял волну против пробуждающих активность напитков заместитель директора Федеральной службы по контролю за оборотом наркотиков России Владимир Зубрин. Он считает, что энергетические напитки являются своего рода наркотиками: в них содержатся психотропные вещества, которые вызывают состояние эйфории, веселья, активности, при этом они ведут к разрушению организма. Федеральный центр судебной экспертизы при Минюсте проверил некоторые виды энергетических напитков и признал, что в них нет наркотических средств и психотропных веществ. Это ставит крест на планах Госнаркоконтроля запретить производство и импорт "энергетиков". RED-БУМ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Ложный кайф.</a:t>
            </a:r>
            <a:endParaRPr b="0" lang="en-US" sz="44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1" name="" descr=""/>
          <p:cNvPicPr/>
          <p:nvPr/>
        </p:nvPicPr>
        <p:blipFill>
          <a:blip r:embed="rId1"/>
          <a:stretch/>
        </p:blipFill>
        <p:spPr>
          <a:xfrm>
            <a:off x="2268360" y="1268280"/>
            <a:ext cx="5040360" cy="532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Сделай свой выбор!</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4" name="" descr=""/>
          <p:cNvPicPr/>
          <p:nvPr/>
        </p:nvPicPr>
        <p:blipFill>
          <a:blip r:embed="rId1"/>
          <a:stretch/>
        </p:blipFill>
        <p:spPr>
          <a:xfrm>
            <a:off x="826920" y="1700280"/>
            <a:ext cx="576108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6:47:38Z</dcterms:created>
  <dc:creator>Ольхарик</dc:creator>
  <dc:description/>
  <dc:language>en-US</dc:language>
  <cp:lastModifiedBy>Ольхарик</cp:lastModifiedBy>
  <dcterms:modified xsi:type="dcterms:W3CDTF">2009-04-06T17:22:34Z</dcterms:modified>
  <cp:revision>2</cp:revision>
  <dc:subject/>
  <dc:title>Энергетические напитки</dc:title>
</cp:coreProperties>
</file>