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9F6-48E4-4970-B594-504259B0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0A4-52D1-4C4E-BEC9-DAF7ECB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CFE-FA3D-4BFE-8E65-7B1B3E6F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88B-AEC5-4C2D-9798-E6C03763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E318-8622-4626-8FFB-07DB8A95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53BA-D4CD-452B-9951-CC5C530F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B611-5744-489A-B4A1-FAE45FBA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5EA8-0EC8-4F56-A645-91524948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BC83-D70D-45E0-BD7D-24DDBD1D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8B9F-0BC7-4E8F-AE44-23C0466E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8558-CEBD-4C81-90FE-7010449D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A99-B37E-4E6E-A373-104DAF40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7E6D-4ED6-4825-8307-CD160B04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9D19-4C58-463C-8652-CF279F5B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737C-AF9D-432C-9E0E-43BEB0B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9615-1913-4620-B335-6BE88319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2357-662B-49F0-BA91-0221E90B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3F8-871D-4F14-86BE-3F270742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BB1-126D-4CE8-81E5-6BF85257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8CA-93CC-4152-A996-677EE069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130-24EC-45F9-BC6D-40AA20A2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75D-4279-4A8E-9256-8A10835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F94-C82C-40A5-8332-8CE44103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0DD-EDCB-4E56-9D40-A655ADE4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40FE-0C6C-4AF1-B32F-4525FC07FB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644A-680B-4899-9296-A75B76F47D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ioclass.ucoz.ua/load/prezentacii/prezentacii_uchashhikhsja/neandertalcy_i_kromanoncy/11-1-0-19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1;&#1102;&#1076;&#1080;_(&#1088;&#1086;&#1076;)" TargetMode="External"/><Relationship Id="rId3" Type="http://schemas.openxmlformats.org/officeDocument/2006/relationships/hyperlink" Target="http://ru.wikipedia.org/wiki/&#1055;&#1072;&#1083;&#1077;&#1086;&#1083;&#1080;&#1090;" TargetMode="External"/><Relationship Id="rId4" Type="http://schemas.openxmlformats.org/officeDocument/2006/relationships/hyperlink" Target="http://ru.wikipedia.org/wiki/&#1043;&#1086;&#1083;&#1086;&#1074;&#1085;&#1086;&#1081;_&#1084;&#1086;&#1079;&#1075;" TargetMode="External"/><Relationship Id="rId5" Type="http://schemas.openxmlformats.org/officeDocument/2006/relationships/hyperlink" Target="http://ru.wikipedia.org/wiki/&#1050;&#1088;&#1086;-&#1052;&#1072;&#1085;&#1100;&#1086;&#1085;" TargetMode="External"/><Relationship Id="rId6" Type="http://schemas.openxmlformats.org/officeDocument/2006/relationships/hyperlink" Target="http://ru.wikipedia.org/w/index.php?title=&#1050;&#1077;&#1081;&#1087;-&#1060;&#1083;&#1077;&#1090;&#1089;&amp;action=edit&amp;redlink=1" TargetMode="External"/><Relationship Id="rId7" Type="http://schemas.openxmlformats.org/officeDocument/2006/relationships/hyperlink" Target="http://ru.wikipedia.org/w/index.php?title=&#1050;&#1086;&#1084;&#1073;_&#1050;&#1072;&#1087;&#1077;&#1083;&#1083;&#1100;&amp;action=edit&amp;redlink=1" TargetMode="External"/><Relationship Id="rId8" Type="http://schemas.openxmlformats.org/officeDocument/2006/relationships/hyperlink" Target="http://ru.wikipedia.org/w/index.php?title=&#1052;&#1083;&#1072;&#1076;&#1077;&#1095;&amp;action=edit&amp;redlink=1" TargetMode="External"/><Relationship Id="rId9" Type="http://schemas.openxmlformats.org/officeDocument/2006/relationships/hyperlink" Target="http://ru.wikipedia.org/wiki/&#1057;&#1091;&#1085;&#1075;&#1080;&#1088;&#1100;" TargetMode="External"/><Relationship Id="rId10" Type="http://schemas.openxmlformats.org/officeDocument/2006/relationships/hyperlink" Target="http://ru.wikipedia.org/wiki/&#1054;&#1073;&#1097;&#1080;&#1085;&#1072;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6_&#1075;&#1086;&#1076;" TargetMode="External"/><Relationship Id="rId2" Type="http://schemas.openxmlformats.org/officeDocument/2006/relationships/hyperlink" Target="http://ru.wikipedia.org/wiki/&#1053;&#1077;&#1072;&#1085;&#1076;&#1077;&#1088;&#1090;&#1072;&#1083;&#1100;" TargetMode="External"/><Relationship Id="rId3" Type="http://schemas.openxmlformats.org/officeDocument/2006/relationships/hyperlink" Target="http://ru.wikipedia.org/wiki/&#1044;&#1102;&#1089;&#1089;&#1077;&#1083;&#1100;&#1076;&#1086;&#1088;&#1092;" TargetMode="External"/><Relationship Id="rId4" Type="http://schemas.openxmlformats.org/officeDocument/2006/relationships/hyperlink" Target="http://ru.wikipedia.org/wiki/&#1069;&#1088;&#1082;&#1088;&#1072;&#1090;" TargetMode="External"/><Relationship Id="rId5" Type="http://schemas.openxmlformats.org/officeDocument/2006/relationships/hyperlink" Target="http://ru.wikipedia.org/wiki/&#1047;&#1072;&#1087;&#1072;&#1076;&#1085;&#1072;&#1103;_&#1043;&#1077;&#1088;&#1084;&#1072;&#1085;&#1080;&#1103;" TargetMode="External"/><Relationship Id="rId6" Type="http://schemas.openxmlformats.org/officeDocument/2006/relationships/hyperlink" Target="http://ru.wikipedia.org/wiki/&#1059;&#1097;&#1077;&#1083;&#1100;&#1077;" TargetMode="External"/><Relationship Id="rId7" Type="http://schemas.openxmlformats.org/officeDocument/2006/relationships/hyperlink" Target="http://ru.wikipedia.org/wiki/&#1053;&#1077;&#1072;&#1085;&#1076;&#1077;&#1088;,_&#1048;&#1086;&#1072;&#1093;&#1080;&#1084;" TargetMode="External"/><Relationship Id="rId8" Type="http://schemas.openxmlformats.org/officeDocument/2006/relationships/hyperlink" Target="http://ru.wikipedia.org/wiki/&#1058;&#1077;&#1086;&#1083;&#1086;&#1075;" TargetMode="External"/><Relationship Id="rId9" Type="http://schemas.openxmlformats.org/officeDocument/2006/relationships/hyperlink" Target="http://ru.wikipedia.org/wiki/1858_&#1075;&#1086;&#1076;" TargetMode="External"/><Relationship Id="rId10" Type="http://schemas.openxmlformats.org/officeDocument/2006/relationships/hyperlink" Target="http://ru.wikipedia.org/wiki/&#1064;&#1072;&#1072;&#1092;&#1075;&#1072;&#1091;&#1079;&#1077;&#1085;,_&#1043;&#1077;&#1088;&#1084;&#1072;&#1085;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1;&#1089;&#1090;&#1100;&#1077;&#1088;&#1089;&#1082;&#1072;&#1103;_&#1082;&#1091;&#1083;&#1100;&#1090;&#1091;&#1088;&#1072;" TargetMode="External"/><Relationship Id="rId2" Type="http://schemas.openxmlformats.org/officeDocument/2006/relationships/hyperlink" Target="http://ru.wikipedia.org/w/index.php?title=&#1051;&#1103;-&#1064;&#1072;&#1087;&#1077;&#1083;&#1100;-&#1086;-&#1057;&#1077;&#1085;&amp;action=edit&amp;redlink=1" TargetMode="External"/><Relationship Id="rId3" Type="http://schemas.openxmlformats.org/officeDocument/2006/relationships/hyperlink" Target="http://ru.wikipedia.org/wiki/&#1069;&#1084;&#1073;&#1088;&#1080;&#1086;&#1085;" TargetMode="External"/><Relationship Id="rId4" Type="http://schemas.openxmlformats.org/officeDocument/2006/relationships/hyperlink" Target="http://ru.wikipedia.org/wiki/&#1047;&#1072;&#1075;&#1088;&#1086;&#1073;&#1085;&#1072;&#1103;_&#1078;&#1080;&#1079;&#1085;&#1100;" TargetMode="External"/><Relationship Id="rId5" Type="http://schemas.openxmlformats.org/officeDocument/2006/relationships/hyperlink" Target="http://ru.wikipedia.org/wiki/&#1056;&#1077;&#1083;&#1080;&#1075;&#1080;&#1103;" TargetMode="External"/><Relationship Id="rId6" Type="http://schemas.openxmlformats.org/officeDocument/2006/relationships/hyperlink" Target="http://ru.wikipedia.org/wiki/&#1052;&#1072;&#1075;&#1080;&#1103;" TargetMode="External"/><Relationship Id="rId7" Type="http://schemas.openxmlformats.org/officeDocument/2006/relationships/hyperlink" Target="http://ru.wikipedia.org/wiki/&#1048;&#1088;&#1072;&#1082;" TargetMode="External"/><Relationship Id="rId8" Type="http://schemas.openxmlformats.org/officeDocument/2006/relationships/hyperlink" Target="http://ru.wikipedia.org/wiki/&#1051;&#1077;&#1076;&#1085;&#1080;&#1082;&#1086;&#1074;&#1099;&#1081;_&#1087;&#1077;&#1088;&#1080;&#1086;&#1076;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86;&#1084;&#1072;&#1085;&#1100;&#1086;&#1085;&#1077;&#1094;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Неандертальцы и Кроманьонцы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6" descr="1"/>
          <p:cNvPicPr/>
          <p:nvPr/>
        </p:nvPicPr>
        <p:blipFill>
          <a:blip r:embed="rId2"/>
          <a:stretch/>
        </p:blipFill>
        <p:spPr>
          <a:xfrm>
            <a:off x="928800" y="2786040"/>
            <a:ext cx="3030480" cy="3443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44397-004-D45BC527"/>
          <p:cNvPicPr/>
          <p:nvPr/>
        </p:nvPicPr>
        <p:blipFill>
          <a:blip r:embed="rId3"/>
          <a:stretch/>
        </p:blipFill>
        <p:spPr>
          <a:xfrm>
            <a:off x="5072040" y="2755800"/>
            <a:ext cx="3143160" cy="34592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3429000" y="6357960"/>
            <a:ext cx="2286000" cy="5000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Описание вида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романьонц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fr-FR" sz="2200" spc="-1" strike="noStrike">
                <a:solidFill>
                  <a:srgbClr val="ffffff"/>
                </a:solidFill>
                <a:latin typeface="Arial"/>
              </a:rPr>
              <a:t>Homme de Cro-Magnon — кроманьонский челове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 — ранние представители современного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человек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в Европе и отчасти за её пределами, жившие 40—12 тысяч лет назад (период верхнего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палеолит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. Объём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головного мозг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равен 1200—1500 см³. Рост около 180 с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происходит от грота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Кро-Маньон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во Франции, где в 1868 году было обнаружено несколько скелетов людей вместе с орудиями позднего палеоли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ажнейшие ископаемые находки: в Африке —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Кейп-Флетс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Фиш Хук, Назлет Хатер; в Европе —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Комб Капелл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Младеч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Кро-Маньон, в России —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Сунгир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на Украине — Межиреч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или </a:t>
            </a:r>
            <a:r>
              <a:rPr b="0" lang="ru-RU" sz="22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община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по 15—30 человек и впервые в истории создали поселения. Жилищем были пещеры, шатры из шкур, в Восточной Европе встречаются землян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елет кроманьонц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Picture 6" descr="509px-Cro-Magnon"/>
          <p:cNvPicPr/>
          <p:nvPr/>
        </p:nvPicPr>
        <p:blipFill>
          <a:blip r:embed="rId1"/>
          <a:stretch/>
        </p:blipFill>
        <p:spPr>
          <a:xfrm>
            <a:off x="324000" y="1413000"/>
            <a:ext cx="4028760" cy="475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mage1608"/>
          <p:cNvPicPr/>
          <p:nvPr/>
        </p:nvPicPr>
        <p:blipFill>
          <a:blip r:embed="rId2"/>
          <a:stretch/>
        </p:blipFill>
        <p:spPr>
          <a:xfrm>
            <a:off x="4788000" y="1341360"/>
            <a:ext cx="34066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ладал развитой членораздельной речью, строил жилища, одевался в одежды из шкур, было развито гончарное дело. Жили родовым обществом, начали приручать животных и заниматься земледелие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ногочисленные находки свидетельствуют о наличии культа охоты. Фигурки зверей пронзали стрелами, убивая таким образом зверя. Кроманьонец умел не только гравировать и рисовать на плоскости, но научился передавать и объёмные изображ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 кроманьонцев существовали погребальные обряды. В могилу клали предметы быта, еду, украшения. Мертвых посыпали кроваво-красной охрой, надевали сетку на волосы, браслеты на руки, на лицо клали плоские камни и хоронили в согнутом положении (колени касались подбородка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романьонцы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11" descr="450px-Cro-Magnon-Frau-Neanderthal"/>
          <p:cNvPicPr/>
          <p:nvPr/>
        </p:nvPicPr>
        <p:blipFill>
          <a:blip r:embed="rId1"/>
          <a:stretch/>
        </p:blipFill>
        <p:spPr>
          <a:xfrm>
            <a:off x="777960" y="1600200"/>
            <a:ext cx="3397320" cy="453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44397-004-D45BC527"/>
          <p:cNvPicPr/>
          <p:nvPr/>
        </p:nvPicPr>
        <p:blipFill>
          <a:blip r:embed="rId2"/>
          <a:stretch/>
        </p:blipFill>
        <p:spPr>
          <a:xfrm>
            <a:off x="5148360" y="1557360"/>
            <a:ext cx="30510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828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втор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убовик Ан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ченица 9в клас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авянск -20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исхождение названия</a:t>
            </a:r>
            <a:br>
              <a:rPr sz="40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происходит от находки черепа, выявленной в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1856 г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 ущелье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Неандерта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озле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Дюссельдорф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Эркра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Западная Герм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Ущель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получило название в честь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Иоахима Неанде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немецкого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теолог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 композитора. Спустя два года (в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185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Шаафгауз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вёл в научный обиход термин «неандерталец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елет неандертальц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10" descr="282px-Neanderthalensis"/>
          <p:cNvPicPr/>
          <p:nvPr/>
        </p:nvPicPr>
        <p:blipFill>
          <a:blip r:embed="rId1"/>
          <a:stretch/>
        </p:blipFill>
        <p:spPr>
          <a:xfrm>
            <a:off x="5580000" y="1341360"/>
            <a:ext cx="2476440" cy="5257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272-11-1"/>
          <p:cNvPicPr/>
          <p:nvPr/>
        </p:nvPicPr>
        <p:blipFill>
          <a:blip r:embed="rId2"/>
          <a:stretch/>
        </p:blipFill>
        <p:spPr>
          <a:xfrm>
            <a:off x="684360" y="1557360"/>
            <a:ext cx="2819160" cy="218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622"/>
          <p:cNvPicPr/>
          <p:nvPr/>
        </p:nvPicPr>
        <p:blipFill>
          <a:blip r:embed="rId3"/>
          <a:stretch/>
        </p:blipFill>
        <p:spPr>
          <a:xfrm>
            <a:off x="2124000" y="4005360"/>
            <a:ext cx="24289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Характерные черты 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крупный и выдающийся вперёд нос, может быть с горбинкой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большая ротовая полость в сочетании с сильными челюстями позволяет откусывать и пережёвывать крупные куски пищи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лазницы круглые и широко расставлены, глаза, вероятно, большие и раскосые, хотя могут быть плохо видны из-под нависших бровей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1"/>
          <p:cNvPicPr/>
          <p:nvPr/>
        </p:nvPicPr>
        <p:blipFill>
          <a:blip r:embed="rId1"/>
          <a:stretch/>
        </p:blipFill>
        <p:spPr>
          <a:xfrm>
            <a:off x="539640" y="1700280"/>
            <a:ext cx="367992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ли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андертальцы являлись носителями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устьерской культу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гроте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Ля-Шапель-о-Се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во Франции было обнаружено неглубокое захоронение со скелетом в позе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эмбрио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окрытым красной накидкой. Рядом с телом были оставлены инструменты, цветы, яйца и мясо, что может свидетельствовать о вере в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загробную жизн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и наличии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религиоз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магичес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практики. Некоторые погребальные обычаи неандертацев и современных людей близки. К примеру, в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Ирак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было обнаружено погребение 40-летнего мужчины, на которое соплеменники возложили цветы — вокруг скелета находилось много цветочной пыльцы. Другие обычаи разнятся. Так неандертальцы, жившие в суровых условиях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Ледникового перио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часто съедали своих умерших сородичей — из 300 найденных скелетов хорошо сохранились только 12. Остальные имеют следы отделения мяса, в костях содержатся крошечные осколки кремниевых оруд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елигия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7" descr="0015qg9p"/>
          <p:cNvPicPr/>
          <p:nvPr/>
        </p:nvPicPr>
        <p:blipFill>
          <a:blip r:embed="rId1"/>
          <a:stretch/>
        </p:blipFill>
        <p:spPr>
          <a:xfrm>
            <a:off x="611280" y="1125360"/>
            <a:ext cx="7272360" cy="545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чезновение неандертальцев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ществует несколько вероятных причин исчезновения неандертальцев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     Гибель из-за климатических изменений во время последнего оледен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    Распространение болезней, в том числе занесённых из Африки современным видом людей и распространявшихся среди каннибал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        Вытеснение </a:t>
            </a: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людьми современного тип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Кроманьонцы пришли в Европу около 40 тысяч лет назад, а через 5 тысяч лет неандертальцы полностью вымерли. Эти 5 тысяч лет сосуществования двух видов были периодом острой конкуренции за еду и другие ресурсы, победу в которой благодаря десятикратному численному превосходству и более интенсивному освоению земель одержали кроманьонц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еандертальц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9" descr="25-15-4b"/>
          <p:cNvPicPr/>
          <p:nvPr/>
        </p:nvPicPr>
        <p:blipFill>
          <a:blip r:embed="rId1"/>
          <a:stretch/>
        </p:blipFill>
        <p:spPr>
          <a:xfrm>
            <a:off x="4788000" y="1341360"/>
            <a:ext cx="3722760" cy="530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neander-verden-4-low"/>
          <p:cNvPicPr/>
          <p:nvPr/>
        </p:nvPicPr>
        <p:blipFill>
          <a:blip r:embed="rId2"/>
          <a:stretch/>
        </p:blipFill>
        <p:spPr>
          <a:xfrm>
            <a:off x="900000" y="1268280"/>
            <a:ext cx="3167280" cy="2379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2"/>
          <p:cNvPicPr/>
          <p:nvPr/>
        </p:nvPicPr>
        <p:blipFill>
          <a:blip r:embed="rId3"/>
          <a:stretch/>
        </p:blipFill>
        <p:spPr>
          <a:xfrm>
            <a:off x="826920" y="3789360"/>
            <a:ext cx="324036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Неоантропы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(кроманьонцы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3:49:22Z</dcterms:created>
  <dc:creator>АнюТkа</dc:creator>
  <dc:description/>
  <dc:language>en-US</dc:language>
  <cp:lastModifiedBy>Admin</cp:lastModifiedBy>
  <dcterms:modified xsi:type="dcterms:W3CDTF">2012-05-30T22:25:28Z</dcterms:modified>
  <cp:revision>6</cp:revision>
  <dc:subject/>
  <dc:title>Палеонтропы</dc:title>
</cp:coreProperties>
</file>