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202-6580-45FB-A741-BA8F4378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A7B-304D-4230-A2BD-735BD6F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72B-25F8-46E6-A189-3B180381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7A8-C318-462D-960C-760D539E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B089-79D4-4F47-9560-31C5C09B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BDB-E826-406A-9F2A-8CDE2E3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1770-0FAD-47B9-880A-0E85592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85B8-FBCC-4995-B173-5DCCEAA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933D-D1CD-4932-8FD0-68BAD6BC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3B94-C063-4470-BE5B-23741431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9E79-DE60-49CC-B013-CC64605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41F-12F1-4E17-A10A-CA6DC08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53E9-E54B-4C34-B205-0B71D69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D78E-5AF6-4433-B952-662996E1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90B-C775-43FA-AD24-18464B0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238-F5ED-49C4-B68F-1148C76B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324-B676-4259-997E-1370F38A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813-E07F-436D-827F-10A4CF1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A44-AEFA-44E9-A7FA-76191D2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E8A-E5C2-45A9-8269-6F902D32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F54-048C-45EE-8F22-52775340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586-7888-4DB0-B9FE-E7CA801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204-1ECF-4573-917A-537F457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C84-037A-4A35-A1CD-C549DB4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C15-3BD4-4BFB-90FF-A52CC36172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928-5028-420B-A800-DC440692E0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oclass.ucoz.ua/load/prezentacii/prezentacii_uchashhikhsja/neandertalcy_i_kromanoncy/11-1-0-19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102;&#1076;&#1080;_(&#1088;&#1086;&#1076;)" TargetMode="External"/><Relationship Id="rId3" Type="http://schemas.openxmlformats.org/officeDocument/2006/relationships/hyperlink" Target="http://ru.wikipedia.org/wiki/&#1055;&#1072;&#1083;&#1077;&#1086;&#1083;&#1080;&#1090;" TargetMode="External"/><Relationship Id="rId4" Type="http://schemas.openxmlformats.org/officeDocument/2006/relationships/hyperlink" Target="http://ru.wikipedia.org/wiki/&#1043;&#1086;&#1083;&#1086;&#1074;&#1085;&#1086;&#1081;_&#1084;&#1086;&#1079;&#1075;" TargetMode="External"/><Relationship Id="rId5" Type="http://schemas.openxmlformats.org/officeDocument/2006/relationships/hyperlink" Target="http://ru.wikipedia.org/wiki/&#1050;&#1088;&#1086;-&#1052;&#1072;&#1085;&#1100;&#1086;&#1085;" TargetMode="External"/><Relationship Id="rId6" Type="http://schemas.openxmlformats.org/officeDocument/2006/relationships/hyperlink" Target="http://ru.wikipedia.org/w/index.php?title=&#1050;&#1077;&#1081;&#1087;-&#1060;&#1083;&#1077;&#1090;&#1089;&amp;action=edit&amp;redlink=1" TargetMode="External"/><Relationship Id="rId7" Type="http://schemas.openxmlformats.org/officeDocument/2006/relationships/hyperlink" Target="http://ru.wikipedia.org/w/index.php?title=&#1050;&#1086;&#1084;&#1073;_&#1050;&#1072;&#1087;&#1077;&#1083;&#1083;&#1100;&amp;action=edit&amp;redlink=1" TargetMode="External"/><Relationship Id="rId8" Type="http://schemas.openxmlformats.org/officeDocument/2006/relationships/hyperlink" Target="http://ru.wikipedia.org/w/index.php?title=&#1052;&#1083;&#1072;&#1076;&#1077;&#1095;&amp;action=edit&amp;redlink=1" TargetMode="External"/><Relationship Id="rId9" Type="http://schemas.openxmlformats.org/officeDocument/2006/relationships/hyperlink" Target="http://ru.wikipedia.org/wiki/&#1057;&#1091;&#1085;&#1075;&#1080;&#1088;&#1100;" TargetMode="External"/><Relationship Id="rId10" Type="http://schemas.openxmlformats.org/officeDocument/2006/relationships/hyperlink" Target="http://ru.wikipedia.org/wiki/&#1054;&#1073;&#1097;&#1080;&#1085;&#1072;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6_&#1075;&#1086;&#1076;" TargetMode="External"/><Relationship Id="rId2" Type="http://schemas.openxmlformats.org/officeDocument/2006/relationships/hyperlink" Target="http://ru.wikipedia.org/wiki/&#1053;&#1077;&#1072;&#1085;&#1076;&#1077;&#1088;&#1090;&#1072;&#1083;&#1100;" TargetMode="External"/><Relationship Id="rId3" Type="http://schemas.openxmlformats.org/officeDocument/2006/relationships/hyperlink" Target="http://ru.wikipedia.org/wiki/&#1044;&#1102;&#1089;&#1089;&#1077;&#1083;&#1100;&#1076;&#1086;&#1088;&#1092;" TargetMode="External"/><Relationship Id="rId4" Type="http://schemas.openxmlformats.org/officeDocument/2006/relationships/hyperlink" Target="http://ru.wikipedia.org/wiki/&#1069;&#1088;&#1082;&#1088;&#1072;&#1090;" TargetMode="External"/><Relationship Id="rId5" Type="http://schemas.openxmlformats.org/officeDocument/2006/relationships/hyperlink" Target="http://ru.wikipedia.org/wiki/&#1047;&#1072;&#1087;&#1072;&#1076;&#1085;&#1072;&#1103;_&#1043;&#1077;&#1088;&#1084;&#1072;&#1085;&#1080;&#1103;" TargetMode="External"/><Relationship Id="rId6" Type="http://schemas.openxmlformats.org/officeDocument/2006/relationships/hyperlink" Target="http://ru.wikipedia.org/wiki/&#1059;&#1097;&#1077;&#1083;&#1100;&#1077;" TargetMode="External"/><Relationship Id="rId7" Type="http://schemas.openxmlformats.org/officeDocument/2006/relationships/hyperlink" Target="http://ru.wikipedia.org/wiki/&#1053;&#1077;&#1072;&#1085;&#1076;&#1077;&#1088;,_&#1048;&#1086;&#1072;&#1093;&#1080;&#1084;" TargetMode="External"/><Relationship Id="rId8" Type="http://schemas.openxmlformats.org/officeDocument/2006/relationships/hyperlink" Target="http://ru.wikipedia.org/wiki/&#1058;&#1077;&#1086;&#1083;&#1086;&#1075;" TargetMode="External"/><Relationship Id="rId9" Type="http://schemas.openxmlformats.org/officeDocument/2006/relationships/hyperlink" Target="http://ru.wikipedia.org/wiki/1858_&#1075;&#1086;&#1076;" TargetMode="External"/><Relationship Id="rId10" Type="http://schemas.openxmlformats.org/officeDocument/2006/relationships/hyperlink" Target="http://ru.wikipedia.org/wiki/&#1064;&#1072;&#1072;&#1092;&#1075;&#1072;&#1091;&#1079;&#1077;&#1085;,_&#1043;&#1077;&#1088;&#1084;&#1072;&#1085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89;&#1090;&#1100;&#1077;&#1088;&#1089;&#1082;&#1072;&#1103;_&#1082;&#1091;&#1083;&#1100;&#1090;&#1091;&#1088;&#1072;" TargetMode="External"/><Relationship Id="rId2" Type="http://schemas.openxmlformats.org/officeDocument/2006/relationships/hyperlink" Target="http://ru.wikipedia.org/w/index.php?title=&#1051;&#1103;-&#1064;&#1072;&#1087;&#1077;&#1083;&#1100;-&#1086;-&#1057;&#1077;&#1085;&amp;action=edit&amp;redlink=1" TargetMode="External"/><Relationship Id="rId3" Type="http://schemas.openxmlformats.org/officeDocument/2006/relationships/hyperlink" Target="http://ru.wikipedia.org/wiki/&#1069;&#1084;&#1073;&#1088;&#1080;&#1086;&#1085;" TargetMode="External"/><Relationship Id="rId4" Type="http://schemas.openxmlformats.org/officeDocument/2006/relationships/hyperlink" Target="http://ru.wikipedia.org/wiki/&#1047;&#1072;&#1075;&#1088;&#1086;&#1073;&#1085;&#1072;&#1103;_&#1078;&#1080;&#1079;&#1085;&#1100;" TargetMode="External"/><Relationship Id="rId5" Type="http://schemas.openxmlformats.org/officeDocument/2006/relationships/hyperlink" Target="http://ru.wikipedia.org/wiki/&#1056;&#1077;&#1083;&#1080;&#1075;&#1080;&#1103;" TargetMode="External"/><Relationship Id="rId6" Type="http://schemas.openxmlformats.org/officeDocument/2006/relationships/hyperlink" Target="http://ru.wikipedia.org/wiki/&#1052;&#1072;&#1075;&#1080;&#1103;" TargetMode="External"/><Relationship Id="rId7" Type="http://schemas.openxmlformats.org/officeDocument/2006/relationships/hyperlink" Target="http://ru.wikipedia.org/wiki/&#1048;&#1088;&#1072;&#1082;" TargetMode="External"/><Relationship Id="rId8" Type="http://schemas.openxmlformats.org/officeDocument/2006/relationships/hyperlink" Target="http://ru.wikipedia.org/wiki/&#1051;&#1077;&#1076;&#1085;&#1080;&#1082;&#1086;&#1074;&#1099;&#1081;_&#1087;&#1077;&#1088;&#1080;&#1086;&#1076;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84;&#1072;&#1085;&#1100;&#1086;&#1085;&#1077;&#1094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Неандертальцы и Кроманьонцы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6" descr="1"/>
          <p:cNvPicPr/>
          <p:nvPr/>
        </p:nvPicPr>
        <p:blipFill>
          <a:blip r:embed="rId2"/>
          <a:stretch/>
        </p:blipFill>
        <p:spPr>
          <a:xfrm>
            <a:off x="928800" y="2786040"/>
            <a:ext cx="3030480" cy="3443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44397-004-D45BC527"/>
          <p:cNvPicPr/>
          <p:nvPr/>
        </p:nvPicPr>
        <p:blipFill>
          <a:blip r:embed="rId3"/>
          <a:stretch/>
        </p:blipFill>
        <p:spPr>
          <a:xfrm>
            <a:off x="5072040" y="2755800"/>
            <a:ext cx="3143160" cy="3459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429000" y="6357960"/>
            <a:ext cx="2286000" cy="5000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писание вида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200" spc="-1" strike="noStrike">
                <a:solidFill>
                  <a:srgbClr val="ffffff"/>
                </a:solidFill>
                <a:latin typeface="Arial"/>
              </a:rPr>
              <a:t>Homme de Cro-Magnon — кроманьонский челове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 — ранние представители современно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 Европе и отчасти за её пределами, жившие 40—12 тысяч лет назад (период верхне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палеолит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. Объём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головного мозг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равен 1200—1500 см³. Рост около 180 с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происходит от грота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Кро-Маньон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о Франции, где в 1868 году было обнаружено несколько скелетов людей вместе с орудиями позднего палеол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ажнейшие ископаемые находки: в Африк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Кейп-Флетс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Фиш Хук, Назлет Хатер; в Европ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Комб Капелл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Младеч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ро-Маньон, в России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Сунгир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на Украине — Межире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или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община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по 15—30 человек и впервые в истории создали поселения. Жилищем были пещеры, шатры из шкур, в Восточной Европе встречаются землян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кроманьон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6" descr="509px-Cro-Magnon"/>
          <p:cNvPicPr/>
          <p:nvPr/>
        </p:nvPicPr>
        <p:blipFill>
          <a:blip r:embed="rId1"/>
          <a:stretch/>
        </p:blipFill>
        <p:spPr>
          <a:xfrm>
            <a:off x="324000" y="1413000"/>
            <a:ext cx="4028760" cy="475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mage1608"/>
          <p:cNvPicPr/>
          <p:nvPr/>
        </p:nvPicPr>
        <p:blipFill>
          <a:blip r:embed="rId2"/>
          <a:stretch/>
        </p:blipFill>
        <p:spPr>
          <a:xfrm>
            <a:off x="4788000" y="1341360"/>
            <a:ext cx="3406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ладал развитой членораздельной речью, строил жилища, одевался в одежды из шкур, было развито гончарное дело. Жили родовым обществом, начали приручать животных и заниматься земледел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численные находки свидетельствуют о наличии культа охоты. Фигурки зверей пронзали стрелами, убивая таким образом зверя. Кроманьонец умел не только гравировать и рисовать на плоскости, но научился передавать и объёмные изображ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 кроманьонцев существовали погребальные обряды. В могилу клали предметы быта, еду, украшения. Мертвых посыпали кроваво-красной охрой, надевали сетку на волосы, браслеты на руки, на лицо клали плоские камни и хоронили в согнутом положении (колени касались подбородк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11" descr="450px-Cro-Magnon-Frau-Neanderthal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397-004-D45BC527"/>
          <p:cNvPicPr/>
          <p:nvPr/>
        </p:nvPicPr>
        <p:blipFill>
          <a:blip r:embed="rId2"/>
          <a:stretch/>
        </p:blipFill>
        <p:spPr>
          <a:xfrm>
            <a:off x="5148360" y="1557360"/>
            <a:ext cx="30510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828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убовик Ан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ченица 9в кл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авянск -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названия</a:t>
            </a:r>
            <a:br>
              <a:rPr sz="40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оисходит от находки черепа, выявленной 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856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 ущель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андерта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озл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Дюссельдорф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Эркр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Западная Гер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Ущель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получило название в честь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оахима Неанде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немецкого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теолог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 композитора. Спустя два года (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185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Шаафгауз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вёл в научный обиход термин «неандерталец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неандерталь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0" descr="282px-Neanderthalensis"/>
          <p:cNvPicPr/>
          <p:nvPr/>
        </p:nvPicPr>
        <p:blipFill>
          <a:blip r:embed="rId1"/>
          <a:stretch/>
        </p:blipFill>
        <p:spPr>
          <a:xfrm>
            <a:off x="5580000" y="1341360"/>
            <a:ext cx="247644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272-11-1"/>
          <p:cNvPicPr/>
          <p:nvPr/>
        </p:nvPicPr>
        <p:blipFill>
          <a:blip r:embed="rId2"/>
          <a:stretch/>
        </p:blipFill>
        <p:spPr>
          <a:xfrm>
            <a:off x="684360" y="1557360"/>
            <a:ext cx="281916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622"/>
          <p:cNvPicPr/>
          <p:nvPr/>
        </p:nvPicPr>
        <p:blipFill>
          <a:blip r:embed="rId3"/>
          <a:stretch/>
        </p:blipFill>
        <p:spPr>
          <a:xfrm>
            <a:off x="2124000" y="400536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Характерные черты 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рупный и выдающийся вперёд нос, может быть с горбинкой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ольшая ротовая полость в сочетании с сильными челюстями позволяет откусывать и пережёвывать крупные куски пищи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зницы круглые и широко расставлены, глаза, вероятно, большие и раскосые, хотя могут быть плохо видны из-под нависших бровей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1"/>
          <p:cNvPicPr/>
          <p:nvPr/>
        </p:nvPicPr>
        <p:blipFill>
          <a:blip r:embed="rId1"/>
          <a:stretch/>
        </p:blipFill>
        <p:spPr>
          <a:xfrm>
            <a:off x="539640" y="1700280"/>
            <a:ext cx="367992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андертальцы являлись носителям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устьерской культу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грот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Ля-Шапель-о-Се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во Франции было обнаружено неглубокое захоронение со скелетом в поз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эмбри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окрытым красной накидкой. Рядом с телом были оставлены инструменты, цветы, яйца и мясо, что может свидетельствовать о вере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загробную жиз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 наличи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лигиоз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гичес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практики. Некоторые погребальные обычаи неандертацев и современных людей близки. К примеру,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ра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было обнаружено погребение 40-летнего мужчины, на которое соплеменники возложили цветы — вокруг скелета находилось много цветочной пыльцы. Другие обычаи разнятся. Так неандертальцы, жившие в суровых условиях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Ледникового пери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часто съедали своих умерших сородичей — из 300 найденных скелетов хорошо сохранились только 12. Остальные имеют следы отделения мяса, в костях содержатся крошечные осколки кремниевых оруд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7" descr="0015qg9p"/>
          <p:cNvPicPr/>
          <p:nvPr/>
        </p:nvPicPr>
        <p:blipFill>
          <a:blip r:embed="rId1"/>
          <a:stretch/>
        </p:blipFill>
        <p:spPr>
          <a:xfrm>
            <a:off x="611280" y="112536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чезновение неандертальцев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ществует несколько вероятных причин исчезновения неандертальцев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     Гибель из-за климатических изменений во время последнего оледен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    Распространение болезней, в том числе занесённых из Африки современным видом людей и распространявшихся среди канниба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     Вытеснение 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людьми современного тип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Кроманьонцы пришли в Европу около 40 тысяч лет назад, а через 5 тысяч лет неандертальцы полностью вымерли. Эти 5 тысяч лет сосуществования двух видов были периодом острой конкуренции за еду и другие ресурсы, победу в которой благодаря десятикратному численному превосходству и более интенсивному освоению земель одержали кроманьонц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еандертальц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9" descr="25-15-4b"/>
          <p:cNvPicPr/>
          <p:nvPr/>
        </p:nvPicPr>
        <p:blipFill>
          <a:blip r:embed="rId1"/>
          <a:stretch/>
        </p:blipFill>
        <p:spPr>
          <a:xfrm>
            <a:off x="4788000" y="1341360"/>
            <a:ext cx="3722760" cy="530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neander-verden-4-low"/>
          <p:cNvPicPr/>
          <p:nvPr/>
        </p:nvPicPr>
        <p:blipFill>
          <a:blip r:embed="rId2"/>
          <a:stretch/>
        </p:blipFill>
        <p:spPr>
          <a:xfrm>
            <a:off x="900000" y="1268280"/>
            <a:ext cx="3167280" cy="237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"/>
          <p:cNvPicPr/>
          <p:nvPr/>
        </p:nvPicPr>
        <p:blipFill>
          <a:blip r:embed="rId3"/>
          <a:stretch/>
        </p:blipFill>
        <p:spPr>
          <a:xfrm>
            <a:off x="826920" y="3789360"/>
            <a:ext cx="32403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Неоантропы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(кроманьонцы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49:22Z</dcterms:created>
  <dc:creator>АнюТkа</dc:creator>
  <dc:description/>
  <dc:language>en-US</dc:language>
  <cp:lastModifiedBy>Admin</cp:lastModifiedBy>
  <dcterms:modified xsi:type="dcterms:W3CDTF">2012-05-30T22:25:28Z</dcterms:modified>
  <cp:revision>6</cp:revision>
  <dc:subject/>
  <dc:title>Палеонтропы</dc:title>
</cp:coreProperties>
</file>