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E69-8EDD-42F1-8A10-F4310900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548-F31F-4E20-BC31-028F17E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769-CA53-4C17-B270-E88F87B3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364-BD06-4B4B-8771-7E6B217F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934F-60AC-4EBD-8C5B-5D2B7C39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3998-4390-43A6-AFBA-3096717D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8D36-BB10-4273-B909-7B9B8D28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6C37-79E3-497F-B7B8-74BEF393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E5D4-4F0B-4AC1-A437-B570D61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A746-9135-4DC2-AC87-8D78083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3EB8-AEAE-4609-AB08-4C2D3B1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DAA-A32E-4F1C-8BBF-F250676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844-9BE0-46CD-A941-775105F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54E6-A11F-4CD9-97F7-6C911D69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11C2-C839-49B4-B3FE-5F1BF268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7A23-289B-4D04-8AD2-3DF24D9D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F4F3-60BD-4D42-A428-937CBE33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C17-7788-4EFB-95E3-88860175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055-8900-4305-9C94-65B0C2E0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934-9E88-42FD-A5FC-EB71E6DA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554-3EB4-4228-B148-D99BC97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B39-2D39-4859-B03C-992E7A51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6E5-90AA-4D00-90E8-59C758F0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C5A-06F4-4650-9A01-343D1C32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6B9-98A9-4384-8527-2061C87D049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83CD-DEC6-4CAE-B2ED-2D57F594355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146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8436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084720" y="1700280"/>
            <a:ext cx="100836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2771640" y="3716280"/>
            <a:ext cx="432144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7236000" y="3500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7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2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7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2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7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2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7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2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7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5"/>
          <p:cNvSpPr/>
          <p:nvPr/>
        </p:nvSpPr>
        <p:spPr>
          <a:xfrm flipV="1">
            <a:off x="468360" y="620280"/>
            <a:ext cx="934920" cy="1079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403280" y="620640"/>
            <a:ext cx="1297080" cy="1008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1763640" y="1628640"/>
            <a:ext cx="936720" cy="1224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68360" y="1700280"/>
            <a:ext cx="647640" cy="1081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4500720" y="620280"/>
            <a:ext cx="2016000" cy="180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0"/>
          <p:cNvSpPr/>
          <p:nvPr/>
        </p:nvSpPr>
        <p:spPr>
          <a:xfrm flipH="1">
            <a:off x="5076720" y="620640"/>
            <a:ext cx="1440000" cy="28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5076720" y="907920"/>
            <a:ext cx="1943280" cy="12258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12"/>
          <p:cNvSpPr/>
          <p:nvPr/>
        </p:nvSpPr>
        <p:spPr>
          <a:xfrm flipH="1">
            <a:off x="4788000" y="2133720"/>
            <a:ext cx="2232000" cy="718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928880" y="333360"/>
            <a:ext cx="25002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Простая ломана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751280" y="0"/>
            <a:ext cx="4392720" cy="358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Ломаная с самопересечение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61128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7928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1476360" y="26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771640" y="1413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4067280" y="22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588000" y="40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4643280" y="714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7093080" y="1989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183528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485928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071800" y="4143240"/>
            <a:ext cx="55450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B+BC+CD+DE – </a:t>
            </a: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длина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2411280" y="765000"/>
            <a:ext cx="865440" cy="28908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40"/>
          <p:cNvSpPr/>
          <p:nvPr/>
        </p:nvSpPr>
        <p:spPr>
          <a:xfrm flipH="1">
            <a:off x="7092720" y="476280"/>
            <a:ext cx="865080" cy="28872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4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48436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084720" y="1700280"/>
            <a:ext cx="100836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11"/>
          <p:cNvSpPr/>
          <p:nvPr/>
        </p:nvSpPr>
        <p:spPr>
          <a:xfrm flipH="1">
            <a:off x="2771640" y="3716280"/>
            <a:ext cx="432144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7236000" y="3500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0" y="0"/>
            <a:ext cx="1908000" cy="549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ТЕОРЕМА 13.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571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лина ломаной не меньше длины отрезка, соединяющего ее конц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25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6084720" y="1700280"/>
            <a:ext cx="28764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1"/>
          <p:cNvSpPr/>
          <p:nvPr/>
        </p:nvSpPr>
        <p:spPr>
          <a:xfrm flipH="1">
            <a:off x="2771640" y="3716280"/>
            <a:ext cx="360072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443640" y="364500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2340000" y="249228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611280" y="4292640"/>
            <a:ext cx="244800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5327640" y="4437000"/>
            <a:ext cx="3816360" cy="822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 неравенству треугольн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&lt;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+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7308720" y="5229360"/>
            <a:ext cx="0" cy="358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148360" y="5589720"/>
            <a:ext cx="3743280" cy="860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Длина  ломаной 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Не больше, чем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25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5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6084720" y="1700280"/>
            <a:ext cx="7164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2771640" y="3716280"/>
            <a:ext cx="338472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6227640" y="37162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340000" y="249228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611280" y="4292640"/>
            <a:ext cx="2448000" cy="14436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19"/>
          <p:cNvSpPr/>
          <p:nvPr/>
        </p:nvSpPr>
        <p:spPr>
          <a:xfrm flipV="1">
            <a:off x="611280" y="1915920"/>
            <a:ext cx="4176720" cy="237636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5327640" y="4437000"/>
            <a:ext cx="3816360" cy="822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 неравенству треугольн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&lt;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+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7308720" y="5229360"/>
            <a:ext cx="0" cy="358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5148360" y="5589720"/>
            <a:ext cx="3743280" cy="860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Длина ломаной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Не больше, чем 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 flipV="1">
            <a:off x="34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43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278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4518000" y="1700280"/>
            <a:ext cx="1297080" cy="216000"/>
          </a:xfrm>
          <a:prstGeom prst="line">
            <a:avLst/>
          </a:prstGeom>
          <a:ln w="540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5815080" y="1700280"/>
            <a:ext cx="71280" cy="2016000"/>
          </a:xfrm>
          <a:prstGeom prst="line">
            <a:avLst/>
          </a:prstGeom>
          <a:ln w="5400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2501640" y="3716280"/>
            <a:ext cx="3384360" cy="2233800"/>
          </a:xfrm>
          <a:prstGeom prst="line">
            <a:avLst/>
          </a:prstGeom>
          <a:ln w="540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502000" y="458136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941640" y="14130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95800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2430360" y="60930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207000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24000" y="4292640"/>
            <a:ext cx="2232000" cy="1584360"/>
          </a:xfrm>
          <a:prstGeom prst="line">
            <a:avLst/>
          </a:prstGeom>
          <a:ln w="475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372360" y="404640"/>
            <a:ext cx="2519280" cy="64260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оединяя концы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6372360" y="1628640"/>
            <a:ext cx="2519280" cy="68004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Придем к отрезку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6372360" y="2924280"/>
            <a:ext cx="2519280" cy="64260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Длина данной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5940360" y="4437000"/>
            <a:ext cx="2952720" cy="40572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Не меньше длины 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Line 39"/>
          <p:cNvSpPr/>
          <p:nvPr/>
        </p:nvSpPr>
        <p:spPr>
          <a:xfrm>
            <a:off x="7667640" y="1052640"/>
            <a:ext cx="0" cy="57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Line 40"/>
          <p:cNvSpPr/>
          <p:nvPr/>
        </p:nvSpPr>
        <p:spPr>
          <a:xfrm>
            <a:off x="7667640" y="2276640"/>
            <a:ext cx="0" cy="64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41"/>
          <p:cNvSpPr/>
          <p:nvPr/>
        </p:nvSpPr>
        <p:spPr>
          <a:xfrm>
            <a:off x="7667640" y="3716280"/>
            <a:ext cx="0" cy="72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6551640" y="6308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6699"/>
                </a:solidFill>
                <a:latin typeface="Verdana"/>
              </a:rPr>
              <a:t>Теорема доказа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Вопрос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1. Какая фигура называется ломан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2. Что называют вершиной ломан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3. Что называют звеном лома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4. Когда ломаная будет прям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5. Когда ломаная будет с самопересечение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6. Сформулируйте теорему 13.1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2151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Решение задач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57120" y="1285560"/>
            <a:ext cx="85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6 – устн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Найдите длину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если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вершины квадрата со стороной 2см, А5 – точка пересечения диагоналей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середина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Докажите, что длина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ольше длины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357200" y="3357720"/>
            <a:ext cx="33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143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§ 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.1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,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22:53Z</dcterms:created>
  <dc:creator>ЮРИЙ</dc:creator>
  <dc:description/>
  <dc:language>en-US</dc:language>
  <cp:lastModifiedBy>matveeva</cp:lastModifiedBy>
  <dcterms:modified xsi:type="dcterms:W3CDTF">2010-01-12T10:39:54Z</dcterms:modified>
  <cp:revision>10</cp:revision>
  <dc:subject/>
  <dc:title>Слайд 1</dc:title>
</cp:coreProperties>
</file>