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C60-7668-4855-A2DF-EDF88E76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4FB-9C25-4B60-9B1E-0BBEF05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5A2-68BD-48EE-B943-8E957767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FBF-F089-4525-8296-189EF571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D743-F330-48BA-9C2A-F68B583C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1AE8-0A18-4EDA-9192-63CB742C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9750-A8B6-4E26-8E60-9FDEBF7B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F246-8474-448C-8D23-BC209DC0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3D2E-D0BF-4ED0-87D5-3B16239A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DE0B-D1E0-4DCB-9600-B96DC7CA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338-861F-4DAE-A357-31199230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6F3-28F1-48F7-9575-6CCA42D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6355-FD15-4DF1-9556-7C0C8B48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5222-A991-404E-8924-8EA7EDA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9E05-7D9F-4CD1-AFE9-BCC950DA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CF42-6991-42DE-BDED-DA8CFF49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7C9-F9B8-48BF-BCE8-E68EEB3E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195-D8CE-41E0-AA55-EE476E6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088-1BEF-4B95-93B2-57B650DF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748-CDAD-4431-930C-452005B5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915-B047-4616-A8A5-FBCCD76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038-C72A-4883-9A67-96D7CBC9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5BE-0E38-45BC-B1F0-8D083DEE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DD4-F8C5-40C2-A6FE-F7576006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7AA4-B013-4F35-8018-7BABB864AD2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1A3A-4AB7-4645-A394-A06AC50C709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146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8436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084720" y="1700280"/>
            <a:ext cx="100836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2771640" y="3716280"/>
            <a:ext cx="432144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7236000" y="3500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7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7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2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7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2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7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2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7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2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7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5"/>
          <p:cNvSpPr/>
          <p:nvPr/>
        </p:nvSpPr>
        <p:spPr>
          <a:xfrm flipV="1">
            <a:off x="468360" y="620280"/>
            <a:ext cx="934920" cy="1079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403280" y="620640"/>
            <a:ext cx="1297080" cy="1008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1763640" y="1628640"/>
            <a:ext cx="936720" cy="1224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68360" y="1700280"/>
            <a:ext cx="647640" cy="1081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V="1">
            <a:off x="4500720" y="620280"/>
            <a:ext cx="2016000" cy="180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0"/>
          <p:cNvSpPr/>
          <p:nvPr/>
        </p:nvSpPr>
        <p:spPr>
          <a:xfrm flipH="1">
            <a:off x="5076720" y="620640"/>
            <a:ext cx="1440000" cy="28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5076720" y="907920"/>
            <a:ext cx="1943280" cy="12258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12"/>
          <p:cNvSpPr/>
          <p:nvPr/>
        </p:nvSpPr>
        <p:spPr>
          <a:xfrm flipH="1">
            <a:off x="4788000" y="2133720"/>
            <a:ext cx="2232000" cy="718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928880" y="333360"/>
            <a:ext cx="250020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Простая ломана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751280" y="0"/>
            <a:ext cx="4392720" cy="358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Ломаная с самопересечение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61128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7928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1476360" y="26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771640" y="1413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4067280" y="22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588000" y="40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4643280" y="714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7093080" y="1989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183528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485928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071800" y="4143240"/>
            <a:ext cx="55450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B+BC+CD+DE – </a:t>
            </a: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длина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2411280" y="765000"/>
            <a:ext cx="865440" cy="28908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40"/>
          <p:cNvSpPr/>
          <p:nvPr/>
        </p:nvSpPr>
        <p:spPr>
          <a:xfrm flipH="1">
            <a:off x="7092720" y="476280"/>
            <a:ext cx="865080" cy="288720"/>
          </a:xfrm>
          <a:prstGeom prst="line">
            <a:avLst/>
          </a:prstGeom>
          <a:ln w="349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4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48436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084720" y="1700280"/>
            <a:ext cx="100836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11"/>
          <p:cNvSpPr/>
          <p:nvPr/>
        </p:nvSpPr>
        <p:spPr>
          <a:xfrm flipH="1">
            <a:off x="2771640" y="3716280"/>
            <a:ext cx="432144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7236000" y="35002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0" y="0"/>
            <a:ext cx="1908000" cy="549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Verdana"/>
              </a:rPr>
              <a:t>ТЕОРЕМА 13.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571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лина ломаной не меньше длины отрезка, соединяющего ее конц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25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6084720" y="1700280"/>
            <a:ext cx="28764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1"/>
          <p:cNvSpPr/>
          <p:nvPr/>
        </p:nvSpPr>
        <p:spPr>
          <a:xfrm flipH="1">
            <a:off x="2771640" y="3716280"/>
            <a:ext cx="360072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443640" y="364500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2340000" y="249228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611280" y="4292640"/>
            <a:ext cx="244800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5327640" y="4437000"/>
            <a:ext cx="3816360" cy="822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 неравенству треугольни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&lt;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+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7308720" y="5229360"/>
            <a:ext cx="0" cy="358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148360" y="5589720"/>
            <a:ext cx="3743280" cy="860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Длина  ломаной 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Не больше, чем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0" y="0"/>
            <a:ext cx="25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99"/>
                </a:solidFill>
                <a:latin typeface="Verdana"/>
              </a:rPr>
              <a:t>Лома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5"/>
          <p:cNvSpPr/>
          <p:nvPr/>
        </p:nvSpPr>
        <p:spPr>
          <a:xfrm flipV="1">
            <a:off x="61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70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0" y="4076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305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9"/>
          <p:cNvSpPr/>
          <p:nvPr/>
        </p:nvSpPr>
        <p:spPr>
          <a:xfrm flipV="1">
            <a:off x="4788000" y="1700280"/>
            <a:ext cx="1296720" cy="216000"/>
          </a:xfrm>
          <a:prstGeom prst="line">
            <a:avLst/>
          </a:prstGeom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6084720" y="1700280"/>
            <a:ext cx="71640" cy="201600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2771640" y="3716280"/>
            <a:ext cx="3384720" cy="223380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771640" y="458136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4211640" y="141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6227640" y="37162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2700360" y="609300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340000" y="249228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611280" y="4292640"/>
            <a:ext cx="2448000" cy="14436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19"/>
          <p:cNvSpPr/>
          <p:nvPr/>
        </p:nvSpPr>
        <p:spPr>
          <a:xfrm flipV="1">
            <a:off x="611280" y="1915920"/>
            <a:ext cx="4176720" cy="237636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5327640" y="4437000"/>
            <a:ext cx="3816360" cy="822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 неравенству треугольни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&lt;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+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7308720" y="5229360"/>
            <a:ext cx="0" cy="358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5148360" y="5589720"/>
            <a:ext cx="3743280" cy="860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Длина ломаной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Не больше, чем 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…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5"/>
          <p:cNvSpPr/>
          <p:nvPr/>
        </p:nvSpPr>
        <p:spPr>
          <a:xfrm flipV="1">
            <a:off x="341280" y="2923920"/>
            <a:ext cx="2089080" cy="1368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2430360" y="2924280"/>
            <a:ext cx="358920" cy="151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2789280" y="1916280"/>
            <a:ext cx="1728720" cy="2520720"/>
          </a:xfrm>
          <a:prstGeom prst="line">
            <a:avLst/>
          </a:prstGeom>
          <a:ln w="540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4518000" y="1700280"/>
            <a:ext cx="1297080" cy="216000"/>
          </a:xfrm>
          <a:prstGeom prst="line">
            <a:avLst/>
          </a:prstGeom>
          <a:ln w="540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5815080" y="1700280"/>
            <a:ext cx="71280" cy="2016000"/>
          </a:xfrm>
          <a:prstGeom prst="line">
            <a:avLst/>
          </a:prstGeom>
          <a:ln w="5400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2501640" y="3716280"/>
            <a:ext cx="3384360" cy="2233800"/>
          </a:xfrm>
          <a:prstGeom prst="line">
            <a:avLst/>
          </a:prstGeom>
          <a:ln w="540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2502000" y="458136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941640" y="14130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5958000" y="3716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-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2430360" y="60930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2070000" y="2492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24000" y="4292640"/>
            <a:ext cx="2232000" cy="1584360"/>
          </a:xfrm>
          <a:prstGeom prst="line">
            <a:avLst/>
          </a:prstGeom>
          <a:ln w="475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372360" y="404640"/>
            <a:ext cx="2519280" cy="64260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Соединяя концы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6372360" y="1628640"/>
            <a:ext cx="2519280" cy="68004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Придем к отрезкуА</a:t>
            </a:r>
            <a:r>
              <a:rPr b="0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6372360" y="2924280"/>
            <a:ext cx="2519280" cy="64260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Длина данной лома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5940360" y="4437000"/>
            <a:ext cx="2952720" cy="405720"/>
          </a:xfrm>
          <a:prstGeom prst="rect">
            <a:avLst/>
          </a:prstGeom>
          <a:noFill/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Не меньше длины А</a:t>
            </a:r>
            <a:r>
              <a:rPr b="1" lang="uk-UA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uk-UA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Line 39"/>
          <p:cNvSpPr/>
          <p:nvPr/>
        </p:nvSpPr>
        <p:spPr>
          <a:xfrm>
            <a:off x="7667640" y="1052640"/>
            <a:ext cx="0" cy="57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Line 40"/>
          <p:cNvSpPr/>
          <p:nvPr/>
        </p:nvSpPr>
        <p:spPr>
          <a:xfrm>
            <a:off x="7667640" y="2276640"/>
            <a:ext cx="0" cy="64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Line 41"/>
          <p:cNvSpPr/>
          <p:nvPr/>
        </p:nvSpPr>
        <p:spPr>
          <a:xfrm>
            <a:off x="7667640" y="3716280"/>
            <a:ext cx="0" cy="720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6551640" y="6308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6699"/>
                </a:solidFill>
                <a:latin typeface="Verdana"/>
              </a:rPr>
              <a:t>Теорема доказа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Вопрос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1. Какая фигура называется ломан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2. Что называют вершиной ломан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3. Что называют звеном лома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4. Когда ломаная будет прямо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5. Когда ломаная будет с самопересечение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6. Сформулируйте теорему 13.1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2151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Решение задач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57120" y="1285560"/>
            <a:ext cx="8501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6 – устн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Найдите длину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если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вершины квадрата со стороной 2см, А5 – точка пересечения диагоналей,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середина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Докажите, что длина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ольше длины ломаной 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4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357200" y="3357720"/>
            <a:ext cx="33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14360"/>
            <a:ext cx="82296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§ 1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.11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№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,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22:53Z</dcterms:created>
  <dc:creator>ЮРИЙ</dc:creator>
  <dc:description/>
  <dc:language>en-US</dc:language>
  <cp:lastModifiedBy>matveeva</cp:lastModifiedBy>
  <dcterms:modified xsi:type="dcterms:W3CDTF">2010-01-12T10:39:54Z</dcterms:modified>
  <cp:revision>10</cp:revision>
  <dc:subject/>
  <dc:title>Слайд 1</dc:title>
</cp:coreProperties>
</file>