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EC2-9C91-4883-A92C-C679ECD7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F5E-02F1-4FE5-8CEC-C2C2E1AE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D40-8849-4B5F-8F62-3239FCFF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5E0-FE6B-405C-A760-3505D6D1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B4E-A5BA-487E-8BED-E9935CB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9E6B-3DED-4B1B-B0E0-2428A99B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6930-D1CF-4707-A1FF-C5611B41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6FB-734A-4B4B-8625-AB5A67E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87E5-A32A-4712-B5D0-DF7B75D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DCDE-BB8A-4D00-9E33-75C5461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A7A-F197-49A9-86F9-A55AB13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846-57C2-4BA1-89CC-CBA70EA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FE45-C4FB-40B6-8BE4-34B81FAC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9DCA-8636-42FD-82A5-9F88AF7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B2DA-A025-47D6-A8E8-B350AB96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F13-72C7-42DB-ABE2-B535E9A0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DC62-F966-43F9-A308-8FBE08DA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0BE-13C1-4F8B-97A2-D955582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7AC-407F-48DA-9887-C123B25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374-D5B5-4FAC-8DB6-42F3BB4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5F4-6843-4C5F-A682-01F8EFB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575-C88E-4705-B4A4-90CF3B2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C4C-65F3-4D07-9FD0-DC15A81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558-824E-4F51-AD34-74FF9A5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383-874F-4E13-8D1D-FDA5A5FB2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C25-4E14-44D5-AF95-7AB859A680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ультурные растения моего дом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ученик 5Б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СОШ №6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влюткин Ники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укс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лева домашних  цветов! Разве это не т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зумбарская фиал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сенпол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овые и красные, синие или многоцветные – фиалки бывают самые разны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s320x240_008"/>
          <p:cNvPicPr/>
          <p:nvPr/>
        </p:nvPicPr>
        <p:blipFill>
          <a:blip r:embed="rId1"/>
          <a:stretch/>
        </p:blipFill>
        <p:spPr>
          <a:xfrm>
            <a:off x="1979640" y="2565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bella3_small"/>
          <p:cNvPicPr/>
          <p:nvPr/>
        </p:nvPicPr>
        <p:blipFill>
          <a:blip r:embed="rId2"/>
          <a:stretch/>
        </p:blipFill>
        <p:spPr>
          <a:xfrm>
            <a:off x="324000" y="4292640"/>
            <a:ext cx="2463480" cy="201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picture-109"/>
          <p:cNvPicPr/>
          <p:nvPr/>
        </p:nvPicPr>
        <p:blipFill>
          <a:blip r:embed="rId3"/>
          <a:stretch/>
        </p:blipFill>
        <p:spPr>
          <a:xfrm>
            <a:off x="7812000" y="1484280"/>
            <a:ext cx="1008000" cy="7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picture-556"/>
          <p:cNvPicPr/>
          <p:nvPr/>
        </p:nvPicPr>
        <p:blipFill>
          <a:blip r:embed="rId4"/>
          <a:stretch/>
        </p:blipFill>
        <p:spPr>
          <a:xfrm>
            <a:off x="7885080" y="2565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S8301180"/>
          <p:cNvPicPr/>
          <p:nvPr/>
        </p:nvPicPr>
        <p:blipFill>
          <a:blip r:embed="rId5"/>
          <a:stretch/>
        </p:blipFill>
        <p:spPr>
          <a:xfrm>
            <a:off x="6443640" y="3933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S8301181"/>
          <p:cNvPicPr/>
          <p:nvPr/>
        </p:nvPicPr>
        <p:blipFill>
          <a:blip r:embed="rId6"/>
          <a:stretch/>
        </p:blipFill>
        <p:spPr>
          <a:xfrm>
            <a:off x="4284720" y="479736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пасные и безопасные растения моего дом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836640"/>
          <a:ext cx="8229600" cy="5913360"/>
        </p:xfrm>
        <a:graphic>
          <a:graphicData uri="http://schemas.openxmlformats.org/drawingml/2006/table">
            <a:tbl>
              <a:tblPr/>
              <a:tblGrid>
                <a:gridCol w="1366920"/>
                <a:gridCol w="1800000"/>
                <a:gridCol w="5062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асен или 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ые трав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лоэ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неаккуратном обращении – возможны царапины и мелкие ранки о колючие края листьев раст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его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иффенбах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и семена –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еб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ран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олоча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- 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нсивье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олстян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адескан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к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кроскопические испарения от млечного сока – возможны аллергические реакц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лодендро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листьях содержится ядовитая кислота – при попадании на кожу  человека возникает ожог или аллергическая реакция, при попадании внутрь – сильнейшее отравл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ук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Цисс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этап: срезаю 5 листьев от фиал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этап: листья подсушиваю и опускаю в воду, чтобы появились кор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этап: через 3 недели появились корни, и я высадил проросшие листья в горшочек с зем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S8301192"/>
          <p:cNvPicPr/>
          <p:nvPr/>
        </p:nvPicPr>
        <p:blipFill>
          <a:blip r:embed="rId1"/>
          <a:stretch/>
        </p:blipFill>
        <p:spPr>
          <a:xfrm>
            <a:off x="1332000" y="4005360"/>
            <a:ext cx="1977840" cy="26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8301193"/>
          <p:cNvPicPr/>
          <p:nvPr/>
        </p:nvPicPr>
        <p:blipFill>
          <a:blip r:embed="rId2"/>
          <a:stretch/>
        </p:blipFill>
        <p:spPr>
          <a:xfrm>
            <a:off x="414036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этап: мой маленький кустик фиалки все подрастал и подрастал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не кажется,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S8301181"/>
          <p:cNvPicPr/>
          <p:nvPr/>
        </p:nvPicPr>
        <p:blipFill>
          <a:blip r:embed="rId1"/>
          <a:stretch/>
        </p:blipFill>
        <p:spPr>
          <a:xfrm>
            <a:off x="2556000" y="2708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В помещении, где бывают дети, лучше не выращивать диффенбахию, фикус, паслен, молочай, филодендрон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Выращивать растения – очень увлекательное занятие.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Мои «напоминашки» помогут запомнить правила ухода за каждым растение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Ребята! Если вы не уверены в своих знаниях об уходе за растениями – заведите себе такой «зеленый» сувенир! (он по утрам просто хочет пить!!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S8301194"/>
          <p:cNvPicPr/>
          <p:nvPr/>
        </p:nvPicPr>
        <p:blipFill>
          <a:blip r:embed="rId1"/>
          <a:stretch/>
        </p:blipFill>
        <p:spPr>
          <a:xfrm>
            <a:off x="2556000" y="3860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100"/>
                            </p:stCondLst>
                            <p:childTnLst>
                              <p:par>
                                <p:cTn id="441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4 0.009 0.144 0.016 0.144 C 0.023 0.144 0.029 0.084 0.031 0 C 0.034 0.084 0.04 0.144 0.047 0.144 C 0.054 0.144 0.06 0.084 0.062 0 C 0.065 0.084 0.071 0.144 0.078 0.144 C 0.085 0.144 0.092 0.084 0.094 0 C 0.096 0.084 0.102 0.144 0.11 0.144 C 0.116 0.144 0.123 0.084 0.125 0 C 0.127 0.084 0.134 0.144 0.141 0.144 C 0.148 0.144 0.154 0.084 0.156 0 C 0.159 0.084 0.165 0.144 0.172 0.144 C 0.179 0.144 0.185 0.084 0.188 0 C 0.19 0.084 0.196 0.144 0.203 0.144 C 0.21 0.144 0.217 0.084 0.219 0 C 0.221 0.084 0.227 0.144 0.235 0.144 C 0.242 0.144 0.248 0.084 0.25 0 E">
                                      <p:cBhvr>
                                        <p:cTn id="44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лагодар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нимание!!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ведение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своего исследования я выбрал тему «Культурные растения моего дома.»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Читая энциклопедию, я заинтересовался статьей о том, что не все  «зеленые друзья» безопасны. Особенно осторожно следует подбирать растения в детскую комнату. Я очень удивился – неужели  растения могут нанести вред?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моей рабо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зучить  особенности содержания растений, которые есть у меня до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изучить литературу по тем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ронаблюдать за цветами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оформить результаты исслед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72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2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92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2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92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12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ория.</a:t>
            </a:r>
            <a:br>
              <a:rPr sz="20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оэ (столетник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излечивающее от многих болезне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легенда , что цветет это растение лишь  1 раз в 100 ле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0072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егония (Бегония Фи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которое радует нас не только своими красивыми цветами, но и необычными листьям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S8301189"/>
          <p:cNvPicPr/>
          <p:nvPr/>
        </p:nvPicPr>
        <p:blipFill>
          <a:blip r:embed="rId1"/>
          <a:stretch/>
        </p:blipFill>
        <p:spPr>
          <a:xfrm>
            <a:off x="1332000" y="357336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S8301179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1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иффенбах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коративно-лиственное растение с красивым рисунком на крупных овальных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лодендр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имеет продолговатые листья в форме сердца, в которых содержится ядовитая кислота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dieffenbachia"/>
          <p:cNvPicPr/>
          <p:nvPr/>
        </p:nvPicPr>
        <p:blipFill>
          <a:blip r:embed="rId1"/>
          <a:stretch/>
        </p:blipFill>
        <p:spPr>
          <a:xfrm>
            <a:off x="1332000" y="3933720"/>
            <a:ext cx="1993680" cy="2657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S8301183"/>
          <p:cNvPicPr/>
          <p:nvPr/>
        </p:nvPicPr>
        <p:blipFill>
          <a:blip r:embed="rId2"/>
          <a:stretch/>
        </p:blipFill>
        <p:spPr>
          <a:xfrm>
            <a:off x="5508720" y="393372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7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2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ебр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с длинными свисающими ветвями с пестрыми оригинальными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ара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есна маранта тем, что вечером ее листья вытягиваются кверху, как «солдатик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S8301188"/>
          <p:cNvPicPr/>
          <p:nvPr/>
        </p:nvPicPr>
        <p:blipFill>
          <a:blip r:embed="rId1"/>
          <a:stretch/>
        </p:blipFill>
        <p:spPr>
          <a:xfrm>
            <a:off x="133200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8301186"/>
          <p:cNvPicPr/>
          <p:nvPr/>
        </p:nvPicPr>
        <p:blipFill>
          <a:blip r:embed="rId2"/>
          <a:stretch/>
        </p:blipFill>
        <p:spPr>
          <a:xfrm>
            <a:off x="5076720" y="407664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олоча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нозеленый кустарник с толстыми листьями, которые  при обрезке выделяют ядовитый млечный сок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ансевь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нь выносливый, неприхотливый цветок. В Америке из нее делают ткани и веревк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S8301187"/>
          <p:cNvPicPr/>
          <p:nvPr/>
        </p:nvPicPr>
        <p:blipFill>
          <a:blip r:embed="rId1"/>
          <a:stretch/>
        </p:blipFill>
        <p:spPr>
          <a:xfrm>
            <a:off x="1619280" y="393372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8301184"/>
          <p:cNvPicPr/>
          <p:nvPr/>
        </p:nvPicPr>
        <p:blipFill>
          <a:blip r:embed="rId2"/>
          <a:stretch/>
        </p:blipFill>
        <p:spPr>
          <a:xfrm>
            <a:off x="5435640" y="39337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олстя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е ее называют «денежным деревом»- чем лучше растет, тем больше дене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радеск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примета, что если этот цветок растет хорошо, то семья дружна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8301191"/>
          <p:cNvPicPr/>
          <p:nvPr/>
        </p:nvPicPr>
        <p:blipFill>
          <a:blip r:embed="rId1"/>
          <a:stretch/>
        </p:blipFill>
        <p:spPr>
          <a:xfrm>
            <a:off x="1008000" y="3573360"/>
            <a:ext cx="2355840" cy="314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S8301190"/>
          <p:cNvPicPr/>
          <p:nvPr/>
        </p:nvPicPr>
        <p:blipFill>
          <a:blip r:embed="rId2"/>
          <a:stretch/>
        </p:blipFill>
        <p:spPr>
          <a:xfrm>
            <a:off x="4500720" y="35733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к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ют и деревья, и кустарники, и лианы. Может вызвать аллергию у дете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Цисс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зающая неприхотливая лиана, прикрепляется к опоре ус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_____________________________"/>
          <p:cNvPicPr/>
          <p:nvPr/>
        </p:nvPicPr>
        <p:blipFill>
          <a:blip r:embed="rId1"/>
          <a:stretch/>
        </p:blipFill>
        <p:spPr>
          <a:xfrm>
            <a:off x="1258920" y="3429000"/>
            <a:ext cx="2425680" cy="324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S8301185"/>
          <p:cNvPicPr/>
          <p:nvPr/>
        </p:nvPicPr>
        <p:blipFill>
          <a:blip r:embed="rId2"/>
          <a:stretch/>
        </p:blipFill>
        <p:spPr>
          <a:xfrm>
            <a:off x="5508720" y="342900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7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7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2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2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8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11:37Z</dcterms:created>
  <dc:creator>-</dc:creator>
  <dc:description/>
  <dc:language>en-US</dc:language>
  <cp:lastModifiedBy>R</cp:lastModifiedBy>
  <dcterms:modified xsi:type="dcterms:W3CDTF">2014-04-09T05:53:20Z</dcterms:modified>
  <cp:revision>16</cp:revision>
  <dc:subject/>
  <dc:title>Культурные растения моего дома.</dc:title>
</cp:coreProperties>
</file>