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85E-6054-4D79-9E33-0EF9B699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A1A-58A8-490F-9D2D-5604F85A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FEB-1817-49F6-A261-D0120FF1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4AD-B1A1-409B-9A43-003BE327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B1A6-B3A8-42FB-B90A-266B98F3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8130-3A9B-409C-BB10-FBCBADCB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9FF9-464B-44B3-8076-FBFA1362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6502-EB0B-4898-B8E4-B8025578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4A25-8060-491B-95AC-B23854CE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2828-C492-4A6C-B823-5CBEBFE0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B9C8-83AA-4247-BE22-C0E88F4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6C7-ACA4-4CC0-907D-A7E5E436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4910-E156-4358-B8AF-AE4239F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AD9B-013C-4170-AE0E-C2F6B11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52F5-9C8D-4111-BE01-BBE841DA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8F10-552F-460A-8F2F-7A8DB891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FB5D-BBDB-4630-AC42-2B046B6A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A89-983A-4704-978D-36FD04FF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985-80D4-42AA-A5B1-DF68DFC8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8A1-4B74-4548-89E7-28E6C2D1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D92-9FB2-4D2B-B172-2E2391F2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44F-3324-40F4-B94E-F4A5D91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597-199C-408C-B0FC-9E7F56DC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57A-5549-4777-ADC4-B65CABE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2A97-2DB5-486C-B65F-EFAB2FE1A8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0B79-7398-48D0-8991-AEF6823A0F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ультурные растения моего дома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 ученик 5Б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СОШ №6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влюткин Ники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укс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олева домашних  цветов! Разве это не та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292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зумбарская фиал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(сенпол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овые и красные, синие или многоцветные – фиалки бывают самые разные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s320x240_008"/>
          <p:cNvPicPr/>
          <p:nvPr/>
        </p:nvPicPr>
        <p:blipFill>
          <a:blip r:embed="rId1"/>
          <a:stretch/>
        </p:blipFill>
        <p:spPr>
          <a:xfrm>
            <a:off x="1979640" y="256536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bella3_small"/>
          <p:cNvPicPr/>
          <p:nvPr/>
        </p:nvPicPr>
        <p:blipFill>
          <a:blip r:embed="rId2"/>
          <a:stretch/>
        </p:blipFill>
        <p:spPr>
          <a:xfrm>
            <a:off x="324000" y="4292640"/>
            <a:ext cx="2463480" cy="2019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picture-109"/>
          <p:cNvPicPr/>
          <p:nvPr/>
        </p:nvPicPr>
        <p:blipFill>
          <a:blip r:embed="rId3"/>
          <a:stretch/>
        </p:blipFill>
        <p:spPr>
          <a:xfrm>
            <a:off x="7812000" y="1484280"/>
            <a:ext cx="1008000" cy="757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picture-556"/>
          <p:cNvPicPr/>
          <p:nvPr/>
        </p:nvPicPr>
        <p:blipFill>
          <a:blip r:embed="rId4"/>
          <a:stretch/>
        </p:blipFill>
        <p:spPr>
          <a:xfrm>
            <a:off x="7885080" y="256536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S8301180"/>
          <p:cNvPicPr/>
          <p:nvPr/>
        </p:nvPicPr>
        <p:blipFill>
          <a:blip r:embed="rId5"/>
          <a:stretch/>
        </p:blipFill>
        <p:spPr>
          <a:xfrm>
            <a:off x="6443640" y="3933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S8301181"/>
          <p:cNvPicPr/>
          <p:nvPr/>
        </p:nvPicPr>
        <p:blipFill>
          <a:blip r:embed="rId6"/>
          <a:stretch/>
        </p:blipFill>
        <p:spPr>
          <a:xfrm>
            <a:off x="4284720" y="479736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Опасные и безопасные растения моего дом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836640"/>
          <a:ext cx="8229600" cy="5913360"/>
        </p:xfrm>
        <a:graphic>
          <a:graphicData uri="http://schemas.openxmlformats.org/drawingml/2006/table">
            <a:tbl>
              <a:tblPr/>
              <a:tblGrid>
                <a:gridCol w="1366920"/>
                <a:gridCol w="1800000"/>
                <a:gridCol w="5062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асен или 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ые трав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лоэ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 неаккуратном обращении – возможны царапины и мелкие ранки о колючие края листьев раст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его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иффенбах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овит сок растения и семена – при попадании на кожу человека возникает ожог или аллергическая реак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Зебр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арант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олоча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овит сок растения -  при попадании на кожу человека возникает ожог или аллергическая реак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ансивьер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олстян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адескан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ику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кроскопические испарения от млечного сока – возможны аллергические реакци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илодендро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листьях содержится ядовитая кислота – при попадании на кожу  человека возникает ожог или аллергическая реакция, при попадании внутрь – сильнейшее отравле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укс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Циссу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ыращивание узумбарской фиалки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этап: срезаю 5 листьев от фиал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этап: листья подсушиваю и опускаю в воду, чтобы появились кор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этап: через 3 недели появились корни, и я высадил проросшие листья в горшочек с земл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S8301192"/>
          <p:cNvPicPr/>
          <p:nvPr/>
        </p:nvPicPr>
        <p:blipFill>
          <a:blip r:embed="rId1"/>
          <a:stretch/>
        </p:blipFill>
        <p:spPr>
          <a:xfrm>
            <a:off x="1332000" y="4005360"/>
            <a:ext cx="1977840" cy="263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8301193"/>
          <p:cNvPicPr/>
          <p:nvPr/>
        </p:nvPicPr>
        <p:blipFill>
          <a:blip r:embed="rId2"/>
          <a:stretch/>
        </p:blipFill>
        <p:spPr>
          <a:xfrm>
            <a:off x="414036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ращивание узумбарской фиалк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этап: мой маленький кустик фиалки все подрастал и подрастал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не кажется, моя фиалка – самая красива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S8301181"/>
          <p:cNvPicPr/>
          <p:nvPr/>
        </p:nvPicPr>
        <p:blipFill>
          <a:blip r:embed="rId1"/>
          <a:stretch/>
        </p:blipFill>
        <p:spPr>
          <a:xfrm>
            <a:off x="2556000" y="270828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В помещении, где бывают дети, лучше не выращивать диффенбахию, фикус, паслен, молочай, филодендрон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Выращивать растения – очень увлекательное занятие. Моя фиалка – самая красива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Мои «напоминашки» помогут запомнить правила ухода за каждым растением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Ребята! Если вы не уверены в своих знаниях об уходе за растениями – заведите себе такой «зеленый» сувенир! (он по утрам просто хочет пить!!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S8301194"/>
          <p:cNvPicPr/>
          <p:nvPr/>
        </p:nvPicPr>
        <p:blipFill>
          <a:blip r:embed="rId1"/>
          <a:stretch/>
        </p:blipFill>
        <p:spPr>
          <a:xfrm>
            <a:off x="2556000" y="38606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00"/>
                            </p:stCondLst>
                            <p:childTnLst>
                              <p:par>
                                <p:cTn id="4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4100"/>
                            </p:stCondLst>
                            <p:childTnLst>
                              <p:par>
                                <p:cTn id="4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6100"/>
                            </p:stCondLst>
                            <p:childTnLst>
                              <p:par>
                                <p:cTn id="438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84 0.009 0.144 0.016 0.144 C 0.023 0.144 0.029 0.084 0.031 0 C 0.034 0.084 0.04 0.144 0.047 0.144 C 0.054 0.144 0.06 0.084 0.062 0 C 0.065 0.084 0.071 0.144 0.078 0.144 C 0.085 0.144 0.092 0.084 0.094 0 C 0.096 0.084 0.102 0.144 0.11 0.144 C 0.116 0.144 0.123 0.084 0.125 0 C 0.127 0.084 0.134 0.144 0.141 0.144 C 0.148 0.144 0.154 0.084 0.156 0 C 0.159 0.084 0.165 0.144 0.172 0.144 C 0.179 0.144 0.185 0.084 0.188 0 C 0.19 0.084 0.196 0.144 0.203 0.144 C 0.21 0.144 0.217 0.084 0.219 0 C 0.221 0.084 0.227 0.144 0.235 0.144 C 0.242 0.144 0.248 0.084 0.25 0 E">
                                      <p:cBhvr>
                                        <p:cTn id="4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Благодар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з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внимание!!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ведение.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ля своего исследования я выбрал тему «Культурные растения моего дома.»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Читая энциклопедию, я заинтересовался статьей о том, что не все  «зеленые друзья» безопасны. Особенно осторожно следует подбирать растения в детскую комнату. Я очень удивился – неужели  растения могут нанести вред?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ь моей рабо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изучить  особенности содержания растений, которые есть у меня до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изучить литературу по тем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ронаблюдать за цветами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оформить результаты исследо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72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12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92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2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92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812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ория.</a:t>
            </a:r>
            <a:br>
              <a:rPr sz="20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лоэ (столетник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тение, излечивающее от многих болезней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ществует легенда , что цветет это растение лишь  1 раз в 100 лет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0072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Бегония (Бегония Фи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тение, которое радует нас не только своими красивыми цветами, но и необычными листьям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S8301189"/>
          <p:cNvPicPr/>
          <p:nvPr/>
        </p:nvPicPr>
        <p:blipFill>
          <a:blip r:embed="rId1"/>
          <a:stretch/>
        </p:blipFill>
        <p:spPr>
          <a:xfrm>
            <a:off x="1332000" y="3573360"/>
            <a:ext cx="2268360" cy="302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S8301179"/>
          <p:cNvPicPr/>
          <p:nvPr/>
        </p:nvPicPr>
        <p:blipFill>
          <a:blip r:embed="rId2"/>
          <a:stretch/>
        </p:blipFill>
        <p:spPr>
          <a:xfrm>
            <a:off x="4572000" y="3573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6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1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иффенбах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коративно-лиственное растение с красивым рисунком на крупных овальных листь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илодендр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ение имеет продолговатые листья в форме сердца, в которых содержится ядовитая кислота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dieffenbachia"/>
          <p:cNvPicPr/>
          <p:nvPr/>
        </p:nvPicPr>
        <p:blipFill>
          <a:blip r:embed="rId1"/>
          <a:stretch/>
        </p:blipFill>
        <p:spPr>
          <a:xfrm>
            <a:off x="1332000" y="3933720"/>
            <a:ext cx="1993680" cy="2657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S8301183"/>
          <p:cNvPicPr/>
          <p:nvPr/>
        </p:nvPicPr>
        <p:blipFill>
          <a:blip r:embed="rId2"/>
          <a:stretch/>
        </p:blipFill>
        <p:spPr>
          <a:xfrm>
            <a:off x="5508720" y="3933720"/>
            <a:ext cx="20192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7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2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2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3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ебр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ение с длинными свисающими ветвями с пестрыми оригинальными листь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Мара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ресна маранта тем, что вечером ее листья вытягиваются кверху, как «солдатик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S8301188"/>
          <p:cNvPicPr/>
          <p:nvPr/>
        </p:nvPicPr>
        <p:blipFill>
          <a:blip r:embed="rId1"/>
          <a:stretch/>
        </p:blipFill>
        <p:spPr>
          <a:xfrm>
            <a:off x="1332000" y="3933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S8301186"/>
          <p:cNvPicPr/>
          <p:nvPr/>
        </p:nvPicPr>
        <p:blipFill>
          <a:blip r:embed="rId2"/>
          <a:stretch/>
        </p:blipFill>
        <p:spPr>
          <a:xfrm>
            <a:off x="5076720" y="4076640"/>
            <a:ext cx="3313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Молоча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чнозеленый кустарник с толстыми листьями, которые  при обрезке выделяют ядовитый млечный сок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ансевье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чень выносливый, неприхотливый цветок. В Америке из нее делают ткани и веревк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7" descr="S8301187"/>
          <p:cNvPicPr/>
          <p:nvPr/>
        </p:nvPicPr>
        <p:blipFill>
          <a:blip r:embed="rId1"/>
          <a:stretch/>
        </p:blipFill>
        <p:spPr>
          <a:xfrm>
            <a:off x="1619280" y="3933720"/>
            <a:ext cx="21049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S8301184"/>
          <p:cNvPicPr/>
          <p:nvPr/>
        </p:nvPicPr>
        <p:blipFill>
          <a:blip r:embed="rId2"/>
          <a:stretch/>
        </p:blipFill>
        <p:spPr>
          <a:xfrm>
            <a:off x="5435640" y="39337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олстя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ще ее называют «денежным деревом»- чем лучше растет, тем больше дене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радеск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ь примета, что если этот цветок растет хорошо, то семья дружна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8301191"/>
          <p:cNvPicPr/>
          <p:nvPr/>
        </p:nvPicPr>
        <p:blipFill>
          <a:blip r:embed="rId1"/>
          <a:stretch/>
        </p:blipFill>
        <p:spPr>
          <a:xfrm>
            <a:off x="1008000" y="3573360"/>
            <a:ext cx="2355840" cy="314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S8301190"/>
          <p:cNvPicPr/>
          <p:nvPr/>
        </p:nvPicPr>
        <p:blipFill>
          <a:blip r:embed="rId2"/>
          <a:stretch/>
        </p:blipFill>
        <p:spPr>
          <a:xfrm>
            <a:off x="4500720" y="357336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ику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вают и деревья, и кустарники, и лианы. Может вызвать аллергию у дете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Циссу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зающая неприхотливая лиана, прикрепляется к опоре уси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_____________________________"/>
          <p:cNvPicPr/>
          <p:nvPr/>
        </p:nvPicPr>
        <p:blipFill>
          <a:blip r:embed="rId1"/>
          <a:stretch/>
        </p:blipFill>
        <p:spPr>
          <a:xfrm>
            <a:off x="1258920" y="3429000"/>
            <a:ext cx="2425680" cy="324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S8301185"/>
          <p:cNvPicPr/>
          <p:nvPr/>
        </p:nvPicPr>
        <p:blipFill>
          <a:blip r:embed="rId2"/>
          <a:stretch/>
        </p:blipFill>
        <p:spPr>
          <a:xfrm>
            <a:off x="5508720" y="3429000"/>
            <a:ext cx="243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700"/>
                            </p:stCondLst>
                            <p:childTnLst>
                              <p:par>
                                <p:cTn id="2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7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2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2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68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8:11:37Z</dcterms:created>
  <dc:creator>-</dc:creator>
  <dc:description/>
  <dc:language>en-US</dc:language>
  <cp:lastModifiedBy>R</cp:lastModifiedBy>
  <dcterms:modified xsi:type="dcterms:W3CDTF">2014-04-09T05:53:20Z</dcterms:modified>
  <cp:revision>16</cp:revision>
  <dc:subject/>
  <dc:title>Культурные растения моего дома.</dc:title>
</cp:coreProperties>
</file>