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718D-E6BD-489A-884A-7D8A5AC6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BA5B-D336-4633-8684-880916B2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7CA-238E-40D2-A2DC-0512277F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643-84B3-47F1-A62E-0E3BAEBD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5BAC-F8FB-4A75-9201-AD2CD6A9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06AE-E45D-492A-A458-BEB5FD70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535E-B407-409E-834A-CFC1B3D0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B32B-FBC8-4DEE-8569-FE0608A0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E0A2-F9C6-4A65-A1F5-A4B68507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1C0F-CA3F-4C61-8EA2-ADB7BDDC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DEF9-33E4-41CC-9B25-5EF3EC72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E21-CD61-4A3F-847A-CB7D4193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AA35-0567-4EB8-8A16-611B9EA9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6BB0-EC20-4908-ADC4-FDBADBDC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E9DB-888B-4F46-AA7A-05163152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4BA3-8B71-4525-B30C-ED1D9064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E05C-392E-40AD-90C0-96FEBEC1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854-259E-4B2F-9EEB-7C3987B2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3442-0E50-4398-A79F-8C2477B1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87FD-66BB-4EE4-B31E-0BFA5246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1DB-3821-41AE-8E27-56B97603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2A6-FF0C-40CB-ABE0-76E19E2D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F7C-BB9E-4902-B563-C56885E0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79C1-50D5-4640-A77C-ED70361E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5927-411B-471D-98E8-0CBA78EC07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61B7-0F0F-4298-A45E-EEA1BD5E3D9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Культурные растения моего дома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 ученик 5Б кла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У «СОШ №6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влюткин Ники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тения моего дом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Фукс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олева домашних  цветов! Разве это не так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2920" y="10522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Узумбарская фиалк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(сенполи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зовые и красные, синие или многоцветные – фиалки бывают самые разные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8" descr="s320x240_008"/>
          <p:cNvPicPr/>
          <p:nvPr/>
        </p:nvPicPr>
        <p:blipFill>
          <a:blip r:embed="rId1"/>
          <a:stretch/>
        </p:blipFill>
        <p:spPr>
          <a:xfrm>
            <a:off x="1979640" y="2565360"/>
            <a:ext cx="2519280" cy="188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bella3_small"/>
          <p:cNvPicPr/>
          <p:nvPr/>
        </p:nvPicPr>
        <p:blipFill>
          <a:blip r:embed="rId2"/>
          <a:stretch/>
        </p:blipFill>
        <p:spPr>
          <a:xfrm>
            <a:off x="324000" y="4292640"/>
            <a:ext cx="2463480" cy="2019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picture-109"/>
          <p:cNvPicPr/>
          <p:nvPr/>
        </p:nvPicPr>
        <p:blipFill>
          <a:blip r:embed="rId3"/>
          <a:stretch/>
        </p:blipFill>
        <p:spPr>
          <a:xfrm>
            <a:off x="7812000" y="1484280"/>
            <a:ext cx="1008000" cy="757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picture-556"/>
          <p:cNvPicPr/>
          <p:nvPr/>
        </p:nvPicPr>
        <p:blipFill>
          <a:blip r:embed="rId4"/>
          <a:stretch/>
        </p:blipFill>
        <p:spPr>
          <a:xfrm>
            <a:off x="7885080" y="2565360"/>
            <a:ext cx="952560" cy="914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S8301180"/>
          <p:cNvPicPr/>
          <p:nvPr/>
        </p:nvPicPr>
        <p:blipFill>
          <a:blip r:embed="rId5"/>
          <a:stretch/>
        </p:blipFill>
        <p:spPr>
          <a:xfrm>
            <a:off x="6443640" y="39337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S8301181"/>
          <p:cNvPicPr/>
          <p:nvPr/>
        </p:nvPicPr>
        <p:blipFill>
          <a:blip r:embed="rId6"/>
          <a:stretch/>
        </p:blipFill>
        <p:spPr>
          <a:xfrm>
            <a:off x="4284720" y="4797360"/>
            <a:ext cx="25192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Опасные и безопасные растения моего дом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836640"/>
          <a:ext cx="8229600" cy="5913360"/>
        </p:xfrm>
        <a:graphic>
          <a:graphicData uri="http://schemas.openxmlformats.org/drawingml/2006/table">
            <a:tbl>
              <a:tblPr/>
              <a:tblGrid>
                <a:gridCol w="1366920"/>
                <a:gridCol w="1800000"/>
                <a:gridCol w="50626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асен или 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можные трав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лоэ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ТОРОЖНО!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 неаккуратном обращении – возможны царапины и мелкие ранки о колючие края листьев расте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его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иффенбах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ТОРОЖНО!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овит сок растения и семена – при попадании на кожу человека возникает ожог или аллергическая реакц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Зебри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арант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олоча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ТОРОЖНО!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овит сок растения -  при попадании на кожу человека возникает ожог или аллергическая реакц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ансивьер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Толстянк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Традесканц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икус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ТОРОЖНО!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кроскопические испарения от млечного сока – возможны аллергические реакци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илодендро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ТОРОЖНО!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листьях содержится ядовитая кислота – при попадании на кожу  человека возникает ожог или аллергическая реакция, при попадании внутрь – сильнейшее отравле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укс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Циссус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пасе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Выращивание узумбарской фиалки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этап: срезаю 5 листьев от фиал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этап: листья подсушиваю и опускаю в воду, чтобы появились кор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этап: через 3 недели появились корни, и я высадил проросшие листья в горшочек с земл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4" descr="S8301192"/>
          <p:cNvPicPr/>
          <p:nvPr/>
        </p:nvPicPr>
        <p:blipFill>
          <a:blip r:embed="rId1"/>
          <a:stretch/>
        </p:blipFill>
        <p:spPr>
          <a:xfrm>
            <a:off x="1332000" y="4005360"/>
            <a:ext cx="1977840" cy="2636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S8301193"/>
          <p:cNvPicPr/>
          <p:nvPr/>
        </p:nvPicPr>
        <p:blipFill>
          <a:blip r:embed="rId2"/>
          <a:stretch/>
        </p:blipFill>
        <p:spPr>
          <a:xfrm>
            <a:off x="4140360" y="400536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5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ращивание узумбарской фиалк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 этап: мой маленький кустик фиалки все подрастал и подрастал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не кажется, моя фиалка – самая красивая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S8301181"/>
          <p:cNvPicPr/>
          <p:nvPr/>
        </p:nvPicPr>
        <p:blipFill>
          <a:blip r:embed="rId1"/>
          <a:stretch/>
        </p:blipFill>
        <p:spPr>
          <a:xfrm>
            <a:off x="2556000" y="2708280"/>
            <a:ext cx="403200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В помещении, где бывают дети, лучше не выращивать диффенбахию, фикус, паслен, молочай, филодендрон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Выращивать растения – очень увлекательное занятие. Моя фиалка – самая красивая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Мои «напоминашки» помогут запомнить правила ухода за каждым растением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Ребята! Если вы не уверены в своих знаниях об уходе за растениями – заведите себе такой «зеленый» сувенир! (он по утрам просто хочет пить!!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S8301194"/>
          <p:cNvPicPr/>
          <p:nvPr/>
        </p:nvPicPr>
        <p:blipFill>
          <a:blip r:embed="rId1"/>
          <a:stretch/>
        </p:blipFill>
        <p:spPr>
          <a:xfrm>
            <a:off x="2556000" y="386064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00"/>
                            </p:stCondLst>
                            <p:childTnLst>
                              <p:par>
                                <p:cTn id="4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4100"/>
                            </p:stCondLst>
                            <p:childTnLst>
                              <p:par>
                                <p:cTn id="4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100"/>
                            </p:stCondLst>
                            <p:childTnLst>
                              <p:par>
                                <p:cTn id="441" nodeType="after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0.084 0.009 0.144 0.016 0.144 C 0.023 0.144 0.029 0.084 0.031 0 C 0.034 0.084 0.04 0.144 0.047 0.144 C 0.054 0.144 0.06 0.084 0.062 0 C 0.065 0.084 0.071 0.144 0.078 0.144 C 0.085 0.144 0.092 0.084 0.094 0 C 0.096 0.084 0.102 0.144 0.11 0.144 C 0.116 0.144 0.123 0.084 0.125 0 C 0.127 0.084 0.134 0.144 0.141 0.144 C 0.148 0.144 0.154 0.084 0.156 0 C 0.159 0.084 0.165 0.144 0.172 0.144 C 0.179 0.144 0.185 0.084 0.188 0 C 0.19 0.084 0.196 0.144 0.203 0.144 C 0.21 0.144 0.217 0.084 0.219 0 C 0.221 0.084 0.227 0.144 0.235 0.144 C 0.242 0.144 0.248 0.084 0.25 0 E">
                                      <p:cBhvr>
                                        <p:cTn id="44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Благодар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з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внимание!!!!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Введение.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ля своего исследования я выбрал тему «Культурные растения моего дома.»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Читая энциклопедию, я заинтересовался статьей о том, что не все  «зеленые друзья» безопасны. Особенно осторожно следует подбирать растения в детскую комнату. Я очень удивился – неужели  растения могут нанести вред?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ль моей работ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изучить  особенности содержания растений, которые есть у меня до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изучить литературу по тем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пронаблюдать за цветами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оформить результаты исследова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72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12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920"/>
                            </p:stCondLst>
                            <p:childTnLst>
                              <p:par>
                                <p:cTn id="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520"/>
                            </p:stCondLst>
                            <p:childTnLst>
                              <p:par>
                                <p:cTn id="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920"/>
                            </p:stCondLst>
                            <p:childTnLst>
                              <p:par>
                                <p:cTn id="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8120"/>
                            </p:stCondLst>
                            <p:childTnLst>
                              <p:par>
                                <p:cTn id="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еория.</a:t>
            </a:r>
            <a:br>
              <a:rPr sz="20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Растения моего дома.</a:t>
            </a:r>
            <a:br>
              <a:rPr sz="3600"/>
            </a:b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Алоэ (столетник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тение, излечивающее от многих болезней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ществует легенда , что цветет это растение лишь  1 раз в 100 лет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00720" y="1268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Бегония (Бегония Фист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тение, которое радует нас не только своими красивыми цветами, но и необычными листьями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6" descr="S8301189"/>
          <p:cNvPicPr/>
          <p:nvPr/>
        </p:nvPicPr>
        <p:blipFill>
          <a:blip r:embed="rId1"/>
          <a:stretch/>
        </p:blipFill>
        <p:spPr>
          <a:xfrm>
            <a:off x="1332000" y="3573360"/>
            <a:ext cx="2268360" cy="3024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S8301179"/>
          <p:cNvPicPr/>
          <p:nvPr/>
        </p:nvPicPr>
        <p:blipFill>
          <a:blip r:embed="rId2"/>
          <a:stretch/>
        </p:blipFill>
        <p:spPr>
          <a:xfrm>
            <a:off x="4572000" y="3573360"/>
            <a:ext cx="39607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6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1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тения моего дом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Диффенбах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коративно-лиственное растение с красивым рисунком на крупных овальных листья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2920" y="112536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Филодендро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тение имеет продолговатые листья в форме сердца, в которых содержится ядовитая кислота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7" descr="dieffenbachia"/>
          <p:cNvPicPr/>
          <p:nvPr/>
        </p:nvPicPr>
        <p:blipFill>
          <a:blip r:embed="rId1"/>
          <a:stretch/>
        </p:blipFill>
        <p:spPr>
          <a:xfrm>
            <a:off x="1332000" y="3933720"/>
            <a:ext cx="1993680" cy="2657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S8301183"/>
          <p:cNvPicPr/>
          <p:nvPr/>
        </p:nvPicPr>
        <p:blipFill>
          <a:blip r:embed="rId2"/>
          <a:stretch/>
        </p:blipFill>
        <p:spPr>
          <a:xfrm>
            <a:off x="5508720" y="3933720"/>
            <a:ext cx="20192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7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7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2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2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3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8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18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тения моего дом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Зебри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тение с длинными свисающими ветвями с пестрыми оригинальными листья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2920" y="112536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Маран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тересна маранта тем, что вечером ее листья вытягиваются кверху, как «солдатики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7" descr="S8301188"/>
          <p:cNvPicPr/>
          <p:nvPr/>
        </p:nvPicPr>
        <p:blipFill>
          <a:blip r:embed="rId1"/>
          <a:stretch/>
        </p:blipFill>
        <p:spPr>
          <a:xfrm>
            <a:off x="1332000" y="3933720"/>
            <a:ext cx="1998720" cy="2664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S8301186"/>
          <p:cNvPicPr/>
          <p:nvPr/>
        </p:nvPicPr>
        <p:blipFill>
          <a:blip r:embed="rId2"/>
          <a:stretch/>
        </p:blipFill>
        <p:spPr>
          <a:xfrm>
            <a:off x="5076720" y="4076640"/>
            <a:ext cx="33130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тения моего дом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Молоча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чнозеленый кустарник с толстыми листьями, которые  при обрезке выделяют ядовитый млечный сок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ансевье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чень выносливый, неприхотливый цветок. В Америке из нее делают ткани и веревк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7" descr="S8301187"/>
          <p:cNvPicPr/>
          <p:nvPr/>
        </p:nvPicPr>
        <p:blipFill>
          <a:blip r:embed="rId1"/>
          <a:stretch/>
        </p:blipFill>
        <p:spPr>
          <a:xfrm>
            <a:off x="1619280" y="3933720"/>
            <a:ext cx="2104920" cy="2808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S8301184"/>
          <p:cNvPicPr/>
          <p:nvPr/>
        </p:nvPicPr>
        <p:blipFill>
          <a:blip r:embed="rId2"/>
          <a:stretch/>
        </p:blipFill>
        <p:spPr>
          <a:xfrm>
            <a:off x="5435640" y="393372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тения моего дом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Толстян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ще ее называют «денежным деревом»- чем лучше растет, тем больше дене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0" y="1052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Традескан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ь примета, что если этот цветок растет хорошо, то семья дружная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S8301191"/>
          <p:cNvPicPr/>
          <p:nvPr/>
        </p:nvPicPr>
        <p:blipFill>
          <a:blip r:embed="rId1"/>
          <a:stretch/>
        </p:blipFill>
        <p:spPr>
          <a:xfrm>
            <a:off x="1008000" y="3573360"/>
            <a:ext cx="2355840" cy="3140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S8301190"/>
          <p:cNvPicPr/>
          <p:nvPr/>
        </p:nvPicPr>
        <p:blipFill>
          <a:blip r:embed="rId2"/>
          <a:stretch/>
        </p:blipFill>
        <p:spPr>
          <a:xfrm>
            <a:off x="4500720" y="3573360"/>
            <a:ext cx="41036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тения моего дом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Фику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вают и деревья, и кустарники, и лианы. Может вызвать аллергию у детей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2920" y="10522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Циссу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зающая неприхотливая лиана, прикрепляется к опоре усик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7" descr="_____________________________"/>
          <p:cNvPicPr/>
          <p:nvPr/>
        </p:nvPicPr>
        <p:blipFill>
          <a:blip r:embed="rId1"/>
          <a:stretch/>
        </p:blipFill>
        <p:spPr>
          <a:xfrm>
            <a:off x="1258920" y="3429000"/>
            <a:ext cx="2425680" cy="3241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S8301185"/>
          <p:cNvPicPr/>
          <p:nvPr/>
        </p:nvPicPr>
        <p:blipFill>
          <a:blip r:embed="rId2"/>
          <a:stretch/>
        </p:blipFill>
        <p:spPr>
          <a:xfrm>
            <a:off x="5508720" y="3429000"/>
            <a:ext cx="243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700"/>
                            </p:stCondLst>
                            <p:childTnLst>
                              <p:par>
                                <p:cTn id="2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7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2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3200"/>
                            </p:stCondLst>
                            <p:childTnLst>
                              <p:par>
                                <p:cTn id="2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2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68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8:11:37Z</dcterms:created>
  <dc:creator>-</dc:creator>
  <dc:description/>
  <dc:language>en-US</dc:language>
  <cp:lastModifiedBy>R</cp:lastModifiedBy>
  <dcterms:modified xsi:type="dcterms:W3CDTF">2014-04-09T05:53:20Z</dcterms:modified>
  <cp:revision>16</cp:revision>
  <dc:subject/>
  <dc:title>Культурные растения моего дома.</dc:title>
</cp:coreProperties>
</file>