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0CDD-95E6-4979-B784-83FD8389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F875-AD8D-4B68-9F75-08F2FB3D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C0ED-6372-450F-86FF-6D346F0D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3311-D9AF-4C34-A21F-ECD79E88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8CB6-A78B-4159-BCE6-B157C2C9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13FF-8343-48FE-86C4-2B65B860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2E58-6E5D-4152-B8C5-03942296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A2A2-D1E7-4395-AF3D-03C800CD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D007-3AE5-497D-8B8E-B6170AFD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B992-D629-44F4-8DCE-D54B5B22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19C6-2985-4109-B661-3BBE2C7A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5D3-9C16-465F-8451-965E5F30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C560-99A9-4968-81CC-C3E4EBDF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833D-C765-47B4-B42F-6D2C98D6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CEDA-84D0-4673-98D2-9F3DE98A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D9B9-B999-45AE-9111-D05395D6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7C19-317B-422C-B16A-5186647E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3AACA-F8C4-43D9-975E-CA7B109D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D55DD-F0F2-461C-891D-C70C65A8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B3A38-9651-4803-A322-0E2A0B45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B5EFE-444F-487B-AFC4-954546CF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6EEF1-E4CF-4AC9-A974-1FD02763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818-58ED-4A52-AED6-212E2A4E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CF0B0-2087-4BDD-BF06-7E494CD3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F12BF-F6DF-4D82-B128-85AE1DCC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F9704-74D7-49FF-BEC0-8E6D7FDC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A96FC-A80D-4A71-AAF2-CA2DD5A8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C6DA4-66D2-4B96-B571-05930C9D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CCC2E-96C2-4B8F-9B49-C20E7649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DA11C-27ED-40DF-9E96-603B01B8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6F97C-12B5-495E-8834-0C66647B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E5596-4E8B-4EEB-AE08-B42F5C22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8C69F-5A6B-4264-81E4-3D74BF8F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D7E2-3FCE-436E-88F9-11058B59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FE5AE-A74A-465D-A2AF-E47439A1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B36FD-BCAF-4895-8535-D1859635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97F17-4B28-40C1-9AB6-932CFE68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C3114-33DB-44C2-A6DA-DC7AC275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3FEA3-955B-4393-9BAD-423DE17F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F53B5-50BC-4018-8261-322E3AA0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C78F5-1A74-47C2-83B2-39796451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75527-B5D3-46D6-AD46-FF1F1195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6C98C-67C8-410C-89E6-7119BAD0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2053C-90C1-4756-970F-085937BD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B5A1-35C7-47C7-A91D-6D812160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6C1F3-8CD3-49B2-98F3-2325A706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E16CC-5116-4500-B79A-6E7853EE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46CC8-CF4D-453A-BC3B-6294413B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CB08C-2DF1-4427-805D-DA2BF902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3799C-012E-439F-9773-253187DE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EF30E-9CCC-432C-BFAA-30E75AD7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B99F6-6D25-4902-ADB2-2BECDB9A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30B75-37BC-44C5-9EE9-85D6CE65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11D47-14D5-411D-B441-707D73A3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BD96A-5DA9-469A-A213-C497C1E6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1DF-9926-410C-806C-C382B9AE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97367-0EBA-42E3-A0E1-453E44E8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5A1BD-FCAA-4724-BD9A-20B29D19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27983-48B3-471B-8B60-38436225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472CA-1955-49B4-BB20-504F7FC1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46790-FBAA-48DC-9183-66CC9286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0D95F-3FAD-4FED-8AC4-17DF8A14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AA0E3-324B-458E-BFED-4E981F96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6A545-4D6F-49DE-A437-A4E0D5EC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3EB09-0C45-4159-AFE5-5330DC08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0D204-4B1F-45BB-9457-78EAAAE3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9E3-F156-4C81-810E-B9ADB2ED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95FB3-4DA9-45B4-B5D4-BEA5F064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44511-7E35-48E3-9750-772FC156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CC673-1745-4F6A-A042-441B4549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2894-B6D5-4611-A01B-87419704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A846-4FBE-4D0E-BB4E-DD5AF071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4029-D87E-4CC0-A6AD-20E407093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47A3-2080-4E0A-AD98-E4D7C1835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C136-7CD6-4917-8527-7FC1CFB0057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041C-7469-4C3E-94FE-1AD49854633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ADD1-1681-4A6F-8678-383C3E6C0393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3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3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5D63-358B-48CC-A344-1E58453B12C6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леточная теория строения организм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I. Этап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Развит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Карл Максимович Бэр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276720" y="1557360"/>
          <a:ext cx="244944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557360"/>
                    <a:ext cx="244944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45842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27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крыл яйцеклетку млекопитающих. Сформулировал положение, что клетка не только единица строения, но и единица развития живых организм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92 – 187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удольф Вирхов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419640" y="1484280"/>
          <a:ext cx="22287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484280"/>
                    <a:ext cx="22287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основал принцип преемственности клето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"каждая клетка из клетки"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2436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21 – 190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Современная клеточная теория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Клетка представляет собой основу структурной и функциональной организации растений и животн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Клетки растений и животных сходны по строению и развиваются аналогично (путем деления исходной клетк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Клетки у всех организмов имеют мембранное стро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 Ядро клетки представляет ее главный регуляторный органои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) Клеточное строение живых организмов — свидетельство единства их происхожд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396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15920" indent="-1015920" algn="ctr">
              <a:lnSpc>
                <a:spcPct val="90000"/>
              </a:lnSpc>
              <a:buClr>
                <a:srgbClr val="ff33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Зарождение понятий о клетк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492360" y="1557360"/>
          <a:ext cx="201168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557360"/>
                    <a:ext cx="201168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66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убликовал труд "Микрография", где изложил результаты своих исследований. Рассматривая тонкий срез пробки под микроскопом, он обнаружил существование множества мелких ячеек и назвал их "клетками". Так возник этот терм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8560" y="981000"/>
            <a:ext cx="142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5-170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Антони ван Левен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03640" y="1628640"/>
          <a:ext cx="249876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628640"/>
                    <a:ext cx="249876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1680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исал с большой точностью, наблюдаемые под микроскопом микроорганизмы. Он назвал их "микроскопическими животными", однако не отмечал их клеточного стро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37800" y="1125360"/>
            <a:ext cx="174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2  - 172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. 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Возникновен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Броу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419640" y="1628640"/>
          <a:ext cx="243180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628640"/>
                    <a:ext cx="243180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508752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8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первые описал ядро в растительной клетке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54520" y="11970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73 – 1858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Маттиас Шлейде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348000" y="1557360"/>
          <a:ext cx="278136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557360"/>
                    <a:ext cx="278136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38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делал первые шаги к раскрытию и пониманию роли яд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4880" y="105264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04 – 188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Теодор Шван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348000" y="1484280"/>
          <a:ext cx="22748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22748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3300"/>
                </a:solidFill>
                <a:latin typeface="Arial"/>
              </a:rPr>
              <a:t>1839 год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ьзуя свои собственные данные и результат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. Шлейдена, обобщил знания о клетке и сформулировал клеточную теорию. Основное положение этой теории: клетка является элементарной единицей строения всех растительных и животных организмов.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54880" y="1125360"/>
            <a:ext cx="1599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10 – 188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Клеточная теория</a:t>
            </a:r>
            <a:br>
              <a:rPr sz="4200"/>
            </a:b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 Шванна - Шлейдена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Всем животным и растениям свойственно клеточное стро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Растут и развиваются растения и животные путем возникновения новых клето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Клетка является самой маленькой единицей живого, а целый организм – совокупность клеток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0:56:21Z</dcterms:created>
  <dc:creator>IPATOV</dc:creator>
  <dc:description/>
  <dc:language>en-US</dc:language>
  <cp:lastModifiedBy>IPATOV</cp:lastModifiedBy>
  <dcterms:modified xsi:type="dcterms:W3CDTF">2007-01-11T11:25:24Z</dcterms:modified>
  <cp:revision>6</cp:revision>
  <dc:subject/>
  <dc:title>Клеточная теория строения организмов</dc:title>
</cp:coreProperties>
</file>