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9DD-E620-47FE-82FC-BD7694AB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534-8EF3-4B82-B138-40CB0EE4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8B7-D35B-46D2-B429-777101C5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139A-E764-4A72-BAAD-DA40C9BF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0021-13C1-4752-AEB5-AF19F571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BC97-2C72-4C13-987D-239471D0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D97A-E5FC-4034-891D-8B92FEAF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5B2F-B95F-45C5-B3E2-E942C804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CA74-CD65-463E-BEE8-23DE4506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94BE-23F9-47D2-9D1F-8FCC6D9D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DCDE-2F23-4F48-AAE6-A9CE7320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290-044A-44C4-A6DA-CA6BB3BB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5AC2-D3B1-44CB-816B-2AB4BF0F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871E-C95D-4979-9456-D56376E2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6BC7-449C-45A6-99A6-1A870876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7EEF-8DED-44A2-8179-1CAF8E1D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900E-42A0-4E16-8C1E-979B2851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D677D-3D13-4E39-869F-E31C4977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C374E-5B93-4F6D-8930-4E908B73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7BB80-D634-4A0E-A12C-8FACE0A8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1FB95-1383-47E3-ACEA-B82F3F71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04571-10A3-4355-91CC-AC04688E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3872-D4D7-4B12-9B74-B3AC6021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1D981-D31D-4897-9355-D3C84F18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15297-E03C-4B35-80AF-76C3E726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2936C-9000-49D5-9250-663FC8FC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EF1BE-E7C2-47DC-9C3F-9AC2BAC5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84C1E-7635-4C72-B485-46465BC4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E5B48-D527-4881-AA5A-DB196413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BEFB9-5498-486C-856E-CA0B55BE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8A4BA-2972-4171-BE0D-3F9AA2B9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3A3DB-D093-409A-80D0-BA74945B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A2D0D-471D-40A2-90C2-EF0F38A8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C0AE-2A00-423B-BA92-9F1651C0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60B05-57E3-4C04-A115-B0A78E2A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A054C-4E34-4908-9D20-4001CEAB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043E8-47F1-4590-BAE4-DEA92017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4E5C2-D6BE-40BD-A745-19478DC7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DA98E-51CB-4E95-A3B1-D2FA59BF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A75E3-27FE-4958-9DF3-99961398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977AB-ABAC-4DD5-8A09-D8D5E58E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125EA-4A0D-49BC-8678-DA49C3AB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683FC-AD41-4499-A797-9893B1F5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9C489-1EC3-47E8-A690-639BA555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DFA-5A24-46E2-957F-E14C70B0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F769B-F878-4CD4-9943-23261397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C519F-D23B-43CA-B094-0D0078BD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76B59-70B3-43FF-BC13-9BBCD62F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37DC8-6DC1-4ED8-ACE5-2AF7CA48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5C0E2-B294-4BBF-A103-28714D87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F8628-A4AE-4C54-8206-D16A082D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EC044-F4F9-4DDD-9E03-1435E90F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F19D7-0844-4735-8120-64AA311E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B55DF-C23C-4C05-9894-583C9DEC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0BEBD-E7EC-4184-BA9F-52232392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4C8-1A2F-46B1-AE40-FBA52D13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E1E52-A5A6-4A9C-85F5-58C2A608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298E0-E2EF-46EB-9057-35021B95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36FC5-EC48-42E2-9DC7-499A87E9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91149-459A-4F02-B710-3759EDD4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374E0-8944-42BB-BAFC-B2F28986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C4447-7836-4116-9B77-DE53C161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E5559-8FD0-49E5-AEB1-921228E1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5BD73-E16C-4384-A034-B7A49FD9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0A9FB-C22A-40FA-9534-BF493113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3531F-7E62-4C68-9071-66E5F0B3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7230-4CCF-44BB-A87E-2EF271E6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15FD0-6549-440C-9D8B-6A098D56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BF5EE-5ECB-4F36-B87C-5531BFCF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367EE-04F4-4E1A-86B0-8C435F22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512B-23FC-4ADC-B394-10E8E733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E4D8-B9C3-4264-A487-2608D92F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0485-1DD6-4E96-AEA4-514D36E21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2280-B120-44A9-820F-287D9266D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1E10-A8C0-4392-AD09-EBC899120EF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3766-8210-45FA-94AD-77D0EA437F1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F783-75C7-43F5-B775-8079AD13BCF2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3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3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BDB9-9B3F-49AC-A262-A10B82ABBE37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леточная теория строения организм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I. Этап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Развит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Карл Максимович Бэр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276720" y="1557360"/>
          <a:ext cx="244944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557360"/>
                    <a:ext cx="244944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45842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27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крыл яйцеклетку млекопитающих. Сформулировал положение, что клетка не только единица строения, но и единица развития живых организм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92 – 187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удольф Вирхов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419640" y="1484280"/>
          <a:ext cx="22287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484280"/>
                    <a:ext cx="22287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основал принцип преемственности клето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"каждая клетка из клетки"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2436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21 – 190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Современная клеточная теория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Клетка представляет собой основу структурной и функциональной организации растений и животн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Клетки растений и животных сходны по строению и развиваются аналогично (путем деления исходной клетк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Клетки у всех организмов имеют мембранное стро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 Ядро клетки представляет ее главный регуляторный органои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) Клеточное строение живых организмов — свидетельство единства их происхожд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396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15920" indent="-1015920" algn="ctr">
              <a:lnSpc>
                <a:spcPct val="90000"/>
              </a:lnSpc>
              <a:buClr>
                <a:srgbClr val="ff33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Зарождение понятий о клетк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492360" y="1557360"/>
          <a:ext cx="201168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557360"/>
                    <a:ext cx="201168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66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убликовал труд "Микрография", где изложил результаты своих исследований. Рассматривая тонкий срез пробки под микроскопом, он обнаружил существование множества мелких ячеек и назвал их "клетками". Так возник этот терм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8560" y="981000"/>
            <a:ext cx="142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5-170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Антони ван Левен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03640" y="1628640"/>
          <a:ext cx="249876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628640"/>
                    <a:ext cx="249876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1680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исал с большой точностью, наблюдаемые под микроскопом микроорганизмы. Он назвал их "микроскопическими животными", однако не отмечал их клеточного стро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37800" y="1125360"/>
            <a:ext cx="174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2  - 172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. 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Возникновен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Броу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419640" y="1628640"/>
          <a:ext cx="243180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628640"/>
                    <a:ext cx="243180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508752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8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первые описал ядро в растительной клетке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54520" y="11970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73 – 1858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Маттиас Шлейде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348000" y="1557360"/>
          <a:ext cx="278136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557360"/>
                    <a:ext cx="278136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38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делал первые шаги к раскрытию и пониманию роли яд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4880" y="105264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04 – 188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Теодор Шван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348000" y="1484280"/>
          <a:ext cx="22748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22748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3300"/>
                </a:solidFill>
                <a:latin typeface="Arial"/>
              </a:rPr>
              <a:t>1839 год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ьзуя свои собственные данные и результат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. Шлейдена, обобщил знания о клетке и сформулировал клеточную теорию. Основное положение этой теории: клетка является элементарной единицей строения всех растительных и животных организмов.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54880" y="1125360"/>
            <a:ext cx="1599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10 – 188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Клеточная теория</a:t>
            </a:r>
            <a:br>
              <a:rPr sz="4200"/>
            </a:b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 Шванна - Шлейдена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Всем животным и растениям свойственно клеточное стро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Растут и развиваются растения и животные путем возникновения новых клето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Клетка является самой маленькой единицей живого, а целый организм – совокупность клеток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0:56:21Z</dcterms:created>
  <dc:creator>IPATOV</dc:creator>
  <dc:description/>
  <dc:language>en-US</dc:language>
  <cp:lastModifiedBy>IPATOV</cp:lastModifiedBy>
  <dcterms:modified xsi:type="dcterms:W3CDTF">2007-01-11T11:25:24Z</dcterms:modified>
  <cp:revision>6</cp:revision>
  <dc:subject/>
  <dc:title>Клеточная теория строения организмов</dc:title>
</cp:coreProperties>
</file>