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FBE-2D5E-49A6-8FE2-BD1EE03B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27-111E-4B28-8FB7-545ED82B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E04-2F8E-4B8B-AF17-812EA857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614-4C91-4637-82B4-AFB4E82F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F03-BCD1-44E4-9860-92B7332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B1C-7263-4EC2-B268-E5511705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B50-CC89-4542-8725-BF27EF6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639-7567-4EFE-B075-69EE3BD2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1E1-FC05-475A-B2E4-93B271A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0B2-CC01-41B6-B2A9-05621B34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0A2-2EF7-428E-9642-84F8F261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AC3-3C83-4917-A0CF-AAFC28D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37D-9AA9-4E76-8E8E-1E154768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89000"/>
            <a:ext cx="432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утеводитель</a:t>
            </a:r>
            <a:endParaRPr b="1" lang="en-US" sz="32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71640" y="5661000"/>
            <a:ext cx="36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о Канаде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15920"/>
            <a:ext cx="8569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2349360"/>
            <a:ext cx="698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48000" y="5089680"/>
            <a:ext cx="53294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1266840"/>
            <a:ext cx="5328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555920"/>
            <a:ext cx="3240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844640"/>
            <a:ext cx="122544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863960"/>
            <a:ext cx="882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дно из самых опасных мест в водах мирового океана и один из самых загадочных парадоксов природы – кочующий остров Сейбл. Всегда скрытый туманами, невысокий и совершенно плоский, он как будто притаился в ожидании добычи в той самой точке недалеко от канадского порта Галифакс, где встречаются теплый Гольфстрим и холодное Лабрадорское т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465440" cy="3120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7640" y="1628640"/>
            <a:ext cx="4462200" cy="2961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plus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3800880"/>
            <a:ext cx="8569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тоянно меняя очертания, размываемый сильным течением с одной стороны и «растущий» с другой из-за песка, наносимого течением, остров неуклонно движется на восток со средней скоростью около двухсот метров в год. По свидетельству геологов, это кажется почти невозможным – каждый остров в мировом океане базируется на мощнейших тектонических плитах, составляющих саму основу планеты. Эти тектонические плиты тоже дрейфуют, но со скоростью несколько миллиметров в год. Остается неясным, как Сейбл развивает такую большую скорость, ведь он не должен двигаться быстрее, чем дн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7440" y="765000"/>
            <a:ext cx="8675640" cy="3110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diamond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884160"/>
            <a:ext cx="42483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острове нет даже древесной растительности. Но несмотря на это там существует табун из трехсот лошадей. Предполагается, что лошади эти, больше похожие на пони, спаслись во время крушения в конце XVIII века французского военного судна и, не имея выбора, адаптировались к жизни среди зыбучих песков и тум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9276" r="0" b="16934"/>
          <a:stretch/>
        </p:blipFill>
        <p:spPr>
          <a:xfrm>
            <a:off x="395280" y="4149720"/>
            <a:ext cx="4321080" cy="2517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3199" r="0" b="2587"/>
          <a:stretch/>
        </p:blipFill>
        <p:spPr>
          <a:xfrm>
            <a:off x="4543560" y="1052640"/>
            <a:ext cx="4319280" cy="2904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36572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м не менее, 25-30 человек находятся постоянно на Сейбле с тем, чтобы постараться предотвратить новые трагедии в его прибрежных в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12" name=""/>
          <p:cNvSpPr/>
          <p:nvPr/>
        </p:nvSpPr>
        <p:spPr>
          <a:xfrm>
            <a:off x="4921200" y="708840"/>
            <a:ext cx="40672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агарский водопад  — общее название трёх водопадов на реке Ниагара. Корни водопада лежат в Висконсинском оледенении, закончившемся около 6000 лет назад. Северо-Американские Великие озёра и река Ниагара — это результат последнего континентального ледникового щита — огромного ледника, двигавшегося по местности с территории восточной Канады. Ледник двигался подобно бульдозеру, перемалывая камни и почву, сдвигая их с места и углубляя русла рек, создавая озёра. В других местах откладывались обломки пород, заставляя реки создавать новые ру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8013" r="0" b="0"/>
          <a:stretch/>
        </p:blipFill>
        <p:spPr>
          <a:xfrm>
            <a:off x="468360" y="3695760"/>
            <a:ext cx="4248000" cy="292896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01600" y="1052640"/>
            <a:ext cx="410364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1600" y="4219560"/>
            <a:ext cx="8785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ле того как лёд растаял, дренажная канава со стороны Великих озёр стала современной рекой Ниагара, которая не могла больше течь по старой долине и образовала новое русло в изменённом ландшафте. Спустя время Ниагара вырезала глубокое ущелье вдоль Ниагарского эскарпа, с северного берега образовав обрыв, вызванного эрозией горных пород между озёрами Эри и Онтарио. В процессе этого река вымывала старые морские камни, чей геологический возраст был старше ледника. Три большие формации горных пород были вымыты в ущелье, образованном рекой Ниага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1071720"/>
            <a:ext cx="3971880" cy="2977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165" t="0" r="3465" b="-1499"/>
          <a:stretch/>
        </p:blipFill>
        <p:spPr>
          <a:xfrm>
            <a:off x="4765680" y="1052640"/>
            <a:ext cx="4033800" cy="2997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213520"/>
            <a:ext cx="8640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гда вновь образованная река наткнулась на неподверженные эрозии доломитовые породы, то этот слой стал разъедаться гораздо медленнее, чем лежащие на более низком уровне мягкие сланцевые и песчаные породы. Поскольку этот слой разъедается гораздо легче, река подрезала твердые слои и образовала водо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0118" t="0" r="6171" b="3328"/>
          <a:stretch/>
        </p:blipFill>
        <p:spPr>
          <a:xfrm>
            <a:off x="324000" y="1114560"/>
            <a:ext cx="4464000" cy="3466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0171" t="0" r="7201" b="1951"/>
          <a:stretch/>
        </p:blipFill>
        <p:spPr>
          <a:xfrm>
            <a:off x="4211640" y="1557360"/>
            <a:ext cx="4610160" cy="3436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403280" y="11592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3560"/>
            <a:ext cx="8893080" cy="46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483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3880" y="3573360"/>
            <a:ext cx="8124840" cy="28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661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16360" y="1557360"/>
            <a:ext cx="3333600" cy="3835440"/>
            <a:chOff x="2916360" y="1557360"/>
            <a:chExt cx="3333600" cy="3835440"/>
          </a:xfrm>
        </p:grpSpPr>
        <p:sp>
          <p:nvSpPr>
            <p:cNvPr id="47" name=""/>
            <p:cNvSpPr/>
            <p:nvPr/>
          </p:nvSpPr>
          <p:spPr>
            <a:xfrm>
              <a:off x="2916360" y="1557360"/>
              <a:ext cx="3333600" cy="3835440"/>
            </a:xfrm>
            <a:prstGeom prst="bevel">
              <a:avLst>
                <a:gd name="adj" fmla="val 12500"/>
              </a:avLst>
            </a:prstGeom>
            <a:solidFill>
              <a:srgbClr val="e4d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9534" t="0" r="33307" b="8567"/>
            <a:stretch/>
          </p:blipFill>
          <p:spPr>
            <a:xfrm>
              <a:off x="3346200" y="1981440"/>
              <a:ext cx="2492280" cy="29912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p:transition spd="med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189000"/>
            <a:ext cx="7921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3800" y="4438800"/>
            <a:ext cx="2950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640" y="5589720"/>
            <a:ext cx="64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3141720"/>
            <a:ext cx="194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84720" y="314172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268280"/>
            <a:ext cx="5328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1557360"/>
            <a:ext cx="3240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3680" y="1844640"/>
            <a:ext cx="12254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319640" cy="28764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3635280" y="115920"/>
            <a:ext cx="2028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4235400"/>
            <a:ext cx="4464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рк пересекает несколько туристических троп, маршруты разной протяженности и степени сложности приводят в места исключительной красоты. Пройдя по ним, можно полюбоваться прекрасными ландшафтами, видами ледников и горных оз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4175280" cy="32461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79280" y="836640"/>
            <a:ext cx="4248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анф» - старейший канадский национальный парк, его организовали еще в 1885 году. Сердцем парка является город Банф. Это самый высокий населенный пункт Канады, он располагается на высоте 1463 метра над уровнем 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05680" y="168120"/>
            <a:ext cx="93672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419640" y="44280"/>
            <a:ext cx="2604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00120"/>
            <a:ext cx="403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ациональный парк Джаспер в Скалистых горах включен в список объектов Всемирного наследия ЮНЕСКО, ученые единогласно считают, что этот уголок природы должен сохраниться для потомков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818160" cy="2863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4103640" cy="27334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50920" y="3716280"/>
            <a:ext cx="446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ая заметная достоприме-чательность парка – ледник Атабаска, один из древнейших на Земле. Его площадь равна 200 к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а возраст достигает 10 000 лет. Талая вода этого ледника питает озеро Малигне – самое крупное ледниковое озеро в Скалистых горах. Его глубина немного не дотягивает до 100 метров, а длина составляет 22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7972560" y="133200"/>
            <a:ext cx="93636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1195560"/>
            <a:ext cx="4032360" cy="3025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50920" y="4371840"/>
            <a:ext cx="8713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Йохо собрал живописные пейзажи и настоящие чудеса природы: озера, ледники, вершины. Одно из чудес Йохо – водопад Такаккоу. Это второй по высоте водопад Канады. От самой высокой до нижней точки, где водопад сливается с речкой Йохо, перепад высоты составляет 384 метра. Правда, высота собственно водопада несколько меньше – 254 метра. Такаккоу питается ледником, поэтому в зимние месяцы, когда лед почти не тает, водопад спускается неширокой струйкой. Зато летом Такаккоу буш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80000" y="115920"/>
            <a:ext cx="151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4032000" cy="30240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9200" y="755640"/>
            <a:ext cx="8964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ще одно чудо Йохо - река Брыкающаяся лошадь. В полном согласии с названием это довольно бурная речка. Известна она больше всего своим творением – каменным мостом, который речка «выточила» из единого куска скалы. Нерукотворный мост наискосок пересекает шумную речку в том месте, где когда-то был водопад. Река подточила его вершину и нашла себе более пологое русло под тем, что стало мостом 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959280" cy="2827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3962520" cy="28083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3780000" y="106200"/>
            <a:ext cx="1511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5856120"/>
            <a:ext cx="860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подалеку находится Изумрудное озеро. Вода его действительно напоминает чистый блеск драгоценного камня, а совершенно гладкое зеркало озера удваивает горные пейз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708840"/>
            <a:ext cx="4176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циональный парк «Тысяча островов» располагается в русле реки Св. Лаврентия, между городами Кингстон и Броквилл, там, где речной поток пересекает участок Лаврентийского плоскогорья, сложенного древними кристаллическими породами. Прошедший здесь древний ледник создал мелкохолмистую повер-хность, а речной поток, заполнив низины, превратил холмы в живописный архипелаг лесных островов, лежащих посреди громадной реки. Ниже города Кингстон через реку Св. Лаврентия перекинут грандиозный мост Тысячи Островов, ведущий из Канады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8932" t="32669" r="25384" b="25081"/>
          <a:stretch/>
        </p:blipFill>
        <p:spPr>
          <a:xfrm>
            <a:off x="4572000" y="1125360"/>
            <a:ext cx="4175280" cy="23767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04" b="9284"/>
          <a:stretch/>
        </p:blipFill>
        <p:spPr>
          <a:xfrm>
            <a:off x="4538520" y="3817800"/>
            <a:ext cx="4248360" cy="26355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10672" b="343"/>
          <a:stretch/>
        </p:blipFill>
        <p:spPr>
          <a:xfrm>
            <a:off x="239760" y="3030480"/>
            <a:ext cx="4464000" cy="3187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95280" y="808200"/>
            <a:ext cx="856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ыми интересными островами считаются острова Волф и Хат. Волф - самый большой из тысячи, расположился в самом устье реки, почти в озере Онтарио, куда река Св. Лаврентия впадает. А второй - Хат известен выстроенным на нем красивейшим замком, напоминающим рыцарские замки на Рейне. Среди Тысячи островов есть и один рукотворный. Это остров Лонг Вью Айлэнд, построенный в 1904 году путем соединения четырех скалистых от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2386" r="5982" b="3435"/>
          <a:stretch/>
        </p:blipFill>
        <p:spPr>
          <a:xfrm>
            <a:off x="4140360" y="3517920"/>
            <a:ext cx="4824360" cy="30639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1:21:57Z</dcterms:created>
  <dc:creator>Артемий</dc:creator>
  <dc:description/>
  <dc:language>en-US</dc:language>
  <cp:lastModifiedBy>Артемий</cp:lastModifiedBy>
  <dcterms:modified xsi:type="dcterms:W3CDTF">2010-02-22T16:08:47Z</dcterms:modified>
  <cp:revision>26</cp:revision>
  <dc:subject/>
  <dc:title>Слайд 1</dc:title>
</cp:coreProperties>
</file>