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87C-291A-4F40-A2AD-B416E5F71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12C3-B206-4F6C-9876-B36349537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076F-3230-45FD-8A39-9F41B2D5C7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6D92-22E8-4B17-A52B-9FDE6EF3E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FD5D-1851-431F-B9AF-463868DE2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A1CD-4D1D-4819-87F9-05B74F803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867C-ED03-4ED9-99A6-3B4B25E2C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662-8A1A-4EBC-98E6-95C2AA8CE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9B62-8FBE-45B4-BB41-2FC23E824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043E-B873-480B-936B-58813515E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BD6-BA40-49FE-9E0B-BAAC0AF217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60EB-AF40-481C-91BB-2E7FB1AC6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FA0D-4000-4B02-8070-C69D2CDD0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0EC3-82DA-47B7-A43B-8C7745BD3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F8E5-3FA3-40BE-BB65-3237169A5A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8AD5-C3CE-408C-9BEB-F963E59B4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6A91-249B-42A6-AEC9-D8E51533F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99E3-CFC1-4FCE-81FD-C7CA8BFBF9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37F-C16F-416D-B469-3C0F52511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8B5D-798B-45D8-BE8D-3D334B10C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E2CB-526A-478B-9BAE-7084B3966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459-8B2F-49D2-9A28-3DBE00161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50E6-2A1F-48E7-A015-3D83E1F06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027-3A64-4949-A52B-2799259B3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747-8736-401D-9503-4A15CC6F4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EA98-C7C4-423F-BE98-171666CD3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AE4-4FF7-4FDB-83BD-77546EEA5C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CB65-252A-4641-88EA-39A36C78D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C32-8CE0-4D3A-A603-A2BFDC5B16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83DA-94FD-4BB8-B718-D3176C11F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4CD-439C-4287-87ED-1070916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17B-D5CA-4E09-862E-8A845DCE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86F-FE00-4ADE-8F4B-5627F40F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F8D-2AB6-4228-8F7C-50AF3137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F95-3BF2-443D-BA01-9FFB3368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8C9-3F0F-42D7-A512-CA08F90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7E5-084E-4BD5-8244-3D076E02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B8F-9DC2-4D14-9680-2B1D2B99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9F7-B951-45DC-82AD-3D74F59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19D-B3AC-4849-8B72-4B5D66A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B3D-2288-4337-8362-004D234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A727-0E80-4F4C-A164-A24C88A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C916-DE76-4356-AFA4-23644DF4A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50920" y="5877000"/>
            <a:ext cx="856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Admin</cp:lastModifiedBy>
  <dcterms:modified xsi:type="dcterms:W3CDTF">2012-08-05T07:43:10Z</dcterms:modified>
  <cp:revision>46</cp:revision>
  <dc:subject/>
  <dc:title>Слайд 1</dc:title>
</cp:coreProperties>
</file>