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2A94-F53D-4F03-B820-DE868C730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AB88-2751-4EE3-8A18-1107E6267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A6A-8414-44A0-B6EA-8CD776F56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2AC8-979F-42ED-9F85-D25C1A7C9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C82F-D1EB-4AFF-AB82-CC675F495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C380-9841-4326-828B-B3D367953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0552-7D94-4B6D-A060-58E76899E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3898-AAB7-41FB-9521-170FCF0C7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E345-32B9-4BA1-8CE5-593CF717C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B95D-465A-44ED-B622-453F58A28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CCB5-36F6-4B33-AB47-E9D7BD1F3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2357-8F13-4D43-BE10-A59EC338A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A4F1-DE05-4E20-AA9F-436CCAFB6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AEEA-459E-47B8-870F-1E3E27370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CBC5-D5F8-4871-8A68-66DE37390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37A9-1AFF-47EA-9872-8B2814B0E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6C2C-4EDD-45CD-B5F7-AD722F989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8CF0-5FF6-4E93-83A0-2E1E5B8FD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ADFB-6035-4C41-9114-64DE8BFC8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D72-E78F-4FDE-B767-65763533F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842A-93EB-40D0-B5A1-69CA0B2DC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F42A-D639-4A06-A0C2-1C758F7B0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D04C-9ED5-4330-87ED-9DF64CD63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3663-05BB-472C-B43B-C1CEC3371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65A1-1ACF-412B-B467-42D8F7681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2E46-C95C-4A37-B0FA-A4B28BEA1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8BFB-338D-42C4-ABC1-82728C61A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0161-9F71-4FF3-A998-6BC8DDBA0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03F6-0237-4009-8573-0BBB14071F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4B39-1B1F-48F8-AFA4-4950B687B9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FC1-DE03-4374-853F-238245F8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0A7-FCB2-456D-9C44-A3ECBA7D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0DD-BC0C-4E3F-96A6-18D4416F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D71-71E5-410A-90BD-E20B60BC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9B6-06DB-4C39-A7A3-3882EA82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E8F-EA5D-4821-B522-C657F88F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BB9-52B6-4213-A7C0-60AC1840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610-9F15-42EB-8A46-8E91BF1E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933-DFE0-4117-9BF9-2CCAC1D7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65F-B3A4-449F-B676-19E62E1E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3D7-E8F2-4E12-BE09-C8BD191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76B-9B36-4B56-A469-594E9F7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B239-E0E2-42A8-987B-C6130491C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50920" y="5877000"/>
            <a:ext cx="856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71484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Admin</cp:lastModifiedBy>
  <dcterms:modified xsi:type="dcterms:W3CDTF">2012-08-05T07:43:10Z</dcterms:modified>
  <cp:revision>46</cp:revision>
  <dc:subject/>
  <dc:title>Слайд 1</dc:title>
</cp:coreProperties>
</file>