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BF64-5A8A-4B12-A735-63E10FD7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0191-2AE3-4948-842E-37FF8ABE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DEA6-99CE-462E-8B27-069B215F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1203-944A-4484-96D0-6C4E1AC9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67F8-34BA-44C7-939F-2AE98A86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CF92-6AFC-40D5-9CE6-4143AF11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D0AB-A7DF-4911-A101-56287729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2B44-24CB-4949-BE2D-AD9AAA12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ABC9-DAE7-4ECB-A55E-4F12808B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47CB-F25C-4D70-B581-CDF62416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4458-3E04-4FF8-859A-14B5B2EF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1B14-0F33-4282-B201-ED438F7B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7E8C-979E-4933-8E5A-306B4445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0B92-E459-4C73-94AE-F0672FD8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3C42-0142-443F-8D00-ACCE4E83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CFE7-CAB7-4E3C-BBE0-9CAD702E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2368-5972-476B-BB4E-ED2ED2047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6053-CCCB-4045-B010-C3895310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89B3-414E-4D10-BEFE-0A9652DD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0EAD-023D-413D-8D76-BEADA05F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2492-E0F1-4BF1-88B6-D93EA4CB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67B6-3812-436A-AD54-54B330C6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6395-0C93-4131-93CC-4577EA03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3988-656D-4F83-ABDE-D652AFA3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0F9C-E9F2-4E97-972B-15578F95EED2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AA02-E4B8-4671-B5DD-477788FC5087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40328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Учитель биологии Галковская И.И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10 класс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4360" y="2492280"/>
            <a:ext cx="77752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ромосомная теор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ледственности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/>
          <p:nvPr/>
        </p:nvSpPr>
        <p:spPr>
          <a:xfrm>
            <a:off x="379080" y="353880"/>
            <a:ext cx="789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Муниципальное бюджетное образовательное учреждение Петровская средняя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общеобразовательная школа Урюпинского района Волгоградской области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гаметы образуют самки и самцы из первого поколения? Проведем анализирующее скрещивание сначала самцов, затем сам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0" y="3319560"/>
                <a:ext cx="1620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0" y="3319560"/>
                <a:ext cx="1620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29" name=""/>
          <p:cNvGrpSpPr/>
          <p:nvPr/>
        </p:nvGrpSpPr>
        <p:grpSpPr>
          <a:xfrm>
            <a:off x="808200" y="2441520"/>
            <a:ext cx="4699440" cy="897120"/>
            <a:chOff x="808200" y="2441520"/>
            <a:chExt cx="4699440" cy="897120"/>
          </a:xfrm>
        </p:grpSpPr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1619280" y="2492280"/>
                  <a:ext cx="38412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"/>
            <p:cNvSpPr/>
            <p:nvPr/>
          </p:nvSpPr>
          <p:spPr>
            <a:xfrm>
              <a:off x="808200" y="2513160"/>
              <a:ext cx="15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Р: (из     )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2268360" y="2565000"/>
              <a:ext cx="574560" cy="432360"/>
              <a:chOff x="2268360" y="2565000"/>
              <a:chExt cx="574560" cy="432360"/>
            </a:xfrm>
          </p:grpSpPr>
          <p:sp>
            <p:nvSpPr>
              <p:cNvPr id="233" name=""/>
              <p:cNvSpPr/>
              <p:nvPr/>
            </p:nvSpPr>
            <p:spPr>
              <a:xfrm>
                <a:off x="2268360" y="2638440"/>
                <a:ext cx="358920" cy="35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2627280" y="2565000"/>
                <a:ext cx="215640" cy="14436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2895480" y="2513160"/>
              <a:ext cx="196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аВв   х 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С.н.       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4284720" y="2565360"/>
              <a:ext cx="360360" cy="504720"/>
              <a:chOff x="4284720" y="2565360"/>
              <a:chExt cx="360360" cy="50472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4284720" y="2565360"/>
                <a:ext cx="360360" cy="504720"/>
                <a:chOff x="4284720" y="2565360"/>
                <a:chExt cx="360360" cy="5047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4284720" y="2565360"/>
                  <a:ext cx="360360" cy="280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8f8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465080" y="2845440"/>
                  <a:ext cx="0" cy="224640"/>
                </a:xfrm>
                <a:prstGeom prst="line">
                  <a:avLst/>
                </a:prstGeom>
                <a:ln w="9360">
                  <a:solidFill>
                    <a:srgbClr val="f8f8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4344120" y="2957760"/>
                <a:ext cx="239760" cy="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4769280" y="2441520"/>
              <a:ext cx="73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ав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ч.к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556000" y="2924280"/>
            <a:ext cx="503280" cy="936360"/>
            <a:chOff x="2556000" y="2924280"/>
            <a:chExt cx="503280" cy="936360"/>
          </a:xfrm>
        </p:grpSpPr>
        <p:sp>
          <p:nvSpPr>
            <p:cNvPr id="243" name=""/>
            <p:cNvSpPr/>
            <p:nvPr/>
          </p:nvSpPr>
          <p:spPr>
            <a:xfrm>
              <a:off x="2556000" y="3284640"/>
              <a:ext cx="503280" cy="57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771640" y="2924280"/>
              <a:ext cx="216000" cy="36036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492360" y="2924280"/>
            <a:ext cx="503280" cy="936360"/>
            <a:chOff x="3492360" y="2924280"/>
            <a:chExt cx="503280" cy="936360"/>
          </a:xfrm>
        </p:grpSpPr>
        <p:sp>
          <p:nvSpPr>
            <p:cNvPr id="246" name=""/>
            <p:cNvSpPr/>
            <p:nvPr/>
          </p:nvSpPr>
          <p:spPr>
            <a:xfrm>
              <a:off x="3492360" y="3284640"/>
              <a:ext cx="503280" cy="57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92360" y="2924280"/>
              <a:ext cx="216000" cy="43344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076720" y="2781360"/>
            <a:ext cx="503280" cy="1079280"/>
            <a:chOff x="5076720" y="2781360"/>
            <a:chExt cx="503280" cy="1079280"/>
          </a:xfrm>
        </p:grpSpPr>
        <p:sp>
          <p:nvSpPr>
            <p:cNvPr id="249" name=""/>
            <p:cNvSpPr/>
            <p:nvPr/>
          </p:nvSpPr>
          <p:spPr>
            <a:xfrm>
              <a:off x="5076720" y="3284640"/>
              <a:ext cx="503280" cy="57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19640" y="2781360"/>
              <a:ext cx="144360" cy="50328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00000" y="4005360"/>
            <a:ext cx="3167280" cy="1211760"/>
            <a:chOff x="900000" y="4005360"/>
            <a:chExt cx="3167280" cy="1211760"/>
          </a:xfrm>
        </p:grpSpPr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900000" y="4005360"/>
                  <a:ext cx="487440" cy="63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3" name=""/>
            <p:cNvSpPr/>
            <p:nvPr/>
          </p:nvSpPr>
          <p:spPr>
            <a:xfrm>
              <a:off x="1887480" y="4025880"/>
              <a:ext cx="217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аВв       аавв  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50%          50%           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748440" y="5367240"/>
            <a:ext cx="7264440" cy="106884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Проведем анализирующее скрещивание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самок из первого поколения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80920" y="712800"/>
            <a:ext cx="14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Р:(из       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619280" y="692280"/>
                <a:ext cx="441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57" name=""/>
          <p:cNvGraphicFramePr/>
          <p:nvPr/>
        </p:nvGraphicFramePr>
        <p:xfrm>
          <a:off x="755640" y="2997360"/>
          <a:ext cx="7272360" cy="1901520"/>
        </p:xfrm>
        <a:graphic>
          <a:graphicData uri="http://schemas.openxmlformats.org/drawingml/2006/table">
            <a:tbl>
              <a:tblPr/>
              <a:tblGrid>
                <a:gridCol w="1454040"/>
                <a:gridCol w="1454400"/>
                <a:gridCol w="1455480"/>
                <a:gridCol w="1454400"/>
                <a:gridCol w="145404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С.н.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Ч.н.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С.к.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Ч.к.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8" name=""/>
          <p:cNvGrpSpPr/>
          <p:nvPr/>
        </p:nvGrpSpPr>
        <p:grpSpPr>
          <a:xfrm>
            <a:off x="2340000" y="765000"/>
            <a:ext cx="360360" cy="504720"/>
            <a:chOff x="2340000" y="765000"/>
            <a:chExt cx="360360" cy="504720"/>
          </a:xfrm>
        </p:grpSpPr>
        <p:grpSp>
          <p:nvGrpSpPr>
            <p:cNvPr id="259" name=""/>
            <p:cNvGrpSpPr/>
            <p:nvPr/>
          </p:nvGrpSpPr>
          <p:grpSpPr>
            <a:xfrm>
              <a:off x="2340000" y="765000"/>
              <a:ext cx="360360" cy="504720"/>
              <a:chOff x="2340000" y="765000"/>
              <a:chExt cx="360360" cy="504720"/>
            </a:xfrm>
          </p:grpSpPr>
          <p:sp>
            <p:nvSpPr>
              <p:cNvPr id="260" name=""/>
              <p:cNvSpPr/>
              <p:nvPr/>
            </p:nvSpPr>
            <p:spPr>
              <a:xfrm>
                <a:off x="2340000" y="765000"/>
                <a:ext cx="360360" cy="28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520360" y="1045080"/>
                <a:ext cx="0" cy="22464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399400" y="1157760"/>
              <a:ext cx="23976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970000" y="712800"/>
            <a:ext cx="8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АаВв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С.н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050000" y="714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500720" y="692280"/>
            <a:ext cx="574560" cy="431280"/>
            <a:chOff x="4500720" y="692280"/>
            <a:chExt cx="574560" cy="431280"/>
          </a:xfrm>
        </p:grpSpPr>
        <p:sp>
          <p:nvSpPr>
            <p:cNvPr id="266" name=""/>
            <p:cNvSpPr/>
            <p:nvPr/>
          </p:nvSpPr>
          <p:spPr>
            <a:xfrm>
              <a:off x="4500720" y="765000"/>
              <a:ext cx="358920" cy="35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859640" y="692280"/>
              <a:ext cx="215640" cy="144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202720" y="641520"/>
            <a:ext cx="7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аавв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Ч.к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556000" y="1052640"/>
            <a:ext cx="576000" cy="792000"/>
            <a:chOff x="2556000" y="1052640"/>
            <a:chExt cx="576000" cy="792000"/>
          </a:xfrm>
        </p:grpSpPr>
        <p:sp>
          <p:nvSpPr>
            <p:cNvPr id="270" name=""/>
            <p:cNvSpPr/>
            <p:nvPr/>
          </p:nvSpPr>
          <p:spPr>
            <a:xfrm>
              <a:off x="2556000" y="1433520"/>
              <a:ext cx="482400" cy="411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2843280" y="1052640"/>
              <a:ext cx="288720" cy="36036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348000" y="1125360"/>
            <a:ext cx="554040" cy="914400"/>
            <a:chOff x="3348000" y="1125360"/>
            <a:chExt cx="554040" cy="914400"/>
          </a:xfrm>
        </p:grpSpPr>
        <p:sp>
          <p:nvSpPr>
            <p:cNvPr id="273" name=""/>
            <p:cNvSpPr/>
            <p:nvPr/>
          </p:nvSpPr>
          <p:spPr>
            <a:xfrm>
              <a:off x="3348000" y="1484280"/>
              <a:ext cx="554040" cy="555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92360" y="1125360"/>
              <a:ext cx="142920" cy="35892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708360" y="1125360"/>
            <a:ext cx="770040" cy="914400"/>
            <a:chOff x="3708360" y="1125360"/>
            <a:chExt cx="770040" cy="914400"/>
          </a:xfrm>
        </p:grpSpPr>
        <p:sp>
          <p:nvSpPr>
            <p:cNvPr id="276" name=""/>
            <p:cNvSpPr/>
            <p:nvPr/>
          </p:nvSpPr>
          <p:spPr>
            <a:xfrm>
              <a:off x="3924360" y="1557360"/>
              <a:ext cx="554040" cy="48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08360" y="1125360"/>
              <a:ext cx="358920" cy="50328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780000" y="1052640"/>
            <a:ext cx="1274760" cy="987120"/>
            <a:chOff x="3780000" y="1052640"/>
            <a:chExt cx="1274760" cy="987120"/>
          </a:xfrm>
        </p:grpSpPr>
        <p:sp>
          <p:nvSpPr>
            <p:cNvPr id="279" name=""/>
            <p:cNvSpPr/>
            <p:nvPr/>
          </p:nvSpPr>
          <p:spPr>
            <a:xfrm>
              <a:off x="4500720" y="1557360"/>
              <a:ext cx="554040" cy="48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80000" y="1052640"/>
              <a:ext cx="792000" cy="576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724360" y="1052640"/>
            <a:ext cx="1274760" cy="987120"/>
            <a:chOff x="5724360" y="1052640"/>
            <a:chExt cx="1274760" cy="987120"/>
          </a:xfrm>
        </p:grpSpPr>
        <p:sp>
          <p:nvSpPr>
            <p:cNvPr id="282" name=""/>
            <p:cNvSpPr/>
            <p:nvPr/>
          </p:nvSpPr>
          <p:spPr>
            <a:xfrm>
              <a:off x="6445080" y="1557360"/>
              <a:ext cx="554040" cy="48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24360" y="1052640"/>
              <a:ext cx="792000" cy="576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755640" y="2997360"/>
            <a:ext cx="1440000" cy="86328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763640" y="3068640"/>
            <a:ext cx="289080" cy="504720"/>
            <a:chOff x="1763640" y="3068640"/>
            <a:chExt cx="289080" cy="504720"/>
          </a:xfrm>
        </p:grpSpPr>
        <p:grpSp>
          <p:nvGrpSpPr>
            <p:cNvPr id="286" name=""/>
            <p:cNvGrpSpPr/>
            <p:nvPr/>
          </p:nvGrpSpPr>
          <p:grpSpPr>
            <a:xfrm>
              <a:off x="1763640" y="3068640"/>
              <a:ext cx="289080" cy="504720"/>
              <a:chOff x="1763640" y="3068640"/>
              <a:chExt cx="289080" cy="504720"/>
            </a:xfrm>
          </p:grpSpPr>
          <p:sp>
            <p:nvSpPr>
              <p:cNvPr id="287" name=""/>
              <p:cNvSpPr/>
              <p:nvPr/>
            </p:nvSpPr>
            <p:spPr>
              <a:xfrm>
                <a:off x="1763640" y="3068640"/>
                <a:ext cx="289080" cy="28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8360" y="3348720"/>
                <a:ext cx="0" cy="22464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1811160" y="3461040"/>
              <a:ext cx="19224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900000" y="3429000"/>
            <a:ext cx="574560" cy="431280"/>
            <a:chOff x="900000" y="3429000"/>
            <a:chExt cx="574560" cy="431280"/>
          </a:xfrm>
        </p:grpSpPr>
        <p:sp>
          <p:nvSpPr>
            <p:cNvPr id="291" name=""/>
            <p:cNvSpPr/>
            <p:nvPr/>
          </p:nvSpPr>
          <p:spPr>
            <a:xfrm>
              <a:off x="900000" y="3501720"/>
              <a:ext cx="358920" cy="35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1258920" y="3429000"/>
              <a:ext cx="215640" cy="144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824200" y="2946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20200" y="496080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41,5%          8,5%           8,5%           41,5%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офаза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мейоз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692360" y="1484280"/>
            <a:ext cx="215640" cy="2881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76360" y="1484280"/>
            <a:ext cx="216000" cy="2881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8360" y="1413000"/>
            <a:ext cx="216000" cy="28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1413000"/>
            <a:ext cx="215640" cy="28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2920" y="2411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2920" y="434988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1          2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1004040" y="4188240"/>
            <a:ext cx="439560" cy="1800000"/>
          </a:xfrm>
          <a:custGeom>
            <a:avLst/>
            <a:gdLst>
              <a:gd name="textAreaLeft" fmla="*/ 280800 w 439560"/>
              <a:gd name="textAreaRight" fmla="*/ 439920 w 43956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75"/>
                </a:lnTo>
                <a:cubicBezTo>
                  <a:pt x="10800" y="10275"/>
                  <a:pt x="5400" y="11175"/>
                  <a:pt x="0" y="11175"/>
                </a:cubicBezTo>
                <a:cubicBezTo>
                  <a:pt x="5400" y="11175"/>
                  <a:pt x="10800" y="12075"/>
                  <a:pt x="10800" y="129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3040" y="5342040"/>
            <a:ext cx="25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гомологичные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050920" y="2852640"/>
            <a:ext cx="1511280" cy="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4099680" y="3756960"/>
            <a:ext cx="439920" cy="1800000"/>
          </a:xfrm>
          <a:custGeom>
            <a:avLst/>
            <a:gdLst>
              <a:gd name="textAreaLeft" fmla="*/ 281160 w 439920"/>
              <a:gd name="textAreaRight" fmla="*/ 440280 w 43992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75"/>
                </a:lnTo>
                <a:cubicBezTo>
                  <a:pt x="10800" y="10275"/>
                  <a:pt x="5400" y="11175"/>
                  <a:pt x="0" y="11175"/>
                </a:cubicBezTo>
                <a:cubicBezTo>
                  <a:pt x="5400" y="11175"/>
                  <a:pt x="10800" y="12075"/>
                  <a:pt x="10800" y="129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79600" y="5013360"/>
            <a:ext cx="17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Бивалент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837080" y="229536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Коньюгация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932360" y="2852640"/>
            <a:ext cx="1728720" cy="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43440" y="222408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Кроссинговер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08720" y="1628640"/>
            <a:ext cx="216000" cy="2881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308720" y="2924280"/>
            <a:ext cx="216000" cy="158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987440" y="28717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Перекрест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11280" y="2997360"/>
            <a:ext cx="288720" cy="215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4360" y="2276640"/>
            <a:ext cx="287280" cy="215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19280" y="2276640"/>
            <a:ext cx="28872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Ч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5280" y="2276640"/>
            <a:ext cx="289080" cy="215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5280" y="2997360"/>
            <a:ext cx="289080" cy="215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03280" y="2276640"/>
            <a:ext cx="28908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Ч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03280" y="3068640"/>
            <a:ext cx="289080" cy="2160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692360" y="3068640"/>
            <a:ext cx="288720" cy="2160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635280" y="1557360"/>
            <a:ext cx="1009800" cy="2881440"/>
            <a:chOff x="3635280" y="1557360"/>
            <a:chExt cx="1009800" cy="2881440"/>
          </a:xfrm>
        </p:grpSpPr>
        <p:sp>
          <p:nvSpPr>
            <p:cNvPr id="322" name=""/>
            <p:cNvSpPr/>
            <p:nvPr/>
          </p:nvSpPr>
          <p:spPr>
            <a:xfrm>
              <a:off x="3924360" y="1557360"/>
              <a:ext cx="216000" cy="288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708360" y="1557360"/>
              <a:ext cx="216000" cy="288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40360" y="1557360"/>
              <a:ext cx="215640" cy="2881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56000" y="1557360"/>
              <a:ext cx="216000" cy="2881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51280" y="2349360"/>
              <a:ext cx="289080" cy="2160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635280" y="2349360"/>
              <a:ext cx="289080" cy="2160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51280" y="3141720"/>
              <a:ext cx="289080" cy="2160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Н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35280" y="3141720"/>
              <a:ext cx="289080" cy="2160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Н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67280" y="2349360"/>
              <a:ext cx="2887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Ч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84720" y="2349360"/>
              <a:ext cx="2887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Ч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67280" y="3141720"/>
              <a:ext cx="288720" cy="2160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К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356000" y="3141720"/>
              <a:ext cx="289080" cy="2160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К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7020000" y="1557360"/>
            <a:ext cx="1009440" cy="2881440"/>
            <a:chOff x="7020000" y="1557360"/>
            <a:chExt cx="1009440" cy="2881440"/>
          </a:xfrm>
        </p:grpSpPr>
        <p:sp>
          <p:nvSpPr>
            <p:cNvPr id="335" name=""/>
            <p:cNvSpPr/>
            <p:nvPr/>
          </p:nvSpPr>
          <p:spPr>
            <a:xfrm>
              <a:off x="7093080" y="1557360"/>
              <a:ext cx="215640" cy="288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740720" y="1557360"/>
              <a:ext cx="216000" cy="2881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24720" y="1557360"/>
              <a:ext cx="216000" cy="288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24720" y="1557360"/>
              <a:ext cx="216000" cy="158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20000" y="2349360"/>
              <a:ext cx="288720" cy="2160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08720" y="2349360"/>
              <a:ext cx="289080" cy="2160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51640" y="2997360"/>
              <a:ext cx="289080" cy="2156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Н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20000" y="2997360"/>
              <a:ext cx="288720" cy="2156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Н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38920" y="2421000"/>
              <a:ext cx="28908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Ч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524720" y="2421000"/>
              <a:ext cx="28908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Ч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740720" y="2852640"/>
              <a:ext cx="288720" cy="2160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К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36000" y="2852640"/>
              <a:ext cx="288720" cy="2160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К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878520" y="4437000"/>
            <a:ext cx="1991160" cy="1396440"/>
            <a:chOff x="6878520" y="4437000"/>
            <a:chExt cx="1991160" cy="1396440"/>
          </a:xfrm>
        </p:grpSpPr>
        <p:sp>
          <p:nvSpPr>
            <p:cNvPr id="348" name=""/>
            <p:cNvSpPr/>
            <p:nvPr/>
          </p:nvSpPr>
          <p:spPr>
            <a:xfrm>
              <a:off x="7380360" y="4437000"/>
              <a:ext cx="360360" cy="914400"/>
            </a:xfrm>
            <a:prstGeom prst="downArrowCallout">
              <a:avLst>
                <a:gd name="adj1" fmla="val 25002"/>
                <a:gd name="adj2" fmla="val 25000"/>
                <a:gd name="adj3" fmla="val 42291"/>
                <a:gd name="adj4" fmla="val 66667"/>
              </a:avLst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78520" y="5373720"/>
              <a:ext cx="1991160" cy="4597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кроссоверные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880920" y="712800"/>
            <a:ext cx="14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Р:(из       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1619280" y="692280"/>
                <a:ext cx="441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52" name=""/>
          <p:cNvGraphicFramePr/>
          <p:nvPr/>
        </p:nvGraphicFramePr>
        <p:xfrm>
          <a:off x="755640" y="2997360"/>
          <a:ext cx="7272360" cy="1901520"/>
        </p:xfrm>
        <a:graphic>
          <a:graphicData uri="http://schemas.openxmlformats.org/drawingml/2006/table">
            <a:tbl>
              <a:tblPr/>
              <a:tblGrid>
                <a:gridCol w="1454040"/>
                <a:gridCol w="1454400"/>
                <a:gridCol w="1455480"/>
                <a:gridCol w="1454400"/>
                <a:gridCol w="145404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С.н.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Ч.н.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С.к.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Ч.к.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53" name=""/>
          <p:cNvGrpSpPr/>
          <p:nvPr/>
        </p:nvGrpSpPr>
        <p:grpSpPr>
          <a:xfrm>
            <a:off x="2340000" y="765000"/>
            <a:ext cx="360360" cy="504720"/>
            <a:chOff x="2340000" y="765000"/>
            <a:chExt cx="360360" cy="504720"/>
          </a:xfrm>
        </p:grpSpPr>
        <p:grpSp>
          <p:nvGrpSpPr>
            <p:cNvPr id="354" name=""/>
            <p:cNvGrpSpPr/>
            <p:nvPr/>
          </p:nvGrpSpPr>
          <p:grpSpPr>
            <a:xfrm>
              <a:off x="2340000" y="765000"/>
              <a:ext cx="360360" cy="504720"/>
              <a:chOff x="2340000" y="765000"/>
              <a:chExt cx="360360" cy="504720"/>
            </a:xfrm>
          </p:grpSpPr>
          <p:sp>
            <p:nvSpPr>
              <p:cNvPr id="355" name=""/>
              <p:cNvSpPr/>
              <p:nvPr/>
            </p:nvSpPr>
            <p:spPr>
              <a:xfrm>
                <a:off x="2340000" y="765000"/>
                <a:ext cx="360360" cy="28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520360" y="1045080"/>
                <a:ext cx="0" cy="22464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2399400" y="1157760"/>
              <a:ext cx="23976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2970000" y="712800"/>
            <a:ext cx="8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АаВв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С.н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050000" y="714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4500720" y="692280"/>
            <a:ext cx="574560" cy="431280"/>
            <a:chOff x="4500720" y="692280"/>
            <a:chExt cx="574560" cy="431280"/>
          </a:xfrm>
        </p:grpSpPr>
        <p:sp>
          <p:nvSpPr>
            <p:cNvPr id="361" name=""/>
            <p:cNvSpPr/>
            <p:nvPr/>
          </p:nvSpPr>
          <p:spPr>
            <a:xfrm>
              <a:off x="4500720" y="765000"/>
              <a:ext cx="358920" cy="35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859640" y="692280"/>
              <a:ext cx="215640" cy="144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202720" y="641520"/>
            <a:ext cx="7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аавв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Ч.к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56000" y="1052640"/>
            <a:ext cx="576000" cy="792000"/>
            <a:chOff x="2556000" y="1052640"/>
            <a:chExt cx="576000" cy="792000"/>
          </a:xfrm>
        </p:grpSpPr>
        <p:sp>
          <p:nvSpPr>
            <p:cNvPr id="365" name=""/>
            <p:cNvSpPr/>
            <p:nvPr/>
          </p:nvSpPr>
          <p:spPr>
            <a:xfrm>
              <a:off x="2556000" y="1433520"/>
              <a:ext cx="482400" cy="411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843280" y="1052640"/>
              <a:ext cx="288720" cy="36036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348000" y="1125360"/>
            <a:ext cx="554040" cy="914400"/>
            <a:chOff x="3348000" y="1125360"/>
            <a:chExt cx="554040" cy="914400"/>
          </a:xfrm>
        </p:grpSpPr>
        <p:sp>
          <p:nvSpPr>
            <p:cNvPr id="368" name=""/>
            <p:cNvSpPr/>
            <p:nvPr/>
          </p:nvSpPr>
          <p:spPr>
            <a:xfrm>
              <a:off x="3348000" y="1484280"/>
              <a:ext cx="554040" cy="555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92360" y="1125360"/>
              <a:ext cx="142920" cy="35892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708360" y="1125360"/>
            <a:ext cx="770040" cy="914400"/>
            <a:chOff x="3708360" y="1125360"/>
            <a:chExt cx="770040" cy="914400"/>
          </a:xfrm>
        </p:grpSpPr>
        <p:sp>
          <p:nvSpPr>
            <p:cNvPr id="371" name=""/>
            <p:cNvSpPr/>
            <p:nvPr/>
          </p:nvSpPr>
          <p:spPr>
            <a:xfrm>
              <a:off x="3924360" y="1557360"/>
              <a:ext cx="554040" cy="48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08360" y="1125360"/>
              <a:ext cx="358920" cy="50328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780000" y="1052640"/>
            <a:ext cx="1274760" cy="987120"/>
            <a:chOff x="3780000" y="1052640"/>
            <a:chExt cx="1274760" cy="987120"/>
          </a:xfrm>
        </p:grpSpPr>
        <p:sp>
          <p:nvSpPr>
            <p:cNvPr id="374" name=""/>
            <p:cNvSpPr/>
            <p:nvPr/>
          </p:nvSpPr>
          <p:spPr>
            <a:xfrm>
              <a:off x="4500720" y="1557360"/>
              <a:ext cx="554040" cy="48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0000" y="1052640"/>
              <a:ext cx="792000" cy="576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724360" y="1052640"/>
            <a:ext cx="1274760" cy="987120"/>
            <a:chOff x="5724360" y="1052640"/>
            <a:chExt cx="1274760" cy="987120"/>
          </a:xfrm>
        </p:grpSpPr>
        <p:sp>
          <p:nvSpPr>
            <p:cNvPr id="377" name=""/>
            <p:cNvSpPr/>
            <p:nvPr/>
          </p:nvSpPr>
          <p:spPr>
            <a:xfrm>
              <a:off x="6445080" y="1557360"/>
              <a:ext cx="554040" cy="48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24360" y="1052640"/>
              <a:ext cx="792000" cy="576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755640" y="2997360"/>
            <a:ext cx="1440000" cy="86328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763640" y="3068640"/>
            <a:ext cx="289080" cy="504720"/>
            <a:chOff x="1763640" y="3068640"/>
            <a:chExt cx="289080" cy="504720"/>
          </a:xfrm>
        </p:grpSpPr>
        <p:grpSp>
          <p:nvGrpSpPr>
            <p:cNvPr id="381" name=""/>
            <p:cNvGrpSpPr/>
            <p:nvPr/>
          </p:nvGrpSpPr>
          <p:grpSpPr>
            <a:xfrm>
              <a:off x="1763640" y="3068640"/>
              <a:ext cx="289080" cy="504720"/>
              <a:chOff x="1763640" y="3068640"/>
              <a:chExt cx="289080" cy="504720"/>
            </a:xfrm>
          </p:grpSpPr>
          <p:sp>
            <p:nvSpPr>
              <p:cNvPr id="382" name=""/>
              <p:cNvSpPr/>
              <p:nvPr/>
            </p:nvSpPr>
            <p:spPr>
              <a:xfrm>
                <a:off x="1763640" y="3068640"/>
                <a:ext cx="289080" cy="28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908360" y="3348720"/>
                <a:ext cx="0" cy="22464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1811160" y="3461040"/>
              <a:ext cx="19224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900000" y="3429000"/>
            <a:ext cx="574560" cy="431280"/>
            <a:chOff x="900000" y="3429000"/>
            <a:chExt cx="574560" cy="431280"/>
          </a:xfrm>
        </p:grpSpPr>
        <p:sp>
          <p:nvSpPr>
            <p:cNvPr id="386" name=""/>
            <p:cNvSpPr/>
            <p:nvPr/>
          </p:nvSpPr>
          <p:spPr>
            <a:xfrm>
              <a:off x="900000" y="3501720"/>
              <a:ext cx="358920" cy="35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1258920" y="3429000"/>
              <a:ext cx="215640" cy="144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2824200" y="2946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20200" y="496080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41,5%          8,5%           8,5%           41,5%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6200000">
            <a:off x="4691160" y="4195800"/>
            <a:ext cx="576000" cy="2643120"/>
          </a:xfrm>
          <a:custGeom>
            <a:avLst/>
            <a:gdLst>
              <a:gd name="textAreaLeft" fmla="*/ 367920 w 576000"/>
              <a:gd name="textAreaRight" fmla="*/ 576000 w 57600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97080" y="5681520"/>
            <a:ext cx="1994400" cy="8254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Кроссоверное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потомство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Закон Т.Моргана - закон сцепл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Сцепленные гены, располагающиеся в одной хромосоме, наследуются вместе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1258920" y="3141720"/>
            <a:ext cx="360360" cy="2879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619280" y="443700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10800000">
            <a:off x="1763640" y="3860280"/>
            <a:ext cx="432000" cy="1584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713"/>
                </a:lnTo>
                <a:cubicBezTo>
                  <a:pt x="10800" y="10613"/>
                  <a:pt x="5400" y="11513"/>
                  <a:pt x="0" y="11513"/>
                </a:cubicBezTo>
                <a:cubicBezTo>
                  <a:pt x="5400" y="11513"/>
                  <a:pt x="10800" y="12413"/>
                  <a:pt x="10800" y="1331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466720" y="4349880"/>
            <a:ext cx="29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Группа сцепления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32320" y="5199120"/>
            <a:ext cx="6030000" cy="947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Не подчиняются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III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 закону Менделя –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закону независимого наследования!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364000" y="2349360"/>
            <a:ext cx="3456000" cy="1800360"/>
          </a:xfrm>
          <a:prstGeom prst="wedgeRectCallout">
            <a:avLst>
              <a:gd name="adj1" fmla="val -137736"/>
              <a:gd name="adj2" fmla="val 67814"/>
            </a:avLst>
          </a:prstGeom>
          <a:solidFill>
            <a:srgbClr val="808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64000" y="236844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Число групп сцепления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равно гаплоидному набору хромосом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3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читав текст учебника ответить на вопрос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8050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От чего зависит % кроссоверного потомства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Как связаны понятия «частота кроссинговера» и «расстояние между генами»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Что такое Морганида и чему она равна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арушение сцепления ген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Чем ближе друг к другу расположены гены, тем сцепление крепче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Если гены лежат в хромосоме далеко, сцепление может нарушаться в результате кроссинговера и гены могут разойтись в разные хромосомы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908000" y="1773360"/>
            <a:ext cx="503280" cy="4032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619280" y="443700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11280" y="3141720"/>
            <a:ext cx="2305080" cy="431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340000" y="3715920"/>
            <a:ext cx="2303280" cy="792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7885080" y="5084640"/>
            <a:ext cx="8366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Морганид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Расстояние между генами, расположенными в одной хромосоме, определяют в процентах гамет, при образовании которых в результате кроссинговера произошла перекомбинация генов в гомологичных хромосомах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Это расстояние измеряется в Морганидах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За 1 Морганиду принимают такое расстояние между генами, при котором образуется 1% кроссоверного потомства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Хромосомная теор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Гены в хромосоме располагаются линейно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В хромосоме каждый ген занимает определенное место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Расстояние между генами в хромосоме прямо пропорционально проценту кроссинговера между ними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Гены одной хромосомы образуют группу сцепления, благодаря этому происходит сцепленное наследование некоторых признаков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Каждый вид имеет определенное количество групп сцепления, соответствующее числу хромосом в гаплоидном наборе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7885080" y="5084640"/>
            <a:ext cx="8366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сток генетической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карты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хромосом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розофил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00720" y="620640"/>
            <a:ext cx="401004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Учащиеся дают определение ключевым понятиям( группа сцепления, сцепленное наследование, кроссинговер, коньюгация)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Объясняют причины перекомбинации признаков при сцепленном наследовании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Обосновывают цитологические основы проявления закона сцепленного наследования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Называют положения хромосомной теории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Анализируют содержание рисунков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16000" y="549360"/>
            <a:ext cx="5904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нируемый результат: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нетическая карта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хромосомы тома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7334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– нормальная высота растения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– карликовые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– круглый плод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o –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овальный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Ne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– нормальные листья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ne –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пораженные листья болезнью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Bk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– круглый плод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bk –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плод с заостренным концом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5205240" y="549360"/>
            <a:ext cx="28940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нетическая карт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хромосомы тома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440" y="23097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– гладкий плод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– ребристый плод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Lf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– Необлиственное соцветие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lf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– облиственное соцветие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4788000" y="549360"/>
            <a:ext cx="33843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1476360" y="2276640"/>
            <a:ext cx="61912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Опыты Т.Морга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1413000"/>
            <a:ext cx="289080" cy="3095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1413000"/>
            <a:ext cx="289080" cy="3095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68360" y="1413000"/>
            <a:ext cx="289080" cy="3095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7280" y="1413000"/>
            <a:ext cx="289080" cy="3095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59640" y="1413000"/>
            <a:ext cx="288720" cy="3095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4360" y="1413000"/>
            <a:ext cx="289080" cy="3095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5080" y="4602240"/>
            <a:ext cx="8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цвет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26160" y="46530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форм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791360" y="4480200"/>
            <a:ext cx="431640" cy="1928880"/>
          </a:xfrm>
          <a:custGeom>
            <a:avLst/>
            <a:gdLst>
              <a:gd name="textAreaLeft" fmla="*/ 275760 w 431640"/>
              <a:gd name="textAreaRight" fmla="*/ 432000 w 431640"/>
              <a:gd name="textAreaTop" fmla="*/ 50040 h 1928880"/>
              <a:gd name="textAreaBottom" fmla="*/ 187884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661000"/>
            <a:ext cx="360036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Разные пары гомологичных хромосом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2565360"/>
            <a:ext cx="28908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64360" y="2349360"/>
            <a:ext cx="28908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59640" y="2349360"/>
            <a:ext cx="28872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9640" y="2924280"/>
            <a:ext cx="28872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4360" y="2924280"/>
            <a:ext cx="28908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2637000"/>
            <a:ext cx="28908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68360" y="2637000"/>
            <a:ext cx="28908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2565360"/>
            <a:ext cx="28908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4745160"/>
            <a:ext cx="349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Одна пара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гомологичных хромосом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64000" y="1197000"/>
            <a:ext cx="936720" cy="360360"/>
          </a:xfrm>
          <a:prstGeom prst="wedgeRectCallout">
            <a:avLst>
              <a:gd name="adj1" fmla="val 99324"/>
              <a:gd name="adj2" fmla="val 338986"/>
            </a:avLst>
          </a:prstGeom>
          <a:solidFill>
            <a:srgbClr val="000000"/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19080" y="107316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цвет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27640" y="2205000"/>
            <a:ext cx="1296720" cy="360360"/>
          </a:xfrm>
          <a:prstGeom prst="wedgeRectCallout">
            <a:avLst>
              <a:gd name="adj1" fmla="val 131273"/>
              <a:gd name="adj2" fmla="val 204625"/>
            </a:avLst>
          </a:prstGeom>
          <a:solidFill>
            <a:srgbClr val="000000"/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720" y="210816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форма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03280" y="2060640"/>
            <a:ext cx="360360" cy="2879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19280" y="443700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0800000">
            <a:off x="1979280" y="2781000"/>
            <a:ext cx="431640" cy="158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713"/>
                </a:lnTo>
                <a:cubicBezTo>
                  <a:pt x="10800" y="10613"/>
                  <a:pt x="5400" y="11513"/>
                  <a:pt x="0" y="11513"/>
                </a:cubicBezTo>
                <a:cubicBezTo>
                  <a:pt x="5400" y="11513"/>
                  <a:pt x="10800" y="12413"/>
                  <a:pt x="10800" y="1331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63560" y="3284640"/>
            <a:ext cx="29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Группа сцепления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32320" y="5199120"/>
            <a:ext cx="6030000" cy="947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Не подчиняются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III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 закону Менделя –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закону независимого наследования!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цепленные ге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94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.Морган (1866 – 1945). Лауреат Нобелевской премии 1933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3382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Мушка дрозофил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54482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рещивание чистых линий дрозофил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1197000"/>
            <a:ext cx="1627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Цвет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Форм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крыльев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20200" y="107316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А – серое тело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а  – черное тело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22000" y="2133720"/>
            <a:ext cx="227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В – нормальные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в – короткие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92360" y="2997360"/>
            <a:ext cx="95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Р: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03560" y="2997360"/>
            <a:ext cx="273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ААВВ   х     аав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с.  н              ч. к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19440" y="4581360"/>
            <a:ext cx="26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:          АаВ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3763800"/>
            <a:ext cx="13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Гаметы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11280" y="3860640"/>
            <a:ext cx="576360" cy="503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3860640"/>
            <a:ext cx="503280" cy="503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6165720"/>
            <a:ext cx="1986120" cy="45972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единообразно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40360" y="1341360"/>
            <a:ext cx="287280" cy="2158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72360" y="1341360"/>
            <a:ext cx="287280" cy="2158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6000" y="1413000"/>
            <a:ext cx="287280" cy="2158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67640" y="1413000"/>
            <a:ext cx="287280" cy="2158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40360" y="1773360"/>
            <a:ext cx="285840" cy="433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0360" y="2421000"/>
            <a:ext cx="287280" cy="55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72360" y="1700280"/>
            <a:ext cx="287280" cy="55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72360" y="2421000"/>
            <a:ext cx="287280" cy="55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6000" y="1700280"/>
            <a:ext cx="287280" cy="55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36000" y="2349360"/>
            <a:ext cx="287280" cy="55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67640" y="1700280"/>
            <a:ext cx="287280" cy="55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67640" y="2349360"/>
            <a:ext cx="287280" cy="55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86720" y="2082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588000" y="3860640"/>
            <a:ext cx="719280" cy="2159280"/>
            <a:chOff x="6588000" y="3860640"/>
            <a:chExt cx="719280" cy="2159280"/>
          </a:xfrm>
        </p:grpSpPr>
        <p:sp>
          <p:nvSpPr>
            <p:cNvPr id="173" name=""/>
            <p:cNvSpPr/>
            <p:nvPr/>
          </p:nvSpPr>
          <p:spPr>
            <a:xfrm>
              <a:off x="6588000" y="3860640"/>
              <a:ext cx="287640" cy="2159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0000" y="3860640"/>
              <a:ext cx="287280" cy="2159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292720" y="3213000"/>
            <a:ext cx="574560" cy="1944720"/>
          </a:xfrm>
          <a:custGeom>
            <a:avLst/>
            <a:gdLst>
              <a:gd name="textAreaLeft" fmla="*/ 76680 w 574560"/>
              <a:gd name="textAreaRight" fmla="*/ 497880 w 574560"/>
              <a:gd name="textAreaTop" fmla="*/ 375120 h 1944720"/>
              <a:gd name="textAreaBottom" fmla="*/ 12355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35" stAng="-5400000" swAng="-5400000"/>
                <a:lnTo>
                  <a:pt x="0" y="9557"/>
                </a:lnTo>
                <a:arcTo wR="21600" hR="8335" stAng="10800000" swAng="-2850092"/>
                <a:lnTo>
                  <a:pt x="14400" y="21123"/>
                </a:lnTo>
                <a:lnTo>
                  <a:pt x="21600" y="17280"/>
                </a:lnTo>
                <a:lnTo>
                  <a:pt x="14400" y="12483"/>
                </a:lnTo>
                <a:lnTo>
                  <a:pt x="14400" y="16192"/>
                </a:lnTo>
                <a:arcTo wR="21600" hR="8335" stAng="7949908" swAng="2752612"/>
                <a:lnTo>
                  <a:pt x="58" y="8946"/>
                </a:lnTo>
                <a:arcTo wR="21600" hR="8335" stAng="-10702520" swAng="5302520"/>
                <a:close/>
              </a:path>
              <a:path fill="darkenLess" w="21600" h="21600">
                <a:moveTo>
                  <a:pt x="21600" y="0"/>
                </a:moveTo>
                <a:arcTo wR="21600" hR="8335" stAng="-5400000" swAng="-5400000"/>
                <a:lnTo>
                  <a:pt x="0" y="8335"/>
                </a:lnTo>
                <a:arcTo wR="21600" hR="8335" stAng="10800000" swAng="-97480"/>
                <a:lnTo>
                  <a:pt x="58" y="8946"/>
                </a:lnTo>
                <a:arcTo wR="21600" hR="8335" stAng="-10702520" swAng="5302520"/>
                <a:close/>
              </a:path>
            </a:pathLst>
          </a:custGeom>
          <a:solidFill>
            <a:srgbClr val="808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56720" y="3213000"/>
            <a:ext cx="718920" cy="1944720"/>
          </a:xfrm>
          <a:custGeom>
            <a:avLst/>
            <a:gdLst>
              <a:gd name="textAreaLeft" fmla="*/ 96120 w 718920"/>
              <a:gd name="textAreaRight" fmla="*/ 622800 w 718920"/>
              <a:gd name="textAreaTop" fmla="*/ 397800 h 1944720"/>
              <a:gd name="textAreaBottom" fmla="*/ 13190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38" stAng="-5400000" swAng="5400000"/>
                <a:lnTo>
                  <a:pt x="21600" y="10229"/>
                </a:lnTo>
                <a:arcTo wR="21600" hR="8838" stAng="0" swAng="4012140"/>
                <a:lnTo>
                  <a:pt x="3719" y="21468"/>
                </a:lnTo>
                <a:lnTo>
                  <a:pt x="0" y="18372"/>
                </a:lnTo>
                <a:lnTo>
                  <a:pt x="3719" y="15011"/>
                </a:lnTo>
                <a:lnTo>
                  <a:pt x="3719" y="17544"/>
                </a:lnTo>
                <a:arcTo wR="21600" hR="8838" stAng="4012140" swAng="-3901142"/>
                <a:lnTo>
                  <a:pt x="21533" y="9534"/>
                </a:lnTo>
                <a:arcTo wR="21600" hR="8838" stAng="-110998" swAng="-5289002"/>
                <a:close/>
              </a:path>
              <a:path fill="darkenLess" w="21600" h="21600">
                <a:moveTo>
                  <a:pt x="0" y="0"/>
                </a:moveTo>
                <a:arcTo wR="21600" hR="8838" stAng="-5400000" swAng="5400000"/>
                <a:lnTo>
                  <a:pt x="21600" y="10229"/>
                </a:lnTo>
                <a:arcTo wR="21600" hR="8838" stAng="0" swAng="-110998"/>
                <a:lnTo>
                  <a:pt x="21533" y="9534"/>
                </a:lnTo>
                <a:arcTo wR="21600" hR="8838" stAng="-110998" swAng="-5289002"/>
                <a:close/>
              </a:path>
            </a:pathLst>
          </a:custGeom>
          <a:solidFill>
            <a:srgbClr val="808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крещивание гибридов между собо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476360" y="1125360"/>
            <a:ext cx="719280" cy="2159280"/>
            <a:chOff x="1476360" y="1125360"/>
            <a:chExt cx="719280" cy="2159280"/>
          </a:xfrm>
        </p:grpSpPr>
        <p:sp>
          <p:nvSpPr>
            <p:cNvPr id="179" name=""/>
            <p:cNvSpPr/>
            <p:nvPr/>
          </p:nvSpPr>
          <p:spPr>
            <a:xfrm>
              <a:off x="1476360" y="1125360"/>
              <a:ext cx="287640" cy="2159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08360" y="1125360"/>
              <a:ext cx="287280" cy="2159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044360" y="1052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Р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10000" y="114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059280" y="1125360"/>
            <a:ext cx="718560" cy="2159280"/>
            <a:chOff x="3059280" y="1125360"/>
            <a:chExt cx="718560" cy="2159280"/>
          </a:xfrm>
        </p:grpSpPr>
        <p:sp>
          <p:nvSpPr>
            <p:cNvPr id="184" name=""/>
            <p:cNvSpPr/>
            <p:nvPr/>
          </p:nvSpPr>
          <p:spPr>
            <a:xfrm>
              <a:off x="3059280" y="1125360"/>
              <a:ext cx="287280" cy="2159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90920" y="1125360"/>
              <a:ext cx="286920" cy="2159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 flipH="1">
            <a:off x="1403280" y="3357720"/>
            <a:ext cx="216000" cy="43164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24000" y="3357720"/>
            <a:ext cx="217440" cy="43164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3860640"/>
            <a:ext cx="216000" cy="1368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66920" y="3860640"/>
            <a:ext cx="289080" cy="1440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5300640"/>
            <a:ext cx="50508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5300640"/>
            <a:ext cx="50508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5300640"/>
            <a:ext cx="50472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5300640"/>
            <a:ext cx="50472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87280" y="5229360"/>
            <a:ext cx="609840" cy="609480"/>
          </a:xfrm>
          <a:prstGeom prst="flowChartSummingJunction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43280" y="5229360"/>
            <a:ext cx="609480" cy="609480"/>
          </a:xfrm>
          <a:prstGeom prst="flowChartSummingJunction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19640" y="1125360"/>
            <a:ext cx="291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Р: АаВв  х    АаВ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651640" y="1484280"/>
            <a:ext cx="288720" cy="36036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3640" y="1844640"/>
            <a:ext cx="57492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40360" y="1484280"/>
            <a:ext cx="71640" cy="50472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80000" y="2133720"/>
            <a:ext cx="57636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557360"/>
            <a:ext cx="287280" cy="43164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43640" y="1557360"/>
            <a:ext cx="433440" cy="35892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7640" y="2060640"/>
            <a:ext cx="57636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48360" y="1916280"/>
            <a:ext cx="57636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3357720"/>
            <a:ext cx="647640" cy="180000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80000" y="3357720"/>
            <a:ext cx="1008000" cy="172692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08360" y="5300640"/>
            <a:ext cx="6476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43280" y="5157720"/>
            <a:ext cx="64800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0800" y="6014880"/>
            <a:ext cx="61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ru-RU" sz="16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:ААВВ      АаВв     аАвВ      аавв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ибриды второго поколения, хромосомная запи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751320" y="1700280"/>
            <a:ext cx="61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ru-RU" sz="16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:ААВВ      АаВв     аАвВ      аавв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6000" y="2349360"/>
            <a:ext cx="287280" cy="2376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47640" y="2349360"/>
            <a:ext cx="287640" cy="2376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43280" y="2492280"/>
            <a:ext cx="287280" cy="2376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2492280"/>
            <a:ext cx="287280" cy="2376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27640" y="2349360"/>
            <a:ext cx="287280" cy="2376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59280" y="2421000"/>
            <a:ext cx="287280" cy="23763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2421000"/>
            <a:ext cx="287280" cy="23763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2349360"/>
            <a:ext cx="287280" cy="2376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5357880"/>
            <a:ext cx="3959280" cy="137376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Вместо 16 вариантов в случае действия закона Менделя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87280" y="5950080"/>
            <a:ext cx="3168720" cy="503280"/>
          </a:xfrm>
          <a:prstGeom prst="wedgeRectCallout">
            <a:avLst>
              <a:gd name="adj1" fmla="val -43685"/>
              <a:gd name="adj2" fmla="val -519402"/>
            </a:avLst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16000" y="58467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Сцепленные  гены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7960" y="1360440"/>
            <a:ext cx="65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Сер.Норм.     Сер. Норм.  Сер.Норм.    Черн. Кор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5:13:53Z</dcterms:created>
  <dc:creator>Ирина</dc:creator>
  <dc:description/>
  <dc:language>en-US</dc:language>
  <cp:lastModifiedBy>Admin</cp:lastModifiedBy>
  <dcterms:modified xsi:type="dcterms:W3CDTF">2011-10-20T14:58:23Z</dcterms:modified>
  <cp:revision>37</cp:revision>
  <dc:subject/>
  <dc:title>Слайд 1</dc:title>
</cp:coreProperties>
</file>