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21E-AA7A-4618-81C4-995E2CBD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17B-1DDE-41AF-AB76-A51FDE8C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7BF-F17A-4014-9D16-02673625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C47-F7E9-408C-A838-47295B6B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03B2-231D-48CD-9B74-66CBED7E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D593-3E28-421C-A394-8D59852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CA9D-7DD5-4598-ABC7-D75ABB33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660F-442F-4DAD-A487-ED1EA567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3E0C-F98B-41F1-BA84-8307F93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A09-E3CD-4128-ADFC-355324A5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A405-164C-4DE9-BD37-4D83CC64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025-B926-4B9C-9DAD-B48B4972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234B-786C-4696-875D-89755DF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2C2E-2B88-4BAB-8580-2073E11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F513-0BAB-4C60-9F92-CA7FCC65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ABDA-AE2D-4545-BD02-93B013F1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4FD2-39E6-43D1-8AFE-85C6A542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2B1-F020-49E6-8D31-CEF4FF38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A1D-FF46-4571-9CC0-F720C958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A7F-4FB0-4AE8-88ED-15FECDF0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5F6-95EB-4AB9-A5BE-3BA36282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EE9-2BC7-439B-B308-975821A3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E94-C373-412B-9B86-17DC68FC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FAF-37D7-483D-981F-32CB75D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765A-FAD6-414E-9056-B5B0686A128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6A6D-8AF3-41EB-9D92-062B90EAAA2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0328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Учитель биологии Галковская И.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10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360" y="2492280"/>
            <a:ext cx="777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омосомная теор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ледственност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379080" y="353880"/>
            <a:ext cx="78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Муниципальное бюджетное образовательное учреждение Петровская средня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общеобразовательная школа Урюпинского района Волгоградской области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гаметы образуют самки и самцы из первого поколения? Проведем анализирующее скрещивание сначала самцов, затем сам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0" y="331956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0" y="331956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808200" y="2441520"/>
            <a:ext cx="4699440" cy="897120"/>
            <a:chOff x="808200" y="2441520"/>
            <a:chExt cx="4699440" cy="89712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619280" y="2492280"/>
                  <a:ext cx="3841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808200" y="2513160"/>
              <a:ext cx="15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Р: (из     )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268360" y="2565000"/>
              <a:ext cx="574560" cy="432360"/>
              <a:chOff x="2268360" y="2565000"/>
              <a:chExt cx="574560" cy="432360"/>
            </a:xfrm>
          </p:grpSpPr>
          <p:sp>
            <p:nvSpPr>
              <p:cNvPr id="233" name=""/>
              <p:cNvSpPr/>
              <p:nvPr/>
            </p:nvSpPr>
            <p:spPr>
              <a:xfrm>
                <a:off x="2268360" y="2638440"/>
                <a:ext cx="358920" cy="35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2627280" y="2565000"/>
                <a:ext cx="215640" cy="14436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895480" y="2513160"/>
              <a:ext cx="196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аВв   х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С.н.      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284720" y="2565360"/>
              <a:ext cx="360360" cy="504720"/>
              <a:chOff x="4284720" y="2565360"/>
              <a:chExt cx="360360" cy="504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4284720" y="2565360"/>
                <a:ext cx="360360" cy="504720"/>
                <a:chOff x="4284720" y="2565360"/>
                <a:chExt cx="360360" cy="5047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284720" y="2565360"/>
                  <a:ext cx="360360" cy="280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465080" y="2845440"/>
                  <a:ext cx="0" cy="224640"/>
                </a:xfrm>
                <a:prstGeom prst="line">
                  <a:avLst/>
                </a:prstGeom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344120" y="2957760"/>
                <a:ext cx="23976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769280" y="2441520"/>
              <a:ext cx="73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ав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ч.к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556000" y="2924280"/>
            <a:ext cx="503280" cy="936360"/>
            <a:chOff x="2556000" y="2924280"/>
            <a:chExt cx="503280" cy="936360"/>
          </a:xfrm>
        </p:grpSpPr>
        <p:sp>
          <p:nvSpPr>
            <p:cNvPr id="243" name=""/>
            <p:cNvSpPr/>
            <p:nvPr/>
          </p:nvSpPr>
          <p:spPr>
            <a:xfrm>
              <a:off x="2556000" y="3284640"/>
              <a:ext cx="50328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771640" y="2924280"/>
              <a:ext cx="216000" cy="3603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492360" y="2924280"/>
            <a:ext cx="503280" cy="936360"/>
            <a:chOff x="3492360" y="2924280"/>
            <a:chExt cx="503280" cy="936360"/>
          </a:xfrm>
        </p:grpSpPr>
        <p:sp>
          <p:nvSpPr>
            <p:cNvPr id="246" name=""/>
            <p:cNvSpPr/>
            <p:nvPr/>
          </p:nvSpPr>
          <p:spPr>
            <a:xfrm>
              <a:off x="3492360" y="3284640"/>
              <a:ext cx="50328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2924280"/>
              <a:ext cx="216000" cy="43344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076720" y="2781360"/>
            <a:ext cx="503280" cy="1079280"/>
            <a:chOff x="5076720" y="2781360"/>
            <a:chExt cx="503280" cy="1079280"/>
          </a:xfrm>
        </p:grpSpPr>
        <p:sp>
          <p:nvSpPr>
            <p:cNvPr id="249" name=""/>
            <p:cNvSpPr/>
            <p:nvPr/>
          </p:nvSpPr>
          <p:spPr>
            <a:xfrm>
              <a:off x="5076720" y="3284640"/>
              <a:ext cx="50328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19640" y="2781360"/>
              <a:ext cx="144360" cy="5032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00000" y="4005360"/>
            <a:ext cx="3167280" cy="1211760"/>
            <a:chOff x="900000" y="4005360"/>
            <a:chExt cx="3167280" cy="12117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900000" y="4005360"/>
                  <a:ext cx="487440" cy="63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1887480" y="4025880"/>
              <a:ext cx="21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аВв       аавв 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50%          50%          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48440" y="5367240"/>
            <a:ext cx="7264440" cy="10688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роведем анализирующее скрещивани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самок из первого поколени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80920" y="71280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:(из       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19280" y="692280"/>
                <a:ext cx="441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7" name=""/>
          <p:cNvGraphicFramePr/>
          <p:nvPr/>
        </p:nvGraphicFramePr>
        <p:xfrm>
          <a:off x="755640" y="2997360"/>
          <a:ext cx="7272360" cy="1901520"/>
        </p:xfrm>
        <a:graphic>
          <a:graphicData uri="http://schemas.openxmlformats.org/drawingml/2006/table">
            <a:tbl>
              <a:tblPr/>
              <a:tblGrid>
                <a:gridCol w="1454040"/>
                <a:gridCol w="1454400"/>
                <a:gridCol w="1455480"/>
                <a:gridCol w="1454400"/>
                <a:gridCol w="1454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2340000" y="765000"/>
            <a:ext cx="360360" cy="504720"/>
            <a:chOff x="2340000" y="765000"/>
            <a:chExt cx="360360" cy="504720"/>
          </a:xfrm>
        </p:grpSpPr>
        <p:grpSp>
          <p:nvGrpSpPr>
            <p:cNvPr id="259" name=""/>
            <p:cNvGrpSpPr/>
            <p:nvPr/>
          </p:nvGrpSpPr>
          <p:grpSpPr>
            <a:xfrm>
              <a:off x="2340000" y="765000"/>
              <a:ext cx="360360" cy="504720"/>
              <a:chOff x="2340000" y="765000"/>
              <a:chExt cx="360360" cy="504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340000" y="765000"/>
                <a:ext cx="36036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520360" y="104508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399400" y="1157760"/>
              <a:ext cx="23976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970000" y="712800"/>
            <a:ext cx="8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С.н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50000" y="71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00720" y="692280"/>
            <a:ext cx="574560" cy="431280"/>
            <a:chOff x="4500720" y="692280"/>
            <a:chExt cx="574560" cy="431280"/>
          </a:xfrm>
        </p:grpSpPr>
        <p:sp>
          <p:nvSpPr>
            <p:cNvPr id="266" name=""/>
            <p:cNvSpPr/>
            <p:nvPr/>
          </p:nvSpPr>
          <p:spPr>
            <a:xfrm>
              <a:off x="4500720" y="76500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859640" y="69228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202720" y="64152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Ч.к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56000" y="1052640"/>
            <a:ext cx="576000" cy="792000"/>
            <a:chOff x="2556000" y="1052640"/>
            <a:chExt cx="576000" cy="792000"/>
          </a:xfrm>
        </p:grpSpPr>
        <p:sp>
          <p:nvSpPr>
            <p:cNvPr id="270" name=""/>
            <p:cNvSpPr/>
            <p:nvPr/>
          </p:nvSpPr>
          <p:spPr>
            <a:xfrm>
              <a:off x="2556000" y="1433520"/>
              <a:ext cx="482400" cy="41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843280" y="1052640"/>
              <a:ext cx="288720" cy="3603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48000" y="1125360"/>
            <a:ext cx="554040" cy="914400"/>
            <a:chOff x="3348000" y="1125360"/>
            <a:chExt cx="554040" cy="914400"/>
          </a:xfrm>
        </p:grpSpPr>
        <p:sp>
          <p:nvSpPr>
            <p:cNvPr id="273" name=""/>
            <p:cNvSpPr/>
            <p:nvPr/>
          </p:nvSpPr>
          <p:spPr>
            <a:xfrm>
              <a:off x="3348000" y="1484280"/>
              <a:ext cx="554040" cy="55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2360" y="1125360"/>
              <a:ext cx="142920" cy="35892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708360" y="1125360"/>
            <a:ext cx="770040" cy="914400"/>
            <a:chOff x="3708360" y="1125360"/>
            <a:chExt cx="770040" cy="914400"/>
          </a:xfrm>
        </p:grpSpPr>
        <p:sp>
          <p:nvSpPr>
            <p:cNvPr id="276" name=""/>
            <p:cNvSpPr/>
            <p:nvPr/>
          </p:nvSpPr>
          <p:spPr>
            <a:xfrm>
              <a:off x="392436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08360" y="1125360"/>
              <a:ext cx="358920" cy="5032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780000" y="1052640"/>
            <a:ext cx="1274760" cy="987120"/>
            <a:chOff x="3780000" y="1052640"/>
            <a:chExt cx="1274760" cy="987120"/>
          </a:xfrm>
        </p:grpSpPr>
        <p:sp>
          <p:nvSpPr>
            <p:cNvPr id="279" name=""/>
            <p:cNvSpPr/>
            <p:nvPr/>
          </p:nvSpPr>
          <p:spPr>
            <a:xfrm>
              <a:off x="450072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8000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4360" y="1052640"/>
            <a:ext cx="1274760" cy="987120"/>
            <a:chOff x="5724360" y="1052640"/>
            <a:chExt cx="1274760" cy="987120"/>
          </a:xfrm>
        </p:grpSpPr>
        <p:sp>
          <p:nvSpPr>
            <p:cNvPr id="282" name=""/>
            <p:cNvSpPr/>
            <p:nvPr/>
          </p:nvSpPr>
          <p:spPr>
            <a:xfrm>
              <a:off x="644508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2436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55640" y="2997360"/>
            <a:ext cx="1440000" cy="8632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63640" y="3068640"/>
            <a:ext cx="289080" cy="504720"/>
            <a:chOff x="1763640" y="3068640"/>
            <a:chExt cx="289080" cy="504720"/>
          </a:xfrm>
        </p:grpSpPr>
        <p:grpSp>
          <p:nvGrpSpPr>
            <p:cNvPr id="286" name=""/>
            <p:cNvGrpSpPr/>
            <p:nvPr/>
          </p:nvGrpSpPr>
          <p:grpSpPr>
            <a:xfrm>
              <a:off x="1763640" y="3068640"/>
              <a:ext cx="289080" cy="504720"/>
              <a:chOff x="1763640" y="3068640"/>
              <a:chExt cx="289080" cy="504720"/>
            </a:xfrm>
          </p:grpSpPr>
          <p:sp>
            <p:nvSpPr>
              <p:cNvPr id="287" name=""/>
              <p:cNvSpPr/>
              <p:nvPr/>
            </p:nvSpPr>
            <p:spPr>
              <a:xfrm>
                <a:off x="1763640" y="3068640"/>
                <a:ext cx="28908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8360" y="334872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811160" y="3461040"/>
              <a:ext cx="1922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900000" y="3429000"/>
            <a:ext cx="574560" cy="431280"/>
            <a:chOff x="900000" y="3429000"/>
            <a:chExt cx="574560" cy="431280"/>
          </a:xfrm>
        </p:grpSpPr>
        <p:sp>
          <p:nvSpPr>
            <p:cNvPr id="291" name=""/>
            <p:cNvSpPr/>
            <p:nvPr/>
          </p:nvSpPr>
          <p:spPr>
            <a:xfrm>
              <a:off x="900000" y="350172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258920" y="342900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2420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20200" y="49608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1,5%          8,5%           8,5%           41,5%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фаз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мейо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692360" y="1484280"/>
            <a:ext cx="215640" cy="288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1484280"/>
            <a:ext cx="216000" cy="288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413000"/>
            <a:ext cx="216000" cy="28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1413000"/>
            <a:ext cx="215640" cy="28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2920" y="2411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2920" y="434988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          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1004040" y="4188240"/>
            <a:ext cx="439560" cy="1800000"/>
          </a:xfrm>
          <a:custGeom>
            <a:avLst/>
            <a:gdLst>
              <a:gd name="textAreaLeft" fmla="*/ 280800 w 439560"/>
              <a:gd name="textAreaRight" fmla="*/ 439920 w 4395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75"/>
                </a:lnTo>
                <a:cubicBezTo>
                  <a:pt x="10800" y="10275"/>
                  <a:pt x="5400" y="11175"/>
                  <a:pt x="0" y="11175"/>
                </a:cubicBezTo>
                <a:cubicBezTo>
                  <a:pt x="5400" y="11175"/>
                  <a:pt x="10800" y="12075"/>
                  <a:pt x="10800" y="12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3040" y="534204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гомологичные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0920" y="2852640"/>
            <a:ext cx="15112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4099680" y="3756960"/>
            <a:ext cx="439920" cy="1800000"/>
          </a:xfrm>
          <a:custGeom>
            <a:avLst/>
            <a:gdLst>
              <a:gd name="textAreaLeft" fmla="*/ 281160 w 439920"/>
              <a:gd name="textAreaRight" fmla="*/ 440280 w 4399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75"/>
                </a:lnTo>
                <a:cubicBezTo>
                  <a:pt x="10800" y="10275"/>
                  <a:pt x="5400" y="11175"/>
                  <a:pt x="0" y="11175"/>
                </a:cubicBezTo>
                <a:cubicBezTo>
                  <a:pt x="5400" y="11175"/>
                  <a:pt x="10800" y="12075"/>
                  <a:pt x="10800" y="12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9600" y="501336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Бивален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37080" y="22953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Коньюгация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32360" y="2852640"/>
            <a:ext cx="172872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43440" y="222408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Кроссинговер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08720" y="1628640"/>
            <a:ext cx="216000" cy="288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08720" y="2924280"/>
            <a:ext cx="216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87440" y="28717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Перекрес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2997360"/>
            <a:ext cx="28872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2276640"/>
            <a:ext cx="28728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2276640"/>
            <a:ext cx="28872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76640"/>
            <a:ext cx="28908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997360"/>
            <a:ext cx="28908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2276640"/>
            <a:ext cx="28908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03280" y="3068640"/>
            <a:ext cx="289080" cy="216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068640"/>
            <a:ext cx="288720" cy="216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635280" y="1557360"/>
            <a:ext cx="1009800" cy="2881440"/>
            <a:chOff x="3635280" y="1557360"/>
            <a:chExt cx="1009800" cy="2881440"/>
          </a:xfrm>
        </p:grpSpPr>
        <p:sp>
          <p:nvSpPr>
            <p:cNvPr id="322" name=""/>
            <p:cNvSpPr/>
            <p:nvPr/>
          </p:nvSpPr>
          <p:spPr>
            <a:xfrm>
              <a:off x="3924360" y="1557360"/>
              <a:ext cx="21600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08360" y="1557360"/>
              <a:ext cx="21600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0360" y="1557360"/>
              <a:ext cx="215640" cy="288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56000" y="1557360"/>
              <a:ext cx="216000" cy="288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51280" y="2349360"/>
              <a:ext cx="28908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35280" y="2349360"/>
              <a:ext cx="28908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51280" y="3141720"/>
              <a:ext cx="289080" cy="216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35280" y="3141720"/>
              <a:ext cx="289080" cy="216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67280" y="2349360"/>
              <a:ext cx="2887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84720" y="2349360"/>
              <a:ext cx="2887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67280" y="3141720"/>
              <a:ext cx="28872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56000" y="3141720"/>
              <a:ext cx="28908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020000" y="1557360"/>
            <a:ext cx="1009440" cy="2881440"/>
            <a:chOff x="7020000" y="1557360"/>
            <a:chExt cx="1009440" cy="2881440"/>
          </a:xfrm>
        </p:grpSpPr>
        <p:sp>
          <p:nvSpPr>
            <p:cNvPr id="335" name=""/>
            <p:cNvSpPr/>
            <p:nvPr/>
          </p:nvSpPr>
          <p:spPr>
            <a:xfrm>
              <a:off x="7093080" y="1557360"/>
              <a:ext cx="21564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40720" y="1557360"/>
              <a:ext cx="216000" cy="288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1557360"/>
              <a:ext cx="21600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1557360"/>
              <a:ext cx="216000" cy="158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20000" y="2349360"/>
              <a:ext cx="28872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08720" y="2349360"/>
              <a:ext cx="28908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51640" y="2997360"/>
              <a:ext cx="289080" cy="215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20000" y="2997360"/>
              <a:ext cx="288720" cy="215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38920" y="2421000"/>
              <a:ext cx="28908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24720" y="2421000"/>
              <a:ext cx="28908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40720" y="2852640"/>
              <a:ext cx="28872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36000" y="2852640"/>
              <a:ext cx="28872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878520" y="4437000"/>
            <a:ext cx="1991160" cy="1396440"/>
            <a:chOff x="6878520" y="4437000"/>
            <a:chExt cx="1991160" cy="1396440"/>
          </a:xfrm>
        </p:grpSpPr>
        <p:sp>
          <p:nvSpPr>
            <p:cNvPr id="348" name=""/>
            <p:cNvSpPr/>
            <p:nvPr/>
          </p:nvSpPr>
          <p:spPr>
            <a:xfrm>
              <a:off x="7380360" y="4437000"/>
              <a:ext cx="360360" cy="914400"/>
            </a:xfrm>
            <a:prstGeom prst="downArrowCallout">
              <a:avLst>
                <a:gd name="adj1" fmla="val 25002"/>
                <a:gd name="adj2" fmla="val 25000"/>
                <a:gd name="adj3" fmla="val 42291"/>
                <a:gd name="adj4" fmla="val 66667"/>
              </a:avLst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78520" y="5373720"/>
              <a:ext cx="199116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кроссоверные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880920" y="71280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:(из       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619280" y="692280"/>
                <a:ext cx="441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52" name=""/>
          <p:cNvGraphicFramePr/>
          <p:nvPr/>
        </p:nvGraphicFramePr>
        <p:xfrm>
          <a:off x="755640" y="2997360"/>
          <a:ext cx="7272360" cy="1901520"/>
        </p:xfrm>
        <a:graphic>
          <a:graphicData uri="http://schemas.openxmlformats.org/drawingml/2006/table">
            <a:tbl>
              <a:tblPr/>
              <a:tblGrid>
                <a:gridCol w="1454040"/>
                <a:gridCol w="1454400"/>
                <a:gridCol w="1455480"/>
                <a:gridCol w="1454400"/>
                <a:gridCol w="1454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2340000" y="765000"/>
            <a:ext cx="360360" cy="504720"/>
            <a:chOff x="2340000" y="765000"/>
            <a:chExt cx="360360" cy="504720"/>
          </a:xfrm>
        </p:grpSpPr>
        <p:grpSp>
          <p:nvGrpSpPr>
            <p:cNvPr id="354" name=""/>
            <p:cNvGrpSpPr/>
            <p:nvPr/>
          </p:nvGrpSpPr>
          <p:grpSpPr>
            <a:xfrm>
              <a:off x="2340000" y="765000"/>
              <a:ext cx="360360" cy="504720"/>
              <a:chOff x="2340000" y="765000"/>
              <a:chExt cx="360360" cy="504720"/>
            </a:xfrm>
          </p:grpSpPr>
          <p:sp>
            <p:nvSpPr>
              <p:cNvPr id="355" name=""/>
              <p:cNvSpPr/>
              <p:nvPr/>
            </p:nvSpPr>
            <p:spPr>
              <a:xfrm>
                <a:off x="2340000" y="765000"/>
                <a:ext cx="36036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20360" y="104508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399400" y="1157760"/>
              <a:ext cx="23976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970000" y="712800"/>
            <a:ext cx="8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С.н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50000" y="71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500720" y="692280"/>
            <a:ext cx="574560" cy="431280"/>
            <a:chOff x="4500720" y="692280"/>
            <a:chExt cx="574560" cy="431280"/>
          </a:xfrm>
        </p:grpSpPr>
        <p:sp>
          <p:nvSpPr>
            <p:cNvPr id="361" name=""/>
            <p:cNvSpPr/>
            <p:nvPr/>
          </p:nvSpPr>
          <p:spPr>
            <a:xfrm>
              <a:off x="4500720" y="76500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859640" y="69228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202720" y="64152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Ч.к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56000" y="1052640"/>
            <a:ext cx="576000" cy="792000"/>
            <a:chOff x="2556000" y="1052640"/>
            <a:chExt cx="576000" cy="792000"/>
          </a:xfrm>
        </p:grpSpPr>
        <p:sp>
          <p:nvSpPr>
            <p:cNvPr id="365" name=""/>
            <p:cNvSpPr/>
            <p:nvPr/>
          </p:nvSpPr>
          <p:spPr>
            <a:xfrm>
              <a:off x="2556000" y="1433520"/>
              <a:ext cx="482400" cy="41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843280" y="1052640"/>
              <a:ext cx="288720" cy="3603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348000" y="1125360"/>
            <a:ext cx="554040" cy="914400"/>
            <a:chOff x="3348000" y="1125360"/>
            <a:chExt cx="554040" cy="914400"/>
          </a:xfrm>
        </p:grpSpPr>
        <p:sp>
          <p:nvSpPr>
            <p:cNvPr id="368" name=""/>
            <p:cNvSpPr/>
            <p:nvPr/>
          </p:nvSpPr>
          <p:spPr>
            <a:xfrm>
              <a:off x="3348000" y="1484280"/>
              <a:ext cx="554040" cy="55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92360" y="1125360"/>
              <a:ext cx="142920" cy="35892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708360" y="1125360"/>
            <a:ext cx="770040" cy="914400"/>
            <a:chOff x="3708360" y="1125360"/>
            <a:chExt cx="770040" cy="914400"/>
          </a:xfrm>
        </p:grpSpPr>
        <p:sp>
          <p:nvSpPr>
            <p:cNvPr id="371" name=""/>
            <p:cNvSpPr/>
            <p:nvPr/>
          </p:nvSpPr>
          <p:spPr>
            <a:xfrm>
              <a:off x="392436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08360" y="1125360"/>
              <a:ext cx="358920" cy="5032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780000" y="1052640"/>
            <a:ext cx="1274760" cy="987120"/>
            <a:chOff x="3780000" y="1052640"/>
            <a:chExt cx="1274760" cy="987120"/>
          </a:xfrm>
        </p:grpSpPr>
        <p:sp>
          <p:nvSpPr>
            <p:cNvPr id="374" name=""/>
            <p:cNvSpPr/>
            <p:nvPr/>
          </p:nvSpPr>
          <p:spPr>
            <a:xfrm>
              <a:off x="450072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000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724360" y="1052640"/>
            <a:ext cx="1274760" cy="987120"/>
            <a:chOff x="5724360" y="1052640"/>
            <a:chExt cx="1274760" cy="987120"/>
          </a:xfrm>
        </p:grpSpPr>
        <p:sp>
          <p:nvSpPr>
            <p:cNvPr id="377" name=""/>
            <p:cNvSpPr/>
            <p:nvPr/>
          </p:nvSpPr>
          <p:spPr>
            <a:xfrm>
              <a:off x="644508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2436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55640" y="2997360"/>
            <a:ext cx="1440000" cy="8632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763640" y="3068640"/>
            <a:ext cx="289080" cy="504720"/>
            <a:chOff x="1763640" y="3068640"/>
            <a:chExt cx="289080" cy="504720"/>
          </a:xfrm>
        </p:grpSpPr>
        <p:grpSp>
          <p:nvGrpSpPr>
            <p:cNvPr id="381" name=""/>
            <p:cNvGrpSpPr/>
            <p:nvPr/>
          </p:nvGrpSpPr>
          <p:grpSpPr>
            <a:xfrm>
              <a:off x="1763640" y="3068640"/>
              <a:ext cx="289080" cy="504720"/>
              <a:chOff x="1763640" y="3068640"/>
              <a:chExt cx="289080" cy="504720"/>
            </a:xfrm>
          </p:grpSpPr>
          <p:sp>
            <p:nvSpPr>
              <p:cNvPr id="382" name=""/>
              <p:cNvSpPr/>
              <p:nvPr/>
            </p:nvSpPr>
            <p:spPr>
              <a:xfrm>
                <a:off x="1763640" y="3068640"/>
                <a:ext cx="28908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08360" y="334872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1811160" y="3461040"/>
              <a:ext cx="1922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900000" y="3429000"/>
            <a:ext cx="574560" cy="431280"/>
            <a:chOff x="900000" y="3429000"/>
            <a:chExt cx="574560" cy="431280"/>
          </a:xfrm>
        </p:grpSpPr>
        <p:sp>
          <p:nvSpPr>
            <p:cNvPr id="386" name=""/>
            <p:cNvSpPr/>
            <p:nvPr/>
          </p:nvSpPr>
          <p:spPr>
            <a:xfrm>
              <a:off x="900000" y="350172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258920" y="342900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82420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20200" y="49608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1,5%          8,5%           8,5%           41,5%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4691160" y="4195800"/>
            <a:ext cx="576000" cy="26431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97080" y="5681520"/>
            <a:ext cx="1994400" cy="82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Кроссоверно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потомств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акон Т.Моргана - закон сцеп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Сцепленные гены, располагающиеся в одной хромосоме, наследуются вмест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3141720"/>
            <a:ext cx="360360" cy="2879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19280" y="44370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1763640" y="3860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3"/>
                </a:lnTo>
                <a:cubicBezTo>
                  <a:pt x="10800" y="10613"/>
                  <a:pt x="5400" y="11513"/>
                  <a:pt x="0" y="11513"/>
                </a:cubicBezTo>
                <a:cubicBezTo>
                  <a:pt x="5400" y="11513"/>
                  <a:pt x="10800" y="12413"/>
                  <a:pt x="10800" y="133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66720" y="434988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Группа сцепл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32320" y="5199120"/>
            <a:ext cx="6030000" cy="947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Не подчиняются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закону Менделя –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закону независимого наследования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64000" y="2349360"/>
            <a:ext cx="3456000" cy="1800360"/>
          </a:xfrm>
          <a:prstGeom prst="wedgeRectCallout">
            <a:avLst>
              <a:gd name="adj1" fmla="val -137736"/>
              <a:gd name="adj2" fmla="val 67814"/>
            </a:avLst>
          </a:prstGeom>
          <a:solidFill>
            <a:srgbClr val="8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4000" y="23684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Число групп сцепл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равно гаплоидному набору хромосо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в текст учебника ответить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От чего зависит % кроссоверного потомства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Как связаны понятия «частота кроссинговера» и «расстояние между генами»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Что такое Морганида и чему она равна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рушение сцепления ген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Чем ближе друг к другу расположены гены, тем сцепление крепч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Если гены лежат в хромосоме далеко, сцепление может нарушаться в результате кроссинговера и гены могут разойтись в разные хромосомы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8000" y="1773360"/>
            <a:ext cx="503280" cy="4032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19280" y="44370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11280" y="3141720"/>
            <a:ext cx="230508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40000" y="3715920"/>
            <a:ext cx="2303280" cy="792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836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органи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Расстояние между генами, расположенными в одной хромосоме, определяют в процентах гамет, при образовании которых в результате кроссинговера произошла перекомбинация генов в гомологичных хромосомах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Это расстояние измеряется в Морганидах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За 1 Морганиду принимают такое расстояние между генами, при котором образуется 1% кроссоверного потом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Хромосомная теор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Гены в хромосоме располагаются линейно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В хромосоме каждый ген занимает определенное место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Расстояние между генами в хромосоме прямо пропорционально проценту кроссинговера между ними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Гены одной хромосомы образуют группу сцепления, благодаря этому происходит сцепленное наследование некоторых признак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Каждый вид имеет определенное количество групп сцепления, соответствующее числу хромосом в гаплоидном набо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836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ок генетическо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арт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хромосом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озофи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0100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чащиеся дают определение ключевым понятиям( группа сцепления, сцепленное наследование, кроссинговер, коньюгация)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бъясняют причины перекомбинации признаков при сцепленном наследовани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босновывают цитологические основы проявления закона сцепленного наследовани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Называют положения хромосомной теори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Анализируют содержание рисунков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549360"/>
            <a:ext cx="590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ируемый результат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тическая карт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хромосомы том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7334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нормальная высота растения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карликовы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круглый плод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 –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овальный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нормальные листья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 –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ораженные листья болезнью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Bk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круглый плод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bk –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лод с заостренным концом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205240" y="549360"/>
            <a:ext cx="28940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тическая кар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хромосомы том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2309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гладкий плод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ребристый плод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Необлиственное соцветие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облиственное соцветие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3384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476360" y="2276640"/>
            <a:ext cx="6191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пыты Т.Морга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1413000"/>
            <a:ext cx="28872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5080" y="460224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цве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6160" y="4653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форм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791360" y="4480200"/>
            <a:ext cx="431640" cy="192888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040 h 1928880"/>
              <a:gd name="textAreaBottom" fmla="*/ 187884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661000"/>
            <a:ext cx="360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азные пары гомологичных хромосо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565360"/>
            <a:ext cx="28908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2349360"/>
            <a:ext cx="28908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2349360"/>
            <a:ext cx="28872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924280"/>
            <a:ext cx="288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2924280"/>
            <a:ext cx="289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637000"/>
            <a:ext cx="289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2637000"/>
            <a:ext cx="289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565360"/>
            <a:ext cx="28908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474516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дна пар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омологичных хромосо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197000"/>
            <a:ext cx="936720" cy="360360"/>
          </a:xfrm>
          <a:prstGeom prst="wedgeRectCallout">
            <a:avLst>
              <a:gd name="adj1" fmla="val 99324"/>
              <a:gd name="adj2" fmla="val 338986"/>
            </a:avLst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9080" y="10731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цве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2205000"/>
            <a:ext cx="1296720" cy="360360"/>
          </a:xfrm>
          <a:prstGeom prst="wedgeRectCallout">
            <a:avLst>
              <a:gd name="adj1" fmla="val 131273"/>
              <a:gd name="adj2" fmla="val 204625"/>
            </a:avLst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720" y="21081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форм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03280" y="2060640"/>
            <a:ext cx="360360" cy="2879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44370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1979280" y="2781000"/>
            <a:ext cx="431640" cy="158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3"/>
                </a:lnTo>
                <a:cubicBezTo>
                  <a:pt x="10800" y="10613"/>
                  <a:pt x="5400" y="11513"/>
                  <a:pt x="0" y="11513"/>
                </a:cubicBezTo>
                <a:cubicBezTo>
                  <a:pt x="5400" y="11513"/>
                  <a:pt x="10800" y="12413"/>
                  <a:pt x="10800" y="133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63560" y="328464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Группа сцепл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32320" y="5199120"/>
            <a:ext cx="6030000" cy="947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Не подчиняются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закону Менделя –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закону независимого наследования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цепленные г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94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.Морган (1866 – 1945). Лауреат Нобелевской премии 1933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3382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ушка дрозофи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4482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рещивание чистых линий дрозофи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197000"/>
            <a:ext cx="162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Цвет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Форм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рыльев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20200" y="107316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А – серое тел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а  – черное тел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22000" y="2133720"/>
            <a:ext cx="22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В – нормальны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в – короткие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2997360"/>
            <a:ext cx="9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Р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3560" y="2997360"/>
            <a:ext cx="27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АВВ   х     аав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.  н              ч. к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19440" y="458136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:          АаВ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3763800"/>
            <a:ext cx="13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Гаметы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3860640"/>
            <a:ext cx="576360" cy="503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3860640"/>
            <a:ext cx="503280" cy="503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6165720"/>
            <a:ext cx="1986120" cy="4597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единообразн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134136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134136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6000" y="141300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141300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1773360"/>
            <a:ext cx="285840" cy="433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170028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242100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170028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2349360"/>
            <a:ext cx="287280" cy="55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67640" y="170028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7640" y="2349360"/>
            <a:ext cx="287280" cy="55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6720" y="2082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588000" y="3860640"/>
            <a:ext cx="719280" cy="2159280"/>
            <a:chOff x="6588000" y="3860640"/>
            <a:chExt cx="719280" cy="2159280"/>
          </a:xfrm>
        </p:grpSpPr>
        <p:sp>
          <p:nvSpPr>
            <p:cNvPr id="173" name=""/>
            <p:cNvSpPr/>
            <p:nvPr/>
          </p:nvSpPr>
          <p:spPr>
            <a:xfrm>
              <a:off x="6588000" y="3860640"/>
              <a:ext cx="28764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0000" y="3860640"/>
              <a:ext cx="28728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292720" y="3213000"/>
            <a:ext cx="574560" cy="1944720"/>
          </a:xfrm>
          <a:custGeom>
            <a:avLst/>
            <a:gdLst>
              <a:gd name="textAreaLeft" fmla="*/ 76680 w 574560"/>
              <a:gd name="textAreaRight" fmla="*/ 497880 w 574560"/>
              <a:gd name="textAreaTop" fmla="*/ 375120 h 1944720"/>
              <a:gd name="textAreaBottom" fmla="*/ 12355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35" stAng="-5400000" swAng="-5400000"/>
                <a:lnTo>
                  <a:pt x="0" y="9557"/>
                </a:lnTo>
                <a:arcTo wR="21600" hR="8335" stAng="10800000" swAng="-2850092"/>
                <a:lnTo>
                  <a:pt x="14400" y="21123"/>
                </a:lnTo>
                <a:lnTo>
                  <a:pt x="21600" y="17280"/>
                </a:lnTo>
                <a:lnTo>
                  <a:pt x="14400" y="12483"/>
                </a:lnTo>
                <a:lnTo>
                  <a:pt x="14400" y="16192"/>
                </a:lnTo>
                <a:arcTo wR="21600" hR="8335" stAng="7949908" swAng="2752612"/>
                <a:lnTo>
                  <a:pt x="58" y="8946"/>
                </a:lnTo>
                <a:arcTo wR="21600" hR="8335" stAng="-10702520" swAng="5302520"/>
                <a:close/>
              </a:path>
              <a:path fill="darkenLess" w="21600" h="21600">
                <a:moveTo>
                  <a:pt x="21600" y="0"/>
                </a:moveTo>
                <a:arcTo wR="21600" hR="8335" stAng="-5400000" swAng="-5400000"/>
                <a:lnTo>
                  <a:pt x="0" y="8335"/>
                </a:lnTo>
                <a:arcTo wR="21600" hR="8335" stAng="10800000" swAng="-97480"/>
                <a:lnTo>
                  <a:pt x="58" y="8946"/>
                </a:lnTo>
                <a:arcTo wR="21600" hR="8335" stAng="-10702520" swAng="5302520"/>
                <a:close/>
              </a:path>
            </a:pathLst>
          </a:custGeom>
          <a:solidFill>
            <a:srgbClr val="8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6720" y="3213000"/>
            <a:ext cx="718920" cy="1944720"/>
          </a:xfrm>
          <a:custGeom>
            <a:avLst/>
            <a:gdLst>
              <a:gd name="textAreaLeft" fmla="*/ 96120 w 718920"/>
              <a:gd name="textAreaRight" fmla="*/ 622800 w 718920"/>
              <a:gd name="textAreaTop" fmla="*/ 397800 h 1944720"/>
              <a:gd name="textAreaBottom" fmla="*/ 1319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8" stAng="-5400000" swAng="5400000"/>
                <a:lnTo>
                  <a:pt x="21600" y="10229"/>
                </a:lnTo>
                <a:arcTo wR="21600" hR="8838" stAng="0" swAng="4012140"/>
                <a:lnTo>
                  <a:pt x="3719" y="21468"/>
                </a:lnTo>
                <a:lnTo>
                  <a:pt x="0" y="18372"/>
                </a:lnTo>
                <a:lnTo>
                  <a:pt x="3719" y="15011"/>
                </a:lnTo>
                <a:lnTo>
                  <a:pt x="3719" y="17544"/>
                </a:lnTo>
                <a:arcTo wR="21600" hR="8838" stAng="4012140" swAng="-3901142"/>
                <a:lnTo>
                  <a:pt x="21533" y="9534"/>
                </a:lnTo>
                <a:arcTo wR="21600" hR="8838" stAng="-110998" swAng="-5289002"/>
                <a:close/>
              </a:path>
              <a:path fill="darkenLess" w="21600" h="21600">
                <a:moveTo>
                  <a:pt x="0" y="0"/>
                </a:moveTo>
                <a:arcTo wR="21600" hR="8838" stAng="-5400000" swAng="5400000"/>
                <a:lnTo>
                  <a:pt x="21600" y="10229"/>
                </a:lnTo>
                <a:arcTo wR="21600" hR="8838" stAng="0" swAng="-110998"/>
                <a:lnTo>
                  <a:pt x="21533" y="9534"/>
                </a:lnTo>
                <a:arcTo wR="21600" hR="8838" stAng="-110998" swAng="-5289002"/>
                <a:close/>
              </a:path>
            </a:pathLst>
          </a:custGeom>
          <a:solidFill>
            <a:srgbClr val="8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рещивание гибридов между соб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76360" y="1125360"/>
            <a:ext cx="719280" cy="2159280"/>
            <a:chOff x="1476360" y="1125360"/>
            <a:chExt cx="719280" cy="2159280"/>
          </a:xfrm>
        </p:grpSpPr>
        <p:sp>
          <p:nvSpPr>
            <p:cNvPr id="179" name=""/>
            <p:cNvSpPr/>
            <p:nvPr/>
          </p:nvSpPr>
          <p:spPr>
            <a:xfrm>
              <a:off x="1476360" y="1125360"/>
              <a:ext cx="28764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8360" y="1125360"/>
              <a:ext cx="28728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4436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Р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10000" y="11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059280" y="1125360"/>
            <a:ext cx="718560" cy="2159280"/>
            <a:chOff x="3059280" y="1125360"/>
            <a:chExt cx="718560" cy="2159280"/>
          </a:xfrm>
        </p:grpSpPr>
        <p:sp>
          <p:nvSpPr>
            <p:cNvPr id="184" name=""/>
            <p:cNvSpPr/>
            <p:nvPr/>
          </p:nvSpPr>
          <p:spPr>
            <a:xfrm>
              <a:off x="3059280" y="1125360"/>
              <a:ext cx="28728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90920" y="1125360"/>
              <a:ext cx="28692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1403280" y="3357720"/>
            <a:ext cx="216000" cy="43164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3357720"/>
            <a:ext cx="217440" cy="43164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3860640"/>
            <a:ext cx="216000" cy="1368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6920" y="3860640"/>
            <a:ext cx="289080" cy="1440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5300640"/>
            <a:ext cx="5050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300640"/>
            <a:ext cx="5050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5300640"/>
            <a:ext cx="504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5300640"/>
            <a:ext cx="504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5229360"/>
            <a:ext cx="609840" cy="6094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3280" y="5229360"/>
            <a:ext cx="609480" cy="6094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12536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Р: АаВв  х    АаВ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651640" y="1484280"/>
            <a:ext cx="288720" cy="36036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1844640"/>
            <a:ext cx="5749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484280"/>
            <a:ext cx="71640" cy="5047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213372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557360"/>
            <a:ext cx="287280" cy="43164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1557360"/>
            <a:ext cx="433440" cy="3589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7640" y="206064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191628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357720"/>
            <a:ext cx="647640" cy="180000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80000" y="3357720"/>
            <a:ext cx="1008000" cy="17269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5300640"/>
            <a:ext cx="6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157720"/>
            <a:ext cx="648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800" y="6014880"/>
            <a:ext cx="61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:ААВВ      АаВв     аАвВ      аав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ибриды второго поколения, хромосомная запи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751320" y="1700280"/>
            <a:ext cx="61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:ААВВ      АаВв     аАвВ      аав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234936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349360"/>
            <a:ext cx="28764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43280" y="249228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249228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4936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9280" y="2421000"/>
            <a:ext cx="287280" cy="23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2421000"/>
            <a:ext cx="287280" cy="23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234936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5357880"/>
            <a:ext cx="3959280" cy="13737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Вместо 16 вариантов в случае действия закона Мендел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7280" y="5950080"/>
            <a:ext cx="3168720" cy="503280"/>
          </a:xfrm>
          <a:prstGeom prst="wedgeRectCallout">
            <a:avLst>
              <a:gd name="adj1" fmla="val -43685"/>
              <a:gd name="adj2" fmla="val -519402"/>
            </a:avLst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58467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Сцепленные  ген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960" y="1360440"/>
            <a:ext cx="65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Сер.Норм.     Сер. Норм.  Сер.Норм.    Черн. Кор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5:13:53Z</dcterms:created>
  <dc:creator>Ирина</dc:creator>
  <dc:description/>
  <dc:language>en-US</dc:language>
  <cp:lastModifiedBy>Admin</cp:lastModifiedBy>
  <dcterms:modified xsi:type="dcterms:W3CDTF">2011-10-20T14:58:23Z</dcterms:modified>
  <cp:revision>37</cp:revision>
  <dc:subject/>
  <dc:title>Слайд 1</dc:title>
</cp:coreProperties>
</file>