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5.wmf" ContentType="image/x-wmf"/>
  <Override PartName="/ppt/media/image24.wmf" ContentType="image/x-wmf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67AC-B605-4D67-800C-E7DE259730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C8FD-EF19-47D7-AEBE-DFBEDE4C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32A36-69C7-4FE3-874C-8593F24F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07529-9BC8-4D45-A430-090833D6D4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6DAA5-6D97-41D7-A6A8-A7CED9C030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31B88-A52A-488E-9EC2-38588C18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F593F-8E6B-41C4-BC67-4F001414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BE9F0-6E9C-4F58-9E3D-4E7C0A4D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19FD9-1504-4784-BA81-25D8B8FC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4AD9E-E1F5-49D5-A8FF-85A582C8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2E753-15AA-4246-860B-D4AC1414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94E60-A699-4AA1-8CF3-470C0283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B5693-4642-4395-8DB7-40A2B80C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7AB99-92DB-42A9-A01A-2393257F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29895-2E59-4100-9415-157EE809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5CFBE-382F-4AAF-82E5-81F04CB6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35C6E-D1F5-47CF-BCF6-1B6A8D6BB5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DE3C5-1573-4A1A-9B8B-1F788575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FE153-E0AF-42D8-A894-56BB1BD6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A643-7DE7-4B4A-9912-3043DAC0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35659-A345-433A-AAAE-4CFD33C7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8FC41-8323-4792-BDAF-46CB600C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A9CB1-6061-4858-A08D-B199105D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81B9-34C7-4287-9605-9949189E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3CE532-3BA0-4502-BDA0-034410198E8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3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108E2E3-3263-4B27-A54B-2C8E0F1A1B6B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8.xml"/><Relationship Id="rId9" Type="http://schemas.openxmlformats.org/officeDocument/2006/relationships/slide" Target="slide22.xml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82520" y="-268200"/>
            <a:ext cx="7985160" cy="417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290840" y="2073240"/>
            <a:ext cx="467064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137440" cy="6769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064720" y="630720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5544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142480" y="641988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52560"/>
            <a:ext cx="8713800" cy="6808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064720" y="639936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064720" y="638496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651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034840" y="632448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76520" y="-7920"/>
            <a:ext cx="4603680" cy="686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064720" y="63961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92400" y="6480"/>
            <a:ext cx="4755960" cy="6851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965000" y="643716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6480"/>
            <a:ext cx="6746760" cy="6615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973920" y="6340320"/>
            <a:ext cx="225576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116000" y="907920"/>
            <a:ext cx="6985080" cy="453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афи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равн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са, рос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должительности жизн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Хаск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5877000" y="63500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09360" y="644220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979640" y="1449360"/>
          <a:ext cx="5616720" cy="54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449360"/>
                    <a:ext cx="561672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 txBox="1"/>
          <p:nvPr/>
        </p:nvSpPr>
        <p:spPr>
          <a:xfrm>
            <a:off x="3059280" y="476280"/>
            <a:ext cx="244764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21720" y="63961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55520" y="648828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84160" y="-30240"/>
            <a:ext cx="7650360" cy="2273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90640" y="1584360"/>
            <a:ext cx="7640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2" action="ppaction://hlinksldjump"/>
              </a:rPr>
              <a:t>1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3" action="ppaction://hlinksldjump"/>
              </a:rPr>
              <a:t>История по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4" action="ppaction://hlinksldjump"/>
              </a:rPr>
              <a:t>1.1 Чук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5" action="ppaction://hlinksldjump"/>
              </a:rPr>
              <a:t>1.2 Название по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6" action="ppaction://hlinksldjump"/>
              </a:rPr>
              <a:t>1.3 Распространение по миру и возвращение в Рос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7" action="ppaction://hlinksldjump"/>
              </a:rPr>
              <a:t>2 Фотоколле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8" action="ppaction://hlinksldjump"/>
              </a:rPr>
              <a:t>3  Графики сравн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9" action="ppaction://hlinksldjump"/>
              </a:rPr>
              <a:t>4 Авто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2050920" y="1487520"/>
          <a:ext cx="5040360" cy="53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487520"/>
                    <a:ext cx="5040360" cy="53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 txBox="1"/>
          <p:nvPr/>
        </p:nvSpPr>
        <p:spPr>
          <a:xfrm>
            <a:off x="1187280" y="333360"/>
            <a:ext cx="6697800" cy="115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ельность жизн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34080" y="63961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80640" y="646128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835280" y="1860480"/>
          <a:ext cx="612144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860480"/>
                    <a:ext cx="612144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 txBox="1"/>
          <p:nvPr/>
        </p:nvSpPr>
        <p:spPr>
          <a:xfrm>
            <a:off x="2195640" y="404640"/>
            <a:ext cx="4248000" cy="151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77000" y="64231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64720" y="64231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380360" y="616572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2160" y="522936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330033"/>
                </a:solidFill>
                <a:latin typeface="Times New Roman"/>
              </a:rPr>
              <a:t>УЧИТЕЛЬ ГЕОГРАФИИ: ПЛЮШКИНА Н.И</a:t>
            </a:r>
            <a:br>
              <a:rPr sz="1200"/>
            </a:br>
            <a:r>
              <a:rPr b="1" lang="ru-RU" sz="1200" spc="-1" strike="noStrike">
                <a:solidFill>
                  <a:srgbClr val="330033"/>
                </a:solidFill>
                <a:latin typeface="Times New Roman"/>
              </a:rPr>
              <a:t>УЧИТЕЛЬ ИНФОРМАТИКИ: СИЛКИНА Г.Т. </a:t>
            </a:r>
            <a:br>
              <a:rPr sz="1200"/>
            </a:br>
            <a:r>
              <a:rPr b="1" lang="ru-RU" sz="1200" spc="-1" strike="noStrike">
                <a:solidFill>
                  <a:srgbClr val="330033"/>
                </a:solidFill>
                <a:latin typeface="Times New Roman"/>
              </a:rPr>
              <a:t>Источник: Wikip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2160" y="29066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endshow"/>
          </p:cNvPr>
          <p:cNvSpPr/>
          <p:nvPr/>
        </p:nvSpPr>
        <p:spPr>
          <a:xfrm>
            <a:off x="7885080" y="6093000"/>
            <a:ext cx="479520" cy="534960"/>
          </a:xfrm>
          <a:custGeom>
            <a:avLst/>
            <a:gdLst>
              <a:gd name="textAreaLeft" fmla="*/ 30960 w 479520"/>
              <a:gd name="textAreaRight" fmla="*/ 448560 w 479520"/>
              <a:gd name="textAreaTop" fmla="*/ 30960 h 534960"/>
              <a:gd name="textAreaBottom" fmla="*/ 504000 h 534960"/>
            </a:gdLst>
            <a:ahLst/>
            <a:rect l="textAreaLeft" t="textAreaTop" r="textAreaRight" b="textAreaBottom"/>
            <a:pathLst>
              <a:path w="21600" h="24095">
                <a:moveTo>
                  <a:pt x="0" y="0"/>
                </a:moveTo>
                <a:lnTo>
                  <a:pt x="21600" y="0"/>
                </a:lnTo>
                <a:lnTo>
                  <a:pt x="21600" y="24095"/>
                </a:lnTo>
                <a:lnTo>
                  <a:pt x="0" y="24095"/>
                </a:lnTo>
                <a:close/>
              </a:path>
              <a:path fill="lightenLess" w="21600" h="24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95">
                <a:moveTo>
                  <a:pt x="21600" y="0"/>
                </a:moveTo>
                <a:lnTo>
                  <a:pt x="21600" y="24095"/>
                </a:lnTo>
                <a:lnTo>
                  <a:pt x="20200" y="22695"/>
                </a:lnTo>
                <a:lnTo>
                  <a:pt x="20200" y="1400"/>
                </a:lnTo>
                <a:close/>
              </a:path>
              <a:path fill="darkenLess" w="21600" h="24095">
                <a:moveTo>
                  <a:pt x="21600" y="24095"/>
                </a:moveTo>
                <a:lnTo>
                  <a:pt x="0" y="24095"/>
                </a:lnTo>
                <a:lnTo>
                  <a:pt x="1400" y="22695"/>
                </a:lnTo>
                <a:lnTo>
                  <a:pt x="20200" y="22695"/>
                </a:lnTo>
                <a:close/>
              </a:path>
              <a:path fill="lighten" w="21600" h="24095">
                <a:moveTo>
                  <a:pt x="0" y="24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95"/>
                </a:lnTo>
                <a:close/>
              </a:path>
              <a:path fill="darken" w="21600" h="24095">
                <a:moveTo>
                  <a:pt x="10800" y="5085"/>
                </a:moveTo>
                <a:lnTo>
                  <a:pt x="13376" y="7696"/>
                </a:lnTo>
                <a:lnTo>
                  <a:pt x="13376" y="5955"/>
                </a:lnTo>
                <a:lnTo>
                  <a:pt x="15152" y="5955"/>
                </a:lnTo>
                <a:lnTo>
                  <a:pt x="15152" y="9471"/>
                </a:lnTo>
                <a:lnTo>
                  <a:pt x="17763" y="12048"/>
                </a:lnTo>
                <a:lnTo>
                  <a:pt x="16109" y="12048"/>
                </a:lnTo>
                <a:lnTo>
                  <a:pt x="16109" y="19237"/>
                </a:lnTo>
                <a:lnTo>
                  <a:pt x="5491" y="19237"/>
                </a:lnTo>
                <a:lnTo>
                  <a:pt x="5491" y="12048"/>
                </a:lnTo>
                <a:lnTo>
                  <a:pt x="3837" y="12048"/>
                </a:lnTo>
                <a:close/>
              </a:path>
              <a:path fill="darkenLess" w="21600" h="24095">
                <a:moveTo>
                  <a:pt x="13376" y="7696"/>
                </a:moveTo>
                <a:lnTo>
                  <a:pt x="13376" y="5955"/>
                </a:lnTo>
                <a:lnTo>
                  <a:pt x="15152" y="5955"/>
                </a:lnTo>
                <a:lnTo>
                  <a:pt x="15152" y="9471"/>
                </a:lnTo>
                <a:close/>
              </a:path>
              <a:path fill="darkenLess" w="21600" h="24095">
                <a:moveTo>
                  <a:pt x="9877" y="15547"/>
                </a:moveTo>
                <a:lnTo>
                  <a:pt x="11723" y="15547"/>
                </a:lnTo>
                <a:lnTo>
                  <a:pt x="11723" y="19237"/>
                </a:lnTo>
                <a:lnTo>
                  <a:pt x="16109" y="19237"/>
                </a:lnTo>
                <a:lnTo>
                  <a:pt x="16109" y="12048"/>
                </a:lnTo>
                <a:lnTo>
                  <a:pt x="5491" y="12048"/>
                </a:lnTo>
                <a:lnTo>
                  <a:pt x="5491" y="19237"/>
                </a:lnTo>
                <a:lnTo>
                  <a:pt x="9877" y="19237"/>
                </a:lnTo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781360" y="253836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Выполнил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ученица 9 класс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Аблюзина Индир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МБОУ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«Березовская ООШ»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Оренбургской област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969840"/>
            <a:ext cx="9551880" cy="4235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9360" y="4292640"/>
            <a:ext cx="3779640" cy="2320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735520" y="6237360"/>
            <a:ext cx="21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881840" y="6340320"/>
            <a:ext cx="1438200" cy="6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11280" y="0"/>
            <a:ext cx="8064360" cy="49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Calibri"/>
              </a:rPr>
              <a:t>Чук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46c0a"/>
                </a:solidFill>
                <a:latin typeface="Calibri"/>
              </a:rPr>
              <a:t>Описание этой породы собак говорит о том, что эти животные впервые появились у чукчей. Было время, когда этому полукочевому племени нужно было расширить охотничьи территории, а для этого нужна была собака, способная быстро передвигаться на большие расстояния и перевозить груз от мест промысловой охоты к постоянным поселениям и обратно. Небольшой размер собак чукчи компенсировали большим размером типичной упряжки, насчитывающей 15—17 соб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46c0a"/>
                </a:solidFill>
                <a:latin typeface="Calibri"/>
              </a:rPr>
              <a:t>Собаки содержались чукчами непосредственно в жилищах, поэтому были выведены крайне неагрессивными к человеку и любящими возиться с детьми</a:t>
            </a:r>
            <a:r>
              <a:rPr b="1" i="1" lang="ru-RU" sz="2100" spc="-1" strike="noStrike">
                <a:solidFill>
                  <a:srgbClr val="e46c0a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240600" y="4726080"/>
            <a:ext cx="2903400" cy="2131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46240" y="6192720"/>
            <a:ext cx="3389400" cy="6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1343160"/>
            <a:ext cx="79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ермин «хаски» (искаженное «эски») изнача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означал эскимосов. Впоследствии это наз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крепилось за эскимосским хаски, или канад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лайкой — эскимосской охотничьей соба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то собаки с густой шерстью, острой морд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о стоячими ушами и загнутым хвос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огда первые представители чукот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обак прибыли в Северную Амери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ля отличия от эскимосских ха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х стали называть   сибирскими хас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это название сохранилось за ними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ей день.Дальнейшее улучшение гоноч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характери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17760" y="334800"/>
            <a:ext cx="6357960" cy="920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76960" y="2206800"/>
            <a:ext cx="3767040" cy="4651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303880" y="6248520"/>
            <a:ext cx="136512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42920" y="1582560"/>
            <a:ext cx="7489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Ездовой спорт не стоял на месте, и скорости сибирских хаски спортсменам уже не хватало. Этим путем стала метисация — смешение кровей лучших особей аборигенных ездовых пород, легавых и гончих пород собак и сибирского хаски. Полученные собаки оказались пригодны только к применению в ездовом спорте, зато они превзошли сибирских хаски по гоночным характеристикам. Сегодня их относят к отдельной «породе» — аляскинским хаски (не путать с аляскинским маламутом) — но эта «порода» не имеет стандарта и не признана МКФ, потому что является метисной группой, из-за чего собаки крайне разнотипны. Впрочем, спортсмены не хотят официального признания аляскинских хаски, потому что за этим последует неизбежное появление выставочной линии разведения породы, что отрицательно скажется на гоночных качествах собак. В настоящее время все победители аляскинских гонок ездят на упряжках, составленных именно из аляскинских хаски; каждый успешный спортсмен имеет свой «рецепт» создания лучших собак и хранит его в та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4560" y="638496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40464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м и выносливость ездовой собаки оказались невостребованы, когда Е. Сили и Лорна Б. Демидофф вывели голубоглазую яркого черно-белого окраса собаку, впечатлив тем самым судей и выиграв призы за лучшую в своей группе и лучшую собаку на выста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ейчас, в силу дружелюбности характера и прекрасного внешнего вида, сибирские хаски выставочного разведения отлично подходят в качестве собак-компаньонов даже для квартирного содержания. Именно в этом качестве они начали своё новое распространение по миру в 1970-х г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 России сибирские хаски появились фактически лишь после распада СССР. Первый российский питомник хаски — «Акулова гора» — завёз собак из Бельгии и Чехии лишь в 1995 году. На породной выставке в 1997 году участвовало уже 14 собак. В 2000 году РКФ зарегистрировала 139 щенков ха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1960" y="262080"/>
            <a:ext cx="8875800" cy="1749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365720" y="623736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41320" y="2498760"/>
            <a:ext cx="7716960" cy="153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24560" y="6391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64720" y="63961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920" y="333360"/>
            <a:ext cx="9182160" cy="612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118720" y="63961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3T09:53:57Z</dcterms:modified>
  <cp:revision>13</cp:revision>
  <dc:subject/>
  <dc:title>Презентация PowerPoint</dc:title>
</cp:coreProperties>
</file>