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B380-EFDF-481A-B399-9FB14BB1B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6F0E-D350-4B8E-B62C-92FFAA0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6CF7-530B-4A6D-9013-C88F502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997E-1863-4992-9470-C36B8EF47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192E-C89C-4547-9AD2-5001F4091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5F8FF-DBEA-4E29-B733-E96FA9F6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32715-CBE8-44F3-8D7E-69B0BA1E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DF0B-993A-4B7C-9D2E-EBEBE60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6C265-7567-4102-9C55-9EFB20C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C9B9-0FC1-4C5B-A2BB-9846BE9E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7C74-CDC7-45C4-ABEF-52DE77C9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7DE0-CAFA-4910-8F06-C60DBE3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D2A1D-96BE-4096-B806-5CA231D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8E8D-7115-4BBD-ADD1-52D5184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E2E0-0BB5-43B7-A6C7-1FF5B29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5D27A-2EE9-486B-A0C5-86223F7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B0467-C3B6-4BD5-8105-D83183D83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61E5-2763-42B6-A774-0F5B4D6E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82E8-3B58-48DE-BA97-4E5D705D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4D09-38F6-42BA-AAB1-531AAA97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C3A9-C85A-46DE-AB2E-E260083B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DC7B-B346-4298-A532-CA8B4F45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9B7D-396C-4B58-A4FB-169CCB4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51BA-97CC-45AE-B8C8-21BFBAB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6A59B9-1383-49BB-8BB9-833C1BFA3F4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3CBC33-CE33-4B75-A62A-AA146629B81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82520" y="-268200"/>
            <a:ext cx="7985160" cy="417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90840" y="2073240"/>
            <a:ext cx="467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37440" cy="676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064720" y="6307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5544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142480" y="64198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52560"/>
            <a:ext cx="8713800" cy="680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64720" y="63993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064720" y="63849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5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034840" y="63244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76520" y="-7920"/>
            <a:ext cx="46036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92400" y="6480"/>
            <a:ext cx="4755960" cy="685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965000" y="643716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480"/>
            <a:ext cx="6746760" cy="661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73920" y="6340320"/>
            <a:ext cx="225576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6000" y="90792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ф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а, ро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ительности жиз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аск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877000" y="63500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9360" y="644220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979640" y="1449360"/>
          <a:ext cx="561672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49360"/>
                    <a:ext cx="561672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3059280" y="476280"/>
            <a:ext cx="24476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172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55520" y="6488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4160" y="-30240"/>
            <a:ext cx="765036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90640" y="1584360"/>
            <a:ext cx="764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2" action="ppaction://hlinksldjump"/>
              </a:rPr>
              <a:t>1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3" action="ppaction://hlinksldjump"/>
              </a:rPr>
              <a:t>История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4" action="ppaction://hlinksldjump"/>
              </a:rPr>
              <a:t>1.1 Чук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5" action="ppaction://hlinksldjump"/>
              </a:rPr>
              <a:t>1.2 Названи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6" action="ppaction://hlinksldjump"/>
              </a:rPr>
              <a:t>1.3 Распространение по миру и возвращение в Ро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7" action="ppaction://hlinksldjump"/>
              </a:rPr>
              <a:t>2 Фотоколле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8" action="ppaction://hlinksldjump"/>
              </a:rPr>
              <a:t>3  Графики сравн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alibri"/>
                <a:hlinkClick r:id="rId9" action="ppaction://hlinksldjump"/>
              </a:rPr>
              <a:t>4 Авт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050920" y="1487520"/>
          <a:ext cx="504036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487520"/>
                    <a:ext cx="504036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 txBox="1"/>
          <p:nvPr/>
        </p:nvSpPr>
        <p:spPr>
          <a:xfrm>
            <a:off x="1187280" y="33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жиз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6396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80640" y="64612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835280" y="1860480"/>
          <a:ext cx="6121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60480"/>
                    <a:ext cx="6121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 txBox="1"/>
          <p:nvPr/>
        </p:nvSpPr>
        <p:spPr>
          <a:xfrm>
            <a:off x="2195640" y="404640"/>
            <a:ext cx="4248000" cy="15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77000" y="64231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64720" y="6423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380360" y="61657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2160" y="522936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ГЕОГРАФИИ: ПЛЮШКИНА Н.И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УЧИТЕЛЬ ИНФОРМАТИКИ: СИЛКИНА Г.Т. </a:t>
            </a:r>
            <a:br>
              <a:rPr sz="1200"/>
            </a:br>
            <a:r>
              <a:rPr b="1" lang="ru-RU" sz="1200" spc="-1" strike="noStrike">
                <a:solidFill>
                  <a:srgbClr val="330033"/>
                </a:solidFill>
                <a:latin typeface="Times New Roman"/>
              </a:rPr>
              <a:t>Источник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7885080" y="6093000"/>
            <a:ext cx="479520" cy="534960"/>
          </a:xfrm>
          <a:custGeom>
            <a:avLst/>
            <a:gdLst>
              <a:gd name="textAreaLeft" fmla="*/ 30960 w 479520"/>
              <a:gd name="textAreaRight" fmla="*/ 448560 w 479520"/>
              <a:gd name="textAreaTop" fmla="*/ 30960 h 534960"/>
              <a:gd name="textAreaBottom" fmla="*/ 504000 h 534960"/>
            </a:gdLst>
            <a:ahLst/>
            <a:rect l="textAreaLeft" t="textAreaTop" r="textAreaRight" b="textAreaBottom"/>
            <a:pathLst>
              <a:path w="21600" h="24095">
                <a:moveTo>
                  <a:pt x="0" y="0"/>
                </a:moveTo>
                <a:lnTo>
                  <a:pt x="21600" y="0"/>
                </a:lnTo>
                <a:lnTo>
                  <a:pt x="21600" y="24095"/>
                </a:lnTo>
                <a:lnTo>
                  <a:pt x="0" y="24095"/>
                </a:lnTo>
                <a:close/>
              </a:path>
              <a:path fill="lightenLess" w="21600" h="24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95">
                <a:moveTo>
                  <a:pt x="21600" y="0"/>
                </a:moveTo>
                <a:lnTo>
                  <a:pt x="21600" y="24095"/>
                </a:lnTo>
                <a:lnTo>
                  <a:pt x="20200" y="22695"/>
                </a:lnTo>
                <a:lnTo>
                  <a:pt x="20200" y="1400"/>
                </a:lnTo>
                <a:close/>
              </a:path>
              <a:path fill="darkenLess" w="21600" h="24095">
                <a:moveTo>
                  <a:pt x="21600" y="24095"/>
                </a:moveTo>
                <a:lnTo>
                  <a:pt x="0" y="24095"/>
                </a:lnTo>
                <a:lnTo>
                  <a:pt x="1400" y="22695"/>
                </a:lnTo>
                <a:lnTo>
                  <a:pt x="20200" y="22695"/>
                </a:lnTo>
                <a:close/>
              </a:path>
              <a:path fill="lighten" w="21600" h="24095">
                <a:moveTo>
                  <a:pt x="0" y="24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95"/>
                </a:lnTo>
                <a:close/>
              </a:path>
              <a:path fill="darken" w="21600" h="24095">
                <a:moveTo>
                  <a:pt x="10800" y="5085"/>
                </a:moveTo>
                <a:lnTo>
                  <a:pt x="13376" y="7696"/>
                </a:ln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lnTo>
                  <a:pt x="17763" y="12048"/>
                </a:lnTo>
                <a:lnTo>
                  <a:pt x="16109" y="12048"/>
                </a:lnTo>
                <a:lnTo>
                  <a:pt x="16109" y="19237"/>
                </a:lnTo>
                <a:lnTo>
                  <a:pt x="5491" y="19237"/>
                </a:lnTo>
                <a:lnTo>
                  <a:pt x="5491" y="12048"/>
                </a:lnTo>
                <a:lnTo>
                  <a:pt x="3837" y="12048"/>
                </a:lnTo>
                <a:close/>
              </a:path>
              <a:path fill="darkenLess" w="21600" h="24095">
                <a:moveTo>
                  <a:pt x="13376" y="7696"/>
                </a:moveTo>
                <a:lnTo>
                  <a:pt x="13376" y="5955"/>
                </a:lnTo>
                <a:lnTo>
                  <a:pt x="15152" y="5955"/>
                </a:lnTo>
                <a:lnTo>
                  <a:pt x="15152" y="9471"/>
                </a:lnTo>
                <a:close/>
              </a:path>
              <a:path fill="darkenLess" w="21600" h="24095">
                <a:moveTo>
                  <a:pt x="9877" y="15547"/>
                </a:moveTo>
                <a:lnTo>
                  <a:pt x="11723" y="15547"/>
                </a:lnTo>
                <a:lnTo>
                  <a:pt x="11723" y="19237"/>
                </a:lnTo>
                <a:lnTo>
                  <a:pt x="16109" y="19237"/>
                </a:lnTo>
                <a:lnTo>
                  <a:pt x="16109" y="12048"/>
                </a:lnTo>
                <a:lnTo>
                  <a:pt x="5491" y="12048"/>
                </a:lnTo>
                <a:lnTo>
                  <a:pt x="5491" y="19237"/>
                </a:lnTo>
                <a:lnTo>
                  <a:pt x="9877" y="19237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81360" y="2538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полнил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ученица 9 класс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блюзина Индир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БОУ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«Березовская ООШ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ренбургской област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969840"/>
            <a:ext cx="9551880" cy="423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9360" y="4292640"/>
            <a:ext cx="3779640" cy="2320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35520" y="623736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81840" y="6340320"/>
            <a:ext cx="14382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0"/>
            <a:ext cx="80643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Чук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Описание этой породы собак говорит о том, что эти животные впервые появились у чукчей. Было время, когда этому полукочевому племени нужно было расширить охотничьи территории, а для этого нужна была собака, способная быстро передвигаться на большие расстояния и перевозить груз от мест промысловой охоты к постоянным поселениям и обратно. Небольшой размер собак чукчи компенсировали большим размером типичной упряжки, насчитывающей 15—17 со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Calibri"/>
              </a:rPr>
              <a:t>Собаки содержались чукчами непосредственно в жилищах, поэтому были выведены крайне неагрессивными к человеку и любящими возиться с детьми</a:t>
            </a:r>
            <a:r>
              <a:rPr b="1" i="1" lang="ru-RU" sz="21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40600" y="4726080"/>
            <a:ext cx="2903400" cy="21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6240" y="6192720"/>
            <a:ext cx="33894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34316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рмин «хаски» (искаженное «эски») изнач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означал эскимосов. Впоследствии это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репилось за эскимосским хаски, или канад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айкой — эскимосской охотничьей соба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обаки с густой шерстью, острой мор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 стоячими ушами и загнутым хво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гда первые представители чукот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бак прибыли в Северную Амери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отличия от эскимосских ха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х стали называть   сибирскими х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это название сохранилось за ним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 день.Дальнейшее улучшение гоно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7760" y="334800"/>
            <a:ext cx="6357960" cy="92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76960" y="2206800"/>
            <a:ext cx="3767040" cy="465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03880" y="6248520"/>
            <a:ext cx="1365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1582560"/>
            <a:ext cx="748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Ездовой спорт не стоял на месте, и скорости сибирских хаски спортсменам уже не хватало. Этим путем стала метисация — смешение кровей лучших особей аборигенных ездовых пород, легавых и гончих пород собак и сибирского хаски. Полученные собаки оказались пригодны только к применению в ездовом спорте, зато они превзошли сибирских хаски по гоночным характеристикам. Сегодня их относят к отдельной «породе» — аляскинским хаски (не путать с аляскинским маламутом) — но эта «порода» не имеет стандарта и не признана МКФ, потому что является метисной группой, из-за чего собаки крайне разнотипны. Впрочем, спортсмены не хотят официального признания аляскинских хаски, потому что за этим последует неизбежное появление выставочной линии разведения породы, что отрицательно скажется на гоночных качествах собак. В настоящее время все победители аляскинских гонок ездят на упряжках, составленных именно из аляскинских хаски; каждый успешный спортсмен имеет свой «рецепт» создания лучших собак и хранит его в та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4560" y="63849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40464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м и выносливость ездовой собаки оказались невостребованы, когда Е. Сили и Лорна Б. Демидофф вывели голубоглазую яркого черно-белого окраса собаку, впечатлив тем самым судей и выиграв призы за лучшую в своей группе и лучшую собаку на выст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йчас, в силу дружелюбности характера и прекрасного внешнего вида, сибирские хаски выставочного разведения отлично подходят в качестве собак-компаньонов даже для квартирного содержания. Именно в этом качестве они начали своё новое распространение по миру в 1970-х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России сибирские хаски появились фактически лишь после распада СССР. Первый российский питомник хаски — «Акулова гора» — завёз собак из Бельгии и Чехии лишь в 1995 году. На породной выставке в 1997 году участвовало уже 14 собак. В 2000 году РКФ зарегистрировала 139 щенков х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960" y="262080"/>
            <a:ext cx="8875800" cy="174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65720" y="62373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1320" y="2498760"/>
            <a:ext cx="7716960" cy="153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24560" y="63914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64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182160" cy="612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18720" y="6396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3T09:53:57Z</dcterms:modified>
  <cp:revision>13</cp:revision>
  <dc:subject/>
  <dc:title>Презентация PowerPoint</dc:title>
</cp:coreProperties>
</file>