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8ADC-1A34-4EB2-8C98-160A0B2CC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A978-757F-4C68-9433-C3065AB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882A-3736-4710-8112-BFE83B9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3C49-7766-4C32-8FA0-65C50E38C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F946-BBE9-4A8A-91A6-3DF04D1A4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822F9-9FDF-454C-A3D7-B6C0A91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7FF97-C918-483F-80AB-BBF896B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EEC7E-D9DD-40EF-A702-5D967A8A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AB1F8-3FA5-4F37-80F0-2DC64470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094C-0FCA-4047-8B1C-9583B2CE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AAE70-A5B3-4360-B66F-F869DBF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6E6A-6136-4D24-9925-A3D4816E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4FC7A-C4C1-4C43-ABCB-E270256B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38E7B-AC01-43B1-A5BB-49B51DB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C83C1-D4C4-4709-BB57-ABCE70C3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06983-CA6C-4857-85F1-6D2FEEC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07A9-B959-4B29-97F4-0D7E5C6E7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7DB8-557D-48E8-BAA0-26B9A366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503E-BD23-4B87-A10B-0554052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FC2B-22F5-4446-B01E-E25CB9B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67B5-7395-4486-A895-969191B5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F4AE-C7D2-4AA5-8573-A8A588B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09E1-C01F-4466-AA22-F3FF36B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F0BE-DFB9-43F0-990C-370C1DC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5BC49D-779C-430C-B6E4-A6ED7AE9641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D9ACC7-13E7-4771-B686-8323B3617E9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82520" y="-268200"/>
            <a:ext cx="7985160" cy="417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90840" y="2073240"/>
            <a:ext cx="467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37440" cy="676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064720" y="6307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5544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142480" y="64198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52560"/>
            <a:ext cx="8713800" cy="680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64720" y="63993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064720" y="63849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5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034840" y="63244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76520" y="-7920"/>
            <a:ext cx="46036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2400" y="6480"/>
            <a:ext cx="4755960" cy="685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965000" y="64371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480"/>
            <a:ext cx="6746760" cy="661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73920" y="6340320"/>
            <a:ext cx="225576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6000" y="90792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ф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а, ро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ительности жиз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аск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877000" y="63500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9360" y="6442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979640" y="1449360"/>
          <a:ext cx="561672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49360"/>
                    <a:ext cx="561672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3059280" y="476280"/>
            <a:ext cx="24476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172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55520" y="6488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4160" y="-30240"/>
            <a:ext cx="765036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90640" y="1584360"/>
            <a:ext cx="764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2" action="ppaction://hlinksldjump"/>
              </a:rPr>
              <a:t>1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3" action="ppaction://hlinksldjump"/>
              </a:rPr>
              <a:t>История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4" action="ppaction://hlinksldjump"/>
              </a:rPr>
              <a:t>1.1 Чук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5" action="ppaction://hlinksldjump"/>
              </a:rPr>
              <a:t>1.2 Названи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6" action="ppaction://hlinksldjump"/>
              </a:rPr>
              <a:t>1.3 Распространение по миру и возвращение в Ро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7" action="ppaction://hlinksldjump"/>
              </a:rPr>
              <a:t>2 Фотоколле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8" action="ppaction://hlinksldjump"/>
              </a:rPr>
              <a:t>3  Графики с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9" action="ppaction://hlinksldjump"/>
              </a:rPr>
              <a:t>4 Авт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050920" y="1487520"/>
          <a:ext cx="504036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87520"/>
                    <a:ext cx="504036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 txBox="1"/>
          <p:nvPr/>
        </p:nvSpPr>
        <p:spPr>
          <a:xfrm>
            <a:off x="1187280" y="33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жиз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80640" y="6461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835280" y="1860480"/>
          <a:ext cx="6121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60480"/>
                    <a:ext cx="6121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 txBox="1"/>
          <p:nvPr/>
        </p:nvSpPr>
        <p:spPr>
          <a:xfrm>
            <a:off x="2195640" y="404640"/>
            <a:ext cx="4248000" cy="15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77000" y="6423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64720" y="6423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380360" y="61657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2160" y="522936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ГЕОГРАФИИ: ПЛЮШКИНА Н.И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ИНФОРМАТИКИ: СИЛКИНА Г.Т. 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Источник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7885080" y="6093000"/>
            <a:ext cx="479520" cy="534960"/>
          </a:xfrm>
          <a:custGeom>
            <a:avLst/>
            <a:gdLst>
              <a:gd name="textAreaLeft" fmla="*/ 30960 w 479520"/>
              <a:gd name="textAreaRight" fmla="*/ 448560 w 479520"/>
              <a:gd name="textAreaTop" fmla="*/ 30960 h 534960"/>
              <a:gd name="textAreaBottom" fmla="*/ 504000 h 534960"/>
            </a:gdLst>
            <a:ahLst/>
            <a:rect l="textAreaLeft" t="textAreaTop" r="textAreaRight" b="textAreaBottom"/>
            <a:pathLst>
              <a:path w="21600" h="24095">
                <a:moveTo>
                  <a:pt x="0" y="0"/>
                </a:moveTo>
                <a:lnTo>
                  <a:pt x="21600" y="0"/>
                </a:lnTo>
                <a:lnTo>
                  <a:pt x="21600" y="24095"/>
                </a:lnTo>
                <a:lnTo>
                  <a:pt x="0" y="24095"/>
                </a:lnTo>
                <a:close/>
              </a:path>
              <a:path fill="lightenLess" w="21600" h="24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95">
                <a:moveTo>
                  <a:pt x="21600" y="0"/>
                </a:moveTo>
                <a:lnTo>
                  <a:pt x="21600" y="24095"/>
                </a:lnTo>
                <a:lnTo>
                  <a:pt x="20200" y="22695"/>
                </a:lnTo>
                <a:lnTo>
                  <a:pt x="20200" y="1400"/>
                </a:lnTo>
                <a:close/>
              </a:path>
              <a:path fill="darkenLess" w="21600" h="24095">
                <a:moveTo>
                  <a:pt x="21600" y="24095"/>
                </a:moveTo>
                <a:lnTo>
                  <a:pt x="0" y="24095"/>
                </a:lnTo>
                <a:lnTo>
                  <a:pt x="1400" y="22695"/>
                </a:lnTo>
                <a:lnTo>
                  <a:pt x="20200" y="22695"/>
                </a:lnTo>
                <a:close/>
              </a:path>
              <a:path fill="lighten" w="21600" h="24095">
                <a:moveTo>
                  <a:pt x="0" y="24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95"/>
                </a:lnTo>
                <a:close/>
              </a:path>
              <a:path fill="darken" w="21600" h="24095">
                <a:moveTo>
                  <a:pt x="10800" y="5085"/>
                </a:moveTo>
                <a:lnTo>
                  <a:pt x="13376" y="7696"/>
                </a:ln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lnTo>
                  <a:pt x="17763" y="12048"/>
                </a:lnTo>
                <a:lnTo>
                  <a:pt x="16109" y="12048"/>
                </a:lnTo>
                <a:lnTo>
                  <a:pt x="16109" y="19237"/>
                </a:lnTo>
                <a:lnTo>
                  <a:pt x="5491" y="19237"/>
                </a:lnTo>
                <a:lnTo>
                  <a:pt x="5491" y="12048"/>
                </a:lnTo>
                <a:lnTo>
                  <a:pt x="3837" y="12048"/>
                </a:lnTo>
                <a:close/>
              </a:path>
              <a:path fill="darkenLess" w="21600" h="24095">
                <a:moveTo>
                  <a:pt x="13376" y="7696"/>
                </a:move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close/>
              </a:path>
              <a:path fill="darkenLess" w="21600" h="24095">
                <a:moveTo>
                  <a:pt x="9877" y="15547"/>
                </a:moveTo>
                <a:lnTo>
                  <a:pt x="11723" y="15547"/>
                </a:lnTo>
                <a:lnTo>
                  <a:pt x="11723" y="19237"/>
                </a:lnTo>
                <a:lnTo>
                  <a:pt x="16109" y="19237"/>
                </a:lnTo>
                <a:lnTo>
                  <a:pt x="16109" y="12048"/>
                </a:lnTo>
                <a:lnTo>
                  <a:pt x="5491" y="12048"/>
                </a:lnTo>
                <a:lnTo>
                  <a:pt x="5491" y="19237"/>
                </a:lnTo>
                <a:lnTo>
                  <a:pt x="9877" y="19237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81360" y="2538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полнил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ученица 9 класс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блюзина Индир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БОУ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«Березовская ООШ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ренбургской област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969840"/>
            <a:ext cx="9551880" cy="423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9360" y="4292640"/>
            <a:ext cx="3779640" cy="2320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35520" y="623736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81840" y="6340320"/>
            <a:ext cx="14382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0"/>
            <a:ext cx="80643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Чук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Описание этой породы собак говорит о том, что эти животные впервые появились у чукчей. Было время, когда этому полукочевому племени нужно было расширить охотничьи территории, а для этого нужна была собака, способная быстро передвигаться на большие расстояния и перевозить груз от мест промысловой охоты к постоянным поселениям и обратно. Небольшой размер собак чукчи компенсировали большим размером типичной упряжки, насчитывающей 15—17 со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Собаки содержались чукчами непосредственно в жилищах, поэтому были выведены крайне неагрессивными к человеку и любящими возиться с детьми</a:t>
            </a:r>
            <a:r>
              <a:rPr b="1" i="1" lang="ru-RU" sz="21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40600" y="4726080"/>
            <a:ext cx="2903400" cy="21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6240" y="6192720"/>
            <a:ext cx="33894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34316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рмин «хаски» (искаженное «эски») изнач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означал эскимосов. Впоследствии это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репилось за эскимосским хаски, или канад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айкой — эскимосской охотничьей соба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обаки с густой шерстью, острой мор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 стоячими ушами и загнутым хво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гда первые представители чукот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бак прибыли в Северную Амери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отличия от эскимосских ха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х стали называть   сибирскими х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это название сохранилось за ним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 день.Дальнейшее улучшение гоно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7760" y="334800"/>
            <a:ext cx="6357960" cy="92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76960" y="2206800"/>
            <a:ext cx="3767040" cy="465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03880" y="6248520"/>
            <a:ext cx="1365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1582560"/>
            <a:ext cx="748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Ездовой спорт не стоял на месте, и скорости сибирских хаски спортсменам уже не хватало. Этим путем стала метисация — смешение кровей лучших особей аборигенных ездовых пород, легавых и гончих пород собак и сибирского хаски. Полученные собаки оказались пригодны только к применению в ездовом спорте, зато они превзошли сибирских хаски по гоночным характеристикам. Сегодня их относят к отдельной «породе» — аляскинским хаски (не путать с аляскинским маламутом) — но эта «порода» не имеет стандарта и не признана МКФ, потому что является метисной группой, из-за чего собаки крайне разнотипны. Впрочем, спортсмены не хотят официального признания аляскинских хаски, потому что за этим последует неизбежное появление выставочной линии разведения породы, что отрицательно скажется на гоночных качествах собак. В настоящее время все победители аляскинских гонок ездят на упряжках, составленных именно из аляскинских хаски; каждый успешный спортсмен имеет свой «рецепт» создания лучших собак и хранит его в та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4560" y="63849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40464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м и выносливость ездовой собаки оказались невостребованы, когда Е. Сили и Лорна Б. Демидофф вывели голубоглазую яркого черно-белого окраса собаку, впечатлив тем самым судей и выиграв призы за лучшую в своей группе и лучшую собаку на выст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час, в силу дружелюбности характера и прекрасного внешнего вида, сибирские хаски выставочного разведения отлично подходят в качестве собак-компаньонов даже для квартирного содержания. Именно в этом качестве они начали своё новое распространение по миру в 1970-х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России сибирские хаски появились фактически лишь после распада СССР. Первый российский питомник хаски — «Акулова гора» — завёз собак из Бельгии и Чехии лишь в 1995 году. На породной выставке в 1997 году участвовало уже 14 собак. В 2000 году РКФ зарегистрировала 139 щенков х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960" y="262080"/>
            <a:ext cx="8875800" cy="174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65720" y="62373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320" y="2498760"/>
            <a:ext cx="7716960" cy="153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24560" y="6391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182160" cy="612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18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3T09:53:57Z</dcterms:modified>
  <cp:revision>13</cp:revision>
  <dc:subject/>
  <dc:title>Презентация PowerPoint</dc:title>
</cp:coreProperties>
</file>