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BC54-0E5D-459B-BB68-6B81352F560F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BE1-7F98-4932-99AB-DFC2642EFD43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F83D-E10B-40A6-9F2C-D2938ED618FC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26D-8847-4A72-B96E-76B0B6B9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72C-A76E-488B-AF67-5B807EDB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669-A4D4-4587-9340-8B74B8D3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DCD-63F3-4311-95B0-7D504F92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DEA-4831-46FD-9BE2-EE0484BB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DA1-4268-4169-A2BB-372DA303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9B3-F68E-4DA4-A270-87B76EE3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D5C-8FB3-44FC-B8F6-BDD69858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813-8F04-479B-85A3-57119BD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9D6-9ED4-46C1-831C-04ED69CB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496-62DB-46B9-887C-811655F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893-B3EA-4E71-86CD-5FF7E71B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F63D-139E-479E-8BA5-E9C0F6B2E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Город Кёльн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3860280"/>
            <a:ext cx="38988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емецкого языка МОУ СОШ №45 г. Волгог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ещагина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edi in red.mp3" descr=""/>
          <p:cNvPicPr/>
          <p:nvPr/>
        </p:nvPicPr>
        <p:blipFill>
          <a:blip r:embed="rId1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47520">
            <a:solidFill>
              <a:srgbClr val="f1f9f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Picture 7" descr="Герб"/>
          <p:cNvPicPr/>
          <p:nvPr/>
        </p:nvPicPr>
        <p:blipFill>
          <a:blip r:embed="rId2"/>
          <a:stretch/>
        </p:blipFill>
        <p:spPr>
          <a:xfrm>
            <a:off x="1500120" y="3214800"/>
            <a:ext cx="240192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еверный Кёльн, Церковь Св. Кунибе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250px-St_Kunibert_Koeln"/>
          <p:cNvPicPr/>
          <p:nvPr/>
        </p:nvPicPr>
        <p:blipFill>
          <a:blip r:embed="rId1"/>
          <a:stretch/>
        </p:blipFill>
        <p:spPr>
          <a:xfrm>
            <a:off x="468360" y="1373040"/>
            <a:ext cx="8209080" cy="54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площади Хлодвига выс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хранившиеся мощные средневек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родски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еверинстор, датируемые 1200 г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ворота Ханен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влялись ча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род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ены (1180 год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250px-K%C3%B6ln_Hahnentor_um_1900"/>
          <p:cNvPicPr/>
          <p:nvPr/>
        </p:nvPicPr>
        <p:blipFill>
          <a:blip r:embed="rId2"/>
          <a:stretch/>
        </p:blipFill>
        <p:spPr>
          <a:xfrm>
            <a:off x="3925800" y="3017880"/>
            <a:ext cx="521820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ёльнский городской музей в оружейной палат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80px-K%C3%B6ln_Zeughaus"/>
          <p:cNvPicPr/>
          <p:nvPr/>
        </p:nvPicPr>
        <p:blipFill>
          <a:blip r:embed="rId2"/>
          <a:stretch/>
        </p:blipFill>
        <p:spPr>
          <a:xfrm>
            <a:off x="1785960" y="2571840"/>
            <a:ext cx="5113440" cy="37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86040" y="-360"/>
            <a:ext cx="3008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арк    фл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6760" y="92880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елёный Кёльн - Парк флоры, Ботанический сад и Зоопарк. Местами постоянно притягивающими посетителей. Настоящий рай для больших и маленьких. Кёльнский Зоопарк по количеству животных (более 60.000.) Великолепный садовый ресторан "Флора " стал центром общественной жизни в Кёль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6" descr="http://www.germany-koeln.net/our_city/115554956620060814.jpg"/>
          <p:cNvPicPr/>
          <p:nvPr/>
        </p:nvPicPr>
        <p:blipFill>
          <a:blip r:embed="rId2"/>
          <a:stretch/>
        </p:blipFill>
        <p:spPr>
          <a:xfrm>
            <a:off x="3429000" y="1643040"/>
            <a:ext cx="556560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Кёльн – побратим Волгогра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11" descr="Koln_Church"/>
          <p:cNvPicPr/>
          <p:nvPr/>
        </p:nvPicPr>
        <p:blipFill>
          <a:blip r:embed="rId2"/>
          <a:stretch/>
        </p:blipFill>
        <p:spPr>
          <a:xfrm>
            <a:off x="5286240" y="1500120"/>
            <a:ext cx="3571920" cy="421488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15" descr="E:\Картинки\Волгоград\GALL030.JPG"/>
          <p:cNvPicPr/>
          <p:nvPr/>
        </p:nvPicPr>
        <p:blipFill>
          <a:blip r:embed="rId3"/>
          <a:stretch/>
        </p:blipFill>
        <p:spPr>
          <a:xfrm>
            <a:off x="571680" y="2357280"/>
            <a:ext cx="4495680" cy="32245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919440" y="57862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лгоград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5908680" y="6000840"/>
            <a:ext cx="16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ёльн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5920" y="1643040"/>
            <a:ext cx="59292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ёльн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– один из самых притягательных и красивых городов Германии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Источни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642680"/>
            <a:ext cx="62150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ru.wikipedia.org/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www.germanyclub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www.chaika.ru/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drevo.pravbeseda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c8c93"/>
                </a:solidFill>
                <a:uFillTx/>
                <a:latin typeface="Arial"/>
              </a:rPr>
              <a:t>http// www.chaika.ru/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6" descr="6.gif"/>
          <p:cNvPicPr/>
          <p:nvPr/>
        </p:nvPicPr>
        <p:blipFill>
          <a:blip r:embed="rId1"/>
          <a:stretch/>
        </p:blipFill>
        <p:spPr>
          <a:xfrm>
            <a:off x="6643800" y="3929040"/>
            <a:ext cx="2206440" cy="2463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47520">
            <a:solidFill>
              <a:srgbClr val="f1f9f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4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арта Герма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img-0130-0000.jpg"/>
          <p:cNvPicPr/>
          <p:nvPr/>
        </p:nvPicPr>
        <p:blipFill>
          <a:blip r:embed="rId1"/>
          <a:stretch/>
        </p:blipFill>
        <p:spPr>
          <a:xfrm>
            <a:off x="1143000" y="785880"/>
            <a:ext cx="7215120" cy="564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Кёль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ёльн находится на западе Германии, в регионе Северный Рейн - Вестфалия. Город расположен на берегу Рейна, чуть южнее Дюссельдорфа и севернее Бон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Герб"/>
          <p:cNvPicPr/>
          <p:nvPr/>
        </p:nvPicPr>
        <p:blipFill>
          <a:blip r:embed="rId2"/>
          <a:stretch/>
        </p:blipFill>
        <p:spPr>
          <a:xfrm>
            <a:off x="5867280" y="2997360"/>
            <a:ext cx="2401920" cy="288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440680" y="21708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5" descr="flag.gif"/>
          <p:cNvPicPr/>
          <p:nvPr/>
        </p:nvPicPr>
        <p:blipFill>
          <a:blip r:embed="rId1"/>
          <a:stretch/>
        </p:blipFill>
        <p:spPr>
          <a:xfrm>
            <a:off x="3786120" y="3357720"/>
            <a:ext cx="5145120" cy="3087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8400" y="-36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звание "Кельн" произошло от слова на латыни Colonia.               В оригинале римский город,                                                                    с которого начиналась история Кельна,                                                         назывался                                                                                                Colonia Claudia Ara Agrippinensium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ород был богатым и стремительно развивалс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норама центральной части Кёль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800px-Panorama_cologne_20050114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57120" y="1599840"/>
            <a:ext cx="8329680" cy="4614840"/>
          </a:xfrm>
          <a:prstGeom prst="rect">
            <a:avLst/>
          </a:prstGeom>
          <a:solidFill>
            <a:srgbClr val="ccffff">
              <a:alpha val="1000"/>
            </a:srgbClr>
          </a:solidFill>
          <a:ln w="9360">
            <a:solidFill>
              <a:srgbClr val="e7e8b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иод рассвета Кёльна – это XII – XIII вв. В это время здесь строятся церкви и храмы в римском стиле, а в сам «Святой Кёльн» (Heiliger Koeln) приезжают люди со всего света. Это место становится важным церковным и культурным цент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ёльнский собо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лавная достопримечательность города — это, безусловно, Кёльнский собор Пресвятой Богородицы и Святого Петра. Он чудом уцелел в войне, выдержав прямое попадание 3 бомб и сегодня является одним из немногих сохранившихся в оригинале храмов 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250px-Koelner_Dom"/>
          <p:cNvPicPr/>
          <p:nvPr/>
        </p:nvPicPr>
        <p:blipFill>
          <a:blip r:embed="rId1"/>
          <a:stretch/>
        </p:blipFill>
        <p:spPr>
          <a:xfrm>
            <a:off x="5364000" y="1457280"/>
            <a:ext cx="300060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рические и архитектурные памятн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роме собора к числу самых значимых достопримечательностей города относятся 12 романских церквей. Наиболее интересны церкви Бол. Святого Мартина, Святого Гереона, Св. 12 Апостолов, Святой Марии на Капитолии, Святого Пантелеймона и Святой Урсу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6f6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Церковь Св. Мартина и Рыбный рын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250px-Fischmarkt"/>
          <p:cNvPicPr/>
          <p:nvPr/>
        </p:nvPicPr>
        <p:blipFill>
          <a:blip r:embed="rId1"/>
          <a:stretch/>
        </p:blipFill>
        <p:spPr>
          <a:xfrm>
            <a:off x="826920" y="1492200"/>
            <a:ext cx="6985080" cy="53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6:44:32Z</dcterms:created>
  <dc:creator>PC</dc:creator>
  <dc:description/>
  <dc:language>en-US</dc:language>
  <cp:lastModifiedBy>Admin</cp:lastModifiedBy>
  <dcterms:modified xsi:type="dcterms:W3CDTF">2012-07-16T13:49:57Z</dcterms:modified>
  <cp:revision>39</cp:revision>
  <dc:subject/>
  <dc:title>Город Кёльн.</dc:title>
</cp:coreProperties>
</file>