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179-63A7-4B9D-B86A-C6E5A301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9C1-DB2F-43DD-94AE-CFD1A4A8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F1D-B691-47D4-8BFB-6EDF97AF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368-D88C-41EA-88A0-EF403A09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7E68-CC96-4634-A048-B541A37B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0277-F134-482D-9E40-2E565BDB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96F1-2B67-4F8D-A8AA-DD9FC2D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A979-B9AA-4E64-95E2-D6246572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1764-7046-4B3F-A818-130E35EF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FBB-553C-484D-80C4-3DFA0B04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02B-C20E-4264-A651-5F7D65A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BE7-9D1C-4C21-BB7E-869B2BF3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142B-3C18-4CD2-BAAF-CE4407D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DF38-473A-4E0B-9D1B-95D6D48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68AD-2993-4A91-AFF7-9487193E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1738-CA40-41D4-9D40-5991B5CE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FF96-6365-4B10-A357-E237DD0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4A9-9BF4-422C-B830-5317354E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05-4A3C-43D7-BC17-A958C81E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937-7936-4BA4-A106-6F39539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508-86D4-4531-91E4-5800A39D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121-88C0-499D-9348-5151E571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DA7-4BFE-4816-8C3A-5852BD2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166-99CF-4194-A84A-4C92929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DC92-A3B1-4EF9-B0C6-9F2A553B56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FDCF-5878-49D1-892B-ADC32FF9CFB9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7" descr="облепиха"/>
          <p:cNvPicPr/>
          <p:nvPr/>
        </p:nvPicPr>
        <p:blipFill>
          <a:blip r:embed="rId1"/>
          <a:stretch/>
        </p:blipFill>
        <p:spPr>
          <a:xfrm>
            <a:off x="3419640" y="1773360"/>
            <a:ext cx="3671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плющ"/>
          <p:cNvPicPr/>
          <p:nvPr/>
        </p:nvPicPr>
        <p:blipFill>
          <a:blip r:embed="rId1"/>
          <a:stretch/>
        </p:blipFill>
        <p:spPr>
          <a:xfrm>
            <a:off x="3348000" y="765000"/>
            <a:ext cx="3495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Николай</cp:lastModifiedBy>
  <dcterms:modified xsi:type="dcterms:W3CDTF">2013-01-23T12:52:21Z</dcterms:modified>
  <cp:revision>24</cp:revision>
  <dc:subject/>
  <dc:title>Слайд 1</dc:title>
</cp:coreProperties>
</file>