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4CF-F399-4804-B9A4-0483416E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8DD-7DF1-4955-AE06-3F5EB4F8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35D-97ED-48F9-9313-DABA1316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53D-F597-4574-9D1C-AEBD8A74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3C59-1E45-40A0-AA6F-7EDECF8F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F5E3-DFC4-4C19-81E7-64D5BBB0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AAD5-9CD2-4AF7-9418-654E424D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B3E3-398A-4CDC-94E2-563D8C94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8997-501D-4D60-A9E9-63DFD534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84E2-31BA-4506-8428-A33BD9DD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B73E-B996-414B-82AC-0769FD58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DAE-F9D8-487A-BFA8-6A8285F0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E607-7B7A-493B-8555-D584903E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A643-E5AA-44B2-8744-DC0955F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066A-0BB4-4FB5-93DA-104536D8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578A-B219-4913-8536-8650B2D7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7842-1B09-4C8A-8333-FB205DA2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D20-0BB0-4937-82B3-2ED9BB5A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81A-891A-4CAE-AB2B-F10F2D57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D3C-9C83-4B4C-AD52-021B4030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4E0-47D6-46CD-B0E9-1F3E8419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9DD-C77A-4EEE-9C11-416AB49C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C13-6D10-49FA-8C3A-97377CBA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137-42EB-4E2D-A6BB-8AE1B3D0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A157-DEAC-459B-8B05-E64B1BD7ED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E2C0-83AF-4716-8346-1734FE296635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7" descr="облепиха"/>
          <p:cNvPicPr/>
          <p:nvPr/>
        </p:nvPicPr>
        <p:blipFill>
          <a:blip r:embed="rId1"/>
          <a:stretch/>
        </p:blipFill>
        <p:spPr>
          <a:xfrm>
            <a:off x="3419640" y="1773360"/>
            <a:ext cx="36716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7" descr="плющ"/>
          <p:cNvPicPr/>
          <p:nvPr/>
        </p:nvPicPr>
        <p:blipFill>
          <a:blip r:embed="rId1"/>
          <a:stretch/>
        </p:blipFill>
        <p:spPr>
          <a:xfrm>
            <a:off x="3348000" y="765000"/>
            <a:ext cx="3495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Николай</cp:lastModifiedBy>
  <dcterms:modified xsi:type="dcterms:W3CDTF">2013-01-23T12:52:21Z</dcterms:modified>
  <cp:revision>24</cp:revision>
  <dc:subject/>
  <dc:title>Слайд 1</dc:title>
</cp:coreProperties>
</file>