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506-E910-4892-8240-1773A824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EC0-376E-4ECA-930B-CB6C68A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EA2-B9F6-4902-82A8-ED6BEED2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954-3BB5-4A6A-A35E-0C722F76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4C83-F131-4108-805F-6222031C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7C83-5DD1-423D-B927-D8AF7F58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798F-2208-4457-B485-B8676A7F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767C-D65D-4FBF-871D-049044B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4C12-B459-4F8D-A355-0A972C17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4C8C-5032-4CE2-ABAA-C71D7AD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B151-6821-40B0-94FB-EC6289D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349-34BF-46B3-BB29-E94E80AC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8C57-D539-4101-AFB3-172672C8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5F49-F4F0-44E6-B48D-A542C35F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A38B-78ED-4C64-89BB-7716C31B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8E59-553F-4352-B9C5-C952F0A6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C8D5-2AAF-4F52-BD66-61D18EC4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D9A-F454-4E69-8571-1F91C880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AF8-2590-4AA5-B394-6DB4A145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66A-F7C4-435C-9DEB-15F23F53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101-B0BF-4981-9B0B-FA3E1E03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502-622F-43D9-AEC0-8F557E7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F07-5A9D-454F-958B-56A2B253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FD8-8ED9-4530-AEF1-0F08E34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4436-5419-45C5-8012-425776E46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3700-5845-4E42-AE0D-EDED527D1F29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7" descr="облепиха"/>
          <p:cNvPicPr/>
          <p:nvPr/>
        </p:nvPicPr>
        <p:blipFill>
          <a:blip r:embed="rId1"/>
          <a:stretch/>
        </p:blipFill>
        <p:spPr>
          <a:xfrm>
            <a:off x="3419640" y="1773360"/>
            <a:ext cx="3671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7" descr="плющ"/>
          <p:cNvPicPr/>
          <p:nvPr/>
        </p:nvPicPr>
        <p:blipFill>
          <a:blip r:embed="rId1"/>
          <a:stretch/>
        </p:blipFill>
        <p:spPr>
          <a:xfrm>
            <a:off x="3348000" y="765000"/>
            <a:ext cx="3495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Николай</cp:lastModifiedBy>
  <dcterms:modified xsi:type="dcterms:W3CDTF">2013-01-23T12:52:21Z</dcterms:modified>
  <cp:revision>24</cp:revision>
  <dc:subject/>
  <dc:title>Слайд 1</dc:title>
</cp:coreProperties>
</file>