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19C5-77A6-4F89-BFA3-8EFDE5CD3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BA69-2246-41F1-AF18-9044DC306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B084-6748-4179-BD4F-04CB4C640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AFEE-D2C7-4B36-90A0-04B2D78DF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24E7-D5FB-4E3F-9C55-02491BBFE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F180-7C63-4B74-9839-56D8AE275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10B3-665F-4999-827F-FD5F36F78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B49A-0335-419A-B247-8F4DF6984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1D3A-0DB0-48F3-A8DF-5889F8AB7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F5A4-D709-4781-AF7F-31AFD1563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A020-B703-48AC-8324-9FE6F4EF8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4F84-41F2-4CBB-9C1A-815807009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A301-E307-4A26-A941-E976C9F05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3AA-D344-44A7-A9C7-2BBAA0DB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1E7F-AA01-4156-9329-E96FAF46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1A6-1E58-424F-B34E-F1E4188B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3D56-943A-4CBC-B6A3-857D29F2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2D80-1E33-42F2-AE4F-25CDE156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FD9-A9A3-435F-89F4-34738B39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AC55-B9E8-4B15-A159-2C9CF9E7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9DB6-C358-46BA-844E-A3B438CA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900-8170-4EAE-B311-DFA7099E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7F0B-7162-48B7-AFBE-E9E7450A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9380-5E36-44F1-BDFD-6095BA75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10E2-65CE-4895-994C-331D3EDE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23A0-D555-4DA5-BC3A-02339B0043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волюционная теория Дарв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picture"/>
          <p:cNvPicPr/>
          <p:nvPr/>
        </p:nvPicPr>
        <p:blipFill>
          <a:blip r:embed="rId1"/>
          <a:stretch/>
        </p:blipFill>
        <p:spPr>
          <a:xfrm>
            <a:off x="2428920" y="2286000"/>
            <a:ext cx="42210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эмбри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embrs_b"/>
          <p:cNvPicPr/>
          <p:nvPr/>
        </p:nvPicPr>
        <p:blipFill>
          <a:blip r:embed="rId1"/>
          <a:stretch/>
        </p:blipFill>
        <p:spPr>
          <a:xfrm>
            <a:off x="4932360" y="692280"/>
            <a:ext cx="3809880" cy="3676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ascidia_b"/>
          <p:cNvPicPr/>
          <p:nvPr/>
        </p:nvPicPr>
        <p:blipFill>
          <a:blip r:embed="rId2"/>
          <a:stretch/>
        </p:blipFill>
        <p:spPr>
          <a:xfrm>
            <a:off x="324000" y="3586320"/>
            <a:ext cx="3024000" cy="2827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baer"/>
          <p:cNvPicPr/>
          <p:nvPr/>
        </p:nvPicPr>
        <p:blipFill>
          <a:blip r:embed="rId3"/>
          <a:stretch/>
        </p:blipFill>
        <p:spPr>
          <a:xfrm>
            <a:off x="324000" y="1341360"/>
            <a:ext cx="1752480" cy="1924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2195640" y="148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л Бэр: закон зародышевого сх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564000" y="5516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цидия: взрослый организм и лич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867280" y="45813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одыши разн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переходные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hors1_b"/>
          <p:cNvPicPr/>
          <p:nvPr/>
        </p:nvPicPr>
        <p:blipFill>
          <a:blip r:embed="rId1"/>
          <a:stretch/>
        </p:blipFill>
        <p:spPr>
          <a:xfrm>
            <a:off x="250920" y="1484280"/>
            <a:ext cx="2935080" cy="163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hors2_b"/>
          <p:cNvPicPr/>
          <p:nvPr/>
        </p:nvPicPr>
        <p:blipFill>
          <a:blip r:embed="rId2"/>
          <a:stretch/>
        </p:blipFill>
        <p:spPr>
          <a:xfrm>
            <a:off x="1332000" y="4365720"/>
            <a:ext cx="2841480" cy="1925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hors3_b"/>
          <p:cNvPicPr/>
          <p:nvPr/>
        </p:nvPicPr>
        <p:blipFill>
          <a:blip r:embed="rId3"/>
          <a:stretch/>
        </p:blipFill>
        <p:spPr>
          <a:xfrm>
            <a:off x="4140360" y="1197000"/>
            <a:ext cx="2819160" cy="2327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ors4_b"/>
          <p:cNvPicPr/>
          <p:nvPr/>
        </p:nvPicPr>
        <p:blipFill>
          <a:blip r:embed="rId4"/>
          <a:stretch/>
        </p:blipFill>
        <p:spPr>
          <a:xfrm>
            <a:off x="5003640" y="4076640"/>
            <a:ext cx="36198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24000" y="17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ритерии 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55640" y="333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 – это группа особей, которых отличает общность в морфологии, физиологии, генетике, поведении. Особи внутри одного вида могут свободно скрещиваться и дават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одовитое потом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занимают на планете определенную область, называемую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реал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900000" y="2637000"/>
            <a:ext cx="7704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р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ен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изи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к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еограф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95280" y="1197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зменение научных представлений о происхождении и развитии жизни на 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9640" y="2637000"/>
            <a:ext cx="2808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живое единовременно создано некой Высшей Силой и не подвергается измен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реацион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3492360" y="3573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940360" y="2565360"/>
            <a:ext cx="2808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знь зародилась давным-давно и, в результате естественных процессов, разделилась на огромное количество 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Эволюцион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linney_b"/>
          <p:cNvPicPr/>
          <p:nvPr/>
        </p:nvPicPr>
        <p:blipFill>
          <a:blip r:embed="rId1"/>
          <a:stretch/>
        </p:blipFill>
        <p:spPr>
          <a:xfrm>
            <a:off x="468360" y="1052640"/>
            <a:ext cx="2539800" cy="3098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3635280" y="1197000"/>
            <a:ext cx="4824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ал систематику живых организмов. Систематическое расположение видов дало возможность понять, что есть виды-родственники и виды, характеризующиеся далеким род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я родства между видами – указание на их развитие в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8360" y="4292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л Линней (1707 - 17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287551977"/>
          <p:cNvPicPr/>
          <p:nvPr/>
        </p:nvPicPr>
        <p:blipFill>
          <a:blip r:embed="rId1"/>
          <a:stretch/>
        </p:blipFill>
        <p:spPr>
          <a:xfrm>
            <a:off x="5651640" y="981000"/>
            <a:ext cx="3216240" cy="4176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5651640" y="537372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н-Батист Ламарк (1774-18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68360" y="1197000"/>
            <a:ext cx="4464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первой эволюционной концепции. Он утверждал, что органы и системы органов животных и растений развиваются, либо деградируют в результате их упражнения или неупраж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м местом его теории было то, что благоприобретенные признаки на самом деле не могут передаваться по наследству: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FGR1"/>
          <p:cNvPicPr/>
          <p:nvPr/>
        </p:nvPicPr>
        <p:blipFill>
          <a:blip r:embed="rId2"/>
          <a:stretch/>
        </p:blipFill>
        <p:spPr>
          <a:xfrm>
            <a:off x="2268360" y="4221000"/>
            <a:ext cx="21034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picture"/>
          <p:cNvPicPr/>
          <p:nvPr/>
        </p:nvPicPr>
        <p:blipFill>
          <a:blip r:embed="rId1"/>
          <a:stretch/>
        </p:blipFill>
        <p:spPr>
          <a:xfrm>
            <a:off x="4140360" y="692280"/>
            <a:ext cx="4846320" cy="4265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468360" y="1125360"/>
            <a:ext cx="37432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ом первой стройной эволюционной концепции был Чарльз Дарвин, написавший по этому поводу книг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 происхождении видов путем естественного отбора или о сохранении благоприятственных пород в борьбе за жиз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darvin_oos"/>
          <p:cNvPicPr/>
          <p:nvPr/>
        </p:nvPicPr>
        <p:blipFill>
          <a:blip r:embed="rId2"/>
          <a:stretch/>
        </p:blipFill>
        <p:spPr>
          <a:xfrm>
            <a:off x="1258920" y="3573360"/>
            <a:ext cx="1914480" cy="31258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"/>
          <p:cNvSpPr/>
          <p:nvPr/>
        </p:nvSpPr>
        <p:spPr>
          <a:xfrm>
            <a:off x="4140360" y="5229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рльз Дарвин (1809 - 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24000" y="260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Основная логика эволюционного 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68360" y="1125360"/>
            <a:ext cx="22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лед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68360" y="1844640"/>
            <a:ext cx="1798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68360" y="3678120"/>
            <a:ext cx="20876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организмов к неограниченному размно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68360" y="5229360"/>
            <a:ext cx="1942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ность услови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987640" y="1268280"/>
            <a:ext cx="26640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рганизмы отличаются друг от друга и могут передавать свои характерные особенности потом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3132000" y="4262400"/>
            <a:ext cx="2664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ьба за существ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700360" y="1341360"/>
            <a:ext cx="2872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"/>
          <p:cNvSpPr/>
          <p:nvPr/>
        </p:nvSpPr>
        <p:spPr>
          <a:xfrm flipV="1">
            <a:off x="2268360" y="1915920"/>
            <a:ext cx="719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>
            <a:off x="2556000" y="422100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 flipV="1">
            <a:off x="2411280" y="4652640"/>
            <a:ext cx="720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6443640" y="1557360"/>
            <a:ext cx="2376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живаю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иболе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способл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 flipV="1">
            <a:off x="4716360" y="2060280"/>
            <a:ext cx="172728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9"/>
          <p:cNvSpPr/>
          <p:nvPr/>
        </p:nvSpPr>
        <p:spPr>
          <a:xfrm>
            <a:off x="5651640" y="191628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6156360" y="3500280"/>
            <a:ext cx="28083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Естественны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1"/>
          <p:cNvSpPr/>
          <p:nvPr/>
        </p:nvSpPr>
        <p:spPr>
          <a:xfrm>
            <a:off x="7596360" y="256536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24000" y="2924280"/>
            <a:ext cx="2808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Естественны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24000" y="26028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итог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211640" y="1693800"/>
            <a:ext cx="43927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ые системы приспосабливаются к условиям окружающе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ланете Земля существует огромное количество видов жив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гут сосуществовать высоко организованные виды и виды с более примитивным уровнем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 flipV="1">
            <a:off x="3132000" y="2060640"/>
            <a:ext cx="1008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 flipV="1">
            <a:off x="3132000" y="3212640"/>
            <a:ext cx="935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>
            <a:off x="3132000" y="3284640"/>
            <a:ext cx="10796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палеонт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arch"/>
          <p:cNvPicPr/>
          <p:nvPr/>
        </p:nvPicPr>
        <p:blipFill>
          <a:blip r:embed="rId1"/>
          <a:srcRect l="2089" t="1628" r="1268" b="1665"/>
          <a:stretch/>
        </p:blipFill>
        <p:spPr>
          <a:xfrm>
            <a:off x="5076720" y="836640"/>
            <a:ext cx="3382920" cy="424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smola"/>
          <p:cNvPicPr/>
          <p:nvPr/>
        </p:nvPicPr>
        <p:blipFill>
          <a:blip r:embed="rId2"/>
          <a:stretch/>
        </p:blipFill>
        <p:spPr>
          <a:xfrm>
            <a:off x="395280" y="2766960"/>
            <a:ext cx="3600360" cy="3546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/>
          <p:cNvSpPr/>
          <p:nvPr/>
        </p:nvSpPr>
        <p:spPr>
          <a:xfrm>
            <a:off x="5076720" y="537372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хеоптер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68360" y="2060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ха в янта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24000" y="404640"/>
            <a:ext cx="84960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Морфологические (сравнительно-анатомическ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ris22"/>
          <p:cNvPicPr/>
          <p:nvPr/>
        </p:nvPicPr>
        <p:blipFill>
          <a:blip r:embed="rId1"/>
          <a:stretch/>
        </p:blipFill>
        <p:spPr>
          <a:xfrm>
            <a:off x="468360" y="1484280"/>
            <a:ext cx="2392200" cy="2881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468360" y="450864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мологичные и аналогичные орг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chel"/>
          <p:cNvPicPr/>
          <p:nvPr/>
        </p:nvPicPr>
        <p:blipFill>
          <a:blip r:embed="rId2"/>
          <a:stretch/>
        </p:blipFill>
        <p:spPr>
          <a:xfrm>
            <a:off x="5364000" y="1413000"/>
            <a:ext cx="3559320" cy="19605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1"/>
          <p:cNvSpPr/>
          <p:nvPr/>
        </p:nvSpPr>
        <p:spPr>
          <a:xfrm>
            <a:off x="5435640" y="357336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ав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ris24"/>
          <p:cNvPicPr/>
          <p:nvPr/>
        </p:nvPicPr>
        <p:blipFill>
          <a:blip r:embed="rId3"/>
          <a:stretch/>
        </p:blipFill>
        <p:spPr>
          <a:xfrm>
            <a:off x="6156360" y="4508640"/>
            <a:ext cx="2457360" cy="18666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4643280" y="5734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ди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4:41:18Z</dcterms:created>
  <dc:creator>Ura</dc:creator>
  <dc:description/>
  <dc:language>en-US</dc:language>
  <cp:lastModifiedBy>Admin</cp:lastModifiedBy>
  <dcterms:modified xsi:type="dcterms:W3CDTF">2012-05-02T18:49:10Z</dcterms:modified>
  <cp:revision>11</cp:revision>
  <dc:subject/>
  <dc:title>Теория эволюции</dc:title>
</cp:coreProperties>
</file>