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A855-B830-4BD7-A9FC-1FE82F25A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E839-2C86-4634-8F9D-7EF4B7C6B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134-9116-4838-991D-B519EE827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7572-CA62-4C7E-A792-E6E2DC515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E024-9916-4389-A5C3-8EDEBDE01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7E4C-1AC3-4A05-AD86-58F7AE7C6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E9AD-94F4-4299-82F6-D2EC0C021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CBEF-918E-4363-A54E-EAD02EF23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5EF9-D0D0-46E9-A8A1-FDA428B04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2D0-A134-4889-AB7C-F4926D4C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81FD-82BF-4342-A6D7-B1B115617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CF91-05AF-475D-8F52-6E7637C91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FCCD-3500-4ADD-A725-B81E57F56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297-AD67-46E5-A41F-18341A60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2B1-FF90-43C1-A3CF-8F02FE69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319-3BE2-4958-89E1-F45F8E95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8FB-374A-4506-864D-308DCA4E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E9E-4435-43D3-BBA0-14275D1F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C6F-BD08-4C7A-9E8D-3C3CC54D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FEE-AF05-445B-A651-0BF45478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D07-9D84-4665-8B76-FC3136F8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67B-01C0-438D-9B08-2DAED580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605-C2AB-4C51-A16D-71A24D92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75C-56AA-4E84-ACB0-23EB7E05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28A-1E7C-4AEA-93DC-42C1AB46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C534-40EF-45D0-A896-38E344BE7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волюционная теория Дар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picture"/>
          <p:cNvPicPr/>
          <p:nvPr/>
        </p:nvPicPr>
        <p:blipFill>
          <a:blip r:embed="rId1"/>
          <a:stretch/>
        </p:blipFill>
        <p:spPr>
          <a:xfrm>
            <a:off x="2428920" y="2286000"/>
            <a:ext cx="4221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embrs_b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scidia_b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er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ors1_b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ors2_b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ors3_b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ors4_b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linney_b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87551977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FGR1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picture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darvin_oos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rch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mola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ris22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chel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ris24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Admin</cp:lastModifiedBy>
  <dcterms:modified xsi:type="dcterms:W3CDTF">2012-05-02T18:49:10Z</dcterms:modified>
  <cp:revision>11</cp:revision>
  <dc:subject/>
  <dc:title>Теория эволюции</dc:title>
</cp:coreProperties>
</file>