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E3E5-580F-4AD1-9515-CABCF0868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2463-0F29-438F-AFA3-7CB3187F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6A12-2C42-4D4B-A750-08FBD039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E130-42BA-4B3B-B9BD-998A6C39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293-A628-43D0-9493-3B9DAD8C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207-B468-49C4-A0A3-4E4E275B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78EB-2904-4271-870A-D52A2D65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C51-2FE8-4B01-A907-2FFD445F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D01-8AFC-4071-ACB3-8319FD53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6434-421B-41C9-B834-8F880692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646-7D28-46CE-BE60-26A5960D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F23-5122-4973-92A4-7D7BF51E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D78-F41D-4E1C-AF49-4818B483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AE1-7FE5-4969-A397-595C24E4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D64-A4E2-425D-B957-20EFD5E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228-F64B-4D39-B8DC-9A79C135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F34-8E9C-43DC-9419-CC149D0B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728-A973-46DA-8D96-E08428C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B58-360B-4BD6-BC89-C420335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850-F0D0-4986-9829-33FCF26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D89-E843-476B-8B46-73A69BF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430-4C10-4907-B9B7-1D88CB9A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250-A7AF-40B2-9B6D-438E7F9E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792-E2BE-4C7D-8178-D9AEBDA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587-492D-4CD9-A0A2-552756F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0C3-7642-44A3-87C0-B7A215225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волюционная теория Дар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icture"/>
          <p:cNvPicPr/>
          <p:nvPr/>
        </p:nvPicPr>
        <p:blipFill>
          <a:blip r:embed="rId1"/>
          <a:stretch/>
        </p:blipFill>
        <p:spPr>
          <a:xfrm>
            <a:off x="2428920" y="2286000"/>
            <a:ext cx="4221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mbrs_b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scidia_b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er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ors1_b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ors2_b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ors3_b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ors4_b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inney_b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87551977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FGR1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picture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darvin_oos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rch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mola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ris22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chel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ris24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Admin</cp:lastModifiedBy>
  <dcterms:modified xsi:type="dcterms:W3CDTF">2012-05-02T18:49:10Z</dcterms:modified>
  <cp:revision>11</cp:revision>
  <dc:subject/>
  <dc:title>Теория эволюции</dc:title>
</cp:coreProperties>
</file>