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0030-FC08-418A-8078-5C8A6993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7B21-A747-4EBA-8FAC-D3E35320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C983-4D7D-4104-B14A-AE3686F8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B26F-A3DB-40C1-B9C6-0C7632E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2B06-DB68-473E-9A61-B20C6CC5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26A6-3630-4C58-B0BD-476C75A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75DF-A72E-4129-966A-2B06B10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17C-F40A-4388-B4A9-81F35AC9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CD2-DE69-4D20-8994-319904F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9C04-927F-48A8-BBB6-1D5D668C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4595-B5CF-419F-9040-9ED35E0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068F-36F5-4FDC-92F9-E2646A65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FA4A-057D-4B7F-9B29-E15BE0B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B863-C82D-41A6-946E-CB34D69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395-C4B7-414C-9D77-8A82471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406-26F4-4FD2-97A4-60C0A65C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EEA-0159-4C21-95F1-7C4C1615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F9A3-5860-459C-A594-10BF784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189F-4241-43C1-BB2D-28B77B43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FFED-7409-4CE2-8AC9-39D3A4A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3362-89E6-413E-ABFE-1C331AB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3E5F-63EC-4E94-AB5F-D7EF124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393D-8775-4CEE-BA56-33B3683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91F9-BC8C-4420-A64C-37B1005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263-CAE2-4EC3-82B8-DF24A440D0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09A-0CB7-49B9-BF4C-49B302107C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vitnik.ru/onishenko2.htm" TargetMode="External"/><Relationship Id="rId2" Type="http://schemas.openxmlformats.org/officeDocument/2006/relationships/hyperlink" Target="http://revolution.allbest.ru/cookery/" TargetMode="External"/><Relationship Id="rId3" Type="http://schemas.openxmlformats.org/officeDocument/2006/relationships/hyperlink" Target="http://revolution.allbest.ru/cookery/00101374_0.html" TargetMode="Externa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ЭКОЛОГИЧЕСКИ ЧИСТЫЕ ПРОДУКТЫ.</a:t>
            </a: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601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НАЧАЛЕ БЫЛО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экологически чистых продуктов родилась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США в 60-х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чально это была своего рода антикультура, протест против загрязнения планеты, злоупотребления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цов и покупателей не понимали, считали помешанными на свое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ортимент ЭЧП был небольшим, цены очень высокими, купить их можно было в редких специализированных магази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764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ЭТАПЫ БОЛЬШОГО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89-1990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олна обострения беспокойства о безопасности продуктов питания привела к идее создания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 го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здание ряда государственных и публичных организаций, призванных разработать единые Национальные Стандарты на основе опроса общественного мнения и уже существующих, но разрозненных прави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-1997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работка единых Национальных Стандарт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7-1998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партамент аграрной промышленности США (ДАП) предлагает к публичному обсуждению первый проект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Май 1998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АП США соглашается ввести запрет на использование генетически модификационных компонентов, облучения и жидких отходов в производстве органи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рт - июнь 2000 года - обсуждается окончательный вариант Национальных Стандартов на органику, предложенный ДАП СШ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1.04.2001-21.10.200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инятие и внедрение Национальных Стандартов на орга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АПРЕТЫ ДЛЯ СТАНДА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национальных  стандартов на органику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использование искусственно созданных химических удоб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именение генетически модификационных технолог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употребление стимуляторов роста и откорма, антибиотиков и гормональных препаратов, а также использование кормов, созданных не на основе орга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Natural Products (NP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одукты, состоящие полностью или большей частью из ингредиентов природного происхождения, с минимальным количеством химических веществ, искусственных наполнителей и пр. Натуральные продукты включают в себя прежде всего Organic Products (OP). По-русски их правильнее будет называть "экологически чистые продукты". ЭЧП - это продукты, выращенные на специально очищенной земле, без применения химических препаратов, с использованием лишь естественных удобрений, таких как навоз, компос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58000" y="5410080"/>
            <a:ext cx="179064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Functional Foods (FF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одукты с искусственным добавлением полезных веществ, повышающих защитные функции организма (например, апельсиновый сок с добавлением эхинаце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562720" y="48006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Nutraceutica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специальные добавки к пище, повышающие ее питательность, например, витамины. Они обязательно должны быть натурального происхождения. Большинство из них - экстракты из различных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4540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781680" y="4989600"/>
            <a:ext cx="22100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ПИКЕ ПОПУЛЯР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фе, чай, фрукты и овощи, представленные как в свежем, так и в обработанном ви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специи, сухофрукты и 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зонные продукты - свежие фрукты и овощи, пользующиеся повышенным спросом в определенные периоды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заменители традиционных продуктов: хлебобулочные изделия, молочная и мясная продукция, экологически чистые напитки и вина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продукты для детей (детское питание, каши и т.д.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86600" y="5638680"/>
            <a:ext cx="163836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Т И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группа ЭЧП стремительно растет и разв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ороженные продукты, полуфабрикаты и готовая еда - на 39% в 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ое питание - 38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обулочные продукты и хлопья - 37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чные и мясные продукты - 36% и 30% соответст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38880" y="5257800"/>
            <a:ext cx="1619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60-70-е годы ХХ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ждение идеи ЭЧ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арождение идеи "зеленого движения", пропагандирующего заботу об окружающей среде и 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рмирование инициативных групп, переходящих на употребление натуральных или биопродуктов, выращенных без использования химических удобрений. Преобладает натуральное хозяйство, возникают специализированные минимагазинчи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проникновение на рынок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84788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-е годы ХХ ве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уляризация, формирование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ост популярности экологических идей, здорового и эко – потре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ение активного спроса на ЭЧП - стихийное формирование специализированного рынка, рост числа экопроизводителей, открытие магазинов ЭЧ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91520" y="14479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ЧТО ЭТО ЗНАЧИТ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развитых странах существуют четкие критерии, позволяющие отнести продукт к категори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кологически чистые (органические)  продукты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нетически модифицированные ингредиенты (ГМ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нгредиенты выращенные при использовании пестицидов, гербицидов, ядохимикатов и искусственных удоб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кусственные консерванты, красители и вкусовые доб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19844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47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-е годы ХХ века - начало ХХI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ние и стандартизац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ост интереса к перспективному рынку ЭЧП со стороны государства и крупн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тановление системы государственного регулирования рынка ЭЧП. Создание национальных стандартов на ЭЧП и системы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инамичное развитие рынка ЭЧП. Ежегодные темпы роста -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2096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СИЯ – АУТСАЙДЕР((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Россия является аутсайдером на рынке ЭЧП, но уже сегодня можно с уверенностью говорить о формировании этого рынка и его больших перспективах в нашей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ОДОПЫТНЫЕ МОСКВИ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"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пытной площадкой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ормирования российского рынка ЭЧП является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ск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связано в первую очередь со следующими обстоятель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более высокий, по сравнению с другими регионами, уровень жизни в столице, что обеспечивает большую платежеспособность населения и, соответственно, лояльность покупателей к более дорогим продук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ысокая конкуренция на московском рынке, вследствие которой производителям приходится искать новые конкурентные пре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использование многими производителями Москвы в качестве экспериментальной площадки для своих новых продуктов и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высокая культура потребления и уровень экологического сознания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опуляризация здорового образа жизни сред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сложная экологическая ситуация в городе, что увеличивает озабоченность граждан экологическими проблем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772400" y="4756320"/>
            <a:ext cx="1181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СТЕПЕНИ СЕР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о несколько категорий и степеней сертификации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общего потребления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иетические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детей ранне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едъявляются наиболее жесткие требов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8004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К НАМ МОРОЧАТ ГОЛ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е производители нередко используют обозначения «экологически чистый», «натуральный» и т. д., которая сама по себе является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екламным трю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ни руководствуются тем, что российский рынок натуральных продуктов находится в зачаточном состоянии, а потребитель совершенно не знаком со стандартами ка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8288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нужно зн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этикетке экологического продукта должны указываться следующие пун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и адрес юридического лица, несущего правовую ответственность за производство или переработку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производства, влияющая на свойства продукта (например, использование натуральных удобр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редиенты продукта в последовательности их доли в ве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бавки с их полными названиями (например, красители, полученные из экологического сырь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мпоненты вспомогательных веществ переработ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ые доли сертифицированного и несертифицированного сырья, указанные в процентном со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1219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ЕНА ВОПРОС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ор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ожалению, био-продукты не могут быть дешевыми – у них слишком высокая себестоимость, и производитель не может искусственными способами влиять на объемы урожая, скорость выращивания продукции, ее стойкость к болезням и насеком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лом потребители органической продукции люди обеспеченные, и будем надеяться, что число их будет р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ВЫГОДА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рганическом питании содержится в 1,5 раза больше природных витаминов и питательных веществ, которые сохраняются благодаря щадящей термической обработке продуктов – при 70 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кальная технология позволяет максимально сохранить природное содержание витаминов в продукте и избежать «принудительного» обогащения витаминами и минер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428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СЁ ЛУЧШЕЕ – ДЕТЯ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изводстве детского органического пит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стью запрещено использ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ого рафинирования и дезодорир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генизации и радиационного обл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ых консервантов, улучшителей вкуса, подсластителей, ароматиза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й минерализации и витами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131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КУДА Ж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vitnik.ru/onishenko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biosafety.ru/tmp/File/bulletin_28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volution.allbest.ru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Кулин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00101374_0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бейников В.П,Суханкин Е.А «Академия здоровья», М.: Наука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социальной экологии, под ред. Протасова А.Г, М.: Высшая школа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ников А.В. Что мы едим?, М.: Коло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 ЖЕ ТАКОЕ КСЕНОБИ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ξενος ) — чужеродные для живых организмов химические вещества, естественно не входящие в биотический круговорот, и, как правило, прямо или косвенно порождённые хозяйственной деятельностью человека. 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xenos - чужой и bios – жизнь) чужеродные для организмов соединения. К ним относятся промышленные загрязнения, пестициды, препараты бытовой химии, лекарственные средства и т.п., т.е. вещества не образующиеся в живом объекте, а синтезируемые искусственно челове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66"/>
                </a:solidFill>
                <a:latin typeface="Garamond"/>
              </a:rPr>
              <a:t>СПАСИБО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РЕНЕВА АННА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ИРОВСКИЙ МЕДИЦИНСКИЙ 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РУППА М/С -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DSCN8752 - копия"/>
          <p:cNvPicPr/>
          <p:nvPr/>
        </p:nvPicPr>
        <p:blipFill>
          <a:blip r:embed="rId1"/>
          <a:stretch/>
        </p:blipFill>
        <p:spPr>
          <a:xfrm>
            <a:off x="6481800" y="3048120"/>
            <a:ext cx="1957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АК ЧТО ЖЕ ТАКОЕ ЭЧП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ДУКТЫ, С МИНИМАЛЬНЫМ КОЛИЧЕСТВОМ КСЕНОБИОТИКОВ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3067200" cy="22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104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05520" y="4572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НИМАНИЕ,СИМВОЛ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 (органические) продукты обязаны иметь на упаковке специальные лицензионные символы «Орга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существует несколько десятков лецензионных символов обозначающих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ы крупнейших Био-Органический Ассоциаци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048120" y="5334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267080" y="54100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257800" y="5410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3244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5"/>
          <a:stretch/>
        </p:blipFill>
        <p:spPr>
          <a:xfrm>
            <a:off x="72388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3124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 абсолютно экологически чистых продуктов в нынешних условиях получить невозможно. Это миф. Существуют лиш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е и менее 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с пищей, по некоторым данным, в организм человека попадает от 70 до 90% всех потенциально вред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533680" cy="168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128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ЧТО В МИ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ва десятилетия мировой рынок экологически чистых продуктов питания ( ЭЧП) бурно развивается и становится популярной альтернативой потреблению вредных и экологически небезопасных прод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2009 году его мировой объем составил 25 млрд долларов, ежегодные темпы роста в развитых странах составляют 20-30%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82880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15433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ИЧИНЫ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ичины  развития рынка ЭЧП  кроются в следующем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кологические пищевые кризи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днего десятилетия (эпидемия коровьего бешенства, эпидемия ящера, птичий грипп, др.) и рост недоверия к обычным продукта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щественные вол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поводу вреда генно-модифицированных компонентов, содержащихся в продуктах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391520" y="5638680"/>
            <a:ext cx="14000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АВИТЕЛЬСТВА СТРАН З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ьства развитых стран активно поддерживают экопроизводство, так как оно способствует укреплению внутреннего рынка, увеличению эк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год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2 страны мира имеют полностью утвержденные стандарты на экологически чистую продук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9 стран занимаются внедрением стандартиз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5 стран - разработкой таких стандартов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391520" y="472428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0:47:57Z</dcterms:created>
  <dc:creator>Надежда</dc:creator>
  <dc:description/>
  <dc:language>en-US</dc:language>
  <cp:lastModifiedBy>Елена</cp:lastModifiedBy>
  <dcterms:modified xsi:type="dcterms:W3CDTF">2013-02-11T02:34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