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6AA3-24A6-497D-8F4C-A48B2E6F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6C5E-6B24-4DE3-9CB5-9185DE61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AF5D-E976-47AF-9C96-535F2C9A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C8AD-4C75-4FA2-BD8E-D5E103CD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EB37-46BD-4F71-AD77-925AFA48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E8C5-2135-4E0E-8EAA-2B4FFAED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5940-1FFA-4748-ABF6-CE126956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4096-0D25-402A-8697-BA714BA6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C8E1-7405-407F-A010-6BA6CCD8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6929-8294-45FE-BA6B-31D7D447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6897-E3EF-4E07-9061-5ED9E669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E20E-F5F3-4B2C-9697-8CDB4BAD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B8D8-DDC0-46F3-8EB9-8A3D6167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5442-3336-4015-B970-11B5686E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21EA-7B49-4222-8ED5-066A789C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8D34-DD93-40EE-AFF8-AA867793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ECBF-2963-4EE5-ADFE-1B2442EB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F9E7-32F7-45A1-B859-4FE98584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628E1-CDA4-44C8-8511-5CB63FCC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610C-985E-44F7-8B54-24C90A2A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C603-89DE-4614-846E-24D748AF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ED84-AAEA-4844-A4A3-FBC75CAE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4D0A-68D9-4CFA-8F7B-1F6A58E8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D166-6E4E-4BD9-9A20-2AE6B38F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2927-F1EC-4D08-99F6-B726E5742C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5C98-15E2-456F-BB25-90E9A32C37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vitnik.ru/onishenko2.htm" TargetMode="External"/><Relationship Id="rId2" Type="http://schemas.openxmlformats.org/officeDocument/2006/relationships/hyperlink" Target="http://revolution.allbest.ru/cookery/" TargetMode="External"/><Relationship Id="rId3" Type="http://schemas.openxmlformats.org/officeDocument/2006/relationships/hyperlink" Target="http://revolution.allbest.ru/cookery/00101374_0.html" TargetMode="External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99"/>
                </a:solidFill>
                <a:latin typeface="Arial"/>
              </a:rPr>
              <a:t>ЭКОЛОГИЧЕСКИ ЧИСТЫЕ ПРОДУКТЫ.</a:t>
            </a:r>
            <a:br>
              <a:rPr sz="4600"/>
            </a:br>
            <a:r>
              <a:rPr b="1" lang="ru-RU" sz="4600" spc="-1" strike="noStrike">
                <a:solidFill>
                  <a:srgbClr val="000099"/>
                </a:solidFill>
                <a:latin typeface="Arial"/>
              </a:rPr>
              <a:t>КСЕНОБИОТИК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971800" y="4267080"/>
            <a:ext cx="601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НАЧАЛЕ БЫЛО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я экологически чистых продуктов родилась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США в 60-х го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начально это была своего рода антикультура, протест против загрязнения планеты, злоупотребления прир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вцов и покупателей не понимали, считали помешанными на своем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ортимент ЭЧП был небольшим, цены очень высокими, купить их можно было в редких специализированных магазин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07648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ЭТАПЫ БОЛЬШОГО ПУ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989-1990 г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олна обострения беспокойства о безопасности продуктов питания привела к идее создания единых национальных стандартов на органик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990 го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здание ряда государственных и публичных организаций, призванных разработать единые Национальные Стандарты на основе опроса общественного мнения и уже существующих, но разрозненных прави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990-1997 г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разработка единых Национальных Стандарт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997-1998 г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епартамент аграрной промышленности США (ДАП) предлагает к публичному обсуждению первый проект единых Национальных Стандартов на органик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Май 1998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АП США соглашается ввести запрет на использование генетически модификационных компонентов, облучения и жидких отходов в производстве органи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Март - июнь 2000 года - обсуждается окончательный вариант Национальных Стандартов на органику, предложенный ДАП СШ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1.04.2001-21.10.200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ринятие и внедрение Национальных Стандартов на орган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ЗАПРЕТЫ ДЛЯ СТАНДАР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национальных  стандартов на органику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запр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использование искусственно созданных химических удобр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запр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применение генетически модификационных технолог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запр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употребление стимуляторов роста и откорма, антибиотиков и гормональных препаратов, а также использование кормов, созданных не на основе орган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7315200" y="327672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ЛАССИФИКАЦИЯ ЭЧ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Natural Products (NP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одукты, состоящие полностью или большей частью из ингредиентов природного происхождения, с минимальным количеством химических веществ, искусственных наполнителей и пр. Натуральные продукты включают в себя прежде всего Organic Products (OP). По-русски их правильнее будет называть "экологически чистые продукты". ЭЧП - это продукты, выращенные на специально очищенной земле, без применения химических препаратов, с использованием лишь естественных удобрений, таких как навоз, компост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6858000" y="5410080"/>
            <a:ext cx="179064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ЛАССИФИКАЦИЯ ЭЧ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. Functional Foods (FF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одукты с искусственным добавлением полезных веществ, повышающих защитные функции организма (например, апельсиновый сок с добавлением эхинаце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5562720" y="480060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ЛАССИФИКАЦИЯ ЭЧ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. Nutraceutical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специальные добавки к пище, повышающие ее питательность, например, витамины. Они обязательно должны быть натурального происхождения. Большинство из них - экстракты из различных раст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454040" cy="2057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6781680" y="4989600"/>
            <a:ext cx="221004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А ПИКЕ ПОПУЛЯР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фе, чай, фрукты и овощи, представленные как в свежем, так и в обработанном ви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специи, сухофрукты и оре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езонные продукты - свежие фрукты и овощи, пользующиеся повышенным спросом в определенные периоды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кологически чистые заменители традиционных продуктов: хлебобулочные изделия, молочная и мясная продукция, экологически чистые напитки и вина и т.д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кологически чистые продукты для детей (детское питание, каши и т.д.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086600" y="5638680"/>
            <a:ext cx="163836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ОСТ И РАЗВ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группа ЭЧП стремительно растет и разви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ороженные продукты, полуфабрикаты и готовая еда - на 39% в 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ое питание - 38%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ебобулочные продукты и хлопья - 37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чные и мясные продукты - 36% и 30% соответств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238880" y="5257800"/>
            <a:ext cx="161928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ЭТАПЫ РАЗВИТИЯ РЫНКА ЭЧ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60-70-е годы ХХ ве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ождение идеи ЭЧ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Зарождение идеи "зеленого движения", пропагандирующего заботу об окружающей среде и здоровый образ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рмирование инициативных групп, переходящих на употребление натуральных или биопродуктов, выращенных без использования химических удобрений. Преобладает натуральное хозяйство, возникают специализированные минимагазинчи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проникновение на рынок от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184788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ЭТАПЫ РАЗВИТИЯ РЫНКА ЭЧ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-е годы ХХ ве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уляризация, формирование спр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Рост популярности экологических идей, здорового и эко – потре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явление активного спроса на ЭЧП - стихийное формирование специализированного рынка, рост числа экопроизводителей, открытие магазинов ЭЧ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391520" y="14479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ЧТО ЭТО ЗНАЧИТ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развитых странах существуют четкие критерии, позволяющие отнести продукт к категории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кологически чистые (органические)  продукты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 чистые продукты (органические)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 содерж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енетически модифицированные ингредиенты (ГМ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 чистые продукты (органическ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не содерж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нгредиенты выращенные при использовании пестицидов, гербицидов, ядохимикатов и искусственных удоб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 чистые продукты (органическ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не содерж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кусственные консерванты, красители и вкусовые доб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119844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1047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ЭТАПЫ РАЗВИТИЯ РЫНКА ЭЧ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-е годы ХХ века - начало ХХI ве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ние и стандартизация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ост интереса к перспективному рынку ЭЧП со стороны государства и крупного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тановление системы государственного регулирования рынка ЭЧП. Создание национальных стандартов на ЭЧП и системы серт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инамичное развитие рынка ЭЧП. Ежегодные темпы роста -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22096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ОССИЯ – АУТСАЙДЕР(((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Россия является аутсайдером на рынке ЭЧП, но уже сегодня можно с уверенностью говорить о формировании этого рынка и его больших перспективах в нашей стр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324480" y="4800600"/>
            <a:ext cx="22100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ОДОПЫТНЫЕ МОСКВИ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"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пытной площадкой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формирования российского рынка ЭЧП является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ск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связано в первую очередь со следующими обстоятель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более высокий, по сравнению с другими регионами, уровень жизни в столице, что обеспечивает большую платежеспособность населения и, соответственно, лояльность покупателей к более дорогим продук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ысокая конкуренция на московском рынке, вследствие которой производителям приходится искать новые конкурентные пре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использование многими производителями Москвы в качестве экспериментальной площадки для своих новых продуктов и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более высокая культура потребления и уровень экологического сознания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популяризация здорового образа жизни среди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сложная экологическая ситуация в городе, что увеличивает озабоченность граждан экологическими проблем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772400" y="4756320"/>
            <a:ext cx="118116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СТЕПЕНИ СЕРТИФ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о несколько категорий и степеней сертификации: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- для общего потребления;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- диетические;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- для детей раннего возра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редъявляются наиболее жесткие требов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8004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АК НАМ МОРОЧАТ ГОЛО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йские производители нередко используют обозначения «экологически чистый», «натуральный» и т. д., которая сама по себе является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екламным трю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Они руководствуются тем, что российский рынок натуральных продуктов находится в зачаточном состоянии, а потребитель совершенно не знаком со стандартами кач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7010280" y="5181480"/>
            <a:ext cx="182880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А НА САМОМ ДЕЛ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то нужно зн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этикетке экологического продукта должны указываться следующие пун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и адрес юридического лица, несущего правовую ответственность за производство или переработку проду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производства, влияющая на свойства продукта (например, использование натуральных удобр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гредиенты продукта в последовательности их доли в ве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добавки с их полными названиями (например, красители, полученные из экологического сырь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компоненты вспомогательных веществ переработ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ные доли сертифицированного и несертифицированного сырья, указанные в процентном соотно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12193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ЦЕНА ВОПРОС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ор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сожалению, био-продукты не могут быть дешевыми – у них слишком высокая себестоимость, и производитель не может искусственными способами влиять на объемы урожая, скорость выращивания продукции, ее стойкость к болезням и насеком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целом потребители органической продукции люди обеспеченные, и будем надеяться, что число их будет р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А ВЫГОДА В ЧЁМ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рганическом питании содержится в 1,5 раза больше природных витаминов и питательных веществ, которые сохраняются благодаря щадящей термической обработке продуктов – при 70 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икальная технология позволяет максимально сохранить природное содержание витаминов в продукте и избежать «принудительного» обогащения витаминами и минерал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1428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СЁ ЛУЧШЕЕ – ДЕТЯ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изводстве детского органического пита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стью запрещено использо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ого рафинирования и дезодориров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дрогенизации и радиационного облу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усственных консервантов, улучшителей вкуса, подсластителей, ароматизатор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усственной минерализации и витамин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7620120" y="4876920"/>
            <a:ext cx="1311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ОТКУДА Ж ИНФОРМА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www.vitnik.ru/onishenko2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biosafety.ru/tmp/File/bulletin_28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evolution.allbest.ru›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Кулина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00101374_0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бейников В.П,Суханкин Е.А «Академия здоровья», М.: Наука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 социальной экологии, под ред. Протасова А.Г, М.: Высшая школа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ников А.В. Что мы едим?, М.: Коло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4"/>
          <a:stretch/>
        </p:blipFill>
        <p:spPr>
          <a:xfrm>
            <a:off x="6858000" y="502920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5"/>
          <a:stretch/>
        </p:blipFill>
        <p:spPr>
          <a:xfrm>
            <a:off x="990720" y="48769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ЧТО  ЖЕ ТАКОЕ КСЕНОБИОТ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сенобиот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ξενος ) — чужеродные для живых организмов химические вещества, естественно не входящие в биотический круговорот, и, как правило, прямо или косвенно порождённые хозяйственной деятельностью человека. ..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греч. xenos - чужой и bios – жизнь) чужеродные для организмов соединения. К ним относятся промышленные загрязнения, пестициды, препараты бытовой химии, лекарственные средства и т.п., т.е. вещества не образующиеся в живом объекте, а синтезируемые искусственно человек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66"/>
                </a:solidFill>
                <a:latin typeface="Garamond"/>
              </a:rPr>
              <a:t>СПАСИБО ЗА ВНИМАНИЕ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ЕРЕНЕВА АННА ИГОР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ИРОВСКИЙ МЕДИЦИНСКИЙ 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РУППА М/С -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DSCN8752 - копия"/>
          <p:cNvPicPr/>
          <p:nvPr/>
        </p:nvPicPr>
        <p:blipFill>
          <a:blip r:embed="rId1"/>
          <a:stretch/>
        </p:blipFill>
        <p:spPr>
          <a:xfrm>
            <a:off x="6481800" y="3048120"/>
            <a:ext cx="19573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ТАК ЧТО ЖЕ ТАКОЕ ЭЧП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РОДУКТЫ, С МИНИМАЛЬНЫМ КОЛИЧЕСТВОМ КСЕНОБИОТИКОВ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3067200" cy="226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2104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05520" y="45720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НИМАНИЕ,СИМВОЛЫ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 чистые (органические) продукты обязаны иметь на упаковке специальные лицензионные символы «Орга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ире существует несколько десятков лецензионных символов обозначающих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чески чистые проду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ы крупнейших Био-Органический Ассоциаци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048120" y="5334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4267080" y="541008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5257800" y="54100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324480" y="5486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5"/>
          <a:stretch/>
        </p:blipFill>
        <p:spPr>
          <a:xfrm>
            <a:off x="7238880" y="5486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6"/>
          <a:stretch/>
        </p:blipFill>
        <p:spPr>
          <a:xfrm>
            <a:off x="685800" y="457200"/>
            <a:ext cx="3124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А САМОМ ДЕЛ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актике абсолютно экологически чистых продуктов в нынешних условиях получить невозможно. Это миф. Существуют лиш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ее и менее экологически чистые проду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 с пищей, по некоторым данным, в организм человека попадает от 70 до 90% всех потенциально вредных ве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248520" y="5029200"/>
            <a:ext cx="2533680" cy="1684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128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А ЧТО В МИР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ие два десятилетия мировой рынок экологически чистых продуктов питания ( ЭЧП) бурно развивается и становится популярной альтернативой потреблению вредных и экологически небезопасных проду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2009 году его мировой объем составил 25 млрд долларов, ежегодные темпы роста в развитых странах составляют 20-30%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828800" cy="12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7238880" y="5562720"/>
            <a:ext cx="154332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ИЧИНЫ В ЧЁМ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ричины  развития рынка ЭЧП  кроются в следующем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экологические пищевые кризи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леднего десятилетия (эпидемия коровьего бешенства, эпидемия ящера, птичий грипп, др.) и рост недоверия к обычным продукта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щественные вол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поводу вреда генно-модифицированных компонентов, содержащихся в продуктах 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7391520" y="5638680"/>
            <a:ext cx="14000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РАВИТЕЛЬСТВА СТРАН ЗА ЭЧ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тельства развитых стран активно поддерживают экопроизводство, так как оно способствует укреплению внутреннего рынка, увеличению эк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егод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32 страны мира имеют полностью утвержденные стандарты на экологически чистую продукци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9 стран занимаются внедрением стандартиза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5 стран - разработкой таких стандартов 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7391520" y="4724280"/>
            <a:ext cx="13525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20:47:57Z</dcterms:created>
  <dc:creator>Надежда</dc:creator>
  <dc:description/>
  <dc:language>en-US</dc:language>
  <cp:lastModifiedBy>Елена</cp:lastModifiedBy>
  <dcterms:modified xsi:type="dcterms:W3CDTF">2013-02-11T02:34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