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9473-34B5-4B82-9D1F-3C0A9210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FFBF-054F-4AD5-A655-2909714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1EF8-7B20-4FE2-8A6A-ACF3D1C9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D27B-496E-403A-8E95-981A0439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6A3F-5D83-4625-9B22-60476973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70BD-643E-4EA9-92A6-DF29CB28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A3B7-5E05-4D02-AB9E-8EFA10F6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C1A0-6665-4FB9-95BE-C20C6C3B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03C6-87A6-4CBA-95E4-2A5F8674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E603-D45B-4327-8202-5F1DA1F9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01DB-C222-4F55-86EB-EF367EE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62C1-452A-465B-8395-19051C58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69D2-1864-402E-B020-E7A9F57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4F65-4B4D-4059-8D7F-A03D3FB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6C6-28C7-4141-AED2-5C9A63D0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42C4-DD44-4A10-97C0-6C5470BC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8088-80C0-4B86-9C2C-40C8A4C6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BD0E-AB90-4B42-9598-0F72439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A465-9A0A-4556-AD75-6FAFAC9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B181-39B6-4B5F-A601-1CAED0C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F4F1-551F-480E-B8AB-7A71C80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6FC4-0B85-435D-946A-5C135BD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D4C2-A6B9-436D-9106-E96F4FD2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EAE6-FD84-4A83-9C45-9B221C78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87FC-77AA-42F7-B020-01E5130FB4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C7E-F1EE-47D4-8463-856171B54D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vitnik.ru/onishenko2.htm" TargetMode="External"/><Relationship Id="rId2" Type="http://schemas.openxmlformats.org/officeDocument/2006/relationships/hyperlink" Target="http://revolution.allbest.ru/cookery/" TargetMode="External"/><Relationship Id="rId3" Type="http://schemas.openxmlformats.org/officeDocument/2006/relationships/hyperlink" Target="http://revolution.allbest.ru/cookery/00101374_0.html" TargetMode="Externa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ЭКОЛОГИЧЕСКИ ЧИСТЫЕ ПРОДУКТЫ.</a:t>
            </a:r>
            <a:br>
              <a:rPr sz="4600"/>
            </a:br>
            <a:r>
              <a:rPr b="1" lang="ru-RU" sz="46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601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НАЧАЛЕ БЫЛО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 экологически чистых продуктов родилась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США в 60-х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начально это была своего рода антикультура, протест против загрязнения планеты, злоупотребления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цов и покупателей не понимали, считали помешанными на своем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ортимент ЭЧП был небольшим, цены очень высокими, купить их можно было в редких специализированных магазин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764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ЭТАПЫ БОЛЬШОГО ПУ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89-1990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олна обострения беспокойства о безопасности продуктов питания привела к идее создания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 го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здание ряда государственных и публичных организаций, призванных разработать единые Национальные Стандарты на основе опроса общественного мнения и уже существующих, но разрозненных прави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0-1997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азработка единых Национальных Стандарт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1997-1998 г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партамент аграрной промышленности США (ДАП) предлагает к публичному обсуждению первый проект единых Национальных Стандартов на органик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Май 1998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АП США соглашается ввести запрет на использование генетически модификационных компонентов, облучения и жидких отходов в производстве органи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Март - июнь 2000 года - обсуждается окончательный вариант Национальных Стандартов на органику, предложенный ДАП СШ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1.04.2001-21.10.200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инятие и внедрение Национальных Стандартов на орган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АПРЕТЫ ДЛЯ СТАНДАР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национальных  стандартов на органику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использование искусственно созданных химических удоб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- 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именение генетически модификационных технолог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апр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употребление стимуляторов роста и откорма, антибиотиков и гормональных препаратов, а также использование кормов, созданных не на основе орга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6002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Natural Products (NP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одукты, состоящие полностью или большей частью из ингредиентов природного происхождения, с минимальным количеством химических веществ, искусственных наполнителей и пр. Натуральные продукты включают в себя прежде всего Organic Products (OP). По-русски их правильнее будет называть "экологически чистые продукты". ЭЧП - это продукты, выращенные на специально очищенной земле, без применения химических препаратов, с использованием лишь естественных удобрений, таких как навоз, компос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6858000" y="5410080"/>
            <a:ext cx="179064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Functional Foods (FF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одукты с искусственным добавлением полезных веществ, повышающих защитные функции организма (например, апельсиновый сок с добавлением эхинаце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562720" y="480060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ЛАССИФИКАЦИЯ ЭЧ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Nutraceutical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специальные добавки к пище, повышающие ее питательность, например, витамины. Они обязательно должны быть натурального происхождения. Большинство из них - экстракты из различных раст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4540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781680" y="4989600"/>
            <a:ext cx="221004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ПИКЕ ПОПУЛЯР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фе, чай, фрукты и овощи, представленные как в свежем, так и в обработанном ви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специи, сухофрукты и 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зонные продукты - свежие фрукты и овощи, пользующиеся повышенным спросом в определенные периоды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заменители традиционных продуктов: хлебобулочные изделия, молочная и мясная продукция, экологически чистые напитки и вина и т.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кологически чистые продукты для детей (детское питание, каши и т.д.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7086600" y="5638680"/>
            <a:ext cx="163836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Т И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группа ЭЧП стремительно растет и разв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ороженные продукты, полуфабрикаты и готовая еда - на 39% в 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ое питание - 38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ебобулочные продукты и хлопья - 37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чные и мясные продукты - 36% и 30% соответств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38880" y="5257800"/>
            <a:ext cx="16192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60-70-е годы ХХ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ждение идеи ЭЧ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арождение идеи "зеленого движения", пропагандирующего заботу об окружающей среде и здоровый образ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Формирование инициативных групп, переходящих на употребление натуральных или биопродуктов, выращенных без использования химических удобрений. Преобладает натуральное хозяйство, возникают специализированные минимагазинчик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е проникновение на рынок отсутств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184788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0-е годы ХХ век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уляризация, формирование спро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Рост популярности экологических идей, здорового и эко – потре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явление активного спроса на ЭЧП - стихийное формирование специализированного рынка, рост числа экопроизводителей, открытие магазинов ЭЧ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91520" y="14479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ЧТО ЭТО ЗНАЧИТ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развитых странах существуют четкие критерии, позволяющие отнести продукт к категори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кологически чистые (органические)  продукты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нетически модифицированные ингредиенты (ГМ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нгредиенты выращенные при использовании пестицидов, гербицидов, ядохимикатов и искусственных удоб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 чистые продукты (органическ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не содерж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кусственные консерванты, красители и вкусовые доб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119844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1047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ЭТАПЫ РАЗВИТИЯ РЫНК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-е годы ХХ века - начало ХХI ве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ние и стандартизац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ост интереса к перспективному рынку ЭЧП со стороны государства и крупн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тановление системы государственного регулирования рынка ЭЧП. Создание национальных стандартов на ЭЧП и системы сер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инамичное развитие рынка ЭЧП. Ежегодные темпы роста -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22096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РОССИЯ – АУТСАЙДЕР((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Россия является аутсайдером на рынке ЭЧП, но уже сегодня можно с уверенностью говорить о формировании этого рынка и его больших перспективах в нашей стр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2100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ОДОПЫТНЫЕ МОСКВИ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"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пытной площадкой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ормирования российского рынка ЭЧП является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ск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связано в первую очередь со следующими обстоятель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более высокий, по сравнению с другими регионами, уровень жизни в столице, что обеспечивает большую платежеспособность населения и, соответственно, лояльность покупателей к более дорогим продук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ысокая конкуренция на московском рынке, вследствие которой производителям приходится искать новые конкурентные пре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использование многими производителями Москвы в качестве экспериментальной площадки для своих новых продуктов и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высокая культура потребления и уровень экологического сознания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популяризация здорового образа жизни сред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 сложная экологическая ситуация в городе, что увеличивает озабоченность граждан экологическими проблем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7772400" y="4756320"/>
            <a:ext cx="118116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СТЕПЕНИ СЕРТ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о несколько категорий и степеней сертификации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общего потребления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иетические;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- для детей ранне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едъявляются наиболее жесткие требов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28004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К НАМ МОРОЧАТ ГОЛ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йские производители нередко используют обозначения «экологически чистый», «натуральный» и т. д., которая сама по себе является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екламным трю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Они руководствуются тем, что российский рынок натуральных продуктов находится в зачаточном состоянии, а потребитель совершенно не знаком со стандартами ка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82880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нужно зн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этикетке экологического продукта должны указываться следующие пун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и адрес юридического лица, несущего правовую ответственность за производство или переработку проду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производства, влияющая на свойства продукта (например, использование натуральных удобр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редиенты продукта в последовательности их доли в ве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обавки с их полными названиями (например, красители, полученные из экологического сырь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мпоненты вспомогательных веществ переработ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ные доли сертифицированного и несертифицированного сырья, указанные в процентном со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772400" y="533520"/>
            <a:ext cx="12193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ЕНА ВОПРОС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оро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сожалению, био-продукты не могут быть дешевыми – у них слишком высокая себестоимость, и производитель не может искусственными способами влиять на объемы урожая, скорость выращивания продукции, ее стойкость к болезням и насеком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лом потребители органической продукции люди обеспеченные, и будем надеяться, что число их будет р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ВЫГОДА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рганическом питании содержится в 1,5 раза больше природных витаминов и питательных веществ, которые сохраняются благодаря щадящей термической обработке продуктов – при 70 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никальная технология позволяет максимально сохранить природное содержание витаминов в продукте и избежать «принудительного» обогащения витаминами и минерал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428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СЁ ЛУЧШЕЕ – ДЕТЯ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изводстве детского органического пита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стью запрещено использо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ого рафинирования и дезодориров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дрогенизации и радиационного обл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ых консервантов, улучшителей вкуса, подсластителей, ароматизатор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усственной минерализации и витамин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1311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ОТКУДА Ж ИНФОРМАЦ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vitnik.ru/onishenko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biosafety.ru/tmp/File/bulletin_28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volution.allbest.ru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Кулина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00101374_0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бейников В.П,Суханкин Е.А «Академия здоровья», М.: Наука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социальной экологии, под ред. Протасова А.Г, М.: Высшая школа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ников А.В. Что мы едим?, М.: Коло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4"/>
          <a:stretch/>
        </p:blipFill>
        <p:spPr>
          <a:xfrm>
            <a:off x="6858000" y="50292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5"/>
          <a:stretch/>
        </p:blipFill>
        <p:spPr>
          <a:xfrm>
            <a:off x="990720" y="48769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ЧТО  ЖЕ ТАКОЕ КСЕНОБИ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сенобио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ξενος ) — чужеродные для живых организмов химические вещества, естественно не входящие в биотический круговорот, и, как правило, прямо или косвенно порождённые хозяйственной деятельностью человека. 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греч. xenos - чужой и bios – жизнь) чужеродные для организмов соединения. К ним относятся промышленные загрязнения, пестициды, препараты бытовой химии, лекарственные средства и т.п., т.е. вещества не образующиеся в живом объекте, а синтезируемые искусственно челове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66"/>
                </a:solidFill>
                <a:latin typeface="Garamond"/>
              </a:rPr>
              <a:t>СПАСИБО ЗА ВНИМАНИЕ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ЕРЕНЕВА АННА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ИРОВСКИЙ МЕДИЦИНСКИЙ 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ГРУППА М/С -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DSCN8752 - копия"/>
          <p:cNvPicPr/>
          <p:nvPr/>
        </p:nvPicPr>
        <p:blipFill>
          <a:blip r:embed="rId1"/>
          <a:stretch/>
        </p:blipFill>
        <p:spPr>
          <a:xfrm>
            <a:off x="6481800" y="3048120"/>
            <a:ext cx="19573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ТАК ЧТО ЖЕ ТАКОЕ ЭЧП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РОДУКТЫ, С МИНИМАЛЬНЫМ КОЛИЧЕСТВОМ КСЕНОБИОТИКОВ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3067200" cy="226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104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05520" y="4572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НИМАНИЕ,СИМВОЛЫ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 (органические) продукты обязаны иметь на упаковке специальные лицензионные символы «Орга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существует несколько десятков лецензионных символов обозначающих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ы крупнейших Био-Органический Ассоциаци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048120" y="5334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267080" y="5410080"/>
            <a:ext cx="628920" cy="628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257800" y="5410080"/>
            <a:ext cx="628560" cy="6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3244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5"/>
          <a:stretch/>
        </p:blipFill>
        <p:spPr>
          <a:xfrm>
            <a:off x="723888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6"/>
          <a:stretch/>
        </p:blipFill>
        <p:spPr>
          <a:xfrm>
            <a:off x="685800" y="457200"/>
            <a:ext cx="3124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А САМОМ ДЕЛ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 абсолютно экологически чистых продуктов в нынешних условиях получить невозможно. Это миф. Существуют лиш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ее и менее экологически чистые проду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 с пищей, по некоторым данным, в организм человека попадает от 70 до 90% всех потенциально вред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533680" cy="168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1289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ЧТО В МИР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два десятилетия мировой рынок экологически чистых продуктов питания ( ЭЧП) бурно развивается и становится популярной альтернативой потреблению вредных и экологически небезопасных прод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2009 году его мировой объем составил 25 млрд долларов, ежегодные темпы роста в развитых странах составляют 20-30%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1828800" cy="121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15433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ИЧИНЫ В ЧЁМ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ичины  развития рынка ЭЧП  кроются в следующем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экологические пищевые кризи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леднего десятилетия (эпидемия коровьего бешенства, эпидемия ящера, птичий грипп, др.) и рост недоверия к обычным продуктам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щественные вол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поводу вреда генно-модифицированных компонентов, содержащихся в продуктах пи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391520" y="5638680"/>
            <a:ext cx="14000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РАВИТЕЛЬСТВА СТРАН ЗА ЭЧ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ьства развитых стран активно поддерживают экопроизводство, так как оно способствует укреплению внутреннего рынка, увеличению эк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год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2 страны мира имеют полностью утвержденные стандарты на экологически чистую продук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9 стран занимаются внедрением стандартиз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5 стран - разработкой таких стандартов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391520" y="472428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20:47:57Z</dcterms:created>
  <dc:creator>Надежда</dc:creator>
  <dc:description/>
  <dc:language>en-US</dc:language>
  <cp:lastModifiedBy>Елена</cp:lastModifiedBy>
  <dcterms:modified xsi:type="dcterms:W3CDTF">2013-02-11T02:34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