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0BE-9ECE-4411-B7A6-3FEBABEC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700-4CAA-4939-BBBF-7FCACA30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C80-5DE0-476E-8AD5-54495ABD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10B-7E9B-4E57-A130-AF0AA7E9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E0B45-14E7-4B36-905F-1C4143BD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536C4-2747-4ADC-B89E-DAD05B9E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D9244-7C6C-4D07-A06D-42B0E5BB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37EBE-CF7D-41CC-AC95-E6E95308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FFA06-09D2-4B48-932F-FE53CD91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F0E04-8411-4446-898C-BF195719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B3AC2-7243-4878-9456-24C7F899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0A3-9C5A-47B1-BF62-B24E429E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BB594-0DB2-4CA8-A12D-848E8597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3186D-3E6E-48BA-9FD8-15E3CE84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56FD2-151A-411B-A0D7-49F09755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21646-D6AB-46A1-B150-5D88A0E2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A620D-8F79-40DB-9AE2-9BB5084D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631-8E42-484B-BFEC-44AEE3D4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404-98AA-4FBC-B44E-B0262789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D26-2714-4728-9038-C20C09AC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ADC-59C6-443B-94F9-BC8AEDAE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31F-72E6-4522-8A43-950B51BD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18A-A1BF-4359-850B-29072DEB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1A2-328B-4B46-9C00-45159FA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E13C-BBD7-429C-AAF2-AFA2CE4557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7D42-CDD8-41D5-B82D-3638FCCFDA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76360" y="836640"/>
            <a:ext cx="590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Edwardian Script ITC"/>
              </a:rPr>
              <a:t>Движения воды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Edwardian Script ITC"/>
              <a:ea typeface="Edwardian Scrip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Edwardian Script ITC"/>
              </a:rPr>
              <a:t>в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Edwardian Script ITC"/>
              <a:ea typeface="Edwardian Script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Edwardian Script ITC"/>
              </a:rPr>
              <a:t>Мировом океане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84" name=""/>
          <p:cNvSpPr/>
          <p:nvPr/>
        </p:nvSpPr>
        <p:spPr>
          <a:xfrm>
            <a:off x="3635280" y="5157720"/>
            <a:ext cx="532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втор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.В.Голышк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географии МОУ СОШ №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Грязи Липецкой об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чины возникнов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т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ная солё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емпер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верхностны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лубин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течение Западных Ветров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холодная вода опуск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приполярных област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движется в сторону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ватор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теч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96000" y="5516640"/>
            <a:ext cx="30193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олодные теч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5516640"/>
            <a:ext cx="2952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ёплые теч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5573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00720" y="17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4653000"/>
            <a:ext cx="19429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834920" y="4653000"/>
            <a:ext cx="21589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36360" y="-28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979640" y="6021360"/>
            <a:ext cx="576360" cy="287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5661000"/>
            <a:ext cx="719280" cy="730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771640" y="5733720"/>
            <a:ext cx="576360" cy="2142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492360" y="5660640"/>
            <a:ext cx="574920" cy="71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58920" y="6308640"/>
            <a:ext cx="576360" cy="2160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805360"/>
            <a:ext cx="647640" cy="14472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5661000"/>
            <a:ext cx="64764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508720" y="5300640"/>
            <a:ext cx="720720" cy="2160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867280" y="5516640"/>
            <a:ext cx="649440" cy="71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5661000"/>
            <a:ext cx="64764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67640" y="5950080"/>
            <a:ext cx="720720" cy="71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5803920"/>
            <a:ext cx="720720" cy="14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5589720"/>
            <a:ext cx="718920" cy="1458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0920" y="6524280"/>
            <a:ext cx="792000" cy="1443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459640" y="5950080"/>
            <a:ext cx="432000" cy="71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459640" y="5660640"/>
            <a:ext cx="684360" cy="1443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71640" y="6093000"/>
            <a:ext cx="576000" cy="2872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372360" y="5157360"/>
            <a:ext cx="576000" cy="14292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635280" y="5877000"/>
            <a:ext cx="316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Century Gothic"/>
              </a:rPr>
              <a:t>течение Западных Ветров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8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385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38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8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385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38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38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38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38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38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38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8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38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38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38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8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38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8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385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8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385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38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385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38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38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38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385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38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38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8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385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38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38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8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385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38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38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38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38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38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385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38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385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385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385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38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8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385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38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38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38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385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38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38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38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385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38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38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8893080" y="6237360"/>
            <a:ext cx="250920" cy="36036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360360"/>
              <a:gd name="textAreaBottom" fmla="*/ 344160 h 360360"/>
            </a:gdLst>
            <a:ahLst/>
            <a:rect l="textAreaLeft" t="textAreaTop" r="textAreaRight" b="textAreaBottom"/>
            <a:pathLst>
              <a:path w="21600" h="31007">
                <a:moveTo>
                  <a:pt x="0" y="0"/>
                </a:moveTo>
                <a:lnTo>
                  <a:pt x="21600" y="0"/>
                </a:lnTo>
                <a:lnTo>
                  <a:pt x="21600" y="31007"/>
                </a:lnTo>
                <a:lnTo>
                  <a:pt x="0" y="31007"/>
                </a:lnTo>
                <a:close/>
              </a:path>
              <a:path fill="lightenLess" w="21600" h="31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007">
                <a:moveTo>
                  <a:pt x="21600" y="0"/>
                </a:moveTo>
                <a:lnTo>
                  <a:pt x="21600" y="31007"/>
                </a:lnTo>
                <a:lnTo>
                  <a:pt x="20200" y="29607"/>
                </a:lnTo>
                <a:lnTo>
                  <a:pt x="20200" y="1400"/>
                </a:lnTo>
                <a:close/>
              </a:path>
              <a:path fill="darkenLess" w="21600" h="31007">
                <a:moveTo>
                  <a:pt x="21600" y="31007"/>
                </a:moveTo>
                <a:lnTo>
                  <a:pt x="0" y="31007"/>
                </a:lnTo>
                <a:lnTo>
                  <a:pt x="1400" y="29607"/>
                </a:lnTo>
                <a:lnTo>
                  <a:pt x="20200" y="29607"/>
                </a:lnTo>
                <a:close/>
              </a:path>
              <a:path fill="lighten" w="21600" h="31007">
                <a:moveTo>
                  <a:pt x="0" y="31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607"/>
                </a:lnTo>
                <a:close/>
              </a:path>
              <a:path fill="darken" w="21600" h="31007">
                <a:moveTo>
                  <a:pt x="3794" y="15504"/>
                </a:moveTo>
                <a:lnTo>
                  <a:pt x="17806" y="8497"/>
                </a:lnTo>
                <a:lnTo>
                  <a:pt x="17806" y="2251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349360"/>
            <a:ext cx="647640" cy="50328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1800">
            <a:off x="1834920" y="2781000"/>
            <a:ext cx="431640" cy="17460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2852640"/>
            <a:ext cx="576000" cy="432000"/>
          </a:xfrm>
          <a:custGeom>
            <a:avLst/>
            <a:gdLst/>
            <a:ahLst/>
            <a:rect l="l" t="t" r="r" b="b"/>
            <a:pathLst>
              <a:path w="302" h="302">
                <a:moveTo>
                  <a:pt x="120" y="302"/>
                </a:moveTo>
                <a:cubicBezTo>
                  <a:pt x="82" y="279"/>
                  <a:pt x="45" y="257"/>
                  <a:pt x="30" y="212"/>
                </a:cubicBezTo>
                <a:cubicBezTo>
                  <a:pt x="15" y="167"/>
                  <a:pt x="0" y="60"/>
                  <a:pt x="30" y="30"/>
                </a:cubicBezTo>
                <a:cubicBezTo>
                  <a:pt x="60" y="0"/>
                  <a:pt x="166" y="15"/>
                  <a:pt x="211" y="30"/>
                </a:cubicBezTo>
                <a:cubicBezTo>
                  <a:pt x="256" y="45"/>
                  <a:pt x="287" y="106"/>
                  <a:pt x="302" y="12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56000" y="2133360"/>
            <a:ext cx="360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56000" y="2276640"/>
            <a:ext cx="431640" cy="14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572000" y="692280"/>
            <a:ext cx="28728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836640"/>
            <a:ext cx="36036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780000" y="1196640"/>
            <a:ext cx="28728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419640" y="148428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987640" y="1844280"/>
            <a:ext cx="36036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668160"/>
            <a:ext cx="287280" cy="239760"/>
          </a:xfrm>
          <a:custGeom>
            <a:avLst/>
            <a:gdLst/>
            <a:ahLst/>
            <a:rect l="l" t="t" r="r" b="b"/>
            <a:pathLst>
              <a:path w="181" h="151">
                <a:moveTo>
                  <a:pt x="0" y="15"/>
                </a:moveTo>
                <a:cubicBezTo>
                  <a:pt x="34" y="7"/>
                  <a:pt x="68" y="0"/>
                  <a:pt x="91" y="15"/>
                </a:cubicBezTo>
                <a:cubicBezTo>
                  <a:pt x="114" y="30"/>
                  <a:pt x="121" y="83"/>
                  <a:pt x="136" y="106"/>
                </a:cubicBezTo>
                <a:cubicBezTo>
                  <a:pt x="151" y="129"/>
                  <a:pt x="174" y="144"/>
                  <a:pt x="181" y="15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1628640"/>
            <a:ext cx="360360" cy="287640"/>
          </a:xfrm>
          <a:custGeom>
            <a:avLst/>
            <a:gdLst/>
            <a:ahLst/>
            <a:rect l="l" t="t" r="r" b="b"/>
            <a:pathLst>
              <a:path w="227" h="181">
                <a:moveTo>
                  <a:pt x="0" y="181"/>
                </a:moveTo>
                <a:cubicBezTo>
                  <a:pt x="72" y="128"/>
                  <a:pt x="144" y="75"/>
                  <a:pt x="182" y="45"/>
                </a:cubicBezTo>
                <a:cubicBezTo>
                  <a:pt x="220" y="15"/>
                  <a:pt x="220" y="7"/>
                  <a:pt x="22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692280"/>
            <a:ext cx="757080" cy="936360"/>
          </a:xfrm>
          <a:custGeom>
            <a:avLst/>
            <a:gdLst/>
            <a:ahLst/>
            <a:rect l="l" t="t" r="r" b="b"/>
            <a:pathLst>
              <a:path w="492" h="545">
                <a:moveTo>
                  <a:pt x="431" y="545"/>
                </a:moveTo>
                <a:cubicBezTo>
                  <a:pt x="450" y="518"/>
                  <a:pt x="469" y="492"/>
                  <a:pt x="477" y="454"/>
                </a:cubicBezTo>
                <a:cubicBezTo>
                  <a:pt x="485" y="416"/>
                  <a:pt x="492" y="348"/>
                  <a:pt x="477" y="318"/>
                </a:cubicBezTo>
                <a:cubicBezTo>
                  <a:pt x="462" y="288"/>
                  <a:pt x="424" y="266"/>
                  <a:pt x="386" y="273"/>
                </a:cubicBezTo>
                <a:cubicBezTo>
                  <a:pt x="348" y="280"/>
                  <a:pt x="288" y="333"/>
                  <a:pt x="250" y="363"/>
                </a:cubicBezTo>
                <a:cubicBezTo>
                  <a:pt x="212" y="393"/>
                  <a:pt x="197" y="446"/>
                  <a:pt x="159" y="454"/>
                </a:cubicBezTo>
                <a:cubicBezTo>
                  <a:pt x="121" y="462"/>
                  <a:pt x="46" y="447"/>
                  <a:pt x="23" y="409"/>
                </a:cubicBezTo>
                <a:cubicBezTo>
                  <a:pt x="0" y="371"/>
                  <a:pt x="16" y="280"/>
                  <a:pt x="23" y="227"/>
                </a:cubicBezTo>
                <a:cubicBezTo>
                  <a:pt x="30" y="174"/>
                  <a:pt x="61" y="129"/>
                  <a:pt x="68" y="91"/>
                </a:cubicBezTo>
                <a:cubicBezTo>
                  <a:pt x="75" y="53"/>
                  <a:pt x="68" y="15"/>
                  <a:pt x="6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68600" y="871560"/>
            <a:ext cx="455760" cy="396720"/>
          </a:xfrm>
          <a:custGeom>
            <a:avLst/>
            <a:gdLst/>
            <a:ahLst/>
            <a:rect l="l" t="t" r="r" b="b"/>
            <a:pathLst>
              <a:path w="287" h="250">
                <a:moveTo>
                  <a:pt x="15" y="250"/>
                </a:moveTo>
                <a:cubicBezTo>
                  <a:pt x="7" y="201"/>
                  <a:pt x="0" y="152"/>
                  <a:pt x="15" y="114"/>
                </a:cubicBezTo>
                <a:cubicBezTo>
                  <a:pt x="30" y="76"/>
                  <a:pt x="67" y="38"/>
                  <a:pt x="105" y="23"/>
                </a:cubicBezTo>
                <a:cubicBezTo>
                  <a:pt x="143" y="8"/>
                  <a:pt x="211" y="0"/>
                  <a:pt x="241" y="23"/>
                </a:cubicBezTo>
                <a:cubicBezTo>
                  <a:pt x="271" y="46"/>
                  <a:pt x="287" y="122"/>
                  <a:pt x="287" y="160"/>
                </a:cubicBezTo>
                <a:cubicBezTo>
                  <a:pt x="287" y="198"/>
                  <a:pt x="249" y="235"/>
                  <a:pt x="241" y="2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20107800">
            <a:off x="975960" y="2447640"/>
            <a:ext cx="11365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Гольфстрим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  <p:sp>
        <p:nvSpPr>
          <p:cNvPr id="168" name=""/>
          <p:cNvSpPr txBox="1"/>
          <p:nvPr/>
        </p:nvSpPr>
        <p:spPr>
          <a:xfrm rot="19259400">
            <a:off x="2936880" y="1409400"/>
            <a:ext cx="2230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Северо - Атлантическое  течение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000"/>
                            </p:stCondLst>
                            <p:childTnLst>
                              <p:par>
                                <p:cTn id="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8820000" y="602136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5172" y="10800"/>
                </a:moveTo>
                <a:lnTo>
                  <a:pt x="19185" y="3794"/>
                </a:lnTo>
                <a:lnTo>
                  <a:pt x="191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549360"/>
            <a:ext cx="216000" cy="358560"/>
          </a:xfrm>
          <a:custGeom>
            <a:avLst/>
            <a:gdLst/>
            <a:ahLst/>
            <a:rect l="l" t="t" r="r" b="b"/>
            <a:pathLst>
              <a:path w="136" h="226">
                <a:moveTo>
                  <a:pt x="136" y="0"/>
                </a:moveTo>
                <a:cubicBezTo>
                  <a:pt x="124" y="15"/>
                  <a:pt x="113" y="30"/>
                  <a:pt x="90" y="45"/>
                </a:cubicBezTo>
                <a:cubicBezTo>
                  <a:pt x="67" y="60"/>
                  <a:pt x="0" y="60"/>
                  <a:pt x="0" y="90"/>
                </a:cubicBezTo>
                <a:cubicBezTo>
                  <a:pt x="0" y="120"/>
                  <a:pt x="75" y="196"/>
                  <a:pt x="90" y="22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1125360"/>
            <a:ext cx="431640" cy="887760"/>
          </a:xfrm>
          <a:custGeom>
            <a:avLst/>
            <a:gdLst/>
            <a:ahLst/>
            <a:rect l="l" t="t" r="r" b="b"/>
            <a:pathLst>
              <a:path w="272" h="559">
                <a:moveTo>
                  <a:pt x="272" y="0"/>
                </a:moveTo>
                <a:cubicBezTo>
                  <a:pt x="257" y="11"/>
                  <a:pt x="242" y="22"/>
                  <a:pt x="227" y="45"/>
                </a:cubicBezTo>
                <a:cubicBezTo>
                  <a:pt x="212" y="68"/>
                  <a:pt x="189" y="106"/>
                  <a:pt x="182" y="136"/>
                </a:cubicBezTo>
                <a:cubicBezTo>
                  <a:pt x="175" y="166"/>
                  <a:pt x="175" y="203"/>
                  <a:pt x="182" y="226"/>
                </a:cubicBezTo>
                <a:cubicBezTo>
                  <a:pt x="189" y="249"/>
                  <a:pt x="220" y="242"/>
                  <a:pt x="227" y="272"/>
                </a:cubicBezTo>
                <a:cubicBezTo>
                  <a:pt x="234" y="302"/>
                  <a:pt x="242" y="378"/>
                  <a:pt x="227" y="408"/>
                </a:cubicBezTo>
                <a:cubicBezTo>
                  <a:pt x="212" y="438"/>
                  <a:pt x="159" y="430"/>
                  <a:pt x="136" y="453"/>
                </a:cubicBezTo>
                <a:cubicBezTo>
                  <a:pt x="113" y="476"/>
                  <a:pt x="114" y="529"/>
                  <a:pt x="91" y="544"/>
                </a:cubicBezTo>
                <a:cubicBezTo>
                  <a:pt x="68" y="559"/>
                  <a:pt x="15" y="544"/>
                  <a:pt x="0" y="54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20606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408" y="0"/>
                </a:moveTo>
                <a:cubicBezTo>
                  <a:pt x="378" y="34"/>
                  <a:pt x="348" y="68"/>
                  <a:pt x="318" y="91"/>
                </a:cubicBezTo>
                <a:cubicBezTo>
                  <a:pt x="288" y="114"/>
                  <a:pt x="257" y="121"/>
                  <a:pt x="227" y="136"/>
                </a:cubicBezTo>
                <a:cubicBezTo>
                  <a:pt x="197" y="151"/>
                  <a:pt x="166" y="152"/>
                  <a:pt x="136" y="182"/>
                </a:cubicBezTo>
                <a:cubicBezTo>
                  <a:pt x="106" y="212"/>
                  <a:pt x="69" y="281"/>
                  <a:pt x="46" y="318"/>
                </a:cubicBezTo>
                <a:cubicBezTo>
                  <a:pt x="23" y="355"/>
                  <a:pt x="8" y="385"/>
                  <a:pt x="0" y="408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19092000">
            <a:off x="925560" y="1854360"/>
            <a:ext cx="17064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Century Gothic"/>
              </a:rPr>
              <a:t>Лабрадорское течение</a:t>
            </a:r>
            <a:endParaRPr b="1" i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9640" y="1413000"/>
            <a:ext cx="79362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уч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рового Океа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1979640" y="6021360"/>
            <a:ext cx="576360" cy="28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5661000"/>
            <a:ext cx="719280" cy="73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71640" y="5733720"/>
            <a:ext cx="576360" cy="214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92360" y="5660640"/>
            <a:ext cx="574920" cy="71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58920" y="6308640"/>
            <a:ext cx="57636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5805360"/>
            <a:ext cx="647640" cy="144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84720" y="5661000"/>
            <a:ext cx="647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08720" y="5300640"/>
            <a:ext cx="72072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867280" y="5516640"/>
            <a:ext cx="649440" cy="7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5661000"/>
            <a:ext cx="647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950080"/>
            <a:ext cx="720720" cy="7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96360" y="5803920"/>
            <a:ext cx="720720" cy="1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5589720"/>
            <a:ext cx="718920" cy="14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50920" y="6524280"/>
            <a:ext cx="792000" cy="144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459640" y="5950080"/>
            <a:ext cx="432000" cy="7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459640" y="5660640"/>
            <a:ext cx="684360" cy="144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971640" y="6093000"/>
            <a:ext cx="576000" cy="28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72360" y="5157360"/>
            <a:ext cx="576000" cy="142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2349360"/>
            <a:ext cx="647640" cy="50328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1800">
            <a:off x="1834920" y="2781000"/>
            <a:ext cx="431640" cy="17460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0" y="317"/>
                </a:moveTo>
                <a:cubicBezTo>
                  <a:pt x="7" y="268"/>
                  <a:pt x="15" y="219"/>
                  <a:pt x="45" y="181"/>
                </a:cubicBezTo>
                <a:cubicBezTo>
                  <a:pt x="75" y="143"/>
                  <a:pt x="136" y="113"/>
                  <a:pt x="181" y="90"/>
                </a:cubicBezTo>
                <a:cubicBezTo>
                  <a:pt x="226" y="67"/>
                  <a:pt x="279" y="60"/>
                  <a:pt x="317" y="45"/>
                </a:cubicBezTo>
                <a:cubicBezTo>
                  <a:pt x="355" y="30"/>
                  <a:pt x="393" y="7"/>
                  <a:pt x="4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852640"/>
            <a:ext cx="576000" cy="432000"/>
          </a:xfrm>
          <a:custGeom>
            <a:avLst/>
            <a:gdLst/>
            <a:ahLst/>
            <a:rect l="l" t="t" r="r" b="b"/>
            <a:pathLst>
              <a:path w="302" h="302">
                <a:moveTo>
                  <a:pt x="120" y="302"/>
                </a:moveTo>
                <a:cubicBezTo>
                  <a:pt x="82" y="279"/>
                  <a:pt x="45" y="257"/>
                  <a:pt x="30" y="212"/>
                </a:cubicBezTo>
                <a:cubicBezTo>
                  <a:pt x="15" y="167"/>
                  <a:pt x="0" y="60"/>
                  <a:pt x="30" y="30"/>
                </a:cubicBezTo>
                <a:cubicBezTo>
                  <a:pt x="60" y="0"/>
                  <a:pt x="166" y="15"/>
                  <a:pt x="211" y="30"/>
                </a:cubicBezTo>
                <a:cubicBezTo>
                  <a:pt x="256" y="45"/>
                  <a:pt x="287" y="106"/>
                  <a:pt x="302" y="12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56000" y="2133360"/>
            <a:ext cx="360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556000" y="2276640"/>
            <a:ext cx="431640" cy="14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140360" y="691920"/>
            <a:ext cx="5760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780000" y="1196640"/>
            <a:ext cx="28728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419640" y="148428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987640" y="1844280"/>
            <a:ext cx="360360" cy="21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692280"/>
            <a:ext cx="431640" cy="215640"/>
          </a:xfrm>
          <a:custGeom>
            <a:avLst/>
            <a:gdLst/>
            <a:ahLst/>
            <a:rect l="l" t="t" r="r" b="b"/>
            <a:pathLst>
              <a:path w="181" h="151">
                <a:moveTo>
                  <a:pt x="0" y="15"/>
                </a:moveTo>
                <a:cubicBezTo>
                  <a:pt x="34" y="7"/>
                  <a:pt x="68" y="0"/>
                  <a:pt x="91" y="15"/>
                </a:cubicBezTo>
                <a:cubicBezTo>
                  <a:pt x="114" y="30"/>
                  <a:pt x="121" y="83"/>
                  <a:pt x="136" y="106"/>
                </a:cubicBezTo>
                <a:cubicBezTo>
                  <a:pt x="151" y="129"/>
                  <a:pt x="174" y="144"/>
                  <a:pt x="181" y="15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1628640"/>
            <a:ext cx="360360" cy="287640"/>
          </a:xfrm>
          <a:custGeom>
            <a:avLst/>
            <a:gdLst/>
            <a:ahLst/>
            <a:rect l="l" t="t" r="r" b="b"/>
            <a:pathLst>
              <a:path w="227" h="181">
                <a:moveTo>
                  <a:pt x="0" y="181"/>
                </a:moveTo>
                <a:cubicBezTo>
                  <a:pt x="72" y="128"/>
                  <a:pt x="144" y="75"/>
                  <a:pt x="182" y="45"/>
                </a:cubicBezTo>
                <a:cubicBezTo>
                  <a:pt x="220" y="15"/>
                  <a:pt x="220" y="7"/>
                  <a:pt x="22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35280" y="692280"/>
            <a:ext cx="757080" cy="936360"/>
          </a:xfrm>
          <a:custGeom>
            <a:avLst/>
            <a:gdLst/>
            <a:ahLst/>
            <a:rect l="l" t="t" r="r" b="b"/>
            <a:pathLst>
              <a:path w="492" h="545">
                <a:moveTo>
                  <a:pt x="431" y="545"/>
                </a:moveTo>
                <a:cubicBezTo>
                  <a:pt x="450" y="518"/>
                  <a:pt x="469" y="492"/>
                  <a:pt x="477" y="454"/>
                </a:cubicBezTo>
                <a:cubicBezTo>
                  <a:pt x="485" y="416"/>
                  <a:pt x="492" y="348"/>
                  <a:pt x="477" y="318"/>
                </a:cubicBezTo>
                <a:cubicBezTo>
                  <a:pt x="462" y="288"/>
                  <a:pt x="424" y="266"/>
                  <a:pt x="386" y="273"/>
                </a:cubicBezTo>
                <a:cubicBezTo>
                  <a:pt x="348" y="280"/>
                  <a:pt x="288" y="333"/>
                  <a:pt x="250" y="363"/>
                </a:cubicBezTo>
                <a:cubicBezTo>
                  <a:pt x="212" y="393"/>
                  <a:pt x="197" y="446"/>
                  <a:pt x="159" y="454"/>
                </a:cubicBezTo>
                <a:cubicBezTo>
                  <a:pt x="121" y="462"/>
                  <a:pt x="46" y="447"/>
                  <a:pt x="23" y="409"/>
                </a:cubicBezTo>
                <a:cubicBezTo>
                  <a:pt x="0" y="371"/>
                  <a:pt x="16" y="280"/>
                  <a:pt x="23" y="227"/>
                </a:cubicBezTo>
                <a:cubicBezTo>
                  <a:pt x="30" y="174"/>
                  <a:pt x="61" y="129"/>
                  <a:pt x="68" y="91"/>
                </a:cubicBezTo>
                <a:cubicBezTo>
                  <a:pt x="75" y="53"/>
                  <a:pt x="68" y="15"/>
                  <a:pt x="6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68600" y="871560"/>
            <a:ext cx="455760" cy="396720"/>
          </a:xfrm>
          <a:custGeom>
            <a:avLst/>
            <a:gdLst/>
            <a:ahLst/>
            <a:rect l="l" t="t" r="r" b="b"/>
            <a:pathLst>
              <a:path w="287" h="250">
                <a:moveTo>
                  <a:pt x="15" y="250"/>
                </a:moveTo>
                <a:cubicBezTo>
                  <a:pt x="7" y="201"/>
                  <a:pt x="0" y="152"/>
                  <a:pt x="15" y="114"/>
                </a:cubicBezTo>
                <a:cubicBezTo>
                  <a:pt x="30" y="76"/>
                  <a:pt x="67" y="38"/>
                  <a:pt x="105" y="23"/>
                </a:cubicBezTo>
                <a:cubicBezTo>
                  <a:pt x="143" y="8"/>
                  <a:pt x="211" y="0"/>
                  <a:pt x="241" y="23"/>
                </a:cubicBezTo>
                <a:cubicBezTo>
                  <a:pt x="271" y="46"/>
                  <a:pt x="287" y="122"/>
                  <a:pt x="287" y="160"/>
                </a:cubicBezTo>
                <a:cubicBezTo>
                  <a:pt x="287" y="198"/>
                  <a:pt x="249" y="235"/>
                  <a:pt x="241" y="2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549360"/>
            <a:ext cx="216000" cy="358560"/>
          </a:xfrm>
          <a:custGeom>
            <a:avLst/>
            <a:gdLst/>
            <a:ahLst/>
            <a:rect l="l" t="t" r="r" b="b"/>
            <a:pathLst>
              <a:path w="136" h="226">
                <a:moveTo>
                  <a:pt x="136" y="0"/>
                </a:moveTo>
                <a:cubicBezTo>
                  <a:pt x="124" y="15"/>
                  <a:pt x="113" y="30"/>
                  <a:pt x="90" y="45"/>
                </a:cubicBezTo>
                <a:cubicBezTo>
                  <a:pt x="67" y="60"/>
                  <a:pt x="0" y="60"/>
                  <a:pt x="0" y="90"/>
                </a:cubicBezTo>
                <a:cubicBezTo>
                  <a:pt x="0" y="120"/>
                  <a:pt x="75" y="196"/>
                  <a:pt x="90" y="22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1125360"/>
            <a:ext cx="431640" cy="887760"/>
          </a:xfrm>
          <a:custGeom>
            <a:avLst/>
            <a:gdLst/>
            <a:ahLst/>
            <a:rect l="l" t="t" r="r" b="b"/>
            <a:pathLst>
              <a:path w="272" h="559">
                <a:moveTo>
                  <a:pt x="272" y="0"/>
                </a:moveTo>
                <a:cubicBezTo>
                  <a:pt x="257" y="11"/>
                  <a:pt x="242" y="22"/>
                  <a:pt x="227" y="45"/>
                </a:cubicBezTo>
                <a:cubicBezTo>
                  <a:pt x="212" y="68"/>
                  <a:pt x="189" y="106"/>
                  <a:pt x="182" y="136"/>
                </a:cubicBezTo>
                <a:cubicBezTo>
                  <a:pt x="175" y="166"/>
                  <a:pt x="175" y="203"/>
                  <a:pt x="182" y="226"/>
                </a:cubicBezTo>
                <a:cubicBezTo>
                  <a:pt x="189" y="249"/>
                  <a:pt x="220" y="242"/>
                  <a:pt x="227" y="272"/>
                </a:cubicBezTo>
                <a:cubicBezTo>
                  <a:pt x="234" y="302"/>
                  <a:pt x="242" y="378"/>
                  <a:pt x="227" y="408"/>
                </a:cubicBezTo>
                <a:cubicBezTo>
                  <a:pt x="212" y="438"/>
                  <a:pt x="159" y="430"/>
                  <a:pt x="136" y="453"/>
                </a:cubicBezTo>
                <a:cubicBezTo>
                  <a:pt x="113" y="476"/>
                  <a:pt x="114" y="529"/>
                  <a:pt x="91" y="544"/>
                </a:cubicBezTo>
                <a:cubicBezTo>
                  <a:pt x="68" y="559"/>
                  <a:pt x="15" y="544"/>
                  <a:pt x="0" y="544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060640"/>
            <a:ext cx="647640" cy="647640"/>
          </a:xfrm>
          <a:custGeom>
            <a:avLst/>
            <a:gdLst/>
            <a:ahLst/>
            <a:rect l="l" t="t" r="r" b="b"/>
            <a:pathLst>
              <a:path w="408" h="408">
                <a:moveTo>
                  <a:pt x="408" y="0"/>
                </a:moveTo>
                <a:cubicBezTo>
                  <a:pt x="378" y="34"/>
                  <a:pt x="348" y="68"/>
                  <a:pt x="318" y="91"/>
                </a:cubicBezTo>
                <a:cubicBezTo>
                  <a:pt x="288" y="114"/>
                  <a:pt x="257" y="121"/>
                  <a:pt x="227" y="136"/>
                </a:cubicBezTo>
                <a:cubicBezTo>
                  <a:pt x="197" y="151"/>
                  <a:pt x="166" y="152"/>
                  <a:pt x="136" y="182"/>
                </a:cubicBezTo>
                <a:cubicBezTo>
                  <a:pt x="106" y="212"/>
                  <a:pt x="69" y="281"/>
                  <a:pt x="46" y="318"/>
                </a:cubicBezTo>
                <a:cubicBezTo>
                  <a:pt x="23" y="355"/>
                  <a:pt x="8" y="385"/>
                  <a:pt x="0" y="408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38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38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38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38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8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385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38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38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8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385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38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38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38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385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38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0" dur="385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2" dur="38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4" dur="38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38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385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3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38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385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0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38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385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38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38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38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385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8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0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385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385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7" dur="38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9" dur="38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4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6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8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38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385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38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38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38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385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38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38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38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1" dur="385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3" dur="38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5" dur="38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385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0" dur="385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2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4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38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385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0"/>
                            </p:stCondLst>
                            <p:childTnLst>
                              <p:par>
                                <p:cTn id="7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6000"/>
                            </p:stCondLst>
                            <p:childTnLst>
                              <p:par>
                                <p:cTn id="7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9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26920" y="26028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ви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59280" y="1700280"/>
            <a:ext cx="4095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ффект Кориол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920" y="3860640"/>
            <a:ext cx="4343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иркуляция теч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197000"/>
            <a:ext cx="143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тёпл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троп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ве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84360" y="1197000"/>
            <a:ext cx="1349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холод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поляр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ве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716360" y="2637000"/>
            <a:ext cx="11541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северн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эква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596360" y="2637000"/>
            <a:ext cx="11318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южн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эква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4005360"/>
            <a:ext cx="934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впра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885080" y="4005360"/>
            <a:ext cx="720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вле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5084640"/>
            <a:ext cx="151272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север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полушар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132000" y="5013360"/>
            <a:ext cx="167004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юж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полушар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6165720"/>
            <a:ext cx="15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по часо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987640" y="630864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против часо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9280" y="2565360"/>
            <a:ext cx="11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с вост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на зап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56000" y="2565360"/>
            <a:ext cx="11746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с запа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на во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620640"/>
            <a:ext cx="50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435640" y="2205000"/>
            <a:ext cx="5047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116000" y="4365720"/>
            <a:ext cx="719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71280" y="5734080"/>
            <a:ext cx="21564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16360" y="2133720"/>
            <a:ext cx="21564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57340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4365720"/>
            <a:ext cx="7189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20500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900000" y="692280"/>
            <a:ext cx="50328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01080" y="3500280"/>
            <a:ext cx="144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363640" y="3500280"/>
            <a:ext cx="142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11280" y="2133720"/>
            <a:ext cx="288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0"/>
                            </p:stCondLst>
                            <p:childTnLst>
                              <p:par>
                                <p:cTn id="8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000"/>
                            </p:stCondLst>
                            <p:childTnLst>
                              <p:par>
                                <p:cTn id="8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9000"/>
                            </p:stCondLst>
                            <p:childTnLst>
                              <p:par>
                                <p:cTn id="8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77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2" dur="770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4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6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3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000"/>
                            </p:stCondLst>
                            <p:childTnLst>
                              <p:par>
                                <p:cTn id="9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9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1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3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9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1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3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77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0" dur="770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2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4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2997360"/>
            <a:ext cx="85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Волны в Мировом океане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71640" y="549360"/>
            <a:ext cx="770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ртикальное движение воды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197000"/>
            <a:ext cx="7920000" cy="4079880"/>
          </a:xfrm>
          <a:custGeom>
            <a:avLst/>
            <a:gdLst/>
            <a:ahLst/>
            <a:rect l="l" t="t" r="r" b="b"/>
            <a:pathLst>
              <a:path w="4989" h="2570">
                <a:moveTo>
                  <a:pt x="0" y="2041"/>
                </a:moveTo>
                <a:cubicBezTo>
                  <a:pt x="30" y="2207"/>
                  <a:pt x="61" y="2374"/>
                  <a:pt x="227" y="2041"/>
                </a:cubicBezTo>
                <a:cubicBezTo>
                  <a:pt x="393" y="1708"/>
                  <a:pt x="749" y="22"/>
                  <a:pt x="998" y="45"/>
                </a:cubicBezTo>
                <a:cubicBezTo>
                  <a:pt x="1247" y="68"/>
                  <a:pt x="1422" y="1935"/>
                  <a:pt x="1724" y="2177"/>
                </a:cubicBezTo>
                <a:cubicBezTo>
                  <a:pt x="2026" y="2419"/>
                  <a:pt x="2532" y="1837"/>
                  <a:pt x="2812" y="1497"/>
                </a:cubicBezTo>
                <a:cubicBezTo>
                  <a:pt x="3092" y="1157"/>
                  <a:pt x="3160" y="0"/>
                  <a:pt x="3402" y="136"/>
                </a:cubicBezTo>
                <a:cubicBezTo>
                  <a:pt x="3644" y="272"/>
                  <a:pt x="4000" y="2056"/>
                  <a:pt x="4264" y="2313"/>
                </a:cubicBezTo>
                <a:cubicBezTo>
                  <a:pt x="4528" y="2570"/>
                  <a:pt x="4868" y="1784"/>
                  <a:pt x="4989" y="167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97360"/>
            <a:ext cx="6337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1341360"/>
            <a:ext cx="0" cy="3382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1413000"/>
            <a:ext cx="0" cy="3382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797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48690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661000"/>
            <a:ext cx="3744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19640" y="4869000"/>
            <a:ext cx="152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ош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867280" y="3213000"/>
            <a:ext cx="88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51280" y="5805360"/>
            <a:ext cx="152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ина 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51640" y="1052640"/>
            <a:ext cx="1312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еб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92360" y="981000"/>
            <a:ext cx="1312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еб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5280" y="3068640"/>
            <a:ext cx="88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140360" y="126828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ДЫ ВОЛ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етровы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Цунами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        Прилив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ричины возникновения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етер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одводны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 Притяжение  вод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землетрясения,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Мирового океана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извержения вулканов,        Луной и Солнцем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опол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24000" y="404640"/>
            <a:ext cx="1511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404640"/>
            <a:ext cx="1657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26560" y="1268280"/>
            <a:ext cx="360360" cy="1370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96360" y="1268280"/>
            <a:ext cx="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65800" cy="334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900000" y="3357720"/>
            <a:ext cx="5004000" cy="37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500720" y="0"/>
            <a:ext cx="46432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64328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8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38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8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38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3236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979640" y="549360"/>
            <a:ext cx="52149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изонтально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ижение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3141720"/>
            <a:ext cx="7417080" cy="24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ч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8000" y="259920"/>
            <a:ext cx="89280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1937 году была создана первая Советская научная станция на Северном полюсе. Четыре исследователя дрейфовали на льдине 274 дня и завершили экспедицию в точке с координатами 7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с.ш. и 2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з.д.. Проследите маршрут экспедиции по карте океанов. Объясните причину такого движения поляр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Известный норвежский путешественник Тур Хейердал вышел на парусном плоту «Кон-Тики» из порта Кальяо (1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ю.ш. и 77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з.д. ). В точке с координатами 2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ю.ш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и 135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з.д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плот впервые достиг суши. Проследите путь путешественника и объясните направление его дви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08:02:19Z</dcterms:created>
  <dc:creator>User</dc:creator>
  <dc:description/>
  <dc:language>en-US</dc:language>
  <cp:lastModifiedBy>Admin</cp:lastModifiedBy>
  <dcterms:modified xsi:type="dcterms:W3CDTF">2009-08-29T20:45:47Z</dcterms:modified>
  <cp:revision>4</cp:revision>
  <dc:subject/>
  <dc:title>Слайд 1</dc:title>
</cp:coreProperties>
</file>