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F23-9E76-4923-AE22-5B0002F6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055-C321-4264-B46A-4E00675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A9F-A421-43B9-B88A-B589DAF5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713-C808-4D6E-93DF-BD329A42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E42-F8F9-4ADA-9085-7937630B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5A3-C97B-40A9-96AA-83CCBE8A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B22-7043-4D51-A2FE-622C120B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01E-3363-499C-A559-3A70523D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BED-1634-406A-9FA9-4A1631C4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D0D-858D-4240-8FCA-338805C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F5C-5E28-48B4-9319-02EFA71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179-0A6F-4672-8DFF-0E22607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C6D2-BCB6-4DF9-9945-F222F77987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63128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Зима Ирина Владимировна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учитель начальных классов</a:t>
            </a: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МОУ «Климовская оош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Ясногорский район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Тульская область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отрезо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 и покажи 1/9, 4/9, 2/3, 1/3, 8/9 данного отрез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539640" y="4221000"/>
            <a:ext cx="8136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203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08472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34000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76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4140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507672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948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88508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539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8675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дол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7 от 14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5 от 40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2 от 50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9 от 63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6948360" y="1341360"/>
            <a:ext cx="1656000" cy="172728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7380360" y="18651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4140360" y="2205000"/>
            <a:ext cx="165564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730760" y="2637000"/>
            <a:ext cx="5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6012000" y="3357720"/>
            <a:ext cx="1800000" cy="1706400"/>
          </a:xfrm>
          <a:prstGeom prst="su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675480" y="3789360"/>
            <a:ext cx="4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4067280" y="4437000"/>
            <a:ext cx="1873080" cy="1728720"/>
          </a:xfrm>
          <a:prstGeom prst="su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716360" y="4941720"/>
            <a:ext cx="6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02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03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06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07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9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0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1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4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5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8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9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22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23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26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27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30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31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предел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четвертых долей каждой фигуры закраси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55640" y="3213000"/>
            <a:ext cx="223200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 rot="18882600">
            <a:off x="1092240" y="3555720"/>
            <a:ext cx="1528560" cy="1614600"/>
          </a:xfrm>
          <a:prstGeom prst="flowChartCollat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492360" y="3068640"/>
            <a:ext cx="1800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492360" y="3789360"/>
            <a:ext cx="1800360" cy="216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492360" y="450864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492360" y="522936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378936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5796000" y="3068640"/>
            <a:ext cx="3097080" cy="25210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6588000" y="2997360"/>
            <a:ext cx="1513080" cy="12952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7"/>
          <p:cNvSpPr/>
          <p:nvPr/>
        </p:nvSpPr>
        <p:spPr>
          <a:xfrm rot="14463600">
            <a:off x="5631480" y="4574160"/>
            <a:ext cx="1514520" cy="13795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 rot="7159800">
            <a:off x="7520400" y="4602600"/>
            <a:ext cx="1482480" cy="12938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7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1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0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7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одума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часть всех мячей состав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зелёные мячи;  б) жёлтые мя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84360" y="3357720"/>
            <a:ext cx="11509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627280" y="3357720"/>
            <a:ext cx="11527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500720" y="3357720"/>
            <a:ext cx="11509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6300720" y="3357720"/>
            <a:ext cx="1150920" cy="11509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684360" y="4869000"/>
            <a:ext cx="115092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2700360" y="4869000"/>
            <a:ext cx="1150920" cy="11509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4572000" y="4869000"/>
            <a:ext cx="115236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6300720" y="4869000"/>
            <a:ext cx="122400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АННОТАЦИЯ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8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работы: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« Дол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онный материал к уроку 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ные технолог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rosoft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ие рекомендации: использовать при закреплении и обобщении материала по теме «Дол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дитория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4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работы-13слай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6400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ировать знания учащихся по теме «Дол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находить несколько долей цел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находить число по доле и долю по чис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сравнивать до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определять время по ча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интерес к математике, стремление использовать математические знания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дол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443640" y="1484280"/>
            <a:ext cx="144144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635280" y="2492280"/>
            <a:ext cx="1584360" cy="1513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6588000" y="3429000"/>
            <a:ext cx="151308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3780000" y="4797360"/>
            <a:ext cx="1511280" cy="1511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27640" y="2492280"/>
            <a:ext cx="0" cy="15130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708360" y="3284640"/>
            <a:ext cx="1511280" cy="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7164360" y="1484280"/>
            <a:ext cx="0" cy="144000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6588000" y="1844640"/>
            <a:ext cx="1152720" cy="792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6516720" y="1844640"/>
            <a:ext cx="1224000" cy="720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4572000" y="4724280"/>
            <a:ext cx="0" cy="792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3924000" y="5516640"/>
            <a:ext cx="647640" cy="43344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572000" y="5516640"/>
            <a:ext cx="720720" cy="288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7308720" y="3429000"/>
            <a:ext cx="0" cy="1584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6588000" y="4221000"/>
            <a:ext cx="1440000" cy="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6804000" y="3645000"/>
            <a:ext cx="1008000" cy="10792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>
            <a:off x="6876720" y="3645000"/>
            <a:ext cx="934920" cy="10792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акая доля меньше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68360" y="1773360"/>
            <a:ext cx="1008360" cy="40320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95640" y="1773360"/>
            <a:ext cx="1081080" cy="40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724360" y="1773360"/>
            <a:ext cx="1079640" cy="40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7380360" y="1773360"/>
            <a:ext cx="1079280" cy="403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268360" y="3716280"/>
            <a:ext cx="100836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3995640" y="3068640"/>
            <a:ext cx="10810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3995640" y="436572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5724360" y="3716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5724360" y="2708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5724360" y="4724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7380360" y="3716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7"/>
          <p:cNvSpPr/>
          <p:nvPr/>
        </p:nvSpPr>
        <p:spPr>
          <a:xfrm>
            <a:off x="7380360" y="2708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>
            <a:off x="7380360" y="4724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>
            <a:off x="7380360" y="2205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7380360" y="3213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7380360" y="4221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7380360" y="530064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45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46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51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56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60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61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Сколько всего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Если 1/5 числа это 3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 …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Если 1/4 числа это 5,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Если 1/8 числа это 10,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Если 1/2 числа это 6,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948360" y="1484280"/>
            <a:ext cx="1368720" cy="1800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308720" y="20606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59280" y="2492280"/>
            <a:ext cx="1657440" cy="16574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219640" y="2997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948360" y="3357720"/>
            <a:ext cx="1440000" cy="1800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236000" y="39528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364000" y="4653000"/>
            <a:ext cx="1729080" cy="165744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794200" y="505152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оторый час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 время, которое показывают часы, используя слова «четверть», «полов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1187280" y="3213000"/>
            <a:ext cx="1729080" cy="16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3924360" y="3213000"/>
            <a:ext cx="1727280" cy="172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835280" y="32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8436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908000" y="4508640"/>
            <a:ext cx="2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332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1834920" y="3573360"/>
            <a:ext cx="215640" cy="5032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2050920" y="4076640"/>
            <a:ext cx="792360" cy="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643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92436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 flipV="1">
            <a:off x="4788000" y="3933360"/>
            <a:ext cx="576000" cy="1429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 flipH="1">
            <a:off x="4140000" y="4076640"/>
            <a:ext cx="647640" cy="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40"/>
          <p:cNvSpPr/>
          <p:nvPr/>
        </p:nvSpPr>
        <p:spPr>
          <a:xfrm>
            <a:off x="2484360" y="4869000"/>
            <a:ext cx="1800360" cy="180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1"/>
          <p:cNvSpPr/>
          <p:nvPr/>
        </p:nvSpPr>
        <p:spPr>
          <a:xfrm>
            <a:off x="3132000" y="486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913200" y="5516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25800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262728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3419640" y="5589360"/>
            <a:ext cx="431640" cy="144360"/>
          </a:xfrm>
          <a:prstGeom prst="line">
            <a:avLst/>
          </a:prstGeom>
          <a:ln w="9360">
            <a:solidFill>
              <a:srgbClr val="000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>
            <a:off x="3419640" y="5734080"/>
            <a:ext cx="0" cy="574560"/>
          </a:xfrm>
          <a:prstGeom prst="line">
            <a:avLst/>
          </a:prstGeom>
          <a:ln w="9360">
            <a:solidFill>
              <a:srgbClr val="000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50"/>
          <p:cNvSpPr/>
          <p:nvPr/>
        </p:nvSpPr>
        <p:spPr>
          <a:xfrm>
            <a:off x="5508720" y="4869000"/>
            <a:ext cx="1800000" cy="180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22764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694836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6300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565164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7"/>
          <p:cNvSpPr/>
          <p:nvPr/>
        </p:nvSpPr>
        <p:spPr>
          <a:xfrm>
            <a:off x="5572080" y="5537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8"/>
          <p:cNvSpPr/>
          <p:nvPr/>
        </p:nvSpPr>
        <p:spPr>
          <a:xfrm flipH="1" flipV="1">
            <a:off x="6357960" y="5286240"/>
            <a:ext cx="85680" cy="4478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9"/>
          <p:cNvSpPr/>
          <p:nvPr/>
        </p:nvSpPr>
        <p:spPr>
          <a:xfrm flipH="1">
            <a:off x="5786280" y="5715000"/>
            <a:ext cx="642960" cy="460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0"/>
          <p:cNvSpPr/>
          <p:nvPr/>
        </p:nvSpPr>
        <p:spPr>
          <a:xfrm>
            <a:off x="2282760" y="349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6804000" y="544500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67"/>
          <p:cNvSpPr/>
          <p:nvPr/>
        </p:nvSpPr>
        <p:spPr>
          <a:xfrm>
            <a:off x="6732720" y="3284640"/>
            <a:ext cx="1728720" cy="17287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8"/>
          <p:cNvSpPr/>
          <p:nvPr/>
        </p:nvSpPr>
        <p:spPr>
          <a:xfrm>
            <a:off x="7380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810108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745164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6819840" y="39337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3"/>
          <p:cNvSpPr/>
          <p:nvPr/>
        </p:nvSpPr>
        <p:spPr>
          <a:xfrm>
            <a:off x="7596360" y="4076640"/>
            <a:ext cx="0" cy="647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4"/>
          <p:cNvSpPr/>
          <p:nvPr/>
        </p:nvSpPr>
        <p:spPr>
          <a:xfrm flipH="1" flipV="1">
            <a:off x="7451640" y="3644640"/>
            <a:ext cx="144720" cy="431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Сравн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жи на рисунке и сравни части прямо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5 и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/10 и 4/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/10 и 5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/5 и 3/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11640" y="2852640"/>
            <a:ext cx="4464000" cy="18716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211640" y="3789360"/>
            <a:ext cx="446400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94836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81200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601200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507672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4211640" y="2852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предел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из девочек какую долю раскрасил, если Таня закрасила большую долю, чем Оля, а Лена закрасила большую долю, чем Таня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55640" y="4076640"/>
            <a:ext cx="2087640" cy="1728720"/>
          </a:xfrm>
          <a:prstGeom prst="hexagon">
            <a:avLst>
              <a:gd name="adj" fmla="val 30191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564000" y="4005360"/>
            <a:ext cx="2160360" cy="1800000"/>
          </a:xfrm>
          <a:prstGeom prst="hexagon">
            <a:avLst>
              <a:gd name="adj" fmla="val 30005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6516720" y="4076640"/>
            <a:ext cx="2087640" cy="1805040"/>
          </a:xfrm>
          <a:prstGeom prst="hexagon">
            <a:avLst>
              <a:gd name="adj" fmla="val 28914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258920" y="4076640"/>
            <a:ext cx="1009440" cy="172872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 flipH="1">
            <a:off x="1258560" y="4076640"/>
            <a:ext cx="1081080" cy="172872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755640" y="4941720"/>
            <a:ext cx="208764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140360" y="4005360"/>
            <a:ext cx="1079280" cy="180000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4140360" y="4005360"/>
            <a:ext cx="1079280" cy="180000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3564000" y="4941720"/>
            <a:ext cx="216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020000" y="4076640"/>
            <a:ext cx="1081080" cy="180036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H="1">
            <a:off x="7019640" y="4076640"/>
            <a:ext cx="1081080" cy="180036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6516720" y="5013360"/>
            <a:ext cx="208764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1258920" y="4941720"/>
            <a:ext cx="1009440" cy="8636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3558000">
            <a:off x="929160" y="4695120"/>
            <a:ext cx="985680" cy="9014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17929200">
            <a:off x="891360" y="4300920"/>
            <a:ext cx="1016280" cy="855720"/>
          </a:xfrm>
          <a:prstGeom prst="flowChartMerg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 rot="10800000">
            <a:off x="4140360" y="4005000"/>
            <a:ext cx="1079280" cy="93492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7"/>
          <p:cNvSpPr/>
          <p:nvPr/>
        </p:nvSpPr>
        <p:spPr>
          <a:xfrm rot="14386800">
            <a:off x="7397280" y="4312440"/>
            <a:ext cx="1055880" cy="9320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rot="17925600">
            <a:off x="7423200" y="4765680"/>
            <a:ext cx="1006560" cy="9302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3:50:07Z</dcterms:created>
  <dc:creator>User</dc:creator>
  <dc:description/>
  <dc:language>en-US</dc:language>
  <cp:lastModifiedBy>Admin</cp:lastModifiedBy>
  <dcterms:modified xsi:type="dcterms:W3CDTF">2010-10-13T14:46:41Z</dcterms:modified>
  <cp:revision>41</cp:revision>
  <dc:subject/>
  <dc:title>Зима Ирина Владимировна учитель математики МОУ «Климовская оош» Ясногорский район</dc:title>
</cp:coreProperties>
</file>