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9B6-0651-4412-8EA0-36DCA97C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91A-14B6-4988-8B04-622A13A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52F-4F24-44CD-A9C5-E7EB25EA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9FD-0720-4CB8-889B-C62CBCF1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BFE-64D2-4C13-8115-DDAFCB6E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E80-97A0-4F1E-88CC-D42D695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DD9-05BE-4603-BCEA-DA759C5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4D5-C074-4611-B515-6A8D8009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5C0-F201-48BF-A4A1-B9CB39D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CB2-133F-42CE-92B2-67EB5780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FB7-F208-4014-A171-604A501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91A-2300-4EE9-BD87-4B8BF1EC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206E-72D7-4069-A551-C5621AC3FD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63128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Зима Ирина Владимировна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учитель начальных классов</a:t>
            </a: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МОУ «Климовская оош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Ясногорский район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Тульская область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отрезо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 и покажи 1/9, 4/9, 2/3, 1/3, 8/9 данного отрез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539640" y="4221000"/>
            <a:ext cx="8136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203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08472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34000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76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4140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07672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948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88508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539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8675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7 от 14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от 4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 от 5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9 от 63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6948360" y="1341360"/>
            <a:ext cx="1656000" cy="172728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380360" y="18651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4140360" y="2205000"/>
            <a:ext cx="165564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730760" y="2637000"/>
            <a:ext cx="5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6012000" y="3357720"/>
            <a:ext cx="1800000" cy="1706400"/>
          </a:xfrm>
          <a:prstGeom prst="su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675480" y="3789360"/>
            <a:ext cx="4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4067280" y="4437000"/>
            <a:ext cx="1873080" cy="1728720"/>
          </a:xfrm>
          <a:prstGeom prst="su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716360" y="4941720"/>
            <a:ext cx="6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2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3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6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7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9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0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1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4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5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8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9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2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3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6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7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3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31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четвертых долей каждой фигуры закрас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55640" y="3213000"/>
            <a:ext cx="223200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 rot="18882600">
            <a:off x="1092240" y="3555720"/>
            <a:ext cx="1528560" cy="161460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492360" y="3068640"/>
            <a:ext cx="1800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492360" y="3789360"/>
            <a:ext cx="1800360" cy="216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492360" y="450864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492360" y="522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378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5796000" y="3068640"/>
            <a:ext cx="3097080" cy="2521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6588000" y="2997360"/>
            <a:ext cx="1513080" cy="12952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 rot="14463600">
            <a:off x="5631480" y="4574160"/>
            <a:ext cx="1514520" cy="13795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 rot="7159800">
            <a:off x="7520400" y="4602600"/>
            <a:ext cx="1482480" cy="12938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7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одума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часть всех мячей состав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зелёные мячи;  б) жёлтые мя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8436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27280" y="3357720"/>
            <a:ext cx="11527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50072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6300720" y="335772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684360" y="4869000"/>
            <a:ext cx="115092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2700360" y="486900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4572000" y="4869000"/>
            <a:ext cx="115236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6300720" y="4869000"/>
            <a:ext cx="122400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АННОТАЦИЯ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8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работы: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« Дол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онный материал к уроку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ные технолог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rosoft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ие рекомендации: использовать при закреплении и обобщении материала по теме «Дол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дитори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4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работы-13слай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6400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овать знания учащихся по теме «Дол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несколько долей цел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число по доле и долю по чи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сравнивать до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определять время по ча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интерес к математике, стремление использовать математические знания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443640" y="1484280"/>
            <a:ext cx="144144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635280" y="2492280"/>
            <a:ext cx="1584360" cy="151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6588000" y="3429000"/>
            <a:ext cx="151308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3780000" y="4797360"/>
            <a:ext cx="1511280" cy="1511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27640" y="2492280"/>
            <a:ext cx="0" cy="15130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708360" y="3284640"/>
            <a:ext cx="151128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7164360" y="1484280"/>
            <a:ext cx="0" cy="144000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6588000" y="1844640"/>
            <a:ext cx="115272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6516720" y="1844640"/>
            <a:ext cx="1224000" cy="720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4572000" y="4724280"/>
            <a:ext cx="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3924000" y="5516640"/>
            <a:ext cx="647640" cy="43344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572000" y="5516640"/>
            <a:ext cx="720720" cy="288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7308720" y="3429000"/>
            <a:ext cx="0" cy="1584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6588000" y="4221000"/>
            <a:ext cx="144000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6804000" y="3645000"/>
            <a:ext cx="100800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6876720" y="3645000"/>
            <a:ext cx="93492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акая доля меньше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68360" y="1773360"/>
            <a:ext cx="1008360" cy="40320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95640" y="1773360"/>
            <a:ext cx="1081080" cy="40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24360" y="1773360"/>
            <a:ext cx="1079640" cy="40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7380360" y="1773360"/>
            <a:ext cx="1079280" cy="403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268360" y="3716280"/>
            <a:ext cx="100836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3995640" y="3068640"/>
            <a:ext cx="1081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995640" y="436572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5724360" y="3716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5724360" y="2708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5724360" y="4724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7380360" y="3716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>
            <a:off x="7380360" y="2708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>
            <a:off x="7380360" y="4724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>
            <a:off x="7380360" y="2205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7380360" y="3213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7380360" y="4221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7380360" y="530064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45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46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1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60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61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колько всего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Если 1/5 числа это 3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 …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Если 1/4 числа это 5,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Если 1/8 числа это 10,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Если 1/2 числа это 6,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1484280"/>
            <a:ext cx="1368720" cy="1800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308720" y="2060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59280" y="2492280"/>
            <a:ext cx="16574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219640" y="299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948360" y="3357720"/>
            <a:ext cx="1440000" cy="1800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236000" y="39528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364000" y="4653000"/>
            <a:ext cx="1729080" cy="165744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794200" y="505152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оторый час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 время, которое показывают часы, используя слова «четверть», «полов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1187280" y="3213000"/>
            <a:ext cx="1729080" cy="16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3924360" y="3213000"/>
            <a:ext cx="1727280" cy="172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8436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908000" y="4508640"/>
            <a:ext cx="2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332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1834920" y="3573360"/>
            <a:ext cx="215640" cy="503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2050920" y="4076640"/>
            <a:ext cx="79236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643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92436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 flipV="1">
            <a:off x="4788000" y="3933360"/>
            <a:ext cx="576000" cy="1429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 flipH="1">
            <a:off x="4140000" y="4076640"/>
            <a:ext cx="64764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40"/>
          <p:cNvSpPr/>
          <p:nvPr/>
        </p:nvSpPr>
        <p:spPr>
          <a:xfrm>
            <a:off x="2484360" y="4869000"/>
            <a:ext cx="1800360" cy="180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1"/>
          <p:cNvSpPr/>
          <p:nvPr/>
        </p:nvSpPr>
        <p:spPr>
          <a:xfrm>
            <a:off x="3132000" y="486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913200" y="5516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25800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262728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3419640" y="5589360"/>
            <a:ext cx="431640" cy="1443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>
            <a:off x="3419640" y="5734080"/>
            <a:ext cx="0" cy="5745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50"/>
          <p:cNvSpPr/>
          <p:nvPr/>
        </p:nvSpPr>
        <p:spPr>
          <a:xfrm>
            <a:off x="5508720" y="4869000"/>
            <a:ext cx="1800000" cy="180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22764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694836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6300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565164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7"/>
          <p:cNvSpPr/>
          <p:nvPr/>
        </p:nvSpPr>
        <p:spPr>
          <a:xfrm>
            <a:off x="5572080" y="5537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8"/>
          <p:cNvSpPr/>
          <p:nvPr/>
        </p:nvSpPr>
        <p:spPr>
          <a:xfrm flipH="1" flipV="1">
            <a:off x="6357960" y="5286240"/>
            <a:ext cx="85680" cy="4478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9"/>
          <p:cNvSpPr/>
          <p:nvPr/>
        </p:nvSpPr>
        <p:spPr>
          <a:xfrm flipH="1">
            <a:off x="5786280" y="5715000"/>
            <a:ext cx="642960" cy="460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0"/>
          <p:cNvSpPr/>
          <p:nvPr/>
        </p:nvSpPr>
        <p:spPr>
          <a:xfrm>
            <a:off x="2282760" y="349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6804000" y="5445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67"/>
          <p:cNvSpPr/>
          <p:nvPr/>
        </p:nvSpPr>
        <p:spPr>
          <a:xfrm>
            <a:off x="6732720" y="3284640"/>
            <a:ext cx="1728720" cy="17287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7380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810108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745164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6819840" y="39337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3"/>
          <p:cNvSpPr/>
          <p:nvPr/>
        </p:nvSpPr>
        <p:spPr>
          <a:xfrm>
            <a:off x="7596360" y="4076640"/>
            <a:ext cx="0" cy="647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4"/>
          <p:cNvSpPr/>
          <p:nvPr/>
        </p:nvSpPr>
        <p:spPr>
          <a:xfrm flipH="1" flipV="1">
            <a:off x="7451640" y="3644640"/>
            <a:ext cx="144720" cy="431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жи на рисунке и сравни части прямо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и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10 и 4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/10 и 5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5 и 3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11640" y="2852640"/>
            <a:ext cx="4464000" cy="18716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211640" y="3789360"/>
            <a:ext cx="446400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94836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8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60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507672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4211640" y="2852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из девочек какую долю раскрасил, если Таня закрасила большую долю, чем Оля, а Лена закрасила большую долю, чем Таня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55640" y="4076640"/>
            <a:ext cx="2087640" cy="172872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564000" y="4005360"/>
            <a:ext cx="2160360" cy="1800000"/>
          </a:xfrm>
          <a:prstGeom prst="hexagon">
            <a:avLst>
              <a:gd name="adj" fmla="val 30005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6516720" y="4076640"/>
            <a:ext cx="2087640" cy="1805040"/>
          </a:xfrm>
          <a:prstGeom prst="hexagon">
            <a:avLst>
              <a:gd name="adj" fmla="val 28914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258920" y="4076640"/>
            <a:ext cx="100944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 flipH="1">
            <a:off x="1258560" y="4076640"/>
            <a:ext cx="108108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755640" y="494172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564000" y="4941720"/>
            <a:ext cx="216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02000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701964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516720" y="501336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1258920" y="4941720"/>
            <a:ext cx="1009440" cy="8636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3558000">
            <a:off x="929160" y="4695120"/>
            <a:ext cx="985680" cy="9014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17929200">
            <a:off x="891360" y="4300920"/>
            <a:ext cx="1016280" cy="855720"/>
          </a:xfrm>
          <a:prstGeom prst="flowChartMerg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 rot="10800000">
            <a:off x="4140360" y="4005000"/>
            <a:ext cx="1079280" cy="93492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 rot="14386800">
            <a:off x="7397280" y="4312440"/>
            <a:ext cx="1055880" cy="9320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rot="17925600">
            <a:off x="7423200" y="4765680"/>
            <a:ext cx="1006560" cy="9302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50:07Z</dcterms:created>
  <dc:creator>User</dc:creator>
  <dc:description/>
  <dc:language>en-US</dc:language>
  <cp:lastModifiedBy>Admin</cp:lastModifiedBy>
  <dcterms:modified xsi:type="dcterms:W3CDTF">2010-10-13T14:46:41Z</dcterms:modified>
  <cp:revision>41</cp:revision>
  <dc:subject/>
  <dc:title>Зима Ирина Владимировна учитель математики МОУ «Климовская оош» Ясногорский район</dc:title>
</cp:coreProperties>
</file>