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10D9A-1788-4227-B47F-08666FB70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BADAA-6D3D-4B94-B4A5-60484E1C4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8B513-3A90-4317-86CE-18CFBAB2B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C567F-508F-488C-ABEB-67C46C3E6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B980C-B5C1-42CA-A8CE-AEAC3E4FD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03A8D-BAC6-49A0-B82C-6FE16C1F5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C0D04-7780-4A03-89D6-CC6455E3E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C7485-2AB3-4D9A-B91F-3A8DA5CE1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40D3E-F042-442D-9E2A-24E16873B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B05CF-1AF3-4349-A7D4-5CE0C70CA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9D097-0DA4-4945-9EC5-FCB71680E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3F8F7-69F4-47B8-BFC6-C0A409371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74C12-DDD2-4437-9CAA-9244B87C6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F06F2-35B7-4514-AE81-338D723CC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F0850-E93D-4617-A9A4-EF50AEAE1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90E0D-2DD9-403A-8960-390C3E97E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AE3E3-3B61-4784-A6CF-A667EFA11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2FE8F-9EE9-4BA4-8DD2-48F0AEDE1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19478-BC2E-4E80-8031-9BFA9F9D6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6EFC5-478A-4E76-809B-2A78456DB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8B682-90CA-4F74-BB1F-883DD5BC1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74955-4E20-42DD-9179-6444751A5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FBF76-8045-46A6-8A78-C6F080D0A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00A10-C910-42E5-BE91-E67A01E0B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A553D-91D4-43E4-8CB4-A1623CDAFA2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906A1-FC40-41B6-BEC2-1FCD053F9B6F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3582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Презентацию составил учитель химии и биологии МКОУ «Лебединская СОШ» Воронежская область Богучарский р-он с. Лебединка</a:t>
            </a:r>
            <a:br>
              <a:rPr sz="4000"/>
            </a:b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Гюлахмедов Мирзабег Гюлович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ff00"/>
                </a:solidFill>
                <a:latin typeface="Arial"/>
              </a:rPr>
              <a:t>Биологический смысл митоза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Verdana"/>
              </a:rPr>
              <a:t>Равномерное разделение генетического материала между дочерними клетками</a:t>
            </a:r>
            <a:endParaRPr b="0" lang="en-US" sz="4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1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229600" cy="3240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99ff33"/>
                </a:solidFill>
                <a:latin typeface="Arial"/>
              </a:rPr>
              <a:t>Деление клетки - митоз</a:t>
            </a:r>
            <a:endParaRPr b="0" lang="en-US" sz="7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16" name="Picture 6" descr=""/>
          <p:cNvPicPr/>
          <p:nvPr/>
        </p:nvPicPr>
        <p:blipFill>
          <a:blip r:embed="rId1"/>
          <a:stretch/>
        </p:blipFill>
        <p:spPr>
          <a:xfrm>
            <a:off x="3276720" y="3213000"/>
            <a:ext cx="4319640" cy="3168720"/>
          </a:xfrm>
          <a:prstGeom prst="rect">
            <a:avLst/>
          </a:prstGeom>
          <a:ln w="9360">
            <a:solidFill>
              <a:srgbClr val="008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99ff33"/>
                </a:solidFill>
                <a:latin typeface="Arial"/>
              </a:rPr>
              <a:t>Клеточный цикл</a:t>
            </a:r>
            <a:endParaRPr b="0" lang="en-US" sz="7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65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eaeaea"/>
                </a:solidFill>
                <a:latin typeface="Verdana"/>
              </a:rPr>
              <a:t>Интерфаза</a:t>
            </a:r>
            <a:endParaRPr b="0" lang="en-US" sz="66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spcBef>
                <a:spcPts val="165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eaeaea"/>
                </a:solidFill>
                <a:latin typeface="Verdana"/>
              </a:rPr>
              <a:t>Митоз</a:t>
            </a:r>
            <a:endParaRPr b="0" lang="en-US" sz="66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00ff00"/>
                </a:solidFill>
                <a:latin typeface="Arial"/>
              </a:rPr>
              <a:t>Интерфаза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68360" y="1989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1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Verdana"/>
              </a:rPr>
              <a:t>Увеличение клетки в размерах</a:t>
            </a:r>
            <a:endParaRPr b="0" lang="en-US" sz="48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spcBef>
                <a:spcPts val="11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Verdana"/>
              </a:rPr>
              <a:t>Репликация хромосом</a:t>
            </a:r>
            <a:endParaRPr b="0" lang="en-US" sz="48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spcBef>
                <a:spcPts val="11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Verdana"/>
              </a:rPr>
              <a:t>Удвоение органоидов</a:t>
            </a:r>
            <a:endParaRPr b="0" lang="en-US" sz="4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fade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00ff00"/>
                </a:solidFill>
                <a:latin typeface="Arial"/>
              </a:rPr>
              <a:t>Митоз</a:t>
            </a:r>
            <a:br>
              <a:rPr sz="8000"/>
            </a:b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(деление клетки)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aeaea"/>
                </a:solidFill>
                <a:latin typeface="Verdana"/>
              </a:rPr>
              <a:t>Фазы (этапы ) митоза</a:t>
            </a:r>
            <a:endParaRPr b="0" lang="en-US" sz="54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spcBef>
                <a:spcPts val="11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Verdana"/>
              </a:rPr>
              <a:t>Профаза</a:t>
            </a:r>
            <a:endParaRPr b="0" lang="en-US" sz="48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spcBef>
                <a:spcPts val="11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Verdana"/>
              </a:rPr>
              <a:t>Метафаза</a:t>
            </a:r>
            <a:endParaRPr b="0" lang="en-US" sz="48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spcBef>
                <a:spcPts val="11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Verdana"/>
              </a:rPr>
              <a:t>Анафаза</a:t>
            </a:r>
            <a:endParaRPr b="0" lang="en-US" sz="48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spcBef>
                <a:spcPts val="11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Verdana"/>
              </a:rPr>
              <a:t>Телофаза </a:t>
            </a:r>
            <a:endParaRPr b="0" lang="en-US" sz="4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0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5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ff00"/>
                </a:solidFill>
                <a:latin typeface="Arial"/>
              </a:rPr>
              <a:t>Профаза</a:t>
            </a:r>
            <a:r>
              <a:rPr b="0" lang="en-US" sz="4000" spc="-1" strike="noStrike">
                <a:solidFill>
                  <a:srgbClr val="00ff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30088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Распад ядерной оболочки на фрагменты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Спирализация, скручивание и утолщение хромосом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Разрушение ядрышек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Расхождение центриолей к полюсам и начало образования биполярного веретена деления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5" name="Picture 4" descr=""/>
          <p:cNvPicPr/>
          <p:nvPr/>
        </p:nvPicPr>
        <p:blipFill>
          <a:blip r:embed="rId1"/>
          <a:stretch/>
        </p:blipFill>
        <p:spPr>
          <a:xfrm>
            <a:off x="3419640" y="5013360"/>
            <a:ext cx="2520720" cy="18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7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ff00"/>
                </a:solidFill>
                <a:latin typeface="Arial"/>
              </a:rPr>
              <a:t>Метафаза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47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Образование метафазной хромосомной пластинки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Завершение образования веретена деления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8" name="Picture 4" descr=""/>
          <p:cNvPicPr/>
          <p:nvPr/>
        </p:nvPicPr>
        <p:blipFill>
          <a:blip r:embed="rId1"/>
          <a:stretch/>
        </p:blipFill>
        <p:spPr>
          <a:xfrm>
            <a:off x="3203640" y="3933720"/>
            <a:ext cx="2881080" cy="25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4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ff00"/>
                </a:solidFill>
                <a:latin typeface="Arial"/>
              </a:rPr>
              <a:t>Анафаза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27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Разделение центромер дочерних хромосом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Сокращение нитей веретена деления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Расхождение хромосом к полюсам клетки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1" name="Picture 4" descr=""/>
          <p:cNvPicPr/>
          <p:nvPr/>
        </p:nvPicPr>
        <p:blipFill>
          <a:blip r:embed="rId1"/>
          <a:stretch/>
        </p:blipFill>
        <p:spPr>
          <a:xfrm>
            <a:off x="3635280" y="4365720"/>
            <a:ext cx="216072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1225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ff00"/>
                </a:solidFill>
                <a:latin typeface="Arial"/>
              </a:rPr>
              <a:t>Телофаза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310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Исчезновение веретена деления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Возникновение ядерной оболочки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Раскручивание хромосом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Разделение цитоплазмы (цитокенез)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Образование двух клеток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4" name="Picture 4" descr=""/>
          <p:cNvPicPr/>
          <p:nvPr/>
        </p:nvPicPr>
        <p:blipFill>
          <a:blip r:embed="rId1"/>
          <a:stretch/>
        </p:blipFill>
        <p:spPr>
          <a:xfrm>
            <a:off x="3708360" y="4724280"/>
            <a:ext cx="2087640" cy="18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9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31T06:16:53Z</dcterms:created>
  <dc:creator>ДОМ</dc:creator>
  <dc:description/>
  <dc:language>en-US</dc:language>
  <cp:lastModifiedBy>Василий</cp:lastModifiedBy>
  <dcterms:modified xsi:type="dcterms:W3CDTF">2012-03-08T14:26:02Z</dcterms:modified>
  <cp:revision>7</cp:revision>
  <dc:subject/>
  <dc:title>Деление клетки - митоз</dc:title>
</cp:coreProperties>
</file>