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C4B-0859-44A6-9C56-637967D9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EB0-D192-4742-BD18-0BF72068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F14-C97B-476F-8D79-CFA5AD55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086-3A5B-4233-A7FF-6E19307B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627-80E3-448B-94FE-27C119EB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7E05-77B8-4CC6-BFF6-6981E7C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385-B403-4676-9E5A-F4E631D2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88A6-77FC-412A-844A-6563915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487D-D30F-43A3-B979-F788F968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597-0BB5-4A95-9FF6-5398026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5DDD-80FB-4EF2-9802-4266B8D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3DB-1683-4DB6-A9BB-C188887D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26E5-8464-4A8B-B0D1-E94F498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1E63-82FB-48B0-8A33-2764272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CFF9-1AE1-44F1-A3E7-F45B698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C1C9-B775-41AD-8974-D1060F32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8D3F-C8F0-4A48-AB22-5EC6EAB2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6A241-8AF0-4A6A-AFBC-DCB390D3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631A8-81FD-4580-8AB4-B1D72EF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039FF-501C-4FA1-8904-C42EBF2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4F626-B911-4483-B70A-53F8F417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A64D1-DA8F-4D02-9D74-EDC15095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7FB-E036-417A-B1F6-3DC40F8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52543-304A-4D40-936B-D899B03C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D8459-431D-4139-A6B5-4D42439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E6ACC-3E65-4AD1-AAB0-CD388A3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702C3-174C-4B66-B7C4-5709B5B7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D0CC4-65CB-4E15-9D32-3F2A161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816B8-8D50-4A9E-AF91-22ED1949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45DD8-4193-4CC0-A735-4B8139E2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5F94-1F46-4477-940E-069E10D6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7407-F45B-4B9F-A061-1DF9A24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8DD7-A777-4F26-9EB5-C84422AF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018-1212-4ED1-B350-5063BACB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CCA8-0B58-4035-9DAB-F9B4279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DA0F-D649-4E7C-923D-C4A80E6C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98AD-05E0-4DB1-AFA8-F581276F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3D40-B0D6-48CF-8595-D149AC3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FB96-DA09-46CA-801E-5328FE5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8F53-B2A1-491B-9021-B91662B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7E2A-0550-4F3C-BA88-6E4A8EB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0C3F7-DB83-4088-95D8-BECE82A7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2A1D-5429-48EA-AFE7-19A58B4D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37D-C6B3-48E5-9F48-8702B500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90D-95B2-4800-86D6-BA4D4EAA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5A6-F3A6-4076-A309-2C8D2F4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DD3-B371-4036-83E1-ED8C1B41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D20-F1E7-43D8-8069-CBFCAD9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175-E69F-4506-B3B4-437E7EE7F88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8FE-4866-445B-8AAE-71D067B7494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4DD-0F45-4876-8C31-422F991BD70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6BD-DCF4-4F21-A5A9-5E544DEA66B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86080" y="1714680"/>
            <a:ext cx="52149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Что такое молоко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43120" y="4000320"/>
            <a:ext cx="350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Ученик  9 «А» класса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МОУ СОШ №15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Никифоров Серге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Проверила Соловова Е.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16" name="Object 39"/>
          <p:cNvGraphicFramePr/>
          <p:nvPr/>
        </p:nvGraphicFramePr>
        <p:xfrm>
          <a:off x="6143760" y="4429080"/>
          <a:ext cx="24192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4429080"/>
                    <a:ext cx="24192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428760" y="50004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Что я еще знаю о молоке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2204640"/>
            <a:ext cx="831672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afbd"/>
                </a:solidFill>
                <a:latin typeface="Georgia"/>
              </a:rPr>
              <a:t>Благодар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воей пищевой ценности молоко может заменить любой продукт, но ни один продукт не может заменить молоко. В молоке обнаружено более 200 полезных веществ, которые полностью усваиваются организмом челове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afbd"/>
                </a:solidFill>
                <a:latin typeface="Georgia"/>
              </a:rPr>
              <a:t>В мол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одержатся важные макро- и микроэлементы, которые участвуют в построении ферментов, гормонов, витаминов, в формировании костной ткани, восстановлении крови, деятельности мозга и т.д.Для молочных продуктов характерно высокое содержание солей кальция и фто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очему молоко белое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Не только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люди кормят своих новорожденных детей материнским молоком. На земном шаре существует более 6000 других млекопитающих, вскармливающих своих детенышей молоком. Кроме известных нам коров и коз, молоко которых с удовольствием употребляют и люди, это еще и лошади, верблюды, кошки, киты, зайцы, ежи и мн.др. Их молоко различно по вкусу, жирности, да и по составу веществ, которые в него входят. </a:t>
            </a:r>
            <a:r>
              <a:rPr b="0" lang="ru-RU" sz="2000" spc="-1" strike="noStrike">
                <a:solidFill>
                  <a:srgbClr val="438086"/>
                </a:solidFill>
                <a:latin typeface="Georgia"/>
              </a:rPr>
              <a:t>Но у всех оно белое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000" spc="-1" strike="noStrike">
                <a:solidFill>
                  <a:srgbClr val="67afbd"/>
                </a:solidFill>
                <a:latin typeface="Georgia"/>
              </a:rPr>
              <a:t>Белый цвет придает молоку бело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67afbd"/>
                </a:solidFill>
                <a:latin typeface="Georgia"/>
              </a:rPr>
              <a:t>молочный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Больше всего белка в молоке у крольчих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(15%),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поэтому кроличье молоко самое белое. В молоке китов белка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12%,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у северных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оленей-10%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Жирность молока у всех различная. Меньше всего жира в молоке у кобылиц, зато в нем больше молочного сахара, поэтому из кобыльего молока готовят целебный напиток-кумыс. Самое жирное молоко у китов и тюленей-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45%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53%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Следом за ними идут северные олени и зайцы, у которых молоко так питательно, что одного обеда, например, зайчонку хватает на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2-3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дн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afbd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Молочные проду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2600" y="1928520"/>
            <a:ext cx="828684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ы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получают из заквашенного особым образом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Айран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напиток, похожий на кефи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Кефи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густой напиток из перебродившего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Кумыс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кобылье молок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Масло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жировое веществ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Обрат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обезжиренное молок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Пахт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обезжиренные слив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ыро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творожная масс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уфл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ливки или молоко с сахаром для приготовления морожено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Брын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ыр из овечьего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Йогурт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кисло-молочный продукт с витаминами и фруктовыми добавк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Мацон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ростокваш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лив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густой верхний отстой молок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786720" y="571680"/>
            <a:ext cx="20714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6715080" y="5170320"/>
            <a:ext cx="2048040" cy="1687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tretch/>
        </p:blipFill>
        <p:spPr>
          <a:xfrm>
            <a:off x="6072120" y="2357280"/>
            <a:ext cx="13575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Молочные проду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71320" y="1642680"/>
            <a:ext cx="8001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11280" y="1773360"/>
            <a:ext cx="82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Творо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густки кислого моло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Варенец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квашеное топлено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Ряжен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квашеное топлено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Смета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продукт из скисших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Бланманж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желе из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Мороже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замороженное сладкое кушанье из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Сыворот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жидкий отстой свернувшегося моло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Простокваш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густое закисше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Лактобацилл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вид простокваши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6929280" y="4714920"/>
            <a:ext cx="2048040" cy="1949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5500800" y="1643040"/>
            <a:ext cx="17143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динаково ли молоко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178560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равним молоко </a:t>
            </a: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коровы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северного </a:t>
            </a: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лен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</a:rPr>
              <a:t>Коровье</a:t>
            </a:r>
            <a:r>
              <a:rPr b="0" lang="ru-RU" sz="2600" spc="-1" strike="noStrike">
                <a:solidFill>
                  <a:srgbClr val="67afbd"/>
                </a:solidFill>
                <a:latin typeface="Georgia"/>
              </a:rPr>
              <a:t>:                    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</a:rPr>
              <a:t>Оленье</a:t>
            </a:r>
            <a:r>
              <a:rPr b="0" lang="ru-RU" sz="2600" spc="-1" strike="noStrike">
                <a:solidFill>
                  <a:srgbClr val="67afbd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да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87%             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да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68%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рность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4%     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рность –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Оленье молоко содержит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200" spc="-1" strike="noStrike">
                <a:solidFill>
                  <a:srgbClr val="67afb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раза</a:t>
            </a:r>
            <a:r>
              <a:rPr b="0" lang="ru-RU" sz="3200" spc="-1" strike="noStrike">
                <a:solidFill>
                  <a:srgbClr val="67afb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меньше сахара,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3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раза больше казеина и примерно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 раз больше других белк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0" lang="ru-RU" sz="3400" spc="-1" strike="noStrike">
                <a:solidFill>
                  <a:srgbClr val="ff0000"/>
                </a:solidFill>
                <a:latin typeface="Trebuchet MS"/>
              </a:rPr>
              <a:t>Кто и чьё пьёт молоко?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На Кавказ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козье и овеч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Средней Аз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верблюд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На Север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олен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Британ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коров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Испан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овеч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аравийских пустынях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верблюд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Египт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буйвол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Лапланд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олен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питании еще используют молоко и </a:t>
            </a: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ослиц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и </a:t>
            </a: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кобыль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71680" y="78192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имический состав молока животных (в %) и его калорийность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14280" y="3143160"/>
          <a:ext cx="6786720" cy="2857680"/>
        </p:xfrm>
        <a:graphic>
          <a:graphicData uri="http://schemas.openxmlformats.org/drawingml/2006/table">
            <a:tbl>
              <a:tblPr/>
              <a:tblGrid>
                <a:gridCol w="1143000"/>
                <a:gridCol w="785880"/>
                <a:gridCol w="500040"/>
                <a:gridCol w="642960"/>
                <a:gridCol w="890640"/>
                <a:gridCol w="824040"/>
                <a:gridCol w="1071360"/>
                <a:gridCol w="928800"/>
              </a:tblGrid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в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йвол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был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рблюд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лица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85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мка севеного оленя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в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з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214280" y="1428840"/>
          <a:ext cx="6786720" cy="1706400"/>
        </p:xfrm>
        <a:graphic>
          <a:graphicData uri="http://schemas.openxmlformats.org/drawingml/2006/table">
            <a:tbl>
              <a:tblPr/>
              <a:tblGrid>
                <a:gridCol w="1141560"/>
                <a:gridCol w="785160"/>
                <a:gridCol w="499680"/>
                <a:gridCol w="642240"/>
                <a:gridCol w="927720"/>
                <a:gridCol w="785160"/>
                <a:gridCol w="1085760"/>
                <a:gridCol w="884880"/>
                <a:gridCol w="36000"/>
              </a:tblGrid>
              <a:tr h="1728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отные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ухие вещества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р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лок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лочный сахар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инеральные вещества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лорийность (ккал в 100 г)*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19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13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зеин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лобулин и альбумин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ейте, дети, молоко –          будете здоровы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42600" y="214308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енность молока заключается и  в том, что пищевые вещества, входящие в состав, очень легко и быстро усваиваются организм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око незаменимо в диетическом и детском пита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око и молочные продукты содержат достаточное количество легкоусваиваемого кальция – особенно необходимого для нормального формирования скелета де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ез молока дети плохо растут, часто болеют и быстро утомляются, особенно школь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жедневно дети должны выпивать не менее двух стаканов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7500960" y="4286160"/>
            <a:ext cx="1415880" cy="1347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Молоко – это многокомпонентная питательная жидкость, которая вырабатывается молочными железами самок млекопитающих для вскармливания родившихся детенышей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Молоко – смесь различных полезных вещест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072200" y="785880"/>
            <a:ext cx="15004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сточник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ru.wikip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go.mail.ru/search_images?rch=e&amp;type=all&amp;is=0&amp;q=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nmedik.ru/sredstva/moloko/index.ph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livelymeal.ru/moloko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зентация «Молочные реки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ой вопр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Почему молоко является   смесью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Цель проектной работ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накомство с ценностью молочного продукта, практическое применен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можно получить из моло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сширение кругозор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тие коммуникативной компетент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Этапы работы над проект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думывание подпроекта и составление пла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. Разработка основных частей  подпроек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3. Практическая ча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4. Вы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5.  Оформле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Гипотез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Если мы будем пить </a:t>
            </a:r>
            <a:r>
              <a:rPr b="0" lang="ru-RU" sz="5400" spc="-1" strike="noStrike">
                <a:solidFill>
                  <a:srgbClr val="0070c0"/>
                </a:solidFill>
                <a:latin typeface="Georgia"/>
              </a:rPr>
              <a:t>молоко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ы будем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здоровы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14240" y="4071960"/>
            <a:ext cx="2033640" cy="2384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4714920" y="4786200"/>
            <a:ext cx="228132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нтересное о продукт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Среди продуктов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издавна используемых в пищу,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нет равного молок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даром врачеватели Древнего Египта, Греции и Рима, наблюдая за действием молока на организм человека, назвали этот чудесный продукт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соком жизн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источником здоровь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редние века уровень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едицинской науки ещ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позволял детально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нать действие моло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 организм, и каждый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рач применял его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уководствуясь своим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ичным опытом и знания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"/>
          <p:cNvPicPr/>
          <p:nvPr/>
        </p:nvPicPr>
        <p:blipFill>
          <a:blip r:embed="rId1"/>
          <a:stretch/>
        </p:blipFill>
        <p:spPr>
          <a:xfrm>
            <a:off x="4143240" y="3214800"/>
            <a:ext cx="4100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66280" y="2714400"/>
            <a:ext cx="8001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первые польза молока была научно обоснована в лаборатории И.П.Павлова. Выяснилось, что для переваривания молока требуется наименьшее количество желудочного сока, при его потреблении повышается усвоение других компонентов пищи. Главное же достоинство молока заключается в том, что его питательные вещества находятся в очень благоприятном для человеческого организма соотноше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6429240" y="714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rebuchet MS"/>
              </a:rPr>
              <a:t>В молоке – вся</a:t>
            </a:r>
            <a:br>
              <a:rPr sz="3100"/>
            </a:br>
            <a:r>
              <a:rPr b="0" lang="ru-RU" sz="3100" spc="-1" strike="noStrike">
                <a:solidFill>
                  <a:srgbClr val="ff0000"/>
                </a:solidFill>
                <a:latin typeface="Trebuchet MS"/>
              </a:rPr>
              <a:t> таблица Менделеева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20001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локе собраны буквально все элементы таблицы Менделеева. По сравнению со многими другими продуктами молоко богач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олями кальция, магния, фосфора, калия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дущими на построение костей, зубов, крови, нервных ткане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льций молока усваивается лучше, чем кальций крупы, хлеба, овощ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локе содержатся и необходимые для организма микроэлементы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: соли меди, железа, кобальта, йода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т.д., а также обширный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комплекс витаминов, ферментов, гормонов, иммунных те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которые весьма эффективно ведут борьбу с болезнетворными микроб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744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ол-литра мол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2600" y="1571760"/>
            <a:ext cx="8001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вно столько молока в де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овлетворяет потребн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зрослого челове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3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белк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2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жир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7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альции и фосфор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5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ал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3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итаминах 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Д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1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итаминах А, 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215040" y="4643280"/>
            <a:ext cx="2143080" cy="184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6072120" y="1214280"/>
            <a:ext cx="1928880" cy="14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Что в нем такого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67afbd"/>
                </a:solidFill>
                <a:latin typeface="Georgia"/>
              </a:rPr>
              <a:t>200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езных веществ содержится в молоке. Его по праву называют эликсиром красоты. В молоке есть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бел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жир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итамины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другие полезные для кожи вещества.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Жи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од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в этом напитке присутствуют в виде тончайших капелек, образующих эмульсию, что позволяет им беспрепятственно проникать глубоко в кожу.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Белк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обходимы для укрепления волос и ногтей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итамин А—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аз, витамины группы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—для хорошего цвета лица. Сегодня все эти свойства молока используют в современной косметик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Жир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4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Бел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3,6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Молочный сахар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Минеральные вещест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0,7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Вода</a:t>
            </a:r>
            <a:r>
              <a:rPr b="0" lang="ru-RU" sz="2800" spc="-1" strike="noStrike">
                <a:solidFill>
                  <a:srgbClr val="c2a874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87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786280" y="4071960"/>
            <a:ext cx="32227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2:00:28Z</dcterms:created>
  <dc:creator>seryi</dc:creator>
  <dc:description/>
  <dc:language>en-US</dc:language>
  <cp:lastModifiedBy>Your User Name</cp:lastModifiedBy>
  <dcterms:modified xsi:type="dcterms:W3CDTF">2014-02-01T15:23:23Z</dcterms:modified>
  <cp:revision>118</cp:revision>
  <dc:subject/>
  <dc:title>Что такое молоко?</dc:title>
</cp:coreProperties>
</file>