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CEF-693C-49B3-AECD-0C1353A1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798-A8C6-4907-963A-CBFDE02A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B1D-1220-4E57-A3C3-CB9A9524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588-F585-4864-B665-794411F9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D3D7-9697-4CD9-B8F4-870DF869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B7D5-0EAA-44FA-B07E-AD251240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429B-175A-4582-AA8D-F342C52C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797F-9AA9-40D8-9CE8-043B1D8E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958F-5B15-4894-AD63-EEE02FBD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C59E-D9C8-45CB-A127-952A3869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3435-B934-4CE1-A998-E41556D8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83C-A8B5-48F9-8EAD-A9E5B055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0730-6C0D-436D-8879-B5C5DDE2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C551-2FF3-4C14-996B-4ABA265C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E3DB-5484-4A77-830D-78637AF3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0750-D555-4553-B2F4-DFCD3674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B203-20A1-494C-8D14-4349D19A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195C3-2DA4-4FE1-84ED-FADBBAFF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0D208-4128-4E78-A6D5-38A79F35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8C461-2CD3-4E28-944C-6B1BD945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C1D40-002A-445E-86E7-9D525C3B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75BD2-525D-42B6-8B4B-86B1312B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7A9-10F4-464D-90A8-C674C7CE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AE914-1F62-49E7-B995-C0272776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F0F45-3BB6-4532-A8FB-4525AFEB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C7768-EE20-45A9-8B10-EF6E013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27402-1099-4006-A892-C26AE9B1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93173-CA62-444A-B7DD-83EF0C16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8CE6C-04D0-4055-802D-02065634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DB4A5-6384-4E7F-86BF-A43ED7CA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8837-FFCF-491C-8FF9-B4BA07AD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B4DA-405F-498A-8BBD-6FD29DA6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FD09A-F611-4FBD-B81D-87EB36B4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4FF-921F-4235-B3DA-9828C120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C60A2-8A8C-43D5-A572-2BA9D898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F02DC-A136-42A8-B146-DB0091D6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7E21-DB38-4679-BE7B-2B3A2EBD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786AA-2505-4636-8EB2-A78F9847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3E85B-743F-47F5-9DC5-6F0873EC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40692-9BF7-46E1-8785-5503E5B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670B-33E2-4D51-8FAA-CF392EC0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F033-FA0D-4C96-9A38-71F58BC0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BBDF-F143-4F4C-B35E-A02A448F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2DA-C0C9-4109-B6EA-23CA7997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420-D5D6-4437-BD30-38975ED8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9DA-9200-46D4-9A3C-D22B8F95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657-159C-4615-8943-0FEC6192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BBF-8545-41E8-9210-B61CA14A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1EED-D47E-43A1-852D-1723708C23E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9C46-4438-4DFC-90C1-D48D188A981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8F00-E62A-452F-89B1-A8D0048E68C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1F04-9B22-4B09-A70F-EBD67FC3468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86080" y="1714680"/>
            <a:ext cx="521496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Что такое молоко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643120" y="4000320"/>
            <a:ext cx="35006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Ученик  9 «А» класса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МОУ СОШ №15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Никифоров Серге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Проверила Соловова Е.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16" name="Object 39"/>
          <p:cNvGraphicFramePr/>
          <p:nvPr/>
        </p:nvGraphicFramePr>
        <p:xfrm>
          <a:off x="6143760" y="4429080"/>
          <a:ext cx="241920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3760" y="4429080"/>
                    <a:ext cx="24192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6" descr=""/>
          <p:cNvPicPr/>
          <p:nvPr/>
        </p:nvPicPr>
        <p:blipFill>
          <a:blip r:embed="rId3"/>
          <a:stretch/>
        </p:blipFill>
        <p:spPr>
          <a:xfrm>
            <a:off x="428760" y="500040"/>
            <a:ext cx="20952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Что я еще знаю о молоке</a:t>
            </a: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2204640"/>
            <a:ext cx="831672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afbd"/>
                </a:solidFill>
                <a:latin typeface="Georgia"/>
              </a:rPr>
              <a:t>Благодар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своей пищевой ценности молоко может заменить любой продукт, но ни один продукт не может заменить молоко. В молоке обнаружено более 200 полезных веществ, которые полностью усваиваются организмом челове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afbd"/>
                </a:solidFill>
                <a:latin typeface="Georgia"/>
              </a:rPr>
              <a:t>В молок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содержатся важные макро- и микроэлементы, которые участвуют в построении ферментов, гормонов, витаминов, в формировании костной ткани, восстановлении крови, деятельности мозга и т.д.Для молочных продуктов характерно высокое содержание солей кальция и фтор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Почему молоко белое</a:t>
            </a: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Не только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люди кормят своих новорожденных детей материнским молоком. На земном шаре существует более 6000 других млекопитающих, вскармливающих своих детенышей молоком. Кроме известных нам коров и коз, молоко которых с удовольствием употребляют и люди, это еще и лошади, верблюды, кошки, киты, зайцы, ежи и мн.др. Их молоко различно по вкусу, жирности, да и по составу веществ, которые в него входят. </a:t>
            </a:r>
            <a:r>
              <a:rPr b="0" lang="ru-RU" sz="2000" spc="-1" strike="noStrike">
                <a:solidFill>
                  <a:srgbClr val="438086"/>
                </a:solidFill>
                <a:latin typeface="Georgia"/>
              </a:rPr>
              <a:t>Но у всех оно белое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ru-RU" sz="2000" spc="-1" strike="noStrike">
                <a:solidFill>
                  <a:srgbClr val="67afbd"/>
                </a:solidFill>
                <a:latin typeface="Georgia"/>
              </a:rPr>
              <a:t>Белый цвет придает молоку белок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67afbd"/>
                </a:solidFill>
                <a:latin typeface="Georgia"/>
              </a:rPr>
              <a:t>молочный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. Больше всего белка в молоке у крольчих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(15%),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поэтому кроличье молоко самое белое. В молоке китов белка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12%,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у северных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оленей-10%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Жирность молока у всех различная. Меньше всего жира в молоке у кобылиц, зато в нем больше молочного сахара, поэтому из кобыльего молока готовят целебный напиток-кумыс. Самое жирное молоко у китов и тюленей-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45%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53%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Следом за ними идут северные олени и зайцы, у которых молоко так питательно, что одного обеда, например, зайчонку хватает на </a:t>
            </a: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2-3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дня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afbd"/>
                </a:solidFill>
                <a:latin typeface="Trebuchet MS"/>
              </a:rPr>
              <a:t>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Молочные продук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42600" y="1928520"/>
            <a:ext cx="828684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ы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- получают из заквашенного особым образом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Айран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напиток, похожий на кефи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Кефи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- густой напиток из перебродившего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Кумыс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кобылье молок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Масло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жировое веществ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Обрат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обезжиренное молок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Пахт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обезжиренные слив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ырок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творожная масс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уфл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сливки или молоко с сахаром для приготовления мороженог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Брын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сыр из овечьего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Йогурт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кисло-молочный продукт с витаминами и фруктовыми добавка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Мацон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ростокваш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2a874"/>
                </a:solidFill>
                <a:latin typeface="Georgia"/>
              </a:rPr>
              <a:t>Сливк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густой верхний отстой молок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786720" y="571680"/>
            <a:ext cx="2071440" cy="1376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6715080" y="5170320"/>
            <a:ext cx="2048040" cy="1687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3"/>
          <a:stretch/>
        </p:blipFill>
        <p:spPr>
          <a:xfrm>
            <a:off x="6072120" y="2357280"/>
            <a:ext cx="135756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Молочные продук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71320" y="1642680"/>
            <a:ext cx="8001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11280" y="1773360"/>
            <a:ext cx="820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Творо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густки кислого молока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Варенец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квашеное топленое молоко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Ряжен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квашеное топленое молоко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Сметан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продукт из скисших сливок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Бланманж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желе из сливок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Мороже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замороженное сладкое кушанье из сливок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Сыворот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жидкий отстой свернувшегося молока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Простокваш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густое закисшее молоко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2a874"/>
                </a:solidFill>
                <a:latin typeface="Verdana"/>
              </a:rPr>
              <a:t>Лактобацилл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вид простокваши.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6929280" y="4714920"/>
            <a:ext cx="2048040" cy="1949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5500800" y="1643040"/>
            <a:ext cx="17143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Одинаково ли молоко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1280" y="178560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равним молоко </a:t>
            </a: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коровы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и северного </a:t>
            </a: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олен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</a:rPr>
              <a:t>Коровье</a:t>
            </a:r>
            <a:r>
              <a:rPr b="0" lang="ru-RU" sz="2600" spc="-1" strike="noStrike">
                <a:solidFill>
                  <a:srgbClr val="67afbd"/>
                </a:solidFill>
                <a:latin typeface="Georgia"/>
              </a:rPr>
              <a:t>:                    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</a:rPr>
              <a:t>Оленье</a:t>
            </a:r>
            <a:r>
              <a:rPr b="0" lang="ru-RU" sz="2600" spc="-1" strike="noStrike">
                <a:solidFill>
                  <a:srgbClr val="67afbd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да – 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87%             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да – 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68%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Жирность – 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4%     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Жирность –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Оленье молоко содержит в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3200" spc="-1" strike="noStrike">
                <a:solidFill>
                  <a:srgbClr val="67afbd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раза</a:t>
            </a:r>
            <a:r>
              <a:rPr b="0" lang="ru-RU" sz="3200" spc="-1" strike="noStrike">
                <a:solidFill>
                  <a:srgbClr val="67afbd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меньше сахара, в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3 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раза больше казеина и примерно в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ru-RU" sz="3200" spc="-1" strike="noStrike">
                <a:solidFill>
                  <a:srgbClr val="c4652d"/>
                </a:solidFill>
                <a:latin typeface="Georgia"/>
              </a:rPr>
              <a:t> раз больше других белко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Trebuchet MS"/>
              </a:rPr>
              <a:t>          </a:t>
            </a:r>
            <a:r>
              <a:rPr b="0" lang="ru-RU" sz="3400" spc="-1" strike="noStrike">
                <a:solidFill>
                  <a:srgbClr val="ff0000"/>
                </a:solidFill>
                <a:latin typeface="Trebuchet MS"/>
              </a:rPr>
              <a:t>Кто и чьё пьёт молоко?</a:t>
            </a: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На Кавказ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козье и овеч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Средней Аз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молоко верблюдиц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На Север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олен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Британ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коров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Испан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овеч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аравийских пустынях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молоко верблюдиц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Египт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молоко буйволиц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В Лапланди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оленье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В питании еще используют молоко и </a:t>
            </a: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ослиц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, и </a:t>
            </a:r>
            <a:r>
              <a:rPr b="0" lang="ru-RU" sz="2100" spc="-1" strike="noStrike">
                <a:solidFill>
                  <a:srgbClr val="67afbd"/>
                </a:solidFill>
                <a:latin typeface="Georgia"/>
              </a:rPr>
              <a:t>кобыль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571680" y="781920"/>
            <a:ext cx="76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имический состав молока животных (в %) и его калорийность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214280" y="3143160"/>
          <a:ext cx="6786720" cy="2857680"/>
        </p:xfrm>
        <a:graphic>
          <a:graphicData uri="http://schemas.openxmlformats.org/drawingml/2006/table">
            <a:tbl>
              <a:tblPr/>
              <a:tblGrid>
                <a:gridCol w="1143000"/>
                <a:gridCol w="785880"/>
                <a:gridCol w="500040"/>
                <a:gridCol w="642960"/>
                <a:gridCol w="890640"/>
                <a:gridCol w="824040"/>
                <a:gridCol w="1071360"/>
                <a:gridCol w="928800"/>
              </a:tblGrid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ров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уйволи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были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рблюди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слица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857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мка севеного оленя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,7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,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вц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2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9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2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за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,4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6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5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8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3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214280" y="1428840"/>
          <a:ext cx="6786720" cy="1706400"/>
        </p:xfrm>
        <a:graphic>
          <a:graphicData uri="http://schemas.openxmlformats.org/drawingml/2006/table">
            <a:tbl>
              <a:tblPr/>
              <a:tblGrid>
                <a:gridCol w="1141560"/>
                <a:gridCol w="785160"/>
                <a:gridCol w="499680"/>
                <a:gridCol w="642240"/>
                <a:gridCol w="927720"/>
                <a:gridCol w="785160"/>
                <a:gridCol w="1085760"/>
                <a:gridCol w="884880"/>
                <a:gridCol w="36000"/>
              </a:tblGrid>
              <a:tr h="1728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ивотные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ухие вещества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ир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лок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лочный сахар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инеральные вещества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лорийность (ккал в 100 г)*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19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  <a:tr h="134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зеин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лобулин и альбумин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8b5d3d"/>
                      </a:solidFill>
                    </a:lnL>
                    <a:lnR w="5760">
                      <a:solidFill>
                        <a:srgbClr val="8b5d3d"/>
                      </a:solidFill>
                    </a:lnR>
                    <a:lnT w="5760">
                      <a:solidFill>
                        <a:srgbClr val="8b5d3d"/>
                      </a:solidFill>
                    </a:lnT>
                    <a:lnB w="5760">
                      <a:solidFill>
                        <a:srgbClr val="8b5d3d"/>
                      </a:solidFill>
                    </a:lnB>
                    <a:solidFill>
                      <a:srgbClr val="eeea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     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Пейте, дети, молоко –          будете здоровы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42600" y="2143080"/>
            <a:ext cx="8072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енность молока заключается и  в том, что пищевые вещества, входящие в состав, очень легко и быстро усваиваются организм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локо незаменимо в диетическом и детском питан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локо и молочные продукты содержат достаточное количество легкоусваиваемого кальция – особенно необходимого для нормального формирования скелета дете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ез молока дети плохо растут, часто болеют и быстро утомляются, особенно школь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жедневно дети должны выпивать не менее двух стаканов мол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7500960" y="4286160"/>
            <a:ext cx="1415880" cy="13478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 Молоко – это многокомпонентная питательная жидкость, которая вырабатывается молочными железами самок млекопитающих для вскармливания родившихся детенышей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Молоко – смесь различных полезных вещест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7072200" y="785880"/>
            <a:ext cx="15004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Источник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ru.wikip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go.mail.ru/search_images?rch=e&amp;type=all&amp;is=0&amp;q=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www.nmedik.ru/sredstva/moloko/index.ph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livelymeal.ru/moloko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зентация «Молочные реки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сновной вопро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Почему молоко является   смесью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Цель проектной работ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накомство с ценностью молочного продукта, практическое применен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что можно получить из молок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сширение кругозор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звитие коммуникативной компетент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Этапы работы над проекто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думывание подпроекта и составление план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2. Разработка основных частей  подпроек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3. Практическая ча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4. Вывод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5.  Оформле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Гипотез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Если мы будем пить </a:t>
            </a:r>
            <a:r>
              <a:rPr b="0" lang="ru-RU" sz="5400" spc="-1" strike="noStrike">
                <a:solidFill>
                  <a:srgbClr val="0070c0"/>
                </a:solidFill>
                <a:latin typeface="Georgia"/>
              </a:rPr>
              <a:t>молоко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мы будем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здоровы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714240" y="4071960"/>
            <a:ext cx="2033640" cy="2384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4714920" y="4786200"/>
            <a:ext cx="228132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Интересное о продукт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Среди продуктов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издавна используемых в пищу, </a:t>
            </a: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нет равного молоку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даром врачеватели Древнего Египта, Греции и Рима, наблюдая за действием молока на организм человека, назвали этот чудесный продукт </a:t>
            </a: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соком жизн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1600" spc="-1" strike="noStrike">
                <a:solidFill>
                  <a:srgbClr val="438086"/>
                </a:solidFill>
                <a:latin typeface="Georgia"/>
              </a:rPr>
              <a:t>источником здоровь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средние века уровень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едицинской науки ещ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позволял детально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знать действие молок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 организм, и каждый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рач применял его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уководствуясь своим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ичным опытом и знаниям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4" descr=""/>
          <p:cNvPicPr/>
          <p:nvPr/>
        </p:nvPicPr>
        <p:blipFill>
          <a:blip r:embed="rId1"/>
          <a:stretch/>
        </p:blipFill>
        <p:spPr>
          <a:xfrm>
            <a:off x="4143240" y="3214800"/>
            <a:ext cx="41007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66280" y="2714400"/>
            <a:ext cx="80010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первые польза молока была научно обоснована в лаборатории И.П.Павлова. Выяснилось, что для переваривания молока требуется наименьшее количество желудочного сока, при его потреблении повышается усвоение других компонентов пищи. Главное же достоинство молока заключается в том, что его питательные вещества находятся в очень благоприятном для человеческого организма соотношен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2071440" cy="2000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6429240" y="71424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Trebuchet MS"/>
              </a:rPr>
              <a:t>В молоке – вся</a:t>
            </a:r>
            <a:br>
              <a:rPr sz="3100"/>
            </a:br>
            <a:r>
              <a:rPr b="0" lang="ru-RU" sz="3100" spc="-1" strike="noStrike">
                <a:solidFill>
                  <a:srgbClr val="ff0000"/>
                </a:solidFill>
                <a:latin typeface="Trebuchet MS"/>
              </a:rPr>
              <a:t> таблица Менделеева</a:t>
            </a:r>
            <a:endParaRPr b="0" lang="en-US" sz="31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66280" y="200016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молоке собраны буквально все элементы таблицы Менделеева. По сравнению со многими другими продуктами молоко богаче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олями кальция, магния, фосфора, калия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дущими на построение костей, зубов, крови, нервных тканей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льций молока усваивается лучше, чем кальций крупы, хлеба, овощ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молоке содержатся и необходимые для организма микроэлементы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: соли меди, железа, кобальта, йода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т.д., а также обширный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комплекс витаминов, ферментов, гормонов, иммунных тел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которые весьма эффективно ведут борьбу с болезнетворными микроба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6143760" y="357120"/>
            <a:ext cx="2744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Пол-литра моло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42600" y="1571760"/>
            <a:ext cx="8001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овно столько молока в ден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овлетворяет потребность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зрослого человек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30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белк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25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жире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75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кальции и фосфор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50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кал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30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витаминах В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Д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15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витаминах А, В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6215040" y="4643280"/>
            <a:ext cx="2143080" cy="1849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6072120" y="1214280"/>
            <a:ext cx="1928880" cy="14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Что в нем такого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7afbd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67afbd"/>
                </a:solidFill>
                <a:latin typeface="Georgia"/>
              </a:rPr>
              <a:t>200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езных веществ содержится в молоке. Его по праву называют эликсиром красоты. В молоке есть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белк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жир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итамины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 другие полезные для кожи вещества.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Жи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од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в этом напитке присутствуют в виде тончайших капелек, образующих эмульсию, что позволяет им беспрепятственно проникать глубоко в кожу.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Белк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обходимы для укрепления волос и ногтей,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итамин А—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лаз, витамины группы </a:t>
            </a:r>
            <a:r>
              <a:rPr b="1" lang="ru-RU" sz="2000" spc="-1" strike="noStrike">
                <a:solidFill>
                  <a:srgbClr val="00b0f0"/>
                </a:solidFill>
                <a:latin typeface="Georgia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—для хорошего цвета лица. Сегодня все эти свойства молока используют в современной косметик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Жир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4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Бел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3,6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Молочный сахар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Минеральные веществ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0,7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afbd"/>
                </a:solidFill>
                <a:latin typeface="Georgia"/>
              </a:rPr>
              <a:t>Вода</a:t>
            </a:r>
            <a:r>
              <a:rPr b="0" lang="ru-RU" sz="2800" spc="-1" strike="noStrike">
                <a:solidFill>
                  <a:srgbClr val="c2a874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87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786280" y="4071960"/>
            <a:ext cx="3222720" cy="242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2:00:28Z</dcterms:created>
  <dc:creator>seryi</dc:creator>
  <dc:description/>
  <dc:language>en-US</dc:language>
  <cp:lastModifiedBy>Your User Name</cp:lastModifiedBy>
  <dcterms:modified xsi:type="dcterms:W3CDTF">2014-02-01T15:23:23Z</dcterms:modified>
  <cp:revision>118</cp:revision>
  <dc:subject/>
  <dc:title>Что такое молоко?</dc:title>
</cp:coreProperties>
</file>