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1B3-DB83-45BF-A057-D0765991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62B-0761-4828-8BF4-515BA283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AA4-53DB-4735-8B22-A8E5031F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AFB-3E94-49A4-9B12-F2C38679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9535-3B30-4A35-8519-DBEC420A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062C-6A33-48C5-8A36-1DEB2BBD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23D6-7430-48DC-9C5B-3F9B3C93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3DCA-964C-4F3B-80C0-7606A012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B25F-9B01-448F-8CC9-E49FE1A1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8B72-473F-4CD0-B738-3398673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A2BF-26CF-457C-B63D-F5791218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4EB-9687-4D03-877E-8A03E127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498C-72D6-4EB6-B767-F27D2E4B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1A61-A47B-4788-A7C8-A256C38D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F490-2451-45E4-944B-ED7A541B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9F2F-201D-4659-B5C6-994E5F88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4DC7-1949-4BE4-A0C1-B2373438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1AD-4885-47A6-9F51-2EC9DE20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DD8-6101-4AB7-96B9-8859C681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0EE-B37E-4E8B-8140-34990824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8EB-8089-4B12-976C-81E98ABB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209-C321-4D2C-AFD6-1AFBB9E8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18B-B0DA-4D1D-B6F3-90FC1FB4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D2B-E8C5-4CC1-A7A3-7ACB55D7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D7BB-C397-4546-BD65-6C0F784BF4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9969-98AF-4F67-830E-CC380A50A0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ebsight.ru/anat/lens.php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rtoks.ru/pedia-glaukoma.shtml" TargetMode="External"/><Relationship Id="rId2" Type="http://schemas.openxmlformats.org/officeDocument/2006/relationships/hyperlink" Target="http://www.artoks.ru/pedia-bliz.shtml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«Болезни глаз.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Гигиена зрения»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ый проект по биологии ученицы 8 класса Железногорской санаторно-лесной школы Гербаль Людмилы. Проект выполнен под руководством учителя химии и биологии Душак О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6093000"/>
            <a:ext cx="4392720" cy="5047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кабрь 2010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альнозоркость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ри дальнозоркости люди плохо видят близко расположенные предметы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артинка 38 из 2168"/>
          <p:cNvPicPr/>
          <p:nvPr/>
        </p:nvPicPr>
        <p:blipFill>
          <a:blip r:embed="rId2"/>
          <a:stretch/>
        </p:blipFill>
        <p:spPr>
          <a:xfrm>
            <a:off x="4140360" y="2462040"/>
            <a:ext cx="47736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альтонизм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424836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ри дальтонизме люди не различают цвета красный и зелёный (оба цвета воспринимают как сер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Таким недостатком цветного зрения обладал английский учёный Джон Даль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Картинка 9 из 1552"/>
          <p:cNvPicPr/>
          <p:nvPr/>
        </p:nvPicPr>
        <p:blipFill>
          <a:blip r:embed="rId1"/>
          <a:stretch/>
        </p:blipFill>
        <p:spPr>
          <a:xfrm>
            <a:off x="4500720" y="1484280"/>
            <a:ext cx="4427280" cy="3373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16360" y="5229360"/>
            <a:ext cx="4176720" cy="12952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,5% мужчин и 0,1% женщ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обще не различают цве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Тест на дальтонизм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7" name="" descr="Картинка 1 из 1552"/>
          <p:cNvPicPr/>
          <p:nvPr/>
        </p:nvPicPr>
        <p:blipFill>
          <a:blip r:embed="rId1"/>
          <a:stretch/>
        </p:blipFill>
        <p:spPr>
          <a:xfrm>
            <a:off x="2050920" y="1628640"/>
            <a:ext cx="48247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Болезни глаз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02920" y="1341360"/>
            <a:ext cx="201636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268280"/>
            <a:ext cx="2016000" cy="18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03640" y="1341360"/>
            <a:ext cx="792000" cy="30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1341360"/>
            <a:ext cx="100800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21300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тарак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6360" y="450864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спа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450864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ук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328464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х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Катаракта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4076640"/>
            <a:ext cx="8666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Катаракта - это помутнение 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хрусталика</a:t>
            </a:r>
            <a:r>
              <a:rPr b="0" lang="en-US" sz="3200" spc="-1" strike="noStrike" u="sng">
                <a:solidFill>
                  <a:srgbClr val="cc6600"/>
                </a:solidFill>
                <a:uFillTx/>
                <a:latin typeface="Arial"/>
              </a:rPr>
              <a:t>, части глаза, ответственной за фокусировку световых лучей и создание ясного и четкого изображения. Хрусталик находится в специальном мешочке, который называется капсул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692360" y="1708200"/>
            <a:ext cx="55436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Катаракта. Причины заболевания.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В большинстве своем катаракта - это естественный результат старения. Катаракта - очень частое заболевание, являясь первой причиной снижения зрения у лиц старше 55 л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Помимо возрастной катаракты, встречаются помутнения хрусталика в результате травмы, повреждения определенными видами излучения, приема некоторых лекарственных препаратов, болезней - общих, как диабет, миотония, и глазных, как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глаукома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близорукость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и друг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 Black"/>
              </a:rPr>
              <a:t>Конъюнктивит – воспаление слизистых оболочек век.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1640" y="1905120"/>
            <a:ext cx="42735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озникает при попадании в глаза микроорганизмов, занесенных грязными руками, полотенцем, плат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Если долго смотреть на источник ультрафиолетового изл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410364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Глаукома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глаукома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 (греч. glaukōma от glaukos голубовато-зеленый) — заболевание глаз, основным проявлением которого является повышение внутриглазного д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Первичная глаукома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Первичная глаукома  обычно развивается у лиц старше 40—50 лет; она поражает около 2% населения этой возрастной группы, занимая одно из первых мест среди причин неизлечимой слепо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Вторичная глауком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Вторичная глаукома  возникает как осложнение другого заболевания (например, иридоциклита, подвывиха хрусталика, тромбоза пещеристого синуса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5215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Место в учебном процессе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тема «Координация и регуляция. Органы чувст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Формируемые компетенции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общеучебные, информацион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Типология проекта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информационно – исследовательский, индивидуальный, краткосроч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Проблема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охранение зрения, профилактика возможных заболеваний  является личностно значимым для ученицы вопрос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Глаукома. Причины заболевания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Заболевание может быть обусловлено сразу несколькими факторами, наслаивающимися один на другой. Доказано наследственное предрасположение к Г. При вторичной Г. причиной нарушения оттока внутриглазной жидкости может, например, стать скопление экссудата, воспалительные или рубцовые процессы в глаз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00"/>
                </a:solidFill>
                <a:latin typeface="Arial Black"/>
              </a:rPr>
              <a:t>Трахома.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Трахома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(греч. trachys шероховатый, неровный +-ōma; синоним: conjunctivitis trachomatosa, s. granulosa, ophthalmia bellica, s. militaris) — хроническое инфекционное заболевание глаз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Трахома. Причины заболевания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чало заболевания связано с повреждением возбудителем эпителиальных клеток конъюнктивы и роговицы. Воспалительный процесс распространяется на более глубокие ткани конъюнктивы, поражает хрящи век. Активные формы заболевания чаще наблюдаются в возрасте 4—10 лет, последствия Т. — трихиаз и заворот век — в возрасте старше 50 лет. Женщины болеют в 3 раза чаще, чем мужч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55640" y="1413000"/>
            <a:ext cx="7704000" cy="41036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ерегите свои глаз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 не сидите близк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 монитору компьютер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 экрану телевизор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Источники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Биология. Человек.8 кл». Н.И.Сонин, М.Р.Сапин. М.: Дрофа, 2006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.П. Сидоров «Анатомия. Для поступающих в вузы». М. «Уникум-центр», 199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zreni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7360" y="-54104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594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Цель проекта: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расширение у учащихся знаний о функционировании зрительного анализатора, возможных причинах его заболеваний, мерах профилактики, обмен опы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Изучить научную литературу и другие источники информации по заданной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Проанализировать полученную информацию, создать презентацию по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Презентация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может служить демонстрационным материалом на уроках и внеклассных мероприятиях по формированию у учащихся навыков бережного отношения к своему здоров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Болезни глаз.</a:t>
            </a:r>
            <a:br>
              <a:rPr sz="5400"/>
            </a:b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Гигиена зрения.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4508640"/>
            <a:ext cx="5112000" cy="18716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у выполнила  ученица 8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ербаль Людм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Душак О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Внешний вид глаза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95280" y="1904760"/>
            <a:ext cx="51483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Глаз - это сложная оптическая система. Световые лучи попадают от окружающих предметов в глаз через роговицу. Роговица в оптическом смысле - это сильная собирающая линза, которая фокусирует расходящиеся в разные стороны световые лучи. Причем оптическая сила роговицы в норме не меняется и дает всегда постоянную степень преломления. Склера является непрозрачной наружной оболочкой глаза, соответственно, она не принимает участия в проведении света внутрь гл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052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Схема строения глаза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кле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ередняя камера глаз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Радуж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Хрустал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текловидное те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етчат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осудистая оболоч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133720"/>
            <a:ext cx="47512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Нарушения зрения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1413000"/>
            <a:ext cx="71280" cy="37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95280" y="1413000"/>
            <a:ext cx="187164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413000"/>
            <a:ext cx="187164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284640"/>
            <a:ext cx="2664000" cy="10080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лизорук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280" y="5229360"/>
            <a:ext cx="2663640" cy="10080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льтониз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3357720"/>
            <a:ext cx="2664000" cy="10080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льнозорк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5183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Близорукость и 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чины её 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вызывающие.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4586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ри близорукости люди плохо видят удалённые предм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лизорукость развивается при длительном напряжении и неправильном  освещ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артинка 58 из 7040"/>
          <p:cNvPicPr/>
          <p:nvPr/>
        </p:nvPicPr>
        <p:blipFill>
          <a:blip r:embed="rId2"/>
          <a:stretch/>
        </p:blipFill>
        <p:spPr>
          <a:xfrm>
            <a:off x="4716360" y="3408480"/>
            <a:ext cx="4033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Black"/>
              </a:rPr>
              <a:t>Так видит своих друзей мальчик у которого развита близорукость: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6" name="" descr="Картинка 16 из 7040"/>
          <p:cNvPicPr/>
          <p:nvPr/>
        </p:nvPicPr>
        <p:blipFill>
          <a:blip r:embed="rId1"/>
          <a:stretch/>
        </p:blipFill>
        <p:spPr>
          <a:xfrm>
            <a:off x="1835280" y="1989000"/>
            <a:ext cx="583236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4:16:48Z</dcterms:created>
  <dc:creator>люда</dc:creator>
  <dc:description/>
  <dc:language>en-US</dc:language>
  <cp:lastModifiedBy>a</cp:lastModifiedBy>
  <dcterms:modified xsi:type="dcterms:W3CDTF">2011-11-13T23:56:07Z</dcterms:modified>
  <cp:revision>14</cp:revision>
  <dc:subject/>
  <dc:title>Болезни глаз</dc:title>
</cp:coreProperties>
</file>