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82FC7-78F8-48A6-9116-3313226AB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276BE-ABCE-48F8-B8EF-130892602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D661D-6D91-454C-8E82-8330B62CA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9961C-A38A-4912-A995-486D8A63D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23405-2EF7-48C1-954F-02B5149DC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DB12B-6F3B-437B-AE31-EC9B5909B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E0DAA-AA72-415C-8E2F-BCF7D7824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75B47-6E20-4B99-99ED-DC76DB788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78CBA-B3F1-4F91-B2A1-AF6A8EDF1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85B4A-4659-47CC-9446-B063EFC63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60A9E-BA53-4567-8ABF-C3664EF1C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7E4CA-664B-4A7A-88F2-DCAA3DC1F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34623-A72E-442E-BF49-83436BA61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ED1ED-2C84-42AD-BFD3-2D5820372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266D2-9F47-4830-86F0-7206C364B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75772-73CE-41A1-86AA-DE6A68FC1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C887E-742F-4EEF-BFA3-97AB2AD51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ECE94-8929-428F-B086-404B90FB1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0820D-5C87-4473-A930-D54A62B3C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33DC3-C8A5-4A83-A1B3-F8EEE6ED3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30382-DEBC-450D-A29F-451CBB114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73F32-930B-4203-BA5A-4806F2BBC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5CADB-237E-47CB-9130-EA279EF6D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5CB01-BC2D-4B3A-94A8-0B52AEC69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ff99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07c00"/>
                </a:gs>
                <a:gs pos="100000">
                  <a:srgbClr val="ff99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ea41e"/>
                </a:gs>
                <a:gs pos="100000">
                  <a:srgbClr val="ff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fea41e"/>
                </a:gs>
                <a:gs pos="100000">
                  <a:srgbClr val="ff99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07c00"/>
                </a:gs>
                <a:gs pos="100000">
                  <a:srgbClr val="ff99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ea41e"/>
                </a:gs>
                <a:gs pos="100000">
                  <a:srgbClr val="ff99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7844D-FD86-46EF-BA5B-CC376A7D5C8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8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b28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ff99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07c00"/>
                </a:gs>
                <a:gs pos="100000">
                  <a:srgbClr val="ff99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07c00"/>
                </a:gs>
                <a:gs pos="100000">
                  <a:srgbClr val="ff99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ea41e"/>
                </a:gs>
                <a:gs pos="100000">
                  <a:srgbClr val="ff99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ea41e"/>
                </a:gs>
                <a:gs pos="100000">
                  <a:srgbClr val="ff99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6600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E01D9-B1F2-4765-9367-484E49206D2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283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ebsight.ru/anat/lens.php" TargetMode="Externa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0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artoks.ru/pedia-glaukoma.shtml" TargetMode="External"/><Relationship Id="rId2" Type="http://schemas.openxmlformats.org/officeDocument/2006/relationships/hyperlink" Target="http://www.artoks.ru/pedia-bliz.shtml" TargetMode="Externa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Arial Black"/>
              </a:rPr>
              <a:t>«Болезни глаз.</a:t>
            </a:r>
            <a:br>
              <a:rPr sz="4400"/>
            </a:br>
            <a:r>
              <a:rPr b="1" lang="en-US" sz="4400" spc="-1" strike="noStrike">
                <a:solidFill>
                  <a:srgbClr val="cc6600"/>
                </a:solidFill>
                <a:latin typeface="Arial Black"/>
              </a:rPr>
              <a:t> Гигиена зрения».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Учебный проект по биологии ученицы 8 класса Железногорской санаторно-лесной школы Гербаль Людмилы. Проект выполнен под руководством учителя химии и биологии Душак О.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411280" y="6093000"/>
            <a:ext cx="4392720" cy="504720"/>
          </a:xfrm>
          <a:prstGeom prst="rect">
            <a:avLst/>
          </a:prstGeom>
          <a:solidFill>
            <a:srgbClr val="f05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Декабрь 2010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Arial Black"/>
              </a:rPr>
              <a:t>Дальнозоркость 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95280" y="191592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Arial"/>
              </a:rPr>
              <a:t>При дальнозоркости люди плохо видят близко расположенные предметы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4917960" y="1904760"/>
            <a:ext cx="3927600" cy="419076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Картинка 38 из 2168"/>
          <p:cNvPicPr/>
          <p:nvPr/>
        </p:nvPicPr>
        <p:blipFill>
          <a:blip r:embed="rId2"/>
          <a:stretch/>
        </p:blipFill>
        <p:spPr>
          <a:xfrm>
            <a:off x="4140360" y="2462040"/>
            <a:ext cx="4773600" cy="408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Arial Black"/>
              </a:rPr>
              <a:t>Дальтонизм 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78920" y="1904760"/>
            <a:ext cx="424836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Arial"/>
              </a:rPr>
              <a:t>При дальтонизме люди не различают цвета красный и зелёный (оба цвета воспринимают как серый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cc6600"/>
                </a:solidFill>
                <a:latin typeface="Arial"/>
              </a:rPr>
              <a:t>Таким недостатком цветного зрения обладал английский учёный Джон Дальтон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Картинка 9 из 1552"/>
          <p:cNvPicPr/>
          <p:nvPr/>
        </p:nvPicPr>
        <p:blipFill>
          <a:blip r:embed="rId1"/>
          <a:stretch/>
        </p:blipFill>
        <p:spPr>
          <a:xfrm>
            <a:off x="4500720" y="1484280"/>
            <a:ext cx="4427280" cy="337356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4716360" y="5229360"/>
            <a:ext cx="4176720" cy="1295280"/>
          </a:xfrm>
          <a:prstGeom prst="rect">
            <a:avLst/>
          </a:prstGeom>
          <a:solidFill>
            <a:srgbClr val="f05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7,5% мужчин и 0,1% женщин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ообще не различают цвето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Arial Black"/>
              </a:rPr>
              <a:t>Тест на дальтонизм.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pic>
        <p:nvPicPr>
          <p:cNvPr id="137" name="" descr="Картинка 1 из 1552"/>
          <p:cNvPicPr/>
          <p:nvPr/>
        </p:nvPicPr>
        <p:blipFill>
          <a:blip r:embed="rId1"/>
          <a:stretch/>
        </p:blipFill>
        <p:spPr>
          <a:xfrm>
            <a:off x="2050920" y="1628640"/>
            <a:ext cx="4824720" cy="477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Arial Black"/>
              </a:rPr>
              <a:t>Болезни глаз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1402920" y="1341360"/>
            <a:ext cx="2016360" cy="172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12000" y="1268280"/>
            <a:ext cx="2016000" cy="1873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3203640" y="1341360"/>
            <a:ext cx="792000" cy="3024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932360" y="1341360"/>
            <a:ext cx="1008000" cy="2951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50920" y="3213000"/>
            <a:ext cx="2627280" cy="1081080"/>
          </a:xfrm>
          <a:prstGeom prst="rect">
            <a:avLst/>
          </a:prstGeom>
          <a:solidFill>
            <a:srgbClr val="f05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Катаракт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476360" y="4508640"/>
            <a:ext cx="2627280" cy="1081080"/>
          </a:xfrm>
          <a:prstGeom prst="rect">
            <a:avLst/>
          </a:prstGeom>
          <a:solidFill>
            <a:srgbClr val="f05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оспалени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859280" y="4508640"/>
            <a:ext cx="2627280" cy="1081080"/>
          </a:xfrm>
          <a:prstGeom prst="rect">
            <a:avLst/>
          </a:prstGeom>
          <a:solidFill>
            <a:srgbClr val="f05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Глауком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156360" y="3284640"/>
            <a:ext cx="2627280" cy="1081080"/>
          </a:xfrm>
          <a:prstGeom prst="rect">
            <a:avLst/>
          </a:prstGeom>
          <a:solidFill>
            <a:srgbClr val="f05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Трахом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Arial Black"/>
              </a:rPr>
              <a:t>Катаракта 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8920" y="4076640"/>
            <a:ext cx="866628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Arial"/>
              </a:rPr>
              <a:t>Катаракта - это помутнение </a:t>
            </a:r>
            <a:r>
              <a:rPr b="0" lang="en-US" sz="3200" spc="-1" strike="noStrike" u="sng">
                <a:solidFill>
                  <a:srgbClr val="99cc00"/>
                </a:solidFill>
                <a:uFillTx/>
                <a:latin typeface="Arial"/>
                <a:hlinkClick r:id="rId1"/>
              </a:rPr>
              <a:t>хрусталика</a:t>
            </a:r>
            <a:r>
              <a:rPr b="0" lang="en-US" sz="3200" spc="-1" strike="noStrike" u="sng">
                <a:solidFill>
                  <a:srgbClr val="cc6600"/>
                </a:solidFill>
                <a:uFillTx/>
                <a:latin typeface="Arial"/>
              </a:rPr>
              <a:t>, части глаза, ответственной за фокусировку световых лучей и создание ясного и четкого изображения. Хрусталик находится в специальном мешочке, который называется капсуло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1692360" y="1708200"/>
            <a:ext cx="5543640" cy="202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Arial Black"/>
              </a:rPr>
              <a:t>Катаракта. Причины заболевания. 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7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6600"/>
                </a:solidFill>
                <a:latin typeface="Arial"/>
              </a:rPr>
              <a:t>В большинстве своем катаракта - это естественный результат старения. Катаракта - очень частое заболевание, являясь первой причиной снижения зрения у лиц старше 55 лет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6600"/>
                </a:solidFill>
                <a:latin typeface="Arial"/>
              </a:rPr>
              <a:t>Помимо возрастной катаракты, встречаются помутнения хрусталика в результате травмы, повреждения определенными видами излучения, приема некоторых лекарственных препаратов, болезней - общих, как диабет, миотония, и глазных, как </a:t>
            </a:r>
            <a:r>
              <a:rPr b="0" lang="ru-RU" sz="2800" spc="-1" strike="noStrike" u="sng">
                <a:solidFill>
                  <a:srgbClr val="99cc00"/>
                </a:solidFill>
                <a:uFillTx/>
                <a:latin typeface="Arial"/>
                <a:hlinkClick r:id="rId1"/>
              </a:rPr>
              <a:t>глаукома</a:t>
            </a:r>
            <a:r>
              <a:rPr b="0" lang="ru-RU" sz="2800" spc="-1" strike="noStrike">
                <a:solidFill>
                  <a:srgbClr val="cc6600"/>
                </a:solidFill>
                <a:latin typeface="Arial"/>
              </a:rPr>
              <a:t>, </a:t>
            </a:r>
            <a:r>
              <a:rPr b="0" lang="ru-RU" sz="2800" spc="-1" strike="noStrike" u="sng">
                <a:solidFill>
                  <a:srgbClr val="99cc00"/>
                </a:solidFill>
                <a:uFillTx/>
                <a:latin typeface="Arial"/>
                <a:hlinkClick r:id="rId2"/>
              </a:rPr>
              <a:t>близорукость</a:t>
            </a:r>
            <a:r>
              <a:rPr b="0" lang="ru-RU" sz="2800" spc="-1" strike="noStrike">
                <a:solidFill>
                  <a:srgbClr val="cc6600"/>
                </a:solidFill>
                <a:latin typeface="Arial"/>
              </a:rPr>
              <a:t> и других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 Black"/>
              </a:rPr>
              <a:t> </a:t>
            </a:r>
            <a:r>
              <a:rPr b="0" lang="en-US" sz="4000" spc="-1" strike="noStrike">
                <a:solidFill>
                  <a:srgbClr val="cc6600"/>
                </a:solidFill>
                <a:latin typeface="Arial Black"/>
              </a:rPr>
              <a:t>Конъюнктивит – воспаление слизистых оболочек век.</a:t>
            </a:r>
            <a:endParaRPr b="1" lang="en-US" sz="4000" spc="-1" strike="noStrike">
              <a:solidFill>
                <a:srgbClr val="cc6600"/>
              </a:solidFill>
              <a:latin typeface="Arial Black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838080" y="1904760"/>
            <a:ext cx="3927600" cy="419076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1640" y="1905120"/>
            <a:ext cx="4273560" cy="454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Arial"/>
              </a:rPr>
              <a:t>Возникает при попадании в глаза микроорганизмов, занесенных грязными руками, полотенцем, платко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Arial"/>
              </a:rPr>
              <a:t>Если долго смотреть на источник ультрафиолетового излуче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179280" y="2421000"/>
            <a:ext cx="4103640" cy="2925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Arial Black"/>
              </a:rPr>
              <a:t>Глаукома 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6600"/>
                </a:solidFill>
                <a:latin typeface="Arial"/>
              </a:rPr>
              <a:t>глаукома</a:t>
            </a:r>
            <a:r>
              <a:rPr b="0" lang="ru-RU" sz="3200" spc="-1" strike="noStrike">
                <a:solidFill>
                  <a:srgbClr val="cc6600"/>
                </a:solidFill>
                <a:latin typeface="Arial"/>
              </a:rPr>
              <a:t> (греч. glaukōma от glaukos голубовато-зеленый) — заболевание глаз, основным проявлением которого является повышение внутриглазного давлени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6600"/>
                </a:solidFill>
                <a:latin typeface="Arial Black"/>
              </a:rPr>
              <a:t>Первичная глаукома</a:t>
            </a:r>
            <a:endParaRPr b="1" lang="en-US" sz="5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Первичная глаукома  обычно развивается у лиц старше 40—50 лет; она поражает около 2% населения этой возрастной группы, занимая одно из первых мест среди причин неизлечимой слепоты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Arial Black"/>
              </a:rPr>
              <a:t>Вторичная глаукома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Вторичная глаукома  возникает как осложнение другого заболевания (например, иридоциклита, подвывиха хрусталика, тромбоза пещеристого синуса)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-63360"/>
            <a:ext cx="83851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23640" y="549360"/>
            <a:ext cx="8521560" cy="59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6600"/>
                </a:solidFill>
                <a:uFillTx/>
                <a:latin typeface="Arial"/>
              </a:rPr>
              <a:t>Место в учебном процессе:</a:t>
            </a:r>
            <a:r>
              <a:rPr b="0" lang="en-US" sz="2800" spc="-1" strike="noStrike">
                <a:solidFill>
                  <a:srgbClr val="cc66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cc6600"/>
                </a:solidFill>
                <a:latin typeface="Arial"/>
              </a:rPr>
              <a:t>тема «Координация и регуляция. Органы чувств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6600"/>
                </a:solidFill>
                <a:uFillTx/>
                <a:latin typeface="Arial"/>
              </a:rPr>
              <a:t>Формируемые компетенции:</a:t>
            </a:r>
            <a:r>
              <a:rPr b="0" lang="en-US" sz="2800" spc="-1" strike="noStrike">
                <a:solidFill>
                  <a:srgbClr val="cc66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cc6600"/>
                </a:solidFill>
                <a:latin typeface="Arial"/>
              </a:rPr>
              <a:t>общеучебные, информационны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6600"/>
                </a:solidFill>
                <a:uFillTx/>
                <a:latin typeface="Arial"/>
              </a:rPr>
              <a:t>Типология проекта:</a:t>
            </a:r>
            <a:r>
              <a:rPr b="0" lang="en-US" sz="2800" spc="-1" strike="noStrike">
                <a:solidFill>
                  <a:srgbClr val="cc66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cc6600"/>
                </a:solidFill>
                <a:latin typeface="Arial"/>
              </a:rPr>
              <a:t>информационно – исследовательский, индивидуальный, краткосрочны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6600"/>
                </a:solidFill>
                <a:uFillTx/>
                <a:latin typeface="Arial"/>
              </a:rPr>
              <a:t>Проблема:</a:t>
            </a:r>
            <a:r>
              <a:rPr b="0" lang="en-US" sz="2800" spc="-1" strike="noStrike">
                <a:solidFill>
                  <a:srgbClr val="cc66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cc6600"/>
                </a:solidFill>
                <a:latin typeface="Arial"/>
              </a:rPr>
              <a:t>сохранение зрения, профилактика возможных заболеваний  является личностно значимым для ученицы вопросо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Arial Black"/>
              </a:rPr>
              <a:t>Глаукома. Причины заболевания.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Arial"/>
              </a:rPr>
              <a:t>Заболевание может быть обусловлено сразу несколькими факторами, наслаивающимися один на другой. Доказано наследственное предрасположение к Г. При вторичной Г. причиной нарушения оттока внутриглазной жидкости может, например, стать скопление экссудата, воспалительные или рубцовые процессы в глазу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6600"/>
                </a:solidFill>
                <a:latin typeface="Arial Black"/>
              </a:rPr>
              <a:t>Трахома.</a:t>
            </a:r>
            <a:endParaRPr b="1" lang="en-US" sz="5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6600"/>
                </a:solidFill>
                <a:latin typeface="Arial"/>
              </a:rPr>
              <a:t>Трахома</a:t>
            </a:r>
            <a:r>
              <a:rPr b="0" lang="ru-RU" sz="4000" spc="-1" strike="noStrike">
                <a:solidFill>
                  <a:srgbClr val="cc6600"/>
                </a:solidFill>
                <a:latin typeface="Arial"/>
              </a:rPr>
              <a:t> (греч. trachys шероховатый, неровный +-ōma; синоним: conjunctivitis trachomatosa, s. granulosa, ophthalmia bellica, s. militaris) — хроническое инфекционное заболевание глаз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Arial Black"/>
              </a:rPr>
              <a:t>Трахома. Причины заболевания.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Arial"/>
              </a:rPr>
              <a:t>Начало заболевания связано с повреждением возбудителем эпителиальных клеток конъюнктивы и роговицы. Воспалительный процесс распространяется на более глубокие ткани конъюнктивы, поражает хрящи век. Активные формы заболевания чаще наблюдаются в возрасте 4—10 лет, последствия Т. — трихиаз и заворот век — в возрасте старше 50 лет. Женщины болеют в 3 раза чаще, чем мужчин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755640" y="1413000"/>
            <a:ext cx="7704000" cy="4103640"/>
          </a:xfrm>
          <a:prstGeom prst="rect">
            <a:avLst/>
          </a:prstGeom>
          <a:solidFill>
            <a:srgbClr val="f05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Берегите свои глаза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И не сидите близко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к монитору компьютера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и экрану телевизора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Arial Black"/>
              </a:rPr>
              <a:t>Источники: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«Биология. Человек.8 кл». Н.И.Сонин, М.Р.Сапин. М.: Дрофа, 2006.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Е.П. Сидоров «Анатомия. Для поступающих в вузы». М. «Уникум-центр», 1998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ww.zreni.r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7360" y="-5410440"/>
            <a:ext cx="6984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50920" y="259920"/>
            <a:ext cx="859464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6600"/>
                </a:solidFill>
                <a:uFillTx/>
                <a:latin typeface="Times New Roman"/>
              </a:rPr>
              <a:t>Цель проекта:</a:t>
            </a:r>
            <a:r>
              <a:rPr b="0" lang="en-US" sz="2800" spc="-1" strike="noStrike">
                <a:solidFill>
                  <a:srgbClr val="cc66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cc6600"/>
                </a:solidFill>
                <a:latin typeface="Times New Roman"/>
              </a:rPr>
              <a:t>расширение у учащихся знаний о функционировании зрительного анализатора, возможных причинах его заболеваний, мерах профилактики, обмен опыто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6600"/>
                </a:solidFill>
                <a:uFillTx/>
                <a:latin typeface="Times New Roman"/>
              </a:rPr>
              <a:t>Задачи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8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Times New Roman"/>
              </a:rPr>
              <a:t>Изучить научную литературу и другие источники информации по заданной тем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8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Times New Roman"/>
              </a:rPr>
              <a:t>Проанализировать полученную информацию, создать презентацию по тем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6600"/>
                </a:solidFill>
                <a:uFillTx/>
                <a:latin typeface="Times New Roman"/>
              </a:rPr>
              <a:t>Презентация</a:t>
            </a:r>
            <a:r>
              <a:rPr b="0" lang="en-US" sz="2800" spc="-1" strike="noStrike">
                <a:solidFill>
                  <a:srgbClr val="cc6600"/>
                </a:solidFill>
                <a:latin typeface="Times New Roman"/>
              </a:rPr>
              <a:t> может служить демонстрационным материалом на уроках и внеклассных мероприятиях по формированию у учащихся навыков бережного отношения к своему здоровью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6600"/>
                </a:solidFill>
                <a:latin typeface="Arial Black"/>
              </a:rPr>
              <a:t>Болезни глаз.</a:t>
            </a:r>
            <a:br>
              <a:rPr sz="5400"/>
            </a:br>
            <a:r>
              <a:rPr b="1" lang="en-US" sz="5400" spc="-1" strike="noStrike">
                <a:solidFill>
                  <a:srgbClr val="cc6600"/>
                </a:solidFill>
                <a:latin typeface="Arial Black"/>
              </a:rPr>
              <a:t>Гигиена зрения.</a:t>
            </a:r>
            <a:endParaRPr b="1" lang="en-US" sz="5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411280" y="4508640"/>
            <a:ext cx="5112000" cy="1871640"/>
          </a:xfrm>
          <a:prstGeom prst="rect">
            <a:avLst/>
          </a:prstGeom>
          <a:solidFill>
            <a:srgbClr val="f05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Работу выполнила  ученица 8 класс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Гербаль Людмил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Учитель Душак О.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010-201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Arial Black"/>
              </a:rPr>
              <a:t>Внешний вид глаза.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995280" y="1904760"/>
            <a:ext cx="5148360" cy="51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Глаз - это сложная оптическая система. Световые лучи попадают от окружающих предметов в глаз через роговицу. Роговица в оптическом смысле - это сильная собирающая линза, которая фокусирует расходящиеся в разные стороны световые лучи. Причем оптическая сила роговицы в норме не меняется и дает всегда постоянную степень преломления. Склера является непрозрачной наружной оболочкой глаза, соответственно, она не принимает участия в проведении света внутрь глаза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3805200" cy="24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Arial Black"/>
              </a:rPr>
              <a:t>Схема строения глаза.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79280" y="191592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cc6600"/>
                </a:solidFill>
                <a:latin typeface="Arial"/>
              </a:rPr>
              <a:t>Склер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Arial"/>
              </a:rPr>
              <a:t>Передняя камера глаз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Arial"/>
              </a:rPr>
              <a:t>Радужк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Arial"/>
              </a:rPr>
              <a:t>Хрусталик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Arial"/>
              </a:rPr>
              <a:t>Стекловидное тело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Arial"/>
              </a:rPr>
              <a:t>Сетчатк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Arial"/>
              </a:rPr>
              <a:t>Сосудистая оболочк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4140360" y="2133720"/>
            <a:ext cx="4751280" cy="38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Arial Black"/>
              </a:rPr>
              <a:t>Нарушения зрения 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15" name=""/>
          <p:cNvSpPr/>
          <p:nvPr/>
        </p:nvSpPr>
        <p:spPr>
          <a:xfrm>
            <a:off x="4284720" y="1413000"/>
            <a:ext cx="71280" cy="374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2195280" y="1413000"/>
            <a:ext cx="1871640" cy="1800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716360" y="1413000"/>
            <a:ext cx="1871640" cy="187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900000" y="3284640"/>
            <a:ext cx="2664000" cy="1008000"/>
          </a:xfrm>
          <a:prstGeom prst="rect">
            <a:avLst/>
          </a:prstGeom>
          <a:solidFill>
            <a:srgbClr val="f05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Близорукость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059280" y="5229360"/>
            <a:ext cx="2663640" cy="1008000"/>
          </a:xfrm>
          <a:prstGeom prst="rect">
            <a:avLst/>
          </a:prstGeom>
          <a:solidFill>
            <a:srgbClr val="f05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Дальтонизм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292720" y="3357720"/>
            <a:ext cx="2664000" cy="1008000"/>
          </a:xfrm>
          <a:prstGeom prst="rect">
            <a:avLst/>
          </a:prstGeom>
          <a:solidFill>
            <a:srgbClr val="f05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Дальнозоркость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24000" y="244080"/>
            <a:ext cx="851832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Arial Black"/>
              </a:rPr>
              <a:t>Близорукость и </a:t>
            </a:r>
            <a:br>
              <a:rPr sz="4400"/>
            </a:br>
            <a:r>
              <a:rPr b="1" lang="en-US" sz="4400" spc="-1" strike="noStrike">
                <a:solidFill>
                  <a:srgbClr val="cc6600"/>
                </a:solidFill>
                <a:latin typeface="Arial Black"/>
              </a:rPr>
              <a:t>причины её </a:t>
            </a:r>
            <a:br>
              <a:rPr sz="4400"/>
            </a:br>
            <a:r>
              <a:rPr b="1" lang="en-US" sz="4400" spc="-1" strike="noStrike">
                <a:solidFill>
                  <a:srgbClr val="cc6600"/>
                </a:solidFill>
                <a:latin typeface="Arial Black"/>
              </a:rPr>
              <a:t>вызывающие. 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79280" y="2349000"/>
            <a:ext cx="4586400" cy="414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Arial"/>
              </a:rPr>
              <a:t>При близорукости люди плохо видят удалённые предмет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Arial"/>
              </a:rPr>
              <a:t>Близорукость развивается при длительном напряжении и неправильном  освещени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6084720" y="549360"/>
            <a:ext cx="2664000" cy="266364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Картинка 58 из 7040"/>
          <p:cNvPicPr/>
          <p:nvPr/>
        </p:nvPicPr>
        <p:blipFill>
          <a:blip r:embed="rId2"/>
          <a:stretch/>
        </p:blipFill>
        <p:spPr>
          <a:xfrm>
            <a:off x="4716360" y="3408480"/>
            <a:ext cx="4033800" cy="31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6600"/>
                </a:solidFill>
                <a:latin typeface="Arial Black"/>
              </a:rPr>
              <a:t>Так видит своих друзей мальчик у которого развита близорукость:</a:t>
            </a:r>
            <a:endParaRPr b="1" lang="en-US" sz="3200" spc="-1" strike="noStrike">
              <a:solidFill>
                <a:srgbClr val="cc6600"/>
              </a:solidFill>
              <a:latin typeface="Arial Black"/>
            </a:endParaRPr>
          </a:p>
        </p:txBody>
      </p:sp>
      <p:pic>
        <p:nvPicPr>
          <p:cNvPr id="126" name="" descr="Картинка 16 из 7040"/>
          <p:cNvPicPr/>
          <p:nvPr/>
        </p:nvPicPr>
        <p:blipFill>
          <a:blip r:embed="rId1"/>
          <a:stretch/>
        </p:blipFill>
        <p:spPr>
          <a:xfrm>
            <a:off x="1835280" y="1989000"/>
            <a:ext cx="5832360" cy="417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6T14:16:48Z</dcterms:created>
  <dc:creator>люда</dc:creator>
  <dc:description/>
  <dc:language>en-US</dc:language>
  <cp:lastModifiedBy>a</cp:lastModifiedBy>
  <dcterms:modified xsi:type="dcterms:W3CDTF">2011-11-13T23:56:07Z</dcterms:modified>
  <cp:revision>14</cp:revision>
  <dc:subject/>
  <dc:title>Болезни глаз</dc:title>
</cp:coreProperties>
</file>