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955-2701-497D-9A96-5C7EB9A0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CA4-543B-41FD-A0A7-C706D30F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18B-9682-4BD4-B11B-BF43A3F4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384-463F-43AB-B14B-8C2F0CE9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C46-5C2D-4256-AFAB-E1039F6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484-4FAA-4C3D-86E3-993BB1CE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634-D3E4-408F-8AA0-4C8FAA3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9AD-8702-4EA0-B80A-B06C31E6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8C3-1184-469C-8310-9257DB2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B91-AF7C-4EAD-A5E0-FE54589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4C5-0479-49C7-A396-8FA99C5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8EB-6403-47B1-8C87-91620ED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1B3-E0B5-41C0-8C90-14029270E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5254560"/>
            <a:ext cx="8399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680040" y="2940480"/>
            <a:ext cx="73569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детских сайтов, разрешенных для посещ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сите только сайты с хорошей репутаци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бывайте беседовать с детьми об их друзьях в Интерн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если бы речь шла о друзьях в реальной жиз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елай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 вопросов половой жиз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в Интернет дети могут легко наткнуться на порнограф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сай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зросл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517680" y="3435480"/>
            <a:ext cx="81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о своих угрозах или тревог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хвалите их и посоветуйте подойти еще раз в подобных случа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22480" y="3223440"/>
            <a:ext cx="812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анном возрасте дети, как правило, уже наслышаны о том, какая информ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ует в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но нормально, что они хотят это увидеть, прочесть, услыш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ужно помнить, что доступ к нежелательным материалам можно лег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локировать при помощи  средств родительского контроля Интерн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252000" y="2856600"/>
            <a:ext cx="88858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ите временное ограничение на Интернет для дет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ите за его соблюд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 не потому что вам это хочет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забывайте беседовать с детьми об их друзьях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70080" y="2553840"/>
            <a:ext cx="806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, чтобы дети никогда не соглашались на личные встреч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зьями по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йте детям заходить только на сайты и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й создайте вместе с ни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икогда не выдавать личную информацию средств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ы, чатов, систем мгновенного обмена сообщениям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страционных форм, личных профилей и при регист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онкурсы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е загружать программы без вашего раз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им, что они могут случайно загрузить вирусы или друг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тельное программное обеспече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231840" y="3026520"/>
            <a:ext cx="813708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вашему ребенку ограниченную учетную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, если сами рассказали вам о своих угроз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трево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детям о порнографии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229680" y="3221280"/>
            <a:ext cx="88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 на том, чтобы дети предоставляли вам доступ к сво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е, чтобы вы убедились, что они не общаются с незнаком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детям, что нельзя использовать сеть для хулиганст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остранения сплетен или угроз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30715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возрасте родителям часто уже весьма сложно осуществлять контроль за детьми в Интернет, так как о сети они уже знают значительно больше своих родителей. Тем не менее, особенно важно строго соблюдать правила безопасности детей в Интернет. Кроме того, необходимо как можно чаще просматривать отчеты о деятельности детей в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2857320"/>
            <a:ext cx="822960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обратить внимание на необходимость содержания родительских паролей (паролей администраторов) в строгом секрете и обратить внимание на строгость этих паролей. В этом возрасте подростки активно используют поисковые машины, пользуются электронной почтой, службами мгновенного обмена сообщениями, скачивают музыку и фильмы. Мальчикам в этом возрасте больше по нраву сметать все ограничения, они жаждут грубого юмора, азартных игр, картинок «для взрослы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2714760"/>
            <a:ext cx="8229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йте список домашних правил посещения Интернет при участии подростков и требуйте безусловного его выполнения. Укажите список запрещенных сайтов («черный список»), часы работы в Интернет, руководство по общению в Интернет ( в том числе в чатах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мпьютер с подключением к Интернет должен находиться в общей комна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4288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машний компьютер отрицательно сказывается на школьной успеваем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4000680" y="207180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сштабном исследовании, проводимом в штате Северная Каролина, приняли участие более 150 тысяч школьников в возрасте от 10 до 14 лет. Ученые изучили информацию о новоиспеченных владельцах компьютеров и сравнили годовые отметки по основным дисциплинам, таким как чтение и математика, до и после покупки домашнего компью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 забывайте беседовать с детьми об их друзьях в Интернет, о том, чем они заняты таким образом, будто речь идет о друзьях в реальной жизни. Спрашивайте о людях, с которыми дети общаются посредством служб мгновенного обмена сообщениями чтобы убедиться, что эти люди им знако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пользуйте средства блокирования нежелательного контента как дополнение к стандартному родительскому контролю;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120" y="3000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обходимо знать, какими чатами пользуются ваши дети. Поощряйте использование модерируемых чатов и настаивайте чтобы дети не общались в приватном режи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стаивайте на том, чтобы дети никогда не встречались лично с друзьями из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26892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икогда не выдавать личную информацию средствами электронной почты, чатов, систем мгновенного обмена сообщениями, регистрационных форм, личных профилей и при регистрации на конкурсы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е загружать программы без вашего разрешения. Объясните им, что они могут случайно загрузить вирусы или другое нежелательное программное обеспеч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271476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вашего ребенка сообщать вам о любых угрозах или тревогах, связанных с Интернет. Оставайтесь спокойными и напомните детям, что они в безопасности, если сами рассказали вам о своих угрозах или тревог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сскажите детям о порнографии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могите им защититься от спама. Научите подростков не выдавать в Интернет своего реального электронного адреса, не отвечать на нежелательные письма и использовать специальные почтовые спам-фильт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271476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себя знакомиться с сайтами, которые посещают подрост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ъясните детям, что ни в коем случае нельзя использовать Сеть для хулиганства, распространения сплетен или угроз другим люд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судите с подростками проблемы сетевых азартных игр и их возможный риск. Напомните что дети не могут играть в эти игры согласно зако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92860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 родителям давно стало ясно, запрещай не запрещай, а все равно дети найдут лазейку, чтобы войти в Интернет и поискать там ответы на свои многочисленные вопросы! Чем старше становится ребенок, тем сложнее уследить за тем, какую информацию он извлек из сети. Но все же, многое зависит именно от в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27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всегда есть. В настоящее время существуют специальные программы, браузеры, которые помогут вам оградить ребенка от излишней информации. Необходимо только найти то, что подойдет конкретно вам и вашему ребе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1714680" cy="2428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2143080" y="1715040"/>
            <a:ext cx="70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ервый в мире русскоязычный детский брауз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71840" y="2576160"/>
            <a:ext cx="61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браузер Гогу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грамма-надстройка на браузером  Internet Explorer, созданная для ограничения доступа в Интернет  и фильтрации содержимого Интернет-ресур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0600" y="4209120"/>
            <a:ext cx="90334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дает возможность отсеивать нежелательный контент, блокировать до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ему, то есть выполняет функцию фильтра, но эта функция не единствен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редством этого браузера осуществляется и контроль за времен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бывания в Сети,направлениями навигации, характером об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11520" y="2585160"/>
            <a:ext cx="92761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гда родители просят отвлечься от игры на компьюте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ребенок начинает демонстрировать острый эмоциональный протес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ебенок раздражается при вынужденном отвлеч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ебенок не может самостоятельно спланировать окончание игры на компьюте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ебенок забывает о домашних делах и приготовлении уро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бивается режим дня, режим питания и с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6840" y="2303640"/>
            <a:ext cx="91144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ием пищи у ребенка происходит без отрыва от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щущение эмоционального подъема во время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Общение со сверстниками имеет только определенную тематик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Сильное желание быстрее оказаться дома и сесть за любимую иг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азано, что при появлении подобных признаков могут возникнуть нару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боте желудочно-кишечного тракта, могут появиться болевыми ощущени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позвоночника, запястий рук. Регулярное раздражение глазных ябл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способствовать появлению головных болей и проблем со зр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ется бессонница , нервное истощение. Ребенок начинает груб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ям и окружающ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76640" cy="32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29080" y="714240"/>
            <a:ext cx="428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тели также уделили внимание успеваемости подростков, у которых всегда был домашний компьютер и их ровесников, не имеющих доступа к ПК. Негативный эффект, вызванный доступностью компьютера, был признан «умеренным, но вполне заметным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4200" y="414324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было обнаружено, что наиболее заметное снижение успеваемости наблюдается у детей из бедных и неблагополучных семей, получивших доступ к компьютеру. Причина такого положения дел вполне ясна. Немногие школьники используют компьютер для решения задачек и поиска в Интернете полезной информации. Большинство подростков предпочитают проводить время на развлекательных сайтах, играть в игры и общаться с друзь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2600" y="2643120"/>
            <a:ext cx="71866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 средства родительского контроля за поведением ребёнка в интерне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 всегда можно избежать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1504800" cy="2076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6072120" y="4786200"/>
            <a:ext cx="25718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4643280"/>
            <a:ext cx="885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ые утверждают, что компьютеры чаще используются «по назначению» в благополучных семьях, в которых родители уделяют достаточное внимание воспитанию и контролю детей. В свою очередь, подростки из неблагополучных семей чаще бывают предоставлены сами себе, никто не объясняет им, что компьютер можно использовать не только для игр, но и для выполнения домашних зад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"/>
          <p:cNvPicPr/>
          <p:nvPr/>
        </p:nvPicPr>
        <p:blipFill>
          <a:blip r:embed="rId1"/>
          <a:stretch/>
        </p:blipFill>
        <p:spPr>
          <a:xfrm>
            <a:off x="1714680" y="142920"/>
            <a:ext cx="5572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5715000" cy="3238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00040" y="28584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е охватывает временной период между 2000 и 2005 годами. В эти годы социальные сети, подобные Facebook, еще не получили сильного развития. Если бы изыскания проводились сегодня, их результаты оказались бы еще более удручающ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929040" y="1583280"/>
            <a:ext cx="521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читают психологи, для детей этого возрас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о естественно желание выяснить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могут себе позволить делать без раз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ей. В результате, находясь в Интер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будет пытаться посетить те или и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ы, а возможно и чаты, разрешение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ение которых он не получил бы от роди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98440" y="4363920"/>
            <a:ext cx="821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понимать, что дети в данном возрасте обладают сильным чувством семь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доверчивы и не сомневаются в авторитет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этого возраста любят играть в сетевые игры и путешествовать по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олне возможно, что они используют электронную почту и могут за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йты и чаты, не рекомендованные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214200" y="2719080"/>
            <a:ext cx="91440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 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от вашего ребенка соблюдения временных норм нахождения за компьютер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, не потому что вам это хочется, 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учите детей, что они должны посещать только те сайты, которые вы разрешили, т.е. создайте им так называемы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Интернет с помощью средств родительского контроля Интерне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362880" y="2728080"/>
            <a:ext cx="87865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 с подключением в Интернет должен находиться в общей комна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присмотром родите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средства блокирования нежелательного конт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емейный электронный ящик, чтобы не позвол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иметь собственные адре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окируйте доступ к сайтам с бесплатными почтовыми ящ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соответствующего П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960" y="2857320"/>
            <a:ext cx="9108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советоваться с вами перед опубликованием какой-ли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и средствами электронной почты, чатов, регистрацио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 и профи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 детей не загружать файлы, программы или музыку без вашего согла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фильтры электронной почты для блокирования сообщ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конкретных людей или содержащих определенные слова или фраз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разрешайте детям использовать службы мгновенного обмена сообщения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00:20Z</dcterms:created>
  <dc:creator>Серега</dc:creator>
  <dc:description/>
  <dc:language>en-US</dc:language>
  <cp:lastModifiedBy>Николай</cp:lastModifiedBy>
  <dcterms:modified xsi:type="dcterms:W3CDTF">2012-06-28T11:44:59Z</dcterms:modified>
  <cp:revision>21</cp:revision>
  <dc:subject/>
  <dc:title>Слайд 1</dc:title>
</cp:coreProperties>
</file>