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0A6-683D-4612-B1F5-A6A23888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B67-CEFE-491E-8B22-CB6A2293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96F-4E54-47CC-A984-7FF3383F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4F6-715C-40DC-9F11-0AB59EA3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B0B-91BC-415C-A897-71F92C01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76D-4997-4763-A3A8-CDC690F1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736-6FA8-4463-AB5B-D42B1402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5D85-EB2D-4FE7-8BA2-0DE90F70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923-0052-4024-A26F-660D2C4E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2BC-82E8-4671-B647-EBD11212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64C-587A-4A20-81EF-A45A2486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4D2-20F2-441E-A677-959CE24A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7639-9DE6-4111-9207-05431E2B60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128520" y="5254560"/>
            <a:ext cx="83995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0720" y="142920"/>
            <a:ext cx="4471920" cy="2286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7-8 ле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"/>
          <p:cNvPicPr/>
          <p:nvPr/>
        </p:nvPicPr>
        <p:blipFill>
          <a:blip r:embed="rId1"/>
          <a:stretch/>
        </p:blipFill>
        <p:spPr>
          <a:xfrm>
            <a:off x="500040" y="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4286160" y="1643040"/>
            <a:ext cx="43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680040" y="2940480"/>
            <a:ext cx="735696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писок детских сайтов, разрешенных для посещ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осите только сайты с хорошей репутаци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забывайте беседовать с детьми об их друзьях в Интерне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если бы речь шла о друзьях в реальной жизн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делайт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з вопросов половой жизн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 как в Интернет дети могут легко наткнуться на порнограф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сайт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взрослы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00720" y="142920"/>
            <a:ext cx="4471920" cy="2286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7-8 ле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"/>
          <p:cNvPicPr/>
          <p:nvPr/>
        </p:nvPicPr>
        <p:blipFill>
          <a:blip r:embed="rId1"/>
          <a:stretch/>
        </p:blipFill>
        <p:spPr>
          <a:xfrm>
            <a:off x="500040" y="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4286160" y="1643040"/>
            <a:ext cx="43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517680" y="3435480"/>
            <a:ext cx="813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ите вашего ребенка сообщать вам о любых угрозах или тревога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язанных с Интерн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авайтесь спокойными и напомните детям, что они в безопасност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сами рассказали вам о своих угрозах или тревог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хвалите их и посоветуйте подойти еще раз в подобных случая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14840" y="213840"/>
            <a:ext cx="5186160" cy="24289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9-12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222480" y="3223440"/>
            <a:ext cx="8127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данном возрасте дети, как правило, уже наслышаны о том, какая информац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ществует в Интерн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ершенно нормально, что они хотят это увидеть, прочесть, услыша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этом нужно помнить, что доступ к нежелательным материалам можно лег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локировать при помощи  средств родительского контроля Интерне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14840" y="213840"/>
            <a:ext cx="5186160" cy="24289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9-12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"/>
          <p:cNvSpPr/>
          <p:nvPr/>
        </p:nvSpPr>
        <p:spPr>
          <a:xfrm>
            <a:off x="252000" y="2856600"/>
            <a:ext cx="888588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йте список домашних правил посещения Интернет при участии детей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буйте его выполн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ановите временное ограничение на Интернет для дете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едите за его соблюдение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жите ребенку, что вы наблюдаете за ним не потому что вам это хочетс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потому что вы беспокоитесь о его безопасности и всегда готовы ему помоч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е забывайте беседовать с детьми об их друзьях в Интерне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14840" y="213840"/>
            <a:ext cx="5186160" cy="24289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9-12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370080" y="2553840"/>
            <a:ext cx="80640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таивайте, чтобы дети никогда не соглашались на личные встреч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друзьями по Интерне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воляйте детям заходить только на сайты из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о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писк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торый создайте вместе с ни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ите детей никогда не выдавать личную информацию средства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ектронной почты, чатов, систем мгновенного обмена сообщениям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страционных форм, личных профилей и при регист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конкурсы в Интерне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ите детей не загружать программы без вашего разре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ясните им, что они могут случайно загрузить вирусы или друг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желательное программное обеспечени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14840" y="213840"/>
            <a:ext cx="5186160" cy="24289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9-12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"/>
          <p:cNvSpPr/>
          <p:nvPr/>
        </p:nvSpPr>
        <p:spPr>
          <a:xfrm>
            <a:off x="231840" y="3026520"/>
            <a:ext cx="813708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йте вашему ребенку ограниченную учетную запи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аботы на компьютер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ите вашего ребенка сообщать вам о любых угрозах или тревога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язанных с Интерн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авайтесь спокойными и напомните детям, что они в безопасност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сами рассказали вам , если сами рассказали вам о своих угроза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тревог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кажите детям о порнографии в Интерне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14840" y="213840"/>
            <a:ext cx="5186160" cy="24289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9-12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229680" y="3221280"/>
            <a:ext cx="887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таивайте на том, чтобы дети предоставляли вам доступ к сво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ектронной почте, чтобы вы убедились, что они не общаются с незнакомц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ясните детям, что нельзя использовать сеть для хулиганств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ространения сплетен или угроз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307152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анном возрасте родителям часто уже весьма сложно осуществлять контроль за детьми в Интернет, так как о сети они уже знают значительно больше своих родителей. Тем не менее, особенно важно строго соблюдать правила безопасности детей в Интернет. Кроме того, необходимо как можно чаще просматривать отчеты о деятельности детей в Интерн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2857320"/>
            <a:ext cx="822960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ует обратить внимание на необходимость содержания родительских паролей (паролей администраторов) в строгом секрете и обратить внимание на строгость этих паролей. В этом возрасте подростки активно используют поисковые машины, пользуются электронной почтой, службами мгновенного обмена сообщениями, скачивают музыку и фильмы. Мальчикам в этом возрасте больше по нраву сметать все ограничения, они жаждут грубого юмора, азартных игр, картинок «для взрослых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2714760"/>
            <a:ext cx="822960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йте список домашних правил посещения Интернет при участии подростков и требуйте безусловного его выполнения. Укажите список запрещенных сайтов («черный список»), часы работы в Интернет, руководство по общению в Интернет ( в том числе в чатах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Компьютер с подключением к Интернет должен находиться в общей комнат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42884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Домашний компьютер отрицательно сказывается на школьной успеваемости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3571920" cy="4500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4000680" y="2071800"/>
            <a:ext cx="478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асштабном исследовании, проводимом в штате Северная Каролина, приняли участие более 150 тысяч школьников в возрасте от 10 до 14 лет. Ученые изучили информацию о новоиспеченных владельцах компьютеров и сравнили годовые отметки по основным дисциплинам, таким как чтение и математика, до и после покупки домашнего компьют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257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е забывайте беседовать с детьми об их друзьях в Интернет, о том, чем они заняты таким образом, будто речь идет о друзьях в реальной жизни. Спрашивайте о людях, с которыми дети общаются посредством служб мгновенного обмена сообщениями чтобы убедиться, что эти люди им знаком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Используйте средства блокирования нежелательного контента как дополнение к стандартному родительскому контролю;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7120" y="300024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еобходимо знать, какими чатами пользуются ваши дети. Поощряйте использование модерируемых чатов и настаивайте чтобы дети не общались в приватном режим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стаивайте на том, чтобы дети никогда не встречались лично с друзьями из Интернет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20" y="26892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учите детей никогда не выдавать личную информацию средствами электронной почты, чатов, систем мгновенного обмена сообщениями, регистрационных форм, личных профилей и при регистрации на конкурсы в Интернет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учите детей не загружать программы без вашего разрешения. Объясните им, что они могут случайно загрузить вирусы или другое нежелательное программное обеспечени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5840" y="2714760"/>
            <a:ext cx="8229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учите вашего ребенка сообщать вам о любых угрозах или тревогах, связанных с Интернет. Оставайтесь спокойными и напомните детям, что они в безопасности, если сами рассказали вам о своих угрозах или тревога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асскажите детям о порнографии в Интернет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омогите им защититься от спама. Научите подростков не выдавать в Интернет своего реального электронного адреса, не отвечать на нежелательные письма и использовать специальные почтовые спам-фильтр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5840" y="2714760"/>
            <a:ext cx="82296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учите себя знакомиться с сайтами, которые посещают подростк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бъясните детям, что ни в коем случае нельзя использовать Сеть для хулиганства, распространения сплетен или угроз другим людя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бсудите с подростками проблемы сетевых азартных игр и их возможный риск. Напомните что дети не могут играть в эти игры согласно зако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292860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м родителям давно стало ясно, запрещай не запрещай, а все равно дети найдут лазейку, чтобы войти в Интернет и поискать там ответы на свои многочисленные вопросы! Чем старше становится ребенок, тем сложнее уследить за тем, какую информацию он извлек из сети. Но все же, многое зависит именно от вас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760" y="278568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ход всегда есть. В настоящее время существуют специальные программы, браузеры, которые помогут вам оградить ребенка от излишней информации. Необходимо только найти то, что подойдет конкретно вам и вашему ребен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5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1714680" cy="24285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2143080" y="1715040"/>
            <a:ext cx="70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гул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ервый в мире русскоязычный детский брауз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571840" y="2576160"/>
            <a:ext cx="614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ский браузер Гогу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—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грамма-надстройка на браузером  Internet Explorer, созданная для ограничения доступа в Интернет  и фильтрации содержимого Интернет-ресурс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0600" y="4209120"/>
            <a:ext cx="90334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гуль дает возможность отсеивать нежелательный контент, блокировать дост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нему, то есть выполняет функцию фильтра, но эта функция не единственна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редством этого браузера осуществляется и контроль за времен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бывания в Сети,направлениями навигации, характером общ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71920" y="-360"/>
            <a:ext cx="5572080" cy="20718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ризнаки компьютерной зависимости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3571920" cy="20718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11520" y="2585160"/>
            <a:ext cx="92761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Когда родители просят отвлечься от игры на компьютер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ребенок начинает демонстрировать острый эмоциональный протес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Ребенок раздражается при вынужденном отвлечен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Ребенок не может самостоятельно спланировать окончание игры на компьютер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ебенок забывает о домашних делах и приготовлении урок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Сбивается режим дня, режим питания и с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71920" y="-360"/>
            <a:ext cx="5572080" cy="20718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ризнаки компьютерной зависимости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3571920" cy="2071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6840" y="2303640"/>
            <a:ext cx="911448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Прием пищи у ребенка происходит без отрыва от игры на компьютер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Ощущение эмоционального подъема во время игры на компьютер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Общение со сверстниками имеет только определенную тематик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ьюте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9. Сильное желание быстрее оказаться дома и сесть за любимую игр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казано, что при появлении подобных признаков могут возникнуть наруш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боте желудочно-кишечного тракта, могут появиться болевыми ощущения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бласти позвоночника, запястий рук. Регулярное раздражение глазных ябло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ет способствовать появлению головных болей и проблем со зрени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ется бессонница , нервное истощение. Ребенок начинает груби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телям и окружающи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076640" cy="3257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429080" y="714240"/>
            <a:ext cx="428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следователи также уделили внимание успеваемости подростков, у которых всегда был домашний компьютер и их ровесников, не имеющих доступа к ПК. Негативный эффект, вызванный доступностью компьютера, был признан «умеренным, но вполне заметным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14200" y="414324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же было обнаружено, что наиболее заметное снижение успеваемости наблюдается у детей из бедных и неблагополучных семей, получивших доступ к компьютеру. Причина такого положения дел вполне ясна. Немногие школьники используют компьютер для решения задачек и поиска в Интернете полезной информации. Большинство подростков предпочитают проводить время на развлекательных сайтах, играть в игры и общаться с друзь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2600" y="2643120"/>
            <a:ext cx="718668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йте средства родительского контроля за поведением ребёнка в интернете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блем всегда можно избежать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3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1504800" cy="20764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2"/>
          <a:stretch/>
        </p:blipFill>
        <p:spPr>
          <a:xfrm>
            <a:off x="6072120" y="4786200"/>
            <a:ext cx="25718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85840" y="4643280"/>
            <a:ext cx="885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ые утверждают, что компьютеры чаще используются «по назначению» в благополучных семьях, в которых родители уделяют достаточное внимание воспитанию и контролю детей. В свою очередь, подростки из неблагополучных семей чаще бывают предоставлены сами себе, никто не объясняет им, что компьютер можно использовать не только для игр, но и для выполнения домашних зад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4" descr=""/>
          <p:cNvPicPr/>
          <p:nvPr/>
        </p:nvPicPr>
        <p:blipFill>
          <a:blip r:embed="rId1"/>
          <a:stretch/>
        </p:blipFill>
        <p:spPr>
          <a:xfrm>
            <a:off x="1714680" y="142920"/>
            <a:ext cx="55720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1500120" y="3071880"/>
            <a:ext cx="5715000" cy="323856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500040" y="285840"/>
            <a:ext cx="807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ледование охватывает временной период между 2000 и 2005 годами. В эти годы социальные сети, подобные Facebook, еще не получили сильного развития. Если бы изыскания проводились сегодня, их результаты оказались бы еще более удручающи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7-8 ле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142920" y="1428840"/>
            <a:ext cx="3809880" cy="254304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4286160" y="1643040"/>
            <a:ext cx="43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929040" y="1583280"/>
            <a:ext cx="521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считают психологи, для детей этого возрас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солютно естественно желание выяснить, ч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и могут себе позволить делать без разре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телей. В результате, находясь в Интерн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ок будет пытаться посетить те или и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йты, а возможно и чаты, разрешение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ещение которых он не получил бы от роди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98440" y="4363920"/>
            <a:ext cx="821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понимать, что дети в данном возрасте обладают сильным чувством семь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и доверчивы и не сомневаются в авторитета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этого возраста любят играть в сетевые игры и путешествовать по Интерн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полне возможно, что они используют электронную почту и могут заход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айты и чаты, не рекомендованные родителя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0720" y="142920"/>
            <a:ext cx="4471920" cy="2286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7-8 ле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"/>
          <p:cNvPicPr/>
          <p:nvPr/>
        </p:nvPicPr>
        <p:blipFill>
          <a:blip r:embed="rId1"/>
          <a:stretch/>
        </p:blipFill>
        <p:spPr>
          <a:xfrm>
            <a:off x="500040" y="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4286160" y="1643040"/>
            <a:ext cx="43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214200" y="2719080"/>
            <a:ext cx="914400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йте список домашних правил посещения Интернет при участии детей и требуйте его выполн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буйте от вашего ребенка соблюдения временных норм нахождения за компьютер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жите ребенку, что вы наблюдаете за ним, не потому что вам это хочется, а потому что вы беспокоитесь о его безопасности и всегда готовы ему помоч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иучите детей, что они должны посещать только те сайты, которые вы разрешили, т.е. создайте им так называемы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писок Интернет с помощью средств родительского контроля Интерне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0720" y="142920"/>
            <a:ext cx="4471920" cy="2286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7-8 ле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"/>
          <p:cNvPicPr/>
          <p:nvPr/>
        </p:nvPicPr>
        <p:blipFill>
          <a:blip r:embed="rId1"/>
          <a:stretch/>
        </p:blipFill>
        <p:spPr>
          <a:xfrm>
            <a:off x="500040" y="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4286160" y="1643040"/>
            <a:ext cx="43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362880" y="2728080"/>
            <a:ext cx="87865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ьютер с подключением в Интернет должен находиться в общей комнат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присмотром родител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йте средства блокирования нежелательного контен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йте семейный электронный ящик, чтобы не позволи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ям иметь собственные адрес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локируйте доступ к сайтам с бесплатными почтовыми ящи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мощью соответствующего ПО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00720" y="142920"/>
            <a:ext cx="4471920" cy="2286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7-8 ле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"/>
          <p:cNvPicPr/>
          <p:nvPr/>
        </p:nvPicPr>
        <p:blipFill>
          <a:blip r:embed="rId1"/>
          <a:stretch/>
        </p:blipFill>
        <p:spPr>
          <a:xfrm>
            <a:off x="500040" y="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4286160" y="1643040"/>
            <a:ext cx="43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21960" y="2857320"/>
            <a:ext cx="910800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ите детей советоваться с вами перед опубликованием какой-либ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формации средствами электронной почты, чатов, регистрацион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 и профил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е детей не загружать файлы, программы или музыку без вашего соглас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йте фильтры электронной почты для блокирования сообще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конкретных людей или содержащих определенные слова или фраз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е разрешайте детям использовать службы мгновенного обмена сообщения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1:00:20Z</dcterms:created>
  <dc:creator>Серега</dc:creator>
  <dc:description/>
  <dc:language>en-US</dc:language>
  <cp:lastModifiedBy>Николай</cp:lastModifiedBy>
  <dcterms:modified xsi:type="dcterms:W3CDTF">2012-06-28T11:44:59Z</dcterms:modified>
  <cp:revision>21</cp:revision>
  <dc:subject/>
  <dc:title>Слайд 1</dc:title>
</cp:coreProperties>
</file>