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80A7-10C0-4142-98B2-B89E6301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48C2-5973-4ADB-929C-133D3C2A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B797-DF34-4080-A048-B922DAA1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ADC8-C0E7-4C1E-A20C-EC9AD683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67D8-8FA9-4BBB-B7DD-13C2A88D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864F-69BE-4F94-9637-9E4E326B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1595-DA88-4269-88CD-6F8157D5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E590-2F42-4C6B-A359-2FA2ED23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89ED-7818-422D-9190-15E7A0EE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AEB6-F891-4BF3-BAC8-9E9E2D21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9440-46C3-49EF-8128-14951862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070B-8345-4ADC-A5D8-DAA2EC08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1EE7-AA9C-44BE-8748-4A9A00EAE6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5" descr=""/>
          <p:cNvPicPr/>
          <p:nvPr/>
        </p:nvPicPr>
        <p:blipFill>
          <a:blip r:embed="rId2"/>
          <a:stretch/>
        </p:blipFill>
        <p:spPr>
          <a:xfrm>
            <a:off x="128520" y="5254560"/>
            <a:ext cx="83995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00720" y="142920"/>
            <a:ext cx="4471920" cy="22860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7-8 ле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"/>
          <p:cNvPicPr/>
          <p:nvPr/>
        </p:nvPicPr>
        <p:blipFill>
          <a:blip r:embed="rId1"/>
          <a:stretch/>
        </p:blipFill>
        <p:spPr>
          <a:xfrm>
            <a:off x="500040" y="0"/>
            <a:ext cx="3786120" cy="2428920"/>
          </a:xfrm>
          <a:prstGeom prst="rect">
            <a:avLst/>
          </a:prstGeom>
          <a:ln w="0">
            <a:noFill/>
          </a:ln>
        </p:spPr>
      </p:pic>
      <p:sp>
        <p:nvSpPr>
          <p:cNvPr id="77" name="TextBox 7"/>
          <p:cNvSpPr/>
          <p:nvPr/>
        </p:nvSpPr>
        <p:spPr>
          <a:xfrm>
            <a:off x="4286160" y="1643040"/>
            <a:ext cx="435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680040" y="2940480"/>
            <a:ext cx="735696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ы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писок детских сайтов, разрешенных для посещени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осите только сайты с хорошей репутаци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забывайте беседовать с детьми об их друзьях в Интернет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если бы речь шла о друзьях в реальной жизн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делайт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б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з вопросов половой жизн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 как в Интернет дети могут легко наткнуться на порнограф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ли сайт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взрослы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00720" y="142920"/>
            <a:ext cx="4471920" cy="22860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7-8 ле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3" descr=""/>
          <p:cNvPicPr/>
          <p:nvPr/>
        </p:nvPicPr>
        <p:blipFill>
          <a:blip r:embed="rId1"/>
          <a:stretch/>
        </p:blipFill>
        <p:spPr>
          <a:xfrm>
            <a:off x="500040" y="0"/>
            <a:ext cx="3786120" cy="2428920"/>
          </a:xfrm>
          <a:prstGeom prst="rect">
            <a:avLst/>
          </a:prstGeom>
          <a:ln w="0">
            <a:noFill/>
          </a:ln>
        </p:spPr>
      </p:pic>
      <p:sp>
        <p:nvSpPr>
          <p:cNvPr id="81" name="TextBox 7"/>
          <p:cNvSpPr/>
          <p:nvPr/>
        </p:nvSpPr>
        <p:spPr>
          <a:xfrm>
            <a:off x="4286160" y="1643040"/>
            <a:ext cx="435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517680" y="3435480"/>
            <a:ext cx="813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учите вашего ребенка сообщать вам о любых угрозах или тревога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язанных с Интерн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тавайтесь спокойными и напомните детям, что они в безопасност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сами рассказали вам о своих угрозах или тревога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хвалите их и посоветуйте подойти еще раз в подобных случая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714840" y="213840"/>
            <a:ext cx="5186160" cy="242892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9-12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"/>
          <p:cNvSpPr/>
          <p:nvPr/>
        </p:nvSpPr>
        <p:spPr>
          <a:xfrm>
            <a:off x="222480" y="3223440"/>
            <a:ext cx="8127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данном возрасте дети, как правило, уже наслышаны о том, какая информац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уществует в Интерн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ершенно нормально, что они хотят это увидеть, прочесть, услыша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этом нужно помнить, что доступ к нежелательным материалам можно легк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блокировать при помощи  средств родительского контроля Интерне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714840" y="213840"/>
            <a:ext cx="5186160" cy="242892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9-12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3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"/>
          <p:cNvSpPr/>
          <p:nvPr/>
        </p:nvSpPr>
        <p:spPr>
          <a:xfrm>
            <a:off x="252000" y="2856600"/>
            <a:ext cx="8885880" cy="33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йте список домашних правил посещения Интернет при участии детей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буйте его выполне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ановите временное ограничение на Интернет для дете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едите за его соблюдение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ажите ребенку, что вы наблюдаете за ним не потому что вам это хочетс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потому что вы беспокоитесь о его безопасности и всегда готовы ему помочь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Не забывайте беседовать с детьми об их друзьях в Интерне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14840" y="213840"/>
            <a:ext cx="5186160" cy="242892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9-12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370080" y="2553840"/>
            <a:ext cx="806400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стаивайте, чтобы дети никогда не соглашались на личные встреч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друзьями по Интерне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зволяйте детям заходить только на сайты из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ог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писк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торый создайте вместе с ним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учите детей никогда не выдавать личную информацию средства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лектронной почты, чатов, систем мгновенного обмена сообщениям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страционных форм, личных профилей и при регистр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конкурсы в Интерне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учите детей не загружать программы без вашего разре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ясните им, что они могут случайно загрузить вирусы или друг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желательное программное обеспечени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714840" y="213840"/>
            <a:ext cx="5186160" cy="242892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9-12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3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"/>
          <p:cNvSpPr/>
          <p:nvPr/>
        </p:nvSpPr>
        <p:spPr>
          <a:xfrm>
            <a:off x="231840" y="3026520"/>
            <a:ext cx="813708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йте вашему ребенку ограниченную учетную запи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аботы на компьютер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учите вашего ребенка сообщать вам о любых угрозах или тревога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язанных с Интерн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тавайтесь спокойными и напомните детям, что они в безопасност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сами рассказали вам , если сами рассказали вам о своих угроза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ли тревог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кажите детям о порнографии в Интерне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714840" y="213840"/>
            <a:ext cx="5186160" cy="242892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9-12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3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"/>
          <p:cNvSpPr/>
          <p:nvPr/>
        </p:nvSpPr>
        <p:spPr>
          <a:xfrm>
            <a:off x="229680" y="3221280"/>
            <a:ext cx="887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стаивайте на том, чтобы дети предоставляли вам доступ к сво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лектронной почте, чтобы вы убедились, что они не общаются с незнакомц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ясните детям, что нельзя использовать сеть для хулиганств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пространения сплетен или угроз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71920" y="142560"/>
            <a:ext cx="5400720" cy="22971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13-17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307152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данном возрасте родителям часто уже весьма сложно осуществлять контроль за детьми в Интернет, так как о сети они уже знают значительно больше своих родителей. Тем не менее, особенно важно строго соблюдать правила безопасности детей в Интернет. Кроме того, необходимо как можно чаще просматривать отчеты о деятельности детей в Интерн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3" descr=""/>
          <p:cNvPicPr/>
          <p:nvPr/>
        </p:nvPicPr>
        <p:blipFill>
          <a:blip r:embed="rId1"/>
          <a:stretch/>
        </p:blipFill>
        <p:spPr>
          <a:xfrm>
            <a:off x="928800" y="142920"/>
            <a:ext cx="1785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71920" y="142560"/>
            <a:ext cx="5400720" cy="22971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13-17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760" y="2857320"/>
            <a:ext cx="8229600" cy="34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ует обратить внимание на необходимость содержания родительских паролей (паролей администраторов) в строгом секрете и обратить внимание на строгость этих паролей. В этом возрасте подростки активно используют поисковые машины, пользуются электронной почтой, службами мгновенного обмена сообщениями, скачивают музыку и фильмы. Мальчикам в этом возрасте больше по нраву сметать все ограничения, они жаждут грубого юмора, азартных игр, картинок «для взрослых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928800" y="142920"/>
            <a:ext cx="1785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71920" y="142560"/>
            <a:ext cx="5400720" cy="22971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13-17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57120" y="2714760"/>
            <a:ext cx="822960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йте список домашних правил посещения Интернет при участии подростков и требуйте безусловного его выполнения. Укажите список запрещенных сайтов («черный список»), часы работы в Интернет, руководство по общению в Интернет ( в том числе в чатах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Компьютер с подключением к Интернет должен находиться в общей комнат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928800" y="142920"/>
            <a:ext cx="1785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42884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Домашний компьютер отрицательно сказывается на школьной успеваемости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3571920" cy="4500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4000680" y="2071800"/>
            <a:ext cx="4786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масштабном исследовании, проводимом в штате Северная Каролина, приняли участие более 150 тысяч школьников в возрасте от 10 до 14 лет. Ученые изучили информацию о новоиспеченных владельцах компьютеров и сравнили годовые отметки по основным дисциплинам, таким как чтение и математика, до и после покупки домашнего компьют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71920" y="142560"/>
            <a:ext cx="5400720" cy="22971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13-17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28760" y="2571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Не забывайте беседовать с детьми об их друзьях в Интернет, о том, чем они заняты таким образом, будто речь идет о друзьях в реальной жизни. Спрашивайте о людях, с которыми дети общаются посредством служб мгновенного обмена сообщениями чтобы убедиться, что эти люди им знаком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Используйте средства блокирования нежелательного контента как дополнение к стандартному родительскому контролю;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3" descr=""/>
          <p:cNvPicPr/>
          <p:nvPr/>
        </p:nvPicPr>
        <p:blipFill>
          <a:blip r:embed="rId1"/>
          <a:stretch/>
        </p:blipFill>
        <p:spPr>
          <a:xfrm>
            <a:off x="928800" y="142920"/>
            <a:ext cx="1785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71920" y="142560"/>
            <a:ext cx="5400720" cy="22971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13-17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57120" y="300024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Необходимо знать, какими чатами пользуются ваши дети. Поощряйте использование модерируемых чатов и настаивайте чтобы дети не общались в приватном режим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Настаивайте на том, чтобы дети никогда не встречались лично с друзьями из Интернет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928800" y="142920"/>
            <a:ext cx="1785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71920" y="142560"/>
            <a:ext cx="5400720" cy="22971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13-17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7120" y="268920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риучите детей никогда не выдавать личную информацию средствами электронной почты, чатов, систем мгновенного обмена сообщениями, регистрационных форм, личных профилей и при регистрации на конкурсы в Интернет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риучите детей не загружать программы без вашего разрешения. Объясните им, что они могут случайно загрузить вирусы или другое нежелательное программное обеспечени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3" descr=""/>
          <p:cNvPicPr/>
          <p:nvPr/>
        </p:nvPicPr>
        <p:blipFill>
          <a:blip r:embed="rId1"/>
          <a:stretch/>
        </p:blipFill>
        <p:spPr>
          <a:xfrm>
            <a:off x="928800" y="142920"/>
            <a:ext cx="1785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71920" y="142560"/>
            <a:ext cx="5400720" cy="22971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13-17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5840" y="2714760"/>
            <a:ext cx="822960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риучите вашего ребенка сообщать вам о любых угрозах или тревогах, связанных с Интернет. Оставайтесь спокойными и напомните детям, что они в безопасности, если сами рассказали вам о своих угрозах или тревогах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Расскажите детям о порнографии в Интернет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омогите им защититься от спама. Научите подростков не выдавать в Интернет своего реального электронного адреса, не отвечать на нежелательные письма и использовать специальные почтовые спам-фильтр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3" descr=""/>
          <p:cNvPicPr/>
          <p:nvPr/>
        </p:nvPicPr>
        <p:blipFill>
          <a:blip r:embed="rId1"/>
          <a:stretch/>
        </p:blipFill>
        <p:spPr>
          <a:xfrm>
            <a:off x="928800" y="142920"/>
            <a:ext cx="1785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71920" y="142560"/>
            <a:ext cx="5400720" cy="22971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13-17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85840" y="2714760"/>
            <a:ext cx="822960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риучите себя знакомиться с сайтами, которые посещают подростк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Объясните детям, что ни в коем случае нельзя использовать Сеть для хулиганства, распространения сплетен или угроз другим людя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Обсудите с подростками проблемы сетевых азартных игр и их возможный риск. Напомните что дети не могут играть в эти игры согласно зако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3" descr=""/>
          <p:cNvPicPr/>
          <p:nvPr/>
        </p:nvPicPr>
        <p:blipFill>
          <a:blip r:embed="rId1"/>
          <a:stretch/>
        </p:blipFill>
        <p:spPr>
          <a:xfrm>
            <a:off x="928800" y="142920"/>
            <a:ext cx="1785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71920" y="142560"/>
            <a:ext cx="5400720" cy="22971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13-17 ле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760" y="292860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м родителям давно стало ясно, запрещай не запрещай, а все равно дети найдут лазейку, чтобы войти в Интернет и поискать там ответы на свои многочисленные вопросы! Чем старше становится ребенок, тем сложнее уследить за тем, какую информацию он извлек из сети. Но все же, многое зависит именно от вас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3" descr=""/>
          <p:cNvPicPr/>
          <p:nvPr/>
        </p:nvPicPr>
        <p:blipFill>
          <a:blip r:embed="rId1"/>
          <a:stretch/>
        </p:blipFill>
        <p:spPr>
          <a:xfrm>
            <a:off x="928800" y="142920"/>
            <a:ext cx="1785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28760" y="2785680"/>
            <a:ext cx="822960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ход всегда есть. В настоящее время существуют специальные программы, браузеры, которые помогут вам оградить ребенка от излишней информации. Необходимо только найти то, что подойдет конкретно вам и вашему ребенк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30" name="Содержимое 5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1714680" cy="24285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2143080" y="1715040"/>
            <a:ext cx="70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гул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ервый в мире русскоязычный детский брауз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2571840" y="2576160"/>
            <a:ext cx="614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ский браузер Гогу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—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ограмма-надстройка на браузером  Internet Explorer, созданная для ограничения доступа в Интернет  и фильтрации содержимого Интернет-ресурс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0600" y="4209120"/>
            <a:ext cx="903348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гуль дает возможность отсеивать нежелательный контент, блокировать досту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нему, то есть выполняет функцию фильтра, но эта функция не единственна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редством этого браузера осуществляется и контроль за времен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бывания в Сети,направлениями навигации, характером общ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71920" y="-360"/>
            <a:ext cx="5572080" cy="20718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ризнаки компьютерной зависимости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3571920" cy="20718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"/>
          <p:cNvSpPr/>
          <p:nvPr/>
        </p:nvSpPr>
        <p:spPr>
          <a:xfrm>
            <a:off x="11520" y="2585160"/>
            <a:ext cx="92761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Когда родители просят отвлечься от игры на компьютер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ребенок начинает демонстрировать острый эмоциональный протес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Ребенок раздражается при вынужденном отвлечен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Ребенок не может самостоятельно спланировать окончание игры на компьютер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ебенок забывает о домашних делах и приготовлении урок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Сбивается режим дня, режим питания и сн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71920" y="-360"/>
            <a:ext cx="5572080" cy="20718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ризнаки компьютерной зависимости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3571920" cy="20718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6840" y="2303640"/>
            <a:ext cx="9114480" cy="39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Прием пищи у ребенка происходит без отрыва от игры на компьютер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7. Ощущение эмоционального подъема во время игры на компьютер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8. Общение со сверстниками имеет только определенную тематику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пьютер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9. Сильное желание быстрее оказаться дома и сесть за любимую игр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казано, что при появлении подобных признаков могут возникнуть наруш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аботе желудочно-кишечного тракта, могут появиться болевыми ощущения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бласти позвоночника, запястий рук. Регулярное раздражение глазных ябло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ет способствовать появлению головных болей и проблем со зрени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ется бессонница , нервное истощение. Ребенок начинает груби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дителям и окружающи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4076640" cy="3257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429080" y="714240"/>
            <a:ext cx="4286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следователи также уделили внимание успеваемости подростков, у которых всегда был домашний компьютер и их ровесников, не имеющих доступа к ПК. Негативный эффект, вызванный доступностью компьютера, был признан «умеренным, но вполне заметным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214200" y="414324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же было обнаружено, что наиболее заметное снижение успеваемости наблюдается у детей из бедных и неблагополучных семей, получивших доступ к компьютеру. Причина такого положения дел вполне ясна. Немногие школьники используют компьютер для решения задачек и поиска в Интернете полезной информации. Большинство подростков предпочитают проводить время на развлекательных сайтах, играть в игры и общаться с друзья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2600" y="2643120"/>
            <a:ext cx="718668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уйте средства родительского контроля за поведением ребёнка в интернете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блем всегда можно избежать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Рисунок 3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1504800" cy="20764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"/>
          <p:cNvPicPr/>
          <p:nvPr/>
        </p:nvPicPr>
        <p:blipFill>
          <a:blip r:embed="rId2"/>
          <a:stretch/>
        </p:blipFill>
        <p:spPr>
          <a:xfrm>
            <a:off x="6072120" y="4786200"/>
            <a:ext cx="25718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285840" y="4643280"/>
            <a:ext cx="8858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ные утверждают, что компьютеры чаще используются «по назначению» в благополучных семьях, в которых родители уделяют достаточное внимание воспитанию и контролю детей. В свою очередь, подростки из неблагополучных семей чаще бывают предоставлены сами себе, никто не объясняет им, что компьютер можно использовать не только для игр, но и для выполнения домашних зада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4" descr=""/>
          <p:cNvPicPr/>
          <p:nvPr/>
        </p:nvPicPr>
        <p:blipFill>
          <a:blip r:embed="rId1"/>
          <a:stretch/>
        </p:blipFill>
        <p:spPr>
          <a:xfrm>
            <a:off x="1714680" y="142920"/>
            <a:ext cx="55720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1500120" y="3071880"/>
            <a:ext cx="5715000" cy="323856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500040" y="285840"/>
            <a:ext cx="807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следование охватывает временной период между 2000 и 2005 годами. В эти годы социальные сети, подобные Facebook, еще не получили сильного развития. Если бы изыскания проводились сегодня, их результаты оказались бы еще более удручающи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7-8 ле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"/>
          <p:cNvPicPr/>
          <p:nvPr/>
        </p:nvPicPr>
        <p:blipFill>
          <a:blip r:embed="rId1"/>
          <a:stretch/>
        </p:blipFill>
        <p:spPr>
          <a:xfrm>
            <a:off x="142920" y="1428840"/>
            <a:ext cx="3809880" cy="254304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4286160" y="1643040"/>
            <a:ext cx="435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929040" y="1583280"/>
            <a:ext cx="5214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считают психологи, для детей этого возраст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бсолютно естественно желание выяснить, ч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и могут себе позволить делать без разреш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дителей. В результате, находясь в Интерн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бенок будет пытаться посетить те или и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йты, а возможно и чаты, разрешение 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ещение которых он не получил бы от роди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98440" y="4363920"/>
            <a:ext cx="821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ит понимать, что дети в данном возрасте обладают сильным чувством семь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и доверчивы и не сомневаются в авторитета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этого возраста любят играть в сетевые игры и путешествовать по Интерн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полне возможно, что они используют электронную почту и могут заход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сайты и чаты, не рекомендованные родителя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00720" y="142920"/>
            <a:ext cx="4471920" cy="22860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7-8 ле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"/>
          <p:cNvPicPr/>
          <p:nvPr/>
        </p:nvPicPr>
        <p:blipFill>
          <a:blip r:embed="rId1"/>
          <a:stretch/>
        </p:blipFill>
        <p:spPr>
          <a:xfrm>
            <a:off x="500040" y="0"/>
            <a:ext cx="3786120" cy="2428920"/>
          </a:xfrm>
          <a:prstGeom prst="rect">
            <a:avLst/>
          </a:prstGeom>
          <a:ln w="0">
            <a:noFill/>
          </a:ln>
        </p:spPr>
      </p:pic>
      <p:sp>
        <p:nvSpPr>
          <p:cNvPr id="65" name="TextBox 7"/>
          <p:cNvSpPr/>
          <p:nvPr/>
        </p:nvSpPr>
        <p:spPr>
          <a:xfrm>
            <a:off x="4286160" y="1643040"/>
            <a:ext cx="435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"/>
          <p:cNvSpPr/>
          <p:nvPr/>
        </p:nvSpPr>
        <p:spPr>
          <a:xfrm>
            <a:off x="214200" y="2719080"/>
            <a:ext cx="914400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йте список домашних правил посещения Интернет при участии детей и требуйте его выполне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буйте от вашего ребенка соблюдения временных норм нахождения за компьютеро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ажите ребенку, что вы наблюдаете за ним, не потому что вам это хочется, а потому что вы беспокоитесь о его безопасности и всегда готовы ему помочь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иучите детей, что они должны посещать только те сайты, которые вы разрешили, т.е. создайте им так называемы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ы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писок Интернет с помощью средств родительского контроля Интерне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00720" y="142920"/>
            <a:ext cx="4471920" cy="22860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7-8 ле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"/>
          <p:cNvPicPr/>
          <p:nvPr/>
        </p:nvPicPr>
        <p:blipFill>
          <a:blip r:embed="rId1"/>
          <a:stretch/>
        </p:blipFill>
        <p:spPr>
          <a:xfrm>
            <a:off x="500040" y="0"/>
            <a:ext cx="3786120" cy="242892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4286160" y="1643040"/>
            <a:ext cx="435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362880" y="2728080"/>
            <a:ext cx="87865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пьютер с подключением в Интернет должен находиться в общей комнат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 присмотром родител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уйте средства блокирования нежелательного контен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йте семейный электронный ящик, чтобы не позволи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ям иметь собственные адрес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локируйте доступ к сайтам с бесплатными почтовыми ящи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помощью соответствующего ПО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00720" y="142920"/>
            <a:ext cx="4471920" cy="228600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веты по безопасности для детей в возрасте 7-8 ле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"/>
          <p:cNvPicPr/>
          <p:nvPr/>
        </p:nvPicPr>
        <p:blipFill>
          <a:blip r:embed="rId1"/>
          <a:stretch/>
        </p:blipFill>
        <p:spPr>
          <a:xfrm>
            <a:off x="500040" y="0"/>
            <a:ext cx="3786120" cy="2428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7"/>
          <p:cNvSpPr/>
          <p:nvPr/>
        </p:nvSpPr>
        <p:spPr>
          <a:xfrm>
            <a:off x="4286160" y="1643040"/>
            <a:ext cx="435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21960" y="2857320"/>
            <a:ext cx="910800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учите детей советоваться с вами перед опубликованием какой-либ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формации средствами электронной почты, чатов, регистрацион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 и профил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ите детей не загружать файлы, программы или музыку без вашего соглас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уйте фильтры электронной почты для блокирования сообщен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конкретных людей или содержащих определенные слова или фразы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Не разрешайте детям использовать службы мгновенного обмена сообщениям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1:00:20Z</dcterms:created>
  <dc:creator>Серега</dc:creator>
  <dc:description/>
  <dc:language>en-US</dc:language>
  <cp:lastModifiedBy>Николай</cp:lastModifiedBy>
  <dcterms:modified xsi:type="dcterms:W3CDTF">2012-06-28T11:44:59Z</dcterms:modified>
  <cp:revision>21</cp:revision>
  <dc:subject/>
  <dc:title>Слайд 1</dc:title>
</cp:coreProperties>
</file>