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8.jpeg" ContentType="image/jpeg"/>
  <Override PartName="/ppt/media/image38.png" ContentType="image/png"/>
  <Override PartName="/ppt/media/image39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6E2-9609-411A-9E5D-BA6C94C8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DB7-8476-47DB-9333-B3758F95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12B7-5E48-40AE-B404-F095337C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C8D80-FDF2-4FC2-9696-8D079897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20567-DF11-45F5-B7E4-3FD222A9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A1AD7-4494-4F4D-96B2-2EF479A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26031-9CBB-4247-B778-B5B36B3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FC58C-A2AC-4D54-897A-4364866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D75B-BBE8-491B-B775-3C515B18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ED4B-BF14-42F4-B6D3-DDCFB890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3559A-007F-407E-AB9F-BBC655C0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4B339-0106-4A82-ACBD-8F66EDC6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9B2-F7E4-43D0-A37F-3237D1EF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AAD5D-27BC-46B0-A73B-A0E44FCA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5E44D-8ABC-4BFF-9CF5-4246A2B9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7F3A6-63E4-4332-860D-C174F239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0A69A-EA32-4EDC-B893-EC962222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B16BF-5AF0-49A8-9810-BF26C73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ACBC-3D4E-4A55-809C-492BB4D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01842-C3CD-4723-BE3C-2F51A53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273E0-D7EA-4A11-B848-BF26EDB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D4DDD-C702-4724-8DF7-899812A7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59A9B-D2EE-448B-A12E-8ED4FDB7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7857-5A71-4CB1-97EC-C33E6385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094B5-F2ED-4C45-A9E6-FB2790BD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B4B02-9715-49BA-A6D4-46CC0BF2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B5E1A-EC4C-4A82-B713-5031281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6A141-8688-4F0D-9000-9F4FE41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FE43-12D6-42FB-961B-B92AAB6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4905E-8A5B-4CCB-A630-EA13D750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4C67-0701-4773-8ABE-03016C2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2976-6651-41BD-AABA-4E716C3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104B0-EB2B-475E-A5EC-E089AF76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D1287-F8E4-4AEE-807A-81C315E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4A83-BAC5-4F42-B450-6C95A62D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06EAE-EDFC-4BD2-82F0-9B24746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6FE51-7BD7-4BEB-AF96-6F59A653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2847F-9CB5-4AA5-8D30-02209F6D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74497-C22C-45B8-B8B7-46E2C67E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99D7F-5BD0-4149-A81B-BFE2191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5C829-B29A-4496-9793-DC1EA92B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ECEA9-77EC-4B77-9D6A-7F62350D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CD46D-4C4D-4B74-A820-8C9CB8E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F4B0-6F72-4456-A247-D3C98B7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AD763-513B-43AB-9CF9-39587E4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154-3F36-4FD5-B611-DAC5963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A6AB2-045D-406D-9BFB-933C3F5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8B894-1D19-4BD2-B6FB-4E452DA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1A16D-D77B-4B02-A19F-212C7B1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2F045-EF35-41BD-B4DD-144C78F1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2614F-9DBB-4EFA-911A-EF7537AE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78C88-3499-410A-88C1-5E3348B7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67924-A804-4537-8EAF-BFE85AEA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6F13A-6BBF-4137-85D0-F7881430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54C9C-2A7F-4CD7-9B7F-75AC43ED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20D12-1955-487B-A40C-383F958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D03-F5EF-442F-A85B-A1AEF1A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F7D5C-E550-4732-B13D-5CA66E5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EF02E4-1EEB-4988-91E2-B58D676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97E0C-71F4-48C3-B3F3-9F9F6B9A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3CF3C-29D1-4FE4-B99C-7656DFE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ABD0-A604-4EE2-B33E-5C8C6A5C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5901F-227C-48D0-A02C-D9F439D8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5A450-1172-4AC2-BA41-22815CE0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BF4D7-24BE-4167-8782-3CC6D7F9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CCEBE-116D-4EF3-8BE0-99C7719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0A320-331F-4D61-8CF9-C38FE00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BF3-8067-4F5B-8DA9-C4163DC1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310C2-886C-4D1D-822A-EA57B79B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C4A8C-17EC-4E17-926E-2C5C840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FC17A-4AE6-4127-BC2C-42B7324A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6FD83-76C9-440A-A942-62E4CB1E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94BF54-835F-49AC-98F8-6BEEE5A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07691-AB1F-4039-9E51-90395E8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47604-3EC5-4F81-8D91-469C6BA0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B99CC-F45C-4B2A-BCF1-1AA6528F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652AD-86AE-4D64-B6E3-26618FB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32AF2-22B7-4846-8055-3F0800FB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147-06D7-4F0B-BAE3-2A9FA6BC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FB4CC-96AB-44FF-911D-C37FC3B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186AD-FF06-432F-AF16-B0719E86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0F237-87DE-487B-A7CA-48A835CB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EB52C-4FCD-425E-83E3-95D084DB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1DD63-2753-4727-911D-63F5DC7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8CF47-ECC1-4F49-ACFA-3D77F94D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4FAD8-3601-4A34-B7B1-B1D4CF9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0E831-35EF-47F7-8CAE-666E39C9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95488-64B7-404D-BA06-87EB94B0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A1640-E020-4169-BB09-8067BC32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06E-47FD-4716-8703-3EF8014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64D5C-F129-494C-AE52-58C51D97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490F9-8616-4B5E-BB88-8A8DE313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5E556-17C1-40D2-86F7-F0C62BF7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ED402-4149-4DB3-B6B2-2080063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53E2F-A3D4-4197-BFE9-DEC0469F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1FB3F-D344-4586-B59B-D3418661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98149-644F-479C-A730-DE142EC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26F73-DCBB-4E76-86D5-3A2DFE2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8190D-0616-4C9A-A591-FFDC7E3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95FE2C-E1AF-4746-AC20-50423C50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5996-1983-4655-AFAF-FFA5E9BA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C5DF4-4E80-40FD-8523-ED9DEAF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5D9BD-668A-43A6-A8DD-F8A467B4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CD453-8BC5-4F4B-9DFA-3B0B2F1B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D92E1-B783-4674-8670-3A129B2E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82A72-6FCD-4A3D-995B-D19349C6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05435-306F-47ED-89C2-17F79332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69BB6-0A7E-4641-87DC-51AB1E01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BFE1E-71CD-4C6B-8851-AACF6744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7AD44-A34D-4BB9-90A1-8D8E7C63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ADFA1-0C25-4BA0-A02A-341BE73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158-99AA-4CFB-B7B9-ABCAA81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297-8ECB-4B45-81FE-9D103F7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9A8B1-8619-4AAC-B9F5-10A36182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21ED5-FEF9-4939-92F3-C992781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350C0-1F0B-4914-9B2C-79D993FC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D26CD-A0AA-49C7-8965-439BB34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5F990-8168-47C2-981F-01B4D084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DAB0A-4148-48E1-B0CD-5A2407F1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CE929-C530-469E-815C-9046BFC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F498F-4E36-4D2F-90F7-762A6C4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2A380-98AA-420A-90B8-A879811B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85B1DC-12E9-442C-8AAE-CA8EB7FB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1CB5-2E61-4314-BB24-055506E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8AFC7-7B78-4625-A821-A8D68693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0F1C5-CC74-4183-BFE9-799C592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E1BCE-893E-444E-B888-65C2D65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1FF4B2-BE0F-4B5C-9A89-63B382A0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C69DF-8832-4DCA-9903-624E7835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9E861-8031-496C-A016-04F3FFB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ED065D-ECD5-4692-98C0-5A25C840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1A1E7-CBD2-442B-9190-52B7B19F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40034-1692-442D-A352-5C40098D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694AA-0F4B-426A-AF3E-DDC2B60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F488-84DF-4881-AEBD-B5781D63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77D8B-092E-499A-A7D3-4E1B814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2C55A-4F3C-495E-B931-735C282A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D0215-3AC2-4CD9-9B73-018DF2D4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F9CD8-D583-4A85-BB15-80040DF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669DA-A28B-4A68-9D0D-C347E65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D9168-2DCB-4AD5-8A13-263A229A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60C4A-49D7-4E11-B4F0-089C9D81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74806-33C6-42D3-9DD5-7C24EE14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50899-9E7B-4FDA-91CC-EFD23CD1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4443F-01E7-44A8-8FF2-7089111F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E82F-0CA9-4F8E-B4EB-DC7775F9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87550B-99BD-42A8-803F-0A50E830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7E566-9F63-45FE-B811-0E28655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22ED5-4C5E-4227-9D2C-B325674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0CDC3A-8F4D-474C-B50F-251AFE98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A6ADF-1671-47DB-80ED-500ED61D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44F2E-9C28-442C-A8CC-D46A648C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7C3E5-31DF-4E0B-B565-971DF30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D13CA-00D0-46D2-AC62-5F675391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007C5-BF62-43EF-8675-DAA56892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5F9C4-E7C4-4887-96F8-97EF4CE2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C65-C1FD-4F4B-868E-A74227F2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F4020F-70CE-432D-9A40-1B04FC8A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6C045-72E8-47D3-91C3-D817CD80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01855-B7D6-4543-AB08-FAC3670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97CA0-4454-4C86-A8F0-364D0C80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4FAE4-45C2-474B-8FBF-A2405D4A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64391-6707-4122-A769-F82DBD7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8C993-1DCF-4AA9-A3BC-0FD6CA1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7AB3C-F114-4B81-9ADE-0C06C1B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6658F-6611-4E69-B84D-26B84DC4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B3A9E-E2D1-421F-BD23-4C64F40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76FD8-E3F0-4258-85B1-E5BFF81D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2F59B-9477-49CB-B107-32DE5399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7EBFD-4C50-4371-988E-2665AFEB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D9A6D-F6B3-4BFE-A62C-3646BFBD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76E7C-FAE2-4F0B-A385-D945D4FE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4625E-9660-427B-8900-398A07F5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66AFFB-FE93-4834-9111-A6776A34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9F688-D374-4A15-9F25-3B91F89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5E347-F7DA-4CB4-8E8F-AA1B1E4C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8416DF-8F00-4F0B-92EC-AAB5C63E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2CAB57-2F20-487A-AAEA-3905F15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9D09E-9DFA-4B0B-8064-3B3F7AA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5A3C6-6CE0-4203-BEB0-1A14031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8F587-D60F-4B3A-B6DF-EA0001C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6A5FE-4ECF-4FDD-B144-3DADD7AF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C01606-0C8B-47CC-A8AC-E10DE6FE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59879-261A-456D-8606-F55F9E13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7D5D6-68A9-4277-B7E1-4E401A5D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40C71B-9366-4031-8848-3B631EB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71C25-EA7A-452E-BC83-2F3882D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F07CA-34FA-4505-B351-B46DDD5F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33C3D3-44AB-4BC3-B20F-3ACA75D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83748-6676-4411-A73F-2DAB060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2BD540-C4BF-4A52-A41B-DCB4CF0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4B702-9AD3-4CB8-B0A5-B6A2EFE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1E07E6-866E-4495-821A-AA579036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EA344-0FD0-42AD-8570-53DE1EC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02022-65A1-4122-B36A-1160E73E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11E007-0384-4F8A-A31C-926CECA0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D39F2-F2FA-4A9D-8644-8D58B6FA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578B99-0D1A-426F-AA90-E969F7FC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C76485-D0AD-40E4-A42E-CE3DDC8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16CBA-8EBB-47A2-8D8D-713163C6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DEDEF-C3FE-42A8-A76B-117AE439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93D0F1-23A8-4C93-B49F-86B34CF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09BC0E-7609-4132-AF9E-F8D6C31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698D1A-29A8-4ACE-A7CA-0FD2D01C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88EB7-B090-453C-8762-3B44049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9E3757-3ED3-4F7A-891D-B178FA5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13865C-8E50-4886-B902-C83ECF1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2F5F9-4FAA-46B8-9696-3918DF7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9E0B75-EA87-4830-AF22-0F806FF9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B1BA7-8428-4644-85AF-D4C2463D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5FF4CF-07A1-4025-9193-833DC18E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E13B4C-C10B-4171-B994-0D7197D0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B19C28-4052-4F0A-93C8-D42FB41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896EFF-5B08-4F87-8924-C8C4D8F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B5DD04-D697-4851-B880-58492D84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C48C48-F446-420A-9751-778F1D97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A29A58-8288-4047-9210-A173F493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964D6C-6F1E-4F77-8B1B-230BE98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C71C1-575D-44A2-9A4A-3E358EB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71B21A-C4B8-4DAB-90B3-9CF8EB0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1ED676-F323-4405-8826-8AD6381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B2A817-BB55-4C07-BEF1-BDBD07B5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6A7-540A-451F-95F9-79B7C081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1BD4A-CCCF-457F-91E7-D59C365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E56044-9A8E-4C1F-ADD4-C75580E3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CFE50A-ECFB-4784-B601-E3BD126C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4AF961-7694-4136-B3C8-EC5FC31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47CFF6-A0A8-46E3-9A17-C9A7751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C94D80-0489-46A4-A542-A3E70E2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93FB1-DD1F-4C05-9D3F-B1A591B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C67308-DBCB-4039-9E95-6FB3756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C89215-2FAE-427E-A5CE-01E3987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7A884-4FEB-4D66-99A9-E52F843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FC21D6-2A9B-43A5-9D75-33ECAF7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79AC6-D3EA-4AF4-9D3E-7645D05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8F98DC-3B80-44A1-8096-DE68536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DB7B8F-6CA1-420A-9C39-284FB4CE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795677-EEDE-4FAE-80B0-7B9A2122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4A1FD6-B8FE-438C-8626-AC7C68BA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6E9E4B-22BC-48BE-B41E-C885F95A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E37E0B-2FA1-470D-A12B-712466F8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E760B6-32BB-4704-BD6A-59F5C062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B41935-B6C3-4C49-B4E4-E4E36B78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368AD-54E4-4509-9C61-03D3420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44349A-894C-4F15-9B4E-705F90A3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A0DCC-A9EC-4BB3-AF8A-591BE82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53EA7B-9825-481C-8666-825F1E4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39FC84-4BA1-41EB-96E0-895A323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887C94-58A4-496D-9FF4-641E05A1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E5FD3-5B16-4472-AF0D-62E28BD8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2D2A1D-B855-4AB4-B674-01C7737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819061-DC30-4F46-A7BD-CD7D1E2A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38520-26AB-4E17-BADC-D549429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9CF3F2-2350-4717-92CF-134E5E7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20C35D-0157-4B53-B52C-2F8F9E7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ECB6F3-7369-4CCA-88B2-9A7606E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2BB28-5D40-46CD-BFB6-478B115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DEA61E-39D4-4010-9DF9-95F8CA8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0CFA04-2D64-4A1B-8F95-389C647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A64A0F-5EB2-48F5-9A35-10310BCB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C312BC-C244-4548-98B0-6527C30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E88C36-78F0-4CD8-A7EE-012E59D9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4DCCD1-1A58-4FA5-B623-D3AAEF5F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A31184-C71D-49ED-B8CA-86D5B73C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3B61DE-9E8A-4A4B-A445-7BBB1B88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6C50C9-102A-4CFF-BCC1-FE1C241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FAEDE1-DAEF-4A8A-9100-27E8EE89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229F0-311A-4FD5-A997-45D98CB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EF35AC-8077-4014-B097-54AB593E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92E37A-6104-4265-8B6A-37EB523B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31E6A9-049A-452E-A3C0-9F1BF16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967792-06D4-4D1A-98BC-2747A5AA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3043B1-1DA9-4D25-A855-90F6C6CA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3E6AF1-ABD6-4AD8-902B-9C4D2CC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AD0B81-A503-4713-B94E-0EA79ACF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FB1AD-0E4D-478F-B033-938AB0B3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5C058D-D9AB-4156-91CF-61DABBC6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4F5963-8E82-4573-9A4C-C12DCD1A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72150-9711-4879-B74F-AD7C72F0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B0FC4A-5FC7-47EC-BEFA-7647A81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E5CE7F-C68D-4A4F-8C22-1364259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6E2B2A-E5CC-4210-9B1F-21D06460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B711BB-4C80-4E47-BAC5-FF7A25F6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27ED1C-E590-484F-BFBA-5C69EF5E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DB53A3-1504-47C7-BB66-7CFD2D8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B844F7-447C-4258-9EB5-2DAA494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AE5D04-1C06-4F4A-BCC8-EAA0AED0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E596AD-ECBF-4032-BC5A-EB62AF8D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739E72-E984-4192-9EEC-C1FF223F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01FF5-86E1-41BE-8F98-2C36B0AA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DF3439-A9D9-4A36-A67E-2164DAC4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F87C36-1167-42FF-9F56-4AA6F725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06664D-A16A-43E3-A215-A1BDEFA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87EB3A-1712-4DC6-9205-7E7CA1F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D5C192-D5CA-460F-8653-E6AF4828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920E03-EFC7-438D-9D18-8905866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955ADB-E900-42A6-B80C-BDBCE401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88CB53-20C1-4739-A4E0-93A115AA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114FA8-202D-4C15-86B5-D3B9206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727737-589C-45C3-B01C-B4255451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2490-7346-4916-BB58-5383F324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C26281-A1B3-49DE-B43F-B637FDF5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F689BC-E88E-42F7-9B92-51E6E21E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D7F39A-71E5-4A4B-A4B0-CF599A8E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39D2-5BEB-4B44-A102-5E9315BB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1000-B7B5-4AE9-BDB9-315F044F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D61-EB30-4179-A054-86EF3CCB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7FB2F-3E9E-4884-A33B-E5BF9539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22B04-6655-4FA6-A3E8-FE79F08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7E82-6BCA-4CC6-91BE-73C0EF2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E783-58CF-4794-A341-3D0CEBF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7C35-FBF4-404C-B4E1-0C50D18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C9CF-7BAB-4D80-B6B7-F7791F0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5EB6-7745-4815-B1BA-52F98B2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9C72-69D4-43B5-949D-20786400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C252-31F6-4ABE-97E9-AEEA4687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8A720-22FF-4EBA-A21D-E2E7967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552-8DB2-47EA-BBCA-44982A9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AEA9-DA97-419F-A510-2A6C227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123E5-EA08-4F0A-922D-BFAC60F9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CF5A-AFE6-430A-A93C-0DD3C38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331E-8338-45BD-A221-F71C8132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CE2F-F97F-49FE-AB3A-7300DCD8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B9B4-E9A8-4519-ACBF-5670D0A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55787-5F7C-4137-94EA-E9E0A846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E1FAF-4EDE-4D5F-B39E-AEA337FA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E19F-9AAF-4F30-92AC-7C92026D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634C-2235-4F5A-A495-D09C3BC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BA5-BA72-4936-AA5C-8730BAA9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7BDD4-7D50-415A-AD56-4C8916F2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D16DA-5AC4-42C8-8939-09B672F7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7F01-2C4C-442D-B534-BE9D12D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E960-A53D-47BE-B4D6-3D50D4EB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FD49-FB36-4204-B29F-29CEAF3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A9E0-0F50-40FD-9675-D0ED514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99DE1-693A-448B-9D4C-4C3B267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C594-3090-475D-A263-FA635DA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CE93-210F-43E8-B5FA-85F9D473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7848-F555-4D9B-B1EC-08426F1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725-A2B7-478E-BE08-D37D0D1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DCE7A-B2B6-43B3-B7D6-57EBE592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DD33-4F18-4A0B-9910-6A42044F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6BD6-644C-459F-BA32-766E1240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B2B2-C1B4-4A2E-BD54-15EDEF0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065BD-0684-4B48-B07A-43A7AAC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1C59-085D-4585-B61A-555B8CF5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00E7-5358-4953-93A8-7149A357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6337-C7BD-4B1C-A97A-E101D24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3212-1D44-442F-A47B-A467D7B2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1387A-88E5-4F7F-AB48-0AA4A278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625-BB4A-4F65-AB78-D4B8E14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A96C-A839-4AC3-A440-FCBE16A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4E10-2E11-455A-8CBF-F412E84A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EBEC-D35B-4B82-8EAA-BAF67E57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EA136-8366-4AA6-902C-75F033D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F54E2-DA72-472A-BF9B-AA255CD7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ECD6-F949-4060-B9D4-0B6546C0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3EE26-7CAE-46A6-B73E-CA4A52C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50E18-F9BC-464D-B8F1-78A9DF0B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DCD2-AE9E-4B8D-91A0-1BC056D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AA44-F66D-478D-AD3A-1995205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EEC-DBFA-43A9-8332-5DA0C04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96A2-B9F8-464E-8A47-4F860061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7537-3BB1-429D-87D8-15017330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F3BEE-DDA7-440C-BBC1-002C338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9A77-9638-489E-903F-A102B6D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E469-8FF3-429D-8012-781C3AB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6081B-2FD4-4691-9D4F-48EC65D1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2F318-FDEC-4D29-80D1-63696609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BFB57-18BC-4E2D-A242-CAD4CD06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C2FDD-44E3-424B-AB9C-3D1D7846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9AF03-1AC2-4408-8BEA-85D7C52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292-5019-43E9-B836-56A9C696C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FCB-4172-4AC8-B5EA-EB0F870A98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48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9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7127-0F13-495C-8054-63F4866424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DD39-CE83-4328-BCCD-CCEB406C2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39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0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B2F-2BFE-4B21-91AD-E96DB73E275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2A9B-EF2B-4164-AEE4-1A7C10F035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0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1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1696-FC25-4240-A26E-2225CEBC9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3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1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5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1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8734-96DF-4652-A433-68FA9F6D8A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5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0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1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A7F-6B76-4906-9B7A-4EA350C3DF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8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E99-3F0E-4AF2-AE64-A37641F67B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5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6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6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0A22-0E58-4808-98D5-85BE1DC64DB2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0DA0-3749-40AF-9C95-064D10F000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1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1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CEF-62CC-4FC8-BEE2-3AC4F6E583A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5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7117-875C-4A0D-A502-88FF084E3A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0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00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0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0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0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00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075-043D-4AD8-9A3E-0492ED3A493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D73-2750-4E65-8677-138C4E7823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9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09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9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0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1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12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08A6-CDBC-43C5-9563-C59CF1B87B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A084-7A95-4CBB-A117-2E3C9B838E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1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21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1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21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2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DDFE-737E-49E1-98B4-29106EC2F2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BC22-485C-46C4-AE58-F06C8D951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08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9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10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7A7-C196-4D43-8758-88475143813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353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4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5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6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57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6B6-C834-4536-9850-9CAFA91E69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C238-2DA1-4CE5-AB85-5993E2EC1D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88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89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0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9C15-DE2E-4400-A6BF-B22855BB4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4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9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9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9C5-9DA3-4838-BF2D-9FB99611E9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68AD-8F76-4C39-B61E-D8D3E9F74B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DFFB-82C6-43FF-A55E-59CED9991E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B63B-1375-4456-91DD-23845C148E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551-550A-4FDB-A9E1-7F16D43CA66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31BA-6776-472E-9C5D-FCE60D9D71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A4A-CF79-4C57-96FD-F504AD001B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" Target="slide11.xml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56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8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0722-8E13-474E-981F-E6165BF3D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1" name="Picture 8" descr="фон-12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2" name="WordArt 12" descr=""/>
          <p:cNvPicPr/>
          <p:nvPr/>
        </p:nvPicPr>
        <p:blipFill>
          <a:blip r:embed="rId2"/>
          <a:stretch/>
        </p:blipFill>
        <p:spPr>
          <a:xfrm>
            <a:off x="493560" y="1494000"/>
            <a:ext cx="8369280" cy="45352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13"/>
          <p:cNvGrpSpPr/>
          <p:nvPr/>
        </p:nvGrpSpPr>
        <p:grpSpPr>
          <a:xfrm>
            <a:off x="7885080" y="476280"/>
            <a:ext cx="838080" cy="761760"/>
            <a:chOff x="7885080" y="476280"/>
            <a:chExt cx="838080" cy="761760"/>
          </a:xfrm>
        </p:grpSpPr>
        <p:grpSp>
          <p:nvGrpSpPr>
            <p:cNvPr id="1494" name="Group 14"/>
            <p:cNvGrpSpPr/>
            <p:nvPr/>
          </p:nvGrpSpPr>
          <p:grpSpPr>
            <a:xfrm>
              <a:off x="7885080" y="476280"/>
              <a:ext cx="838080" cy="761760"/>
              <a:chOff x="7885080" y="476280"/>
              <a:chExt cx="838080" cy="761760"/>
            </a:xfrm>
          </p:grpSpPr>
          <p:sp>
            <p:nvSpPr>
              <p:cNvPr id="1495" name="AutoShape 15"/>
              <p:cNvSpPr/>
              <p:nvPr/>
            </p:nvSpPr>
            <p:spPr>
              <a:xfrm rot="16200000">
                <a:off x="7742160" y="675000"/>
                <a:ext cx="705600" cy="420120"/>
              </a:xfrm>
              <a:prstGeom prst="parallelogram">
                <a:avLst>
                  <a:gd name="adj" fmla="val 22922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6" name="AutoShape 16"/>
              <p:cNvSpPr/>
              <p:nvPr/>
            </p:nvSpPr>
            <p:spPr>
              <a:xfrm flipV="1" rot="5400000">
                <a:off x="8161200" y="676080"/>
                <a:ext cx="705600" cy="417960"/>
              </a:xfrm>
              <a:prstGeom prst="parallelogram">
                <a:avLst>
                  <a:gd name="adj" fmla="val 23041"/>
                </a:avLst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7" name="AutoShape 17"/>
              <p:cNvSpPr/>
              <p:nvPr/>
            </p:nvSpPr>
            <p:spPr>
              <a:xfrm rot="16200000">
                <a:off x="7751880" y="667800"/>
                <a:ext cx="705960" cy="396360"/>
              </a:xfrm>
              <a:prstGeom prst="parallelogram">
                <a:avLst>
                  <a:gd name="adj" fmla="val 2430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8" name="AutoShape 18"/>
              <p:cNvSpPr/>
              <p:nvPr/>
            </p:nvSpPr>
            <p:spPr>
              <a:xfrm flipV="1" rot="5400000">
                <a:off x="8148240" y="666720"/>
                <a:ext cx="705960" cy="396720"/>
              </a:xfrm>
              <a:prstGeom prst="parallelogram">
                <a:avLst>
                  <a:gd name="adj" fmla="val 24287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9" name="AutoShape 19"/>
              <p:cNvSpPr/>
              <p:nvPr/>
            </p:nvSpPr>
            <p:spPr>
              <a:xfrm rot="16200000">
                <a:off x="7765200" y="66240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0" name="AutoShape 20"/>
              <p:cNvSpPr/>
              <p:nvPr/>
            </p:nvSpPr>
            <p:spPr>
              <a:xfrm flipV="1" rot="5400000">
                <a:off x="8134560" y="661680"/>
                <a:ext cx="705960" cy="369360"/>
              </a:xfrm>
              <a:prstGeom prst="parallelogram">
                <a:avLst>
                  <a:gd name="adj" fmla="val 26086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1" name="AutoShape 21"/>
              <p:cNvSpPr/>
              <p:nvPr/>
            </p:nvSpPr>
            <p:spPr>
              <a:xfrm rot="16200000">
                <a:off x="777852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2" name="AutoShape 22"/>
              <p:cNvSpPr/>
              <p:nvPr/>
            </p:nvSpPr>
            <p:spPr>
              <a:xfrm flipV="1" rot="5400000">
                <a:off x="8121240" y="657720"/>
                <a:ext cx="705600" cy="342360"/>
              </a:xfrm>
              <a:prstGeom prst="parallelogram">
                <a:avLst>
                  <a:gd name="adj" fmla="val 28129"/>
                </a:avLst>
              </a:pr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503" name="Group 23"/>
            <p:cNvGrpSpPr/>
            <p:nvPr/>
          </p:nvGrpSpPr>
          <p:grpSpPr>
            <a:xfrm>
              <a:off x="8037360" y="552240"/>
              <a:ext cx="532800" cy="609840"/>
              <a:chOff x="8037360" y="552240"/>
              <a:chExt cx="532800" cy="609840"/>
            </a:xfrm>
          </p:grpSpPr>
          <p:grpSp>
            <p:nvGrpSpPr>
              <p:cNvPr id="1504" name="Group 24"/>
              <p:cNvGrpSpPr/>
              <p:nvPr/>
            </p:nvGrpSpPr>
            <p:grpSpPr>
              <a:xfrm>
                <a:off x="8143920" y="716400"/>
                <a:ext cx="309600" cy="276840"/>
                <a:chOff x="8143920" y="716400"/>
                <a:chExt cx="309600" cy="276840"/>
              </a:xfrm>
            </p:grpSpPr>
            <p:sp>
              <p:nvSpPr>
                <p:cNvPr id="1505" name="Freeform 25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6" name="Freeform 26"/>
                <p:cNvSpPr/>
                <p:nvPr/>
              </p:nvSpPr>
              <p:spPr>
                <a:xfrm>
                  <a:off x="8143920" y="716400"/>
                  <a:ext cx="309600" cy="27684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07" name="Group 27"/>
              <p:cNvGrpSpPr/>
              <p:nvPr/>
            </p:nvGrpSpPr>
            <p:grpSpPr>
              <a:xfrm>
                <a:off x="8037360" y="552240"/>
                <a:ext cx="532800" cy="609840"/>
                <a:chOff x="8037360" y="552240"/>
                <a:chExt cx="532800" cy="609840"/>
              </a:xfrm>
            </p:grpSpPr>
            <p:sp>
              <p:nvSpPr>
                <p:cNvPr id="1508" name="Freeform 28"/>
                <p:cNvSpPr/>
                <p:nvPr/>
              </p:nvSpPr>
              <p:spPr>
                <a:xfrm>
                  <a:off x="8037360" y="552240"/>
                  <a:ext cx="532800" cy="609480"/>
                </a:xfrm>
                <a:prstGeom prst="pi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9" name="Freeform 29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0" name="Freeform 30"/>
                <p:cNvSpPr/>
                <p:nvPr/>
              </p:nvSpPr>
              <p:spPr>
                <a:xfrm>
                  <a:off x="8037360" y="80136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1" name="Freeform 31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2" name="Freeform 32"/>
                <p:cNvSpPr/>
                <p:nvPr/>
              </p:nvSpPr>
              <p:spPr>
                <a:xfrm>
                  <a:off x="8303760" y="856800"/>
                  <a:ext cx="266400" cy="5508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3" name="Freeform 33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4" name="Freeform 34"/>
                <p:cNvSpPr/>
                <p:nvPr/>
              </p:nvSpPr>
              <p:spPr>
                <a:xfrm>
                  <a:off x="8255520" y="85680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5" name="Freeform 35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6" name="Freeform 36"/>
                <p:cNvSpPr/>
                <p:nvPr/>
              </p:nvSpPr>
              <p:spPr>
                <a:xfrm>
                  <a:off x="8303760" y="552240"/>
                  <a:ext cx="48240" cy="304560"/>
                </a:xfrm>
                <a:prstGeom prst="pie">
                  <a:avLst/>
                </a:prstGeom>
                <a:noFill/>
                <a:ln w="1260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7" name="Freeform 37"/>
                <p:cNvSpPr/>
                <p:nvPr/>
              </p:nvSpPr>
              <p:spPr>
                <a:xfrm>
                  <a:off x="8037360" y="552600"/>
                  <a:ext cx="532800" cy="60948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18" name="Oval 38"/>
              <p:cNvSpPr/>
              <p:nvPr/>
            </p:nvSpPr>
            <p:spPr>
              <a:xfrm>
                <a:off x="8197200" y="750600"/>
                <a:ext cx="213120" cy="200520"/>
              </a:xfrm>
              <a:prstGeom prst="ellipse">
                <a:avLst/>
              </a:prstGeom>
              <a:solidFill>
                <a:srgbClr val="ff973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9" name="AutoShape 39"/>
              <p:cNvSpPr/>
              <p:nvPr/>
            </p:nvSpPr>
            <p:spPr>
              <a:xfrm>
                <a:off x="8218440" y="759960"/>
                <a:ext cx="168480" cy="13716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520" name="Text Box 40"/>
          <p:cNvSpPr/>
          <p:nvPr/>
        </p:nvSpPr>
        <p:spPr>
          <a:xfrm>
            <a:off x="1763640" y="623736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4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D935-8F5B-4A6B-843D-2BC560E05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2" name="Picture 4" descr="фон-1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1593" name="WordArt 6"/>
          <p:cNvSpPr txBox="1"/>
          <p:nvPr/>
        </p:nvSpPr>
        <p:spPr>
          <a:xfrm>
            <a:off x="1187280" y="476280"/>
            <a:ext cx="7007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варийно-спасательные работы включают:</a:t>
            </a:r>
            <a:endParaRPr b="0" lang="en-US" sz="16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4" name="Text Box 7"/>
          <p:cNvSpPr/>
          <p:nvPr/>
        </p:nvSpPr>
        <p:spPr>
          <a:xfrm>
            <a:off x="250920" y="1413000"/>
            <a:ext cx="856908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5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зведку маршрутов движения и участков работ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локализацию и тушение пожаров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вление или доведение до минимально возможного уровня возникших в результате ЧС вредных и опасных факторов, препятствующих ведению спасательных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озыск пораженных и извлечение их из поврежденных и горящих зданий, загазованных, затопленных и задымленных помещений, завал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крытие разрушенных, поврежденных и заваленных ЗС и спасение находящихся в них люде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ачу воздуха в заваленные ЗС с поврежденной фильтровентиляционной систем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азание первой медицинской и врачебной помощи пострадавшим и эвакуацию их в лечебные учрежд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воз (вывод) населения из опасных мест в безопасные рай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lnSpc>
                <a:spcPct val="85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анитарную обработку людей, ветеринарную обработку с/х животных, дезактивацию и дегазацию техники, средств защиты и одежды, обеззараживание территорий и сооружений, продовольствия, воды и т.д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randomBa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5002-E533-415E-A82D-BC25FF68C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96" name="Picture 4" descr="фон"/>
          <p:cNvPicPr/>
          <p:nvPr/>
        </p:nvPicPr>
        <p:blipFill>
          <a:blip r:embed="rId1"/>
          <a:stretch/>
        </p:blipFill>
        <p:spPr>
          <a:xfrm>
            <a:off x="250920" y="189000"/>
            <a:ext cx="8280360" cy="5994360"/>
          </a:xfrm>
          <a:prstGeom prst="rect">
            <a:avLst/>
          </a:prstGeom>
          <a:ln w="0">
            <a:noFill/>
          </a:ln>
        </p:spPr>
      </p:pic>
      <p:sp>
        <p:nvSpPr>
          <p:cNvPr id="1597" name="WordArt 6"/>
          <p:cNvSpPr txBox="1"/>
          <p:nvPr/>
        </p:nvSpPr>
        <p:spPr>
          <a:xfrm>
            <a:off x="1763640" y="404640"/>
            <a:ext cx="58341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варийно-спасательные работы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1692360" y="260280"/>
            <a:ext cx="6121440" cy="57636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9" name="Text Box 8"/>
          <p:cNvSpPr/>
          <p:nvPr/>
        </p:nvSpPr>
        <p:spPr>
          <a:xfrm>
            <a:off x="826920" y="1197000"/>
            <a:ext cx="2089440" cy="5202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обственно 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300720" y="1197000"/>
            <a:ext cx="2089080" cy="52020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3564000" y="1197000"/>
            <a:ext cx="208908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           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2" name="Text Box 11"/>
          <p:cNvSpPr/>
          <p:nvPr/>
        </p:nvSpPr>
        <p:spPr>
          <a:xfrm>
            <a:off x="611280" y="2060640"/>
            <a:ext cx="2448000" cy="38476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Спасательные работы, связанные со спасением людей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поиск пострадавших в местах возможного блокирова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извлечение пострадавших из поврежденных, горящих, зараженных ОВ (АХОВ), РВ зд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оказание первой медицинской и первой врачебной помощи пострадавшим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эвакуация пострадавших в медицинские учрежд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вывод (вывоз) населения из зон заражения в безопасное место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3" name="Text Box 12"/>
          <p:cNvSpPr/>
          <p:nvPr/>
        </p:nvSpPr>
        <p:spPr>
          <a:xfrm>
            <a:off x="3348000" y="2060640"/>
            <a:ext cx="2448000" cy="38224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Специальные работы включаю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тушение пожар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локализацию аварий на коммунально-энергетических сетя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стройство проездов (проходов) в завалах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укрепление (обрушение) неустойчивых конструкц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 Narrow"/>
              </a:rPr>
              <a:t>проведение специальной обработки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99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4" name="Text Box 13"/>
          <p:cNvSpPr/>
          <p:nvPr/>
        </p:nvSpPr>
        <p:spPr>
          <a:xfrm>
            <a:off x="6084720" y="2060640"/>
            <a:ext cx="2448000" cy="38224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Вспомогательные связаны с подготовкой участка спасательных работ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расчистка площадок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установка на них техники, ограждений и предупреди-тельных знаков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 Narrow"/>
              </a:rPr>
              <a:t>освещение рабочих мест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1397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5" name="Line 14"/>
          <p:cNvSpPr/>
          <p:nvPr/>
        </p:nvSpPr>
        <p:spPr>
          <a:xfrm>
            <a:off x="4572000" y="836640"/>
            <a:ext cx="0" cy="36036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6" name="Line 15"/>
          <p:cNvSpPr/>
          <p:nvPr/>
        </p:nvSpPr>
        <p:spPr>
          <a:xfrm flipH="1">
            <a:off x="1908000" y="836640"/>
            <a:ext cx="503280" cy="360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7" name="Line 16"/>
          <p:cNvSpPr/>
          <p:nvPr/>
        </p:nvSpPr>
        <p:spPr>
          <a:xfrm>
            <a:off x="6948360" y="836640"/>
            <a:ext cx="503280" cy="360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8" name="Line 17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9" name="Line 18"/>
          <p:cNvSpPr/>
          <p:nvPr/>
        </p:nvSpPr>
        <p:spPr>
          <a:xfrm>
            <a:off x="4572000" y="1773360"/>
            <a:ext cx="0" cy="287280"/>
          </a:xfrm>
          <a:prstGeom prst="line">
            <a:avLst/>
          </a:prstGeom>
          <a:ln w="1908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0" name="Line 19"/>
          <p:cNvSpPr/>
          <p:nvPr/>
        </p:nvSpPr>
        <p:spPr>
          <a:xfrm>
            <a:off x="7451640" y="1773360"/>
            <a:ext cx="0" cy="287280"/>
          </a:xfrm>
          <a:prstGeom prst="line">
            <a:avLst/>
          </a:prstGeom>
          <a:ln w="1908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Text Box 20"/>
          <p:cNvSpPr/>
          <p:nvPr/>
        </p:nvSpPr>
        <p:spPr>
          <a:xfrm>
            <a:off x="971640" y="6093000"/>
            <a:ext cx="72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Специальные и вспомогательные работы осуществляются для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эффективного проведения собственно спасательных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20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200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58D-D8ED-4922-90C3-CAB18F45E3B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3" name="Text Box 3"/>
          <p:cNvSpPr/>
          <p:nvPr/>
        </p:nvSpPr>
        <p:spPr>
          <a:xfrm>
            <a:off x="755640" y="4508640"/>
            <a:ext cx="8064360" cy="204480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274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Другие неотложные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 это деятельность по: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стороннему обеспечению аварийно-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казанию населению, пострадавшему в ЧС, медицинской и других видов помощ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ю условий, минимально необходимых для сохранения жизни и здоровья людей, поддержания их работоспособност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28560" indent="-274680" algn="just"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755640" y="2565360"/>
            <a:ext cx="8064360" cy="1770480"/>
          </a:xfrm>
          <a:prstGeom prst="rect">
            <a:avLst/>
          </a:prstGeom>
          <a:noFill/>
          <a:ln w="2844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Цель проведения неотлож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здание условий для проведения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едотвращение дальнейших разрушений и потерь, вызванных вторичными поражающими факторам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271440" algn="just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жизнедеятельности объектов экономики и пострадавшего населения в условиях ЧС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5" name="Rectangle 5">
            <a:hlinkClick r:id="rId7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6" name="WordArt 6"/>
          <p:cNvSpPr txBox="1"/>
          <p:nvPr/>
        </p:nvSpPr>
        <p:spPr>
          <a:xfrm>
            <a:off x="1763640" y="836640"/>
            <a:ext cx="633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Другие неотложные работы 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в очагах поражения</a:t>
            </a:r>
            <a:endParaRPr b="1" lang="en-US" sz="1600" spc="1" strike="noStrike">
              <a:ln w="0">
                <a:noFill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E65B-281F-406F-ABA3-563AB85470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8" name="Text Box 3"/>
          <p:cNvSpPr/>
          <p:nvPr/>
        </p:nvSpPr>
        <p:spPr>
          <a:xfrm>
            <a:off x="611280" y="1773360"/>
            <a:ext cx="7993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66760" algn="just">
              <a:lnSpc>
                <a:spcPct val="11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прокладывание колонных путей и устройство проходов в завалах и на зараженных участка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локализацию аварий на газовых, энергетических, водопроводных, канализационных и технолог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укрепление или обрушение конструкций зданий и сооружений, угрожающих обвалом или препятствующих безопасному про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и разрушенных линий связи и коммунально-энергетических сетей;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ремонт и восстановление поврежденных защитных сооружени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анитарную очистку территории в зоне ЧС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бор материальных ценност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 algn="just">
              <a:lnSpc>
                <a:spcPct val="11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 Narrow"/>
              </a:rPr>
              <a:t>создание условий, минимально необходимых для сохранения жизни и здоровья людей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44280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9" name="WordArt 5"/>
          <p:cNvSpPr txBox="1"/>
          <p:nvPr/>
        </p:nvSpPr>
        <p:spPr>
          <a:xfrm>
            <a:off x="1547640" y="549360"/>
            <a:ext cx="61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ut thruBlk="true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1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00"/>
                                        <p:tgtEl>
                                          <p:spTgt spid="1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00"/>
                                        <p:tgtEl>
                                          <p:spTgt spid="1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00"/>
                                        <p:tgtEl>
                                          <p:spTgt spid="1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00"/>
                                        <p:tgtEl>
                                          <p:spTgt spid="1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00"/>
                                        <p:tgtEl>
                                          <p:spTgt spid="1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1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000"/>
                                        <p:tgtEl>
                                          <p:spTgt spid="1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00"/>
                                        <p:tgtEl>
                                          <p:spTgt spid="1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9FE2-086A-4151-A96A-6C5CD34C5AD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1" name="Text Box 3"/>
          <p:cNvSpPr/>
          <p:nvPr/>
        </p:nvSpPr>
        <p:spPr>
          <a:xfrm>
            <a:off x="1042920" y="2205000"/>
            <a:ext cx="6985080" cy="2829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бнаружение, обезвреживание и уничтожение взрывоопасных предмет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анитарную очистку территории в зоне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lnSpc>
                <a:spcPct val="110000"/>
              </a:lnSpc>
              <a:spcBef>
                <a:spcPts val="29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бор материальных ценностей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3324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2" name="WordArt 4"/>
          <p:cNvSpPr txBox="1"/>
          <p:nvPr/>
        </p:nvSpPr>
        <p:spPr>
          <a:xfrm>
            <a:off x="1547640" y="907920"/>
            <a:ext cx="612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ие неотложные работы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ючают: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3000"/>
                                        <p:tgtEl>
                                          <p:spTgt spid="1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3000"/>
                                        <p:tgtEl>
                                          <p:spTgt spid="1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3000"/>
                                        <p:tgtEl>
                                          <p:spTgt spid="1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EE9D-A4DC-48B6-92C2-B910D86C46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4" name="AutoShape 3"/>
          <p:cNvSpPr/>
          <p:nvPr/>
        </p:nvSpPr>
        <p:spPr>
          <a:xfrm>
            <a:off x="2340000" y="37368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5" name="AutoShape 4"/>
          <p:cNvSpPr/>
          <p:nvPr/>
        </p:nvSpPr>
        <p:spPr>
          <a:xfrm>
            <a:off x="755640" y="35211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6" name="AutoShape 5"/>
          <p:cNvSpPr/>
          <p:nvPr/>
        </p:nvSpPr>
        <p:spPr>
          <a:xfrm>
            <a:off x="755640" y="184464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7" name="AutoShape 6"/>
          <p:cNvSpPr/>
          <p:nvPr/>
        </p:nvSpPr>
        <p:spPr>
          <a:xfrm>
            <a:off x="2340000" y="2060640"/>
            <a:ext cx="12240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8" name="AutoShape 7"/>
          <p:cNvSpPr/>
          <p:nvPr/>
        </p:nvSpPr>
        <p:spPr>
          <a:xfrm>
            <a:off x="755640" y="5121360"/>
            <a:ext cx="1449360" cy="8380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9" name="AutoShape 8"/>
          <p:cNvSpPr/>
          <p:nvPr/>
        </p:nvSpPr>
        <p:spPr>
          <a:xfrm>
            <a:off x="2340000" y="5337000"/>
            <a:ext cx="12240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0" name="Text Box 9">
            <a:hlinkClick r:id="rId4" action="ppaction://hlinksldjump"/>
          </p:cNvPr>
          <p:cNvSpPr/>
          <p:nvPr/>
        </p:nvSpPr>
        <p:spPr>
          <a:xfrm>
            <a:off x="4002120" y="1844640"/>
            <a:ext cx="4602240" cy="83376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1" name="Rectangle 10">
            <a:hlinkClick r:id="rId5" action="ppaction://hlinksldjump"/>
          </p:cNvPr>
          <p:cNvSpPr/>
          <p:nvPr/>
        </p:nvSpPr>
        <p:spPr>
          <a:xfrm>
            <a:off x="3995640" y="3429000"/>
            <a:ext cx="4584960" cy="100800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дение аварийно-спасатель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других неотложных работ в зонах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Rectangle 11"/>
          <p:cNvSpPr/>
          <p:nvPr/>
        </p:nvSpPr>
        <p:spPr>
          <a:xfrm>
            <a:off x="3995640" y="5229360"/>
            <a:ext cx="4584960" cy="647640"/>
          </a:xfrm>
          <a:prstGeom prst="rect">
            <a:avLst/>
          </a:prstGeom>
          <a:solidFill>
            <a:srgbClr val="ffffe1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квидация последствий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3" name="WordArt 12"/>
          <p:cNvSpPr txBox="1"/>
          <p:nvPr/>
        </p:nvSpPr>
        <p:spPr>
          <a:xfrm>
            <a:off x="1116000" y="40464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hecker dir="horz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3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Номер слайда 3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308-DA08-4346-BB5C-BB92A52A2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AutoShape 3"/>
          <p:cNvSpPr/>
          <p:nvPr/>
        </p:nvSpPr>
        <p:spPr>
          <a:xfrm>
            <a:off x="3492360" y="371628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6" name="AutoShape 4"/>
          <p:cNvSpPr/>
          <p:nvPr/>
        </p:nvSpPr>
        <p:spPr>
          <a:xfrm>
            <a:off x="468360" y="3429000"/>
            <a:ext cx="2879640" cy="9349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ышен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готов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7" name="AutoShape 5"/>
          <p:cNvSpPr/>
          <p:nvPr/>
        </p:nvSpPr>
        <p:spPr>
          <a:xfrm>
            <a:off x="468360" y="1773360"/>
            <a:ext cx="2879640" cy="987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повседнев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8" name="AutoShape 6"/>
          <p:cNvSpPr/>
          <p:nvPr/>
        </p:nvSpPr>
        <p:spPr>
          <a:xfrm>
            <a:off x="3492360" y="2133720"/>
            <a:ext cx="111780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AutoShape 8"/>
          <p:cNvSpPr/>
          <p:nvPr/>
        </p:nvSpPr>
        <p:spPr>
          <a:xfrm>
            <a:off x="468360" y="5084640"/>
            <a:ext cx="2879640" cy="9367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ежим чрезвычайно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итуаци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0" name="AutoShape 9"/>
          <p:cNvSpPr/>
          <p:nvPr/>
        </p:nvSpPr>
        <p:spPr>
          <a:xfrm>
            <a:off x="3564000" y="5445000"/>
            <a:ext cx="1117440" cy="274680"/>
          </a:xfrm>
          <a:prstGeom prst="pi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1" name="Group 17"/>
          <p:cNvGrpSpPr/>
          <p:nvPr/>
        </p:nvGrpSpPr>
        <p:grpSpPr>
          <a:xfrm>
            <a:off x="4716360" y="1752480"/>
            <a:ext cx="3743280" cy="939960"/>
            <a:chOff x="4716360" y="1752480"/>
            <a:chExt cx="3743280" cy="939960"/>
          </a:xfrm>
        </p:grpSpPr>
        <p:sp>
          <p:nvSpPr>
            <p:cNvPr id="1642" name="Rectangle 7"/>
            <p:cNvSpPr/>
            <p:nvPr/>
          </p:nvSpPr>
          <p:spPr>
            <a:xfrm>
              <a:off x="4716360" y="1752480"/>
              <a:ext cx="3743280" cy="9399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3" name="Text Box 10"/>
            <p:cNvSpPr/>
            <p:nvPr/>
          </p:nvSpPr>
          <p:spPr>
            <a:xfrm>
              <a:off x="4859280" y="191628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отсутствии угрозы 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4" name="Group 18"/>
          <p:cNvGrpSpPr/>
          <p:nvPr/>
        </p:nvGrpSpPr>
        <p:grpSpPr>
          <a:xfrm>
            <a:off x="4716360" y="3429000"/>
            <a:ext cx="3743280" cy="977760"/>
            <a:chOff x="4716360" y="3429000"/>
            <a:chExt cx="3743280" cy="977760"/>
          </a:xfrm>
        </p:grpSpPr>
        <p:sp>
          <p:nvSpPr>
            <p:cNvPr id="1645" name="Rectangle 11"/>
            <p:cNvSpPr/>
            <p:nvPr/>
          </p:nvSpPr>
          <p:spPr>
            <a:xfrm>
              <a:off x="4716360" y="3429000"/>
              <a:ext cx="3743280" cy="9777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6" name="Text Box 12"/>
            <p:cNvSpPr/>
            <p:nvPr/>
          </p:nvSpPr>
          <p:spPr>
            <a:xfrm>
              <a:off x="4932360" y="3573360"/>
              <a:ext cx="3230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угрозе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возникновения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47" name="Group 19"/>
          <p:cNvGrpSpPr/>
          <p:nvPr/>
        </p:nvGrpSpPr>
        <p:grpSpPr>
          <a:xfrm>
            <a:off x="4716360" y="5105520"/>
            <a:ext cx="3743280" cy="963360"/>
            <a:chOff x="4716360" y="5105520"/>
            <a:chExt cx="3743280" cy="963360"/>
          </a:xfrm>
        </p:grpSpPr>
        <p:sp>
          <p:nvSpPr>
            <p:cNvPr id="1648" name="Rectangle 13"/>
            <p:cNvSpPr/>
            <p:nvPr/>
          </p:nvSpPr>
          <p:spPr>
            <a:xfrm>
              <a:off x="4716360" y="5105520"/>
              <a:ext cx="3743280" cy="963360"/>
            </a:xfrm>
            <a:prstGeom prst="rec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5400000"/>
            </a:gradFill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49" name="Text Box 14"/>
            <p:cNvSpPr/>
            <p:nvPr/>
          </p:nvSpPr>
          <p:spPr>
            <a:xfrm>
              <a:off x="5003640" y="5373720"/>
              <a:ext cx="331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возникновении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50" name="WordArt 16"/>
          <p:cNvSpPr txBox="1"/>
          <p:nvPr/>
        </p:nvSpPr>
        <p:spPr>
          <a:xfrm>
            <a:off x="1619280" y="47628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ганизационные мероприя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подготовке и проведению АСДН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2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2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2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2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2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2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29B6-A745-4014-81BA-34FF12B27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2" name="WordArt 4"/>
          <p:cNvSpPr txBox="1"/>
          <p:nvPr/>
        </p:nvSpPr>
        <p:spPr>
          <a:xfrm>
            <a:off x="1042920" y="549360"/>
            <a:ext cx="691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одимые мероприятия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отсутствии угрозы возникновения ЧС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3" name="Text Box 6"/>
          <p:cNvSpPr/>
          <p:nvPr/>
        </p:nvSpPr>
        <p:spPr>
          <a:xfrm>
            <a:off x="539640" y="2133720"/>
            <a:ext cx="8209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бор информации о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планирование АСДНР в возможных зонах 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органов управления 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, оснащение и подготовка группировки сил и средств РСЧС для проведения АСДНР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организация повседневного наблюдения и лабораторного контроля за состоянием окружающей среды, обстановкой на потенциально опасных объектах и на прилегающих  ним территор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создание резервов материальных ресурсов для ликвидации последствий ЧС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2" dur="20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6" dur="20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0" dur="2000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4" dur="2000"/>
                                        <p:tgtEl>
                                          <p:spTgt spid="1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8" dur="2000"/>
                                        <p:tgtEl>
                                          <p:spTgt spid="1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2000"/>
                                        <p:tgtEl>
                                          <p:spTgt spid="1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8E9-BA0B-4498-B1BC-288C9B225CE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5" name="WordArt 4"/>
          <p:cNvSpPr txBox="1"/>
          <p:nvPr/>
        </p:nvSpPr>
        <p:spPr>
          <a:xfrm>
            <a:off x="611280" y="404640"/>
            <a:ext cx="770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одимые мероприят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и угрозе возникновения ЧС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468360" y="191628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приведение органов управления в готовность к выполнению задач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точнение планов по вопросам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усиление наблюдения за состоянием окружающей среды, прогнозирование возможности возникновения ЧС и ее масштабов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Arial Narrow"/>
              </a:rPr>
              <a:t>создание группировок сил и средств и приведение их в готовность к ведению АСДНР (в т.ч. выдвижение их, при необходимости, в предполагаемые районы ЧС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Номер слайда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3865-0FD2-491E-A24C-3C67CBB16E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8" name="WordArt 4"/>
          <p:cNvSpPr txBox="1"/>
          <p:nvPr/>
        </p:nvSpPr>
        <p:spPr>
          <a:xfrm>
            <a:off x="1332000" y="549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одимые мероприятия 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808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 возникновении ЧС</a:t>
            </a:r>
            <a:endParaRPr b="0" lang="en-US" sz="1600" spc="1" strike="noStrike">
              <a:ln w="12600">
                <a:solidFill>
                  <a:srgbClr val="808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9" name="Text Box 5"/>
          <p:cNvSpPr/>
          <p:nvPr/>
        </p:nvSpPr>
        <p:spPr>
          <a:xfrm>
            <a:off x="684360" y="1989000"/>
            <a:ext cx="77752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нарушенных функций управления, если они были нарушены (в т.ч. выдвижение ОГ в районы ЧС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организация разведки зон ЧС, осуществление непрерывного контроля и сбора обстановки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становление боеспособности (или создание) группировки сил и средств и организация их защит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ыдвижение сил в районы проведения работ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управление проведением АСДНР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EF90-6B35-4819-A444-07BAF7086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22" name="Picture 4" descr="фон-16"/>
          <p:cNvPicPr/>
          <p:nvPr/>
        </p:nvPicPr>
        <p:blipFill>
          <a:blip r:embed="rId1"/>
          <a:stretch/>
        </p:blipFill>
        <p:spPr>
          <a:xfrm>
            <a:off x="1332000" y="0"/>
            <a:ext cx="6383160" cy="6858000"/>
          </a:xfrm>
          <a:prstGeom prst="rect">
            <a:avLst/>
          </a:prstGeom>
          <a:ln w="0">
            <a:noFill/>
          </a:ln>
        </p:spPr>
      </p:pic>
      <p:sp>
        <p:nvSpPr>
          <p:cNvPr id="1523" name="WordArt 6"/>
          <p:cNvSpPr txBox="1"/>
          <p:nvPr/>
        </p:nvSpPr>
        <p:spPr>
          <a:xfrm>
            <a:off x="250920" y="620640"/>
            <a:ext cx="6049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бные вопросы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4" name="Text Box 7"/>
          <p:cNvSpPr/>
          <p:nvPr/>
        </p:nvSpPr>
        <p:spPr>
          <a:xfrm>
            <a:off x="1258920" y="2276640"/>
            <a:ext cx="74167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бщие положения по аварийно-спасательным и другим неотложным работам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Организация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>
              <a:lnSpc>
                <a:spcPct val="100000"/>
              </a:lnSpc>
              <a:spcBef>
                <a:spcPts val="1624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Comic Sans MS"/>
              </a:rPr>
              <a:t>Проведение АСДНР в чрезвычайных ситуациях мирного и военного времени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5EDE-3D0D-4D81-91FB-DCA58FC3C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1" name="Picture 4" descr="фон-10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412740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6"/>
          <p:cNvSpPr/>
          <p:nvPr/>
        </p:nvSpPr>
        <p:spPr>
          <a:xfrm>
            <a:off x="1835280" y="1052640"/>
            <a:ext cx="5184720" cy="707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3" name="Text Box 7"/>
          <p:cNvSpPr/>
          <p:nvPr/>
        </p:nvSpPr>
        <p:spPr>
          <a:xfrm>
            <a:off x="2700360" y="3933720"/>
            <a:ext cx="4248000" cy="642600"/>
          </a:xfrm>
          <a:prstGeom prst="rect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4" name="Text Box 8"/>
          <p:cNvSpPr/>
          <p:nvPr/>
        </p:nvSpPr>
        <p:spPr>
          <a:xfrm>
            <a:off x="2700360" y="2781360"/>
            <a:ext cx="4248000" cy="368280"/>
          </a:xfrm>
          <a:prstGeom prst="rect">
            <a:avLst/>
          </a:pr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5" name="Text Box 9"/>
          <p:cNvSpPr/>
          <p:nvPr/>
        </p:nvSpPr>
        <p:spPr>
          <a:xfrm>
            <a:off x="2700360" y="3357720"/>
            <a:ext cx="4248000" cy="36828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6" name="Text Box 10"/>
          <p:cNvSpPr/>
          <p:nvPr/>
        </p:nvSpPr>
        <p:spPr>
          <a:xfrm>
            <a:off x="2700360" y="2205000"/>
            <a:ext cx="4248000" cy="368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7" name="Text Box 11"/>
          <p:cNvSpPr/>
          <p:nvPr/>
        </p:nvSpPr>
        <p:spPr>
          <a:xfrm>
            <a:off x="2700360" y="4797360"/>
            <a:ext cx="4248000" cy="368280"/>
          </a:xfrm>
          <a:prstGeom prst="rect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Организац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8" name="WordArt 12"/>
          <p:cNvSpPr txBox="1"/>
          <p:nvPr/>
        </p:nvSpPr>
        <p:spPr>
          <a:xfrm>
            <a:off x="2195640" y="1268280"/>
            <a:ext cx="44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АСДН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9" name="Line 13"/>
          <p:cNvSpPr/>
          <p:nvPr/>
        </p:nvSpPr>
        <p:spPr>
          <a:xfrm>
            <a:off x="2050920" y="1773360"/>
            <a:ext cx="0" cy="31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0" name="Line 14"/>
          <p:cNvSpPr/>
          <p:nvPr/>
        </p:nvSpPr>
        <p:spPr>
          <a:xfrm>
            <a:off x="2052720" y="4941720"/>
            <a:ext cx="647640" cy="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1" name="Line 15"/>
          <p:cNvSpPr/>
          <p:nvPr/>
        </p:nvSpPr>
        <p:spPr>
          <a:xfrm>
            <a:off x="2052720" y="4149720"/>
            <a:ext cx="647640" cy="0"/>
          </a:xfrm>
          <a:prstGeom prst="line">
            <a:avLst/>
          </a:prstGeom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2" name="Line 16"/>
          <p:cNvSpPr/>
          <p:nvPr/>
        </p:nvSpPr>
        <p:spPr>
          <a:xfrm>
            <a:off x="2050920" y="3502080"/>
            <a:ext cx="64800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3" name="Line 17"/>
          <p:cNvSpPr/>
          <p:nvPr/>
        </p:nvSpPr>
        <p:spPr>
          <a:xfrm>
            <a:off x="2050920" y="2925720"/>
            <a:ext cx="648000" cy="0"/>
          </a:xfrm>
          <a:prstGeom prst="line">
            <a:avLst/>
          </a:prstGeom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4" name="Line 18"/>
          <p:cNvSpPr/>
          <p:nvPr/>
        </p:nvSpPr>
        <p:spPr>
          <a:xfrm>
            <a:off x="2050920" y="2349360"/>
            <a:ext cx="64800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155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1155" fill="hold"/>
                                        <p:tgtEl>
                                          <p:spTgt spid="16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1155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155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1155" fill="hold"/>
                                        <p:tgtEl>
                                          <p:spTgt spid="16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1155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155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1155" fill="hold"/>
                                        <p:tgtEl>
                                          <p:spTgt spid="16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4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6" dur="1155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155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1155" fill="hold"/>
                                        <p:tgtEl>
                                          <p:spTgt spid="16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1155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155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1155" fill="hold"/>
                                        <p:tgtEl>
                                          <p:spTgt spid="1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1155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59C1-AB32-4CED-989D-6FDA2709ECE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6" name="Text Box 4"/>
          <p:cNvSpPr/>
          <p:nvPr/>
        </p:nvSpPr>
        <p:spPr>
          <a:xfrm>
            <a:off x="1763640" y="333360"/>
            <a:ext cx="5832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хнологии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7" name="Text Box 5"/>
          <p:cNvSpPr/>
          <p:nvPr/>
        </p:nvSpPr>
        <p:spPr>
          <a:xfrm>
            <a:off x="755640" y="1054080"/>
            <a:ext cx="23036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ъекты провед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8" name="Text Box 10"/>
          <p:cNvSpPr/>
          <p:nvPr/>
        </p:nvSpPr>
        <p:spPr>
          <a:xfrm>
            <a:off x="327672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ебования к организации и ведению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9" name="Text Box 11"/>
          <p:cNvSpPr/>
          <p:nvPr/>
        </p:nvSpPr>
        <p:spPr>
          <a:xfrm>
            <a:off x="6156360" y="1054080"/>
            <a:ext cx="2663640" cy="423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этапы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95280" y="1630440"/>
            <a:ext cx="266400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зрушенные промышленные здания и гражданские соору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1" name="Text Box 20"/>
          <p:cNvSpPr/>
          <p:nvPr/>
        </p:nvSpPr>
        <p:spPr>
          <a:xfrm>
            <a:off x="395280" y="2349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ммунально-энергетические сети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2" name="Text Box 21"/>
          <p:cNvSpPr/>
          <p:nvPr/>
        </p:nvSpPr>
        <p:spPr>
          <a:xfrm>
            <a:off x="395280" y="3500280"/>
            <a:ext cx="2664000" cy="39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фте-газо-аммиакопровод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3" name="Text Box 22"/>
          <p:cNvSpPr/>
          <p:nvPr/>
        </p:nvSpPr>
        <p:spPr>
          <a:xfrm>
            <a:off x="395280" y="29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топленные объекты и простран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4" name="Text Box 23"/>
          <p:cNvSpPr/>
          <p:nvPr/>
        </p:nvSpPr>
        <p:spPr>
          <a:xfrm>
            <a:off x="395280" y="414972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чаги химического и радиоактивного зараже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5" name="Text Box 24"/>
          <p:cNvSpPr/>
          <p:nvPr/>
        </p:nvSpPr>
        <p:spPr>
          <a:xfrm>
            <a:off x="395280" y="472428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омышленные предприятия, хранилищ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6" name="Text Box 25"/>
          <p:cNvSpPr/>
          <p:nvPr/>
        </p:nvSpPr>
        <p:spPr>
          <a:xfrm>
            <a:off x="395280" y="5300640"/>
            <a:ext cx="2664000" cy="246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ранспортные средств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7" name="Text Box 26"/>
          <p:cNvSpPr/>
          <p:nvPr/>
        </p:nvSpPr>
        <p:spPr>
          <a:xfrm>
            <a:off x="395280" y="5805360"/>
            <a:ext cx="266400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зрыво-пожароопасные объек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8" name="Text Box 27"/>
          <p:cNvSpPr/>
          <p:nvPr/>
        </p:nvSpPr>
        <p:spPr>
          <a:xfrm>
            <a:off x="3276720" y="1628640"/>
            <a:ext cx="2663640" cy="2975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рганизация и проведение работ в короткие сроки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менение способов и технологий, обеспечивающих быструю локализацию и снижение масштабов заражения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остаточная надежность и эффективность работ по ликвидации последствий ЧС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безопасность применяемых способов и технологий для спасателей (формирований) и окружающей среды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9" name="Text Box 28"/>
          <p:cNvSpPr/>
          <p:nvPr/>
        </p:nvSpPr>
        <p:spPr>
          <a:xfrm>
            <a:off x="6156360" y="220500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нженерно-технически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0" name="Text Box 29"/>
          <p:cNvSpPr/>
          <p:nvPr/>
        </p:nvSpPr>
        <p:spPr>
          <a:xfrm>
            <a:off x="6156360" y="1628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щая и спец. разведка района бедствия и объекта работ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Text Box 30"/>
          <p:cNvSpPr/>
          <p:nvPr/>
        </p:nvSpPr>
        <p:spPr>
          <a:xfrm>
            <a:off x="6156360" y="278136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дготови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2" name="Text Box 31"/>
          <p:cNvSpPr/>
          <p:nvPr/>
        </p:nvSpPr>
        <p:spPr>
          <a:xfrm>
            <a:off x="6156360" y="3357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исково-спасательные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3" name="Text Box 32"/>
          <p:cNvSpPr/>
          <p:nvPr/>
        </p:nvSpPr>
        <p:spPr>
          <a:xfrm>
            <a:off x="6156360" y="393372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отложные аварийно-спаса-тельные (технические) работы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Text Box 33"/>
          <p:cNvSpPr/>
          <p:nvPr/>
        </p:nvSpPr>
        <p:spPr>
          <a:xfrm>
            <a:off x="6156360" y="4508640"/>
            <a:ext cx="2663640" cy="23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Ликвидация пожаров на объекта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5" name="Text Box 34"/>
          <p:cNvSpPr/>
          <p:nvPr/>
        </p:nvSpPr>
        <p:spPr>
          <a:xfrm>
            <a:off x="6156360" y="5084640"/>
            <a:ext cx="2663640" cy="37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казание первой медпомощи и эвакуация пострадав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6" name="Text Box 35"/>
          <p:cNvSpPr/>
          <p:nvPr/>
        </p:nvSpPr>
        <p:spPr>
          <a:xfrm>
            <a:off x="6156360" y="5661000"/>
            <a:ext cx="2663640" cy="51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звлечение, эвакуация, опознание и захоронение погибших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Text Box 36"/>
          <p:cNvSpPr/>
          <p:nvPr/>
        </p:nvSpPr>
        <p:spPr>
          <a:xfrm>
            <a:off x="971640" y="6308640"/>
            <a:ext cx="720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аиболее сложным технологическим этапом являются инженерные работы по обеспечению доступа к пострадавшим, их деблокирование и последующее извлечение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F470-50CB-4AEC-AC49-5E37D678E8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9" name="Text Box 4"/>
          <p:cNvSpPr/>
          <p:nvPr/>
        </p:nvSpPr>
        <p:spPr>
          <a:xfrm>
            <a:off x="468360" y="1844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й связ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0" name="Text Box 5"/>
          <p:cNvSpPr/>
          <p:nvPr/>
        </p:nvSpPr>
        <p:spPr>
          <a:xfrm>
            <a:off x="468360" y="24192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бор</a:t>
            </a:r>
            <a:r>
              <a:rPr b="1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нных об обстановке, ее анализ и оценка</a:t>
            </a:r>
            <a:r>
              <a:rPr b="0" lang="ru-RU" sz="1800" spc="-1" strike="noStrike">
                <a:solidFill>
                  <a:srgbClr val="9999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1" name="Text Box 6"/>
          <p:cNvSpPr/>
          <p:nvPr/>
        </p:nvSpPr>
        <p:spPr>
          <a:xfrm>
            <a:off x="468360" y="4148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взаимодействия и обеспечения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2" name="Text Box 7"/>
          <p:cNvSpPr/>
          <p:nvPr/>
        </p:nvSpPr>
        <p:spPr>
          <a:xfrm>
            <a:off x="468360" y="299556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выполнения 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Text Box 8"/>
          <p:cNvSpPr/>
          <p:nvPr/>
        </p:nvSpPr>
        <p:spPr>
          <a:xfrm>
            <a:off x="468360" y="357192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точнение задач, доведение их до подчиненны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4" name="Text Box 9"/>
          <p:cNvSpPr/>
          <p:nvPr/>
        </p:nvSpPr>
        <p:spPr>
          <a:xfrm>
            <a:off x="468360" y="472428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едение учета потерь населения, сил РСЧС(ГО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5" name="Text Box 10"/>
          <p:cNvSpPr/>
          <p:nvPr/>
        </p:nvSpPr>
        <p:spPr>
          <a:xfrm>
            <a:off x="468360" y="530064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мен информацией об обстановке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6" name="Text Box 11"/>
          <p:cNvSpPr/>
          <p:nvPr/>
        </p:nvSpPr>
        <p:spPr>
          <a:xfrm>
            <a:off x="468360" y="5877000"/>
            <a:ext cx="820908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держание устойчивого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7" name="WordArt 12"/>
          <p:cNvSpPr txBox="1"/>
          <p:nvPr/>
        </p:nvSpPr>
        <p:spPr>
          <a:xfrm>
            <a:off x="1476360" y="907920"/>
            <a:ext cx="60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Narrow"/>
              </a:rPr>
              <a:t>Проведение  АСДН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Narrow"/>
              <a:ea typeface="Arial Narrow"/>
            </a:endParaRPr>
          </a:p>
        </p:txBody>
      </p:sp>
    </p:spTree>
  </p:cSld>
  <p:transition spd="slow">
    <p:cut thruBlk="true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E87-F588-4D6D-8D65-92C38E1CE4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9" name="WordArt 4"/>
          <p:cNvSpPr txBox="1"/>
          <p:nvPr/>
        </p:nvSpPr>
        <p:spPr>
          <a:xfrm>
            <a:off x="468360" y="404640"/>
            <a:ext cx="734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рганизация проведения АСДНР</a:t>
            </a:r>
            <a:endParaRPr b="0" lang="en-US" sz="20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0" name="Text Box 5"/>
          <p:cNvSpPr/>
          <p:nvPr/>
        </p:nvSpPr>
        <p:spPr>
          <a:xfrm>
            <a:off x="324000" y="981000"/>
            <a:ext cx="756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варийно-спасательные и другие неотложные работы в ЧС мирного и военного времени проводятся круглосуточно, посменно до полного заверш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1" name="Text Box 6"/>
          <p:cNvSpPr/>
          <p:nvPr/>
        </p:nvSpPr>
        <p:spPr>
          <a:xfrm>
            <a:off x="395280" y="1844640"/>
            <a:ext cx="3168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прерывность работ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2" name="Text Box 7"/>
          <p:cNvSpPr/>
          <p:nvPr/>
        </p:nvSpPr>
        <p:spPr>
          <a:xfrm>
            <a:off x="3924360" y="1844640"/>
            <a:ext cx="439272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пешное выполнение задач про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3" name="Text Box 8"/>
          <p:cNvSpPr/>
          <p:nvPr/>
        </p:nvSpPr>
        <p:spPr>
          <a:xfrm>
            <a:off x="2556000" y="2421000"/>
            <a:ext cx="3168360" cy="29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 О С Т И Г А Е Т С 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4" name="Line 9"/>
          <p:cNvSpPr/>
          <p:nvPr/>
        </p:nvSpPr>
        <p:spPr>
          <a:xfrm>
            <a:off x="2916360" y="2205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5" name="Line 10"/>
          <p:cNvSpPr/>
          <p:nvPr/>
        </p:nvSpPr>
        <p:spPr>
          <a:xfrm flipH="1">
            <a:off x="4716360" y="2205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6" name="Text Box 11"/>
          <p:cNvSpPr/>
          <p:nvPr/>
        </p:nvSpPr>
        <p:spPr>
          <a:xfrm>
            <a:off x="395280" y="3357720"/>
            <a:ext cx="36720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циональной их организацией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еративным и твердым управл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маневром силами 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лным обеспечением необходимыми средствами защиты и материально-техническими средствам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заменой формирований и спасателей с учетом режимов работы в условиях заражения (ОВ, АХОВ, РВ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7" name="Text Box 12"/>
          <p:cNvSpPr/>
          <p:nvPr/>
        </p:nvSpPr>
        <p:spPr>
          <a:xfrm>
            <a:off x="4427640" y="3357720"/>
            <a:ext cx="432108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ой организацией и непрерывным ведением разведк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евременным вводом сил и средств в очаги пораж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благовременным изучением командирами (руководителями) формирований участков (объектов) работ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ей взаимодействия сил и средств, всесторонним их обеспечение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just">
              <a:lnSpc>
                <a:spcPts val="1599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блюдением правил и мер безопасности при проведении работ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8" name="Line 13"/>
          <p:cNvSpPr/>
          <p:nvPr/>
        </p:nvSpPr>
        <p:spPr>
          <a:xfrm flipH="1">
            <a:off x="2484000" y="278136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9" name="Line 14"/>
          <p:cNvSpPr/>
          <p:nvPr/>
        </p:nvSpPr>
        <p:spPr>
          <a:xfrm>
            <a:off x="4572000" y="27813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0" name="Text Box 19"/>
          <p:cNvSpPr/>
          <p:nvPr/>
        </p:nvSpPr>
        <p:spPr>
          <a:xfrm>
            <a:off x="1258920" y="5805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 задачи при проведении АСДНР выполняются в максимально короткие сроки, в три этап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0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777E-7C76-49D4-B115-EE64634BD4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2" name="AutoShape 4"/>
          <p:cNvSpPr/>
          <p:nvPr/>
        </p:nvSpPr>
        <p:spPr>
          <a:xfrm>
            <a:off x="2195640" y="3571920"/>
            <a:ext cx="685800" cy="38088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3" name="AutoShape 5"/>
          <p:cNvSpPr/>
          <p:nvPr/>
        </p:nvSpPr>
        <p:spPr>
          <a:xfrm>
            <a:off x="684360" y="3500280"/>
            <a:ext cx="1449360" cy="513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4" name="AutoShape 6"/>
          <p:cNvSpPr/>
          <p:nvPr/>
        </p:nvSpPr>
        <p:spPr>
          <a:xfrm>
            <a:off x="684360" y="2421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5" name="AutoShape 7"/>
          <p:cNvSpPr/>
          <p:nvPr/>
        </p:nvSpPr>
        <p:spPr>
          <a:xfrm>
            <a:off x="2209680" y="247644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6" name="AutoShape 8"/>
          <p:cNvSpPr/>
          <p:nvPr/>
        </p:nvSpPr>
        <p:spPr>
          <a:xfrm>
            <a:off x="684360" y="4653000"/>
            <a:ext cx="1449360" cy="5126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d8b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III этап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7" name="AutoShape 9"/>
          <p:cNvSpPr/>
          <p:nvPr/>
        </p:nvSpPr>
        <p:spPr>
          <a:xfrm>
            <a:off x="2195640" y="4724280"/>
            <a:ext cx="685800" cy="381240"/>
          </a:xfrm>
          <a:prstGeom prst="pi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8" name="Text Box 10"/>
          <p:cNvSpPr/>
          <p:nvPr/>
        </p:nvSpPr>
        <p:spPr>
          <a:xfrm>
            <a:off x="2916360" y="2205000"/>
            <a:ext cx="5943600" cy="916920"/>
          </a:xfrm>
          <a:prstGeom prst="rect">
            <a:avLst/>
          </a:prstGeom>
          <a:solidFill>
            <a:srgbClr val="ffffe1"/>
          </a:solidFill>
          <a:ln w="9360">
            <a:solidFill>
              <a:srgbClr val="ffaf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мероприятий по экстренной защите и спасению населения и подготовке сил и средств РСЧС к проведению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29" name="Group 16"/>
          <p:cNvGrpSpPr/>
          <p:nvPr/>
        </p:nvGrpSpPr>
        <p:grpSpPr>
          <a:xfrm>
            <a:off x="2916360" y="3355920"/>
            <a:ext cx="5921280" cy="1008000"/>
            <a:chOff x="2916360" y="3355920"/>
            <a:chExt cx="5921280" cy="1008000"/>
          </a:xfrm>
        </p:grpSpPr>
        <p:sp>
          <p:nvSpPr>
            <p:cNvPr id="1730" name="Rectangle 11"/>
            <p:cNvSpPr/>
            <p:nvPr/>
          </p:nvSpPr>
          <p:spPr>
            <a:xfrm>
              <a:off x="2916360" y="3355920"/>
              <a:ext cx="5921280" cy="100800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1" name="Text Box 12"/>
            <p:cNvSpPr/>
            <p:nvPr/>
          </p:nvSpPr>
          <p:spPr>
            <a:xfrm>
              <a:off x="3419640" y="3500280"/>
              <a:ext cx="4836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оведение аварийно-спасательных и других неотложных работ в зонах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32" name="Group 17"/>
          <p:cNvGrpSpPr/>
          <p:nvPr/>
        </p:nvGrpSpPr>
        <p:grpSpPr>
          <a:xfrm>
            <a:off x="2916360" y="4653000"/>
            <a:ext cx="5921280" cy="647640"/>
            <a:chOff x="2916360" y="4653000"/>
            <a:chExt cx="5921280" cy="647640"/>
          </a:xfrm>
        </p:grpSpPr>
        <p:sp>
          <p:nvSpPr>
            <p:cNvPr id="1733" name="Rectangle 13"/>
            <p:cNvSpPr/>
            <p:nvPr/>
          </p:nvSpPr>
          <p:spPr>
            <a:xfrm>
              <a:off x="2916360" y="4653000"/>
              <a:ext cx="5921280" cy="647640"/>
            </a:xfrm>
            <a:prstGeom prst="rect">
              <a:avLst/>
            </a:prstGeom>
            <a:solidFill>
              <a:srgbClr val="ffffe1"/>
            </a:solidFill>
            <a:ln w="9360">
              <a:solidFill>
                <a:srgbClr val="ffaf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4" name="Text Box 14"/>
            <p:cNvSpPr/>
            <p:nvPr/>
          </p:nvSpPr>
          <p:spPr>
            <a:xfrm>
              <a:off x="3708360" y="4724640"/>
              <a:ext cx="39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Ликвидация последствий ЧС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35" name="WordArt 15"/>
          <p:cNvSpPr txBox="1"/>
          <p:nvPr/>
        </p:nvSpPr>
        <p:spPr>
          <a:xfrm>
            <a:off x="1403280" y="333360"/>
            <a:ext cx="67024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тапы проведения аварийно-спасат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других неотложных рабо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1F9-6BBF-438F-B82B-789E5E91B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9520" y="2279520"/>
            <a:ext cx="24908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Экстренная защит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населения и оказание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мощи пострадавшим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овещение о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озникновении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пользование средст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защиты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эвакуация из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айон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блюдение режим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вед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buClr>
                <a:srgbClr val="d80000"/>
              </a:buClr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розыск, извлечение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нос пострадавших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казание им мед. помощ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8" name="Line 5"/>
          <p:cNvSpPr/>
          <p:nvPr/>
        </p:nvSpPr>
        <p:spPr>
          <a:xfrm flipV="1">
            <a:off x="1547640" y="1557360"/>
            <a:ext cx="1800" cy="71928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9" name="Line 7"/>
          <p:cNvSpPr/>
          <p:nvPr/>
        </p:nvSpPr>
        <p:spPr>
          <a:xfrm flipH="1" flipV="1">
            <a:off x="4566960" y="907920"/>
            <a:ext cx="4680" cy="136872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0" name="Rectangle 8"/>
          <p:cNvSpPr/>
          <p:nvPr/>
        </p:nvSpPr>
        <p:spPr>
          <a:xfrm>
            <a:off x="3219480" y="2279520"/>
            <a:ext cx="2557440" cy="3957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редотвращени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и уменьшение опас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воздействий ЧС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локализация очагов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ражен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ерекрытие или подавление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сточников выделения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асных веществ (излучений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остановка ил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тключение технологических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цессов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тушение пожаров;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анитарная обработка и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беззараживание.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1" name="Rectangle 10"/>
          <p:cNvSpPr/>
          <p:nvPr/>
        </p:nvSpPr>
        <p:spPr>
          <a:xfrm>
            <a:off x="6343560" y="2276640"/>
            <a:ext cx="2475000" cy="3957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дготовка к проведению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полномасштабных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                     </a:t>
            </a:r>
            <a:r>
              <a:rPr b="1" lang="ru-RU" sz="1500" spc="-1" strike="noStrike">
                <a:solidFill>
                  <a:srgbClr val="d80000"/>
                </a:solidFill>
                <a:latin typeface="Arial Narrow"/>
              </a:rPr>
              <a:t>АСДНР: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разведк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ценка обстановки и 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гнозирование ее развития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ведение в готовность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рганов управления и сил,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здание группировки сил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 средств РС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движение ОГ и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пределение границ зоны ЧС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инятие решения на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r>
              <a:rPr b="0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2" name="Line 11"/>
          <p:cNvSpPr/>
          <p:nvPr/>
        </p:nvSpPr>
        <p:spPr>
          <a:xfrm>
            <a:off x="7451640" y="1557360"/>
            <a:ext cx="1800" cy="68580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3" name="Rectangle 14"/>
          <p:cNvSpPr/>
          <p:nvPr/>
        </p:nvSpPr>
        <p:spPr>
          <a:xfrm>
            <a:off x="1979640" y="404640"/>
            <a:ext cx="5083200" cy="936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4" name="Line 15"/>
          <p:cNvSpPr/>
          <p:nvPr/>
        </p:nvSpPr>
        <p:spPr>
          <a:xfrm>
            <a:off x="1547640" y="1557360"/>
            <a:ext cx="5904000" cy="0"/>
          </a:xfrm>
          <a:prstGeom prst="line">
            <a:avLst/>
          </a:prstGeom>
          <a:ln w="1908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5" name="WordArt 16"/>
          <p:cNvSpPr txBox="1"/>
          <p:nvPr/>
        </p:nvSpPr>
        <p:spPr>
          <a:xfrm>
            <a:off x="2124000" y="549360"/>
            <a:ext cx="482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1 этап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Принятие экстренных мер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BE8-BD40-4AF3-A38D-B102B3E59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7" name="Text Box 5"/>
          <p:cNvSpPr/>
          <p:nvPr/>
        </p:nvSpPr>
        <p:spPr>
          <a:xfrm>
            <a:off x="539640" y="1557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кончательная выработка решения на 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8" name="Text Box 6"/>
          <p:cNvSpPr/>
          <p:nvPr/>
        </p:nvSpPr>
        <p:spPr>
          <a:xfrm>
            <a:off x="539640" y="2637000"/>
            <a:ext cx="8210520" cy="6120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тановка задач формированиям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9" name="Text Box 7"/>
          <p:cNvSpPr/>
          <p:nvPr/>
        </p:nvSpPr>
        <p:spPr>
          <a:xfrm>
            <a:off x="539640" y="3573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управления, взаимодействия и обеспечения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0" name="Text Box 8"/>
          <p:cNvSpPr/>
          <p:nvPr/>
        </p:nvSpPr>
        <p:spPr>
          <a:xfrm>
            <a:off x="539640" y="558972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нтроль за выполнением поставленных зада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1" name="Text Box 9"/>
          <p:cNvSpPr/>
          <p:nvPr/>
        </p:nvSpPr>
        <p:spPr>
          <a:xfrm>
            <a:off x="539640" y="4581360"/>
            <a:ext cx="8210520" cy="6426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едение АСДНР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2" name="Line 10"/>
          <p:cNvSpPr/>
          <p:nvPr/>
        </p:nvSpPr>
        <p:spPr>
          <a:xfrm>
            <a:off x="4427640" y="2276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3" name="Line 11"/>
          <p:cNvSpPr/>
          <p:nvPr/>
        </p:nvSpPr>
        <p:spPr>
          <a:xfrm>
            <a:off x="442764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4" name="Line 12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5" name="Line 13"/>
          <p:cNvSpPr/>
          <p:nvPr/>
        </p:nvSpPr>
        <p:spPr>
          <a:xfrm>
            <a:off x="4427640" y="5300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6" name="Rectangle 14"/>
          <p:cNvSpPr/>
          <p:nvPr/>
        </p:nvSpPr>
        <p:spPr>
          <a:xfrm>
            <a:off x="1763640" y="333360"/>
            <a:ext cx="5977080" cy="9367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7" name="WordArt 15"/>
          <p:cNvSpPr txBox="1"/>
          <p:nvPr/>
        </p:nvSpPr>
        <p:spPr>
          <a:xfrm>
            <a:off x="1908000" y="47628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2 этап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роведение полномасштабных АСДНР</a:t>
            </a:r>
            <a:endParaRPr b="0" lang="en-US" sz="1600" spc="1" strike="noStrike">
              <a:ln w="19080">
                <a:solidFill>
                  <a:srgbClr val="333333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blinds dir="horz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0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3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0" dur="3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3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2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6" dur="3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0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3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2DE-27BE-4803-BF7D-7E1A85AF97E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59" name="Group 7"/>
          <p:cNvGrpSpPr/>
          <p:nvPr/>
        </p:nvGrpSpPr>
        <p:grpSpPr>
          <a:xfrm>
            <a:off x="1692360" y="476280"/>
            <a:ext cx="6192720" cy="1152360"/>
            <a:chOff x="1692360" y="476280"/>
            <a:chExt cx="6192720" cy="1152360"/>
          </a:xfrm>
        </p:grpSpPr>
        <p:sp>
          <p:nvSpPr>
            <p:cNvPr id="1760" name="WordArt 5"/>
            <p:cNvSpPr txBox="1"/>
            <p:nvPr/>
          </p:nvSpPr>
          <p:spPr>
            <a:xfrm>
              <a:off x="1908000" y="620640"/>
              <a:ext cx="5544720" cy="86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Основные работы 2 этапа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  <a:latin typeface="Arial"/>
                </a:rPr>
                <a:t>в ходе проведения АСДНР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761" name="Rectangle 6"/>
            <p:cNvSpPr/>
            <p:nvPr/>
          </p:nvSpPr>
          <p:spPr>
            <a:xfrm>
              <a:off x="1692360" y="476280"/>
              <a:ext cx="6192720" cy="1152360"/>
            </a:xfrm>
            <a:prstGeom prst="rect">
              <a:avLst/>
            </a:prstGeom>
            <a:noFill/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62" name="Text Box 8"/>
          <p:cNvSpPr/>
          <p:nvPr/>
        </p:nvSpPr>
        <p:spPr>
          <a:xfrm>
            <a:off x="1476360" y="1989000"/>
            <a:ext cx="6696000" cy="55116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Розыск пострадавших, извлечение их из завалов, горящих зданий, поврежденных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3" name="Text Box 9"/>
          <p:cNvSpPr/>
          <p:nvPr/>
        </p:nvSpPr>
        <p:spPr>
          <a:xfrm>
            <a:off x="1476360" y="2637000"/>
            <a:ext cx="6696000" cy="322560"/>
          </a:xfrm>
          <a:prstGeom prst="rect">
            <a:avLst/>
          </a:prstGeom>
          <a:solidFill>
            <a:srgbClr val="ffe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Эвакуация населения из опасных районо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4" name="Text Box 10"/>
          <p:cNvSpPr/>
          <p:nvPr/>
        </p:nvSpPr>
        <p:spPr>
          <a:xfrm>
            <a:off x="1476360" y="3068640"/>
            <a:ext cx="6696000" cy="551160"/>
          </a:xfrm>
          <a:prstGeom prst="rect">
            <a:avLst/>
          </a:prstGeom>
          <a:solidFill>
            <a:srgbClr val="ccffcc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Narrow"/>
              </a:rPr>
              <a:t>Оказание пострадавшим первой медицинской помощи и других видов помощ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476360" y="3716280"/>
            <a:ext cx="6696000" cy="322560"/>
          </a:xfrm>
          <a:prstGeom prst="rect">
            <a:avLst/>
          </a:prstGeom>
          <a:solidFill>
            <a:srgbClr val="f5eb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Narrow"/>
              </a:rPr>
              <a:t>Локализация очага пораж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6" name="Text Box 13"/>
          <p:cNvSpPr/>
          <p:nvPr/>
        </p:nvSpPr>
        <p:spPr>
          <a:xfrm>
            <a:off x="1476360" y="4149720"/>
            <a:ext cx="6696000" cy="551160"/>
          </a:xfrm>
          <a:prstGeom prst="rect">
            <a:avLst/>
          </a:prstGeom>
          <a:solidFill>
            <a:srgbClr val="ffeed5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 Narrow"/>
              </a:rPr>
              <a:t>Разборка завалов, укрепление конструкций, угрожающих обрушением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7" name="Text Box 14"/>
          <p:cNvSpPr/>
          <p:nvPr/>
        </p:nvSpPr>
        <p:spPr>
          <a:xfrm>
            <a:off x="1476360" y="4797360"/>
            <a:ext cx="6696000" cy="5511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м энергетических и коммунальных сетей, линий связи в интересах обеспечения спасатель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1476360" y="5445000"/>
            <a:ext cx="6696000" cy="7797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 Narrow"/>
              </a:rPr>
              <a:t>Проведение специальной обработки (санитарной обработки людей, дегазации, дезактивации техники, имущества, сооружений территорий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9" name="Line 16"/>
          <p:cNvSpPr/>
          <p:nvPr/>
        </p:nvSpPr>
        <p:spPr>
          <a:xfrm flipH="1">
            <a:off x="1115640" y="1052640"/>
            <a:ext cx="5763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1116000" y="1052640"/>
            <a:ext cx="0" cy="475272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1" name="Line 18"/>
          <p:cNvSpPr/>
          <p:nvPr/>
        </p:nvSpPr>
        <p:spPr>
          <a:xfrm>
            <a:off x="1116000" y="2276640"/>
            <a:ext cx="360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2" name="Line 19"/>
          <p:cNvSpPr/>
          <p:nvPr/>
        </p:nvSpPr>
        <p:spPr>
          <a:xfrm>
            <a:off x="1116000" y="2781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3" name="Line 20"/>
          <p:cNvSpPr/>
          <p:nvPr/>
        </p:nvSpPr>
        <p:spPr>
          <a:xfrm>
            <a:off x="1116000" y="32846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4" name="Line 21"/>
          <p:cNvSpPr/>
          <p:nvPr/>
        </p:nvSpPr>
        <p:spPr>
          <a:xfrm>
            <a:off x="1116000" y="3860640"/>
            <a:ext cx="360360" cy="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5" name="Line 22"/>
          <p:cNvSpPr/>
          <p:nvPr/>
        </p:nvSpPr>
        <p:spPr>
          <a:xfrm>
            <a:off x="1116000" y="4437000"/>
            <a:ext cx="360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6" name="Line 23"/>
          <p:cNvSpPr/>
          <p:nvPr/>
        </p:nvSpPr>
        <p:spPr>
          <a:xfrm>
            <a:off x="1116000" y="5084640"/>
            <a:ext cx="3603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7" name="Line 24"/>
          <p:cNvSpPr/>
          <p:nvPr/>
        </p:nvSpPr>
        <p:spPr>
          <a:xfrm>
            <a:off x="1116000" y="5805360"/>
            <a:ext cx="36036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5C7-BB67-4A57-B4DF-A89D4E41351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9" name="Rectangle 4"/>
          <p:cNvSpPr/>
          <p:nvPr/>
        </p:nvSpPr>
        <p:spPr>
          <a:xfrm>
            <a:off x="1619280" y="333360"/>
            <a:ext cx="6192720" cy="1060560"/>
          </a:xfrm>
          <a:prstGeom prst="rect">
            <a:avLst/>
          </a:prstGeom>
          <a:gradFill rotWithShape="0">
            <a:gsLst>
              <a:gs pos="0">
                <a:srgbClr val="f0b362"/>
              </a:gs>
              <a:gs pos="50000">
                <a:srgbClr val="ffffff"/>
              </a:gs>
              <a:gs pos="100000">
                <a:srgbClr val="f0b362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0" name="Rectangle 5"/>
          <p:cNvSpPr/>
          <p:nvPr/>
        </p:nvSpPr>
        <p:spPr>
          <a:xfrm>
            <a:off x="25092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Перв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здание условий 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рганизация первоочередного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изнеобеспечения пострадавшег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се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1" name="Rectangle 6"/>
          <p:cNvSpPr/>
          <p:nvPr/>
        </p:nvSpPr>
        <p:spPr>
          <a:xfrm>
            <a:off x="4788000" y="3357720"/>
            <a:ext cx="4105080" cy="223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 Narrow"/>
              </a:rPr>
              <a:t>Вторая группа работ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2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деятельно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ектов, пострадавших при ЧС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2" name="Line 7"/>
          <p:cNvSpPr/>
          <p:nvPr/>
        </p:nvSpPr>
        <p:spPr>
          <a:xfrm flipH="1">
            <a:off x="2268000" y="1413000"/>
            <a:ext cx="230364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3" name="Line 8"/>
          <p:cNvSpPr/>
          <p:nvPr/>
        </p:nvSpPr>
        <p:spPr>
          <a:xfrm>
            <a:off x="4500720" y="1413000"/>
            <a:ext cx="2303280" cy="194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4" name="WordArt 9"/>
          <p:cNvSpPr txBox="1"/>
          <p:nvPr/>
        </p:nvSpPr>
        <p:spPr>
          <a:xfrm>
            <a:off x="1908000" y="549360"/>
            <a:ext cx="5688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этап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квидация последствий ЧС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0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00C-50F6-4A3D-BBB3-E03C912DA6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6" name="Text Box 5"/>
          <p:cNvSpPr/>
          <p:nvPr/>
        </p:nvSpPr>
        <p:spPr>
          <a:xfrm>
            <a:off x="755640" y="17002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проведения специальной обработки, дезактивация, дегазация             и дезинфекция территории, дорог, сооружений и других объектов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7" name="Text Box 6"/>
          <p:cNvSpPr/>
          <p:nvPr/>
        </p:nvSpPr>
        <p:spPr>
          <a:xfrm>
            <a:off x="755640" y="2781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распределение ресурсов в пользу пострадавшего район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8" name="Text Box 7"/>
          <p:cNvSpPr/>
          <p:nvPr/>
        </p:nvSpPr>
        <p:spPr>
          <a:xfrm>
            <a:off x="755640" y="4941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осстановления систем и объектов первоочередного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9" name="Text Box 8"/>
          <p:cNvSpPr/>
          <p:nvPr/>
        </p:nvSpPr>
        <p:spPr>
          <a:xfrm>
            <a:off x="755640" y="2349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движение в район ЧС мобильных формирований жизне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0" name="Text Box 9"/>
          <p:cNvSpPr/>
          <p:nvPr/>
        </p:nvSpPr>
        <p:spPr>
          <a:xfrm>
            <a:off x="755640" y="623736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эвакуация населен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1" name="Text Box 10"/>
          <p:cNvSpPr/>
          <p:nvPr/>
        </p:nvSpPr>
        <p:spPr>
          <a:xfrm>
            <a:off x="755640" y="429408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топливо - энергетического и транспортного обеспечения работы систем и объектов жизнеобеспече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2" name="Text Box 11"/>
          <p:cNvSpPr/>
          <p:nvPr/>
        </p:nvSpPr>
        <p:spPr>
          <a:xfrm>
            <a:off x="755640" y="558972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медико-санитарного обеспечения и другие необходимые меры. Организация медицинского обслуживания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3" name="WordArt 12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перв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4" name="Text Box 13"/>
          <p:cNvSpPr/>
          <p:nvPr/>
        </p:nvSpPr>
        <p:spPr>
          <a:xfrm>
            <a:off x="755640" y="3213000"/>
            <a:ext cx="7632720" cy="309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ременное размещение населения, оставшегося без кров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5" name="Text Box 14"/>
          <p:cNvSpPr/>
          <p:nvPr/>
        </p:nvSpPr>
        <p:spPr>
          <a:xfrm>
            <a:off x="755640" y="3645000"/>
            <a:ext cx="7632720" cy="525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населения продуктами питания, водой и предметами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omb dir="ver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nodeType="clickEffect" fill="hold">
                      <p:stCondLst>
                        <p:cond delay="0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4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5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4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5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5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5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50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4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5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1B1F-3BA5-4D89-BB61-58567F7F4E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6" name="Text Box 4"/>
          <p:cNvSpPr/>
          <p:nvPr/>
        </p:nvSpPr>
        <p:spPr>
          <a:xfrm>
            <a:off x="611280" y="2421000"/>
            <a:ext cx="777708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Федеральный   закон  «О гражданской обороне» от 12.02.98г. №2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611280" y="41497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. Федеральный   закон «Об аварийно-спасательных службах и статусе спасателей» от 22.08.1995г. №151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611280" y="3139920"/>
            <a:ext cx="7777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Федеральный   закон  «О защите населения    и территорий от чрезвычайных ситуаций природного и техногенного характера» от 21.12.1994г. № 68-ФЗ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9" name="WordArt 8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611280" y="508464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4. "Руководство по действиям органов управления и сил РСЧС при угрозе и возникновении чрезвычайных ситуаций", 1996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FEE-5DB0-4396-BB19-C16D55298CB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7" name="WordArt 4"/>
          <p:cNvSpPr txBox="1"/>
          <p:nvPr/>
        </p:nvSpPr>
        <p:spPr>
          <a:xfrm>
            <a:off x="1332000" y="549360"/>
            <a:ext cx="686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cccc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ffefd1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работ второй группы</a:t>
            </a:r>
            <a:endParaRPr b="0" lang="en-US" sz="1600" spc="1" strike="noStrike">
              <a:ln w="19080">
                <a:solidFill>
                  <a:srgbClr val="cccc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ffefd1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8" name="Text Box 5"/>
          <p:cNvSpPr/>
          <p:nvPr/>
        </p:nvSpPr>
        <p:spPr>
          <a:xfrm>
            <a:off x="900000" y="2276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строительство здани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9" name="Text Box 6"/>
          <p:cNvSpPr/>
          <p:nvPr/>
        </p:nvSpPr>
        <p:spPr>
          <a:xfrm>
            <a:off x="900000" y="3284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энергоснабжения и транспорта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0" name="Text Box 7"/>
          <p:cNvSpPr/>
          <p:nvPr/>
        </p:nvSpPr>
        <p:spPr>
          <a:xfrm>
            <a:off x="900000" y="429264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гидротехнических сооружений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1" name="Text Box 8"/>
          <p:cNvSpPr/>
          <p:nvPr/>
        </p:nvSpPr>
        <p:spPr>
          <a:xfrm>
            <a:off x="900000" y="2781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или установка нового оборудова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2" name="Text Box 9"/>
          <p:cNvSpPr/>
          <p:nvPr/>
        </p:nvSpPr>
        <p:spPr>
          <a:xfrm>
            <a:off x="900000" y="3789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полн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3" name="Text Box 10"/>
          <p:cNvSpPr/>
          <p:nvPr/>
        </p:nvSpPr>
        <p:spPr>
          <a:xfrm>
            <a:off x="900000" y="4797360"/>
            <a:ext cx="7632720" cy="3682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осстановление хозяйственных связей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0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4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5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4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4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5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45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5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5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900-1909-4C89-BA09-75B6775C3C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5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мир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6" name="Text Box 5"/>
          <p:cNvSpPr/>
          <p:nvPr/>
        </p:nvSpPr>
        <p:spPr>
          <a:xfrm>
            <a:off x="250920" y="1557360"/>
            <a:ext cx="76341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и средств для проведения АСДНР определена в «Плане действий по предупреждению и ликвидации последствий ЧС», который вводится в действие Председателем КЧС или руководителем местного самоуправления, организаци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7" name="Text Box 6"/>
          <p:cNvSpPr/>
          <p:nvPr/>
        </p:nvSpPr>
        <p:spPr>
          <a:xfrm>
            <a:off x="2843280" y="278136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ВЛЕКАЮТС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8" name="Text Box 8"/>
          <p:cNvSpPr/>
          <p:nvPr/>
        </p:nvSpPr>
        <p:spPr>
          <a:xfrm>
            <a:off x="250920" y="350208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рриториальные аварийно-спасательные формирования решением КЧС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9" name="Text Box 9"/>
          <p:cNvSpPr/>
          <p:nvPr/>
        </p:nvSpPr>
        <p:spPr>
          <a:xfrm>
            <a:off x="4427640" y="3502080"/>
            <a:ext cx="34574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ъектовые аварийно-спасательные формирования решением объектовой К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0" name="Line 10"/>
          <p:cNvSpPr/>
          <p:nvPr/>
        </p:nvSpPr>
        <p:spPr>
          <a:xfrm flipH="1">
            <a:off x="2410920" y="314172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1" name="Line 11"/>
          <p:cNvSpPr/>
          <p:nvPr/>
        </p:nvSpPr>
        <p:spPr>
          <a:xfrm>
            <a:off x="4427640" y="314172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2" name="Text Box 12"/>
          <p:cNvSpPr/>
          <p:nvPr/>
        </p:nvSpPr>
        <p:spPr>
          <a:xfrm>
            <a:off x="755640" y="5013360"/>
            <a:ext cx="6624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щее количество сил и средств определяется Председателем КЧС с учетом объема выполняем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9B9C-8E4B-45C7-8C20-1544E9FBB2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4" name="Text Box 4"/>
          <p:cNvSpPr/>
          <p:nvPr/>
        </p:nvSpPr>
        <p:spPr>
          <a:xfrm>
            <a:off x="611280" y="476280"/>
            <a:ext cx="7056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Группировка сил и средств для провед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 Narrow"/>
              </a:rPr>
              <a:t>При ЧС военного времен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5" name="Text Box 5"/>
          <p:cNvSpPr/>
          <p:nvPr/>
        </p:nvSpPr>
        <p:spPr>
          <a:xfrm>
            <a:off x="250920" y="1341360"/>
            <a:ext cx="7634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 (на основе оценки прогнозируемой обстановки) отражена в специальном разделе «Плана ГО и защиты населения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ое звено организующее проведение АСДНР – субъект РФ (область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6" name="Text Box 6"/>
          <p:cNvSpPr/>
          <p:nvPr/>
        </p:nvSpPr>
        <p:spPr>
          <a:xfrm>
            <a:off x="2916360" y="2421000"/>
            <a:ext cx="32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ировка си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7" name="Text Box 13"/>
          <p:cNvSpPr/>
          <p:nvPr/>
        </p:nvSpPr>
        <p:spPr>
          <a:xfrm>
            <a:off x="32400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вы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8" name="Text Box 14"/>
          <p:cNvSpPr/>
          <p:nvPr/>
        </p:nvSpPr>
        <p:spPr>
          <a:xfrm>
            <a:off x="324000" y="3357720"/>
            <a:ext cx="266364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обильные, подготовленные и оснащенные техникой силы для выполнения работ в высоком темпе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инские части и подразделения, выделяемые по планам взаимодейств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категорированных городов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службы и формирования привлекаемые в интересах ГО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9" name="Text Box 15"/>
          <p:cNvSpPr/>
          <p:nvPr/>
        </p:nvSpPr>
        <p:spPr>
          <a:xfrm>
            <a:off x="6084720" y="2998800"/>
            <a:ext cx="266400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зерв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0" name="Text Box 16"/>
          <p:cNvSpPr/>
          <p:nvPr/>
        </p:nvSpPr>
        <p:spPr>
          <a:xfrm>
            <a:off x="6084720" y="3357720"/>
            <a:ext cx="266400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внезапно возникающих задач,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замены сил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варийно-спасательные формирования муниципальных образований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, выделяемые по планам взаимодействия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1" name="Text Box 17"/>
          <p:cNvSpPr/>
          <p:nvPr/>
        </p:nvSpPr>
        <p:spPr>
          <a:xfrm>
            <a:off x="3203640" y="2998800"/>
            <a:ext cx="2663640" cy="25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торой эшелон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2" name="Text Box 18"/>
          <p:cNvSpPr/>
          <p:nvPr/>
        </p:nvSpPr>
        <p:spPr>
          <a:xfrm>
            <a:off x="3203640" y="3357720"/>
            <a:ext cx="2663640" cy="19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я наращивания усилий и расширения фронта спасательных работ и замены подразделений первого эшелона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ы ГО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асти и подразделения МО РФ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85680" indent="-85680">
              <a:lnSpc>
                <a:spcPts val="1298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йска ГО с более поздними сроками развертывания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3" name="Line 19"/>
          <p:cNvSpPr/>
          <p:nvPr/>
        </p:nvSpPr>
        <p:spPr>
          <a:xfrm>
            <a:off x="4500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4" name="Line 20"/>
          <p:cNvSpPr/>
          <p:nvPr/>
        </p:nvSpPr>
        <p:spPr>
          <a:xfrm flipH="1">
            <a:off x="2339640" y="278136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5" name="Line 21"/>
          <p:cNvSpPr/>
          <p:nvPr/>
        </p:nvSpPr>
        <p:spPr>
          <a:xfrm>
            <a:off x="5651640" y="2781360"/>
            <a:ext cx="1225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696-BEAD-49D6-B8E3-42D0E29C84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27" name="WordArt 7"/>
          <p:cNvGrpSpPr/>
          <p:nvPr/>
        </p:nvGrpSpPr>
        <p:grpSpPr>
          <a:xfrm>
            <a:off x="1468440" y="974880"/>
            <a:ext cx="6492960" cy="1019160"/>
            <a:chOff x="1468440" y="974880"/>
            <a:chExt cx="6492960" cy="1019160"/>
          </a:xfrm>
        </p:grpSpPr>
        <p:pic>
          <p:nvPicPr>
            <p:cNvPr id="1828" name="WordArt 7" descr=""/>
            <p:cNvPicPr/>
            <p:nvPr/>
          </p:nvPicPr>
          <p:blipFill>
            <a:blip r:embed="rId1"/>
            <a:stretch/>
          </p:blipFill>
          <p:spPr>
            <a:xfrm>
              <a:off x="1468440" y="974880"/>
              <a:ext cx="649296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9" name=""/>
            <p:cNvSpPr/>
            <p:nvPr/>
          </p:nvSpPr>
          <p:spPr>
            <a:xfrm>
              <a:off x="1476360" y="981000"/>
              <a:ext cx="6480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при организации и в ход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дения АСДНР включает: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30" name="Text Box 9"/>
          <p:cNvSpPr/>
          <p:nvPr/>
        </p:nvSpPr>
        <p:spPr>
          <a:xfrm>
            <a:off x="971640" y="2205000"/>
            <a:ext cx="7632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осуществление мероприятий по поддержанию и приведению в готовность органов управления и сил РСЧС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рерывный сбор, анализ и отображение данных обстановки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одготовку расчетов и предложений для принятия начальником ГО (председателем комиссии по ЧС) решен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принятие решений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уточнение планов (планирование действий)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своевременное доведение задач до подчиненны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и поддержание взаимодействи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организацию всестороннего обеспечения привлекаемых сил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99"/>
                </a:solidFill>
                <a:latin typeface="Arial Narrow"/>
              </a:rPr>
              <a:t>непосредственное руководство подразделениями и контроль исполн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split dir="out" orient="vert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0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8" dur="3000"/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4" dur="3000"/>
                                        <p:tgtEl>
                                          <p:spTgt spid="1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0" dur="3000"/>
                                        <p:tgtEl>
                                          <p:spTgt spid="1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6" dur="3000"/>
                                        <p:tgtEl>
                                          <p:spTgt spid="1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2" dur="3000"/>
                                        <p:tgtEl>
                                          <p:spTgt spid="18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1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18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0" dur="3000"/>
                                        <p:tgtEl>
                                          <p:spTgt spid="18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6" dur="3000"/>
                                        <p:tgtEl>
                                          <p:spTgt spid="18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88E2-6872-43BA-A1A8-02D2ACAB9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2" name="Text Box 4"/>
          <p:cNvSpPr/>
          <p:nvPr/>
        </p:nvSpPr>
        <p:spPr>
          <a:xfrm>
            <a:off x="1187280" y="1628640"/>
            <a:ext cx="6985080" cy="398520"/>
          </a:xfrm>
          <a:prstGeom prst="rect">
            <a:avLst/>
          </a:prstGeom>
          <a:noFill/>
          <a:ln w="572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рганизация управления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3" name="Text Box 5"/>
          <p:cNvSpPr/>
          <p:nvPr/>
        </p:nvSpPr>
        <p:spPr>
          <a:xfrm>
            <a:off x="1835280" y="2494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4" name="Text Box 6"/>
          <p:cNvSpPr/>
          <p:nvPr/>
        </p:nvSpPr>
        <p:spPr>
          <a:xfrm>
            <a:off x="1835280" y="321300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нятие решения на ликвидацию 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5" name="Text Box 7"/>
          <p:cNvSpPr/>
          <p:nvPr/>
        </p:nvSpPr>
        <p:spPr>
          <a:xfrm>
            <a:off x="1835280" y="386064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становка задач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6" name="Text Box 8"/>
          <p:cNvSpPr/>
          <p:nvPr/>
        </p:nvSpPr>
        <p:spPr>
          <a:xfrm>
            <a:off x="1835280" y="451008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 и всестороннего обеспеч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7" name="Text Box 9"/>
          <p:cNvSpPr/>
          <p:nvPr/>
        </p:nvSpPr>
        <p:spPr>
          <a:xfrm>
            <a:off x="1835280" y="5157720"/>
            <a:ext cx="6337080" cy="322560"/>
          </a:xfrm>
          <a:prstGeom prst="rect">
            <a:avLst/>
          </a:prstGeom>
          <a:noFill/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управ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8" name="Line 10"/>
          <p:cNvSpPr/>
          <p:nvPr/>
        </p:nvSpPr>
        <p:spPr>
          <a:xfrm>
            <a:off x="1401840" y="2133720"/>
            <a:ext cx="0" cy="3166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9" name="Line 11"/>
          <p:cNvSpPr/>
          <p:nvPr/>
        </p:nvSpPr>
        <p:spPr>
          <a:xfrm>
            <a:off x="1403280" y="530208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0" name="Line 12"/>
          <p:cNvSpPr/>
          <p:nvPr/>
        </p:nvSpPr>
        <p:spPr>
          <a:xfrm>
            <a:off x="1403280" y="4653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1" name="Line 13"/>
          <p:cNvSpPr/>
          <p:nvPr/>
        </p:nvSpPr>
        <p:spPr>
          <a:xfrm>
            <a:off x="1403280" y="400536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2" name="Line 14"/>
          <p:cNvSpPr/>
          <p:nvPr/>
        </p:nvSpPr>
        <p:spPr>
          <a:xfrm>
            <a:off x="1403280" y="335772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3" name="Line 15"/>
          <p:cNvSpPr/>
          <p:nvPr/>
        </p:nvSpPr>
        <p:spPr>
          <a:xfrm>
            <a:off x="1403280" y="2637000"/>
            <a:ext cx="432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006-9CD7-4C5C-8663-B184F451E6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5" name="Text Box 4"/>
          <p:cNvSpPr/>
          <p:nvPr/>
        </p:nvSpPr>
        <p:spPr>
          <a:xfrm>
            <a:off x="1692360" y="1557360"/>
            <a:ext cx="54734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лавная цель управ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6" name="Text Box 5"/>
          <p:cNvSpPr/>
          <p:nvPr/>
        </p:nvSpPr>
        <p:spPr>
          <a:xfrm>
            <a:off x="61128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еспечение эффективного использования сил и средств по спасению людей и выполнению неотложных работ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7" name="Text Box 6"/>
          <p:cNvSpPr/>
          <p:nvPr/>
        </p:nvSpPr>
        <p:spPr>
          <a:xfrm>
            <a:off x="4788000" y="2421000"/>
            <a:ext cx="3457440" cy="90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полнение АСДНР в полном объеме, в короткие сроки и с минимальными потерями сил и насел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8" name="Line 7"/>
          <p:cNvSpPr/>
          <p:nvPr/>
        </p:nvSpPr>
        <p:spPr>
          <a:xfrm flipH="1">
            <a:off x="2771280" y="2060640"/>
            <a:ext cx="129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9" name="Line 8"/>
          <p:cNvSpPr/>
          <p:nvPr/>
        </p:nvSpPr>
        <p:spPr>
          <a:xfrm>
            <a:off x="4788000" y="2060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0" name="Text Box 9"/>
          <p:cNvSpPr/>
          <p:nvPr/>
        </p:nvSpPr>
        <p:spPr>
          <a:xfrm>
            <a:off x="684360" y="3645000"/>
            <a:ext cx="74880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ой управления является Решение руководителей местного самоуправления и организаций (председателя КЧС) и указаний вышестоящего органа управления по ГОЧС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1" name="WordArt 10"/>
          <p:cNvSpPr txBox="1"/>
          <p:nvPr/>
        </p:nvSpPr>
        <p:spPr>
          <a:xfrm>
            <a:off x="1116000" y="692280"/>
            <a:ext cx="6991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в ходе ведения  АСДНР</a:t>
            </a:r>
            <a:endParaRPr b="0" lang="en-US" sz="1600" spc="1" strike="noStrike">
              <a:ln w="19080">
                <a:solidFill>
                  <a:srgbClr val="80008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2" name="Text Box 11"/>
          <p:cNvSpPr/>
          <p:nvPr/>
        </p:nvSpPr>
        <p:spPr>
          <a:xfrm>
            <a:off x="1332000" y="4724280"/>
            <a:ext cx="5976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ребования к управлению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3" name="Line 12"/>
          <p:cNvSpPr/>
          <p:nvPr/>
        </p:nvSpPr>
        <p:spPr>
          <a:xfrm>
            <a:off x="1619280" y="5589720"/>
            <a:ext cx="554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4" name="Text Box 13"/>
          <p:cNvSpPr/>
          <p:nvPr/>
        </p:nvSpPr>
        <p:spPr>
          <a:xfrm>
            <a:off x="334800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Непреры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Text Box 14"/>
          <p:cNvSpPr/>
          <p:nvPr/>
        </p:nvSpPr>
        <p:spPr>
          <a:xfrm>
            <a:off x="6084720" y="5877000"/>
            <a:ext cx="223236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Гибкость и тверд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6" name="Text Box 15"/>
          <p:cNvSpPr/>
          <p:nvPr/>
        </p:nvSpPr>
        <p:spPr>
          <a:xfrm>
            <a:off x="611280" y="5877000"/>
            <a:ext cx="2232000" cy="35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перативность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7" name="Line 16"/>
          <p:cNvSpPr/>
          <p:nvPr/>
        </p:nvSpPr>
        <p:spPr>
          <a:xfrm>
            <a:off x="4427640" y="5157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8" name="Line 17"/>
          <p:cNvSpPr/>
          <p:nvPr/>
        </p:nvSpPr>
        <p:spPr>
          <a:xfrm>
            <a:off x="161928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9" name="Line 18"/>
          <p:cNvSpPr/>
          <p:nvPr/>
        </p:nvSpPr>
        <p:spPr>
          <a:xfrm>
            <a:off x="7164360" y="5589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B2FE-EC0B-417B-8924-509C268F5A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1" name="WordArt 4"/>
          <p:cNvSpPr txBox="1"/>
          <p:nvPr/>
        </p:nvSpPr>
        <p:spPr>
          <a:xfrm>
            <a:off x="971640" y="40464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правление в ходе ведения АСДНР</a:t>
            </a:r>
            <a:endParaRPr b="0" lang="en-US" sz="16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1692360" y="198900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Требования к управлению достигаются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3" name="Text Box 6"/>
          <p:cNvSpPr/>
          <p:nvPr/>
        </p:nvSpPr>
        <p:spPr>
          <a:xfrm>
            <a:off x="611280" y="2565360"/>
            <a:ext cx="8064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приближением пунктов управления (ПУ) к местам действий подразделений (сил и средств)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выполнением задач во взаимодействии с комиссией по ЧС и формированиями аварийного объекта, а также с территориальной комиссией по ЧС и ее оперативной группо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знанием обстановки и быстрым реагированием на ее изменения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настойчивым претворением в жизнь принятых решений и технологий выполнения задач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облюдением мер безопасности при проведении АСДНР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spcBef>
                <a:spcPts val="1125"/>
              </a:spcBef>
              <a:buClr>
                <a:srgbClr val="a5002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C2EC-F52C-4BEE-81DC-19173C3D5F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921440" cy="439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При оценке обстановки командир (руководитель) должен </a:t>
            </a: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изучи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и объем разрушений, пожаров и других поражений на участке работ и пути выдвижения к ни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иды предстоящих работ и их объе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радиационную, химическую и биологическую обстановки (РХБ) и их влияние на выполнение задач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состояние готовности и обеспеченности своего и приданных формирований и их возмож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характер действий и задачи сосед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местности на действия формирования и состояние маршрута выдвижения к очагу поражения и на участок работ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влияние погоды, времени года и суток на выполнение задач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WordArt 7"/>
          <p:cNvSpPr txBox="1"/>
          <p:nvPr/>
        </p:nvSpPr>
        <p:spPr>
          <a:xfrm>
            <a:off x="611280" y="549360"/>
            <a:ext cx="56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0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600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600" fill="hold"/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600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00" fill="hold"/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600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600" fill="hold"/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600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600" fill="hold"/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600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600" fill="hold"/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600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600" fill="hold"/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600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600" fill="hold"/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1600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600" fill="hold"/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C1F-FA37-42B8-A3B3-367E9EC0BD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7921440" cy="49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f1a9"/>
              </a:gs>
            </a:gsLst>
            <a:lin ang="18900000"/>
          </a:gradFill>
          <a:ln w="38160">
            <a:solidFill>
              <a:srgbClr val="cc6600"/>
            </a:solidFill>
            <a:miter/>
          </a:ln>
        </p:spPr>
        <p:txBody>
          <a:bodyPr anchor="t">
            <a:normAutofit fontScale="99000"/>
          </a:bodyPr>
          <a:p>
            <a:pPr marL="262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В оценку обстановки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 Narrow"/>
              </a:rPr>
              <a:t>входит</a:t>
            </a:r>
            <a:r>
              <a:rPr b="1" lang="ru-RU" sz="24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анализ основных факторов обстановки и оценка последствий ЧС (вид экстремальной ситуации, характер и масштабы аварии), тип, характер и масштабы радиоактивного, химического зараж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факторы, осложняющие обстановку (пожары, взрывы и др.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ценка имеющихся сил и средств, состояние их готовности к действию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характер местности в районе аварии, состояние погоды, время года и суток, их возможное влияние на обстановку и выполнение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беспеченность и потребность в материально-технических средствах для выполнения поставленной задач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ыбор наиболее целесообразных вариантов действий населени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определение мероприятий по защите населения и ликвидации последствий ЧС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 algn="just">
              <a:lnSpc>
                <a:spcPct val="100000"/>
              </a:lnSpc>
              <a:spcBef>
                <a:spcPts val="476"/>
              </a:spcBef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Arial Narrow"/>
              </a:rPr>
              <a:t>возможности аварийного объекта и территориальных органов по ликвидации последствий авар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WordArt 5"/>
          <p:cNvSpPr txBox="1"/>
          <p:nvPr/>
        </p:nvSpPr>
        <p:spPr>
          <a:xfrm>
            <a:off x="611280" y="476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ценка обстановки</a:t>
            </a:r>
            <a:endParaRPr b="0" lang="en-US" sz="1600" spc="1" strike="noStrike">
              <a:ln w="19080">
                <a:solidFill>
                  <a:srgbClr val="a50021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0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0" fill="hold"/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3000" fill="hold"/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000" fill="hold"/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000" fill="hold"/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000" fill="hold"/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000" fill="hold"/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3000" fill="hold"/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Номер слайда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157-8809-435F-BFE1-F1D343843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1" name="Rectangle 4"/>
          <p:cNvSpPr/>
          <p:nvPr/>
        </p:nvSpPr>
        <p:spPr>
          <a:xfrm>
            <a:off x="1619280" y="765000"/>
            <a:ext cx="6408720" cy="935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2" name="Rectangle 5"/>
          <p:cNvSpPr/>
          <p:nvPr/>
        </p:nvSpPr>
        <p:spPr>
          <a:xfrm>
            <a:off x="322200" y="2637000"/>
            <a:ext cx="2232000" cy="1439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Уясн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3" name="Rectangle 6"/>
          <p:cNvSpPr/>
          <p:nvPr/>
        </p:nvSpPr>
        <p:spPr>
          <a:xfrm>
            <a:off x="1835280" y="4869000"/>
            <a:ext cx="230328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обстановк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4" name="Rectangle 7"/>
          <p:cNvSpPr/>
          <p:nvPr/>
        </p:nvSpPr>
        <p:spPr>
          <a:xfrm>
            <a:off x="4930920" y="4869000"/>
            <a:ext cx="2350800" cy="1368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Проведе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расчет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6804000" y="2637000"/>
            <a:ext cx="2133720" cy="1401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Сделанны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выводов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6" name="Line 9"/>
          <p:cNvSpPr/>
          <p:nvPr/>
        </p:nvSpPr>
        <p:spPr>
          <a:xfrm flipH="1">
            <a:off x="1402920" y="1700280"/>
            <a:ext cx="331164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7" name="Line 10"/>
          <p:cNvSpPr/>
          <p:nvPr/>
        </p:nvSpPr>
        <p:spPr>
          <a:xfrm flipH="1">
            <a:off x="2987640" y="1700280"/>
            <a:ext cx="17272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4714920" y="1700280"/>
            <a:ext cx="1297080" cy="3168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4714920" y="1700280"/>
            <a:ext cx="3168720" cy="93672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0" name="WordArt 13"/>
          <p:cNvSpPr txBox="1"/>
          <p:nvPr/>
        </p:nvSpPr>
        <p:spPr>
          <a:xfrm>
            <a:off x="1763640" y="981000"/>
            <a:ext cx="61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336666"/>
                    </a:gs>
                    <a:gs pos="50000">
                      <a:srgbClr val="d1ffff"/>
                    </a:gs>
                    <a:gs pos="100000">
                      <a:srgbClr val="3366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            </a:t>
            </a:r>
            <a:endParaRPr b="0" lang="en-US" sz="16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336666"/>
                  </a:gs>
                  <a:gs pos="50000">
                    <a:srgbClr val="d1ffff"/>
                  </a:gs>
                  <a:gs pos="100000">
                    <a:srgbClr val="3366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0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9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8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799-5069-41F1-A631-0FA98823D8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2" name="Text Box 5"/>
          <p:cNvSpPr/>
          <p:nvPr/>
        </p:nvSpPr>
        <p:spPr>
          <a:xfrm>
            <a:off x="971640" y="314172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7. "Руководство по выполнению спасательных и других неотложных работ  в условиях завалов и разрушения зданий и сооружений", 1994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3" name="Text Box 6"/>
          <p:cNvSpPr/>
          <p:nvPr/>
        </p:nvSpPr>
        <p:spPr>
          <a:xfrm>
            <a:off x="971640" y="2205000"/>
            <a:ext cx="7561080" cy="64260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6. "Наставление (для войск ГО и ПСС) по организации и технологии ведения АСДНР при ЧС", М., ВНИИ ГОЧС, 1998 г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4" name="Text Box 7"/>
          <p:cNvSpPr/>
          <p:nvPr/>
        </p:nvSpPr>
        <p:spPr>
          <a:xfrm>
            <a:off x="971640" y="4149720"/>
            <a:ext cx="7561080" cy="1191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ация и ведение гражданской обороны и защиты населения и территорий от чрезвычайных ситуаций природного и техногенного характера / Учебное пособие ; Под общ. ред. Г.Н. Кириллова , г. Москва, 200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5" name="WordArt 9"/>
          <p:cNvSpPr txBox="1"/>
          <p:nvPr/>
        </p:nvSpPr>
        <p:spPr>
          <a:xfrm>
            <a:off x="1187280" y="69228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ормативно-правовые документ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17A-AD7E-4C83-83BD-34E111F37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2" name="AutoShape 2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3" name="WordArt 3"/>
          <p:cNvSpPr txBox="1"/>
          <p:nvPr/>
        </p:nvSpPr>
        <p:spPr>
          <a:xfrm>
            <a:off x="539640" y="836640"/>
            <a:ext cx="806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решения руководителя (председателя КЧС)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предложения должностных лиц ОУ ГОЧС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884" name="Group 4"/>
          <p:cNvGrpSpPr/>
          <p:nvPr/>
        </p:nvGrpSpPr>
        <p:grpSpPr>
          <a:xfrm>
            <a:off x="395280" y="2133720"/>
            <a:ext cx="8424720" cy="2665440"/>
            <a:chOff x="395280" y="2133720"/>
            <a:chExt cx="8424720" cy="2665440"/>
          </a:xfrm>
        </p:grpSpPr>
        <p:sp>
          <p:nvSpPr>
            <p:cNvPr id="1885" name="Text Box 5"/>
            <p:cNvSpPr/>
            <p:nvPr/>
          </p:nvSpPr>
          <p:spPr>
            <a:xfrm>
              <a:off x="684360" y="2206800"/>
              <a:ext cx="51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 Narrow"/>
                </a:rPr>
                <a:t>РЕШЕНИЕ руководителя (постановление КЧС)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6" name="Text Box 6"/>
            <p:cNvSpPr/>
            <p:nvPr/>
          </p:nvSpPr>
          <p:spPr>
            <a:xfrm>
              <a:off x="6948360" y="2133720"/>
              <a:ext cx="1871640" cy="47484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должностных лиц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7" name="Line 7"/>
            <p:cNvSpPr/>
            <p:nvPr/>
          </p:nvSpPr>
          <p:spPr>
            <a:xfrm flipH="1">
              <a:off x="5292360" y="2349360"/>
              <a:ext cx="1655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8" name="Rectangle 8"/>
            <p:cNvSpPr/>
            <p:nvPr/>
          </p:nvSpPr>
          <p:spPr>
            <a:xfrm>
              <a:off x="6948360" y="278280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9" name="Rectangle 9"/>
            <p:cNvSpPr/>
            <p:nvPr/>
          </p:nvSpPr>
          <p:spPr>
            <a:xfrm>
              <a:off x="6804000" y="292572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0" name="Rectangle 10"/>
            <p:cNvSpPr/>
            <p:nvPr/>
          </p:nvSpPr>
          <p:spPr>
            <a:xfrm>
              <a:off x="6659640" y="3070080"/>
              <a:ext cx="1871640" cy="936720"/>
            </a:xfrm>
            <a:prstGeom prst="rect">
              <a:avLst/>
            </a:prstGeom>
            <a:gradFill rotWithShape="0">
              <a:gsLst>
                <a:gs pos="0">
                  <a:srgbClr val="d1f0ff"/>
                </a:gs>
                <a:gs pos="50000">
                  <a:srgbClr val="ffffff"/>
                </a:gs>
                <a:gs pos="100000">
                  <a:srgbClr val="d1f0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1" name="AutoShape 11"/>
            <p:cNvSpPr/>
            <p:nvPr/>
          </p:nvSpPr>
          <p:spPr>
            <a:xfrm>
              <a:off x="6012000" y="3214800"/>
              <a:ext cx="2376360" cy="934920"/>
            </a:xfrm>
            <a:prstGeom prst="leftArrowCallout">
              <a:avLst>
                <a:gd name="adj1" fmla="val 21224"/>
                <a:gd name="adj2" fmla="val 31324"/>
                <a:gd name="adj3" fmla="val 34126"/>
                <a:gd name="adj4" fmla="val 81234"/>
              </a:avLst>
            </a:prstGeom>
            <a:gradFill rotWithShape="0">
              <a:gsLst>
                <a:gs pos="0">
                  <a:srgbClr val="d1f0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2" name="Text Box 12"/>
            <p:cNvSpPr/>
            <p:nvPr/>
          </p:nvSpPr>
          <p:spPr>
            <a:xfrm>
              <a:off x="6516720" y="3286080"/>
              <a:ext cx="18003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397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Arial Narrow"/>
                </a:rPr>
                <a:t>Выводы </a:t>
              </a:r>
              <a:r>
                <a:rPr b="0" lang="ru-RU" sz="1400" spc="-1" strike="noStrike">
                  <a:solidFill>
                    <a:srgbClr val="000099"/>
                  </a:solidFill>
                  <a:latin typeface="Arial Narrow"/>
                </a:rPr>
                <a:t>из оценки каждого элемента обстановки, влияющие на выполнени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893" name="Group 13"/>
            <p:cNvGrpSpPr/>
            <p:nvPr/>
          </p:nvGrpSpPr>
          <p:grpSpPr>
            <a:xfrm>
              <a:off x="2556000" y="2782800"/>
              <a:ext cx="3456000" cy="1977480"/>
              <a:chOff x="2556000" y="2782800"/>
              <a:chExt cx="3456000" cy="1977480"/>
            </a:xfrm>
          </p:grpSpPr>
          <p:sp>
            <p:nvSpPr>
              <p:cNvPr id="1894" name="Text Box 14"/>
              <p:cNvSpPr/>
              <p:nvPr/>
            </p:nvSpPr>
            <p:spPr>
              <a:xfrm>
                <a:off x="2556000" y="2782800"/>
                <a:ext cx="3456000" cy="85572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уяснения задач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99"/>
                    </a:solidFill>
                    <a:latin typeface="Arial Narrow"/>
                  </a:rPr>
                  <a:t>Цель предстоящих действий, основные задачи, порядок взаимодействия, сроки выполнения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5" name="Text Box 15"/>
              <p:cNvSpPr/>
              <p:nvPr/>
            </p:nvSpPr>
            <p:spPr>
              <a:xfrm>
                <a:off x="2556000" y="3646440"/>
                <a:ext cx="3456000" cy="474840"/>
              </a:xfrm>
              <a:prstGeom prst="rect">
                <a:avLst/>
              </a:prstGeom>
              <a:gradFill rotWithShape="0">
                <a:gsLst>
                  <a:gs pos="0">
                    <a:srgbClr val="d1ffff"/>
                  </a:gs>
                  <a:gs pos="50000">
                    <a:srgbClr val="ffffff"/>
                  </a:gs>
                  <a:gs pos="100000">
                    <a:srgbClr val="d1ffff"/>
                  </a:gs>
                </a:gsLst>
                <a:lin ang="5400000"/>
              </a:gradFill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99"/>
                    </a:solidFill>
                    <a:latin typeface="Arial Narrow"/>
                  </a:rPr>
                  <a:t>Выводы из оценки обстановки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6" name="Text Box 16"/>
              <p:cNvSpPr/>
              <p:nvPr/>
            </p:nvSpPr>
            <p:spPr>
              <a:xfrm>
                <a:off x="255600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Характер 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озможн. последст.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7" name="Text Box 17"/>
              <p:cNvSpPr/>
              <p:nvPr/>
            </p:nvSpPr>
            <p:spPr>
              <a:xfrm>
                <a:off x="341964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Свои силы, соседи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8" name="Text Box 18"/>
              <p:cNvSpPr/>
              <p:nvPr/>
            </p:nvSpPr>
            <p:spPr>
              <a:xfrm>
                <a:off x="514692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Время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99" name="Text Box 19"/>
              <p:cNvSpPr/>
              <p:nvPr/>
            </p:nvSpPr>
            <p:spPr>
              <a:xfrm>
                <a:off x="4283280" y="4006800"/>
                <a:ext cx="863640" cy="753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Район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000099"/>
                    </a:solidFill>
                    <a:latin typeface="Arial Narrow"/>
                  </a:rPr>
                  <a:t>ЧС</a:t>
                </a: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900" name="AutoShape 20"/>
            <p:cNvSpPr/>
            <p:nvPr/>
          </p:nvSpPr>
          <p:spPr>
            <a:xfrm>
              <a:off x="395280" y="2782800"/>
              <a:ext cx="1657440" cy="2016360"/>
            </a:xfrm>
            <a:custGeom>
              <a:avLst/>
              <a:gdLst>
                <a:gd name="textAreaLeft" fmla="*/ 80640 w 1657440"/>
                <a:gd name="textAreaRight" fmla="*/ 1576800 w 1657440"/>
                <a:gd name="textAreaTop" fmla="*/ 80640 h 2016360"/>
                <a:gd name="textAreaBottom" fmla="*/ 1935720 h 2016360"/>
              </a:gdLst>
              <a:ahLst/>
              <a:rect l="textAreaLeft" t="textAreaTop" r="textAreaRight" b="textAreaBottom"/>
              <a:pathLst>
                <a:path w="21600" h="26276">
                  <a:moveTo>
                    <a:pt x="3600" y="0"/>
                  </a:moveTo>
                  <a:arcTo wR="3600" hR="3600" stAng="16200000" swAng="-5400000"/>
                  <a:lnTo>
                    <a:pt x="0" y="22676"/>
                  </a:lnTo>
                  <a:arcTo wR="3600" hR="3600" stAng="10800000" swAng="-5400000"/>
                  <a:lnTo>
                    <a:pt x="18000" y="262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1" name="Text Box 21"/>
            <p:cNvSpPr/>
            <p:nvPr/>
          </p:nvSpPr>
          <p:spPr>
            <a:xfrm>
              <a:off x="395280" y="3357720"/>
              <a:ext cx="15843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Мотивацион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2" name="AutoShape 22"/>
            <p:cNvSpPr/>
            <p:nvPr/>
          </p:nvSpPr>
          <p:spPr>
            <a:xfrm>
              <a:off x="2124000" y="2782800"/>
              <a:ext cx="360360" cy="2016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2560 h 2016360"/>
                <a:gd name="textAreaBottom" fmla="*/ 1963800 h 20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0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E10-5129-4BC3-96DB-BF3E00AE3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4" name="AutoShape 4"/>
          <p:cNvSpPr/>
          <p:nvPr/>
        </p:nvSpPr>
        <p:spPr>
          <a:xfrm>
            <a:off x="0" y="-171360"/>
            <a:ext cx="9144000" cy="702936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05" name="Group 59"/>
          <p:cNvGrpSpPr/>
          <p:nvPr/>
        </p:nvGrpSpPr>
        <p:grpSpPr>
          <a:xfrm>
            <a:off x="395280" y="2016000"/>
            <a:ext cx="8569440" cy="3393360"/>
            <a:chOff x="395280" y="2016000"/>
            <a:chExt cx="8569440" cy="3393360"/>
          </a:xfrm>
        </p:grpSpPr>
        <p:sp>
          <p:nvSpPr>
            <p:cNvPr id="1906" name="Text Box 8"/>
            <p:cNvSpPr/>
            <p:nvPr/>
          </p:nvSpPr>
          <p:spPr>
            <a:xfrm>
              <a:off x="7524720" y="2016000"/>
              <a:ext cx="1332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замысел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7" name="AutoShape 22"/>
            <p:cNvSpPr/>
            <p:nvPr/>
          </p:nvSpPr>
          <p:spPr>
            <a:xfrm>
              <a:off x="395280" y="2681280"/>
              <a:ext cx="1512720" cy="2066760"/>
            </a:xfrm>
            <a:custGeom>
              <a:avLst/>
              <a:gdLst>
                <a:gd name="textAreaLeft" fmla="*/ 73800 w 1512720"/>
                <a:gd name="textAreaRight" fmla="*/ 1438920 w 1512720"/>
                <a:gd name="textAreaTop" fmla="*/ 73800 h 2066760"/>
                <a:gd name="textAreaBottom" fmla="*/ 1992960 h 2066760"/>
              </a:gdLst>
              <a:ahLst/>
              <a:rect l="textAreaLeft" t="textAreaTop" r="textAreaRight" b="textAreaBottom"/>
              <a:pathLst>
                <a:path w="21600" h="29509">
                  <a:moveTo>
                    <a:pt x="3600" y="0"/>
                  </a:moveTo>
                  <a:arcTo wR="3600" hR="3600" stAng="16200000" swAng="-5400000"/>
                  <a:lnTo>
                    <a:pt x="0" y="25909"/>
                  </a:lnTo>
                  <a:arcTo wR="3600" hR="3600" stAng="10800000" swAng="-5400000"/>
                  <a:lnTo>
                    <a:pt x="18000" y="29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8" name="Text Box 23"/>
            <p:cNvSpPr/>
            <p:nvPr/>
          </p:nvSpPr>
          <p:spPr>
            <a:xfrm>
              <a:off x="395280" y="3270240"/>
              <a:ext cx="151272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Содержательная 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09" name="AutoShape 24"/>
            <p:cNvSpPr/>
            <p:nvPr/>
          </p:nvSpPr>
          <p:spPr>
            <a:xfrm>
              <a:off x="1979640" y="2679840"/>
              <a:ext cx="360360" cy="20667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3640 h 2066760"/>
                <a:gd name="textAreaBottom" fmla="*/ 2013120 h 20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0" name="Text Box 44"/>
            <p:cNvSpPr/>
            <p:nvPr/>
          </p:nvSpPr>
          <p:spPr>
            <a:xfrm>
              <a:off x="2411280" y="267984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Цель предстоящих действ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1" name="Text Box 45"/>
            <p:cNvSpPr/>
            <p:nvPr/>
          </p:nvSpPr>
          <p:spPr>
            <a:xfrm>
              <a:off x="2411280" y="319572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пособы проведения работ, направления основных усилий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2" name="Text Box 46"/>
            <p:cNvSpPr/>
            <p:nvPr/>
          </p:nvSpPr>
          <p:spPr>
            <a:xfrm>
              <a:off x="2411280" y="3713040"/>
              <a:ext cx="4896000" cy="5526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сновные задачи, сроки, порядок и способы их реш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3" name="Text Box 47"/>
            <p:cNvSpPr/>
            <p:nvPr/>
          </p:nvSpPr>
          <p:spPr>
            <a:xfrm>
              <a:off x="2411280" y="4229280"/>
              <a:ext cx="4896000" cy="55224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Группировка сил, ее построение, возможный маневр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4" name="AutoShape 48"/>
            <p:cNvSpPr/>
            <p:nvPr/>
          </p:nvSpPr>
          <p:spPr>
            <a:xfrm rot="16200000">
              <a:off x="7947720" y="2400840"/>
              <a:ext cx="665280" cy="1368360"/>
            </a:xfrm>
            <a:prstGeom prst="wedgeRectCallout">
              <a:avLst>
                <a:gd name="adj1" fmla="val -141199"/>
                <a:gd name="adj2" fmla="val -74944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15" name="Text Box 49"/>
            <p:cNvSpPr/>
            <p:nvPr/>
          </p:nvSpPr>
          <p:spPr>
            <a:xfrm>
              <a:off x="7667640" y="2825640"/>
              <a:ext cx="122544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Как решать основные задачи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16" name="Group 54"/>
            <p:cNvGrpSpPr/>
            <p:nvPr/>
          </p:nvGrpSpPr>
          <p:grpSpPr>
            <a:xfrm>
              <a:off x="7596360" y="4228920"/>
              <a:ext cx="1368360" cy="1180440"/>
              <a:chOff x="7596360" y="4228920"/>
              <a:chExt cx="1368360" cy="1180440"/>
            </a:xfrm>
          </p:grpSpPr>
          <p:sp>
            <p:nvSpPr>
              <p:cNvPr id="1917" name="AutoShape 52"/>
              <p:cNvSpPr/>
              <p:nvPr/>
            </p:nvSpPr>
            <p:spPr>
              <a:xfrm rot="16200000">
                <a:off x="7690320" y="4134960"/>
                <a:ext cx="1180440" cy="1368360"/>
              </a:xfrm>
              <a:prstGeom prst="wedgeRectCallout">
                <a:avLst>
                  <a:gd name="adj1" fmla="val 43384"/>
                  <a:gd name="adj2" fmla="val -74365"/>
                </a:avLst>
              </a:prstGeom>
              <a:gradFill rotWithShape="0">
                <a:gsLst>
                  <a:gs pos="0">
                    <a:srgbClr val="ebffff"/>
                  </a:gs>
                  <a:gs pos="50000">
                    <a:srgbClr val="f3ffff"/>
                  </a:gs>
                  <a:gs pos="100000">
                    <a:srgbClr val="ebffff"/>
                  </a:gs>
                </a:gsLst>
                <a:lin ang="10800000"/>
              </a:gradFill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18" name="Text Box 53"/>
              <p:cNvSpPr/>
              <p:nvPr/>
            </p:nvSpPr>
            <p:spPr>
              <a:xfrm>
                <a:off x="7667640" y="4302360"/>
                <a:ext cx="1225440" cy="10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 Narrow"/>
                  </a:rPr>
                  <a:t>Какую иметь группировку сил, порядок ее построения, характер маневра</a:t>
                </a:r>
                <a:endParaRPr b="0" lang="en-US" sz="1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919" name="WordArt 58"/>
          <p:cNvSpPr txBox="1"/>
          <p:nvPr/>
        </p:nvSpPr>
        <p:spPr>
          <a:xfrm>
            <a:off x="3276720" y="1484280"/>
            <a:ext cx="2879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мысел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nodeType="clickEffect" fill="hold">
                      <p:stCondLst>
                        <p:cond delay="0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57E0-2B03-4591-9D72-629AB878A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1" name="AutoShape 4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606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22" name="Group 40"/>
          <p:cNvGrpSpPr/>
          <p:nvPr/>
        </p:nvGrpSpPr>
        <p:grpSpPr>
          <a:xfrm>
            <a:off x="179280" y="333360"/>
            <a:ext cx="8785440" cy="6211080"/>
            <a:chOff x="179280" y="333360"/>
            <a:chExt cx="8785440" cy="6211080"/>
          </a:xfrm>
        </p:grpSpPr>
        <p:sp>
          <p:nvSpPr>
            <p:cNvPr id="1923" name="Text Box 5"/>
            <p:cNvSpPr/>
            <p:nvPr/>
          </p:nvSpPr>
          <p:spPr>
            <a:xfrm>
              <a:off x="2627280" y="333360"/>
              <a:ext cx="39607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 Narrow"/>
                </a:rPr>
                <a:t>РЕШИЛ (ПРИКАЗЫВАЮ)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Задачи подчиненным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4" name="Text Box 6"/>
            <p:cNvSpPr/>
            <p:nvPr/>
          </p:nvSpPr>
          <p:spPr>
            <a:xfrm>
              <a:off x="7380360" y="692280"/>
              <a:ext cx="13320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редлож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в  приказную часть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5" name="AutoShape 7"/>
            <p:cNvSpPr/>
            <p:nvPr/>
          </p:nvSpPr>
          <p:spPr>
            <a:xfrm>
              <a:off x="179280" y="2852640"/>
              <a:ext cx="1513080" cy="2016360"/>
            </a:xfrm>
            <a:custGeom>
              <a:avLst/>
              <a:gdLst>
                <a:gd name="textAreaLeft" fmla="*/ 73800 w 1513080"/>
                <a:gd name="textAreaRight" fmla="*/ 1439280 w 1513080"/>
                <a:gd name="textAreaTop" fmla="*/ 73800 h 2016360"/>
                <a:gd name="textAreaBottom" fmla="*/ 1942560 h 201636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6" name="Text Box 8"/>
            <p:cNvSpPr/>
            <p:nvPr/>
          </p:nvSpPr>
          <p:spPr>
            <a:xfrm>
              <a:off x="179280" y="3427560"/>
              <a:ext cx="151308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Приказная (распоряди-тельная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часть 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решен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7" name="AutoShape 9"/>
            <p:cNvSpPr/>
            <p:nvPr/>
          </p:nvSpPr>
          <p:spPr>
            <a:xfrm>
              <a:off x="1763640" y="1268280"/>
              <a:ext cx="360360" cy="46818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122040 h 4681800"/>
                <a:gd name="textAreaBottom" fmla="*/ 4559760 h 46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8" name="Text Box 10"/>
            <p:cNvSpPr/>
            <p:nvPr/>
          </p:nvSpPr>
          <p:spPr>
            <a:xfrm>
              <a:off x="2124000" y="126828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ются действия для решения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29" name="Text Box 11"/>
            <p:cNvSpPr/>
            <p:nvPr/>
          </p:nvSpPr>
          <p:spPr>
            <a:xfrm>
              <a:off x="2124000" y="2349360"/>
              <a:ext cx="4896000" cy="54000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99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Определяется порядок взаимодействия в ходе совместных действий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2124000" y="479736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Порядок управления действиями привлекаемых сил при решении основных задач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1" name="Text Box 13"/>
            <p:cNvSpPr/>
            <p:nvPr/>
          </p:nvSpPr>
          <p:spPr>
            <a:xfrm>
              <a:off x="2124000" y="5373720"/>
              <a:ext cx="4896000" cy="611280"/>
            </a:xfrm>
            <a:prstGeom prst="rect">
              <a:avLst/>
            </a:prstGeom>
            <a:gradFill rotWithShape="0">
              <a:gsLst>
                <a:gs pos="0">
                  <a:srgbClr val="d1ffff"/>
                </a:gs>
                <a:gs pos="50000">
                  <a:srgbClr val="ffffff"/>
                </a:gs>
                <a:gs pos="100000">
                  <a:srgbClr val="d1ffff"/>
                </a:gs>
              </a:gsLst>
              <a:lin ang="54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5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Arial Narrow"/>
                </a:rPr>
                <a:t>С каких пунктов управления будет осуществляться управление привлекаемыми силами, очередность взятия управления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2" name="AutoShape 17"/>
            <p:cNvSpPr/>
            <p:nvPr/>
          </p:nvSpPr>
          <p:spPr>
            <a:xfrm rot="16200000">
              <a:off x="7632000" y="1161000"/>
              <a:ext cx="1081080" cy="1584360"/>
            </a:xfrm>
            <a:prstGeom prst="wedgeRectCallout">
              <a:avLst>
                <a:gd name="adj1" fmla="val 56458"/>
                <a:gd name="adj2" fmla="val -74449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3" name="Text Box 18"/>
            <p:cNvSpPr/>
            <p:nvPr/>
          </p:nvSpPr>
          <p:spPr>
            <a:xfrm>
              <a:off x="7524720" y="1486080"/>
              <a:ext cx="128592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Задачи группировкам сил для реализации замысла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4" name="Text Box 19"/>
            <p:cNvSpPr/>
            <p:nvPr/>
          </p:nvSpPr>
          <p:spPr>
            <a:xfrm>
              <a:off x="2627280" y="191628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взаимодейств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5" name="Text Box 20"/>
            <p:cNvSpPr/>
            <p:nvPr/>
          </p:nvSpPr>
          <p:spPr>
            <a:xfrm>
              <a:off x="2627280" y="306864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обеспеч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6" name="Text Box 24"/>
            <p:cNvSpPr/>
            <p:nvPr/>
          </p:nvSpPr>
          <p:spPr>
            <a:xfrm>
              <a:off x="2124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Специальн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7" name="Text Box 25"/>
            <p:cNvSpPr/>
            <p:nvPr/>
          </p:nvSpPr>
          <p:spPr>
            <a:xfrm>
              <a:off x="3348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ехни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8" name="Text Box 26"/>
            <p:cNvSpPr/>
            <p:nvPr/>
          </p:nvSpPr>
          <p:spPr>
            <a:xfrm>
              <a:off x="5796000" y="3500280"/>
              <a:ext cx="122400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Морально-психологи-ческ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39" name="Text Box 27"/>
            <p:cNvSpPr/>
            <p:nvPr/>
          </p:nvSpPr>
          <p:spPr>
            <a:xfrm>
              <a:off x="4572000" y="3500280"/>
              <a:ext cx="1295280" cy="7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1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99"/>
                  </a:solidFill>
                  <a:latin typeface="Arial Narrow"/>
                </a:rPr>
                <a:t>Тыловое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0" name="Text Box 28"/>
            <p:cNvSpPr/>
            <p:nvPr/>
          </p:nvSpPr>
          <p:spPr>
            <a:xfrm>
              <a:off x="2627280" y="43657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Указания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1" name="AutoShape 30"/>
            <p:cNvSpPr/>
            <p:nvPr/>
          </p:nvSpPr>
          <p:spPr>
            <a:xfrm rot="16200000">
              <a:off x="7452720" y="4293000"/>
              <a:ext cx="1439640" cy="1584360"/>
            </a:xfrm>
            <a:prstGeom prst="wedgeRectCallout">
              <a:avLst>
                <a:gd name="adj1" fmla="val -43055"/>
                <a:gd name="adj2" fmla="val -76657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2" name="Text Box 31"/>
            <p:cNvSpPr/>
            <p:nvPr/>
          </p:nvSpPr>
          <p:spPr>
            <a:xfrm>
              <a:off x="7380360" y="4437000"/>
              <a:ext cx="1584360" cy="14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 Narrow"/>
                </a:rPr>
                <a:t>Какой пункт управ-ления будет команд-ным, необходимые силы и средства для обеспечения его функ ционирования, оче-редность взятия управления</a:t>
              </a:r>
              <a:endParaRPr b="0" lang="en-US" sz="13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3" name="AutoShape 33"/>
            <p:cNvSpPr/>
            <p:nvPr/>
          </p:nvSpPr>
          <p:spPr>
            <a:xfrm rot="16200000">
              <a:off x="7740000" y="3069000"/>
              <a:ext cx="865080" cy="1584360"/>
            </a:xfrm>
            <a:prstGeom prst="wedgeRectCallout">
              <a:avLst>
                <a:gd name="adj1" fmla="val 32935"/>
                <a:gd name="adj2" fmla="val -74750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4" name="Text Box 34"/>
            <p:cNvSpPr/>
            <p:nvPr/>
          </p:nvSpPr>
          <p:spPr>
            <a:xfrm>
              <a:off x="7462800" y="3500280"/>
              <a:ext cx="141912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и спосо-бы обеспечения, проводимые мероприятия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5" name="AutoShape 36"/>
            <p:cNvSpPr/>
            <p:nvPr/>
          </p:nvSpPr>
          <p:spPr>
            <a:xfrm rot="16200000">
              <a:off x="7765200" y="2169000"/>
              <a:ext cx="792360" cy="1584360"/>
            </a:xfrm>
            <a:prstGeom prst="wedgeRectCallout">
              <a:avLst>
                <a:gd name="adj1" fmla="val 53805"/>
                <a:gd name="adj2" fmla="val -76055"/>
              </a:avLst>
            </a:prstGeom>
            <a:gradFill rotWithShape="0">
              <a:gsLst>
                <a:gs pos="0">
                  <a:srgbClr val="ebffff"/>
                </a:gs>
                <a:gs pos="50000">
                  <a:srgbClr val="f3ffff"/>
                </a:gs>
                <a:gs pos="100000">
                  <a:srgbClr val="ebffff"/>
                </a:gs>
              </a:gsLst>
              <a:lin ang="10800000"/>
            </a:gradFill>
            <a:ln w="1908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6" name="Text Box 37"/>
            <p:cNvSpPr/>
            <p:nvPr/>
          </p:nvSpPr>
          <p:spPr>
            <a:xfrm>
              <a:off x="7451640" y="2637000"/>
              <a:ext cx="141948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Narrow"/>
                </a:rPr>
                <a:t>Порядок взаимодействия привлекаемых сил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7" name="Text Box 38"/>
            <p:cNvSpPr/>
            <p:nvPr/>
          </p:nvSpPr>
          <p:spPr>
            <a:xfrm>
              <a:off x="611280" y="6237360"/>
              <a:ext cx="69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99"/>
                  </a:solidFill>
                  <a:uFillTx/>
                  <a:latin typeface="Arial Narrow"/>
                </a:rPr>
                <a:t>Вопросы для согласования со старшим начальником </a:t>
              </a:r>
              <a:r>
                <a:rPr b="1" i="1" lang="ru-RU" sz="1400" spc="-1" strike="noStrike">
                  <a:solidFill>
                    <a:srgbClr val="000099"/>
                  </a:solidFill>
                  <a:latin typeface="Arial Narrow"/>
                </a:rPr>
                <a:t>(при необходимости)</a:t>
              </a:r>
              <a:endParaRPr b="0" lang="en-US" sz="1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fade thruBlk="true"/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nodeType="clickEffect" fill="hold">
                      <p:stCondLst>
                        <p:cond delay="0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4" dur="5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30A-CB57-42D4-8734-F84EF53B353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9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замысла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0" name="Text Box 5"/>
          <p:cNvSpPr/>
          <p:nvPr/>
        </p:nvSpPr>
        <p:spPr>
          <a:xfrm>
            <a:off x="900000" y="249228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Цели, объем и характер предстоящих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1" name="Text Box 6"/>
          <p:cNvSpPr/>
          <p:nvPr/>
        </p:nvSpPr>
        <p:spPr>
          <a:xfrm>
            <a:off x="900000" y="3573360"/>
            <a:ext cx="7559640" cy="755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частки сосредоточения основных усил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2" name="Text Box 7"/>
          <p:cNvSpPr/>
          <p:nvPr/>
        </p:nvSpPr>
        <p:spPr>
          <a:xfrm>
            <a:off x="900000" y="465300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сновные задачи, сроки, последовательность и способы технологи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3" name="Text Box 8"/>
          <p:cNvSpPr/>
          <p:nvPr/>
        </p:nvSpPr>
        <p:spPr>
          <a:xfrm>
            <a:off x="900000" y="5734080"/>
            <a:ext cx="7559640" cy="76428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Группировка сил (состав, количество), ее построение, возможный маневр, материально-техническое обеспечени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4" name="AutoShape 9"/>
          <p:cNvSpPr/>
          <p:nvPr/>
        </p:nvSpPr>
        <p:spPr>
          <a:xfrm>
            <a:off x="4356000" y="328464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5" name="AutoShape 10"/>
          <p:cNvSpPr/>
          <p:nvPr/>
        </p:nvSpPr>
        <p:spPr>
          <a:xfrm>
            <a:off x="4356000" y="436572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6" name="AutoShape 11"/>
          <p:cNvSpPr/>
          <p:nvPr/>
        </p:nvSpPr>
        <p:spPr>
          <a:xfrm>
            <a:off x="4356000" y="5445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diamond/>
  </p:transition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nodeType="clickEffect" fill="hold">
                      <p:stCondLst>
                        <p:cond delay="0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2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C514-500C-45F2-A7B3-AD635D4D11D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8" name="WordArt 4"/>
          <p:cNvSpPr txBox="1"/>
          <p:nvPr/>
        </p:nvSpPr>
        <p:spPr>
          <a:xfrm>
            <a:off x="1258920" y="1052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одержание решения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9" name="Text Box 5"/>
          <p:cNvSpPr/>
          <p:nvPr/>
        </p:nvSpPr>
        <p:spPr>
          <a:xfrm>
            <a:off x="900000" y="24922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мысел действ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0" name="Text Box 6"/>
          <p:cNvSpPr/>
          <p:nvPr/>
        </p:nvSpPr>
        <p:spPr>
          <a:xfrm>
            <a:off x="900000" y="335772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Задачи подчиненных и приданных формирований, способы и сроки их выполн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1" name="Text Box 7"/>
          <p:cNvSpPr/>
          <p:nvPr/>
        </p:nvSpPr>
        <p:spPr>
          <a:xfrm>
            <a:off x="900000" y="422100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ыдвижения на участок (объект)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2" name="Text Box 8"/>
          <p:cNvSpPr/>
          <p:nvPr/>
        </p:nvSpPr>
        <p:spPr>
          <a:xfrm>
            <a:off x="900000" y="5084640"/>
            <a:ext cx="7559640" cy="64800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рядок взаимодейств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3" name="AutoShape 9"/>
          <p:cNvSpPr/>
          <p:nvPr/>
        </p:nvSpPr>
        <p:spPr>
          <a:xfrm>
            <a:off x="4500720" y="314172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4" name="Text Box 12"/>
          <p:cNvSpPr/>
          <p:nvPr/>
        </p:nvSpPr>
        <p:spPr>
          <a:xfrm>
            <a:off x="900000" y="5950080"/>
            <a:ext cx="7559640" cy="647640"/>
          </a:xfrm>
          <a:prstGeom prst="rect">
            <a:avLst/>
          </a:prstGeom>
          <a:gradFill rotWithShape="0">
            <a:gsLst>
              <a:gs pos="0">
                <a:srgbClr val="e3f1e3"/>
              </a:gs>
              <a:gs pos="50000">
                <a:srgbClr val="ffffff"/>
              </a:gs>
              <a:gs pos="100000">
                <a:srgbClr val="e3f1e3"/>
              </a:gs>
            </a:gsLst>
            <a:lin ang="54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ероприятия по организации управления и обеспеч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5" name="AutoShape 13"/>
          <p:cNvSpPr/>
          <p:nvPr/>
        </p:nvSpPr>
        <p:spPr>
          <a:xfrm>
            <a:off x="4500720" y="400536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6" name="AutoShape 14"/>
          <p:cNvSpPr/>
          <p:nvPr/>
        </p:nvSpPr>
        <p:spPr>
          <a:xfrm>
            <a:off x="4500720" y="4869000"/>
            <a:ext cx="214200" cy="215640"/>
          </a:xfrm>
          <a:prstGeom prst="downArrow">
            <a:avLst>
              <a:gd name="adj1" fmla="val 50000"/>
              <a:gd name="adj2" fmla="val 2516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7" name="AutoShape 15"/>
          <p:cNvSpPr/>
          <p:nvPr/>
        </p:nvSpPr>
        <p:spPr>
          <a:xfrm>
            <a:off x="4500720" y="5734080"/>
            <a:ext cx="214200" cy="216000"/>
          </a:xfrm>
          <a:prstGeom prst="downArrow">
            <a:avLst>
              <a:gd name="adj1" fmla="val 50000"/>
              <a:gd name="adj2" fmla="val 252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wheel spokes="8"/>
  </p:transition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nodeType="clickEffect" fill="hold">
                      <p:stCondLst>
                        <p:cond delay="0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3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3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DFF8-CD63-4172-9939-58B0DC93C9F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9" name="WordArt 4"/>
          <p:cNvSpPr txBox="1"/>
          <p:nvPr/>
        </p:nvSpPr>
        <p:spPr>
          <a:xfrm>
            <a:off x="1908000" y="765000"/>
            <a:ext cx="55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cf0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а приказ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cf0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0" name="Text Box 6"/>
          <p:cNvSpPr/>
          <p:nvPr/>
        </p:nvSpPr>
        <p:spPr>
          <a:xfrm>
            <a:off x="1116000" y="191628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аткие выводы из оценки обстановки на участке работ (степень разрушения, пожары, концентрация АХОВ, состояние сетей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1" name="Text Box 7"/>
          <p:cNvSpPr/>
          <p:nvPr/>
        </p:nvSpPr>
        <p:spPr>
          <a:xfrm>
            <a:off x="1116000" y="249228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2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формирования, способы и технологии выполнения работ.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2" name="Text Box 8"/>
          <p:cNvSpPr/>
          <p:nvPr/>
        </p:nvSpPr>
        <p:spPr>
          <a:xfrm>
            <a:off x="1116000" y="378936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5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сле слов «приказываю» ставятся задачи подчиненным: объем спасательных работ, способы и сроки выполн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3" name="Text Box 9"/>
          <p:cNvSpPr/>
          <p:nvPr/>
        </p:nvSpPr>
        <p:spPr>
          <a:xfrm>
            <a:off x="1116000" y="2852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3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 соседей и приданных сил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4" name="Text Box 10"/>
          <p:cNvSpPr/>
          <p:nvPr/>
        </p:nvSpPr>
        <p:spPr>
          <a:xfrm>
            <a:off x="1116000" y="3213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4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мысел действий: где, какие работы необходимо выполнить и время их выполнения, где и на какие работы сосредоточить основные усил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5" name="Text Box 11"/>
          <p:cNvSpPr/>
          <p:nvPr/>
        </p:nvSpPr>
        <p:spPr>
          <a:xfrm>
            <a:off x="1116000" y="4724280"/>
            <a:ext cx="7345440" cy="44892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7.</a:t>
            </a:r>
            <a:r>
              <a:rPr b="1" lang="ru-RU" sz="1600" spc="-1" strike="noStrike">
                <a:solidFill>
                  <a:srgbClr val="d8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о расположения медицинского пункта,  пути и порядок эвакуации пораженных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6" name="Text Box 12"/>
          <p:cNvSpPr/>
          <p:nvPr/>
        </p:nvSpPr>
        <p:spPr>
          <a:xfrm>
            <a:off x="1116000" y="530064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8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рядок и особенности работ в зоне заражения, порядок ввода сил и средств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7" name="Text Box 13"/>
          <p:cNvSpPr/>
          <p:nvPr/>
        </p:nvSpPr>
        <p:spPr>
          <a:xfrm>
            <a:off x="1116000" y="5661000"/>
            <a:ext cx="7345440" cy="47484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9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ремя начала и окончания работ, место своего расположения, сигналы оповещения, организация взаимодействия, обеспеч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8" name="Text Box 16"/>
          <p:cNvSpPr/>
          <p:nvPr/>
        </p:nvSpPr>
        <p:spPr>
          <a:xfrm>
            <a:off x="1116000" y="436572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6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роприятия по защите населения, привлекаемые СМИ, меры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9" name="Text Box 17"/>
          <p:cNvSpPr/>
          <p:nvPr/>
        </p:nvSpPr>
        <p:spPr>
          <a:xfrm>
            <a:off x="1116000" y="6237360"/>
            <a:ext cx="7345440" cy="284400"/>
          </a:xfrm>
          <a:prstGeom prst="rect">
            <a:avLst/>
          </a:prstGeom>
          <a:solidFill>
            <a:srgbClr val="f3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c1c1c"/>
                </a:solidFill>
                <a:latin typeface="Arial Narrow"/>
              </a:rPr>
              <a:t>10.</a:t>
            </a:r>
            <a:r>
              <a:rPr b="1" lang="ru-RU" sz="1600" spc="-1" strike="noStrike">
                <a:solidFill>
                  <a:srgbClr val="cc66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рганизация управления в ходе ведения АСДНР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0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4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EE0-7B1E-402E-9475-E0C2EB6AB7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1" name="Rectangle 2"/>
          <p:cNvSpPr/>
          <p:nvPr/>
        </p:nvSpPr>
        <p:spPr>
          <a:xfrm>
            <a:off x="395280" y="692280"/>
            <a:ext cx="842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сновой управления действиями формировани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и ведении АСДНР являетс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80000"/>
                </a:solidFill>
                <a:uFillTx/>
                <a:latin typeface="Arial Narrow"/>
              </a:rPr>
              <a:t>решение командира (руководителя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2" name="Text Box 3"/>
          <p:cNvSpPr/>
          <p:nvPr/>
        </p:nvSpPr>
        <p:spPr>
          <a:xfrm>
            <a:off x="1042920" y="2781360"/>
            <a:ext cx="7632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Ввиду ограниченных сроков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выживания пораженных в обстановке, характерной для основных видов ЧС, необходимости как можно быстрей спасти людей, локализовать или ликвидировать возникшие поражающие факторы, работы по приведению в готовность, подготовке к выдвижению и выдвижение в район ЧС осуществляется </a:t>
            </a:r>
            <a:r>
              <a:rPr b="1" lang="ru-RU" sz="2400" spc="-1" strike="noStrike">
                <a:solidFill>
                  <a:srgbClr val="d80000"/>
                </a:solidFill>
                <a:latin typeface="Arial Narrow"/>
              </a:rPr>
              <a:t>параллельно с выработкой решения на ведение АСДН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0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3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4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5" dur="8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6AE7-6891-4DF2-9EB5-4423FFFC07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4" name="Text Box 2"/>
          <p:cNvSpPr/>
          <p:nvPr/>
        </p:nvSpPr>
        <p:spPr>
          <a:xfrm>
            <a:off x="539640" y="1773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яснение задач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5" name="Text Box 3"/>
          <p:cNvSpPr/>
          <p:nvPr/>
        </p:nvSpPr>
        <p:spPr>
          <a:xfrm>
            <a:off x="539640" y="2781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Расчет времен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6" name="Text Box 4"/>
          <p:cNvSpPr/>
          <p:nvPr/>
        </p:nvSpPr>
        <p:spPr>
          <a:xfrm>
            <a:off x="539640" y="3789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ценка обстан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7" name="Text Box 5"/>
          <p:cNvSpPr/>
          <p:nvPr/>
        </p:nvSpPr>
        <p:spPr>
          <a:xfrm>
            <a:off x="539640" y="2276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тдача предварительных распоряжений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8" name="Text Box 6"/>
          <p:cNvSpPr/>
          <p:nvPr/>
        </p:nvSpPr>
        <p:spPr>
          <a:xfrm>
            <a:off x="539640" y="4797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становка задач подразделениям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9" name="Text Box 7"/>
          <p:cNvSpPr/>
          <p:nvPr/>
        </p:nvSpPr>
        <p:spPr>
          <a:xfrm>
            <a:off x="539640" y="3284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разведки и проведение рекогносцировк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0" name="Text Box 8"/>
          <p:cNvSpPr/>
          <p:nvPr/>
        </p:nvSpPr>
        <p:spPr>
          <a:xfrm>
            <a:off x="539640" y="4292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инятие реш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1" name="Text Box 9"/>
          <p:cNvSpPr/>
          <p:nvPr/>
        </p:nvSpPr>
        <p:spPr>
          <a:xfrm>
            <a:off x="539640" y="530064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рганизация взаимодействия, обеспечения, управ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2" name="Text Box 10"/>
          <p:cNvSpPr/>
          <p:nvPr/>
        </p:nvSpPr>
        <p:spPr>
          <a:xfrm>
            <a:off x="539640" y="5805360"/>
            <a:ext cx="8209080" cy="373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Управление ведением работ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3" name="WordArt 11"/>
          <p:cNvSpPr txBox="1"/>
          <p:nvPr/>
        </p:nvSpPr>
        <p:spPr>
          <a:xfrm>
            <a:off x="826920" y="549360"/>
            <a:ext cx="763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рядок работ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мандира (руководителя) после получения  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 thruBlk="true"/>
  </p:transition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nodeType="clickEffect" fill="hold">
                      <p:stCondLst>
                        <p:cond delay="0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3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3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0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3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3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3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3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0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3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3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30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3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3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C562-ED96-4C30-B5C6-081879630DE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5" name="Text Box 2"/>
          <p:cNvSpPr/>
          <p:nvPr/>
        </p:nvSpPr>
        <p:spPr>
          <a:xfrm>
            <a:off x="1763640" y="2347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Цель предстоящих 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6" name="Text Box 3"/>
          <p:cNvSpPr/>
          <p:nvPr/>
        </p:nvSpPr>
        <p:spPr>
          <a:xfrm>
            <a:off x="1763640" y="3355920"/>
            <a:ext cx="547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мысел старшего начальника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7" name="Text Box 4"/>
          <p:cNvSpPr/>
          <p:nvPr/>
        </p:nvSpPr>
        <p:spPr>
          <a:xfrm>
            <a:off x="1763640" y="4292640"/>
            <a:ext cx="547380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дача, место и рол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воего формирова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выполнении общей задач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8" name="Line 5"/>
          <p:cNvSpPr/>
          <p:nvPr/>
        </p:nvSpPr>
        <p:spPr>
          <a:xfrm>
            <a:off x="4500720" y="2852640"/>
            <a:ext cx="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9" name="Line 6"/>
          <p:cNvSpPr/>
          <p:nvPr/>
        </p:nvSpPr>
        <p:spPr>
          <a:xfrm>
            <a:off x="450072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0" name="WordArt 7"/>
          <p:cNvSpPr txBox="1"/>
          <p:nvPr/>
        </p:nvSpPr>
        <p:spPr>
          <a:xfrm>
            <a:off x="1187280" y="907920"/>
            <a:ext cx="648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уяснения задачи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amond/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nodeType="clickEffect" fill="hold">
                      <p:stCondLst>
                        <p:cond delay="0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2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2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2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2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2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5" dur="2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F9E-B3B2-4E15-B3BD-4F906F156D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2" name="Text Box 2"/>
          <p:cNvSpPr/>
          <p:nvPr/>
        </p:nvSpPr>
        <p:spPr>
          <a:xfrm>
            <a:off x="900000" y="1989000"/>
            <a:ext cx="734400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Ориентирование подчиненных производится с целью </a:t>
            </a: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доведения до них задачи, поставленной старшим начальником, в части их касающейся, и постановки им частных задач, решение которых обеспечивает процесс выработки решения и организации его выполнения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 Narrow"/>
              </a:rPr>
              <a:t>При ориентировании руководитель доводит до подчиненных следующую информацию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редстоящих действиях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б организации разведки и других действиях, необходимых для последующей оценки обстановки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подготовке предложений в решение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4960" algn="just">
              <a:lnSpc>
                <a:spcPts val="2398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 сроках подготовки и представления необходимых данных для выработки реш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3" name="WordArt 3"/>
          <p:cNvSpPr txBox="1"/>
          <p:nvPr/>
        </p:nvSpPr>
        <p:spPr>
          <a:xfrm>
            <a:off x="1116000" y="765000"/>
            <a:ext cx="676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5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atin typeface="Times New Roman"/>
              </a:rPr>
              <a:t>Отдача предварительных распоряж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nodeType="clickEffect" fill="hold">
                      <p:stCondLst>
                        <p:cond delay="0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2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4" dur="80"/>
                                        <p:tgtEl>
                                          <p:spTgt spid="2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2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18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4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6" dur="80"/>
                                        <p:tgtEl>
                                          <p:spTgt spid="2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0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1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80"/>
                                        <p:tgtEl>
                                          <p:spTgt spid="20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18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6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7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80"/>
                                        <p:tgtEl>
                                          <p:spTgt spid="20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nodeType="afterEffect" fill="hold">
                            <p:stCondLst>
                              <p:cond delay="16880"/>
                            </p:stCondLst>
                            <p:childTnLst>
                              <p:par>
                                <p:cTn id="19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2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3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80"/>
                                        <p:tgtEl>
                                          <p:spTgt spid="20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BA1B-C8AE-4899-ACF5-F2990C8692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7" name="Text Box 4"/>
          <p:cNvSpPr/>
          <p:nvPr/>
        </p:nvSpPr>
        <p:spPr>
          <a:xfrm>
            <a:off x="826920" y="33336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 Narrow"/>
              </a:rPr>
              <a:t>Одной из важнейших задач Единой государственной системы предупреждения и ликвидации чрезвычайных ситуаций (РСЧС) и ГО является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ликвидация чрезвычайных ситуаций (ЧС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8" name="Text Box 5"/>
          <p:cNvSpPr/>
          <p:nvPr/>
        </p:nvSpPr>
        <p:spPr>
          <a:xfrm>
            <a:off x="900000" y="1700280"/>
            <a:ext cx="73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Источники ЧС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природное явлен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авар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опасное техногенное происшестви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широко распространенная инфекционная болезнь людей, сельскохозяйственных животных и растений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80880" indent="-380880" algn="just"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 Narrow"/>
              </a:rPr>
              <a:t>применение современных средств пораж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39" name="Group 6"/>
          <p:cNvGrpSpPr/>
          <p:nvPr/>
        </p:nvGrpSpPr>
        <p:grpSpPr>
          <a:xfrm>
            <a:off x="250920" y="4076640"/>
            <a:ext cx="8435520" cy="2057400"/>
            <a:chOff x="250920" y="4076640"/>
            <a:chExt cx="8435520" cy="2057400"/>
          </a:xfrm>
        </p:grpSpPr>
        <p:sp>
          <p:nvSpPr>
            <p:cNvPr id="1540" name="Rectangle 7"/>
            <p:cNvSpPr/>
            <p:nvPr/>
          </p:nvSpPr>
          <p:spPr>
            <a:xfrm>
              <a:off x="3728520" y="4076640"/>
              <a:ext cx="14799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 Narrow"/>
                </a:rPr>
                <a:t>ЧС</a:t>
              </a:r>
              <a:endParaRPr b="0" lang="en-US" sz="3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1" name="Line 8"/>
            <p:cNvSpPr/>
            <p:nvPr/>
          </p:nvSpPr>
          <p:spPr>
            <a:xfrm>
              <a:off x="1212840" y="5067360"/>
              <a:ext cx="651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2" name="Rectangle 9"/>
            <p:cNvSpPr/>
            <p:nvPr/>
          </p:nvSpPr>
          <p:spPr>
            <a:xfrm>
              <a:off x="2509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рирод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3" name="Rectangle 10"/>
            <p:cNvSpPr/>
            <p:nvPr/>
          </p:nvSpPr>
          <p:spPr>
            <a:xfrm>
              <a:off x="239652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техног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4" name="Rectangle 11"/>
            <p:cNvSpPr/>
            <p:nvPr/>
          </p:nvSpPr>
          <p:spPr>
            <a:xfrm>
              <a:off x="461664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биолого-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оциаль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5" name="Rectangle 12"/>
            <p:cNvSpPr/>
            <p:nvPr/>
          </p:nvSpPr>
          <p:spPr>
            <a:xfrm>
              <a:off x="6836400" y="5448240"/>
              <a:ext cx="18500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военные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6" name="Text Box 13"/>
            <p:cNvSpPr/>
            <p:nvPr/>
          </p:nvSpPr>
          <p:spPr>
            <a:xfrm>
              <a:off x="2949480" y="4697640"/>
              <a:ext cx="30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по характеру              источника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7" name="Line 14"/>
            <p:cNvSpPr/>
            <p:nvPr/>
          </p:nvSpPr>
          <p:spPr>
            <a:xfrm>
              <a:off x="121284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8" name="Line 15"/>
            <p:cNvSpPr/>
            <p:nvPr/>
          </p:nvSpPr>
          <p:spPr>
            <a:xfrm>
              <a:off x="335880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9" name="Line 16"/>
            <p:cNvSpPr/>
            <p:nvPr/>
          </p:nvSpPr>
          <p:spPr>
            <a:xfrm>
              <a:off x="557856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0" name="Line 17"/>
            <p:cNvSpPr/>
            <p:nvPr/>
          </p:nvSpPr>
          <p:spPr>
            <a:xfrm>
              <a:off x="7724520" y="506736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51" name="Line 18"/>
            <p:cNvSpPr/>
            <p:nvPr/>
          </p:nvSpPr>
          <p:spPr>
            <a:xfrm>
              <a:off x="4468680" y="461016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84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84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84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84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84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3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797-AAD5-4439-8B88-38CDA9FF5A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/>
          </p:nvPr>
        </p:nvSpPr>
        <p:spPr>
          <a:xfrm>
            <a:off x="900000" y="476280"/>
            <a:ext cx="7920000" cy="20160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указаниях по организации разведки команди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определяе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цели и задачи разведк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акие данные и к какому сроку представи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каких объектах(участках) сосредоточить основные усилия развед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Rectangle 3"/>
          <p:cNvSpPr/>
          <p:nvPr/>
        </p:nvSpPr>
        <p:spPr>
          <a:xfrm>
            <a:off x="900000" y="2637000"/>
            <a:ext cx="7920000" cy="3816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В ходе рекогносцировки командир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уточняет</a:t>
            </a:r>
            <a:r>
              <a:rPr b="1" lang="ru-RU" sz="2000" spc="-1" strike="noStrike">
                <a:solidFill>
                  <a:srgbClr val="006666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бстановку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чи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 algn="ctr">
              <a:lnSpc>
                <a:spcPts val="16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66"/>
                </a:solidFill>
                <a:uFillTx/>
                <a:latin typeface="Arial Narrow"/>
              </a:rPr>
              <a:t>изучае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частки(объекты) работ и пути подхода к ним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арактер разрушений, завалов, пожаров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личие, характер, масштабы и границы заражения, затопления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, населения, наличие местных материалов, необходимых для ведения АСДНР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 коммунально-энергетических сетей и местности;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6040" indent="-176040">
              <a:lnSpc>
                <a:spcPts val="1698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еста удобные для развертывания пунктов управления, медицинского пункта, подразделений тыла, пункта обеззараживания техники, санитарной обработки личного состава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1187280" y="1268280"/>
            <a:ext cx="75614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blinds dir="horz"/>
  </p:transition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nodeType="clickEffect" fill="hold">
                      <p:stCondLst>
                        <p:cond delay="0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1" dur="2000"/>
                                        <p:tgtEl>
                                          <p:spTgt spid="2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2000"/>
                                        <p:tgtEl>
                                          <p:spTgt spid="2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9" dur="2000"/>
                                        <p:tgtEl>
                                          <p:spTgt spid="2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2000"/>
                                        <p:tgtEl>
                                          <p:spTgt spid="2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7" dur="2000"/>
                                        <p:tgtEl>
                                          <p:spTgt spid="2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1" dur="20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5" dur="2000"/>
                                        <p:tgtEl>
                                          <p:spTgt spid="2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9" dur="2000"/>
                                        <p:tgtEl>
                                          <p:spTgt spid="2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3" dur="2000"/>
                                        <p:tgtEl>
                                          <p:spTgt spid="2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2000"/>
                                        <p:tgtEl>
                                          <p:spTgt spid="2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2000"/>
                                        <p:tgtEl>
                                          <p:spTgt spid="2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5" dur="2000"/>
                                        <p:tgtEl>
                                          <p:spTgt spid="2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2000"/>
                                        <p:tgtEl>
                                          <p:spTgt spid="20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2000"/>
                                        <p:tgtEl>
                                          <p:spTgt spid="20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7" dur="2000"/>
                                        <p:tgtEl>
                                          <p:spTgt spid="20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2000"/>
                                        <p:tgtEl>
                                          <p:spTgt spid="20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99A-D390-41D0-B381-5C5364423C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09" name="Group 2"/>
          <p:cNvGrpSpPr/>
          <p:nvPr/>
        </p:nvGrpSpPr>
        <p:grpSpPr>
          <a:xfrm>
            <a:off x="468360" y="260280"/>
            <a:ext cx="7416720" cy="707760"/>
            <a:chOff x="468360" y="260280"/>
            <a:chExt cx="7416720" cy="707760"/>
          </a:xfrm>
        </p:grpSpPr>
        <p:sp>
          <p:nvSpPr>
            <p:cNvPr id="2010" name="Text Box 3"/>
            <p:cNvSpPr/>
            <p:nvPr/>
          </p:nvSpPr>
          <p:spPr>
            <a:xfrm>
              <a:off x="468360" y="260280"/>
              <a:ext cx="7416720" cy="707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11" name="WordArt 4"/>
            <p:cNvSpPr txBox="1"/>
            <p:nvPr/>
          </p:nvSpPr>
          <p:spPr>
            <a:xfrm>
              <a:off x="826920" y="333360"/>
              <a:ext cx="677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000000"/>
                      </a:gs>
                    </a:gsLst>
                    <a:lin ang="18900000"/>
                  </a:gra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Организация и ведение разведки</a:t>
              </a:r>
              <a:endPara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12" name="Text Box 5"/>
          <p:cNvSpPr/>
          <p:nvPr/>
        </p:nvSpPr>
        <p:spPr>
          <a:xfrm>
            <a:off x="468360" y="1484280"/>
            <a:ext cx="3240000" cy="82404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Руководитель (председатель) КЧС определяет цель, задачи, силы и средства разведк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3" name="Text Box 6"/>
          <p:cNvSpPr/>
          <p:nvPr/>
        </p:nvSpPr>
        <p:spPr>
          <a:xfrm>
            <a:off x="4643280" y="1484280"/>
            <a:ext cx="3240360" cy="779760"/>
          </a:xfrm>
          <a:prstGeom prst="rect">
            <a:avLst/>
          </a:prstGeom>
          <a:gradFill rotWithShape="0">
            <a:gsLst>
              <a:gs pos="0">
                <a:srgbClr val="ffd5d5"/>
              </a:gs>
              <a:gs pos="50000">
                <a:srgbClr val="ffffc9"/>
              </a:gs>
              <a:gs pos="100000">
                <a:srgbClr val="ffd5d5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Narrow"/>
              </a:rPr>
              <a:t>Орган управления по ГОЧС             (штаб) организует разведку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4" name="AutoShape 7"/>
          <p:cNvSpPr/>
          <p:nvPr/>
        </p:nvSpPr>
        <p:spPr>
          <a:xfrm rot="7326600">
            <a:off x="1694160" y="1099080"/>
            <a:ext cx="5032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5" name="AutoShape 8"/>
          <p:cNvSpPr/>
          <p:nvPr/>
        </p:nvSpPr>
        <p:spPr>
          <a:xfrm rot="3385200">
            <a:off x="6152040" y="1099440"/>
            <a:ext cx="50328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6" name="Text Box 9"/>
          <p:cNvSpPr/>
          <p:nvPr/>
        </p:nvSpPr>
        <p:spPr>
          <a:xfrm>
            <a:off x="468360" y="2492280"/>
            <a:ext cx="8351640" cy="39801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Цель разведки</a:t>
            </a: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беспечение органов управления достоверными данными об обстановке при ведении АСДНР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обстановки на объекте, масштабов зон заражения, динамики развития поражающих факторов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Arial Narrow"/>
              </a:rPr>
              <a:t>Задачи разведки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обстановки (аварийного объекта) границ зоны заражения на участке ведения работ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(обследование) местности на участке работ и ее возможное влияние на выполнение поставленной задачи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определение мест нахождения пострадавших, их состояние и способов спас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непрерывное наблюдение за изменением степени и характера заражения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уточнение состояния коммунально-энергетических сетей в местах действий формирований;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>
              <a:lnSpc>
                <a:spcPts val="1800"/>
              </a:lnSpc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a50021"/>
                </a:solidFill>
                <a:latin typeface="Arial Narrow"/>
              </a:rPr>
              <a:t>выявление факторов, препятствующих ведению АСДНР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264960" indent="-264960"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nodeType="clickEffect" fill="hold">
                      <p:stCondLst>
                        <p:cond delay="0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2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2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2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20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3" dur="20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800" fill="hold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9" dur="2000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800" fill="hold"/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2000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800" fill="hold"/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800" fill="hold"/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2000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800" fill="hold"/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2000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20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800" fill="hold"/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2000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20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800" fill="hold"/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2000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20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800" fill="hold"/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2000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800" fill="hold"/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800" fill="hold"/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94CF-71EC-421A-A8D6-40DBE282CA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8" name="WordArt 4"/>
          <p:cNvSpPr txBox="1"/>
          <p:nvPr/>
        </p:nvSpPr>
        <p:spPr>
          <a:xfrm>
            <a:off x="395280" y="333360"/>
            <a:ext cx="698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ные виды обеспечени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9" name="Text Box 6"/>
          <p:cNvSpPr/>
          <p:nvPr/>
        </p:nvSpPr>
        <p:spPr>
          <a:xfrm>
            <a:off x="1042920" y="1484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азведка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0" name="Text Box 7"/>
          <p:cNvSpPr/>
          <p:nvPr/>
        </p:nvSpPr>
        <p:spPr>
          <a:xfrm>
            <a:off x="1042920" y="4508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ехническое</a:t>
            </a:r>
            <a:r>
              <a:rPr b="0" lang="ru-RU" sz="1800" spc="-1" strike="noStrike">
                <a:solidFill>
                  <a:srgbClr val="99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1" name="Text Box 8"/>
          <p:cNvSpPr/>
          <p:nvPr/>
        </p:nvSpPr>
        <p:spPr>
          <a:xfrm>
            <a:off x="1042920" y="2492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Транспортн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2" name="Text Box 9"/>
          <p:cNvSpPr/>
          <p:nvPr/>
        </p:nvSpPr>
        <p:spPr>
          <a:xfrm>
            <a:off x="1042920" y="350028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атериально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3" name="Text Box 10"/>
          <p:cNvSpPr/>
          <p:nvPr/>
        </p:nvSpPr>
        <p:spPr>
          <a:xfrm>
            <a:off x="1042920" y="5516640"/>
            <a:ext cx="69138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Медицинско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4" name="Line 11"/>
          <p:cNvSpPr/>
          <p:nvPr/>
        </p:nvSpPr>
        <p:spPr>
          <a:xfrm>
            <a:off x="4356000" y="198900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5" name="Line 12"/>
          <p:cNvSpPr/>
          <p:nvPr/>
        </p:nvSpPr>
        <p:spPr>
          <a:xfrm>
            <a:off x="4356000" y="2997360"/>
            <a:ext cx="0" cy="50292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6" name="Line 13"/>
          <p:cNvSpPr/>
          <p:nvPr/>
        </p:nvSpPr>
        <p:spPr>
          <a:xfrm>
            <a:off x="4356000" y="4005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7" name="Line 14"/>
          <p:cNvSpPr/>
          <p:nvPr/>
        </p:nvSpPr>
        <p:spPr>
          <a:xfrm>
            <a:off x="4356000" y="5013360"/>
            <a:ext cx="0" cy="503280"/>
          </a:xfrm>
          <a:prstGeom prst="line">
            <a:avLst/>
          </a:prstGeom>
          <a:ln w="540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hecker dir="vert"/>
  </p:transition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0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2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2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937E-8B0A-47E6-99D0-C697F1AA8E8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9" name="WordArt 4"/>
          <p:cNvSpPr txBox="1"/>
          <p:nvPr/>
        </p:nvSpPr>
        <p:spPr>
          <a:xfrm>
            <a:off x="1619280" y="76500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Цели обеспечения</a:t>
            </a:r>
            <a:endParaRPr b="1" lang="en-US" sz="16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0" name="Text Box 5"/>
          <p:cNvSpPr/>
          <p:nvPr/>
        </p:nvSpPr>
        <p:spPr>
          <a:xfrm>
            <a:off x="1042920" y="227664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лучение исчерпывающих данных об обстановке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воевременное оказание медицинской помощи;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бесперебойное удовлетворение потребностей                        в материальных средствах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выполнение перевозок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поддержание техники в исправном состоянии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53880" indent="-353880"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 Narrow"/>
              </a:rPr>
              <a:t>создание благоприятных условий для своевременного и организационного проведения АСДНР и выполнения других задач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zoom dir="out"/>
  </p:transition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nodeType="clickEffect" fill="hold">
                      <p:stCondLst>
                        <p:cond delay="0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7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10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2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1" dur="10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612D-A259-4087-AC75-E6BB236569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2" name="Text Box 5"/>
          <p:cNvSpPr/>
          <p:nvPr/>
        </p:nvSpPr>
        <p:spPr>
          <a:xfrm>
            <a:off x="539640" y="206064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тановку задач подразделениям обеспечения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3" name="Text Box 6"/>
          <p:cNvSpPr/>
          <p:nvPr/>
        </p:nvSpPr>
        <p:spPr>
          <a:xfrm>
            <a:off x="539640" y="5445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троль за выполнением мероприяти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4" name="Text Box 7"/>
          <p:cNvSpPr/>
          <p:nvPr/>
        </p:nvSpPr>
        <p:spPr>
          <a:xfrm>
            <a:off x="539640" y="3213000"/>
            <a:ext cx="8209080" cy="71928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пределение взаимодействия сил участвующих в обеспечен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5" name="Text Box 8"/>
          <p:cNvSpPr/>
          <p:nvPr/>
        </p:nvSpPr>
        <p:spPr>
          <a:xfrm>
            <a:off x="539640" y="4365720"/>
            <a:ext cx="8209080" cy="718920"/>
          </a:xfrm>
          <a:prstGeom prst="rect">
            <a:avLst/>
          </a:prstGeom>
          <a:solidFill>
            <a:srgbClr val="d9d8ec"/>
          </a:solidFill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оведение задач до исполнителей по обеспечению работ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6" name="Line 9"/>
          <p:cNvSpPr/>
          <p:nvPr/>
        </p:nvSpPr>
        <p:spPr>
          <a:xfrm>
            <a:off x="4500720" y="2781360"/>
            <a:ext cx="0" cy="4316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7" name="Line 10"/>
          <p:cNvSpPr/>
          <p:nvPr/>
        </p:nvSpPr>
        <p:spPr>
          <a:xfrm>
            <a:off x="4500720" y="3933720"/>
            <a:ext cx="0" cy="43200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8" name="Line 11"/>
          <p:cNvSpPr/>
          <p:nvPr/>
        </p:nvSpPr>
        <p:spPr>
          <a:xfrm>
            <a:off x="4500720" y="5086440"/>
            <a:ext cx="0" cy="3585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9" name="WordArt 12"/>
          <p:cNvSpPr txBox="1"/>
          <p:nvPr/>
        </p:nvSpPr>
        <p:spPr>
          <a:xfrm>
            <a:off x="971640" y="1197000"/>
            <a:ext cx="75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33ff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зация  обеспечения включает </a:t>
            </a:r>
            <a:endParaRPr b="0" lang="en-US" sz="1600" spc="1" strike="noStrike">
              <a:ln w="19080">
                <a:solidFill>
                  <a:srgbClr val="9933ff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mb dir="vert"/>
  </p:transition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nodeType="clickEffect" fill="hold">
                      <p:stCondLst>
                        <p:cond delay="0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8" dur="77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9" dur="770" fill="hold"/>
                                        <p:tgtEl>
                                          <p:spTgt spid="20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1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3" dur="77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92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9" dur="192" fill="hold"/>
                                        <p:tgtEl>
                                          <p:spTgt spid="20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1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3" dur="192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8" dur="77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9" dur="770" fill="hold"/>
                                        <p:tgtEl>
                                          <p:spTgt spid="20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1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3" dur="77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92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9" dur="192" fill="hold"/>
                                        <p:tgtEl>
                                          <p:spTgt spid="2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1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3" dur="192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77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9" dur="770" fill="hold"/>
                                        <p:tgtEl>
                                          <p:spTgt spid="20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1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3" dur="77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8" dur="192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9" dur="192" fill="hold"/>
                                        <p:tgtEl>
                                          <p:spTgt spid="2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1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3" dur="192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77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9" dur="770" fill="hold"/>
                                        <p:tgtEl>
                                          <p:spTgt spid="20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1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3" dur="77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BC67-9EFC-419F-8719-C303F7893A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1" name="Text Box 5"/>
          <p:cNvSpPr/>
          <p:nvPr/>
        </p:nvSpPr>
        <p:spPr>
          <a:xfrm>
            <a:off x="2556000" y="2131920"/>
            <a:ext cx="396072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целям (задачам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2" name="Text Box 6"/>
          <p:cNvSpPr/>
          <p:nvPr/>
        </p:nvSpPr>
        <p:spPr>
          <a:xfrm>
            <a:off x="1654200" y="3429000"/>
            <a:ext cx="5797440" cy="459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есту и времен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3" name="Text Box 7"/>
          <p:cNvSpPr/>
          <p:nvPr/>
        </p:nvSpPr>
        <p:spPr>
          <a:xfrm>
            <a:off x="1131120" y="4653000"/>
            <a:ext cx="6967080" cy="603720"/>
          </a:xfrm>
          <a:prstGeom prst="rect">
            <a:avLst/>
          </a:prstGeom>
          <a:solidFill>
            <a:srgbClr val="cce7e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особам выполнения поставленных задач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4" name="WordArt 8"/>
          <p:cNvSpPr txBox="1"/>
          <p:nvPr/>
        </p:nvSpPr>
        <p:spPr>
          <a:xfrm>
            <a:off x="900000" y="260280"/>
            <a:ext cx="7775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заимодействие заключается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99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огласовании действий формирований по : </a:t>
            </a:r>
            <a:endParaRPr b="0" lang="en-US" sz="1600" spc="1" strike="noStrike">
              <a:ln w="19080">
                <a:solidFill>
                  <a:srgbClr val="008080"/>
                </a:solidFill>
                <a:miter/>
              </a:ln>
              <a:solidFill>
                <a:srgbClr val="99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nodeType="clickEffect" fill="hold">
                      <p:stCondLst>
                        <p:cond delay="0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1" dur="16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2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6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6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6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9" dur="16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6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AE4-5C8E-4258-B92D-7854C18C94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6" name="Text Box 5"/>
          <p:cNvSpPr/>
          <p:nvPr/>
        </p:nvSpPr>
        <p:spPr>
          <a:xfrm>
            <a:off x="900000" y="1700280"/>
            <a:ext cx="748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ts val="18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воде на участок (объекты)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организация ликвидации или снижения до минимально возможного         уровня факторов, препятствующих ведению спасательных работ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ведении спасательных работ в сложных условиях обстановк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взаимодействия с территориальными (объектовыми) формированиями и специалистами при ликвидации повреждений на коммунально-энергетических сетях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смене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действий при резком изменении обстановки, возникновении непосредственной опасности для жизни спасателей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порядок связи и информации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0000" indent="-270000" algn="just">
              <a:lnSpc>
                <a:spcPts val="18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80"/>
                </a:solidFill>
                <a:latin typeface="Arial Narrow"/>
              </a:rPr>
              <a:t>места размещения пунктов управле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7" name="WordArt 6"/>
          <p:cNvSpPr txBox="1"/>
          <p:nvPr/>
        </p:nvSpPr>
        <p:spPr>
          <a:xfrm>
            <a:off x="1116000" y="47628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8440">
                  <a:solidFill>
                    <a:srgbClr val="008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b2b2b2">
                      <a:alpha val="70000"/>
                    </a:srgbClr>
                  </a:outerShdw>
                </a:effectLst>
                <a:latin typeface="Arial"/>
              </a:rPr>
              <a:t>При взаимодействии согласовываются</a:t>
            </a:r>
            <a:endParaRPr b="1" lang="en-US" sz="2000" spc="1" strike="noStrike">
              <a:ln w="28440">
                <a:solidFill>
                  <a:srgbClr val="00808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b2b2b2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vert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0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500"/>
                                        <p:tgtEl>
                                          <p:spTgt spid="2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3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2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3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2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3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500"/>
                                        <p:tgtEl>
                                          <p:spTgt spid="20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nodeType="afterEffect" fill="hold">
                            <p:stCondLst>
                              <p:cond delay="9550"/>
                            </p:stCondLst>
                            <p:childTnLst>
                              <p:par>
                                <p:cTn id="23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7" dur="500"/>
                                        <p:tgtEl>
                                          <p:spTgt spid="20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nodeType="afterEffect" fill="hold">
                            <p:stCondLst>
                              <p:cond delay="13450"/>
                            </p:stCondLst>
                            <p:childTnLst>
                              <p:par>
                                <p:cTn id="2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2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3" dur="500"/>
                                        <p:tgtEl>
                                          <p:spTgt spid="20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2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500" fill="hold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500"/>
                                        <p:tgtEl>
                                          <p:spTgt spid="20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nodeType="afterEffect" fill="hold">
                            <p:stCondLst>
                              <p:cond delay="21650"/>
                            </p:stCondLst>
                            <p:childTnLst>
                              <p:par>
                                <p:cTn id="23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20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2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20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23750"/>
                            </p:stCondLst>
                            <p:childTnLst>
                              <p:par>
                                <p:cTn id="24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5" dur="500"/>
                                        <p:tgtEl>
                                          <p:spTgt spid="20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nodeType="afterEffect" fill="hold">
                            <p:stCondLst>
                              <p:cond delay="29250"/>
                            </p:stCondLst>
                            <p:childTnLst>
                              <p:par>
                                <p:cTn id="2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20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nodeType="afterEffect" fill="hold">
                            <p:stCondLst>
                              <p:cond delay="29700"/>
                            </p:stCondLst>
                            <p:childTnLst>
                              <p:par>
                                <p:cTn id="24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500"/>
                                        <p:tgtEl>
                                          <p:spTgt spid="20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nodeType="afterEffect" fill="hold">
                            <p:stCondLst>
                              <p:cond delay="31350"/>
                            </p:stCondLst>
                            <p:childTnLst>
                              <p:par>
                                <p:cTn id="2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9" dur="500"/>
                                        <p:tgtEl>
                                          <p:spTgt spid="20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2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7" dur="500"/>
                                        <p:tgtEl>
                                          <p:spTgt spid="20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2A5-7102-4185-B625-E43487D26E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9" name="Заголовок 3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070840" cy="100620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524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2809-C6A2-4E31-8F97-1C52D8575E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2" name="Заголовок 3" descr=""/>
          <p:cNvPicPr/>
          <p:nvPr/>
        </p:nvPicPr>
        <p:blipFill>
          <a:blip r:embed="rId1"/>
          <a:stretch/>
        </p:blipFill>
        <p:spPr>
          <a:xfrm>
            <a:off x="165240" y="73080"/>
            <a:ext cx="8070840" cy="107928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2" descr=""/>
          <p:cNvPicPr/>
          <p:nvPr/>
        </p:nvPicPr>
        <p:blipFill>
          <a:blip r:embed="rId2"/>
          <a:stretch/>
        </p:blipFill>
        <p:spPr>
          <a:xfrm>
            <a:off x="539640" y="1333440"/>
            <a:ext cx="8209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B0CB-64C4-4BDE-8287-0A3B46F297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3" name="AutoShape 3"/>
          <p:cNvSpPr/>
          <p:nvPr/>
        </p:nvSpPr>
        <p:spPr>
          <a:xfrm>
            <a:off x="2340000" y="2403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4" name="AutoShape 4"/>
          <p:cNvSpPr/>
          <p:nvPr/>
        </p:nvSpPr>
        <p:spPr>
          <a:xfrm>
            <a:off x="250920" y="220500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диоактивн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грязн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5" name="Rectangle 5"/>
          <p:cNvSpPr/>
          <p:nvPr/>
        </p:nvSpPr>
        <p:spPr>
          <a:xfrm>
            <a:off x="3146400" y="220500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следствие аварий на радиационно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варий транспортных средств с ядерными энергетическими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тановками или перевозящими радиоактив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6" name="AutoShape 6"/>
          <p:cNvSpPr/>
          <p:nvPr/>
        </p:nvSpPr>
        <p:spPr>
          <a:xfrm>
            <a:off x="250920" y="1341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зруш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7" name="AutoShape 7"/>
          <p:cNvSpPr/>
          <p:nvPr/>
        </p:nvSpPr>
        <p:spPr>
          <a:xfrm>
            <a:off x="2340000" y="152244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8" name="Rectangle 8"/>
          <p:cNvSpPr/>
          <p:nvPr/>
        </p:nvSpPr>
        <p:spPr>
          <a:xfrm>
            <a:off x="3146400" y="1341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землетрясениях, взрывах, пожар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оизводственных авариях, ураганах, смерчах, обвалах, селях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9" name="AutoShape 9"/>
          <p:cNvSpPr/>
          <p:nvPr/>
        </p:nvSpPr>
        <p:spPr>
          <a:xfrm>
            <a:off x="250920" y="306864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Химическо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ражени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0" name="AutoShape 10"/>
          <p:cNvSpPr/>
          <p:nvPr/>
        </p:nvSpPr>
        <p:spPr>
          <a:xfrm>
            <a:off x="2340000" y="321300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1" name="Rectangle 11"/>
          <p:cNvSpPr/>
          <p:nvPr/>
        </p:nvSpPr>
        <p:spPr>
          <a:xfrm>
            <a:off x="3146400" y="2992320"/>
            <a:ext cx="552924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результате аварий на химически опасных объектах,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водящих к разрушению емкостей и технологическ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ммуникаций, содержащих АХОВ, а также аварий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транспорте,перевозящем указанные вещества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2" name="AutoShape 12"/>
          <p:cNvSpPr/>
          <p:nvPr/>
        </p:nvSpPr>
        <p:spPr>
          <a:xfrm>
            <a:off x="250920" y="3933720"/>
            <a:ext cx="1865160" cy="6638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жар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3" name="AutoShape 13"/>
          <p:cNvSpPr/>
          <p:nvPr/>
        </p:nvSpPr>
        <p:spPr>
          <a:xfrm>
            <a:off x="2340000" y="40957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4" name="Rectangle 14"/>
          <p:cNvSpPr/>
          <p:nvPr/>
        </p:nvSpPr>
        <p:spPr>
          <a:xfrm>
            <a:off x="3146400" y="3933720"/>
            <a:ext cx="5529240" cy="6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являющиеся следствием природных явлений, аварий 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соблюдения правил пожарной безопасност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5" name="AutoShape 15"/>
          <p:cNvSpPr/>
          <p:nvPr/>
        </p:nvSpPr>
        <p:spPr>
          <a:xfrm>
            <a:off x="250920" y="4797360"/>
            <a:ext cx="1865160" cy="6634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топления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AutoShape 16"/>
          <p:cNvSpPr/>
          <p:nvPr/>
        </p:nvSpPr>
        <p:spPr>
          <a:xfrm>
            <a:off x="2340000" y="4903920"/>
            <a:ext cx="655560" cy="3808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Rectangle 17"/>
          <p:cNvSpPr/>
          <p:nvPr/>
        </p:nvSpPr>
        <p:spPr>
          <a:xfrm>
            <a:off x="3146400" y="4797360"/>
            <a:ext cx="5529240" cy="66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озникающие при наводнениях, разрушения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идротехнических сооружений, цунами, селях и других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родных явлениях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8" name="AutoShape 18"/>
          <p:cNvSpPr/>
          <p:nvPr/>
        </p:nvSpPr>
        <p:spPr>
          <a:xfrm>
            <a:off x="250920" y="5608800"/>
            <a:ext cx="1865160" cy="84456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дем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зоотии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пифитотии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9" name="AutoShape 19"/>
          <p:cNvSpPr/>
          <p:nvPr/>
        </p:nvSpPr>
        <p:spPr>
          <a:xfrm>
            <a:off x="2340000" y="5805360"/>
            <a:ext cx="655560" cy="3812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0" name="Rectangle 20"/>
          <p:cNvSpPr/>
          <p:nvPr/>
        </p:nvSpPr>
        <p:spPr>
          <a:xfrm>
            <a:off x="3146400" y="5684760"/>
            <a:ext cx="552924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ссовые заболевания людей,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льскохозяйственных животных и растений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1" name="Text Box 21"/>
          <p:cNvSpPr/>
          <p:nvPr/>
        </p:nvSpPr>
        <p:spPr>
          <a:xfrm>
            <a:off x="8675640" y="6165720"/>
            <a:ext cx="1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2" name="WordArt 23"/>
          <p:cNvSpPr txBox="1"/>
          <p:nvPr/>
        </p:nvSpPr>
        <p:spPr>
          <a:xfrm>
            <a:off x="1187280" y="476280"/>
            <a:ext cx="684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cccce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ее характерные последствия ЧС</a:t>
            </a:r>
            <a:endParaRPr b="0" lang="en-US" sz="2000" spc="1" strike="noStrike">
              <a:ln w="19080">
                <a:solidFill>
                  <a:srgbClr val="9999ff"/>
                </a:solidFill>
                <a:miter/>
              </a:ln>
              <a:solidFill>
                <a:srgbClr val="cccce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EEF-D6AD-4393-A40C-7CB59919D4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4" name="AutoShape 2"/>
          <p:cNvSpPr/>
          <p:nvPr/>
        </p:nvSpPr>
        <p:spPr>
          <a:xfrm>
            <a:off x="152280" y="765000"/>
            <a:ext cx="8839440" cy="5472360"/>
          </a:xfrm>
          <a:prstGeom prst="cube">
            <a:avLst>
              <a:gd name="adj" fmla="val 4231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квидация Ч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аварийно-спасательные и други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ложные работы(АСДНР), проводимые пр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и ЧС и направленные на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с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жизни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хран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я люде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ни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меров ущерба окружающей природной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е и материальных потерь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окализац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он ЧС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екра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ных для них опасных факторов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ED24-AC7D-4538-A97E-FC4277A2D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76" name="Picture 4" descr="фон-20"/>
          <p:cNvPicPr/>
          <p:nvPr/>
        </p:nvPicPr>
        <p:blipFill>
          <a:blip r:embed="rId1"/>
          <a:stretch/>
        </p:blipFill>
        <p:spPr>
          <a:xfrm>
            <a:off x="250920" y="765000"/>
            <a:ext cx="8712000" cy="517212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6"/>
          <p:cNvSpPr txBox="1"/>
          <p:nvPr/>
        </p:nvSpPr>
        <p:spPr>
          <a:xfrm>
            <a:off x="1619280" y="333360"/>
            <a:ext cx="5991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арийно-спасательные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другие неотложные работы</a:t>
            </a:r>
            <a:endParaRPr b="0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8" name="Text Box 7"/>
          <p:cNvSpPr/>
          <p:nvPr/>
        </p:nvSpPr>
        <p:spPr>
          <a:xfrm>
            <a:off x="104292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 Narrow"/>
              </a:rPr>
              <a:t>АСДНР – это совокупность действий, осуществляемых по различным технологическим процессам  и включающих в себя порядок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9" name="Text Box 8"/>
          <p:cNvSpPr/>
          <p:nvPr/>
        </p:nvSpPr>
        <p:spPr>
          <a:xfrm>
            <a:off x="395280" y="21337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Narrow"/>
              </a:rPr>
              <a:t>Технологии выполнения АСДНР в значительной степени зависят от совокупностей объекта (РОО, ХОО и т.д.), на котором должны осуществляться работы по спасению пострадавших и от среды их проведения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0" name="Text Box 9"/>
          <p:cNvSpPr/>
          <p:nvPr/>
        </p:nvSpPr>
        <p:spPr>
          <a:xfrm>
            <a:off x="395280" y="3141720"/>
            <a:ext cx="842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 Narrow"/>
              </a:rPr>
              <a:t>АСДНР</a:t>
            </a:r>
            <a:r>
              <a:rPr b="1" lang="ru-RU" sz="20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– совокупность первоочередных работ в зоне ЧС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заключающаяся в спасении и оказании помощи людям, локализации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 Narrow"/>
              </a:rPr>
              <a:t>и подавлении очагов поражающего воздействия, предотвращении воздействия вторичных поражающих факторов, защите и спасении материальных и культурных ценностей, восстановлении минимально необходимого жизнеобеспечения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Text Box 10"/>
          <p:cNvSpPr/>
          <p:nvPr/>
        </p:nvSpPr>
        <p:spPr>
          <a:xfrm>
            <a:off x="3348000" y="4869000"/>
            <a:ext cx="2592360" cy="3682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СДНР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2" name="Text Box 11"/>
          <p:cNvSpPr/>
          <p:nvPr/>
        </p:nvSpPr>
        <p:spPr>
          <a:xfrm>
            <a:off x="579600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другие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неотлож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3" name="Text Box 13"/>
          <p:cNvSpPr/>
          <p:nvPr/>
        </p:nvSpPr>
        <p:spPr>
          <a:xfrm>
            <a:off x="1187280" y="5805360"/>
            <a:ext cx="2521080" cy="5000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аварийно-спасательные работы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AutoShape 14"/>
          <p:cNvSpPr/>
          <p:nvPr/>
        </p:nvSpPr>
        <p:spPr>
          <a:xfrm rot="19149000">
            <a:off x="2987640" y="5444640"/>
            <a:ext cx="687600" cy="227160"/>
          </a:xfrm>
          <a:prstGeom prst="leftArrow">
            <a:avLst>
              <a:gd name="adj1" fmla="val 50000"/>
              <a:gd name="adj2" fmla="val 75674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5" name="AutoShape 15"/>
          <p:cNvSpPr/>
          <p:nvPr/>
        </p:nvSpPr>
        <p:spPr>
          <a:xfrm rot="13478400">
            <a:off x="5681160" y="5391000"/>
            <a:ext cx="649440" cy="262080"/>
          </a:xfrm>
          <a:prstGeom prst="leftArrow">
            <a:avLst>
              <a:gd name="adj1" fmla="val 50000"/>
              <a:gd name="adj2" fmla="val 61951"/>
            </a:avLst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cut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8ED-2572-4E66-B29E-3E2AE1045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7" name="Picture 4" descr="фон-7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5722920"/>
          </a:xfrm>
          <a:prstGeom prst="rect">
            <a:avLst/>
          </a:prstGeom>
          <a:ln w="0">
            <a:noFill/>
          </a:ln>
        </p:spPr>
      </p:pic>
      <p:sp>
        <p:nvSpPr>
          <p:cNvPr id="1588" name="WordArt 6"/>
          <p:cNvSpPr txBox="1"/>
          <p:nvPr/>
        </p:nvSpPr>
        <p:spPr>
          <a:xfrm>
            <a:off x="1187280" y="692280"/>
            <a:ext cx="69915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арийно-спасательные работы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чагах поражения</a:t>
            </a:r>
            <a:endParaRPr b="0" lang="en-US" sz="1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9" name="Text Box 7"/>
          <p:cNvSpPr/>
          <p:nvPr/>
        </p:nvSpPr>
        <p:spPr>
          <a:xfrm>
            <a:off x="539640" y="1916280"/>
            <a:ext cx="7920000" cy="26550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Аварийно-спасательные рабо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это действия по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ению люд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ьных и культурных ценностей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щите природной среды в зоне ЧС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ализации ЧС и подавлению или доведению до минимально возможного уровня воздействия характерных для них опасных факторов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285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0" name="Text Box 8"/>
          <p:cNvSpPr/>
          <p:nvPr/>
        </p:nvSpPr>
        <p:spPr>
          <a:xfrm>
            <a:off x="539640" y="4724280"/>
            <a:ext cx="7920000" cy="17402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80000"/>
                </a:solidFill>
                <a:latin typeface="Arial"/>
              </a:rPr>
              <a:t>Цель проведения аварийно-спасательных работ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8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и деблокирование пострадавших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ние им первой медицинской помощи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акуация из опасной зон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085760" algn="just">
              <a:lnSpc>
                <a:spcPct val="100000"/>
              </a:lnSpc>
              <a:buClr>
                <a:srgbClr val="d8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3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3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95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0:28:22Z</dcterms:created>
  <dc:creator>KOMP</dc:creator>
  <dc:description/>
  <dc:language>en-US</dc:language>
  <cp:lastModifiedBy>user</cp:lastModifiedBy>
  <dcterms:modified xsi:type="dcterms:W3CDTF">2012-12-18T15:50:47Z</dcterms:modified>
  <cp:revision>176</cp:revision>
  <dc:subject/>
  <dc:title>Слайд 1</dc:title>
</cp:coreProperties>
</file>