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39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CFA-F25B-4475-9D3B-3B58C45C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7B8-63FB-4591-8DCB-6B8127D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35EBB-5115-40D1-A3D9-2BB9ABF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84B6-3939-45A9-A828-2070D00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D9F1-D258-4C86-8678-04DDD41D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BC9FB-92E6-47D2-AF69-14673CD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4E0F7-F6F4-4965-86F3-B1597476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2F026-E3C0-4773-A022-32EBD6C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50FF8-AF5C-40F6-AB3F-372FF700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BFE87-B0F1-498B-8AB9-4C1DD2A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540FF-08BC-43E1-8EED-A0DC50CB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36BC0-7F7B-4DBA-BAC2-E2CBFF88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390-49DC-4E78-AFF8-AB801D9E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9C15F-AB6C-4905-9928-994651D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83110-73BE-4FFB-AD1A-A7C16C15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12F5C-10EA-454D-AB87-7E15BA7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D0FEE-8341-46CB-85BD-20D0A40B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81019-3CE5-4F23-8609-55A2943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01EE3-AFA1-41F6-8D84-C908EA7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1766F-4FBF-434D-BBB7-BD8F4DA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F8F38-B7FD-4CAB-8CD6-D22FF70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18328-82C5-4BB0-A3DF-68DE219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C66AA-7822-43CC-868C-978CB568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14D-0261-458E-97EB-C9CEE702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03761-D849-4E63-9EAA-479BA941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DEA23-690A-4068-BCE1-76508BDB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C4AF7-D236-4602-AA96-27F6A2BB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621C-4BF7-4BDB-AB12-CCB95C34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2F08-EC47-455A-96B0-30D78FC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D1FB-3D35-4C36-BE26-7F03A582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E003C-2028-4870-B0E2-ACF195BD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2DEEE-212D-4189-B510-3785EA8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C8839-BEA9-4182-88ED-EB672DB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BD251-C308-485E-810A-7A94B6A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BF41-3DDF-4B0B-96A6-2C062155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15BFB-12FD-4E8A-9990-6E7E90F7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E4FB-E4C9-420B-B008-42887BD1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A288-855C-4423-BBFB-8B65CEA0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C025F-6B65-4FDD-B937-6C9B6641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BAE4-713F-445F-89E9-1CBFB28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1A3DD-D1CE-44B3-B9BE-212B968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AF465-5918-43EC-BA23-D73E7EB1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1DA5-E5CB-4506-A5D0-21873A8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E2023-B1BC-4A9F-9024-A99CB86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029C5-FDC8-4A5A-976A-6BF45BF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1CA-DFAE-4D16-AAF6-72558EF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8C2E4-5CFA-40F7-8D68-34695644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9DC9D-EFA0-4744-B891-45913D99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8D13F-7FDB-43E0-B228-E54E2B8D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F85C5-CC0D-49E4-A95C-E5D1DE78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7B7CB-7FF3-4ABA-87D0-387EB620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DEBE5-86FE-49F6-B58A-7A682E2F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E54A6-823D-455C-A0DC-5E413D3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0BF6A-A27A-4210-869C-F1AAB085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28A5C-7C35-4012-AEC4-F9060B7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CC548-A779-41AE-8752-32C3601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5E88-4B95-45BF-8429-62F74536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62D97-077F-481D-8188-A5530038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147AF-207C-4CE8-BAF1-EFB0859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60DC3-C58A-42F1-BA12-290B202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B7438-8988-4460-ACF5-B6A1771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E1B66-2861-49FF-922D-74B7A37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DD723-B5E6-432C-B939-6DAA3AB8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60331-A305-4C4D-9B7B-B1475730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6E486-A574-4E89-AEB6-F8F43399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7203C-C6DF-4A75-B1B0-9E464C5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58F8C-E025-4308-84F7-4312F7C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D76D-E1AB-4AFE-B7CC-75311E1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EA892-37AE-43BC-B31A-9B76B1F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9A2BD-0423-4377-AE31-CD983C7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1F83F-0944-43DF-A343-DBFD619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D087B-26CC-4745-A213-8DDB0F0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9094-636A-4144-AE86-27CB218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CEBDD-771F-4793-9414-9F30D14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4A6E5-7AEC-4C32-9339-3333138F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57064-874A-4684-AA61-C1773752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DCE13-9FEE-4B2A-9D3C-C25E2F5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09801-0950-47D5-9BF3-6F4CD595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C3CF-EB84-48E0-9623-9FBAD95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34D30-0D0F-446A-9C1F-9B2E7ADA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FC82E-7D9C-494A-B727-6EC77F5A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42D0B-445F-4B2F-9C59-12FF9EE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C0588-70BC-4EF8-870B-E0F6134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26786-4CD1-4F61-91B0-F5212840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EB43A-D439-4B9C-BAF0-DD2ACE1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25728-2F9F-444A-B6B3-1DD51AD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6492D-0320-4C8D-A8D7-10364FF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CD6F3-D91D-4534-8CD6-F6D7A13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9F196-D880-439C-A6AC-FED998F2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D40-6D52-434F-9A4F-2BDC5F93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C6533-FD84-4FE6-A449-B9C7A1F2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84F6D-3DA6-4461-A4E0-1CCC5799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313F5-A89B-4F62-994D-E0A75918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5B77D-999A-4A45-B5CE-682B404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7FDCF-24FF-4834-99DF-1ED1FCB0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C5BDF-F08F-466A-88FE-D926A7B7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FA213-9D2B-4C34-B4B0-21FB2473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78896-89C9-4537-930B-CFFA249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90BFF-7A86-4879-A7AA-24A8FA9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D776C-1525-437F-B02D-7EC4421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4D60-49A7-4CD8-829F-D036767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901A1-50D8-4DFB-B6D1-7C8162C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E737A-9C76-49EE-97B9-8086E075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B686C-B612-4F89-8AA4-1847F642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33D26-CE4C-43D3-BF49-BF1D8FD5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BBFEF-5DD1-4DA1-8CCD-F56AFFE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B672F-CE3D-47A3-8DD9-F7D6624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F067B-4A3C-4013-9ED8-3F45C879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9950E-940F-4CFA-8058-63A369A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E869C-18CF-48F5-8393-309D302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AB9A99-9E0B-4369-860F-02AD157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F17-2EB5-428B-8E3F-1E6C0E8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2B33-BA79-4927-A8B3-8BF8416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C0BC6-354C-46D4-B4A2-1FBC2D3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39B7C-14F6-49B8-A9EF-9F21A4B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B54F9-8F18-4926-B071-2CB93B78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0A877-A612-422C-A2D8-6C1EBF57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C5FAA-8D49-4CE5-8C2F-66074B9C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EF605-69FA-44D9-B4FA-35680868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50B97-5A6B-4A7F-9675-04ABB63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15494-A7AB-45FD-8B8A-4202B4D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E85D8-6519-404F-A8A4-3643248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600FC-2F5B-435C-B052-6AB812BE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982-CE5F-4A82-B853-A12F1B1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9944F-4BC0-40AB-A709-6332E11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64B1B-0AB4-4B30-B5F1-9E6A774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86FBF-13B6-4611-A03A-C41B250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A6239-6F91-450C-BB6B-CA98BF9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F9795-3F5F-46D8-84BA-966D1AB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30229-9D86-4713-9DD9-82AF33F6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F42FEE-63C3-40B3-B9B5-3B33CBCD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9FA56-5ED5-4021-841F-A1AFAA2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EC3ED-3A5C-460F-950E-C85B92D0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529D5-364B-42F7-99A9-93B50F0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6454-0058-4B6D-A6DD-D4D43F6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5232B-7456-4C30-9F05-C33E4C7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11713-3B90-4EAA-81EC-4B20D9D9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FE6E8-EA08-480F-A6C5-245ED51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4E4BA-4CBE-4216-8FD3-1070130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D6586-9C19-4C27-8D36-E131B57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65CCF4-269A-48FF-A52F-41E84D9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9A698-73D5-4EBB-82E8-BA711655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5D475-F3D4-406C-9DA8-E2A0F7A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C4D38-79B1-411B-BA3A-0202250D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6571F-D118-42CA-91A7-B58EF180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3DC-F353-4B7B-A3AE-88DA749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20FFF-ACFC-4FBE-BA62-CDC8548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02ADB6-9331-44E4-8126-F3B8A4F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5A791-7432-489D-B42E-66FF48E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1291E-147B-4F6A-8554-C41C7D2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2DBD9-256F-474F-95FF-C565C084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AC310-DB7A-4C9D-BE5F-A17B6C4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3DC1F-0E0B-4F37-9AF4-FFAFCDE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14F11-30D3-491A-9913-5EF1546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1C59D-2F3F-4E52-B7B3-BD739CE6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3522A-134C-4CCD-8EA9-C088F191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EC7A-8F33-4E3A-9B8D-372ADEA9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B249D-8102-4B9D-A654-F013450B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14F33-6CF2-4BCA-B5F9-3EDB8E25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B7550-DD42-484B-B4B9-040280A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83955-5DA1-4FCA-8136-5D7824A4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22A57-5CF0-490C-9D24-F9D23E3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F2F0F-12DF-4D8D-8A5A-940D1851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BBCD6-5410-4A21-8D64-BCDE706F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68774-DD40-4C6C-AF77-6475E8B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D1B4D-E6B3-42ED-A04F-A26A3CA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554E0-227F-4DCD-B3FB-D67A020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EF154-8480-4CF1-814A-A1EE495F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90044-DA1B-48B7-9492-9DBC46D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F1035-A19E-47F8-8E96-5D344E5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EA29D-A376-4D37-A10A-5F33F93D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34044-BDFA-4AE4-8386-5127D12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CACC8-12A8-45AD-B011-9C7C69C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7C5D3-4090-450B-B636-2F19642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F42E4E-1378-4859-8F0C-5F3E11E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44EEE1-2A13-4989-A5AD-01B81319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6A96CE-275C-48FD-BEC7-2C2DDB3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57C92-6938-4730-9487-D715AAF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6650C-5FFE-416A-91CB-8F3D51D7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AC72D-2523-4FF2-AB07-806E913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349DE8-DCAB-4488-831A-7C7DB9A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30765-9BE3-4066-BC7F-38A0C0F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5C2F0C-72E6-45C9-8B0B-19F3A1D1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5D54D0-5D1B-4A29-8FCF-DA97700B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F73A5-8D10-478F-BE30-4D62BD6B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576D64-2A5A-4F2E-B869-F69D25F4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CDF43E-31FA-4D05-8779-8C4D5C0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7EFF1-6619-495F-AD71-741251E5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41137-0C5B-4D2F-8822-2293D190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2E13D-962C-432A-9C4F-A885314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5DD17B-A74F-4718-AC70-4C3AD17D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AEA34-E41B-4D23-BBA6-AD73ADF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E8778-BC20-4DD2-B62C-1CCE2C3C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29BAC-8984-415B-84B2-46EF64B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362B3F-BE27-4031-8D08-9589DC1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6FFEE-94EB-44B0-85E8-43C32287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F6AC5E-6095-4EE0-BB6D-7327FBE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E47BE6-6247-447E-A693-5828DDF0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E9F6F9-6436-4E12-9830-77AAEB8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7445E2-BAD5-49D9-B300-13A7BF68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76CA8-B038-4921-9C32-B736F1F9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4F7B2-A583-4A57-9E65-FA95074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C6919F-13BC-4602-8EC9-02A54AB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875F9-DA8A-4FE0-ACC5-7148A95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D0C8FA-9163-4121-84B0-9F6CA62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2383A7-F803-4838-8CAB-8D01895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D2D3D-4763-405E-9E29-01BC004B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7C87F1-1FEA-4F2A-86FC-8767BE54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382313-EEED-452D-AAA1-B6DD898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094259-F492-44CB-9D30-392C7262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687CAB-1C43-46A5-B469-424C0DFB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B133B-247C-46FD-B2A5-C8003C9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065CA0-9670-4467-9692-985222CF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D83EF6-0726-4863-A182-6FEA22E2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9640C-240D-4D80-B806-1A64183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87C504-FD6C-46DE-AFF8-949C331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7B38DB-DBFD-4EF1-8164-2D88EE0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DA699F-49D2-4D15-8683-8BFEE6A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A84249-1006-4FAC-BE27-AD80A04C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AA465B-0DA4-45F1-9DD5-FC0E54D2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05887-5149-4179-8AB3-DF7417C9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3B67B0-1CAF-4B2D-9686-B5E5E4A8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FB1-5252-4C45-B304-21498AD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C35D7-FA4F-4B87-B50A-87CDF3D9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D5C74E-0A2D-46CD-A6B4-6EA4469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C5888-96D6-4927-BA24-D60E344F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B1D6C7-3BBA-4F00-8F37-8AD4039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27F99-E5D5-4163-A68E-9C9C0D6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09298F-34A9-46C8-8815-38CFD5E6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B3EB08-AEFF-43B2-A019-E03732C4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C2B4F1-A0BF-42B9-BC2C-222FC655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ADED82-DC4C-49C3-B469-6A712E7A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940F07-8B6B-495A-8AC2-5FA646A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85157-FFA5-4A55-91AF-AEF32A8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7FAA0-69F1-44F9-8E3C-D56CC86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7D970C-6B52-4C87-B3F7-EA1A5224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4B5D6D-982C-466B-B82F-B0DC5251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5A7EBD-EA16-4DC2-9198-7245E446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5F445A-CF3A-42C5-A89E-1D914A96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F345EC-801D-4C37-9CFE-BA2DE44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BB28FC-868C-481D-83CD-15995149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655093-D63A-44A7-8D15-E208136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15964C-3B9A-42DF-85F8-9A19569E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6E60E9-05E8-4DAF-9DA9-DD6B119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8ADEAE-46E0-4B5E-B55C-286F4AE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994DA-83AE-465C-8CD4-DAA90C2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A2D2B7-8450-441F-8B48-46C1EFCB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8DC8F2-2536-46FB-B7A7-CA1168F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68D9A7-8A97-4AC0-A9E3-49AC0B2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E16A05-AD40-4700-966D-68DBD464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E4082B-B37E-4CA5-85E4-0C39E9C2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E39D6D-B008-4EE2-8DD8-1E6E4545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9DEFC2-37EF-4CDA-95C5-0B57D14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54EF1E-A1C9-4EE0-9A9E-9CD6A10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B3E4B6-E8CD-42FA-B6EE-6072BB6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BA79ED-7914-43FD-A84E-E4646FBE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9FCEF-6226-4F8F-ADB5-35BCFC4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83C903-C8A6-410B-9456-86E7BAD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B70F92-667F-48DE-A17B-58B843F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D98304-F828-40ED-8192-81CA73D3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C2144C-AE30-4517-9651-9D272A3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EF9B8-6087-43B5-BD99-037A3A5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2CFF24-B61C-43AE-8C90-03830392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5D5022-ED2E-4FAD-887E-ADEEF23D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441A13-63D1-4FC8-81A7-C8F51DCF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AFF32C-6FAA-4D0A-86B1-3504687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E85BC4-A614-42D8-B444-7101F489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E1E4B-6F3D-4690-8FE3-9DBC960F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F7772B-3CF3-4097-88B9-304FD538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7A1D6D-90C1-4D0A-9409-CD16EC5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E22A70-CC0B-4EB2-8B23-2AA33B0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4BC717-2963-4F4E-9108-1E00E4D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2B5719-0E52-4F36-92CB-B491572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C3A70C-0406-4A23-B4E6-FF79225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0F2A4C-8757-4DE6-9792-F0FCA5C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8C8187-5E0F-44EE-A5FA-5A1E09A7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54BDB6-806D-4296-B53D-2EBEE658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83A3B5-4278-482F-A26A-11761F58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01632-6187-4D8F-9CD3-683642D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60900B-476F-4C0E-B401-5CC5BE7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1A8A09-CFE2-4211-B681-3D153B29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F9A9C2-58A6-404A-B8D0-2A5BA789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C5F490-E69D-40B7-833E-A7B76D1B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BC7D6B-440D-48E3-AA78-6F28790E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C4946C-53F1-45C3-AADE-A6803C2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6E3D5A-F988-4997-A8D0-D462A0B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CCE23-5EE7-47B7-BEA0-64AD809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E3C0A8-0CB4-45CC-A754-254C7643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7AF33E-7371-4A25-B178-653B277F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C604B-8E6A-4968-8E48-DE387323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1CB7A0-520C-4B38-933E-11FADB16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CEBF8D-2153-4FFD-BB51-E39986D5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BD6764-B471-49CB-AE81-B5549BD1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09A930-1910-47A9-AA8F-08AB4C7E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909104-7CE3-4F8F-9969-94EA293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FFA63D-1AEA-492C-80F1-BFC3C5D3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80D29E-A978-47B1-AF73-CA69F507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6B9E02-CCCB-4723-9A80-460CD49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FCC03B-464D-45A9-972B-2436208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0EA29A-74CA-45C9-9B46-7641A7B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5D5D-31D6-4B49-BB67-4583414D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9507CE-8D87-491F-B71E-46173B3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BF3B45-3B76-4C14-8B6B-157BE54F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21FE8-C24A-4DBA-A579-81599339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6C55-1ABB-405B-932C-1C986DA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8468-7D8B-403F-9B75-D94FC0D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A30-2448-49D0-A652-9A33B873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CA66-E2A4-43A1-AED5-CE4C108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2EA4-662E-4A0E-81CC-75958838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2279-609B-4792-B4A3-C389EB9A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5B091-E122-45B4-A939-48A6CE9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B258-7C3A-459C-97C4-39E5D1A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93A5-2B6C-4016-8C00-E4F7B80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6712-25B6-4CE4-BB22-33FB3CB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F0D4-7307-42A2-9783-623C01AD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CC70-55C8-43C7-B701-E4036F18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2F26-8599-48B0-87C6-CA392ACA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823-DCB5-45C3-A2C7-BD04FDE4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F992-5079-403A-ACD6-98FA485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CE53-E6E2-4AA0-A2EC-586A173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086B-9CE5-4325-918B-BFBACD7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6203-8578-4000-AAE2-8DD8B841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6C9CA-00F3-49D9-AD44-24916F58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67D0-D66C-46BF-9BB2-80BE3BB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04A4-15F2-4C4D-8FA8-16E8EC2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67B1-69F9-49D6-A2A7-7921D0E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0976-25B7-4E8C-AE63-5D2375DE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D2E2-9A1C-4466-82C5-50610876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72A-05B9-4F89-9709-7BB9149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E974-E6C5-43EB-AC79-19D05E8C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7B73-F5B7-4CBA-B696-68325B82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9E88B-DA90-46BD-9544-19E935C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54E39-FB3C-4B7A-BD2C-7656855A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E1A5-BF83-411B-814C-FC996808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1573-3009-4ABD-8DAA-6BDB565D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D9EDB-BE8D-4C0A-A15B-4D49650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7648-DCFC-40D2-BA73-0FDCC513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CC36-7AFD-41A5-83BD-F4C39E3B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0457-327A-4B95-817B-2FED3EF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26F-7358-4259-8A3D-6B1F940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61C9B-C171-4F87-B785-EFBB994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E9FD-84AB-4D2B-B69B-DDB70E8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020F-C375-4DA4-B4CE-478AE629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1948-3697-445C-8DED-8349F989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49579-6A51-4F3B-BDBB-AEF324D8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98822-5FC9-4895-87C7-D5B5100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89B13-99C7-4C62-9A9B-0ED1BCB7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1D02-913D-4952-9066-D051981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EB5EC-5DF2-4F44-8C69-A58E7EA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DA71-4D15-4343-9503-E309D39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36E-4B11-447B-94FF-27256B4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0429-238A-4131-A398-F2CBEC4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77FD-BB23-4295-AD29-B341FF1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1526-6656-4EFD-B711-A4C8E70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2C321-120B-46AE-B90F-7D320534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A248-6936-4841-8C9A-C0AF70D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91A2-746F-4EC2-8907-123A105E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D4EC-F9B3-432A-B44D-A89919C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2F80-663A-4ED9-8733-86F36A4F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7E79C-5329-4ED3-8DCC-AC6E93A2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FF91-ADD7-45A6-A9CC-296EBE4D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182-8358-4FF0-BBD5-E7FC9091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BCB00-FEB7-4637-9284-D1789058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674E-024B-4582-9884-AAB6FF4B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394F-79B5-4B25-A00F-9B3FF4F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E0810-22C8-40B0-9EC4-B508C56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42053-3AD0-4DAA-883D-7B6B949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3FE4-F19E-4D6D-ADAE-20C258DD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51CE-3050-4AA0-8325-18EA9962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F3887-46EC-44FC-ACC7-F838CC71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C117A-E3F5-4AB3-80AC-5E597AEC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D279D-1CE6-453D-925D-74B5E672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554-08CB-4B4A-9980-A8199C294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66B-9BEB-45EA-9161-4265F8E55B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8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9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9F01-6A31-4A16-82D2-ED366C803A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E8F-5E2B-4031-B1A1-17A45D65D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4553-A93C-40BC-98F0-DE1ACCA2C02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3BD6-9597-4E4C-95D0-E50A3188AD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5A4E-F5A6-41F0-AA2D-FF944059D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1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5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3BB-38B3-455D-B8AF-08846BEFA0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5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0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1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18BE-56E6-4FFF-8336-703816D9C3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8B6-2639-4767-AD5E-585BD87CB4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5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6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053-C9BA-4CD0-BF83-AA19DCF3F46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E569-B305-4DA9-BB53-2D132F601D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1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1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C1E5-B4B3-4176-A12E-3D4B1F5CC50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4B7-B7EE-4F07-8793-7BF3EDBFFC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0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00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0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0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0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1B8-32D0-4223-B968-913F7F33C18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10B0-0259-4646-8168-163E729DDB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9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12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16EE-AF45-4FE0-B2FD-99F351F9FA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1BE7-C7E8-464B-996A-8BD67CF097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21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21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84AB-FA34-496D-BC1B-F7B65F7880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B67-52E7-44AA-AC1E-0BF07129D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0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2D6B-101D-45AB-8E68-499798BBD03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353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4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5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6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7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431-69A6-4106-9ECA-46C0B384DF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5EDE-A21F-44D3-90F1-A9F3FCB47D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8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8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AB7-B2C8-4D28-A196-9D668A2E6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9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9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609-E561-46E7-B07F-3331B6483B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D815-EF97-474E-965D-E168E040A2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D96-57DB-415B-8F3F-7211CB2F7C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317-7E1F-4DB6-881F-C7E2154FA1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9831-BB38-4C99-932E-F6E6BE74EFE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671A-D0CB-4C4F-BC1B-1AC11A2224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965B-AC00-418C-B911-FD7221D935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" Target="slide11.xml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56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8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E19A-8424-4588-974B-C8E54F988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1" name="Picture 8" descr="фон-1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2" name="WordArt 12" descr=""/>
          <p:cNvPicPr/>
          <p:nvPr/>
        </p:nvPicPr>
        <p:blipFill>
          <a:blip r:embed="rId2"/>
          <a:stretch/>
        </p:blipFill>
        <p:spPr>
          <a:xfrm>
            <a:off x="493560" y="1494000"/>
            <a:ext cx="83692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13"/>
          <p:cNvGrpSpPr/>
          <p:nvPr/>
        </p:nvGrpSpPr>
        <p:grpSpPr>
          <a:xfrm>
            <a:off x="7885080" y="476280"/>
            <a:ext cx="838080" cy="761760"/>
            <a:chOff x="7885080" y="476280"/>
            <a:chExt cx="838080" cy="761760"/>
          </a:xfrm>
        </p:grpSpPr>
        <p:grpSp>
          <p:nvGrpSpPr>
            <p:cNvPr id="1494" name="Group 14"/>
            <p:cNvGrpSpPr/>
            <p:nvPr/>
          </p:nvGrpSpPr>
          <p:grpSpPr>
            <a:xfrm>
              <a:off x="7885080" y="476280"/>
              <a:ext cx="838080" cy="761760"/>
              <a:chOff x="7885080" y="476280"/>
              <a:chExt cx="838080" cy="761760"/>
            </a:xfrm>
          </p:grpSpPr>
          <p:sp>
            <p:nvSpPr>
              <p:cNvPr id="1495" name="AutoShape 15"/>
              <p:cNvSpPr/>
              <p:nvPr/>
            </p:nvSpPr>
            <p:spPr>
              <a:xfrm rot="16200000">
                <a:off x="7742160" y="675000"/>
                <a:ext cx="705600" cy="420120"/>
              </a:xfrm>
              <a:prstGeom prst="parallelogram">
                <a:avLst>
                  <a:gd name="adj" fmla="val 22922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6" name="AutoShape 16"/>
              <p:cNvSpPr/>
              <p:nvPr/>
            </p:nvSpPr>
            <p:spPr>
              <a:xfrm flipV="1" rot="5400000">
                <a:off x="8161200" y="676080"/>
                <a:ext cx="705600" cy="417960"/>
              </a:xfrm>
              <a:prstGeom prst="parallelogram">
                <a:avLst>
                  <a:gd name="adj" fmla="val 23041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7" name="AutoShape 17"/>
              <p:cNvSpPr/>
              <p:nvPr/>
            </p:nvSpPr>
            <p:spPr>
              <a:xfrm rot="16200000">
                <a:off x="7751880" y="667800"/>
                <a:ext cx="705960" cy="396360"/>
              </a:xfrm>
              <a:prstGeom prst="parallelogram">
                <a:avLst>
                  <a:gd name="adj" fmla="val 2430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8" name="AutoShape 18"/>
              <p:cNvSpPr/>
              <p:nvPr/>
            </p:nvSpPr>
            <p:spPr>
              <a:xfrm flipV="1" rot="5400000">
                <a:off x="8148240" y="666720"/>
                <a:ext cx="705960" cy="396720"/>
              </a:xfrm>
              <a:prstGeom prst="parallelogram">
                <a:avLst>
                  <a:gd name="adj" fmla="val 24287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9" name="AutoShape 19"/>
              <p:cNvSpPr/>
              <p:nvPr/>
            </p:nvSpPr>
            <p:spPr>
              <a:xfrm rot="16200000">
                <a:off x="7765200" y="66240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0" name="AutoShape 20"/>
              <p:cNvSpPr/>
              <p:nvPr/>
            </p:nvSpPr>
            <p:spPr>
              <a:xfrm flipV="1" rot="5400000">
                <a:off x="8134560" y="66168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1" name="AutoShape 21"/>
              <p:cNvSpPr/>
              <p:nvPr/>
            </p:nvSpPr>
            <p:spPr>
              <a:xfrm rot="16200000">
                <a:off x="777852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2" name="AutoShape 22"/>
              <p:cNvSpPr/>
              <p:nvPr/>
            </p:nvSpPr>
            <p:spPr>
              <a:xfrm flipV="1" rot="5400000">
                <a:off x="812124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03" name="Group 23"/>
            <p:cNvGrpSpPr/>
            <p:nvPr/>
          </p:nvGrpSpPr>
          <p:grpSpPr>
            <a:xfrm>
              <a:off x="8037360" y="552240"/>
              <a:ext cx="532800" cy="609840"/>
              <a:chOff x="8037360" y="552240"/>
              <a:chExt cx="532800" cy="609840"/>
            </a:xfrm>
          </p:grpSpPr>
          <p:grpSp>
            <p:nvGrpSpPr>
              <p:cNvPr id="1504" name="Group 24"/>
              <p:cNvGrpSpPr/>
              <p:nvPr/>
            </p:nvGrpSpPr>
            <p:grpSpPr>
              <a:xfrm>
                <a:off x="8143920" y="716400"/>
                <a:ext cx="309600" cy="276840"/>
                <a:chOff x="8143920" y="716400"/>
                <a:chExt cx="309600" cy="276840"/>
              </a:xfrm>
            </p:grpSpPr>
            <p:sp>
              <p:nvSpPr>
                <p:cNvPr id="1505" name="Freeform 25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6" name="Freeform 26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07" name="Group 27"/>
              <p:cNvGrpSpPr/>
              <p:nvPr/>
            </p:nvGrpSpPr>
            <p:grpSpPr>
              <a:xfrm>
                <a:off x="8037360" y="552240"/>
                <a:ext cx="532800" cy="609840"/>
                <a:chOff x="8037360" y="552240"/>
                <a:chExt cx="532800" cy="609840"/>
              </a:xfrm>
            </p:grpSpPr>
            <p:sp>
              <p:nvSpPr>
                <p:cNvPr id="1508" name="Freeform 28"/>
                <p:cNvSpPr/>
                <p:nvPr/>
              </p:nvSpPr>
              <p:spPr>
                <a:xfrm>
                  <a:off x="8037360" y="552240"/>
                  <a:ext cx="532800" cy="6094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9" name="Freeform 29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0" name="Freeform 30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1" name="Freeform 31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2" name="Freeform 32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3" name="Freeform 33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4" name="Freeform 34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5" name="Freeform 35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6" name="Freeform 36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7" name="Freeform 37"/>
                <p:cNvSpPr/>
                <p:nvPr/>
              </p:nvSpPr>
              <p:spPr>
                <a:xfrm>
                  <a:off x="8037360" y="552600"/>
                  <a:ext cx="532800" cy="6094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18" name="Oval 38"/>
              <p:cNvSpPr/>
              <p:nvPr/>
            </p:nvSpPr>
            <p:spPr>
              <a:xfrm>
                <a:off x="8197200" y="750600"/>
                <a:ext cx="213120" cy="200520"/>
              </a:xfrm>
              <a:prstGeom prst="ellipse">
                <a:avLst/>
              </a:prstGeom>
              <a:solidFill>
                <a:srgbClr val="ff973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9" name="AutoShape 39"/>
              <p:cNvSpPr/>
              <p:nvPr/>
            </p:nvSpPr>
            <p:spPr>
              <a:xfrm>
                <a:off x="8218440" y="759960"/>
                <a:ext cx="168480" cy="13716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520" name="Text Box 40"/>
          <p:cNvSpPr/>
          <p:nvPr/>
        </p:nvSpPr>
        <p:spPr>
          <a:xfrm>
            <a:off x="1763640" y="623736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4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E05A-523E-45D2-8D23-E543B6E69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2" name="Picture 4" descr="фон-1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1593" name="WordArt 6"/>
          <p:cNvSpPr txBox="1"/>
          <p:nvPr/>
        </p:nvSpPr>
        <p:spPr>
          <a:xfrm>
            <a:off x="1187280" y="476280"/>
            <a:ext cx="7007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варийно-спасательные работы включают:</a:t>
            </a:r>
            <a:endParaRPr b="0" lang="en-US" sz="16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4" name="Text Box 7"/>
          <p:cNvSpPr/>
          <p:nvPr/>
        </p:nvSpPr>
        <p:spPr>
          <a:xfrm>
            <a:off x="250920" y="1413000"/>
            <a:ext cx="85690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5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зведку маршрутов движения и участков работ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локализацию и тушение пожаров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вление или доведение до минимально возможного уровня возникших в результате ЧС вредных и опасных факторов, препятствующих ведению 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озыск пораженных и извлечение их из поврежденных и горящих зданий, загазованных, затопленных и задымленных помещений, завал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крытие разрушенных, поврежденных и заваленных ЗС и спасение находящихся в них люде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чу воздуха в заваленные ЗС с поврежденной фильтровентиляционной систем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азание первой медицинской и врачебной помощи пострадавшим и эвакуацию их в лечебные учрежд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воз (вывод) населения из опасных мест в безопасные рай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анитарную обработку людей, ветеринарную обработку с/х животных, дезактивацию и дегазацию техники, средств защиты и одежды, обеззараживание территорий и сооружений, продовольствия, воды и т.д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randomBa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E78-191E-4378-9768-5D5CBB2AA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Picture 4" descr="фон"/>
          <p:cNvPicPr/>
          <p:nvPr/>
        </p:nvPicPr>
        <p:blipFill>
          <a:blip r:embed="rId1"/>
          <a:stretch/>
        </p:blipFill>
        <p:spPr>
          <a:xfrm>
            <a:off x="250920" y="189000"/>
            <a:ext cx="8280360" cy="5994360"/>
          </a:xfrm>
          <a:prstGeom prst="rect">
            <a:avLst/>
          </a:prstGeom>
          <a:ln w="0">
            <a:noFill/>
          </a:ln>
        </p:spPr>
      </p:pic>
      <p:sp>
        <p:nvSpPr>
          <p:cNvPr id="1597" name="WordArt 6"/>
          <p:cNvSpPr txBox="1"/>
          <p:nvPr/>
        </p:nvSpPr>
        <p:spPr>
          <a:xfrm>
            <a:off x="1763640" y="404640"/>
            <a:ext cx="5834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варийно-спасательные работы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1692360" y="260280"/>
            <a:ext cx="6121440" cy="57636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826920" y="1197000"/>
            <a:ext cx="2089440" cy="520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обственно 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300720" y="1197000"/>
            <a:ext cx="2089080" cy="520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3564000" y="1197000"/>
            <a:ext cx="208908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           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Text Box 11"/>
          <p:cNvSpPr/>
          <p:nvPr/>
        </p:nvSpPr>
        <p:spPr>
          <a:xfrm>
            <a:off x="611280" y="2060640"/>
            <a:ext cx="2448000" cy="38476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пасательные работы, связанные со спасением людей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поиск пострадавших в местах возможного блокирова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извлечение пострадавших из поврежденных, горящих, зараженных ОВ (АХОВ), РВ зд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оказание первой медицинской и первой врачебной помощи пострадавшим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эвакуация пострадавших в медицинские учрежд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вывод (вывоз) населения из зон заражения в безопасное место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Text Box 12"/>
          <p:cNvSpPr/>
          <p:nvPr/>
        </p:nvSpPr>
        <p:spPr>
          <a:xfrm>
            <a:off x="3348000" y="2060640"/>
            <a:ext cx="2448000" cy="38224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работы включаю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тушение пожар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локализацию аварий на коммунально-энергетических сетя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стройство проездов (проходов) в завала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крепление (обрушение) неустойчивых конструкц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проведение специальной обработки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4" name="Text Box 13"/>
          <p:cNvSpPr/>
          <p:nvPr/>
        </p:nvSpPr>
        <p:spPr>
          <a:xfrm>
            <a:off x="6084720" y="2060640"/>
            <a:ext cx="2448000" cy="38224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связаны с подготовкой участка спасательных рабо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расчистка площадок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установка на них техники, ограждений и предупреди-тельных знак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освещение рабочих мест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5" name="Line 14"/>
          <p:cNvSpPr/>
          <p:nvPr/>
        </p:nvSpPr>
        <p:spPr>
          <a:xfrm>
            <a:off x="4572000" y="836640"/>
            <a:ext cx="0" cy="36036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6" name="Line 15"/>
          <p:cNvSpPr/>
          <p:nvPr/>
        </p:nvSpPr>
        <p:spPr>
          <a:xfrm flipH="1">
            <a:off x="1908000" y="836640"/>
            <a:ext cx="50328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7" name="Line 16"/>
          <p:cNvSpPr/>
          <p:nvPr/>
        </p:nvSpPr>
        <p:spPr>
          <a:xfrm>
            <a:off x="6948360" y="836640"/>
            <a:ext cx="503280" cy="360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8" name="Line 17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Line 18"/>
          <p:cNvSpPr/>
          <p:nvPr/>
        </p:nvSpPr>
        <p:spPr>
          <a:xfrm>
            <a:off x="4572000" y="1773360"/>
            <a:ext cx="0" cy="28728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0" name="Line 19"/>
          <p:cNvSpPr/>
          <p:nvPr/>
        </p:nvSpPr>
        <p:spPr>
          <a:xfrm>
            <a:off x="745164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Text Box 20"/>
          <p:cNvSpPr/>
          <p:nvPr/>
        </p:nvSpPr>
        <p:spPr>
          <a:xfrm>
            <a:off x="971640" y="6093000"/>
            <a:ext cx="72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Специальные и вспомогательные работы осуществляются для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эффективного проведения собственно спасательных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20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200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B737-CCE0-4D3B-8E2C-B2F11FDEC7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Text Box 3"/>
          <p:cNvSpPr/>
          <p:nvPr/>
        </p:nvSpPr>
        <p:spPr>
          <a:xfrm>
            <a:off x="755640" y="4508640"/>
            <a:ext cx="8064360" cy="204480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Другие неотложные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это деятельность по: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стороннему обеспечению аварийно-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казанию населению, пострадавшему в ЧС, медицинской и других видов помощ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ю условий, минимально необходимых для сохранения жизни и здоровья людей, поддержания их работоспособност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755640" y="2565360"/>
            <a:ext cx="8064360" cy="177048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Цель проведения неотлож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е условий для проведения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едотвращение дальнейших разрушений и потерь, вызванных вторичными поражающими факторам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жизнедеятельности объектов экономики и пострадавшего населения в условиях ЧС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5" name="Rectangle 5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6" name="WordArt 6"/>
          <p:cNvSpPr txBox="1"/>
          <p:nvPr/>
        </p:nvSpPr>
        <p:spPr>
          <a:xfrm>
            <a:off x="1763640" y="836640"/>
            <a:ext cx="633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Другие неотложные работы 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в очагах поражения</a:t>
            </a:r>
            <a:endParaRPr b="1" lang="en-US" sz="16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D13-30ED-46F4-82A1-74472F74D8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8" name="Text Box 3"/>
          <p:cNvSpPr/>
          <p:nvPr/>
        </p:nvSpPr>
        <p:spPr>
          <a:xfrm>
            <a:off x="611280" y="1773360"/>
            <a:ext cx="7993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66760" algn="just">
              <a:lnSpc>
                <a:spcPct val="11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прокладывание колонных путей и устройство проходов в завалах и на зараженных участка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локализацию аварий на газовых, энергетических, водопроводных, канализационных и технолог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укрепление или обрушение конструкций зданий и сооружений, угрожающих обвалом или препятствующих безопасному про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и разрушенных линий связи и коммунально-энергетических сетей;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защитных сооружени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анитарную очистку территории в зоне ЧС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бор материальных ценност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оздание условий, минимально необходимых для сохранения жизни и здоровья люд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WordArt 5"/>
          <p:cNvSpPr txBox="1"/>
          <p:nvPr/>
        </p:nvSpPr>
        <p:spPr>
          <a:xfrm>
            <a:off x="1547640" y="54936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ut thruBlk="true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00"/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000"/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1CBD-8BF0-4DA9-BA94-E940BB5004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Text Box 3"/>
          <p:cNvSpPr/>
          <p:nvPr/>
        </p:nvSpPr>
        <p:spPr>
          <a:xfrm>
            <a:off x="1042920" y="2205000"/>
            <a:ext cx="6985080" cy="2829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анитарную очистку территории в зоне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бор материальных ценносте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WordArt 4"/>
          <p:cNvSpPr txBox="1"/>
          <p:nvPr/>
        </p:nvSpPr>
        <p:spPr>
          <a:xfrm>
            <a:off x="1547640" y="907920"/>
            <a:ext cx="612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30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3000"/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3000"/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0822-D89E-4B31-8B6E-35A400727E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4" name="AutoShape 3"/>
          <p:cNvSpPr/>
          <p:nvPr/>
        </p:nvSpPr>
        <p:spPr>
          <a:xfrm>
            <a:off x="2340000" y="37368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5" name="AutoShape 4"/>
          <p:cNvSpPr/>
          <p:nvPr/>
        </p:nvSpPr>
        <p:spPr>
          <a:xfrm>
            <a:off x="755640" y="35211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AutoShape 5"/>
          <p:cNvSpPr/>
          <p:nvPr/>
        </p:nvSpPr>
        <p:spPr>
          <a:xfrm>
            <a:off x="755640" y="184464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AutoShape 6"/>
          <p:cNvSpPr/>
          <p:nvPr/>
        </p:nvSpPr>
        <p:spPr>
          <a:xfrm>
            <a:off x="2340000" y="2060640"/>
            <a:ext cx="12240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AutoShape 7"/>
          <p:cNvSpPr/>
          <p:nvPr/>
        </p:nvSpPr>
        <p:spPr>
          <a:xfrm>
            <a:off x="755640" y="51213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AutoShape 8"/>
          <p:cNvSpPr/>
          <p:nvPr/>
        </p:nvSpPr>
        <p:spPr>
          <a:xfrm>
            <a:off x="2340000" y="53370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Text Box 9">
            <a:hlinkClick r:id="rId4" action="ppaction://hlinksldjump"/>
          </p:cNvPr>
          <p:cNvSpPr/>
          <p:nvPr/>
        </p:nvSpPr>
        <p:spPr>
          <a:xfrm>
            <a:off x="4002120" y="1844640"/>
            <a:ext cx="4602240" cy="83376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Rectangle 10">
            <a:hlinkClick r:id="rId5" action="ppaction://hlinksldjump"/>
          </p:cNvPr>
          <p:cNvSpPr/>
          <p:nvPr/>
        </p:nvSpPr>
        <p:spPr>
          <a:xfrm>
            <a:off x="3995640" y="3429000"/>
            <a:ext cx="4584960" cy="100800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аварийно-спасатель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других неотложных работ в зонах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Rectangle 11"/>
          <p:cNvSpPr/>
          <p:nvPr/>
        </p:nvSpPr>
        <p:spPr>
          <a:xfrm>
            <a:off x="3995640" y="5229360"/>
            <a:ext cx="45849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квидация последствий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3" name="WordArt 12"/>
          <p:cNvSpPr txBox="1"/>
          <p:nvPr/>
        </p:nvSpPr>
        <p:spPr>
          <a:xfrm>
            <a:off x="1116000" y="404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Номер слайда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B8BD-1642-492D-96F1-90BF43CCE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AutoShape 3"/>
          <p:cNvSpPr/>
          <p:nvPr/>
        </p:nvSpPr>
        <p:spPr>
          <a:xfrm>
            <a:off x="3492360" y="371628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AutoShape 4"/>
          <p:cNvSpPr/>
          <p:nvPr/>
        </p:nvSpPr>
        <p:spPr>
          <a:xfrm>
            <a:off x="468360" y="3429000"/>
            <a:ext cx="2879640" cy="9349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ышен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готов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AutoShape 5"/>
          <p:cNvSpPr/>
          <p:nvPr/>
        </p:nvSpPr>
        <p:spPr>
          <a:xfrm>
            <a:off x="468360" y="1773360"/>
            <a:ext cx="2879640" cy="987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седнев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AutoShape 6"/>
          <p:cNvSpPr/>
          <p:nvPr/>
        </p:nvSpPr>
        <p:spPr>
          <a:xfrm>
            <a:off x="3492360" y="213372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AutoShape 8"/>
          <p:cNvSpPr/>
          <p:nvPr/>
        </p:nvSpPr>
        <p:spPr>
          <a:xfrm>
            <a:off x="468360" y="5084640"/>
            <a:ext cx="287964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чрезвычай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иту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0" name="AutoShape 9"/>
          <p:cNvSpPr/>
          <p:nvPr/>
        </p:nvSpPr>
        <p:spPr>
          <a:xfrm>
            <a:off x="3564000" y="5445000"/>
            <a:ext cx="111744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1" name="Group 17"/>
          <p:cNvGrpSpPr/>
          <p:nvPr/>
        </p:nvGrpSpPr>
        <p:grpSpPr>
          <a:xfrm>
            <a:off x="4716360" y="1752480"/>
            <a:ext cx="3743280" cy="939960"/>
            <a:chOff x="4716360" y="1752480"/>
            <a:chExt cx="3743280" cy="939960"/>
          </a:xfrm>
        </p:grpSpPr>
        <p:sp>
          <p:nvSpPr>
            <p:cNvPr id="1642" name="Rectangle 7"/>
            <p:cNvSpPr/>
            <p:nvPr/>
          </p:nvSpPr>
          <p:spPr>
            <a:xfrm>
              <a:off x="4716360" y="1752480"/>
              <a:ext cx="3743280" cy="9399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3" name="Text Box 10"/>
            <p:cNvSpPr/>
            <p:nvPr/>
          </p:nvSpPr>
          <p:spPr>
            <a:xfrm>
              <a:off x="4859280" y="191628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отсутствии угрозы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4" name="Group 18"/>
          <p:cNvGrpSpPr/>
          <p:nvPr/>
        </p:nvGrpSpPr>
        <p:grpSpPr>
          <a:xfrm>
            <a:off x="4716360" y="3429000"/>
            <a:ext cx="3743280" cy="977760"/>
            <a:chOff x="4716360" y="3429000"/>
            <a:chExt cx="3743280" cy="977760"/>
          </a:xfrm>
        </p:grpSpPr>
        <p:sp>
          <p:nvSpPr>
            <p:cNvPr id="1645" name="Rectangle 11"/>
            <p:cNvSpPr/>
            <p:nvPr/>
          </p:nvSpPr>
          <p:spPr>
            <a:xfrm>
              <a:off x="4716360" y="3429000"/>
              <a:ext cx="3743280" cy="9777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6" name="Text Box 12"/>
            <p:cNvSpPr/>
            <p:nvPr/>
          </p:nvSpPr>
          <p:spPr>
            <a:xfrm>
              <a:off x="4932360" y="3573360"/>
              <a:ext cx="323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угрозе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7" name="Group 19"/>
          <p:cNvGrpSpPr/>
          <p:nvPr/>
        </p:nvGrpSpPr>
        <p:grpSpPr>
          <a:xfrm>
            <a:off x="4716360" y="5105520"/>
            <a:ext cx="3743280" cy="963360"/>
            <a:chOff x="4716360" y="5105520"/>
            <a:chExt cx="3743280" cy="963360"/>
          </a:xfrm>
        </p:grpSpPr>
        <p:sp>
          <p:nvSpPr>
            <p:cNvPr id="1648" name="Rectangle 13"/>
            <p:cNvSpPr/>
            <p:nvPr/>
          </p:nvSpPr>
          <p:spPr>
            <a:xfrm>
              <a:off x="4716360" y="5105520"/>
              <a:ext cx="3743280" cy="9633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9" name="Text Box 14"/>
            <p:cNvSpPr/>
            <p:nvPr/>
          </p:nvSpPr>
          <p:spPr>
            <a:xfrm>
              <a:off x="5003640" y="537372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возникновении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50" name="WordArt 16"/>
          <p:cNvSpPr txBox="1"/>
          <p:nvPr/>
        </p:nvSpPr>
        <p:spPr>
          <a:xfrm>
            <a:off x="1619280" y="47628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онные меропри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одготовке и проведению АСДН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2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2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BF29-3B09-41D8-84D0-546FF00F2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WordArt 4"/>
          <p:cNvSpPr txBox="1"/>
          <p:nvPr/>
        </p:nvSpPr>
        <p:spPr>
          <a:xfrm>
            <a:off x="1042920" y="54936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одимые мероприятия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отсутствии угрозы возникновения ЧС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3" name="Text Box 6"/>
          <p:cNvSpPr/>
          <p:nvPr/>
        </p:nvSpPr>
        <p:spPr>
          <a:xfrm>
            <a:off x="539640" y="2133720"/>
            <a:ext cx="8209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бор информации о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ланирование АСДНР в возможных зонах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органов управления 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, оснащение и подготовка группировки сил и средств РСЧС для проведения АСДНР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рганизация повседневного наблюдения и лабораторного контроля за состоянием окружающей среды, обстановкой на потенциально опасных объектах и на прилегающих  ним территор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резервов материальных ресурсов для ликвидации последствий ЧС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2" dur="20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6" dur="20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0" dur="2000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4" dur="2000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2000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2000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3122-4C0F-4668-82EC-6802AF4D8DD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WordArt 4"/>
          <p:cNvSpPr txBox="1"/>
          <p:nvPr/>
        </p:nvSpPr>
        <p:spPr>
          <a:xfrm>
            <a:off x="611280" y="404640"/>
            <a:ext cx="770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одимые мероприят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 угрозе возникновения Ч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468360" y="191628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приведение органов управления в готовность к выполнению задач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точнение планов по вопросам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силение наблюдения за состоянием окружающей среды, прогнозирование возможности возникновения ЧС и ее масштаб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создание группировок сил и средств и приведение их в готовность к ведению АСДНР (в т.ч. выдвижение их, при необходимости, в предполагаемые районы ЧС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2CA-E69D-47BE-97EF-4A18E2D9E2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8" name="WordArt 4"/>
          <p:cNvSpPr txBox="1"/>
          <p:nvPr/>
        </p:nvSpPr>
        <p:spPr>
          <a:xfrm>
            <a:off x="1332000" y="549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одимые мероприятия 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 возникновении ЧС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9" name="Text Box 5"/>
          <p:cNvSpPr/>
          <p:nvPr/>
        </p:nvSpPr>
        <p:spPr>
          <a:xfrm>
            <a:off x="684360" y="1989000"/>
            <a:ext cx="7775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нарушенных функций управления, если они были нарушены (в т.ч. выдвижение ОГ в районы ЧС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организация разведки зон ЧС, осуществление непрерывного контроля и сбора обстановки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боеспособности (или создание) группировки сил и средств и организация их защит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ыдвижение сил в районы проведения работ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управление проведением АСДНР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186-17B4-4B1B-BE57-18F495E5F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22" name="Picture 4" descr="фон-16"/>
          <p:cNvPicPr/>
          <p:nvPr/>
        </p:nvPicPr>
        <p:blipFill>
          <a:blip r:embed="rId1"/>
          <a:stretch/>
        </p:blipFill>
        <p:spPr>
          <a:xfrm>
            <a:off x="1332000" y="0"/>
            <a:ext cx="6383160" cy="6858000"/>
          </a:xfrm>
          <a:prstGeom prst="rect">
            <a:avLst/>
          </a:prstGeom>
          <a:ln w="0">
            <a:noFill/>
          </a:ln>
        </p:spPr>
      </p:pic>
      <p:sp>
        <p:nvSpPr>
          <p:cNvPr id="1523" name="WordArt 6"/>
          <p:cNvSpPr txBox="1"/>
          <p:nvPr/>
        </p:nvSpPr>
        <p:spPr>
          <a:xfrm>
            <a:off x="250920" y="620640"/>
            <a:ext cx="6049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бные вопросы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4" name="Text Box 7"/>
          <p:cNvSpPr/>
          <p:nvPr/>
        </p:nvSpPr>
        <p:spPr>
          <a:xfrm>
            <a:off x="1258920" y="2276640"/>
            <a:ext cx="7416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бщие положения по аварийно-спасательным и другим неотложным работам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рганизация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Проведение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8D9-03B9-4F82-A03F-486AFDE45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1" name="Picture 4" descr="фон-10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412740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6"/>
          <p:cNvSpPr/>
          <p:nvPr/>
        </p:nvSpPr>
        <p:spPr>
          <a:xfrm>
            <a:off x="1835280" y="1052640"/>
            <a:ext cx="5184720" cy="707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3" name="Text Box 7"/>
          <p:cNvSpPr/>
          <p:nvPr/>
        </p:nvSpPr>
        <p:spPr>
          <a:xfrm>
            <a:off x="2700360" y="3933720"/>
            <a:ext cx="4248000" cy="64260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4" name="Text Box 8"/>
          <p:cNvSpPr/>
          <p:nvPr/>
        </p:nvSpPr>
        <p:spPr>
          <a:xfrm>
            <a:off x="2700360" y="2781360"/>
            <a:ext cx="4248000" cy="368280"/>
          </a:xfrm>
          <a:prstGeom prst="rect">
            <a:avLst/>
          </a:pr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Text Box 9"/>
          <p:cNvSpPr/>
          <p:nvPr/>
        </p:nvSpPr>
        <p:spPr>
          <a:xfrm>
            <a:off x="2700360" y="3357720"/>
            <a:ext cx="4248000" cy="3682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Text Box 10"/>
          <p:cNvSpPr/>
          <p:nvPr/>
        </p:nvSpPr>
        <p:spPr>
          <a:xfrm>
            <a:off x="2700360" y="2205000"/>
            <a:ext cx="4248000" cy="368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Text Box 11"/>
          <p:cNvSpPr/>
          <p:nvPr/>
        </p:nvSpPr>
        <p:spPr>
          <a:xfrm>
            <a:off x="2700360" y="4797360"/>
            <a:ext cx="4248000" cy="36828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Организац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8" name="WordArt 12"/>
          <p:cNvSpPr txBox="1"/>
          <p:nvPr/>
        </p:nvSpPr>
        <p:spPr>
          <a:xfrm>
            <a:off x="2195640" y="1268280"/>
            <a:ext cx="44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АСДН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9" name="Line 13"/>
          <p:cNvSpPr/>
          <p:nvPr/>
        </p:nvSpPr>
        <p:spPr>
          <a:xfrm>
            <a:off x="2050920" y="1773360"/>
            <a:ext cx="0" cy="31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Line 14"/>
          <p:cNvSpPr/>
          <p:nvPr/>
        </p:nvSpPr>
        <p:spPr>
          <a:xfrm>
            <a:off x="2052720" y="4941720"/>
            <a:ext cx="647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1" name="Line 15"/>
          <p:cNvSpPr/>
          <p:nvPr/>
        </p:nvSpPr>
        <p:spPr>
          <a:xfrm>
            <a:off x="2052720" y="4149720"/>
            <a:ext cx="647640" cy="0"/>
          </a:xfrm>
          <a:prstGeom prst="line">
            <a:avLst/>
          </a:prstGeom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2" name="Line 16"/>
          <p:cNvSpPr/>
          <p:nvPr/>
        </p:nvSpPr>
        <p:spPr>
          <a:xfrm>
            <a:off x="2050920" y="3502080"/>
            <a:ext cx="648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Line 17"/>
          <p:cNvSpPr/>
          <p:nvPr/>
        </p:nvSpPr>
        <p:spPr>
          <a:xfrm>
            <a:off x="2050920" y="2925720"/>
            <a:ext cx="648000" cy="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Line 18"/>
          <p:cNvSpPr/>
          <p:nvPr/>
        </p:nvSpPr>
        <p:spPr>
          <a:xfrm>
            <a:off x="2050920" y="2349360"/>
            <a:ext cx="64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155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1155" fill="hold"/>
                                        <p:tgtEl>
                                          <p:spTgt spid="16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155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1155" fill="hold"/>
                                        <p:tgtEl>
                                          <p:spTgt spid="16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155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1155" fill="hold"/>
                                        <p:tgtEl>
                                          <p:spTgt spid="1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4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6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155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1155" fill="hold"/>
                                        <p:tgtEl>
                                          <p:spTgt spid="16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155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1155" fill="hold"/>
                                        <p:tgtEl>
                                          <p:spTgt spid="1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87B0-4950-4033-8335-E6C0158C6CE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Text Box 4"/>
          <p:cNvSpPr/>
          <p:nvPr/>
        </p:nvSpPr>
        <p:spPr>
          <a:xfrm>
            <a:off x="1763640" y="333360"/>
            <a:ext cx="5832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хнологии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Text Box 5"/>
          <p:cNvSpPr/>
          <p:nvPr/>
        </p:nvSpPr>
        <p:spPr>
          <a:xfrm>
            <a:off x="755640" y="1054080"/>
            <a:ext cx="23036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ъекты провед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Text Box 10"/>
          <p:cNvSpPr/>
          <p:nvPr/>
        </p:nvSpPr>
        <p:spPr>
          <a:xfrm>
            <a:off x="327672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ебования к организации и ведению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9" name="Text Box 11"/>
          <p:cNvSpPr/>
          <p:nvPr/>
        </p:nvSpPr>
        <p:spPr>
          <a:xfrm>
            <a:off x="615636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этапы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95280" y="1630440"/>
            <a:ext cx="266400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рушенные промышленные здания и гражданские соору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Text Box 20"/>
          <p:cNvSpPr/>
          <p:nvPr/>
        </p:nvSpPr>
        <p:spPr>
          <a:xfrm>
            <a:off x="395280" y="2349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ммунально-энергетические се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Text Box 21"/>
          <p:cNvSpPr/>
          <p:nvPr/>
        </p:nvSpPr>
        <p:spPr>
          <a:xfrm>
            <a:off x="395280" y="3500280"/>
            <a:ext cx="2664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фте-газо-аммиакопровод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3" name="Text Box 22"/>
          <p:cNvSpPr/>
          <p:nvPr/>
        </p:nvSpPr>
        <p:spPr>
          <a:xfrm>
            <a:off x="395280" y="29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топленные объекты и простран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4" name="Text Box 23"/>
          <p:cNvSpPr/>
          <p:nvPr/>
        </p:nvSpPr>
        <p:spPr>
          <a:xfrm>
            <a:off x="395280" y="414972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чаги химического и радиоактивного зара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Text Box 24"/>
          <p:cNvSpPr/>
          <p:nvPr/>
        </p:nvSpPr>
        <p:spPr>
          <a:xfrm>
            <a:off x="395280" y="47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омышленные предприятия, хранилищ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Text Box 25"/>
          <p:cNvSpPr/>
          <p:nvPr/>
        </p:nvSpPr>
        <p:spPr>
          <a:xfrm>
            <a:off x="395280" y="5300640"/>
            <a:ext cx="2664000" cy="24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ранспортные сре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Text Box 26"/>
          <p:cNvSpPr/>
          <p:nvPr/>
        </p:nvSpPr>
        <p:spPr>
          <a:xfrm>
            <a:off x="395280" y="5805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зрыво-пожароопасные объек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Text Box 27"/>
          <p:cNvSpPr/>
          <p:nvPr/>
        </p:nvSpPr>
        <p:spPr>
          <a:xfrm>
            <a:off x="3276720" y="1628640"/>
            <a:ext cx="2663640" cy="2975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рганизация и проведение работ в короткие сроки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менение способов и технологий, обеспечивающих быструю локализацию и снижение масштабов зараж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остаточная надежность и эффективность работ по ликвидации последствий ЧС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безопасность применяемых способов и технологий для спасателей (формирований) и окружающей среды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Text Box 28"/>
          <p:cNvSpPr/>
          <p:nvPr/>
        </p:nvSpPr>
        <p:spPr>
          <a:xfrm>
            <a:off x="6156360" y="220500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нженерно-технически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Text Box 29"/>
          <p:cNvSpPr/>
          <p:nvPr/>
        </p:nvSpPr>
        <p:spPr>
          <a:xfrm>
            <a:off x="6156360" y="1628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щая и спец. разведка района бедствия и объекта рабо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Text Box 30"/>
          <p:cNvSpPr/>
          <p:nvPr/>
        </p:nvSpPr>
        <p:spPr>
          <a:xfrm>
            <a:off x="6156360" y="278136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дготови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2" name="Text Box 31"/>
          <p:cNvSpPr/>
          <p:nvPr/>
        </p:nvSpPr>
        <p:spPr>
          <a:xfrm>
            <a:off x="6156360" y="3357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исково-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Text Box 32"/>
          <p:cNvSpPr/>
          <p:nvPr/>
        </p:nvSpPr>
        <p:spPr>
          <a:xfrm>
            <a:off x="6156360" y="3933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отложные аварийно-спаса-тельные (технические)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Text Box 33"/>
          <p:cNvSpPr/>
          <p:nvPr/>
        </p:nvSpPr>
        <p:spPr>
          <a:xfrm>
            <a:off x="6156360" y="4508640"/>
            <a:ext cx="2663640" cy="23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Ликвидация пожаров на объекта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Text Box 34"/>
          <p:cNvSpPr/>
          <p:nvPr/>
        </p:nvSpPr>
        <p:spPr>
          <a:xfrm>
            <a:off x="6156360" y="5084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азание первой медпомощи и эвакуация пострадав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Text Box 35"/>
          <p:cNvSpPr/>
          <p:nvPr/>
        </p:nvSpPr>
        <p:spPr>
          <a:xfrm>
            <a:off x="6156360" y="5661000"/>
            <a:ext cx="266364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звлечение, эвакуация, опознание и захоронение погиб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Text Box 36"/>
          <p:cNvSpPr/>
          <p:nvPr/>
        </p:nvSpPr>
        <p:spPr>
          <a:xfrm>
            <a:off x="971640" y="6308640"/>
            <a:ext cx="720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аиболее сложным технологическим этапом являются инженерные работы по обеспечению доступа к пострадавшим, их деблокирование и последующее извлечение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CE1-F281-4EB1-9B62-E3E68D2B15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9" name="Text Box 4"/>
          <p:cNvSpPr/>
          <p:nvPr/>
        </p:nvSpPr>
        <p:spPr>
          <a:xfrm>
            <a:off x="468360" y="1844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й связ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468360" y="24192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бор</a:t>
            </a:r>
            <a:r>
              <a:rPr b="1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нных об обстановке, ее анализ и оценка</a:t>
            </a:r>
            <a:r>
              <a:rPr b="0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Text Box 6"/>
          <p:cNvSpPr/>
          <p:nvPr/>
        </p:nvSpPr>
        <p:spPr>
          <a:xfrm>
            <a:off x="468360" y="4148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взаимодействия и обеспечения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Text Box 7"/>
          <p:cNvSpPr/>
          <p:nvPr/>
        </p:nvSpPr>
        <p:spPr>
          <a:xfrm>
            <a:off x="468360" y="299556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Text Box 8"/>
          <p:cNvSpPr/>
          <p:nvPr/>
        </p:nvSpPr>
        <p:spPr>
          <a:xfrm>
            <a:off x="468360" y="357192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точнение задач, доведение их до подчинен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4" name="Text Box 9"/>
          <p:cNvSpPr/>
          <p:nvPr/>
        </p:nvSpPr>
        <p:spPr>
          <a:xfrm>
            <a:off x="468360" y="4724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потерь населения, сил РСЧС(ГО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Text Box 10"/>
          <p:cNvSpPr/>
          <p:nvPr/>
        </p:nvSpPr>
        <p:spPr>
          <a:xfrm>
            <a:off x="468360" y="5300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мен информацией об обстановк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Text Box 11"/>
          <p:cNvSpPr/>
          <p:nvPr/>
        </p:nvSpPr>
        <p:spPr>
          <a:xfrm>
            <a:off x="468360" y="58770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го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WordArt 12"/>
          <p:cNvSpPr txBox="1"/>
          <p:nvPr/>
        </p:nvSpPr>
        <p:spPr>
          <a:xfrm>
            <a:off x="1476360" y="907920"/>
            <a:ext cx="60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Narrow"/>
              </a:rPr>
              <a:t>Проведение  АСДН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</p:spTree>
  </p:cSld>
  <p:transition spd="slow">
    <p:cut thruBlk="true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3FD3-7971-4AEB-8687-3A70D9C209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WordArt 4"/>
          <p:cNvSpPr txBox="1"/>
          <p:nvPr/>
        </p:nvSpPr>
        <p:spPr>
          <a:xfrm>
            <a:off x="468360" y="404640"/>
            <a:ext cx="734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зация проведения АСДНР</a:t>
            </a:r>
            <a:endParaRPr b="0" lang="en-US" sz="20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0" name="Text Box 5"/>
          <p:cNvSpPr/>
          <p:nvPr/>
        </p:nvSpPr>
        <p:spPr>
          <a:xfrm>
            <a:off x="324000" y="981000"/>
            <a:ext cx="756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варийно-спасательные и другие неотложные работы в ЧС мирного и военного времени проводятся круглосуточно, посменно до полного заверш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395280" y="1844640"/>
            <a:ext cx="3168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прерывность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3924360" y="1844640"/>
            <a:ext cx="4392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пешное выполнение задач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2556000" y="2421000"/>
            <a:ext cx="316836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 О С Т И Г А Е Т С 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4" name="Line 9"/>
          <p:cNvSpPr/>
          <p:nvPr/>
        </p:nvSpPr>
        <p:spPr>
          <a:xfrm>
            <a:off x="291636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Line 10"/>
          <p:cNvSpPr/>
          <p:nvPr/>
        </p:nvSpPr>
        <p:spPr>
          <a:xfrm flipH="1">
            <a:off x="4716360" y="220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Text Box 11"/>
          <p:cNvSpPr/>
          <p:nvPr/>
        </p:nvSpPr>
        <p:spPr>
          <a:xfrm>
            <a:off x="395280" y="3357720"/>
            <a:ext cx="36720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циональной их организацией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еративным и твердым управл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маневром силами 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лным обеспечением необходимыми средствами защиты и материально-техническим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заменой формирований и спасателей с учетом режимов работы в условиях заражения (ОВ, АХОВ, РВ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Text Box 12"/>
          <p:cNvSpPr/>
          <p:nvPr/>
        </p:nvSpPr>
        <p:spPr>
          <a:xfrm>
            <a:off x="4427640" y="3357720"/>
            <a:ext cx="432108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организацией и непрерывным ведением разведк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вводом сил и средств в очаги пораж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благовременным изучением командирами (руководителями) формирований участков (объектов) работ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ей взаимодействия сил и средств, всесторонним их обеспеч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блюдением правил и мер безопасности при проведении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8" name="Line 13"/>
          <p:cNvSpPr/>
          <p:nvPr/>
        </p:nvSpPr>
        <p:spPr>
          <a:xfrm flipH="1">
            <a:off x="2484000" y="278136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Line 14"/>
          <p:cNvSpPr/>
          <p:nvPr/>
        </p:nvSpPr>
        <p:spPr>
          <a:xfrm>
            <a:off x="4572000" y="2781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Text Box 19"/>
          <p:cNvSpPr/>
          <p:nvPr/>
        </p:nvSpPr>
        <p:spPr>
          <a:xfrm>
            <a:off x="1258920" y="5805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 задачи при проведении АСДНР выполняются в максимально короткие сроки, в три этап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0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654-02B3-4A62-A60A-266A0E2265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2" name="AutoShape 4"/>
          <p:cNvSpPr/>
          <p:nvPr/>
        </p:nvSpPr>
        <p:spPr>
          <a:xfrm>
            <a:off x="2195640" y="3571920"/>
            <a:ext cx="6858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AutoShape 5"/>
          <p:cNvSpPr/>
          <p:nvPr/>
        </p:nvSpPr>
        <p:spPr>
          <a:xfrm>
            <a:off x="684360" y="3500280"/>
            <a:ext cx="1449360" cy="513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AutoShape 6"/>
          <p:cNvSpPr/>
          <p:nvPr/>
        </p:nvSpPr>
        <p:spPr>
          <a:xfrm>
            <a:off x="684360" y="2421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AutoShape 7"/>
          <p:cNvSpPr/>
          <p:nvPr/>
        </p:nvSpPr>
        <p:spPr>
          <a:xfrm>
            <a:off x="2209680" y="247644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6" name="AutoShape 8"/>
          <p:cNvSpPr/>
          <p:nvPr/>
        </p:nvSpPr>
        <p:spPr>
          <a:xfrm>
            <a:off x="684360" y="4653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7" name="AutoShape 9"/>
          <p:cNvSpPr/>
          <p:nvPr/>
        </p:nvSpPr>
        <p:spPr>
          <a:xfrm>
            <a:off x="2195640" y="472428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Text Box 10"/>
          <p:cNvSpPr/>
          <p:nvPr/>
        </p:nvSpPr>
        <p:spPr>
          <a:xfrm>
            <a:off x="2916360" y="2205000"/>
            <a:ext cx="5943600" cy="916920"/>
          </a:xfrm>
          <a:prstGeom prst="rect">
            <a:avLst/>
          </a:prstGeom>
          <a:solidFill>
            <a:srgbClr val="ffffe1"/>
          </a:solidFill>
          <a:ln w="9360">
            <a:solidFill>
              <a:srgbClr val="ffa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29" name="Group 16"/>
          <p:cNvGrpSpPr/>
          <p:nvPr/>
        </p:nvGrpSpPr>
        <p:grpSpPr>
          <a:xfrm>
            <a:off x="2916360" y="3355920"/>
            <a:ext cx="5921280" cy="1008000"/>
            <a:chOff x="2916360" y="3355920"/>
            <a:chExt cx="5921280" cy="1008000"/>
          </a:xfrm>
        </p:grpSpPr>
        <p:sp>
          <p:nvSpPr>
            <p:cNvPr id="1730" name="Rectangle 11"/>
            <p:cNvSpPr/>
            <p:nvPr/>
          </p:nvSpPr>
          <p:spPr>
            <a:xfrm>
              <a:off x="2916360" y="3355920"/>
              <a:ext cx="5921280" cy="100800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1" name="Text Box 12"/>
            <p:cNvSpPr/>
            <p:nvPr/>
          </p:nvSpPr>
          <p:spPr>
            <a:xfrm>
              <a:off x="3419640" y="3500280"/>
              <a:ext cx="4836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оведение аварийно-спасательных и других неотложных работ в зонах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32" name="Group 17"/>
          <p:cNvGrpSpPr/>
          <p:nvPr/>
        </p:nvGrpSpPr>
        <p:grpSpPr>
          <a:xfrm>
            <a:off x="2916360" y="4653000"/>
            <a:ext cx="5921280" cy="647640"/>
            <a:chOff x="2916360" y="4653000"/>
            <a:chExt cx="5921280" cy="647640"/>
          </a:xfrm>
        </p:grpSpPr>
        <p:sp>
          <p:nvSpPr>
            <p:cNvPr id="1733" name="Rectangle 13"/>
            <p:cNvSpPr/>
            <p:nvPr/>
          </p:nvSpPr>
          <p:spPr>
            <a:xfrm>
              <a:off x="2916360" y="4653000"/>
              <a:ext cx="5921280" cy="64764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4" name="Text Box 14"/>
            <p:cNvSpPr/>
            <p:nvPr/>
          </p:nvSpPr>
          <p:spPr>
            <a:xfrm>
              <a:off x="3708360" y="4724640"/>
              <a:ext cx="39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Ликвидация последствий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35" name="WordArt 15"/>
          <p:cNvSpPr txBox="1"/>
          <p:nvPr/>
        </p:nvSpPr>
        <p:spPr>
          <a:xfrm>
            <a:off x="1403280" y="333360"/>
            <a:ext cx="67024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930-ABD6-4232-BC32-CB2623772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9520" y="2279520"/>
            <a:ext cx="24908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Экстренная защит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населения и оказание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мощи пострадавшим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овещение о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озникновении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пользование средст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защиты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эвакуация из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айон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блюдение режим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вед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озыск, извлечение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нос пострадавших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казание им мед. помощ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Line 5"/>
          <p:cNvSpPr/>
          <p:nvPr/>
        </p:nvSpPr>
        <p:spPr>
          <a:xfrm flipV="1">
            <a:off x="1547640" y="1557360"/>
            <a:ext cx="1800" cy="71928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9" name="Line 7"/>
          <p:cNvSpPr/>
          <p:nvPr/>
        </p:nvSpPr>
        <p:spPr>
          <a:xfrm flipH="1" flipV="1">
            <a:off x="4566960" y="907920"/>
            <a:ext cx="4680" cy="136872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0" name="Rectangle 8"/>
          <p:cNvSpPr/>
          <p:nvPr/>
        </p:nvSpPr>
        <p:spPr>
          <a:xfrm>
            <a:off x="3219480" y="2279520"/>
            <a:ext cx="25574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редотвращени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и уменьшение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воздействий ЧС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локализация очаг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раж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ерекрытие или подавление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точников выделения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асных веществ (излучений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остановка ил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тключение технологических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цесс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тушение пожаров;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анитарная обработка 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беззараживание.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1" name="Rectangle 10"/>
          <p:cNvSpPr/>
          <p:nvPr/>
        </p:nvSpPr>
        <p:spPr>
          <a:xfrm>
            <a:off x="6343560" y="2276640"/>
            <a:ext cx="2475000" cy="3957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дготовка к проведению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лномасштаб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АСДНР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разведк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ценка обстановки и 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гнозирование е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ведение в готовность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рганов управления и сил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здание группировки сил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 средств РС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движение ОГ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ределение границ зоны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нятие решения н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2" name="Line 11"/>
          <p:cNvSpPr/>
          <p:nvPr/>
        </p:nvSpPr>
        <p:spPr>
          <a:xfrm>
            <a:off x="7451640" y="1557360"/>
            <a:ext cx="1800" cy="68580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3" name="Rectangle 14"/>
          <p:cNvSpPr/>
          <p:nvPr/>
        </p:nvSpPr>
        <p:spPr>
          <a:xfrm>
            <a:off x="1979640" y="404640"/>
            <a:ext cx="5083200" cy="936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4" name="Line 15"/>
          <p:cNvSpPr/>
          <p:nvPr/>
        </p:nvSpPr>
        <p:spPr>
          <a:xfrm>
            <a:off x="1547640" y="1557360"/>
            <a:ext cx="5904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5" name="WordArt 16"/>
          <p:cNvSpPr txBox="1"/>
          <p:nvPr/>
        </p:nvSpPr>
        <p:spPr>
          <a:xfrm>
            <a:off x="2124000" y="549360"/>
            <a:ext cx="482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1 этап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инятие экстренных мер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657-773C-4F7C-8484-D4F661AEF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7" name="Text Box 5"/>
          <p:cNvSpPr/>
          <p:nvPr/>
        </p:nvSpPr>
        <p:spPr>
          <a:xfrm>
            <a:off x="539640" y="1557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ончательная выработка решения на 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8" name="Text Box 6"/>
          <p:cNvSpPr/>
          <p:nvPr/>
        </p:nvSpPr>
        <p:spPr>
          <a:xfrm>
            <a:off x="539640" y="2637000"/>
            <a:ext cx="8210520" cy="612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тановка задач формированиям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9" name="Text Box 7"/>
          <p:cNvSpPr/>
          <p:nvPr/>
        </p:nvSpPr>
        <p:spPr>
          <a:xfrm>
            <a:off x="539640" y="3573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управления, взаимодействия и обеспечения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0" name="Text Box 8"/>
          <p:cNvSpPr/>
          <p:nvPr/>
        </p:nvSpPr>
        <p:spPr>
          <a:xfrm>
            <a:off x="539640" y="558972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нтроль за выполнением поставленных зада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Text Box 9"/>
          <p:cNvSpPr/>
          <p:nvPr/>
        </p:nvSpPr>
        <p:spPr>
          <a:xfrm>
            <a:off x="539640" y="4581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Line 10"/>
          <p:cNvSpPr/>
          <p:nvPr/>
        </p:nvSpPr>
        <p:spPr>
          <a:xfrm>
            <a:off x="4427640" y="2276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3" name="Line 11"/>
          <p:cNvSpPr/>
          <p:nvPr/>
        </p:nvSpPr>
        <p:spPr>
          <a:xfrm>
            <a:off x="442764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4" name="Line 12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Line 13"/>
          <p:cNvSpPr/>
          <p:nvPr/>
        </p:nvSpPr>
        <p:spPr>
          <a:xfrm>
            <a:off x="4427640" y="5300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Rectangle 14"/>
          <p:cNvSpPr/>
          <p:nvPr/>
        </p:nvSpPr>
        <p:spPr>
          <a:xfrm>
            <a:off x="1763640" y="333360"/>
            <a:ext cx="5977080" cy="9367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7" name="WordArt 15"/>
          <p:cNvSpPr txBox="1"/>
          <p:nvPr/>
        </p:nvSpPr>
        <p:spPr>
          <a:xfrm>
            <a:off x="1908000" y="47628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2 этап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роведение полномасштабных АСДНР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3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0" dur="3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3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3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0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3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DB92-5820-4A53-AAD2-BF474CCD59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59" name="Group 7"/>
          <p:cNvGrpSpPr/>
          <p:nvPr/>
        </p:nvGrpSpPr>
        <p:grpSpPr>
          <a:xfrm>
            <a:off x="1692360" y="476280"/>
            <a:ext cx="6192720" cy="1152360"/>
            <a:chOff x="1692360" y="476280"/>
            <a:chExt cx="6192720" cy="1152360"/>
          </a:xfrm>
        </p:grpSpPr>
        <p:sp>
          <p:nvSpPr>
            <p:cNvPr id="1760" name="WordArt 5"/>
            <p:cNvSpPr txBox="1"/>
            <p:nvPr/>
          </p:nvSpPr>
          <p:spPr>
            <a:xfrm>
              <a:off x="1908000" y="620640"/>
              <a:ext cx="5544720" cy="86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Основные работы 2 этап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в ходе проведения АСДНР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61" name="Rectangle 6"/>
            <p:cNvSpPr/>
            <p:nvPr/>
          </p:nvSpPr>
          <p:spPr>
            <a:xfrm>
              <a:off x="1692360" y="476280"/>
              <a:ext cx="6192720" cy="1152360"/>
            </a:xfrm>
            <a:prstGeom prst="rect">
              <a:avLst/>
            </a:prstGeom>
            <a:noFill/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62" name="Text Box 8"/>
          <p:cNvSpPr/>
          <p:nvPr/>
        </p:nvSpPr>
        <p:spPr>
          <a:xfrm>
            <a:off x="1476360" y="1989000"/>
            <a:ext cx="6696000" cy="5511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Розыск пострадавших, извлечение их из завалов, горящих зданий, поврежденных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Text Box 9"/>
          <p:cNvSpPr/>
          <p:nvPr/>
        </p:nvSpPr>
        <p:spPr>
          <a:xfrm>
            <a:off x="1476360" y="2637000"/>
            <a:ext cx="6696000" cy="322560"/>
          </a:xfrm>
          <a:prstGeom prst="rect">
            <a:avLst/>
          </a:prstGeom>
          <a:solidFill>
            <a:srgbClr val="ffe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Эвакуация населения из опасных районо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4" name="Text Box 10"/>
          <p:cNvSpPr/>
          <p:nvPr/>
        </p:nvSpPr>
        <p:spPr>
          <a:xfrm>
            <a:off x="1476360" y="3068640"/>
            <a:ext cx="6696000" cy="5511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Оказание пострадавшим первой медицинской помощи и других видов помощ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476360" y="3716280"/>
            <a:ext cx="6696000" cy="322560"/>
          </a:xfrm>
          <a:prstGeom prst="rect">
            <a:avLst/>
          </a:prstGeom>
          <a:solidFill>
            <a:srgbClr val="f5eb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Локализация очага пораж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Text Box 13"/>
          <p:cNvSpPr/>
          <p:nvPr/>
        </p:nvSpPr>
        <p:spPr>
          <a:xfrm>
            <a:off x="1476360" y="4149720"/>
            <a:ext cx="6696000" cy="551160"/>
          </a:xfrm>
          <a:prstGeom prst="rect">
            <a:avLst/>
          </a:prstGeom>
          <a:solidFill>
            <a:srgbClr val="ffeed5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 Narrow"/>
              </a:rPr>
              <a:t>Разборка завалов, укрепление конструкций, угрожающих обрушение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Text Box 14"/>
          <p:cNvSpPr/>
          <p:nvPr/>
        </p:nvSpPr>
        <p:spPr>
          <a:xfrm>
            <a:off x="1476360" y="4797360"/>
            <a:ext cx="6696000" cy="551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м энергетических и коммунальных сетей, линий связи в интересах обеспечения спасатель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1476360" y="5445000"/>
            <a:ext cx="6696000" cy="77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Проведение специальной обработки (санитарной обработки людей, дегазации, дезактивации техники, имущества, сооружений территорий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9" name="Line 16"/>
          <p:cNvSpPr/>
          <p:nvPr/>
        </p:nvSpPr>
        <p:spPr>
          <a:xfrm flipH="1">
            <a:off x="1115640" y="1052640"/>
            <a:ext cx="5763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1116000" y="1052640"/>
            <a:ext cx="0" cy="475272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Line 18"/>
          <p:cNvSpPr/>
          <p:nvPr/>
        </p:nvSpPr>
        <p:spPr>
          <a:xfrm>
            <a:off x="1116000" y="2276640"/>
            <a:ext cx="36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Line 19"/>
          <p:cNvSpPr/>
          <p:nvPr/>
        </p:nvSpPr>
        <p:spPr>
          <a:xfrm>
            <a:off x="1116000" y="2781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Line 20"/>
          <p:cNvSpPr/>
          <p:nvPr/>
        </p:nvSpPr>
        <p:spPr>
          <a:xfrm>
            <a:off x="1116000" y="32846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Line 21"/>
          <p:cNvSpPr/>
          <p:nvPr/>
        </p:nvSpPr>
        <p:spPr>
          <a:xfrm>
            <a:off x="1116000" y="3860640"/>
            <a:ext cx="360360" cy="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Line 22"/>
          <p:cNvSpPr/>
          <p:nvPr/>
        </p:nvSpPr>
        <p:spPr>
          <a:xfrm>
            <a:off x="1116000" y="4437000"/>
            <a:ext cx="360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6" name="Line 23"/>
          <p:cNvSpPr/>
          <p:nvPr/>
        </p:nvSpPr>
        <p:spPr>
          <a:xfrm>
            <a:off x="1116000" y="5084640"/>
            <a:ext cx="3603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7" name="Line 24"/>
          <p:cNvSpPr/>
          <p:nvPr/>
        </p:nvSpPr>
        <p:spPr>
          <a:xfrm>
            <a:off x="1116000" y="5805360"/>
            <a:ext cx="36036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D36-E2F8-4B6F-A3A6-36717062DE0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9" name="Rectangle 4"/>
          <p:cNvSpPr/>
          <p:nvPr/>
        </p:nvSpPr>
        <p:spPr>
          <a:xfrm>
            <a:off x="1619280" y="333360"/>
            <a:ext cx="6192720" cy="1060560"/>
          </a:xfrm>
          <a:prstGeom prst="rect">
            <a:avLst/>
          </a:prstGeom>
          <a:gradFill rotWithShape="0">
            <a:gsLst>
              <a:gs pos="0">
                <a:srgbClr val="f0b362"/>
              </a:gs>
              <a:gs pos="50000">
                <a:srgbClr val="ffffff"/>
              </a:gs>
              <a:gs pos="100000">
                <a:srgbClr val="f0b362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0" name="Rectangle 5"/>
          <p:cNvSpPr/>
          <p:nvPr/>
        </p:nvSpPr>
        <p:spPr>
          <a:xfrm>
            <a:off x="25092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Перв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здание условий 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первоочередного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изнеобеспечения пострадавшег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се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Rectangle 6"/>
          <p:cNvSpPr/>
          <p:nvPr/>
        </p:nvSpPr>
        <p:spPr>
          <a:xfrm>
            <a:off x="478800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Втор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2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ектов, пострадавших при ЧС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2" name="Line 7"/>
          <p:cNvSpPr/>
          <p:nvPr/>
        </p:nvSpPr>
        <p:spPr>
          <a:xfrm flipH="1">
            <a:off x="2268000" y="1413000"/>
            <a:ext cx="230364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3" name="Line 8"/>
          <p:cNvSpPr/>
          <p:nvPr/>
        </p:nvSpPr>
        <p:spPr>
          <a:xfrm>
            <a:off x="4500720" y="1413000"/>
            <a:ext cx="230328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4" name="WordArt 9"/>
          <p:cNvSpPr txBox="1"/>
          <p:nvPr/>
        </p:nvSpPr>
        <p:spPr>
          <a:xfrm>
            <a:off x="1908000" y="54936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этап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квидация последствий ЧС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0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38D-4194-45EC-A24C-9139CB4DF3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6" name="Text Box 5"/>
          <p:cNvSpPr/>
          <p:nvPr/>
        </p:nvSpPr>
        <p:spPr>
          <a:xfrm>
            <a:off x="755640" y="17002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проведения специальной обработки, дезактивация, дегазация             и дезинфекция территории, дорог, сооружений и других объектов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7" name="Text Box 6"/>
          <p:cNvSpPr/>
          <p:nvPr/>
        </p:nvSpPr>
        <p:spPr>
          <a:xfrm>
            <a:off x="755640" y="2781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распределение ресурсов в пользу пострадавше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8" name="Text Box 7"/>
          <p:cNvSpPr/>
          <p:nvPr/>
        </p:nvSpPr>
        <p:spPr>
          <a:xfrm>
            <a:off x="755640" y="4941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осстановления систем и объектов первоочередного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Text Box 8"/>
          <p:cNvSpPr/>
          <p:nvPr/>
        </p:nvSpPr>
        <p:spPr>
          <a:xfrm>
            <a:off x="755640" y="2349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движение в район ЧС мобильных формирований жизне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0" name="Text Box 9"/>
          <p:cNvSpPr/>
          <p:nvPr/>
        </p:nvSpPr>
        <p:spPr>
          <a:xfrm>
            <a:off x="755640" y="6237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эвакуация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1" name="Text Box 10"/>
          <p:cNvSpPr/>
          <p:nvPr/>
        </p:nvSpPr>
        <p:spPr>
          <a:xfrm>
            <a:off x="755640" y="42940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топливо - энергетического и транспортного обеспечения работы систем и объектов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2" name="Text Box 11"/>
          <p:cNvSpPr/>
          <p:nvPr/>
        </p:nvSpPr>
        <p:spPr>
          <a:xfrm>
            <a:off x="755640" y="5589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медико-санитарного обеспечения и другие необходимые меры. Организация медицинского обслужива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3" name="WordArt 12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перв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4" name="Text Box 13"/>
          <p:cNvSpPr/>
          <p:nvPr/>
        </p:nvSpPr>
        <p:spPr>
          <a:xfrm>
            <a:off x="755640" y="321300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ременное размещение населения, оставшегося без кро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Text Box 14"/>
          <p:cNvSpPr/>
          <p:nvPr/>
        </p:nvSpPr>
        <p:spPr>
          <a:xfrm>
            <a:off x="755640" y="364500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населения продуктами питания, водой и предметами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omb dir="ver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0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4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5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4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5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50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4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5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F1AA-9C31-49F7-9213-A84A96902E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Text Box 4"/>
          <p:cNvSpPr/>
          <p:nvPr/>
        </p:nvSpPr>
        <p:spPr>
          <a:xfrm>
            <a:off x="611280" y="2421000"/>
            <a:ext cx="777708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Федеральный   закон  «О гражданской обороне» от 12.02.98г. №2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611280" y="41497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. Федеральный   закон «Об аварийно-спасательных службах и статусе спасателей» от 22.08.1995г. №151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611280" y="31399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Федеральный   закон  «О защите населения    и территорий от чрезвычайных ситуаций природного и техногенного характера» от 21.12.1994г. № 6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9" name="WordArt 8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611280" y="508464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4. "Руководство по действиям органов управления и сил РСЧС при угрозе и возникновении чрезвычайных ситуаций", 1996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2F6-EDBE-4F4F-9A89-DDDB8040A4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7" name="WordArt 4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втор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8" name="Text Box 5"/>
          <p:cNvSpPr/>
          <p:nvPr/>
        </p:nvSpPr>
        <p:spPr>
          <a:xfrm>
            <a:off x="900000" y="2276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строительство здан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Text Box 6"/>
          <p:cNvSpPr/>
          <p:nvPr/>
        </p:nvSpPr>
        <p:spPr>
          <a:xfrm>
            <a:off x="900000" y="3284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энергоснабжения и транспор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0" name="Text Box 7"/>
          <p:cNvSpPr/>
          <p:nvPr/>
        </p:nvSpPr>
        <p:spPr>
          <a:xfrm>
            <a:off x="900000" y="4292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гидротехнических сооружений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1" name="Text Box 8"/>
          <p:cNvSpPr/>
          <p:nvPr/>
        </p:nvSpPr>
        <p:spPr>
          <a:xfrm>
            <a:off x="900000" y="2781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установка нового оборудова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Text Box 9"/>
          <p:cNvSpPr/>
          <p:nvPr/>
        </p:nvSpPr>
        <p:spPr>
          <a:xfrm>
            <a:off x="900000" y="3789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полн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Text Box 10"/>
          <p:cNvSpPr/>
          <p:nvPr/>
        </p:nvSpPr>
        <p:spPr>
          <a:xfrm>
            <a:off x="900000" y="4797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хозяйственных связе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0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4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5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4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4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5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4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002-E16C-4978-83FF-A383C7BC44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5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мир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Text Box 5"/>
          <p:cNvSpPr/>
          <p:nvPr/>
        </p:nvSpPr>
        <p:spPr>
          <a:xfrm>
            <a:off x="250920" y="1557360"/>
            <a:ext cx="76341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и средств для проведения АСДНР определена в «Плане действий по предупреждению и ликвидации последствий ЧС», который вводится в действие Председателем КЧС или руководителем местного самоуправления, организац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7" name="Text Box 6"/>
          <p:cNvSpPr/>
          <p:nvPr/>
        </p:nvSpPr>
        <p:spPr>
          <a:xfrm>
            <a:off x="2843280" y="278136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ВЛЕКАЮТС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8" name="Text Box 8"/>
          <p:cNvSpPr/>
          <p:nvPr/>
        </p:nvSpPr>
        <p:spPr>
          <a:xfrm>
            <a:off x="250920" y="350208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рриториальные аварийно-спасательные формирования решением КЧС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Text Box 9"/>
          <p:cNvSpPr/>
          <p:nvPr/>
        </p:nvSpPr>
        <p:spPr>
          <a:xfrm>
            <a:off x="4427640" y="3502080"/>
            <a:ext cx="34574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ъектовые аварийно-спасательные формирования решением объектовой К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Line 10"/>
          <p:cNvSpPr/>
          <p:nvPr/>
        </p:nvSpPr>
        <p:spPr>
          <a:xfrm flipH="1">
            <a:off x="2410920" y="314172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Line 11"/>
          <p:cNvSpPr/>
          <p:nvPr/>
        </p:nvSpPr>
        <p:spPr>
          <a:xfrm>
            <a:off x="4427640" y="314172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2" name="Text Box 12"/>
          <p:cNvSpPr/>
          <p:nvPr/>
        </p:nvSpPr>
        <p:spPr>
          <a:xfrm>
            <a:off x="755640" y="5013360"/>
            <a:ext cx="6624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щее количество сил и средств определяется Председателем КЧС с учетом объема выполняем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683-BAF0-473B-A474-2783A4AFA6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воен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250920" y="1341360"/>
            <a:ext cx="76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(на основе оценки прогнозируемой обстановки) отражена в специальном разделе «Плана ГО и защиты населения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ое звено организующее проведение АСДНР – субъект РФ (область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2916360" y="2421000"/>
            <a:ext cx="32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Text Box 13"/>
          <p:cNvSpPr/>
          <p:nvPr/>
        </p:nvSpPr>
        <p:spPr>
          <a:xfrm>
            <a:off x="32400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вы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Text Box 14"/>
          <p:cNvSpPr/>
          <p:nvPr/>
        </p:nvSpPr>
        <p:spPr>
          <a:xfrm>
            <a:off x="324000" y="3357720"/>
            <a:ext cx="266364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обильные, подготовленные и оснащенные техникой силы для выполнения работ в высоком темп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инские части и подразделения, выделяемые по планам взаимодейств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категорированных город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службы и формирования привлекаемые в интересах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9" name="Text Box 15"/>
          <p:cNvSpPr/>
          <p:nvPr/>
        </p:nvSpPr>
        <p:spPr>
          <a:xfrm>
            <a:off x="6084720" y="2998800"/>
            <a:ext cx="266400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зерв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0" name="Text Box 16"/>
          <p:cNvSpPr/>
          <p:nvPr/>
        </p:nvSpPr>
        <p:spPr>
          <a:xfrm>
            <a:off x="6084720" y="3357720"/>
            <a:ext cx="266400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внезапно возникающих задач,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мены сил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муниципальных образов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, выделяемые по планам взаимодействия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1" name="Text Box 17"/>
          <p:cNvSpPr/>
          <p:nvPr/>
        </p:nvSpPr>
        <p:spPr>
          <a:xfrm>
            <a:off x="320364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торо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2" name="Text Box 18"/>
          <p:cNvSpPr/>
          <p:nvPr/>
        </p:nvSpPr>
        <p:spPr>
          <a:xfrm>
            <a:off x="3203640" y="3357720"/>
            <a:ext cx="2663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наращивания усилий и расширения фронта спасательных работ и замены подразделений первого эшелон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асти и подразделения МО РФ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 с более поздними сроками развертыва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3" name="Line 19"/>
          <p:cNvSpPr/>
          <p:nvPr/>
        </p:nvSpPr>
        <p:spPr>
          <a:xfrm>
            <a:off x="4500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4" name="Line 20"/>
          <p:cNvSpPr/>
          <p:nvPr/>
        </p:nvSpPr>
        <p:spPr>
          <a:xfrm flipH="1">
            <a:off x="2339640" y="278136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5" name="Line 21"/>
          <p:cNvSpPr/>
          <p:nvPr/>
        </p:nvSpPr>
        <p:spPr>
          <a:xfrm>
            <a:off x="5651640" y="2781360"/>
            <a:ext cx="122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57C-1ACE-4441-8AA8-D746982FD7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27" name="WordArt 7"/>
          <p:cNvGrpSpPr/>
          <p:nvPr/>
        </p:nvGrpSpPr>
        <p:grpSpPr>
          <a:xfrm>
            <a:off x="1468440" y="974880"/>
            <a:ext cx="6492960" cy="1019160"/>
            <a:chOff x="1468440" y="974880"/>
            <a:chExt cx="6492960" cy="1019160"/>
          </a:xfrm>
        </p:grpSpPr>
        <p:pic>
          <p:nvPicPr>
            <p:cNvPr id="1828" name="WordArt 7" descr=""/>
            <p:cNvPicPr/>
            <p:nvPr/>
          </p:nvPicPr>
          <p:blipFill>
            <a:blip r:embed="rId1"/>
            <a:stretch/>
          </p:blipFill>
          <p:spPr>
            <a:xfrm>
              <a:off x="1468440" y="974880"/>
              <a:ext cx="64929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9" name=""/>
            <p:cNvSpPr/>
            <p:nvPr/>
          </p:nvSpPr>
          <p:spPr>
            <a:xfrm>
              <a:off x="1476360" y="981000"/>
              <a:ext cx="6480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при организации и в ход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дения АСДНР включает: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30" name="Text Box 9"/>
          <p:cNvSpPr/>
          <p:nvPr/>
        </p:nvSpPr>
        <p:spPr>
          <a:xfrm>
            <a:off x="971640" y="2205000"/>
            <a:ext cx="7632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осуществление мероприятий по поддержанию и приведению в готовность органов управления и сил РС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рерывный сбор, анализ и отображение данных обстановки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одготовку расчетов и предложений для принятия начальником ГО (председателем комиссии по ЧС) решен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ринятие решений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уточнение планов (планирование действий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своевременное доведение задач до подчиненны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поддержание взаимодейств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всестороннего обеспечения привлекаемых сил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осредственное руководство подразделениями и контроль исполн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0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8" dur="3000"/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4" dur="3000"/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0" dur="3000"/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6" dur="3000"/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2" dur="3000"/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0" dur="3000"/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6" dur="3000"/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F5C-737A-4D1B-A8E5-F7498F073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2" name="Text Box 4"/>
          <p:cNvSpPr/>
          <p:nvPr/>
        </p:nvSpPr>
        <p:spPr>
          <a:xfrm>
            <a:off x="1187280" y="1628640"/>
            <a:ext cx="6985080" cy="398520"/>
          </a:xfrm>
          <a:prstGeom prst="rect">
            <a:avLst/>
          </a:prstGeom>
          <a:noFill/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рганизация управл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Text Box 5"/>
          <p:cNvSpPr/>
          <p:nvPr/>
        </p:nvSpPr>
        <p:spPr>
          <a:xfrm>
            <a:off x="1835280" y="2494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Text Box 6"/>
          <p:cNvSpPr/>
          <p:nvPr/>
        </p:nvSpPr>
        <p:spPr>
          <a:xfrm>
            <a:off x="1835280" y="321300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5" name="Text Box 7"/>
          <p:cNvSpPr/>
          <p:nvPr/>
        </p:nvSpPr>
        <p:spPr>
          <a:xfrm>
            <a:off x="1835280" y="386064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6" name="Text Box 8"/>
          <p:cNvSpPr/>
          <p:nvPr/>
        </p:nvSpPr>
        <p:spPr>
          <a:xfrm>
            <a:off x="1835280" y="4510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Text Box 9"/>
          <p:cNvSpPr/>
          <p:nvPr/>
        </p:nvSpPr>
        <p:spPr>
          <a:xfrm>
            <a:off x="1835280" y="515772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Line 10"/>
          <p:cNvSpPr/>
          <p:nvPr/>
        </p:nvSpPr>
        <p:spPr>
          <a:xfrm>
            <a:off x="1401840" y="2133720"/>
            <a:ext cx="0" cy="3166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9" name="Line 11"/>
          <p:cNvSpPr/>
          <p:nvPr/>
        </p:nvSpPr>
        <p:spPr>
          <a:xfrm>
            <a:off x="1403280" y="530208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0" name="Line 12"/>
          <p:cNvSpPr/>
          <p:nvPr/>
        </p:nvSpPr>
        <p:spPr>
          <a:xfrm>
            <a:off x="1403280" y="4653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Line 13"/>
          <p:cNvSpPr/>
          <p:nvPr/>
        </p:nvSpPr>
        <p:spPr>
          <a:xfrm>
            <a:off x="1403280" y="400536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Line 14"/>
          <p:cNvSpPr/>
          <p:nvPr/>
        </p:nvSpPr>
        <p:spPr>
          <a:xfrm>
            <a:off x="1403280" y="335772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3" name="Line 15"/>
          <p:cNvSpPr/>
          <p:nvPr/>
        </p:nvSpPr>
        <p:spPr>
          <a:xfrm>
            <a:off x="1403280" y="2637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EF1-8A95-4687-AF9C-7866C6950E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1692360" y="1557360"/>
            <a:ext cx="5473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лавная цель управ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6" name="Text Box 5"/>
          <p:cNvSpPr/>
          <p:nvPr/>
        </p:nvSpPr>
        <p:spPr>
          <a:xfrm>
            <a:off x="61128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эффективного использования сил и средств по спасению людей и выполнению неотлож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7" name="Text Box 6"/>
          <p:cNvSpPr/>
          <p:nvPr/>
        </p:nvSpPr>
        <p:spPr>
          <a:xfrm>
            <a:off x="478800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полнение АСДНР в полном объеме, в короткие сроки и с минимальными потерями сил и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Line 7"/>
          <p:cNvSpPr/>
          <p:nvPr/>
        </p:nvSpPr>
        <p:spPr>
          <a:xfrm flipH="1">
            <a:off x="2771280" y="2060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Line 8"/>
          <p:cNvSpPr/>
          <p:nvPr/>
        </p:nvSpPr>
        <p:spPr>
          <a:xfrm>
            <a:off x="4788000" y="2060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Text Box 9"/>
          <p:cNvSpPr/>
          <p:nvPr/>
        </p:nvSpPr>
        <p:spPr>
          <a:xfrm>
            <a:off x="684360" y="3645000"/>
            <a:ext cx="7488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ой управления является Решение руководителей местного самоуправления и организаций (председателя КЧС) и указаний вышестоящего органа управления по ГО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1" name="WordArt 10"/>
          <p:cNvSpPr txBox="1"/>
          <p:nvPr/>
        </p:nvSpPr>
        <p:spPr>
          <a:xfrm>
            <a:off x="1116000" y="692280"/>
            <a:ext cx="699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в ходе ведения  АСДНР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2" name="Text Box 11"/>
          <p:cNvSpPr/>
          <p:nvPr/>
        </p:nvSpPr>
        <p:spPr>
          <a:xfrm>
            <a:off x="1332000" y="4724280"/>
            <a:ext cx="5976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ебования к управлению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Line 12"/>
          <p:cNvSpPr/>
          <p:nvPr/>
        </p:nvSpPr>
        <p:spPr>
          <a:xfrm>
            <a:off x="1619280" y="5589720"/>
            <a:ext cx="55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Text Box 13"/>
          <p:cNvSpPr/>
          <p:nvPr/>
        </p:nvSpPr>
        <p:spPr>
          <a:xfrm>
            <a:off x="334800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Непреры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Text Box 14"/>
          <p:cNvSpPr/>
          <p:nvPr/>
        </p:nvSpPr>
        <p:spPr>
          <a:xfrm>
            <a:off x="6084720" y="5877000"/>
            <a:ext cx="223236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Гибкость и тверд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Text Box 15"/>
          <p:cNvSpPr/>
          <p:nvPr/>
        </p:nvSpPr>
        <p:spPr>
          <a:xfrm>
            <a:off x="61128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перати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Line 16"/>
          <p:cNvSpPr/>
          <p:nvPr/>
        </p:nvSpPr>
        <p:spPr>
          <a:xfrm>
            <a:off x="4427640" y="5157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8" name="Line 17"/>
          <p:cNvSpPr/>
          <p:nvPr/>
        </p:nvSpPr>
        <p:spPr>
          <a:xfrm>
            <a:off x="161928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9" name="Line 18"/>
          <p:cNvSpPr/>
          <p:nvPr/>
        </p:nvSpPr>
        <p:spPr>
          <a:xfrm>
            <a:off x="716436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AD3-F513-4A70-86A3-2F0C5A58FA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1" name="WordArt 4"/>
          <p:cNvSpPr txBox="1"/>
          <p:nvPr/>
        </p:nvSpPr>
        <p:spPr>
          <a:xfrm>
            <a:off x="971640" y="40464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правление в ходе ведения АСДНР</a:t>
            </a:r>
            <a:endParaRPr b="0" lang="en-US" sz="16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1692360" y="19890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Требования к управлению достигаются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611280" y="2565360"/>
            <a:ext cx="8064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приближением пунктов управления (ПУ) к местам действий подразделений (сил и средств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выполнением задач во взаимодействии с комиссией по ЧС и формированиями аварийного объекта, а также с территориальной комиссией по ЧС и ее оперативной группо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знанием обстановки и быстрым реагированием на ее изменения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настойчивым претворением в жизнь принятых решений и технологий выполнения задач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облюдением мер безопасности при проведении АСДНР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7C35-C5F3-45FD-9467-E107988229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39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При оценке обстановки командир (руководитель) должен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изучи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и объем разрушений, пожаров и других поражений на участке работ и пути выдвижения к ни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иды предстоящих работ и их объе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радиационную, химическую и биологическую обстановки (РХБ) и их влияние на выполнение задач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состояние готовности и обеспеченности своего и приданных формирований и их возмож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действий и задачи сосед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местности на действия формирования и состояние маршрута выдвижения к очагу поражения и на участок рабо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погоды, времени года и суток на выполнение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WordArt 7"/>
          <p:cNvSpPr txBox="1"/>
          <p:nvPr/>
        </p:nvSpPr>
        <p:spPr>
          <a:xfrm>
            <a:off x="611280" y="549360"/>
            <a:ext cx="56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0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600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600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600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600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600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600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600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600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A0D-9762-48E5-A460-54C4E233DA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92144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 fontScale="99000"/>
          </a:bodyPr>
          <a:p>
            <a:pPr marL="262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В оценку обстановки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Narrow"/>
              </a:rPr>
              <a:t>входит</a:t>
            </a: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анализ основных факторов обстановки и оценка последствий ЧС (вид экстремальной ситуации, характер и масштабы аварии), тип, характер и масштабы радиоактивного, химического зараж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факторы, осложняющие обстановку (пожары, взрывы и др.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ценка имеющихся сил и средств, состояние их готовности к действию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характер местности в районе аварии, состояние погоды, время года и суток, их возможное влияние на обстановку и выполнение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беспеченность и потребность в материально-технических средствах для выполнения поставленной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ыбор наиболее целесообразных вариантов действий насел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пределение мероприятий по защите населения и ликвидации последствий ЧС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озможности аварийного объекта и территориальных органов по ликвидации последствий авар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WordArt 5"/>
          <p:cNvSpPr txBox="1"/>
          <p:nvPr/>
        </p:nvSpPr>
        <p:spPr>
          <a:xfrm>
            <a:off x="611280" y="476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0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0" fill="hold"/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3000" fill="hold"/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000" fill="hold"/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000" fill="hold"/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000" fill="hold"/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000" fill="hold"/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3000" fill="hold"/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018-F08C-4327-98C5-3C87DB686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Rectangle 4"/>
          <p:cNvSpPr/>
          <p:nvPr/>
        </p:nvSpPr>
        <p:spPr>
          <a:xfrm>
            <a:off x="1619280" y="765000"/>
            <a:ext cx="6408720" cy="935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2" name="Rectangle 5"/>
          <p:cNvSpPr/>
          <p:nvPr/>
        </p:nvSpPr>
        <p:spPr>
          <a:xfrm>
            <a:off x="322200" y="2637000"/>
            <a:ext cx="2232000" cy="1439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Уясн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3" name="Rectangle 6"/>
          <p:cNvSpPr/>
          <p:nvPr/>
        </p:nvSpPr>
        <p:spPr>
          <a:xfrm>
            <a:off x="1835280" y="4869000"/>
            <a:ext cx="230328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бстанов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4" name="Rectangle 7"/>
          <p:cNvSpPr/>
          <p:nvPr/>
        </p:nvSpPr>
        <p:spPr>
          <a:xfrm>
            <a:off x="4930920" y="4869000"/>
            <a:ext cx="235080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Проведе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расчет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6804000" y="2637000"/>
            <a:ext cx="2133720" cy="1401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Сдела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вывод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Line 9"/>
          <p:cNvSpPr/>
          <p:nvPr/>
        </p:nvSpPr>
        <p:spPr>
          <a:xfrm flipH="1">
            <a:off x="1402920" y="1700280"/>
            <a:ext cx="331164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Line 10"/>
          <p:cNvSpPr/>
          <p:nvPr/>
        </p:nvSpPr>
        <p:spPr>
          <a:xfrm flipH="1">
            <a:off x="2987640" y="1700280"/>
            <a:ext cx="17272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4714920" y="1700280"/>
            <a:ext cx="12970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4714920" y="1700280"/>
            <a:ext cx="316872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WordArt 13"/>
          <p:cNvSpPr txBox="1"/>
          <p:nvPr/>
        </p:nvSpPr>
        <p:spPr>
          <a:xfrm>
            <a:off x="1763640" y="98100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336666"/>
                    </a:gs>
                    <a:gs pos="50000">
                      <a:srgbClr val="d1ffff"/>
                    </a:gs>
                    <a:gs pos="100000">
                      <a:srgbClr val="3366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 </a:t>
            </a:r>
            <a:endParaRPr b="0" lang="en-US" sz="16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336666"/>
                  </a:gs>
                  <a:gs pos="50000">
                    <a:srgbClr val="d1ffff"/>
                  </a:gs>
                  <a:gs pos="100000">
                    <a:srgbClr val="3366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0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8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60C8-D53F-499A-B6DB-42D9BAC1FDA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2" name="Text Box 5"/>
          <p:cNvSpPr/>
          <p:nvPr/>
        </p:nvSpPr>
        <p:spPr>
          <a:xfrm>
            <a:off x="971640" y="314172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7. "Руководство по выполнению спасательных и других неотложных работ  в условиях завалов и разрушения зданий и сооружений", 1994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3" name="Text Box 6"/>
          <p:cNvSpPr/>
          <p:nvPr/>
        </p:nvSpPr>
        <p:spPr>
          <a:xfrm>
            <a:off x="971640" y="220500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6. "Наставление (для войск ГО и ПСС) по организации и технологии ведения АСДНР при ЧС", М., ВНИИ ГОЧС, 1998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4" name="Text Box 7"/>
          <p:cNvSpPr/>
          <p:nvPr/>
        </p:nvSpPr>
        <p:spPr>
          <a:xfrm>
            <a:off x="971640" y="4149720"/>
            <a:ext cx="7561080" cy="1191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и ведение гражданской обороны и защиты населения и территорий от чрезвычайных ситуаций природного и техногенного характера / Учебное пособие ; Под общ. ред. Г.Н. Кириллова , г. Москва, 200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5" name="WordArt 9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34D-014B-4AEE-AB69-54B78FCF8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2" name="AutoShape 2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3" name="WordArt 3"/>
          <p:cNvSpPr txBox="1"/>
          <p:nvPr/>
        </p:nvSpPr>
        <p:spPr>
          <a:xfrm>
            <a:off x="539640" y="836640"/>
            <a:ext cx="806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решения руководителя (председателя КЧС)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редложения должностных лиц ОУ ГОЧС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884" name="Group 4"/>
          <p:cNvGrpSpPr/>
          <p:nvPr/>
        </p:nvGrpSpPr>
        <p:grpSpPr>
          <a:xfrm>
            <a:off x="395280" y="2133720"/>
            <a:ext cx="8424720" cy="2665440"/>
            <a:chOff x="395280" y="2133720"/>
            <a:chExt cx="8424720" cy="2665440"/>
          </a:xfrm>
        </p:grpSpPr>
        <p:sp>
          <p:nvSpPr>
            <p:cNvPr id="1885" name="Text Box 5"/>
            <p:cNvSpPr/>
            <p:nvPr/>
          </p:nvSpPr>
          <p:spPr>
            <a:xfrm>
              <a:off x="684360" y="2206800"/>
              <a:ext cx="51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 Narrow"/>
                </a:rPr>
                <a:t>РЕШЕНИЕ руководителя (постановление КЧС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6" name="Text Box 6"/>
            <p:cNvSpPr/>
            <p:nvPr/>
          </p:nvSpPr>
          <p:spPr>
            <a:xfrm>
              <a:off x="6948360" y="2133720"/>
              <a:ext cx="1871640" cy="47484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должностных лиц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7" name="Line 7"/>
            <p:cNvSpPr/>
            <p:nvPr/>
          </p:nvSpPr>
          <p:spPr>
            <a:xfrm flipH="1">
              <a:off x="5292360" y="2349360"/>
              <a:ext cx="1655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8" name="Rectangle 8"/>
            <p:cNvSpPr/>
            <p:nvPr/>
          </p:nvSpPr>
          <p:spPr>
            <a:xfrm>
              <a:off x="6948360" y="278280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9" name="Rectangle 9"/>
            <p:cNvSpPr/>
            <p:nvPr/>
          </p:nvSpPr>
          <p:spPr>
            <a:xfrm>
              <a:off x="6804000" y="292572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0" name="Rectangle 10"/>
            <p:cNvSpPr/>
            <p:nvPr/>
          </p:nvSpPr>
          <p:spPr>
            <a:xfrm>
              <a:off x="6659640" y="307008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1" name="AutoShape 11"/>
            <p:cNvSpPr/>
            <p:nvPr/>
          </p:nvSpPr>
          <p:spPr>
            <a:xfrm>
              <a:off x="6012000" y="3214800"/>
              <a:ext cx="2376360" cy="934920"/>
            </a:xfrm>
            <a:prstGeom prst="leftArrowCallout">
              <a:avLst>
                <a:gd name="adj1" fmla="val 21224"/>
                <a:gd name="adj2" fmla="val 31324"/>
                <a:gd name="adj3" fmla="val 34126"/>
                <a:gd name="adj4" fmla="val 81234"/>
              </a:avLst>
            </a:prstGeom>
            <a:gradFill rotWithShape="0">
              <a:gsLst>
                <a:gs pos="0">
                  <a:srgbClr val="d1f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2" name="Text Box 12"/>
            <p:cNvSpPr/>
            <p:nvPr/>
          </p:nvSpPr>
          <p:spPr>
            <a:xfrm>
              <a:off x="6516720" y="3286080"/>
              <a:ext cx="18003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 Narrow"/>
                </a:rPr>
                <a:t>Выводы </a:t>
              </a:r>
              <a:r>
                <a:rPr b="0" lang="ru-RU" sz="1400" spc="-1" strike="noStrike">
                  <a:solidFill>
                    <a:srgbClr val="000099"/>
                  </a:solidFill>
                  <a:latin typeface="Arial Narrow"/>
                </a:rPr>
                <a:t>из оценки каждого элемента обстановки, влияющие на выполнени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893" name="Group 13"/>
            <p:cNvGrpSpPr/>
            <p:nvPr/>
          </p:nvGrpSpPr>
          <p:grpSpPr>
            <a:xfrm>
              <a:off x="2556000" y="2782800"/>
              <a:ext cx="3456000" cy="1977480"/>
              <a:chOff x="2556000" y="2782800"/>
              <a:chExt cx="3456000" cy="1977480"/>
            </a:xfrm>
          </p:grpSpPr>
          <p:sp>
            <p:nvSpPr>
              <p:cNvPr id="1894" name="Text Box 14"/>
              <p:cNvSpPr/>
              <p:nvPr/>
            </p:nvSpPr>
            <p:spPr>
              <a:xfrm>
                <a:off x="2556000" y="2782800"/>
                <a:ext cx="3456000" cy="85572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уяснения задач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99"/>
                    </a:solidFill>
                    <a:latin typeface="Arial Narrow"/>
                  </a:rPr>
                  <a:t>Цель предстоящих действий, основные задачи, порядок взаимодействия, сроки выполнения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5" name="Text Box 15"/>
              <p:cNvSpPr/>
              <p:nvPr/>
            </p:nvSpPr>
            <p:spPr>
              <a:xfrm>
                <a:off x="2556000" y="3646440"/>
                <a:ext cx="3456000" cy="47484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оценки обстановк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6" name="Text Box 16"/>
              <p:cNvSpPr/>
              <p:nvPr/>
            </p:nvSpPr>
            <p:spPr>
              <a:xfrm>
                <a:off x="255600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Характер 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озможн. последст.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7" name="Text Box 17"/>
              <p:cNvSpPr/>
              <p:nvPr/>
            </p:nvSpPr>
            <p:spPr>
              <a:xfrm>
                <a:off x="341964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Свои силы, соседи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8" name="Text Box 18"/>
              <p:cNvSpPr/>
              <p:nvPr/>
            </p:nvSpPr>
            <p:spPr>
              <a:xfrm>
                <a:off x="514692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ремя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9" name="Text Box 19"/>
              <p:cNvSpPr/>
              <p:nvPr/>
            </p:nvSpPr>
            <p:spPr>
              <a:xfrm>
                <a:off x="428328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Район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900" name="AutoShape 20"/>
            <p:cNvSpPr/>
            <p:nvPr/>
          </p:nvSpPr>
          <p:spPr>
            <a:xfrm>
              <a:off x="395280" y="2782800"/>
              <a:ext cx="1657440" cy="2016360"/>
            </a:xfrm>
            <a:custGeom>
              <a:avLst/>
              <a:gdLst>
                <a:gd name="textAreaLeft" fmla="*/ 80640 w 1657440"/>
                <a:gd name="textAreaRight" fmla="*/ 1576800 w 1657440"/>
                <a:gd name="textAreaTop" fmla="*/ 80640 h 2016360"/>
                <a:gd name="textAreaBottom" fmla="*/ 1935720 h 2016360"/>
              </a:gdLst>
              <a:ahLst/>
              <a:rect l="textAreaLeft" t="textAreaTop" r="textAreaRight" b="textAreaBottom"/>
              <a:pathLst>
                <a:path w="21600" h="26276">
                  <a:moveTo>
                    <a:pt x="3600" y="0"/>
                  </a:moveTo>
                  <a:arcTo wR="3600" hR="3600" stAng="16200000" swAng="-5400000"/>
                  <a:lnTo>
                    <a:pt x="0" y="22676"/>
                  </a:lnTo>
                  <a:arcTo wR="3600" hR="3600" stAng="10800000" swAng="-5400000"/>
                  <a:lnTo>
                    <a:pt x="18000" y="262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1" name="Text Box 21"/>
            <p:cNvSpPr/>
            <p:nvPr/>
          </p:nvSpPr>
          <p:spPr>
            <a:xfrm>
              <a:off x="395280" y="3357720"/>
              <a:ext cx="15843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Мотивацион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2" name="AutoShape 22"/>
            <p:cNvSpPr/>
            <p:nvPr/>
          </p:nvSpPr>
          <p:spPr>
            <a:xfrm>
              <a:off x="2124000" y="2782800"/>
              <a:ext cx="360360" cy="2016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0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026-5B4D-468B-975E-2CBAE7D2A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4" name="AutoShape 4"/>
          <p:cNvSpPr/>
          <p:nvPr/>
        </p:nvSpPr>
        <p:spPr>
          <a:xfrm>
            <a:off x="0" y="-171360"/>
            <a:ext cx="9144000" cy="702936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05" name="Group 59"/>
          <p:cNvGrpSpPr/>
          <p:nvPr/>
        </p:nvGrpSpPr>
        <p:grpSpPr>
          <a:xfrm>
            <a:off x="395280" y="2016000"/>
            <a:ext cx="8569440" cy="3393360"/>
            <a:chOff x="395280" y="2016000"/>
            <a:chExt cx="8569440" cy="3393360"/>
          </a:xfrm>
        </p:grpSpPr>
        <p:sp>
          <p:nvSpPr>
            <p:cNvPr id="1906" name="Text Box 8"/>
            <p:cNvSpPr/>
            <p:nvPr/>
          </p:nvSpPr>
          <p:spPr>
            <a:xfrm>
              <a:off x="7524720" y="2016000"/>
              <a:ext cx="1332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замысел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7" name="AutoShape 22"/>
            <p:cNvSpPr/>
            <p:nvPr/>
          </p:nvSpPr>
          <p:spPr>
            <a:xfrm>
              <a:off x="395280" y="2681280"/>
              <a:ext cx="1512720" cy="2066760"/>
            </a:xfrm>
            <a:custGeom>
              <a:avLst/>
              <a:gdLst>
                <a:gd name="textAreaLeft" fmla="*/ 73800 w 1512720"/>
                <a:gd name="textAreaRight" fmla="*/ 1438920 w 1512720"/>
                <a:gd name="textAreaTop" fmla="*/ 73800 h 2066760"/>
                <a:gd name="textAreaBottom" fmla="*/ 1992960 h 2066760"/>
              </a:gdLst>
              <a:ahLst/>
              <a:rect l="textAreaLeft" t="textAreaTop" r="textAreaRight" b="textAreaBottom"/>
              <a:pathLst>
                <a:path w="21600" h="29509">
                  <a:moveTo>
                    <a:pt x="3600" y="0"/>
                  </a:moveTo>
                  <a:arcTo wR="3600" hR="3600" stAng="16200000" swAng="-5400000"/>
                  <a:lnTo>
                    <a:pt x="0" y="25909"/>
                  </a:lnTo>
                  <a:arcTo wR="3600" hR="3600" stAng="10800000" swAng="-5400000"/>
                  <a:lnTo>
                    <a:pt x="18000" y="29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8" name="Text Box 23"/>
            <p:cNvSpPr/>
            <p:nvPr/>
          </p:nvSpPr>
          <p:spPr>
            <a:xfrm>
              <a:off x="395280" y="3270240"/>
              <a:ext cx="15127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Содержатель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9" name="AutoShape 24"/>
            <p:cNvSpPr/>
            <p:nvPr/>
          </p:nvSpPr>
          <p:spPr>
            <a:xfrm>
              <a:off x="1979640" y="2679840"/>
              <a:ext cx="360360" cy="20667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3640 h 2066760"/>
                <a:gd name="textAreaBottom" fmla="*/ 2013120 h 20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0" name="Text Box 44"/>
            <p:cNvSpPr/>
            <p:nvPr/>
          </p:nvSpPr>
          <p:spPr>
            <a:xfrm>
              <a:off x="2411280" y="267984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Цель предстоящих действ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1" name="Text Box 45"/>
            <p:cNvSpPr/>
            <p:nvPr/>
          </p:nvSpPr>
          <p:spPr>
            <a:xfrm>
              <a:off x="2411280" y="319572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пособы проведения работ, направления основных усил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2" name="Text Box 46"/>
            <p:cNvSpPr/>
            <p:nvPr/>
          </p:nvSpPr>
          <p:spPr>
            <a:xfrm>
              <a:off x="2411280" y="3713040"/>
              <a:ext cx="4896000" cy="5526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сновные задачи, сроки, порядок и способы их реш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3" name="Text Box 47"/>
            <p:cNvSpPr/>
            <p:nvPr/>
          </p:nvSpPr>
          <p:spPr>
            <a:xfrm>
              <a:off x="2411280" y="422928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Группировка сил, ее построение, возможный маневр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4" name="AutoShape 48"/>
            <p:cNvSpPr/>
            <p:nvPr/>
          </p:nvSpPr>
          <p:spPr>
            <a:xfrm rot="16200000">
              <a:off x="7947720" y="2400840"/>
              <a:ext cx="665280" cy="1368360"/>
            </a:xfrm>
            <a:prstGeom prst="wedgeRectCallout">
              <a:avLst>
                <a:gd name="adj1" fmla="val -141199"/>
                <a:gd name="adj2" fmla="val -74944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5" name="Text Box 49"/>
            <p:cNvSpPr/>
            <p:nvPr/>
          </p:nvSpPr>
          <p:spPr>
            <a:xfrm>
              <a:off x="7667640" y="2825640"/>
              <a:ext cx="122544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Как решать основны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16" name="Group 54"/>
            <p:cNvGrpSpPr/>
            <p:nvPr/>
          </p:nvGrpSpPr>
          <p:grpSpPr>
            <a:xfrm>
              <a:off x="7596360" y="4228920"/>
              <a:ext cx="1368360" cy="1180440"/>
              <a:chOff x="7596360" y="4228920"/>
              <a:chExt cx="1368360" cy="1180440"/>
            </a:xfrm>
          </p:grpSpPr>
          <p:sp>
            <p:nvSpPr>
              <p:cNvPr id="1917" name="AutoShape 52"/>
              <p:cNvSpPr/>
              <p:nvPr/>
            </p:nvSpPr>
            <p:spPr>
              <a:xfrm rot="16200000">
                <a:off x="7690320" y="4134960"/>
                <a:ext cx="1180440" cy="1368360"/>
              </a:xfrm>
              <a:prstGeom prst="wedgeRectCallout">
                <a:avLst>
                  <a:gd name="adj1" fmla="val 43384"/>
                  <a:gd name="adj2" fmla="val -74365"/>
                </a:avLst>
              </a:prstGeom>
              <a:gradFill rotWithShape="0">
                <a:gsLst>
                  <a:gs pos="0">
                    <a:srgbClr val="ebffff"/>
                  </a:gs>
                  <a:gs pos="50000">
                    <a:srgbClr val="f3ffff"/>
                  </a:gs>
                  <a:gs pos="100000">
                    <a:srgbClr val="ebffff"/>
                  </a:gs>
                </a:gsLst>
                <a:lin ang="10800000"/>
              </a:gradFill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8" name="Text Box 53"/>
              <p:cNvSpPr/>
              <p:nvPr/>
            </p:nvSpPr>
            <p:spPr>
              <a:xfrm>
                <a:off x="7667640" y="4302360"/>
                <a:ext cx="1225440" cy="10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 Narrow"/>
                  </a:rPr>
                  <a:t>Какую иметь группировку сил, порядок ее построения, характер маневра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9" name="WordArt 58"/>
          <p:cNvSpPr txBox="1"/>
          <p:nvPr/>
        </p:nvSpPr>
        <p:spPr>
          <a:xfrm>
            <a:off x="3276720" y="1484280"/>
            <a:ext cx="28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ысел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nodeType="clickEffect" fill="hold">
                      <p:stCondLst>
                        <p:cond delay="0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ED8-430B-4B2A-8009-0B57E282E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1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22" name="Group 40"/>
          <p:cNvGrpSpPr/>
          <p:nvPr/>
        </p:nvGrpSpPr>
        <p:grpSpPr>
          <a:xfrm>
            <a:off x="179280" y="333360"/>
            <a:ext cx="8785440" cy="6211080"/>
            <a:chOff x="179280" y="333360"/>
            <a:chExt cx="8785440" cy="6211080"/>
          </a:xfrm>
        </p:grpSpPr>
        <p:sp>
          <p:nvSpPr>
            <p:cNvPr id="1923" name="Text Box 5"/>
            <p:cNvSpPr/>
            <p:nvPr/>
          </p:nvSpPr>
          <p:spPr>
            <a:xfrm>
              <a:off x="2627280" y="333360"/>
              <a:ext cx="39607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 Narrow"/>
                </a:rPr>
                <a:t>РЕШИЛ (ПРИКАЗЫВАЮ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Задачи подчиненным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4" name="Text Box 6"/>
            <p:cNvSpPr/>
            <p:nvPr/>
          </p:nvSpPr>
          <p:spPr>
            <a:xfrm>
              <a:off x="7380360" y="692280"/>
              <a:ext cx="13320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приказную часть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5" name="AutoShape 7"/>
            <p:cNvSpPr/>
            <p:nvPr/>
          </p:nvSpPr>
          <p:spPr>
            <a:xfrm>
              <a:off x="179280" y="2852640"/>
              <a:ext cx="1513080" cy="2016360"/>
            </a:xfrm>
            <a:custGeom>
              <a:avLst/>
              <a:gdLst>
                <a:gd name="textAreaLeft" fmla="*/ 73800 w 1513080"/>
                <a:gd name="textAreaRight" fmla="*/ 1439280 w 1513080"/>
                <a:gd name="textAreaTop" fmla="*/ 73800 h 2016360"/>
                <a:gd name="textAreaBottom" fmla="*/ 1942560 h 201636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6" name="Text Box 8"/>
            <p:cNvSpPr/>
            <p:nvPr/>
          </p:nvSpPr>
          <p:spPr>
            <a:xfrm>
              <a:off x="179280" y="3427560"/>
              <a:ext cx="15130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Приказная (распоряди-тельная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7" name="AutoShape 9"/>
            <p:cNvSpPr/>
            <p:nvPr/>
          </p:nvSpPr>
          <p:spPr>
            <a:xfrm>
              <a:off x="1763640" y="1268280"/>
              <a:ext cx="360360" cy="46818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2040 h 4681800"/>
                <a:gd name="textAreaBottom" fmla="*/ 4559760 h 46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8" name="Text Box 10"/>
            <p:cNvSpPr/>
            <p:nvPr/>
          </p:nvSpPr>
          <p:spPr>
            <a:xfrm>
              <a:off x="2124000" y="126828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ются действия для решения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9" name="Text Box 11"/>
            <p:cNvSpPr/>
            <p:nvPr/>
          </p:nvSpPr>
          <p:spPr>
            <a:xfrm>
              <a:off x="2124000" y="234936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ется порядок взаимодействия в ходе совместных действий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2124000" y="479736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орядок управления действиями привлекаемых сил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1" name="Text Box 13"/>
            <p:cNvSpPr/>
            <p:nvPr/>
          </p:nvSpPr>
          <p:spPr>
            <a:xfrm>
              <a:off x="2124000" y="537372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 каких пунктов управления будет осуществляться управление привлекаемыми силами, очередность взятия управл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2" name="AutoShape 17"/>
            <p:cNvSpPr/>
            <p:nvPr/>
          </p:nvSpPr>
          <p:spPr>
            <a:xfrm rot="16200000">
              <a:off x="7632000" y="1161000"/>
              <a:ext cx="1081080" cy="1584360"/>
            </a:xfrm>
            <a:prstGeom prst="wedgeRectCallout">
              <a:avLst>
                <a:gd name="adj1" fmla="val 56458"/>
                <a:gd name="adj2" fmla="val -74449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3" name="Text Box 18"/>
            <p:cNvSpPr/>
            <p:nvPr/>
          </p:nvSpPr>
          <p:spPr>
            <a:xfrm>
              <a:off x="7524720" y="1486080"/>
              <a:ext cx="128592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Задачи группировкам сил для реализации замысла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4" name="Text Box 19"/>
            <p:cNvSpPr/>
            <p:nvPr/>
          </p:nvSpPr>
          <p:spPr>
            <a:xfrm>
              <a:off x="2627280" y="191628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взаимодейств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5" name="Text Box 20"/>
            <p:cNvSpPr/>
            <p:nvPr/>
          </p:nvSpPr>
          <p:spPr>
            <a:xfrm>
              <a:off x="2627280" y="306864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обеспеч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6" name="Text Box 24"/>
            <p:cNvSpPr/>
            <p:nvPr/>
          </p:nvSpPr>
          <p:spPr>
            <a:xfrm>
              <a:off x="2124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Специальн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7" name="Text Box 25"/>
            <p:cNvSpPr/>
            <p:nvPr/>
          </p:nvSpPr>
          <p:spPr>
            <a:xfrm>
              <a:off x="3348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ехни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8" name="Text Box 26"/>
            <p:cNvSpPr/>
            <p:nvPr/>
          </p:nvSpPr>
          <p:spPr>
            <a:xfrm>
              <a:off x="5796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Морально-психологи-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9" name="Text Box 27"/>
            <p:cNvSpPr/>
            <p:nvPr/>
          </p:nvSpPr>
          <p:spPr>
            <a:xfrm>
              <a:off x="4572000" y="3500280"/>
              <a:ext cx="129528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ылов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0" name="Text Box 28"/>
            <p:cNvSpPr/>
            <p:nvPr/>
          </p:nvSpPr>
          <p:spPr>
            <a:xfrm>
              <a:off x="2627280" y="43657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1" name="AutoShape 30"/>
            <p:cNvSpPr/>
            <p:nvPr/>
          </p:nvSpPr>
          <p:spPr>
            <a:xfrm rot="16200000">
              <a:off x="7452720" y="4293000"/>
              <a:ext cx="1439640" cy="1584360"/>
            </a:xfrm>
            <a:prstGeom prst="wedgeRectCallout">
              <a:avLst>
                <a:gd name="adj1" fmla="val -43055"/>
                <a:gd name="adj2" fmla="val -76657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2" name="Text Box 31"/>
            <p:cNvSpPr/>
            <p:nvPr/>
          </p:nvSpPr>
          <p:spPr>
            <a:xfrm>
              <a:off x="7380360" y="4437000"/>
              <a:ext cx="158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 Narrow"/>
                </a:rPr>
                <a:t>Какой пункт управ-ления будет команд-ным, необходимые силы и средства для обеспечения его функ ционирования, оче-редность взятия управления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3" name="AutoShape 33"/>
            <p:cNvSpPr/>
            <p:nvPr/>
          </p:nvSpPr>
          <p:spPr>
            <a:xfrm rot="16200000">
              <a:off x="7740000" y="3069000"/>
              <a:ext cx="865080" cy="1584360"/>
            </a:xfrm>
            <a:prstGeom prst="wedgeRectCallout">
              <a:avLst>
                <a:gd name="adj1" fmla="val 32935"/>
                <a:gd name="adj2" fmla="val -74750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4" name="Text Box 34"/>
            <p:cNvSpPr/>
            <p:nvPr/>
          </p:nvSpPr>
          <p:spPr>
            <a:xfrm>
              <a:off x="7462800" y="3500280"/>
              <a:ext cx="141912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и спосо-бы обеспечения, проводимые мероприят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5" name="AutoShape 36"/>
            <p:cNvSpPr/>
            <p:nvPr/>
          </p:nvSpPr>
          <p:spPr>
            <a:xfrm rot="16200000">
              <a:off x="7765200" y="2169000"/>
              <a:ext cx="792360" cy="1584360"/>
            </a:xfrm>
            <a:prstGeom prst="wedgeRectCallout">
              <a:avLst>
                <a:gd name="adj1" fmla="val 53805"/>
                <a:gd name="adj2" fmla="val -76055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6" name="Text Box 37"/>
            <p:cNvSpPr/>
            <p:nvPr/>
          </p:nvSpPr>
          <p:spPr>
            <a:xfrm>
              <a:off x="7451640" y="2637000"/>
              <a:ext cx="141948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взаимодействия привлекаемых сил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7" name="Text Box 38"/>
            <p:cNvSpPr/>
            <p:nvPr/>
          </p:nvSpPr>
          <p:spPr>
            <a:xfrm>
              <a:off x="611280" y="6237360"/>
              <a:ext cx="69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Вопросы для согласования со старшим начальником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(при необходимости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fade thruBlk="true"/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nodeType="clickEffect" fill="hold">
                      <p:stCondLst>
                        <p:cond delay="0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4" dur="5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7B4-773D-436C-A027-EA356DE6F77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замысла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0" name="Text Box 5"/>
          <p:cNvSpPr/>
          <p:nvPr/>
        </p:nvSpPr>
        <p:spPr>
          <a:xfrm>
            <a:off x="900000" y="249228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Цели, объем и характер предстоящих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1" name="Text Box 6"/>
          <p:cNvSpPr/>
          <p:nvPr/>
        </p:nvSpPr>
        <p:spPr>
          <a:xfrm>
            <a:off x="900000" y="357336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частки сосредоточения основных усил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2" name="Text Box 7"/>
          <p:cNvSpPr/>
          <p:nvPr/>
        </p:nvSpPr>
        <p:spPr>
          <a:xfrm>
            <a:off x="900000" y="465300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сновные задачи, сроки, последовательность и способы технологи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3" name="Text Box 8"/>
          <p:cNvSpPr/>
          <p:nvPr/>
        </p:nvSpPr>
        <p:spPr>
          <a:xfrm>
            <a:off x="900000" y="573408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Группировка сил (состав, количество), ее построение, возможный маневр, материально-техническое обеспечени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4" name="AutoShape 9"/>
          <p:cNvSpPr/>
          <p:nvPr/>
        </p:nvSpPr>
        <p:spPr>
          <a:xfrm>
            <a:off x="4356000" y="328464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5" name="AutoShape 10"/>
          <p:cNvSpPr/>
          <p:nvPr/>
        </p:nvSpPr>
        <p:spPr>
          <a:xfrm>
            <a:off x="4356000" y="436572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6" name="AutoShape 11"/>
          <p:cNvSpPr/>
          <p:nvPr/>
        </p:nvSpPr>
        <p:spPr>
          <a:xfrm>
            <a:off x="4356000" y="5445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amond/>
  </p:transition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nodeType="clickEffect" fill="hold">
                      <p:stCondLst>
                        <p:cond delay="0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740-7595-462E-A020-F049B9A5980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8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9" name="Text Box 5"/>
          <p:cNvSpPr/>
          <p:nvPr/>
        </p:nvSpPr>
        <p:spPr>
          <a:xfrm>
            <a:off x="900000" y="24922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мысел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0" name="Text Box 6"/>
          <p:cNvSpPr/>
          <p:nvPr/>
        </p:nvSpPr>
        <p:spPr>
          <a:xfrm>
            <a:off x="900000" y="335772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дачи подчиненных и приданных формирований, способы и срок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1" name="Text Box 7"/>
          <p:cNvSpPr/>
          <p:nvPr/>
        </p:nvSpPr>
        <p:spPr>
          <a:xfrm>
            <a:off x="900000" y="422100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ыдвижения на участок (объект)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Text Box 8"/>
          <p:cNvSpPr/>
          <p:nvPr/>
        </p:nvSpPr>
        <p:spPr>
          <a:xfrm>
            <a:off x="900000" y="508464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заимодейств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AutoShape 9"/>
          <p:cNvSpPr/>
          <p:nvPr/>
        </p:nvSpPr>
        <p:spPr>
          <a:xfrm>
            <a:off x="4500720" y="314172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4" name="Text Box 12"/>
          <p:cNvSpPr/>
          <p:nvPr/>
        </p:nvSpPr>
        <p:spPr>
          <a:xfrm>
            <a:off x="900000" y="59500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ероприятия по организации управления и обеспеч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5" name="AutoShape 13"/>
          <p:cNvSpPr/>
          <p:nvPr/>
        </p:nvSpPr>
        <p:spPr>
          <a:xfrm>
            <a:off x="4500720" y="400536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AutoShape 14"/>
          <p:cNvSpPr/>
          <p:nvPr/>
        </p:nvSpPr>
        <p:spPr>
          <a:xfrm>
            <a:off x="4500720" y="486900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AutoShape 15"/>
          <p:cNvSpPr/>
          <p:nvPr/>
        </p:nvSpPr>
        <p:spPr>
          <a:xfrm>
            <a:off x="4500720" y="573408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0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A34-D751-4761-AD33-A1BFDC5142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9" name="WordArt 4"/>
          <p:cNvSpPr txBox="1"/>
          <p:nvPr/>
        </p:nvSpPr>
        <p:spPr>
          <a:xfrm>
            <a:off x="1908000" y="765000"/>
            <a:ext cx="55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cf0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а приказ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cf0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0" name="Text Box 6"/>
          <p:cNvSpPr/>
          <p:nvPr/>
        </p:nvSpPr>
        <p:spPr>
          <a:xfrm>
            <a:off x="1116000" y="191628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аткие выводы из оценки обстановки на участке работ (степень разрушения, пожары, концентрация АХОВ, состояние сетей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Text Box 7"/>
          <p:cNvSpPr/>
          <p:nvPr/>
        </p:nvSpPr>
        <p:spPr>
          <a:xfrm>
            <a:off x="1116000" y="249228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2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формирования, способы и технологии выполнения работ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2" name="Text Box 8"/>
          <p:cNvSpPr/>
          <p:nvPr/>
        </p:nvSpPr>
        <p:spPr>
          <a:xfrm>
            <a:off x="1116000" y="378936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5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сле слов «приказываю» ставятся задачи подчиненным: объем спасательных работ, способы и сроки выполн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3" name="Text Box 9"/>
          <p:cNvSpPr/>
          <p:nvPr/>
        </p:nvSpPr>
        <p:spPr>
          <a:xfrm>
            <a:off x="1116000" y="2852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3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соседей и приданных си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Text Box 10"/>
          <p:cNvSpPr/>
          <p:nvPr/>
        </p:nvSpPr>
        <p:spPr>
          <a:xfrm>
            <a:off x="1116000" y="3213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4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мысел действий: где, какие работы необходимо выполнить и время их выполнения, где и на какие работы сосредоточить основные усил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5" name="Text Box 11"/>
          <p:cNvSpPr/>
          <p:nvPr/>
        </p:nvSpPr>
        <p:spPr>
          <a:xfrm>
            <a:off x="1116000" y="472428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7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о расположения медицинского пункта,  пути и порядок эвакуации пораженных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6" name="Text Box 12"/>
          <p:cNvSpPr/>
          <p:nvPr/>
        </p:nvSpPr>
        <p:spPr>
          <a:xfrm>
            <a:off x="1116000" y="5300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8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рядок и особенности работ в зоне заражения, порядок ввода сил и средств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Text Box 13"/>
          <p:cNvSpPr/>
          <p:nvPr/>
        </p:nvSpPr>
        <p:spPr>
          <a:xfrm>
            <a:off x="1116000" y="5661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9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ремя начала и окончания работ, место своего расположения, сигналы оповещения, организация взаимодействия,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Text Box 16"/>
          <p:cNvSpPr/>
          <p:nvPr/>
        </p:nvSpPr>
        <p:spPr>
          <a:xfrm>
            <a:off x="1116000" y="436572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6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роприятия по защите населения, привлекаемые СМИ, меры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Text Box 17"/>
          <p:cNvSpPr/>
          <p:nvPr/>
        </p:nvSpPr>
        <p:spPr>
          <a:xfrm>
            <a:off x="1116000" y="623736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0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я управления в ходе 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0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C4E-1E6A-44F8-A1E8-2B33EF028F0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1" name="Rectangle 2"/>
          <p:cNvSpPr/>
          <p:nvPr/>
        </p:nvSpPr>
        <p:spPr>
          <a:xfrm>
            <a:off x="395280" y="692280"/>
            <a:ext cx="842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сновой управления действиями формировани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 ведении АСДНР являетс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80000"/>
                </a:solidFill>
                <a:uFillTx/>
                <a:latin typeface="Arial Narrow"/>
              </a:rPr>
              <a:t>решение командира (руководителя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Text Box 3"/>
          <p:cNvSpPr/>
          <p:nvPr/>
        </p:nvSpPr>
        <p:spPr>
          <a:xfrm>
            <a:off x="1042920" y="2781360"/>
            <a:ext cx="7632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Ввиду ограниченных сроков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выживания пораженных в обстановке, характерной для основных видов ЧС, необходимости как можно быстрей спасти людей, локализовать или ликвидировать возникшие поражающие факторы, работы по приведению в готовность, подготовке к выдвижению и выдвижение в район ЧС осуществляется </a:t>
            </a: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параллельно с выработкой решения на ведение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0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3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5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4D8-07F4-414F-AC95-769C37BB56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Text Box 2"/>
          <p:cNvSpPr/>
          <p:nvPr/>
        </p:nvSpPr>
        <p:spPr>
          <a:xfrm>
            <a:off x="539640" y="1773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яснение задач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Text Box 3"/>
          <p:cNvSpPr/>
          <p:nvPr/>
        </p:nvSpPr>
        <p:spPr>
          <a:xfrm>
            <a:off x="539640" y="2781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Расчет времен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Text Box 4"/>
          <p:cNvSpPr/>
          <p:nvPr/>
        </p:nvSpPr>
        <p:spPr>
          <a:xfrm>
            <a:off x="539640" y="3789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7" name="Text Box 5"/>
          <p:cNvSpPr/>
          <p:nvPr/>
        </p:nvSpPr>
        <p:spPr>
          <a:xfrm>
            <a:off x="539640" y="2276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тдача предварительных распоряжен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8" name="Text Box 6"/>
          <p:cNvSpPr/>
          <p:nvPr/>
        </p:nvSpPr>
        <p:spPr>
          <a:xfrm>
            <a:off x="539640" y="4797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становка задач подразделениям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9" name="Text Box 7"/>
          <p:cNvSpPr/>
          <p:nvPr/>
        </p:nvSpPr>
        <p:spPr>
          <a:xfrm>
            <a:off x="539640" y="3284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разведки и проведение рекогносцир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0" name="Text Box 8"/>
          <p:cNvSpPr/>
          <p:nvPr/>
        </p:nvSpPr>
        <p:spPr>
          <a:xfrm>
            <a:off x="539640" y="4292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нятие реш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1" name="Text Box 9"/>
          <p:cNvSpPr/>
          <p:nvPr/>
        </p:nvSpPr>
        <p:spPr>
          <a:xfrm>
            <a:off x="539640" y="5300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, обеспечения, управ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Text Box 10"/>
          <p:cNvSpPr/>
          <p:nvPr/>
        </p:nvSpPr>
        <p:spPr>
          <a:xfrm>
            <a:off x="539640" y="5805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правление ведением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3" name="WordArt 11"/>
          <p:cNvSpPr txBox="1"/>
          <p:nvPr/>
        </p:nvSpPr>
        <p:spPr>
          <a:xfrm>
            <a:off x="826920" y="549360"/>
            <a:ext cx="763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рядок работ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мандира (руководителя) после получения 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nodeType="clickEffect" fill="hold">
                      <p:stCondLst>
                        <p:cond delay="0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3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3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3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3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3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3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3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3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3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078-382F-489F-88E9-9EA713872ED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5" name="Text Box 2"/>
          <p:cNvSpPr/>
          <p:nvPr/>
        </p:nvSpPr>
        <p:spPr>
          <a:xfrm>
            <a:off x="1763640" y="2347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Цель предстоящих 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6" name="Text Box 3"/>
          <p:cNvSpPr/>
          <p:nvPr/>
        </p:nvSpPr>
        <p:spPr>
          <a:xfrm>
            <a:off x="1763640" y="3355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мысел старшего начальн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7" name="Text Box 4"/>
          <p:cNvSpPr/>
          <p:nvPr/>
        </p:nvSpPr>
        <p:spPr>
          <a:xfrm>
            <a:off x="1763640" y="4292640"/>
            <a:ext cx="5473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ча, место и рол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воего формирова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выполнении общей задач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8" name="Line 5"/>
          <p:cNvSpPr/>
          <p:nvPr/>
        </p:nvSpPr>
        <p:spPr>
          <a:xfrm>
            <a:off x="4500720" y="285264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9" name="Line 6"/>
          <p:cNvSpPr/>
          <p:nvPr/>
        </p:nvSpPr>
        <p:spPr>
          <a:xfrm>
            <a:off x="450072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WordArt 7"/>
          <p:cNvSpPr txBox="1"/>
          <p:nvPr/>
        </p:nvSpPr>
        <p:spPr>
          <a:xfrm>
            <a:off x="1187280" y="907920"/>
            <a:ext cx="648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уяснения задачи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nodeType="clickEffect" fill="hold">
                      <p:stCondLst>
                        <p:cond delay="0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2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2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5" dur="2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538-4DA5-4D9A-93C1-66DD73534A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2" name="Text Box 2"/>
          <p:cNvSpPr/>
          <p:nvPr/>
        </p:nvSpPr>
        <p:spPr>
          <a:xfrm>
            <a:off x="900000" y="1989000"/>
            <a:ext cx="73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Ориентирование подчиненных производится с целью </a:t>
            </a: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доведения до них задачи, поставленной старшим начальником, в части их касающейся, и постановки им частных задач, решение которых обеспечивает процесс выработки решения и организации его выполнения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При ориентировании руководитель доводит до подчиненных следующую информацию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редстоящих действ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б организации разведки и других действиях, необходимых для последующей оценки обстановки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одготовке предложений в решение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сроках подготовки и представления необходимых данных для выработки реш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3" name="WordArt 3"/>
          <p:cNvSpPr txBox="1"/>
          <p:nvPr/>
        </p:nvSpPr>
        <p:spPr>
          <a:xfrm>
            <a:off x="1116000" y="76500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atin typeface="Times New Roman"/>
              </a:rPr>
              <a:t>Отдача предварительных распоря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nodeType="clickEffect" fill="hold">
                      <p:stCondLst>
                        <p:cond delay="0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1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4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0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1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8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6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7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16880"/>
                            </p:stCondLst>
                            <p:childTnLst>
                              <p:par>
                                <p:cTn id="19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2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3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44AC-FE45-40A2-A5F4-A0FDC9501B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Text Box 4"/>
          <p:cNvSpPr/>
          <p:nvPr/>
        </p:nvSpPr>
        <p:spPr>
          <a:xfrm>
            <a:off x="826920" y="33336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 Narrow"/>
              </a:rPr>
              <a:t>Одной из важнейших задач Единой государственной системы предупреждения и ликвидации чрезвычайных ситуаций (РСЧС) и ГО является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ликвидация чрезвычайных ситуаций (ЧС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8" name="Text Box 5"/>
          <p:cNvSpPr/>
          <p:nvPr/>
        </p:nvSpPr>
        <p:spPr>
          <a:xfrm>
            <a:off x="900000" y="1700280"/>
            <a:ext cx="73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Источники ЧС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природное явлен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авар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техногенное происшеств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широко распространенная инфекционная болезнь людей, сельскохозяйственных животных и расте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применение современных средств пораж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9" name="Group 6"/>
          <p:cNvGrpSpPr/>
          <p:nvPr/>
        </p:nvGrpSpPr>
        <p:grpSpPr>
          <a:xfrm>
            <a:off x="250920" y="4076640"/>
            <a:ext cx="8435520" cy="2057400"/>
            <a:chOff x="250920" y="4076640"/>
            <a:chExt cx="8435520" cy="2057400"/>
          </a:xfrm>
        </p:grpSpPr>
        <p:sp>
          <p:nvSpPr>
            <p:cNvPr id="1540" name="Rectangle 7"/>
            <p:cNvSpPr/>
            <p:nvPr/>
          </p:nvSpPr>
          <p:spPr>
            <a:xfrm>
              <a:off x="3728520" y="4076640"/>
              <a:ext cx="14799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ЧС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1" name="Line 8"/>
            <p:cNvSpPr/>
            <p:nvPr/>
          </p:nvSpPr>
          <p:spPr>
            <a:xfrm>
              <a:off x="1212840" y="5067360"/>
              <a:ext cx="65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2" name="Rectangle 9"/>
            <p:cNvSpPr/>
            <p:nvPr/>
          </p:nvSpPr>
          <p:spPr>
            <a:xfrm>
              <a:off x="2509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рирод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3" name="Rectangle 10"/>
            <p:cNvSpPr/>
            <p:nvPr/>
          </p:nvSpPr>
          <p:spPr>
            <a:xfrm>
              <a:off x="23965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техног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4" name="Rectangle 11"/>
            <p:cNvSpPr/>
            <p:nvPr/>
          </p:nvSpPr>
          <p:spPr>
            <a:xfrm>
              <a:off x="461664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биолого-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оциаль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5" name="Rectangle 12"/>
            <p:cNvSpPr/>
            <p:nvPr/>
          </p:nvSpPr>
          <p:spPr>
            <a:xfrm>
              <a:off x="683640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во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6" name="Text Box 13"/>
            <p:cNvSpPr/>
            <p:nvPr/>
          </p:nvSpPr>
          <p:spPr>
            <a:xfrm>
              <a:off x="2949480" y="4697640"/>
              <a:ext cx="30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о характеру              источника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7" name="Line 14"/>
            <p:cNvSpPr/>
            <p:nvPr/>
          </p:nvSpPr>
          <p:spPr>
            <a:xfrm>
              <a:off x="121284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8" name="Line 15"/>
            <p:cNvSpPr/>
            <p:nvPr/>
          </p:nvSpPr>
          <p:spPr>
            <a:xfrm>
              <a:off x="335880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9" name="Line 16"/>
            <p:cNvSpPr/>
            <p:nvPr/>
          </p:nvSpPr>
          <p:spPr>
            <a:xfrm>
              <a:off x="557856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0" name="Line 17"/>
            <p:cNvSpPr/>
            <p:nvPr/>
          </p:nvSpPr>
          <p:spPr>
            <a:xfrm>
              <a:off x="772452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1" name="Line 18"/>
            <p:cNvSpPr/>
            <p:nvPr/>
          </p:nvSpPr>
          <p:spPr>
            <a:xfrm>
              <a:off x="4468680" y="4610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84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84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84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FB5D-C3F9-4E6B-9D36-127BA16591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/>
          </p:nvPr>
        </p:nvSpPr>
        <p:spPr>
          <a:xfrm>
            <a:off x="900000" y="476280"/>
            <a:ext cx="7920000" cy="20160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указаниях по организации разведки команди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определя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цели и задачи разведк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кие данные и к какому сроку представи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каких объектах(участках) сосредоточить основные усилия развед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Rectangle 3"/>
          <p:cNvSpPr/>
          <p:nvPr/>
        </p:nvSpPr>
        <p:spPr>
          <a:xfrm>
            <a:off x="900000" y="2637000"/>
            <a:ext cx="7920000" cy="3816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ходе рекогносцировки командир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уточняет</a:t>
            </a: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становку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ts val="16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изучае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частки(объекты) работ и пути подхода к ни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арактер разрушений, завалов, пожаров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личие, характер, масштабы и границы заражения, затопл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, населения, наличие местных материалов, необходимых для ведения АСДНР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 коммунально-энергетических сетей и местност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а удобные для развертывания пунктов управления, медицинского пункта, подразделений тыла, пункта обеззараживания техники, санитарной обработки личного состав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1187280" y="1268280"/>
            <a:ext cx="75614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0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2000"/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2000"/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2000"/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2000"/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2000"/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1" dur="20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2000"/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2000"/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2000"/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2000"/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2000"/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2000"/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2000"/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2000"/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7" dur="2000"/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2000"/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894-6727-4BA5-B38F-AB02353752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09" name="Group 2"/>
          <p:cNvGrpSpPr/>
          <p:nvPr/>
        </p:nvGrpSpPr>
        <p:grpSpPr>
          <a:xfrm>
            <a:off x="468360" y="260280"/>
            <a:ext cx="7416720" cy="707760"/>
            <a:chOff x="468360" y="260280"/>
            <a:chExt cx="7416720" cy="707760"/>
          </a:xfrm>
        </p:grpSpPr>
        <p:sp>
          <p:nvSpPr>
            <p:cNvPr id="2010" name="Text Box 3"/>
            <p:cNvSpPr/>
            <p:nvPr/>
          </p:nvSpPr>
          <p:spPr>
            <a:xfrm>
              <a:off x="468360" y="260280"/>
              <a:ext cx="7416720" cy="707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1" name="WordArt 4"/>
            <p:cNvSpPr txBox="1"/>
            <p:nvPr/>
          </p:nvSpPr>
          <p:spPr>
            <a:xfrm>
              <a:off x="826920" y="333360"/>
              <a:ext cx="677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189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рганизация и ведение разведки</a:t>
              </a:r>
              <a:endPara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12" name="Text Box 5"/>
          <p:cNvSpPr/>
          <p:nvPr/>
        </p:nvSpPr>
        <p:spPr>
          <a:xfrm>
            <a:off x="468360" y="1484280"/>
            <a:ext cx="3240000" cy="8240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Руководитель (председатель) КЧС определяет цель, задачи, силы и средства разведк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Text Box 6"/>
          <p:cNvSpPr/>
          <p:nvPr/>
        </p:nvSpPr>
        <p:spPr>
          <a:xfrm>
            <a:off x="4643280" y="1484280"/>
            <a:ext cx="3240360" cy="77976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Орган управления по ГОЧС             (штаб) организует разведк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AutoShape 7"/>
          <p:cNvSpPr/>
          <p:nvPr/>
        </p:nvSpPr>
        <p:spPr>
          <a:xfrm rot="7326600">
            <a:off x="1694160" y="1099080"/>
            <a:ext cx="5032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5" name="AutoShape 8"/>
          <p:cNvSpPr/>
          <p:nvPr/>
        </p:nvSpPr>
        <p:spPr>
          <a:xfrm rot="3385200">
            <a:off x="6152040" y="1099440"/>
            <a:ext cx="50328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6" name="Text Box 9"/>
          <p:cNvSpPr/>
          <p:nvPr/>
        </p:nvSpPr>
        <p:spPr>
          <a:xfrm>
            <a:off x="468360" y="2492280"/>
            <a:ext cx="8351640" cy="3980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Цель разведки</a:t>
            </a: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беспечение органов управления достоверными данными об обстановке при ведении АСДНР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обстановки на объекте, масштабов зон заражения, динамики развития поражающих факторов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Задачи разведки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обстановки (аварийного объекта) границ зоны заражения на участке ведения работ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(обследование) местности на участке работ и ее возможное влияние на выполнение поставленной задачи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пределение мест нахождения пострадавших, их состояние и способов спас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непрерывное наблюдение за изменением степени и характера зараж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коммунально-энергетических сетей в местах действий формирований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выявление факторов, препятствующих ведению АСДНР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nodeType="clickEffect" fill="hold">
                      <p:stCondLst>
                        <p:cond delay="0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20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8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8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2000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8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8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8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2000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20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8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2000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20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8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20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8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2000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8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8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DC8C-6C21-4A4D-94F1-AE87B58B4E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8" name="WordArt 4"/>
          <p:cNvSpPr txBox="1"/>
          <p:nvPr/>
        </p:nvSpPr>
        <p:spPr>
          <a:xfrm>
            <a:off x="395280" y="333360"/>
            <a:ext cx="698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виды обеспеч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9" name="Text Box 6"/>
          <p:cNvSpPr/>
          <p:nvPr/>
        </p:nvSpPr>
        <p:spPr>
          <a:xfrm>
            <a:off x="1042920" y="1484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азведка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Text Box 7"/>
          <p:cNvSpPr/>
          <p:nvPr/>
        </p:nvSpPr>
        <p:spPr>
          <a:xfrm>
            <a:off x="1042920" y="4508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ехническое</a:t>
            </a:r>
            <a:r>
              <a:rPr b="0" lang="ru-RU" sz="1800" spc="-1" strike="noStrike">
                <a:solidFill>
                  <a:srgbClr val="99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Text Box 8"/>
          <p:cNvSpPr/>
          <p:nvPr/>
        </p:nvSpPr>
        <p:spPr>
          <a:xfrm>
            <a:off x="1042920" y="2492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ранспортн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Text Box 9"/>
          <p:cNvSpPr/>
          <p:nvPr/>
        </p:nvSpPr>
        <p:spPr>
          <a:xfrm>
            <a:off x="1042920" y="3500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атериально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3" name="Text Box 10"/>
          <p:cNvSpPr/>
          <p:nvPr/>
        </p:nvSpPr>
        <p:spPr>
          <a:xfrm>
            <a:off x="1042920" y="5516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едицинск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4" name="Line 11"/>
          <p:cNvSpPr/>
          <p:nvPr/>
        </p:nvSpPr>
        <p:spPr>
          <a:xfrm>
            <a:off x="4356000" y="198900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Line 12"/>
          <p:cNvSpPr/>
          <p:nvPr/>
        </p:nvSpPr>
        <p:spPr>
          <a:xfrm>
            <a:off x="4356000" y="2997360"/>
            <a:ext cx="0" cy="50292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Line 13"/>
          <p:cNvSpPr/>
          <p:nvPr/>
        </p:nvSpPr>
        <p:spPr>
          <a:xfrm>
            <a:off x="4356000" y="4005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Line 14"/>
          <p:cNvSpPr/>
          <p:nvPr/>
        </p:nvSpPr>
        <p:spPr>
          <a:xfrm>
            <a:off x="4356000" y="5013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0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2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518-0742-45B4-8DE5-40DE9C3A27F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WordArt 4"/>
          <p:cNvSpPr txBox="1"/>
          <p:nvPr/>
        </p:nvSpPr>
        <p:spPr>
          <a:xfrm>
            <a:off x="1619280" y="76500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Цели обеспечения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0" name="Text Box 5"/>
          <p:cNvSpPr/>
          <p:nvPr/>
        </p:nvSpPr>
        <p:spPr>
          <a:xfrm>
            <a:off x="1042920" y="22766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лучение исчерпывающих данных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воевременное оказание медицинской помощи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бесперебойное удовлетворение потребностей                        в материальных средствах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выполнение перевозок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ддержание техники в исправном состоян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оздание благоприятных условий для своевременного и организационного проведения АСДНР и выполнения других задач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zoom dir="out"/>
  </p:transition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nodeType="clickEffect" fill="hold">
                      <p:stCondLst>
                        <p:cond delay="0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10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2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104E-D786-4150-B680-A46898DD88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2" name="Text Box 5"/>
          <p:cNvSpPr/>
          <p:nvPr/>
        </p:nvSpPr>
        <p:spPr>
          <a:xfrm>
            <a:off x="539640" y="206064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тановку задач подразделениям обеспечения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3" name="Text Box 6"/>
          <p:cNvSpPr/>
          <p:nvPr/>
        </p:nvSpPr>
        <p:spPr>
          <a:xfrm>
            <a:off x="539640" y="5445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троль за выполнением мероприяти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4" name="Text Box 7"/>
          <p:cNvSpPr/>
          <p:nvPr/>
        </p:nvSpPr>
        <p:spPr>
          <a:xfrm>
            <a:off x="539640" y="3213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ение взаимодействия сил участвующих в обеспечен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Text Box 8"/>
          <p:cNvSpPr/>
          <p:nvPr/>
        </p:nvSpPr>
        <p:spPr>
          <a:xfrm>
            <a:off x="539640" y="436572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ведение задач до исполнителей по обеспечению работ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6" name="Line 9"/>
          <p:cNvSpPr/>
          <p:nvPr/>
        </p:nvSpPr>
        <p:spPr>
          <a:xfrm>
            <a:off x="4500720" y="2781360"/>
            <a:ext cx="0" cy="4316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7" name="Line 10"/>
          <p:cNvSpPr/>
          <p:nvPr/>
        </p:nvSpPr>
        <p:spPr>
          <a:xfrm>
            <a:off x="4500720" y="3933720"/>
            <a:ext cx="0" cy="43200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8" name="Line 11"/>
          <p:cNvSpPr/>
          <p:nvPr/>
        </p:nvSpPr>
        <p:spPr>
          <a:xfrm>
            <a:off x="4500720" y="5086440"/>
            <a:ext cx="0" cy="3585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9" name="WordArt 12"/>
          <p:cNvSpPr txBox="1"/>
          <p:nvPr/>
        </p:nvSpPr>
        <p:spPr>
          <a:xfrm>
            <a:off x="971640" y="1197000"/>
            <a:ext cx="75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 обеспечения включает </a:t>
            </a:r>
            <a:endParaRPr b="0" lang="en-US" sz="1600" spc="1" strike="noStrike">
              <a:ln w="19080">
                <a:solidFill>
                  <a:srgbClr val="9933ff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nodeType="clickEffect" fill="hold">
                      <p:stCondLst>
                        <p:cond delay="0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77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9" dur="770" fill="hold"/>
                                        <p:tgtEl>
                                          <p:spTgt spid="20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1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3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92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9" dur="192" fill="hold"/>
                                        <p:tgtEl>
                                          <p:spTgt spid="20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1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3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77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9" dur="770" fill="hold"/>
                                        <p:tgtEl>
                                          <p:spTgt spid="20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1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3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92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9" dur="192" fill="hold"/>
                                        <p:tgtEl>
                                          <p:spTgt spid="2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1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3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77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9" dur="770" fill="hold"/>
                                        <p:tgtEl>
                                          <p:spTgt spid="20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1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3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92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9" dur="192" fill="hold"/>
                                        <p:tgtEl>
                                          <p:spTgt spid="2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1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3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77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9" dur="770" fill="hold"/>
                                        <p:tgtEl>
                                          <p:spTgt spid="20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1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3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14B9-A3F7-449B-882A-98F53AF0F5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1" name="Text Box 5"/>
          <p:cNvSpPr/>
          <p:nvPr/>
        </p:nvSpPr>
        <p:spPr>
          <a:xfrm>
            <a:off x="2556000" y="2131920"/>
            <a:ext cx="396072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елям (задачам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2" name="Text Box 6"/>
          <p:cNvSpPr/>
          <p:nvPr/>
        </p:nvSpPr>
        <p:spPr>
          <a:xfrm>
            <a:off x="1654200" y="3429000"/>
            <a:ext cx="579744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есту и времен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Text Box 7"/>
          <p:cNvSpPr/>
          <p:nvPr/>
        </p:nvSpPr>
        <p:spPr>
          <a:xfrm>
            <a:off x="1131120" y="4653000"/>
            <a:ext cx="6967080" cy="603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особам выполнения поставленных задач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4" name="WordArt 8"/>
          <p:cNvSpPr txBox="1"/>
          <p:nvPr/>
        </p:nvSpPr>
        <p:spPr>
          <a:xfrm>
            <a:off x="900000" y="260280"/>
            <a:ext cx="7775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заимодействие заключается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огласовании действий формирований по :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nodeType="clickEffect" fill="hold">
                      <p:stCondLst>
                        <p:cond delay="0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16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6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6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7D44-80D8-46E9-BFB6-BD16D290E7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6" name="Text Box 5"/>
          <p:cNvSpPr/>
          <p:nvPr/>
        </p:nvSpPr>
        <p:spPr>
          <a:xfrm>
            <a:off x="900000" y="1700280"/>
            <a:ext cx="748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ts val="18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воде на участок (объекты)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организация ликвидации или снижения до минимально возможного         уровня факторов, препятствующих 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едении спасательных работ в сложных условиях обстановк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взаимодействия с территориальными (объектовыми) формированиями и специалистами при ликвидации повреждений на коммунально-энергет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смене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резком изменении обстановки, возникновении непосредственной опасности для жизни спасател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связи и информаци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места размещения пунктов управл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7" name="WordArt 6"/>
          <p:cNvSpPr txBox="1"/>
          <p:nvPr/>
        </p:nvSpPr>
        <p:spPr>
          <a:xfrm>
            <a:off x="1116000" y="47628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008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b2b2b2">
                      <a:alpha val="70000"/>
                    </a:srgbClr>
                  </a:outerShdw>
                </a:effectLst>
                <a:latin typeface="Arial"/>
              </a:rPr>
              <a:t>При взаимодействии согласовываются</a:t>
            </a:r>
            <a:endParaRPr b="1" lang="en-US" sz="2000" spc="1" strike="noStrike">
              <a:ln w="28440">
                <a:solidFill>
                  <a:srgbClr val="00808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b2b2b2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0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500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23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nodeType="afterEffect" fill="hold">
                            <p:stCondLst>
                              <p:cond delay="13450"/>
                            </p:stCondLst>
                            <p:childTnLst>
                              <p:par>
                                <p:cTn id="2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500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2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500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nodeType="afterEffect" fill="hold">
                            <p:stCondLst>
                              <p:cond delay="21650"/>
                            </p:stCondLst>
                            <p:childTnLst>
                              <p:par>
                                <p:cTn id="2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2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23750"/>
                            </p:stCondLst>
                            <p:childTnLst>
                              <p:par>
                                <p:cTn id="2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nodeType="afterEffect" fill="hold">
                            <p:stCondLst>
                              <p:cond delay="29250"/>
                            </p:stCondLst>
                            <p:childTnLst>
                              <p:par>
                                <p:cTn id="2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4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nodeType="afterEffect" fill="hold">
                            <p:stCondLst>
                              <p:cond delay="31350"/>
                            </p:stCondLst>
                            <p:childTnLst>
                              <p:par>
                                <p:cTn id="2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500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500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969-BDC9-49D4-ABC6-2E6C6B1AEB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9" name="Заголовок 3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070840" cy="100620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52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953-5FFF-44CA-ACA6-DF84888609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2" name="Заголовок 3" descr=""/>
          <p:cNvPicPr/>
          <p:nvPr/>
        </p:nvPicPr>
        <p:blipFill>
          <a:blip r:embed="rId1"/>
          <a:stretch/>
        </p:blipFill>
        <p:spPr>
          <a:xfrm>
            <a:off x="165240" y="73080"/>
            <a:ext cx="8070840" cy="107928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2" descr=""/>
          <p:cNvPicPr/>
          <p:nvPr/>
        </p:nvPicPr>
        <p:blipFill>
          <a:blip r:embed="rId2"/>
          <a:stretch/>
        </p:blipFill>
        <p:spPr>
          <a:xfrm>
            <a:off x="539640" y="1333440"/>
            <a:ext cx="8209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697F-8DB9-48D5-8BDA-D1F85FED3A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AutoShape 3"/>
          <p:cNvSpPr/>
          <p:nvPr/>
        </p:nvSpPr>
        <p:spPr>
          <a:xfrm>
            <a:off x="2340000" y="2403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250920" y="220500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диоактивн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грязн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5" name="Rectangle 5"/>
          <p:cNvSpPr/>
          <p:nvPr/>
        </p:nvSpPr>
        <p:spPr>
          <a:xfrm>
            <a:off x="3146400" y="220500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следствие аварий на радиационно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варий транспортных средств с ядерными энергетическими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тановками или перевозящими радиоактив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AutoShape 6"/>
          <p:cNvSpPr/>
          <p:nvPr/>
        </p:nvSpPr>
        <p:spPr>
          <a:xfrm>
            <a:off x="250920" y="1341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руш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AutoShape 7"/>
          <p:cNvSpPr/>
          <p:nvPr/>
        </p:nvSpPr>
        <p:spPr>
          <a:xfrm>
            <a:off x="2340000" y="152244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Rectangle 8"/>
          <p:cNvSpPr/>
          <p:nvPr/>
        </p:nvSpPr>
        <p:spPr>
          <a:xfrm>
            <a:off x="3146400" y="1341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землетрясениях, взрывах, пожар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изводственных авариях, ураганах, смерчах, обвалах, селях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AutoShape 9"/>
          <p:cNvSpPr/>
          <p:nvPr/>
        </p:nvSpPr>
        <p:spPr>
          <a:xfrm>
            <a:off x="250920" y="306864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имическ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раж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AutoShape 10"/>
          <p:cNvSpPr/>
          <p:nvPr/>
        </p:nvSpPr>
        <p:spPr>
          <a:xfrm>
            <a:off x="2340000" y="321300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1" name="Rectangle 11"/>
          <p:cNvSpPr/>
          <p:nvPr/>
        </p:nvSpPr>
        <p:spPr>
          <a:xfrm>
            <a:off x="3146400" y="2992320"/>
            <a:ext cx="552924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результате аварий на химически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водящих к разрушению емкостей и технологическ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ммуникаций, содержащих АХОВ, а также аварий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транспорте,перевозящем указан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AutoShape 12"/>
          <p:cNvSpPr/>
          <p:nvPr/>
        </p:nvSpPr>
        <p:spPr>
          <a:xfrm>
            <a:off x="250920" y="3933720"/>
            <a:ext cx="1865160" cy="6638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жар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3" name="AutoShape 13"/>
          <p:cNvSpPr/>
          <p:nvPr/>
        </p:nvSpPr>
        <p:spPr>
          <a:xfrm>
            <a:off x="2340000" y="40957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Rectangle 14"/>
          <p:cNvSpPr/>
          <p:nvPr/>
        </p:nvSpPr>
        <p:spPr>
          <a:xfrm>
            <a:off x="3146400" y="3933720"/>
            <a:ext cx="5529240" cy="6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являющиеся следствием природных явлений, аварий 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соблюдения правил пожарной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AutoShape 15"/>
          <p:cNvSpPr/>
          <p:nvPr/>
        </p:nvSpPr>
        <p:spPr>
          <a:xfrm>
            <a:off x="250920" y="4797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топл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AutoShape 16"/>
          <p:cNvSpPr/>
          <p:nvPr/>
        </p:nvSpPr>
        <p:spPr>
          <a:xfrm>
            <a:off x="2340000" y="49039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Rectangle 17"/>
          <p:cNvSpPr/>
          <p:nvPr/>
        </p:nvSpPr>
        <p:spPr>
          <a:xfrm>
            <a:off x="3146400" y="4797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наводнениях, разрушения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идротехнических сооружений, цунами, селях и друг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родных явлениях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AutoShape 18"/>
          <p:cNvSpPr/>
          <p:nvPr/>
        </p:nvSpPr>
        <p:spPr>
          <a:xfrm>
            <a:off x="250920" y="5608800"/>
            <a:ext cx="1865160" cy="8445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дем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зоот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фитот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9" name="AutoShape 19"/>
          <p:cNvSpPr/>
          <p:nvPr/>
        </p:nvSpPr>
        <p:spPr>
          <a:xfrm>
            <a:off x="2340000" y="5805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0" name="Rectangle 20"/>
          <p:cNvSpPr/>
          <p:nvPr/>
        </p:nvSpPr>
        <p:spPr>
          <a:xfrm>
            <a:off x="3146400" y="5684760"/>
            <a:ext cx="552924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 заболевания людей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льскохозяйственных животных и растен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1" name="Text Box 21"/>
          <p:cNvSpPr/>
          <p:nvPr/>
        </p:nvSpPr>
        <p:spPr>
          <a:xfrm>
            <a:off x="8675640" y="6165720"/>
            <a:ext cx="1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2" name="WordArt 23"/>
          <p:cNvSpPr txBox="1"/>
          <p:nvPr/>
        </p:nvSpPr>
        <p:spPr>
          <a:xfrm>
            <a:off x="1187280" y="476280"/>
            <a:ext cx="684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cccce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ее характерные последствия ЧС</a:t>
            </a:r>
            <a:endParaRPr b="0" lang="en-US" sz="2000" spc="1" strike="noStrike">
              <a:ln w="19080">
                <a:solidFill>
                  <a:srgbClr val="9999ff"/>
                </a:solidFill>
                <a:miter/>
              </a:ln>
              <a:solidFill>
                <a:srgbClr val="cccce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B4B-493C-4698-B20D-3214F5F77B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AutoShape 2"/>
          <p:cNvSpPr/>
          <p:nvPr/>
        </p:nvSpPr>
        <p:spPr>
          <a:xfrm>
            <a:off x="152280" y="765000"/>
            <a:ext cx="8839440" cy="5472360"/>
          </a:xfrm>
          <a:prstGeom prst="cube">
            <a:avLst>
              <a:gd name="adj" fmla="val 4231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квидация Ч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аварийно-спасательные и други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ложные работы(АСДНР), проводимые пр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и ЧС и направленные на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с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жизни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хра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я люде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ни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меров ущерба окружающей природно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е и материальных потер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окализац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он ЧС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екра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ных для них опасных факторов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C67-AB65-4EA0-96FD-C9B8471EA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6" name="Picture 4" descr="фон-20"/>
          <p:cNvPicPr/>
          <p:nvPr/>
        </p:nvPicPr>
        <p:blipFill>
          <a:blip r:embed="rId1"/>
          <a:stretch/>
        </p:blipFill>
        <p:spPr>
          <a:xfrm>
            <a:off x="250920" y="765000"/>
            <a:ext cx="8712000" cy="517212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6"/>
          <p:cNvSpPr txBox="1"/>
          <p:nvPr/>
        </p:nvSpPr>
        <p:spPr>
          <a:xfrm>
            <a:off x="1619280" y="333360"/>
            <a:ext cx="5991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арийно-спасательные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другие неотложные работ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8" name="Text Box 7"/>
          <p:cNvSpPr/>
          <p:nvPr/>
        </p:nvSpPr>
        <p:spPr>
          <a:xfrm>
            <a:off x="104292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 Narrow"/>
              </a:rPr>
              <a:t>АСДНР – это совокупность действий, осуществляемых по различным технологическим процессам  и включающих в себя порядок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Text Box 8"/>
          <p:cNvSpPr/>
          <p:nvPr/>
        </p:nvSpPr>
        <p:spPr>
          <a:xfrm>
            <a:off x="395280" y="2133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Технологии выполнения АСДНР в значительной степени зависят от совокупностей объекта (РОО, ХОО и т.д.), на котором должны осуществляться работы по спасению пострадавших и от среды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Text Box 9"/>
          <p:cNvSpPr/>
          <p:nvPr/>
        </p:nvSpPr>
        <p:spPr>
          <a:xfrm>
            <a:off x="395280" y="3141720"/>
            <a:ext cx="842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Narrow"/>
              </a:rPr>
              <a:t>АСДНР</a:t>
            </a:r>
            <a:r>
              <a:rPr b="1" lang="ru-RU" sz="20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– совокупность первоочередных работ в зоне ЧС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заключающаяся в спасении и оказании помощи людям, локализаци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и подавлении очагов поражающего воздействия, предотвращении воздействия вторичных поражающих факторов, защите и спасении материальных и культурных ценностей, восстановлении минимально необходимого жизнеобеспеч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Text Box 10"/>
          <p:cNvSpPr/>
          <p:nvPr/>
        </p:nvSpPr>
        <p:spPr>
          <a:xfrm>
            <a:off x="3348000" y="4869000"/>
            <a:ext cx="259236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Text Box 11"/>
          <p:cNvSpPr/>
          <p:nvPr/>
        </p:nvSpPr>
        <p:spPr>
          <a:xfrm>
            <a:off x="579600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другие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отлож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Text Box 13"/>
          <p:cNvSpPr/>
          <p:nvPr/>
        </p:nvSpPr>
        <p:spPr>
          <a:xfrm>
            <a:off x="118728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аварийно-спасатель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AutoShape 14"/>
          <p:cNvSpPr/>
          <p:nvPr/>
        </p:nvSpPr>
        <p:spPr>
          <a:xfrm rot="19149000">
            <a:off x="2987640" y="5444640"/>
            <a:ext cx="687600" cy="227160"/>
          </a:xfrm>
          <a:prstGeom prst="leftArrow">
            <a:avLst>
              <a:gd name="adj1" fmla="val 50000"/>
              <a:gd name="adj2" fmla="val 75674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5" name="AutoShape 15"/>
          <p:cNvSpPr/>
          <p:nvPr/>
        </p:nvSpPr>
        <p:spPr>
          <a:xfrm rot="13478400">
            <a:off x="5681160" y="5391000"/>
            <a:ext cx="649440" cy="262080"/>
          </a:xfrm>
          <a:prstGeom prst="leftArrow">
            <a:avLst>
              <a:gd name="adj1" fmla="val 50000"/>
              <a:gd name="adj2" fmla="val 61951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366-7D9B-446C-B569-428F92705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Picture 4" descr="фон-7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722920"/>
          </a:xfrm>
          <a:prstGeom prst="rect">
            <a:avLst/>
          </a:prstGeom>
          <a:ln w="0">
            <a:noFill/>
          </a:ln>
        </p:spPr>
      </p:pic>
      <p:sp>
        <p:nvSpPr>
          <p:cNvPr id="1588" name="WordArt 6"/>
          <p:cNvSpPr txBox="1"/>
          <p:nvPr/>
        </p:nvSpPr>
        <p:spPr>
          <a:xfrm>
            <a:off x="1187280" y="692280"/>
            <a:ext cx="699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арийно-спасательные работы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чагах поражения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539640" y="1916280"/>
            <a:ext cx="7920000" cy="26550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Аварийно-спасательные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это действия по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ению люд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щите природной среды в зоне ЧС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и ЧС и подавлению или доведению до минимально возможного уровня воздействия характерных для них опасных фактор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0" name="Text Box 8"/>
          <p:cNvSpPr/>
          <p:nvPr/>
        </p:nvSpPr>
        <p:spPr>
          <a:xfrm>
            <a:off x="539640" y="4724280"/>
            <a:ext cx="7920000" cy="17402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Цель проведения аварийно-спасатель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8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и деблокирование пострадавших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им первой медицинской помощи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акуация из опасной з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3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95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8:22Z</dcterms:created>
  <dc:creator>KOMP</dc:creator>
  <dc:description/>
  <dc:language>en-US</dc:language>
  <cp:lastModifiedBy>user</cp:lastModifiedBy>
  <dcterms:modified xsi:type="dcterms:W3CDTF">2012-12-18T15:50:47Z</dcterms:modified>
  <cp:revision>176</cp:revision>
  <dc:subject/>
  <dc:title>Слайд 1</dc:title>
</cp:coreProperties>
</file>