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39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FB8-D2E4-48C0-8547-9A2EB717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06D-F1D9-47E6-8C3B-3F334FB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FDF00-A643-442D-8EC2-5D7DE7F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13CE6-8AB6-4B80-AA10-7414219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DF8A9-181B-4934-A934-210E868C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FE7A4-C9E3-477C-924A-D1E6999A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2BBD4-BD0C-4A49-A708-A83C693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EEF7C-06A4-4CBD-8D23-EE1F9B9C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5F854-C965-43F4-B74E-5DFF50B1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965D6-B9F9-4616-86A1-343DC094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FCD1E-BBA5-46A2-AB94-5B1A3BB8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D3784-0FA5-4047-A1EE-C80F615E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350-E09D-414C-9885-668D1F5C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9E352-1855-461F-A967-E369792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A5E0E-7E96-4F5A-BB02-3326718E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19BDE-544B-4A99-9839-41AA731F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3777-A0C4-4E8E-B0C9-BE023C3F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A6F98-D87F-41FF-95E5-62411D1E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0C6E0-BDB6-4BF5-9F2D-539A820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1B2B-2CBD-476F-B349-9474961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45F48-1788-4333-9FA6-EA46957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BDDDB-2F79-4DFE-964A-28F1611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E8F8B-3109-4F37-AB3A-BECF44DA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E81-EB26-421F-9DA1-619D9BEF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7344D-ADB8-46FD-A8DB-F7153988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76161-1976-4810-A179-86C63DF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BCB73-3DB9-4C4E-AA7A-AEB655F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0F0D1-7088-47A1-8000-9D89A71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EE9B-7A55-4836-B072-CE9336A3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A0A68-4B9B-4484-958D-6A1D453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7312-93CD-475B-B105-2789350B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CFA3E-2363-4B4E-AEE4-180223A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FF755-CBF4-47C5-AB96-610F0AE3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823AA-3776-42EF-A015-2E00447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627-F3DA-46EE-B5BD-5C54355F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394D-E216-4BC5-A263-D9CE9D7F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AE501-0169-4157-A0A7-EA6115AC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184EF-7030-4F6E-850B-F8DE9815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17C45-5912-4020-A587-75EE2D57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70C99-B561-4BF3-A657-89884C0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22D23-6FF5-4E5F-B4F5-A5767F0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919EF-EC48-4B8E-B144-3D447C97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CB898-C62F-4437-A719-2322055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F81C-0FAC-427D-9DBC-71BFB62A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BC282-D6F5-42CF-8F01-556F29D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C465-D9F7-439C-BD92-2A335377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7D2B3-04E7-412F-BC12-304E47A6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993BD-8EA9-47B1-9A89-889CF1A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E117-3986-4BDA-BDC9-C2D7BDA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6FFD7-C20C-4905-B297-48FF5268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A27C9-E615-495A-B1E8-48B1DA65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5DA41-8498-4631-8EC9-EF1DDE2A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BE272-0F71-4FD6-87F7-07F62990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8B6F8-3E99-40B1-B1DE-5E7E74B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220A3-6C6F-4D86-9CA1-8D6930E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0716E-5454-4BD3-AAB2-7261F7F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8D0E-659C-4BF0-BE63-1B9F2A72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97D3A-3FFF-49A1-8C7B-48F254EF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76670-2A32-42D7-AFFB-2ECE1D4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0F61B-3541-4A5C-8185-DBD2E14C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47546-BA52-439D-ADD7-91E2387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79524-487B-4F0B-87FF-902182B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BA3D5-95DD-46B4-AC36-6911697F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38A08-27A7-43DB-9318-18217C5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4096D-59B0-4C8C-8D38-4B224B55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69985-4583-4B5C-A572-E7BF8292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3658B-2642-4BA5-BF15-C54C3D45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750-68B9-4083-83EA-723F1E8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CA69C-69D5-4FB3-842D-F0577A27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7E0EB-591D-4150-81CD-51BE58C0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5A5C9-434C-4011-99FC-B2F526BD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234BF-9CEA-4774-842D-403D9CA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FBF5A-CE4F-442E-A17D-993681BC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C8D06-145E-4BAF-A646-EC3EECC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C9CE7-FA14-4648-B565-F66DC2C7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E6D85-47EE-4574-A0D4-9BB7F5B2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FEEE7-21FA-4E54-9305-9CC51F62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56FAF-EE03-40E6-B848-6E845DBE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7590-8934-40A8-A8DB-A55BDA7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765B5-5DBC-4743-9381-2BBC201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98990-F0E4-4762-BF09-95C32DBA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036F6-8B85-43F5-9EF3-2B42F3F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4D760-0265-4346-92D4-3A2A33A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152C4-A14A-4CA0-8D97-29DFAB1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7C406-26E3-40EE-AD26-F943B76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F25DC-B4B3-44E0-92FF-D0CBB8D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7CF37-5E67-4D67-8FD7-EE2317C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DCEE3-762B-43EE-8291-746B3FE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31370-1E1B-48A2-B19C-FA03DE62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8D24-CF79-4A6B-9F54-9E0FC8B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45E97-0724-4B45-82FC-44BC6412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2A678-3D4E-4FA7-9D60-445BC67A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7E51B-ACCA-4D3A-8EE2-82ACE5B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D3350-8B0A-422E-A9DF-0723CAEB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931B5-6015-4753-AC81-0864DF8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16D3-C28B-4ADD-901E-188D03F7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8FCF4-2BF0-4082-BB1D-1B6DD49C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83D49-916D-48E6-804C-04E2967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C8D8C-24A8-4136-820B-0F1B3AF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90BC4-603C-4D22-8007-0840390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2D79-234E-4751-B224-86C36C5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8FCC6-61E9-4A66-B333-16ACF5E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ACC7B-A12B-4326-8369-597A0FD9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D18E2-D03A-477E-B37F-68DE7AA7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1C092-6EDF-4970-AB6E-C4154CEA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75B72-F5E3-4F8D-A4EE-7880F1C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5168D-C188-4F23-A387-0AFE21A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3F949-441F-423D-8B2A-838506F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B90C9-98CB-4A1B-B24B-43970D2F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399C3-6D9B-4F91-88D5-93A6604C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D326B-987C-4190-8C88-498CCB6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EFD-0319-47E2-92E6-132F0878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9BF-B9F2-4B53-ADB4-2BE59C7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F8150-BCDA-4BA0-A6B8-8CFAF39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18E4E-CCDE-4601-9A94-BE8E60B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DC568-2F27-45A9-B686-BE3050B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1BD3A-F4BD-4531-BE53-62796412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22958-B86F-41AB-88F9-24FC7A36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52FBE-945A-4000-9C1A-0FCF3652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64F30-7E63-48F6-AD6F-018BBD8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6E03D-CB5F-4930-9DEC-13582AE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490D6-3110-49A6-9E0E-84AC2CC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E7F46-012B-4C0C-A8C2-1BF74DC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348A-BD98-4F67-83CE-488654FD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628CF-A04F-42AA-B8BD-AE463BEF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16743-7A29-44E3-85E2-6BA17E0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126DB-E163-4F35-85F2-CED4D3A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5E50D-0650-4412-8FDF-8CF5360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9332A-A0CC-4026-AE76-5D72B55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379AA-AC70-41DB-A979-3034C307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6AC46-CBB7-4E16-ACBC-C801D34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09874-5E10-48F3-A2FA-96652CD8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A211A-6A6A-453E-9991-A4BDC019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0EF27-D039-44A4-B72D-01A1159E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7681-F1E8-41F7-A776-5AA34D2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2E02A-C21D-4479-884F-E942C413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A900E-84C9-4B5F-A4D7-ACAA7B70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20134-4CEF-4FFD-A98A-E55F0A7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9218F-96CA-4B16-BA24-7C671821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C14A9-8949-480D-B621-9CC49F6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FF9B8-C024-49CC-AF52-500EFF2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3A956-A880-46D9-B163-33A63B5A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EEFE4A-5617-4370-AE43-F21E3AE5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8F663-25E2-41CB-B1D5-EC9FE75F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A2E09-6CB3-48D5-9D9B-3F76D29B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BA1-EF9E-47A8-AEDD-55C4B446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F1400-D939-4923-81B4-9C364876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12A64-573D-4227-872D-F630E62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CA1A7-592D-44BC-A324-794E49C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BCED3C-BBC3-49AF-874F-0F822C10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0A9DE-E2CF-45FB-8034-86F2D18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1D1FE-C3BD-40A2-99F3-3DC481B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BAFB2-CFBE-48D3-B051-7BE3602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44123-BB7B-4DA2-A9CB-0DCD971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69454-2A34-4838-B7F4-BD27A04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0134A-6786-440B-968A-F21E5E2F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1C0-2FCE-4D8E-8327-D6A528CF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6168A-C81A-43DD-ABF8-DB97CC25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646DA-CFF9-47E9-9268-A4D048E3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DF448-8ED2-40C5-B119-F58CC4F4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3B831-D35A-4E0C-871C-CCD1C71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483FF-3888-4761-8C0C-79934FD8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53A3F-9DDB-4707-8415-541BF6B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6B49D-BF2B-45C6-8E99-D35A3B7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FEE92-0907-4D0D-BBC3-C37CD62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DEE61-A630-4210-B81B-E84AC65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52A4C-7307-4F96-9AB5-B14CAAC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34C55-2640-4414-88E5-5CF40063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B4D1B-ED6D-4318-BBB6-6EFE8BC1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2624D2-C066-42DD-AA59-CE5CEAF7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2680C-CD7C-4794-8F2A-5AE7C22B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ADC614-5274-43D7-95BB-95DA48E2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19D8B5-8D45-451B-8FB0-4BBC9AD4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784120-7752-4589-8AB5-A21F57D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4EFD96-54E4-4704-A83B-1C8FA29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D0413D-B5F5-4792-80E6-0A9FEF6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279E61-4099-4949-99E7-4D1AC99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F7D761-8AE8-4669-BF19-C8F122C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887DC-ACF2-49D2-84A5-6BF76F0E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36097-5F89-4D80-AC8E-C17FC44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84D68D-53F4-4FFA-9432-7DF8649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2E36D-FA20-4708-8AF3-22DF535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E30AC1-F370-4BF4-841E-B4BB7E0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9B22B8-C688-4DCC-A77C-8A775A1F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CCF29-6D2B-4C78-BEA9-17EE984A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3A34F-BD98-42F1-9622-FC8330E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09A598-FA50-49E0-80D8-1CF653F9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E64E82-7B5E-4160-B80C-5E7816C3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912072-EAE0-4B81-B006-E3E11711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53933-65C8-4D40-BD1A-95A7FFC0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FD149-B159-4AD0-9A52-437B220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2151C1-0199-4AEB-8FA8-CBD2FAF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CCCBC7-0306-4B03-BBE7-093A90B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A9DF9-E6EB-48CC-8403-976A134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467AF1-FA62-46DD-B932-BBBE6F6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D82FD1-FAFF-4F08-BB56-A37F7A2F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042AC-60E9-4BC6-8320-30C5F1D6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37E77E-4645-46DD-86CE-D4BCE34E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F5984D-55EC-4062-B745-AAD576C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DCB6BC-4AA5-46B5-BDE1-E5DBE38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9152D-D0A3-4C90-AEC5-4D725D6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5F05A3-650F-4FED-B06A-9C5DA60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2DE1BB-72F3-473D-9CD5-28E6820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2E70A2-3275-4178-9629-6708A1DD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910DCB-A0EB-4D64-8CF8-7F8499B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4BE92B-A5CE-4A90-9B6C-61F176F6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578920-A903-44A0-B15A-7AD8469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EDC230-055C-4AE4-BD4A-1119F08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2AB847-4BCF-4C5A-975C-61A0C1C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99E6C1-5BAD-4C75-997F-36B86F90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E9BB4D-D829-49FC-9955-73D2ECF8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ACEA2-55D5-4938-9893-681251C2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4F1AF-6187-4B1C-B037-A6EE92A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F93868-B4AB-42E5-A923-DEC8641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DCDD2E-8174-4084-8BF9-2BECC55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4C3C7-A0EF-4560-B105-2B74D83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1D24B9-FA79-479B-B4AE-EBD7EE4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2B28A-F93E-4EDC-98F1-2E6757D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1BD86-6C56-466F-A127-F4B6C47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D08C66-795A-473C-A095-5D00533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152F7A-F4D3-4F30-BFF0-B27CCA7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9BA5AA-1AB4-44E0-A901-A1D94041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A46-0044-4642-9CAE-0C05C78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3E91C-F224-488C-8BEE-291611D0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35C20A-8BD3-4566-A6B4-2F405539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2EB2B4-3145-40E3-B7B4-32C47054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90AE36-4707-46EF-95E1-F5E232D6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DB9411-AD9C-47BA-A532-E761EB4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D5DCBD-0323-4138-A915-42948A68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B65A9D-5D06-4866-B49C-976B2CB3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51F1C6-3B07-46B5-9DD6-7A5CF9ED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6C8410-76ED-455F-B1C4-E005421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E0572E-ECAF-4498-B512-4DF78C9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FAED88-90FF-4805-B2BC-3AD0952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72110-D9AA-49D9-A6DF-825B1C7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C004A7-402A-4DD5-B910-398E716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A4D63B-3BF9-46A5-AD4A-66BFAD61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056301-B47B-4B42-8142-CE4FF33A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63A477-9A13-4618-97EF-9AD01934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57EB66-809A-436C-BCE4-892D768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B74B29-F293-4DD4-95D1-F65AF00E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176E2-E369-4E11-94E6-38FBDD5A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74D27-9508-463B-A5B4-A07A750B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25A8D8-BE6A-4381-92AF-84FDF6E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56A995-8FDD-461E-8ECE-F756CD5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62E10-7131-486F-8F18-F4172D8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0D751B-E0E9-4C97-A1D8-530C9E3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958E54-4EA9-4B6C-8FD1-8012DA8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748711-FA65-4AFC-B0D8-D9723557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2B4F57-BCC3-4C1F-A3AB-F19CCC62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907198-25F1-48F4-B6CF-EE545362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906C48-B02A-4F44-B2A8-144D28F6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0860D2-D6EF-472A-BF6C-AC5DD88D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2B295B-12BA-4266-9410-22AA1FB5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9A9FF7-414C-49EE-B8A6-3537DA1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E8A94D-2481-4006-8000-F6158ED8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B1759-2EA3-4EE7-86C7-01D16E7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CFDBB-8D76-4147-96C8-CE87BA4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7D821C-77C4-46F4-A18F-8B99176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B2BE8D-33C9-4709-94CB-28D4BFF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E78E7E-6EA0-4F2A-93BA-EBADC9A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8A82A4-F64D-4E41-B746-837113DC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D32D6C-B41D-4B48-9FEE-DA528055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C03054-ACA9-4BF2-AC78-ABF11AAC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438353-8125-4428-9ACF-4571279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24D2B0-2CB1-48F9-A713-4167EFD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41F790-3BD3-46D9-9DF3-C0D6F4A8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E81EE-5030-4DBE-959E-AFD97A9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326CB-60CE-411F-9459-0D18283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5DC60A-3265-4657-A37F-1CCEC31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92FBDE-2C87-4E68-B688-AF1EB3C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E014BE-FC65-488C-B41F-C887A4E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30E831-F238-426B-A78F-61AA177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7DA2C6-1170-4664-9838-7093A2F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5EF438-2BE6-4B83-8A3B-76CC2DD1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0FD1F8-1625-42E3-A922-DA38F977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175175-6FF8-4117-82BC-FF812703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AF22B-029C-4B40-8D31-FEF647C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32212-1C7C-44F9-A32A-79EBAC1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3D0976-5126-48C7-83D2-D2CB550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1D6BF4-A323-4855-88DC-135F329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8F8C0A-7F62-469F-B5C2-5DC6621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DDCAC9-4CEE-42FD-8BA1-88223C1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7C971E-ED42-47F7-B34F-FE936A7E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D29E7C-9003-42A7-81B3-8126DD3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741C38-31C9-4A79-A4F6-10870A1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B8308A-915E-452B-87DF-604C949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C262A5-F0D1-4B88-9A68-2512FFE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4C6DCF-236A-4B4D-BDAC-263C0270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71762-4282-4DE1-8262-42B266C7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CA3F9B-506C-4AE3-8EDC-6E430127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2019C0-8303-4AF9-A5D4-AA2FF6AD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F4C5B0-0786-4553-BAB6-118FFC6D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32C68E-1D9E-462D-B249-C900785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B23EBF-10D9-4314-9E84-4D9FA24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953EAD-A044-4525-9DB2-5CADA67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F918F6-C4C9-41B1-A57A-54A095A4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0C949E-D9AD-4385-82FB-5EA3F8F7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3FDF10-E179-491F-9170-72A45F0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5C4A57-D080-481C-9313-C4D6E206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33D90-A739-40D2-90D8-2D80A885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CA36AA-AB58-42AD-AE1F-230D7A22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110EB2-CFEB-4909-B19A-0F4C9225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CB0D35-1B0B-40B3-AD88-F24E6A1E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4CBE-8485-4A25-BCB3-B28E163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18B5-8712-4AC0-BD04-639B0AC0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5A3-BC46-4F79-A0D3-D4EE054F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DE97E-25CF-44FF-B8DB-AB54BA0E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621C-A951-4613-8AB7-ECEC538F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2568-4FDA-4F19-98E2-368CA618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6C73-795F-4946-ADAA-3456408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9A48-8E84-4606-84BB-720F99D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CB22-02B9-4C14-B3E4-8AB1B28E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E2A2-592D-46AA-A8F7-D01DF77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C13BD-644A-46BC-90E2-F188F247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9D42-9D9F-4D4F-AF3F-D8A17616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6E77-F005-4811-A784-D3BBE463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BAB-54ED-43FD-829C-3AAFEA7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6ECE-6E94-4E39-AB30-9889E3C4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2549-9748-470E-B32A-4586125C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639A-CF71-4369-A9B7-EF13537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B283-C247-4DDD-84C6-9BECE79D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B9B33-7333-406D-A901-FA3672ED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4DE6-C275-48CA-A870-74A8A72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BA0A-FC99-4AB9-B612-4AD2BE8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1B9C-C336-4210-8A4A-66A0FE5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A0427-6512-4823-9586-E3C89784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61FEB-7D91-4AB0-9843-F501CA5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5DB-6B23-4925-9D6E-64538606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0EB6-9A22-4CD8-8141-57B2CBD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E3D8-5201-463A-915D-5683635B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6DDC-F2E1-47BA-A2C3-837EE378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B99A9-2B12-474A-AA47-B0FA233B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1A55-130D-4898-88C8-6E6FEB14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7B63-C08E-46A6-ACB1-0719926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E6D7-3B8A-4F77-B574-638545E9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C85E-45D0-4CFA-94F1-9E3FC44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819E-2FE4-4B92-9BCB-9D25E4B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4E077-2732-4830-8DBA-E8A887FF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4AF-2692-45A9-B381-59CE47E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1CE7-A2B8-46AD-8473-D2A21BDB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7318-A424-4EB0-9EBC-EDE86E96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A7D04-BAE4-4978-80C6-62C2224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D0B5-2CDE-4725-943A-F28E9E8E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AD318-427E-42C8-AEF6-9E186B0A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7B1ED-A6EE-4712-8E1F-FED1BB0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C814-28B5-4507-9ECF-9E82A34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D6104-778D-4FCA-913C-9E741E5E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F2D4-590C-4239-AC4C-5E068377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3860-4684-4B23-B2AA-E3E3853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B78-AEC8-4220-A906-02E5010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D8EA9-4DC8-4F27-92EC-D06A5B5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30DC-8B2C-42EE-8787-DA8C82F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9A78-0C6C-45D7-A180-9ACB9AF4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2786-49DD-4C66-AF56-420A79C3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A8D2-3E3A-4418-8D72-83512E7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9F09-8378-45F1-AA75-B9121124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91D3-20E7-4824-B74C-2C71503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DDD4-F860-4243-9481-3F4E44C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E803-8002-41A8-A130-0B43F884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F3A19-191B-431D-A113-35247EF9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E47-8BFD-40FD-A1B5-7F08DB9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5F08-0363-4202-8646-058BE25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B184-76BD-4F16-8158-249EBCA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560D4-B77E-4C8D-9F69-799E506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B866-6A11-4D75-9749-3D7586D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E3B9D-423E-401F-8CC4-36B08208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0E05-F41C-486B-94C1-51E940A5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16D2-422A-4411-8B4F-9D3719E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A5E88-96AB-4207-BB5C-DDB1F14F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EDA8D-44E8-441C-B528-A560CDB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D8440-0A17-43C2-949B-D5A179A4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1F3D-D055-4307-96CD-BCA1C1D17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D9DF-CFC6-4C32-8737-39A8A35D0D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8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9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5C4-7FC6-4048-A69F-EA7802A18D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BF0-8B0D-46C0-8CDB-A64ABE91F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FAB-4564-48A3-AC63-830D216E772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3CC-BE2D-44E2-BAB7-650C905C0F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D9D6-16F2-4EAE-A590-15ED25171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1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5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4D31-720E-4F37-A771-0A85ADE989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5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0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1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053-5AC5-4356-AA43-85A1FC5F80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BD02-458E-45E0-91E2-6CC168E9E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5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6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57B8-A1B2-407E-A9FE-59D187E4D33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BB4-EA68-4323-89DD-4583939E83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1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1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A33-9F77-48A8-B3D2-F666BC526F9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AC59-24C6-4370-AC7D-579E82B0E2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0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00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0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0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0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A235-EE87-4209-9B53-468FB95B99C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30C-F6B1-4CEC-B9D1-1A126283AE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9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12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5C4-E70C-42F9-ADF0-994FDB8179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D593-0BF5-462D-A862-25C4991BBA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21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21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857-DE09-4691-B077-07CC695EAD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9B55-8885-458F-BC06-D80BB1FEE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0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6EF2-C8AA-452F-9318-7AD45B76C56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353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4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5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6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7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E72-2755-4B2A-A91A-8129C5C81E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DE1-EF4A-46B0-8F7A-8348996C12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8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8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5A34-43A4-47D7-8473-1BD79B6D8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9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9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63EA-EE91-4121-836B-6C8F489C42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3CC-EA5F-49DB-9BBC-5742E18C45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5C6D-4081-4A54-A859-7BB30958743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9E3-AB66-4BCE-AF3F-3351F01E75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A04-597B-4678-A552-275F1DE637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73E-8F23-42A1-859B-27F354D3E3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14A-8338-4C27-B1B6-9DC2493BD0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" Target="slide11.xml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56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8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23A0-BE1B-41E7-818B-DBFF3E7D0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1" name="Picture 8" descr="фон-1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2" name="WordArt 12" descr=""/>
          <p:cNvPicPr/>
          <p:nvPr/>
        </p:nvPicPr>
        <p:blipFill>
          <a:blip r:embed="rId2"/>
          <a:stretch/>
        </p:blipFill>
        <p:spPr>
          <a:xfrm>
            <a:off x="493560" y="1494000"/>
            <a:ext cx="83692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13"/>
          <p:cNvGrpSpPr/>
          <p:nvPr/>
        </p:nvGrpSpPr>
        <p:grpSpPr>
          <a:xfrm>
            <a:off x="7885080" y="476280"/>
            <a:ext cx="838080" cy="761760"/>
            <a:chOff x="7885080" y="476280"/>
            <a:chExt cx="838080" cy="761760"/>
          </a:xfrm>
        </p:grpSpPr>
        <p:grpSp>
          <p:nvGrpSpPr>
            <p:cNvPr id="1494" name="Group 14"/>
            <p:cNvGrpSpPr/>
            <p:nvPr/>
          </p:nvGrpSpPr>
          <p:grpSpPr>
            <a:xfrm>
              <a:off x="7885080" y="476280"/>
              <a:ext cx="838080" cy="761760"/>
              <a:chOff x="7885080" y="476280"/>
              <a:chExt cx="838080" cy="761760"/>
            </a:xfrm>
          </p:grpSpPr>
          <p:sp>
            <p:nvSpPr>
              <p:cNvPr id="1495" name="AutoShape 15"/>
              <p:cNvSpPr/>
              <p:nvPr/>
            </p:nvSpPr>
            <p:spPr>
              <a:xfrm rot="16200000">
                <a:off x="7742160" y="675000"/>
                <a:ext cx="705600" cy="420120"/>
              </a:xfrm>
              <a:prstGeom prst="parallelogram">
                <a:avLst>
                  <a:gd name="adj" fmla="val 22922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6" name="AutoShape 16"/>
              <p:cNvSpPr/>
              <p:nvPr/>
            </p:nvSpPr>
            <p:spPr>
              <a:xfrm flipV="1" rot="5400000">
                <a:off x="8161200" y="676080"/>
                <a:ext cx="705600" cy="417960"/>
              </a:xfrm>
              <a:prstGeom prst="parallelogram">
                <a:avLst>
                  <a:gd name="adj" fmla="val 23041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7" name="AutoShape 17"/>
              <p:cNvSpPr/>
              <p:nvPr/>
            </p:nvSpPr>
            <p:spPr>
              <a:xfrm rot="16200000">
                <a:off x="7751880" y="667800"/>
                <a:ext cx="705960" cy="396360"/>
              </a:xfrm>
              <a:prstGeom prst="parallelogram">
                <a:avLst>
                  <a:gd name="adj" fmla="val 2430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8" name="AutoShape 18"/>
              <p:cNvSpPr/>
              <p:nvPr/>
            </p:nvSpPr>
            <p:spPr>
              <a:xfrm flipV="1" rot="5400000">
                <a:off x="8148240" y="666720"/>
                <a:ext cx="705960" cy="396720"/>
              </a:xfrm>
              <a:prstGeom prst="parallelogram">
                <a:avLst>
                  <a:gd name="adj" fmla="val 24287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9" name="AutoShape 19"/>
              <p:cNvSpPr/>
              <p:nvPr/>
            </p:nvSpPr>
            <p:spPr>
              <a:xfrm rot="16200000">
                <a:off x="7765200" y="66240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0" name="AutoShape 20"/>
              <p:cNvSpPr/>
              <p:nvPr/>
            </p:nvSpPr>
            <p:spPr>
              <a:xfrm flipV="1" rot="5400000">
                <a:off x="8134560" y="66168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1" name="AutoShape 21"/>
              <p:cNvSpPr/>
              <p:nvPr/>
            </p:nvSpPr>
            <p:spPr>
              <a:xfrm rot="16200000">
                <a:off x="777852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2" name="AutoShape 22"/>
              <p:cNvSpPr/>
              <p:nvPr/>
            </p:nvSpPr>
            <p:spPr>
              <a:xfrm flipV="1" rot="5400000">
                <a:off x="812124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03" name="Group 23"/>
            <p:cNvGrpSpPr/>
            <p:nvPr/>
          </p:nvGrpSpPr>
          <p:grpSpPr>
            <a:xfrm>
              <a:off x="8037360" y="552240"/>
              <a:ext cx="532800" cy="609840"/>
              <a:chOff x="8037360" y="552240"/>
              <a:chExt cx="532800" cy="609840"/>
            </a:xfrm>
          </p:grpSpPr>
          <p:grpSp>
            <p:nvGrpSpPr>
              <p:cNvPr id="1504" name="Group 24"/>
              <p:cNvGrpSpPr/>
              <p:nvPr/>
            </p:nvGrpSpPr>
            <p:grpSpPr>
              <a:xfrm>
                <a:off x="8143920" y="716400"/>
                <a:ext cx="309600" cy="276840"/>
                <a:chOff x="8143920" y="716400"/>
                <a:chExt cx="309600" cy="276840"/>
              </a:xfrm>
            </p:grpSpPr>
            <p:sp>
              <p:nvSpPr>
                <p:cNvPr id="1505" name="Freeform 25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6" name="Freeform 26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07" name="Group 27"/>
              <p:cNvGrpSpPr/>
              <p:nvPr/>
            </p:nvGrpSpPr>
            <p:grpSpPr>
              <a:xfrm>
                <a:off x="8037360" y="552240"/>
                <a:ext cx="532800" cy="609840"/>
                <a:chOff x="8037360" y="552240"/>
                <a:chExt cx="532800" cy="609840"/>
              </a:xfrm>
            </p:grpSpPr>
            <p:sp>
              <p:nvSpPr>
                <p:cNvPr id="1508" name="Freeform 28"/>
                <p:cNvSpPr/>
                <p:nvPr/>
              </p:nvSpPr>
              <p:spPr>
                <a:xfrm>
                  <a:off x="8037360" y="552240"/>
                  <a:ext cx="532800" cy="6094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9" name="Freeform 29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0" name="Freeform 30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1" name="Freeform 31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2" name="Freeform 32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3" name="Freeform 33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4" name="Freeform 34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5" name="Freeform 35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6" name="Freeform 36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7" name="Freeform 37"/>
                <p:cNvSpPr/>
                <p:nvPr/>
              </p:nvSpPr>
              <p:spPr>
                <a:xfrm>
                  <a:off x="8037360" y="552600"/>
                  <a:ext cx="532800" cy="6094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18" name="Oval 38"/>
              <p:cNvSpPr/>
              <p:nvPr/>
            </p:nvSpPr>
            <p:spPr>
              <a:xfrm>
                <a:off x="8197200" y="750600"/>
                <a:ext cx="213120" cy="200520"/>
              </a:xfrm>
              <a:prstGeom prst="ellipse">
                <a:avLst/>
              </a:prstGeom>
              <a:solidFill>
                <a:srgbClr val="ff973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9" name="AutoShape 39"/>
              <p:cNvSpPr/>
              <p:nvPr/>
            </p:nvSpPr>
            <p:spPr>
              <a:xfrm>
                <a:off x="8218440" y="759960"/>
                <a:ext cx="168480" cy="13716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520" name="Text Box 40"/>
          <p:cNvSpPr/>
          <p:nvPr/>
        </p:nvSpPr>
        <p:spPr>
          <a:xfrm>
            <a:off x="1763640" y="623736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4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EE7-A1BC-4069-8820-738ED5DEA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2" name="Picture 4" descr="фон-1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1593" name="WordArt 6"/>
          <p:cNvSpPr txBox="1"/>
          <p:nvPr/>
        </p:nvSpPr>
        <p:spPr>
          <a:xfrm>
            <a:off x="1187280" y="476280"/>
            <a:ext cx="7007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варийно-спасательные работы включают:</a:t>
            </a:r>
            <a:endParaRPr b="0" lang="en-US" sz="16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4" name="Text Box 7"/>
          <p:cNvSpPr/>
          <p:nvPr/>
        </p:nvSpPr>
        <p:spPr>
          <a:xfrm>
            <a:off x="250920" y="1413000"/>
            <a:ext cx="85690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5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зведку маршрутов движения и участков работ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локализацию и тушение пожаров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вление или доведение до минимально возможного уровня возникших в результате ЧС вредных и опасных факторов, препятствующих ведению 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озыск пораженных и извлечение их из поврежденных и горящих зданий, загазованных, затопленных и задымленных помещений, завал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крытие разрушенных, поврежденных и заваленных ЗС и спасение находящихся в них люде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чу воздуха в заваленные ЗС с поврежденной фильтровентиляционной систем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азание первой медицинской и врачебной помощи пострадавшим и эвакуацию их в лечебные учрежд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воз (вывод) населения из опасных мест в безопасные рай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анитарную обработку людей, ветеринарную обработку с/х животных, дезактивацию и дегазацию техники, средств защиты и одежды, обеззараживание территорий и сооружений, продовольствия, воды и т.д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randomBa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6B71-D78F-401E-978B-B2E7D3E8F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Picture 4" descr="фон"/>
          <p:cNvPicPr/>
          <p:nvPr/>
        </p:nvPicPr>
        <p:blipFill>
          <a:blip r:embed="rId1"/>
          <a:stretch/>
        </p:blipFill>
        <p:spPr>
          <a:xfrm>
            <a:off x="250920" y="189000"/>
            <a:ext cx="8280360" cy="5994360"/>
          </a:xfrm>
          <a:prstGeom prst="rect">
            <a:avLst/>
          </a:prstGeom>
          <a:ln w="0">
            <a:noFill/>
          </a:ln>
        </p:spPr>
      </p:pic>
      <p:sp>
        <p:nvSpPr>
          <p:cNvPr id="1597" name="WordArt 6"/>
          <p:cNvSpPr txBox="1"/>
          <p:nvPr/>
        </p:nvSpPr>
        <p:spPr>
          <a:xfrm>
            <a:off x="1763640" y="404640"/>
            <a:ext cx="5834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варийно-спасательные работы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1692360" y="260280"/>
            <a:ext cx="6121440" cy="57636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826920" y="1197000"/>
            <a:ext cx="2089440" cy="520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обственно 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300720" y="1197000"/>
            <a:ext cx="2089080" cy="520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3564000" y="1197000"/>
            <a:ext cx="208908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           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Text Box 11"/>
          <p:cNvSpPr/>
          <p:nvPr/>
        </p:nvSpPr>
        <p:spPr>
          <a:xfrm>
            <a:off x="611280" y="2060640"/>
            <a:ext cx="2448000" cy="38476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пасательные работы, связанные со спасением людей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поиск пострадавших в местах возможного блокирова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извлечение пострадавших из поврежденных, горящих, зараженных ОВ (АХОВ), РВ зд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оказание первой медицинской и первой врачебной помощи пострадавшим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эвакуация пострадавших в медицинские учрежд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вывод (вывоз) населения из зон заражения в безопасное место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Text Box 12"/>
          <p:cNvSpPr/>
          <p:nvPr/>
        </p:nvSpPr>
        <p:spPr>
          <a:xfrm>
            <a:off x="3348000" y="2060640"/>
            <a:ext cx="2448000" cy="38224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работы включаю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тушение пожар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локализацию аварий на коммунально-энергетических сетя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стройство проездов (проходов) в завала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крепление (обрушение) неустойчивых конструкц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проведение специальной обработки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4" name="Text Box 13"/>
          <p:cNvSpPr/>
          <p:nvPr/>
        </p:nvSpPr>
        <p:spPr>
          <a:xfrm>
            <a:off x="6084720" y="2060640"/>
            <a:ext cx="2448000" cy="38224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связаны с подготовкой участка спасательных рабо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расчистка площадок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установка на них техники, ограждений и предупреди-тельных знак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освещение рабочих мест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5" name="Line 14"/>
          <p:cNvSpPr/>
          <p:nvPr/>
        </p:nvSpPr>
        <p:spPr>
          <a:xfrm>
            <a:off x="4572000" y="836640"/>
            <a:ext cx="0" cy="36036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6" name="Line 15"/>
          <p:cNvSpPr/>
          <p:nvPr/>
        </p:nvSpPr>
        <p:spPr>
          <a:xfrm flipH="1">
            <a:off x="1908000" y="836640"/>
            <a:ext cx="50328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7" name="Line 16"/>
          <p:cNvSpPr/>
          <p:nvPr/>
        </p:nvSpPr>
        <p:spPr>
          <a:xfrm>
            <a:off x="6948360" y="836640"/>
            <a:ext cx="503280" cy="360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8" name="Line 17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Line 18"/>
          <p:cNvSpPr/>
          <p:nvPr/>
        </p:nvSpPr>
        <p:spPr>
          <a:xfrm>
            <a:off x="4572000" y="1773360"/>
            <a:ext cx="0" cy="28728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0" name="Line 19"/>
          <p:cNvSpPr/>
          <p:nvPr/>
        </p:nvSpPr>
        <p:spPr>
          <a:xfrm>
            <a:off x="745164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Text Box 20"/>
          <p:cNvSpPr/>
          <p:nvPr/>
        </p:nvSpPr>
        <p:spPr>
          <a:xfrm>
            <a:off x="971640" y="6093000"/>
            <a:ext cx="72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Специальные и вспомогательные работы осуществляются для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эффективного проведения собственно спасательных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20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200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140-291C-44AF-9231-AFFFA23DC8E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Text Box 3"/>
          <p:cNvSpPr/>
          <p:nvPr/>
        </p:nvSpPr>
        <p:spPr>
          <a:xfrm>
            <a:off x="755640" y="4508640"/>
            <a:ext cx="8064360" cy="204480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Другие неотложные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это деятельность по: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стороннему обеспечению аварийно-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казанию населению, пострадавшему в ЧС, медицинской и других видов помощ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ю условий, минимально необходимых для сохранения жизни и здоровья людей, поддержания их работоспособност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755640" y="2565360"/>
            <a:ext cx="8064360" cy="177048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Цель проведения неотлож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е условий для проведения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едотвращение дальнейших разрушений и потерь, вызванных вторичными поражающими факторам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жизнедеятельности объектов экономики и пострадавшего населения в условиях ЧС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5" name="Rectangle 5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6" name="WordArt 6"/>
          <p:cNvSpPr txBox="1"/>
          <p:nvPr/>
        </p:nvSpPr>
        <p:spPr>
          <a:xfrm>
            <a:off x="1763640" y="836640"/>
            <a:ext cx="633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Другие неотложные работы 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в очагах поражения</a:t>
            </a:r>
            <a:endParaRPr b="1" lang="en-US" sz="16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7E0-67C0-4D7F-A9E9-C19A0266C8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8" name="Text Box 3"/>
          <p:cNvSpPr/>
          <p:nvPr/>
        </p:nvSpPr>
        <p:spPr>
          <a:xfrm>
            <a:off x="611280" y="1773360"/>
            <a:ext cx="7993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66760" algn="just">
              <a:lnSpc>
                <a:spcPct val="11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прокладывание колонных путей и устройство проходов в завалах и на зараженных участка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локализацию аварий на газовых, энергетических, водопроводных, канализационных и технолог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укрепление или обрушение конструкций зданий и сооружений, угрожающих обвалом или препятствующих безопасному про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и разрушенных линий связи и коммунально-энергетических сетей;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защитных сооружени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анитарную очистку территории в зоне ЧС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бор материальных ценност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оздание условий, минимально необходимых для сохранения жизни и здоровья люд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WordArt 5"/>
          <p:cNvSpPr txBox="1"/>
          <p:nvPr/>
        </p:nvSpPr>
        <p:spPr>
          <a:xfrm>
            <a:off x="1547640" y="54936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ut thruBlk="true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00"/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000"/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414C-A1B7-45AE-B5BE-8FA85A49F2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Text Box 3"/>
          <p:cNvSpPr/>
          <p:nvPr/>
        </p:nvSpPr>
        <p:spPr>
          <a:xfrm>
            <a:off x="1042920" y="2205000"/>
            <a:ext cx="6985080" cy="2829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анитарную очистку территории в зоне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бор материальных ценносте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WordArt 4"/>
          <p:cNvSpPr txBox="1"/>
          <p:nvPr/>
        </p:nvSpPr>
        <p:spPr>
          <a:xfrm>
            <a:off x="1547640" y="907920"/>
            <a:ext cx="612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30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3000"/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3000"/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2859-1A01-4BD8-B432-6EFAAB74B4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4" name="AutoShape 3"/>
          <p:cNvSpPr/>
          <p:nvPr/>
        </p:nvSpPr>
        <p:spPr>
          <a:xfrm>
            <a:off x="2340000" y="37368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5" name="AutoShape 4"/>
          <p:cNvSpPr/>
          <p:nvPr/>
        </p:nvSpPr>
        <p:spPr>
          <a:xfrm>
            <a:off x="755640" y="35211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AutoShape 5"/>
          <p:cNvSpPr/>
          <p:nvPr/>
        </p:nvSpPr>
        <p:spPr>
          <a:xfrm>
            <a:off x="755640" y="184464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AutoShape 6"/>
          <p:cNvSpPr/>
          <p:nvPr/>
        </p:nvSpPr>
        <p:spPr>
          <a:xfrm>
            <a:off x="2340000" y="2060640"/>
            <a:ext cx="12240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AutoShape 7"/>
          <p:cNvSpPr/>
          <p:nvPr/>
        </p:nvSpPr>
        <p:spPr>
          <a:xfrm>
            <a:off x="755640" y="51213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AutoShape 8"/>
          <p:cNvSpPr/>
          <p:nvPr/>
        </p:nvSpPr>
        <p:spPr>
          <a:xfrm>
            <a:off x="2340000" y="53370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Text Box 9">
            <a:hlinkClick r:id="rId4" action="ppaction://hlinksldjump"/>
          </p:cNvPr>
          <p:cNvSpPr/>
          <p:nvPr/>
        </p:nvSpPr>
        <p:spPr>
          <a:xfrm>
            <a:off x="4002120" y="1844640"/>
            <a:ext cx="4602240" cy="83376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Rectangle 10">
            <a:hlinkClick r:id="rId5" action="ppaction://hlinksldjump"/>
          </p:cNvPr>
          <p:cNvSpPr/>
          <p:nvPr/>
        </p:nvSpPr>
        <p:spPr>
          <a:xfrm>
            <a:off x="3995640" y="3429000"/>
            <a:ext cx="4584960" cy="100800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аварийно-спасатель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других неотложных работ в зонах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Rectangle 11"/>
          <p:cNvSpPr/>
          <p:nvPr/>
        </p:nvSpPr>
        <p:spPr>
          <a:xfrm>
            <a:off x="3995640" y="5229360"/>
            <a:ext cx="45849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квидация последствий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3" name="WordArt 12"/>
          <p:cNvSpPr txBox="1"/>
          <p:nvPr/>
        </p:nvSpPr>
        <p:spPr>
          <a:xfrm>
            <a:off x="1116000" y="404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Номер слайда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845F-384F-46C9-B5C4-90958AC25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AutoShape 3"/>
          <p:cNvSpPr/>
          <p:nvPr/>
        </p:nvSpPr>
        <p:spPr>
          <a:xfrm>
            <a:off x="3492360" y="371628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AutoShape 4"/>
          <p:cNvSpPr/>
          <p:nvPr/>
        </p:nvSpPr>
        <p:spPr>
          <a:xfrm>
            <a:off x="468360" y="3429000"/>
            <a:ext cx="2879640" cy="9349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ышен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готов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AutoShape 5"/>
          <p:cNvSpPr/>
          <p:nvPr/>
        </p:nvSpPr>
        <p:spPr>
          <a:xfrm>
            <a:off x="468360" y="1773360"/>
            <a:ext cx="2879640" cy="987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седнев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AutoShape 6"/>
          <p:cNvSpPr/>
          <p:nvPr/>
        </p:nvSpPr>
        <p:spPr>
          <a:xfrm>
            <a:off x="3492360" y="213372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AutoShape 8"/>
          <p:cNvSpPr/>
          <p:nvPr/>
        </p:nvSpPr>
        <p:spPr>
          <a:xfrm>
            <a:off x="468360" y="5084640"/>
            <a:ext cx="287964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чрезвычай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иту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0" name="AutoShape 9"/>
          <p:cNvSpPr/>
          <p:nvPr/>
        </p:nvSpPr>
        <p:spPr>
          <a:xfrm>
            <a:off x="3564000" y="5445000"/>
            <a:ext cx="111744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1" name="Group 17"/>
          <p:cNvGrpSpPr/>
          <p:nvPr/>
        </p:nvGrpSpPr>
        <p:grpSpPr>
          <a:xfrm>
            <a:off x="4716360" y="1752480"/>
            <a:ext cx="3743280" cy="939960"/>
            <a:chOff x="4716360" y="1752480"/>
            <a:chExt cx="3743280" cy="939960"/>
          </a:xfrm>
        </p:grpSpPr>
        <p:sp>
          <p:nvSpPr>
            <p:cNvPr id="1642" name="Rectangle 7"/>
            <p:cNvSpPr/>
            <p:nvPr/>
          </p:nvSpPr>
          <p:spPr>
            <a:xfrm>
              <a:off x="4716360" y="1752480"/>
              <a:ext cx="3743280" cy="9399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3" name="Text Box 10"/>
            <p:cNvSpPr/>
            <p:nvPr/>
          </p:nvSpPr>
          <p:spPr>
            <a:xfrm>
              <a:off x="4859280" y="191628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отсутствии угрозы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4" name="Group 18"/>
          <p:cNvGrpSpPr/>
          <p:nvPr/>
        </p:nvGrpSpPr>
        <p:grpSpPr>
          <a:xfrm>
            <a:off x="4716360" y="3429000"/>
            <a:ext cx="3743280" cy="977760"/>
            <a:chOff x="4716360" y="3429000"/>
            <a:chExt cx="3743280" cy="977760"/>
          </a:xfrm>
        </p:grpSpPr>
        <p:sp>
          <p:nvSpPr>
            <p:cNvPr id="1645" name="Rectangle 11"/>
            <p:cNvSpPr/>
            <p:nvPr/>
          </p:nvSpPr>
          <p:spPr>
            <a:xfrm>
              <a:off x="4716360" y="3429000"/>
              <a:ext cx="3743280" cy="9777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6" name="Text Box 12"/>
            <p:cNvSpPr/>
            <p:nvPr/>
          </p:nvSpPr>
          <p:spPr>
            <a:xfrm>
              <a:off x="4932360" y="3573360"/>
              <a:ext cx="323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угрозе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7" name="Group 19"/>
          <p:cNvGrpSpPr/>
          <p:nvPr/>
        </p:nvGrpSpPr>
        <p:grpSpPr>
          <a:xfrm>
            <a:off x="4716360" y="5105520"/>
            <a:ext cx="3743280" cy="963360"/>
            <a:chOff x="4716360" y="5105520"/>
            <a:chExt cx="3743280" cy="963360"/>
          </a:xfrm>
        </p:grpSpPr>
        <p:sp>
          <p:nvSpPr>
            <p:cNvPr id="1648" name="Rectangle 13"/>
            <p:cNvSpPr/>
            <p:nvPr/>
          </p:nvSpPr>
          <p:spPr>
            <a:xfrm>
              <a:off x="4716360" y="5105520"/>
              <a:ext cx="3743280" cy="9633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9" name="Text Box 14"/>
            <p:cNvSpPr/>
            <p:nvPr/>
          </p:nvSpPr>
          <p:spPr>
            <a:xfrm>
              <a:off x="5003640" y="537372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возникновении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50" name="WordArt 16"/>
          <p:cNvSpPr txBox="1"/>
          <p:nvPr/>
        </p:nvSpPr>
        <p:spPr>
          <a:xfrm>
            <a:off x="1619280" y="47628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онные меропри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одготовке и проведению АСДН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2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2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6AA9-AF06-4400-94CD-EDE35AEC0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WordArt 4"/>
          <p:cNvSpPr txBox="1"/>
          <p:nvPr/>
        </p:nvSpPr>
        <p:spPr>
          <a:xfrm>
            <a:off x="1042920" y="54936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одимые мероприятия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отсутствии угрозы возникновения ЧС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3" name="Text Box 6"/>
          <p:cNvSpPr/>
          <p:nvPr/>
        </p:nvSpPr>
        <p:spPr>
          <a:xfrm>
            <a:off x="539640" y="2133720"/>
            <a:ext cx="8209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бор информации о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ланирование АСДНР в возможных зонах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органов управления 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, оснащение и подготовка группировки сил и средств РСЧС для проведения АСДНР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рганизация повседневного наблюдения и лабораторного контроля за состоянием окружающей среды, обстановкой на потенциально опасных объектах и на прилегающих  ним территор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резервов материальных ресурсов для ликвидации последствий ЧС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2" dur="20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6" dur="20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0" dur="2000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4" dur="2000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2000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2000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B152-BB08-4F3E-8594-D65B5CB8F9B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WordArt 4"/>
          <p:cNvSpPr txBox="1"/>
          <p:nvPr/>
        </p:nvSpPr>
        <p:spPr>
          <a:xfrm>
            <a:off x="611280" y="404640"/>
            <a:ext cx="770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одимые мероприят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 угрозе возникновения Ч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468360" y="191628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приведение органов управления в готовность к выполнению задач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точнение планов по вопросам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силение наблюдения за состоянием окружающей среды, прогнозирование возможности возникновения ЧС и ее масштаб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создание группировок сил и средств и приведение их в готовность к ведению АСДНР (в т.ч. выдвижение их, при необходимости, в предполагаемые районы ЧС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BB28-6B6E-4C37-9792-D795E86698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8" name="WordArt 4"/>
          <p:cNvSpPr txBox="1"/>
          <p:nvPr/>
        </p:nvSpPr>
        <p:spPr>
          <a:xfrm>
            <a:off x="1332000" y="549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одимые мероприятия 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 возникновении ЧС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9" name="Text Box 5"/>
          <p:cNvSpPr/>
          <p:nvPr/>
        </p:nvSpPr>
        <p:spPr>
          <a:xfrm>
            <a:off x="684360" y="1989000"/>
            <a:ext cx="7775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нарушенных функций управления, если они были нарушены (в т.ч. выдвижение ОГ в районы ЧС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организация разведки зон ЧС, осуществление непрерывного контроля и сбора обстановки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боеспособности (или создание) группировки сил и средств и организация их защит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ыдвижение сил в районы проведения работ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управление проведением АСДНР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792E-B186-4D76-981A-CA27B5D84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22" name="Picture 4" descr="фон-16"/>
          <p:cNvPicPr/>
          <p:nvPr/>
        </p:nvPicPr>
        <p:blipFill>
          <a:blip r:embed="rId1"/>
          <a:stretch/>
        </p:blipFill>
        <p:spPr>
          <a:xfrm>
            <a:off x="1332000" y="0"/>
            <a:ext cx="6383160" cy="6858000"/>
          </a:xfrm>
          <a:prstGeom prst="rect">
            <a:avLst/>
          </a:prstGeom>
          <a:ln w="0">
            <a:noFill/>
          </a:ln>
        </p:spPr>
      </p:pic>
      <p:sp>
        <p:nvSpPr>
          <p:cNvPr id="1523" name="WordArt 6"/>
          <p:cNvSpPr txBox="1"/>
          <p:nvPr/>
        </p:nvSpPr>
        <p:spPr>
          <a:xfrm>
            <a:off x="250920" y="620640"/>
            <a:ext cx="6049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бные вопросы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4" name="Text Box 7"/>
          <p:cNvSpPr/>
          <p:nvPr/>
        </p:nvSpPr>
        <p:spPr>
          <a:xfrm>
            <a:off x="1258920" y="2276640"/>
            <a:ext cx="7416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бщие положения по аварийно-спасательным и другим неотложным работам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рганизация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Проведение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079-9442-476D-90DF-DE5DCB0DD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1" name="Picture 4" descr="фон-10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412740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6"/>
          <p:cNvSpPr/>
          <p:nvPr/>
        </p:nvSpPr>
        <p:spPr>
          <a:xfrm>
            <a:off x="1835280" y="1052640"/>
            <a:ext cx="5184720" cy="707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3" name="Text Box 7"/>
          <p:cNvSpPr/>
          <p:nvPr/>
        </p:nvSpPr>
        <p:spPr>
          <a:xfrm>
            <a:off x="2700360" y="3933720"/>
            <a:ext cx="4248000" cy="64260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4" name="Text Box 8"/>
          <p:cNvSpPr/>
          <p:nvPr/>
        </p:nvSpPr>
        <p:spPr>
          <a:xfrm>
            <a:off x="2700360" y="2781360"/>
            <a:ext cx="4248000" cy="368280"/>
          </a:xfrm>
          <a:prstGeom prst="rect">
            <a:avLst/>
          </a:pr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Text Box 9"/>
          <p:cNvSpPr/>
          <p:nvPr/>
        </p:nvSpPr>
        <p:spPr>
          <a:xfrm>
            <a:off x="2700360" y="3357720"/>
            <a:ext cx="4248000" cy="3682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Text Box 10"/>
          <p:cNvSpPr/>
          <p:nvPr/>
        </p:nvSpPr>
        <p:spPr>
          <a:xfrm>
            <a:off x="2700360" y="2205000"/>
            <a:ext cx="4248000" cy="368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Text Box 11"/>
          <p:cNvSpPr/>
          <p:nvPr/>
        </p:nvSpPr>
        <p:spPr>
          <a:xfrm>
            <a:off x="2700360" y="4797360"/>
            <a:ext cx="4248000" cy="36828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Организац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8" name="WordArt 12"/>
          <p:cNvSpPr txBox="1"/>
          <p:nvPr/>
        </p:nvSpPr>
        <p:spPr>
          <a:xfrm>
            <a:off x="2195640" y="1268280"/>
            <a:ext cx="44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АСДН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9" name="Line 13"/>
          <p:cNvSpPr/>
          <p:nvPr/>
        </p:nvSpPr>
        <p:spPr>
          <a:xfrm>
            <a:off x="2050920" y="1773360"/>
            <a:ext cx="0" cy="31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Line 14"/>
          <p:cNvSpPr/>
          <p:nvPr/>
        </p:nvSpPr>
        <p:spPr>
          <a:xfrm>
            <a:off x="2052720" y="4941720"/>
            <a:ext cx="647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1" name="Line 15"/>
          <p:cNvSpPr/>
          <p:nvPr/>
        </p:nvSpPr>
        <p:spPr>
          <a:xfrm>
            <a:off x="2052720" y="4149720"/>
            <a:ext cx="647640" cy="0"/>
          </a:xfrm>
          <a:prstGeom prst="line">
            <a:avLst/>
          </a:prstGeom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2" name="Line 16"/>
          <p:cNvSpPr/>
          <p:nvPr/>
        </p:nvSpPr>
        <p:spPr>
          <a:xfrm>
            <a:off x="2050920" y="3502080"/>
            <a:ext cx="648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Line 17"/>
          <p:cNvSpPr/>
          <p:nvPr/>
        </p:nvSpPr>
        <p:spPr>
          <a:xfrm>
            <a:off x="2050920" y="2925720"/>
            <a:ext cx="648000" cy="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Line 18"/>
          <p:cNvSpPr/>
          <p:nvPr/>
        </p:nvSpPr>
        <p:spPr>
          <a:xfrm>
            <a:off x="2050920" y="2349360"/>
            <a:ext cx="64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155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1155" fill="hold"/>
                                        <p:tgtEl>
                                          <p:spTgt spid="16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155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1155" fill="hold"/>
                                        <p:tgtEl>
                                          <p:spTgt spid="16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155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1155" fill="hold"/>
                                        <p:tgtEl>
                                          <p:spTgt spid="1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4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6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155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1155" fill="hold"/>
                                        <p:tgtEl>
                                          <p:spTgt spid="16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155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1155" fill="hold"/>
                                        <p:tgtEl>
                                          <p:spTgt spid="1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7196-0A5A-4E86-8847-9DF4D66482F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Text Box 4"/>
          <p:cNvSpPr/>
          <p:nvPr/>
        </p:nvSpPr>
        <p:spPr>
          <a:xfrm>
            <a:off x="1763640" y="333360"/>
            <a:ext cx="5832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хнологии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Text Box 5"/>
          <p:cNvSpPr/>
          <p:nvPr/>
        </p:nvSpPr>
        <p:spPr>
          <a:xfrm>
            <a:off x="755640" y="1054080"/>
            <a:ext cx="23036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ъекты провед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Text Box 10"/>
          <p:cNvSpPr/>
          <p:nvPr/>
        </p:nvSpPr>
        <p:spPr>
          <a:xfrm>
            <a:off x="327672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ебования к организации и ведению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9" name="Text Box 11"/>
          <p:cNvSpPr/>
          <p:nvPr/>
        </p:nvSpPr>
        <p:spPr>
          <a:xfrm>
            <a:off x="615636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этапы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95280" y="1630440"/>
            <a:ext cx="266400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рушенные промышленные здания и гражданские соору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Text Box 20"/>
          <p:cNvSpPr/>
          <p:nvPr/>
        </p:nvSpPr>
        <p:spPr>
          <a:xfrm>
            <a:off x="395280" y="2349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ммунально-энергетические се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Text Box 21"/>
          <p:cNvSpPr/>
          <p:nvPr/>
        </p:nvSpPr>
        <p:spPr>
          <a:xfrm>
            <a:off x="395280" y="3500280"/>
            <a:ext cx="2664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фте-газо-аммиакопровод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3" name="Text Box 22"/>
          <p:cNvSpPr/>
          <p:nvPr/>
        </p:nvSpPr>
        <p:spPr>
          <a:xfrm>
            <a:off x="395280" y="29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топленные объекты и простран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4" name="Text Box 23"/>
          <p:cNvSpPr/>
          <p:nvPr/>
        </p:nvSpPr>
        <p:spPr>
          <a:xfrm>
            <a:off x="395280" y="414972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чаги химического и радиоактивного зара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Text Box 24"/>
          <p:cNvSpPr/>
          <p:nvPr/>
        </p:nvSpPr>
        <p:spPr>
          <a:xfrm>
            <a:off x="395280" y="47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омышленные предприятия, хранилищ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Text Box 25"/>
          <p:cNvSpPr/>
          <p:nvPr/>
        </p:nvSpPr>
        <p:spPr>
          <a:xfrm>
            <a:off x="395280" y="5300640"/>
            <a:ext cx="2664000" cy="24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ранспортные сре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Text Box 26"/>
          <p:cNvSpPr/>
          <p:nvPr/>
        </p:nvSpPr>
        <p:spPr>
          <a:xfrm>
            <a:off x="395280" y="5805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зрыво-пожароопасные объек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Text Box 27"/>
          <p:cNvSpPr/>
          <p:nvPr/>
        </p:nvSpPr>
        <p:spPr>
          <a:xfrm>
            <a:off x="3276720" y="1628640"/>
            <a:ext cx="2663640" cy="2975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рганизация и проведение работ в короткие сроки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менение способов и технологий, обеспечивающих быструю локализацию и снижение масштабов зараж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остаточная надежность и эффективность работ по ликвидации последствий ЧС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безопасность применяемых способов и технологий для спасателей (формирований) и окружающей среды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Text Box 28"/>
          <p:cNvSpPr/>
          <p:nvPr/>
        </p:nvSpPr>
        <p:spPr>
          <a:xfrm>
            <a:off x="6156360" y="220500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нженерно-технически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Text Box 29"/>
          <p:cNvSpPr/>
          <p:nvPr/>
        </p:nvSpPr>
        <p:spPr>
          <a:xfrm>
            <a:off x="6156360" y="1628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щая и спец. разведка района бедствия и объекта рабо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Text Box 30"/>
          <p:cNvSpPr/>
          <p:nvPr/>
        </p:nvSpPr>
        <p:spPr>
          <a:xfrm>
            <a:off x="6156360" y="278136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дготови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2" name="Text Box 31"/>
          <p:cNvSpPr/>
          <p:nvPr/>
        </p:nvSpPr>
        <p:spPr>
          <a:xfrm>
            <a:off x="6156360" y="3357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исково-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Text Box 32"/>
          <p:cNvSpPr/>
          <p:nvPr/>
        </p:nvSpPr>
        <p:spPr>
          <a:xfrm>
            <a:off x="6156360" y="3933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отложные аварийно-спаса-тельные (технические)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Text Box 33"/>
          <p:cNvSpPr/>
          <p:nvPr/>
        </p:nvSpPr>
        <p:spPr>
          <a:xfrm>
            <a:off x="6156360" y="4508640"/>
            <a:ext cx="2663640" cy="23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Ликвидация пожаров на объекта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Text Box 34"/>
          <p:cNvSpPr/>
          <p:nvPr/>
        </p:nvSpPr>
        <p:spPr>
          <a:xfrm>
            <a:off x="6156360" y="5084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азание первой медпомощи и эвакуация пострадав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Text Box 35"/>
          <p:cNvSpPr/>
          <p:nvPr/>
        </p:nvSpPr>
        <p:spPr>
          <a:xfrm>
            <a:off x="6156360" y="5661000"/>
            <a:ext cx="266364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звлечение, эвакуация, опознание и захоронение погиб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Text Box 36"/>
          <p:cNvSpPr/>
          <p:nvPr/>
        </p:nvSpPr>
        <p:spPr>
          <a:xfrm>
            <a:off x="971640" y="6308640"/>
            <a:ext cx="720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аиболее сложным технологическим этапом являются инженерные работы по обеспечению доступа к пострадавшим, их деблокирование и последующее извлечение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AEA9-5D95-4896-BE5C-A980EBEB26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9" name="Text Box 4"/>
          <p:cNvSpPr/>
          <p:nvPr/>
        </p:nvSpPr>
        <p:spPr>
          <a:xfrm>
            <a:off x="468360" y="1844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й связ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468360" y="24192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бор</a:t>
            </a:r>
            <a:r>
              <a:rPr b="1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нных об обстановке, ее анализ и оценка</a:t>
            </a:r>
            <a:r>
              <a:rPr b="0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Text Box 6"/>
          <p:cNvSpPr/>
          <p:nvPr/>
        </p:nvSpPr>
        <p:spPr>
          <a:xfrm>
            <a:off x="468360" y="4148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взаимодействия и обеспечения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Text Box 7"/>
          <p:cNvSpPr/>
          <p:nvPr/>
        </p:nvSpPr>
        <p:spPr>
          <a:xfrm>
            <a:off x="468360" y="299556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Text Box 8"/>
          <p:cNvSpPr/>
          <p:nvPr/>
        </p:nvSpPr>
        <p:spPr>
          <a:xfrm>
            <a:off x="468360" y="357192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точнение задач, доведение их до подчинен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4" name="Text Box 9"/>
          <p:cNvSpPr/>
          <p:nvPr/>
        </p:nvSpPr>
        <p:spPr>
          <a:xfrm>
            <a:off x="468360" y="4724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потерь населения, сил РСЧС(ГО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Text Box 10"/>
          <p:cNvSpPr/>
          <p:nvPr/>
        </p:nvSpPr>
        <p:spPr>
          <a:xfrm>
            <a:off x="468360" y="5300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мен информацией об обстановк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Text Box 11"/>
          <p:cNvSpPr/>
          <p:nvPr/>
        </p:nvSpPr>
        <p:spPr>
          <a:xfrm>
            <a:off x="468360" y="58770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го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WordArt 12"/>
          <p:cNvSpPr txBox="1"/>
          <p:nvPr/>
        </p:nvSpPr>
        <p:spPr>
          <a:xfrm>
            <a:off x="1476360" y="907920"/>
            <a:ext cx="60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Narrow"/>
              </a:rPr>
              <a:t>Проведение  АСДН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</p:spTree>
  </p:cSld>
  <p:transition spd="slow">
    <p:cut thruBlk="true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7BDF-CBA2-42A3-A408-96EECCC8C0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WordArt 4"/>
          <p:cNvSpPr txBox="1"/>
          <p:nvPr/>
        </p:nvSpPr>
        <p:spPr>
          <a:xfrm>
            <a:off x="468360" y="404640"/>
            <a:ext cx="734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зация проведения АСДНР</a:t>
            </a:r>
            <a:endParaRPr b="0" lang="en-US" sz="20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0" name="Text Box 5"/>
          <p:cNvSpPr/>
          <p:nvPr/>
        </p:nvSpPr>
        <p:spPr>
          <a:xfrm>
            <a:off x="324000" y="981000"/>
            <a:ext cx="756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варийно-спасательные и другие неотложные работы в ЧС мирного и военного времени проводятся круглосуточно, посменно до полного заверш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395280" y="1844640"/>
            <a:ext cx="3168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прерывность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3924360" y="1844640"/>
            <a:ext cx="4392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пешное выполнение задач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2556000" y="2421000"/>
            <a:ext cx="316836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 О С Т И Г А Е Т С 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4" name="Line 9"/>
          <p:cNvSpPr/>
          <p:nvPr/>
        </p:nvSpPr>
        <p:spPr>
          <a:xfrm>
            <a:off x="291636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Line 10"/>
          <p:cNvSpPr/>
          <p:nvPr/>
        </p:nvSpPr>
        <p:spPr>
          <a:xfrm flipH="1">
            <a:off x="4716360" y="220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Text Box 11"/>
          <p:cNvSpPr/>
          <p:nvPr/>
        </p:nvSpPr>
        <p:spPr>
          <a:xfrm>
            <a:off x="395280" y="3357720"/>
            <a:ext cx="36720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циональной их организацией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еративным и твердым управл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маневром силами 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лным обеспечением необходимыми средствами защиты и материально-техническим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заменой формирований и спасателей с учетом режимов работы в условиях заражения (ОВ, АХОВ, РВ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Text Box 12"/>
          <p:cNvSpPr/>
          <p:nvPr/>
        </p:nvSpPr>
        <p:spPr>
          <a:xfrm>
            <a:off x="4427640" y="3357720"/>
            <a:ext cx="432108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организацией и непрерывным ведением разведк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вводом сил и средств в очаги пораж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благовременным изучением командирами (руководителями) формирований участков (объектов) работ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ей взаимодействия сил и средств, всесторонним их обеспеч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блюдением правил и мер безопасности при проведении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8" name="Line 13"/>
          <p:cNvSpPr/>
          <p:nvPr/>
        </p:nvSpPr>
        <p:spPr>
          <a:xfrm flipH="1">
            <a:off x="2484000" y="278136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Line 14"/>
          <p:cNvSpPr/>
          <p:nvPr/>
        </p:nvSpPr>
        <p:spPr>
          <a:xfrm>
            <a:off x="4572000" y="2781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Text Box 19"/>
          <p:cNvSpPr/>
          <p:nvPr/>
        </p:nvSpPr>
        <p:spPr>
          <a:xfrm>
            <a:off x="1258920" y="5805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 задачи при проведении АСДНР выполняются в максимально короткие сроки, в три этап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0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1B27-BF54-4E07-B4D5-40CEA1841F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2" name="AutoShape 4"/>
          <p:cNvSpPr/>
          <p:nvPr/>
        </p:nvSpPr>
        <p:spPr>
          <a:xfrm>
            <a:off x="2195640" y="3571920"/>
            <a:ext cx="6858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AutoShape 5"/>
          <p:cNvSpPr/>
          <p:nvPr/>
        </p:nvSpPr>
        <p:spPr>
          <a:xfrm>
            <a:off x="684360" y="3500280"/>
            <a:ext cx="1449360" cy="513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AutoShape 6"/>
          <p:cNvSpPr/>
          <p:nvPr/>
        </p:nvSpPr>
        <p:spPr>
          <a:xfrm>
            <a:off x="684360" y="2421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AutoShape 7"/>
          <p:cNvSpPr/>
          <p:nvPr/>
        </p:nvSpPr>
        <p:spPr>
          <a:xfrm>
            <a:off x="2209680" y="247644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6" name="AutoShape 8"/>
          <p:cNvSpPr/>
          <p:nvPr/>
        </p:nvSpPr>
        <p:spPr>
          <a:xfrm>
            <a:off x="684360" y="4653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7" name="AutoShape 9"/>
          <p:cNvSpPr/>
          <p:nvPr/>
        </p:nvSpPr>
        <p:spPr>
          <a:xfrm>
            <a:off x="2195640" y="472428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Text Box 10"/>
          <p:cNvSpPr/>
          <p:nvPr/>
        </p:nvSpPr>
        <p:spPr>
          <a:xfrm>
            <a:off x="2916360" y="2205000"/>
            <a:ext cx="5943600" cy="916920"/>
          </a:xfrm>
          <a:prstGeom prst="rect">
            <a:avLst/>
          </a:prstGeom>
          <a:solidFill>
            <a:srgbClr val="ffffe1"/>
          </a:solidFill>
          <a:ln w="9360">
            <a:solidFill>
              <a:srgbClr val="ffa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29" name="Group 16"/>
          <p:cNvGrpSpPr/>
          <p:nvPr/>
        </p:nvGrpSpPr>
        <p:grpSpPr>
          <a:xfrm>
            <a:off x="2916360" y="3355920"/>
            <a:ext cx="5921280" cy="1008000"/>
            <a:chOff x="2916360" y="3355920"/>
            <a:chExt cx="5921280" cy="1008000"/>
          </a:xfrm>
        </p:grpSpPr>
        <p:sp>
          <p:nvSpPr>
            <p:cNvPr id="1730" name="Rectangle 11"/>
            <p:cNvSpPr/>
            <p:nvPr/>
          </p:nvSpPr>
          <p:spPr>
            <a:xfrm>
              <a:off x="2916360" y="3355920"/>
              <a:ext cx="5921280" cy="100800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1" name="Text Box 12"/>
            <p:cNvSpPr/>
            <p:nvPr/>
          </p:nvSpPr>
          <p:spPr>
            <a:xfrm>
              <a:off x="3419640" y="3500280"/>
              <a:ext cx="4836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оведение аварийно-спасательных и других неотложных работ в зонах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32" name="Group 17"/>
          <p:cNvGrpSpPr/>
          <p:nvPr/>
        </p:nvGrpSpPr>
        <p:grpSpPr>
          <a:xfrm>
            <a:off x="2916360" y="4653000"/>
            <a:ext cx="5921280" cy="647640"/>
            <a:chOff x="2916360" y="4653000"/>
            <a:chExt cx="5921280" cy="647640"/>
          </a:xfrm>
        </p:grpSpPr>
        <p:sp>
          <p:nvSpPr>
            <p:cNvPr id="1733" name="Rectangle 13"/>
            <p:cNvSpPr/>
            <p:nvPr/>
          </p:nvSpPr>
          <p:spPr>
            <a:xfrm>
              <a:off x="2916360" y="4653000"/>
              <a:ext cx="5921280" cy="64764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4" name="Text Box 14"/>
            <p:cNvSpPr/>
            <p:nvPr/>
          </p:nvSpPr>
          <p:spPr>
            <a:xfrm>
              <a:off x="3708360" y="4724640"/>
              <a:ext cx="39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Ликвидация последствий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35" name="WordArt 15"/>
          <p:cNvSpPr txBox="1"/>
          <p:nvPr/>
        </p:nvSpPr>
        <p:spPr>
          <a:xfrm>
            <a:off x="1403280" y="333360"/>
            <a:ext cx="67024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C6D7-329B-4C20-B57F-66EC3CB21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9520" y="2279520"/>
            <a:ext cx="24908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Экстренная защит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населения и оказание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мощи пострадавшим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овещение о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озникновении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пользование средст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защиты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эвакуация из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айон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блюдение режим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вед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озыск, извлечение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нос пострадавших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казание им мед. помощ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Line 5"/>
          <p:cNvSpPr/>
          <p:nvPr/>
        </p:nvSpPr>
        <p:spPr>
          <a:xfrm flipV="1">
            <a:off x="1547640" y="1557360"/>
            <a:ext cx="1800" cy="71928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9" name="Line 7"/>
          <p:cNvSpPr/>
          <p:nvPr/>
        </p:nvSpPr>
        <p:spPr>
          <a:xfrm flipH="1" flipV="1">
            <a:off x="4566960" y="907920"/>
            <a:ext cx="4680" cy="136872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0" name="Rectangle 8"/>
          <p:cNvSpPr/>
          <p:nvPr/>
        </p:nvSpPr>
        <p:spPr>
          <a:xfrm>
            <a:off x="3219480" y="2279520"/>
            <a:ext cx="25574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редотвращени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и уменьшение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воздействий ЧС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локализация очаг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раж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ерекрытие или подавление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точников выделения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асных веществ (излучений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остановка ил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тключение технологических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цесс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тушение пожаров;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анитарная обработка 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беззараживание.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1" name="Rectangle 10"/>
          <p:cNvSpPr/>
          <p:nvPr/>
        </p:nvSpPr>
        <p:spPr>
          <a:xfrm>
            <a:off x="6343560" y="2276640"/>
            <a:ext cx="2475000" cy="3957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дготовка к проведению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лномасштаб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АСДНР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разведк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ценка обстановки и 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гнозирование е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ведение в готовность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рганов управления и сил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здание группировки сил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 средств РС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движение ОГ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ределение границ зоны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нятие решения н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2" name="Line 11"/>
          <p:cNvSpPr/>
          <p:nvPr/>
        </p:nvSpPr>
        <p:spPr>
          <a:xfrm>
            <a:off x="7451640" y="1557360"/>
            <a:ext cx="1800" cy="68580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3" name="Rectangle 14"/>
          <p:cNvSpPr/>
          <p:nvPr/>
        </p:nvSpPr>
        <p:spPr>
          <a:xfrm>
            <a:off x="1979640" y="404640"/>
            <a:ext cx="5083200" cy="936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4" name="Line 15"/>
          <p:cNvSpPr/>
          <p:nvPr/>
        </p:nvSpPr>
        <p:spPr>
          <a:xfrm>
            <a:off x="1547640" y="1557360"/>
            <a:ext cx="5904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5" name="WordArt 16"/>
          <p:cNvSpPr txBox="1"/>
          <p:nvPr/>
        </p:nvSpPr>
        <p:spPr>
          <a:xfrm>
            <a:off x="2124000" y="549360"/>
            <a:ext cx="482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1 этап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инятие экстренных мер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F2E-17BC-4D03-BD70-416D53951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7" name="Text Box 5"/>
          <p:cNvSpPr/>
          <p:nvPr/>
        </p:nvSpPr>
        <p:spPr>
          <a:xfrm>
            <a:off x="539640" y="1557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ончательная выработка решения на 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8" name="Text Box 6"/>
          <p:cNvSpPr/>
          <p:nvPr/>
        </p:nvSpPr>
        <p:spPr>
          <a:xfrm>
            <a:off x="539640" y="2637000"/>
            <a:ext cx="8210520" cy="612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тановка задач формированиям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9" name="Text Box 7"/>
          <p:cNvSpPr/>
          <p:nvPr/>
        </p:nvSpPr>
        <p:spPr>
          <a:xfrm>
            <a:off x="539640" y="3573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управления, взаимодействия и обеспечения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0" name="Text Box 8"/>
          <p:cNvSpPr/>
          <p:nvPr/>
        </p:nvSpPr>
        <p:spPr>
          <a:xfrm>
            <a:off x="539640" y="558972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нтроль за выполнением поставленных зада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Text Box 9"/>
          <p:cNvSpPr/>
          <p:nvPr/>
        </p:nvSpPr>
        <p:spPr>
          <a:xfrm>
            <a:off x="539640" y="4581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Line 10"/>
          <p:cNvSpPr/>
          <p:nvPr/>
        </p:nvSpPr>
        <p:spPr>
          <a:xfrm>
            <a:off x="4427640" y="2276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3" name="Line 11"/>
          <p:cNvSpPr/>
          <p:nvPr/>
        </p:nvSpPr>
        <p:spPr>
          <a:xfrm>
            <a:off x="442764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4" name="Line 12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Line 13"/>
          <p:cNvSpPr/>
          <p:nvPr/>
        </p:nvSpPr>
        <p:spPr>
          <a:xfrm>
            <a:off x="4427640" y="5300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Rectangle 14"/>
          <p:cNvSpPr/>
          <p:nvPr/>
        </p:nvSpPr>
        <p:spPr>
          <a:xfrm>
            <a:off x="1763640" y="333360"/>
            <a:ext cx="5977080" cy="9367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7" name="WordArt 15"/>
          <p:cNvSpPr txBox="1"/>
          <p:nvPr/>
        </p:nvSpPr>
        <p:spPr>
          <a:xfrm>
            <a:off x="1908000" y="47628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2 этап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роведение полномасштабных АСДНР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3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0" dur="3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3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3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0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3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9215-A6E7-4CB1-A8DD-501622297B6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59" name="Group 7"/>
          <p:cNvGrpSpPr/>
          <p:nvPr/>
        </p:nvGrpSpPr>
        <p:grpSpPr>
          <a:xfrm>
            <a:off x="1692360" y="476280"/>
            <a:ext cx="6192720" cy="1152360"/>
            <a:chOff x="1692360" y="476280"/>
            <a:chExt cx="6192720" cy="1152360"/>
          </a:xfrm>
        </p:grpSpPr>
        <p:sp>
          <p:nvSpPr>
            <p:cNvPr id="1760" name="WordArt 5"/>
            <p:cNvSpPr txBox="1"/>
            <p:nvPr/>
          </p:nvSpPr>
          <p:spPr>
            <a:xfrm>
              <a:off x="1908000" y="620640"/>
              <a:ext cx="5544720" cy="86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Основные работы 2 этап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в ходе проведения АСДНР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61" name="Rectangle 6"/>
            <p:cNvSpPr/>
            <p:nvPr/>
          </p:nvSpPr>
          <p:spPr>
            <a:xfrm>
              <a:off x="1692360" y="476280"/>
              <a:ext cx="6192720" cy="1152360"/>
            </a:xfrm>
            <a:prstGeom prst="rect">
              <a:avLst/>
            </a:prstGeom>
            <a:noFill/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62" name="Text Box 8"/>
          <p:cNvSpPr/>
          <p:nvPr/>
        </p:nvSpPr>
        <p:spPr>
          <a:xfrm>
            <a:off x="1476360" y="1989000"/>
            <a:ext cx="6696000" cy="5511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Розыск пострадавших, извлечение их из завалов, горящих зданий, поврежденных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Text Box 9"/>
          <p:cNvSpPr/>
          <p:nvPr/>
        </p:nvSpPr>
        <p:spPr>
          <a:xfrm>
            <a:off x="1476360" y="2637000"/>
            <a:ext cx="6696000" cy="322560"/>
          </a:xfrm>
          <a:prstGeom prst="rect">
            <a:avLst/>
          </a:prstGeom>
          <a:solidFill>
            <a:srgbClr val="ffe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Эвакуация населения из опасных районо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4" name="Text Box 10"/>
          <p:cNvSpPr/>
          <p:nvPr/>
        </p:nvSpPr>
        <p:spPr>
          <a:xfrm>
            <a:off x="1476360" y="3068640"/>
            <a:ext cx="6696000" cy="5511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Оказание пострадавшим первой медицинской помощи и других видов помощ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476360" y="3716280"/>
            <a:ext cx="6696000" cy="322560"/>
          </a:xfrm>
          <a:prstGeom prst="rect">
            <a:avLst/>
          </a:prstGeom>
          <a:solidFill>
            <a:srgbClr val="f5eb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Локализация очага пораж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Text Box 13"/>
          <p:cNvSpPr/>
          <p:nvPr/>
        </p:nvSpPr>
        <p:spPr>
          <a:xfrm>
            <a:off x="1476360" y="4149720"/>
            <a:ext cx="6696000" cy="551160"/>
          </a:xfrm>
          <a:prstGeom prst="rect">
            <a:avLst/>
          </a:prstGeom>
          <a:solidFill>
            <a:srgbClr val="ffeed5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 Narrow"/>
              </a:rPr>
              <a:t>Разборка завалов, укрепление конструкций, угрожающих обрушение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Text Box 14"/>
          <p:cNvSpPr/>
          <p:nvPr/>
        </p:nvSpPr>
        <p:spPr>
          <a:xfrm>
            <a:off x="1476360" y="4797360"/>
            <a:ext cx="6696000" cy="551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м энергетических и коммунальных сетей, линий связи в интересах обеспечения спасатель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1476360" y="5445000"/>
            <a:ext cx="6696000" cy="77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Проведение специальной обработки (санитарной обработки людей, дегазации, дезактивации техники, имущества, сооружений территорий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9" name="Line 16"/>
          <p:cNvSpPr/>
          <p:nvPr/>
        </p:nvSpPr>
        <p:spPr>
          <a:xfrm flipH="1">
            <a:off x="1115640" y="1052640"/>
            <a:ext cx="5763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1116000" y="1052640"/>
            <a:ext cx="0" cy="475272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Line 18"/>
          <p:cNvSpPr/>
          <p:nvPr/>
        </p:nvSpPr>
        <p:spPr>
          <a:xfrm>
            <a:off x="1116000" y="2276640"/>
            <a:ext cx="36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Line 19"/>
          <p:cNvSpPr/>
          <p:nvPr/>
        </p:nvSpPr>
        <p:spPr>
          <a:xfrm>
            <a:off x="1116000" y="2781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Line 20"/>
          <p:cNvSpPr/>
          <p:nvPr/>
        </p:nvSpPr>
        <p:spPr>
          <a:xfrm>
            <a:off x="1116000" y="32846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Line 21"/>
          <p:cNvSpPr/>
          <p:nvPr/>
        </p:nvSpPr>
        <p:spPr>
          <a:xfrm>
            <a:off x="1116000" y="3860640"/>
            <a:ext cx="360360" cy="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Line 22"/>
          <p:cNvSpPr/>
          <p:nvPr/>
        </p:nvSpPr>
        <p:spPr>
          <a:xfrm>
            <a:off x="1116000" y="4437000"/>
            <a:ext cx="360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6" name="Line 23"/>
          <p:cNvSpPr/>
          <p:nvPr/>
        </p:nvSpPr>
        <p:spPr>
          <a:xfrm>
            <a:off x="1116000" y="5084640"/>
            <a:ext cx="3603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7" name="Line 24"/>
          <p:cNvSpPr/>
          <p:nvPr/>
        </p:nvSpPr>
        <p:spPr>
          <a:xfrm>
            <a:off x="1116000" y="5805360"/>
            <a:ext cx="36036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080A-3B62-4839-8044-091828C2EE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9" name="Rectangle 4"/>
          <p:cNvSpPr/>
          <p:nvPr/>
        </p:nvSpPr>
        <p:spPr>
          <a:xfrm>
            <a:off x="1619280" y="333360"/>
            <a:ext cx="6192720" cy="1060560"/>
          </a:xfrm>
          <a:prstGeom prst="rect">
            <a:avLst/>
          </a:prstGeom>
          <a:gradFill rotWithShape="0">
            <a:gsLst>
              <a:gs pos="0">
                <a:srgbClr val="f0b362"/>
              </a:gs>
              <a:gs pos="50000">
                <a:srgbClr val="ffffff"/>
              </a:gs>
              <a:gs pos="100000">
                <a:srgbClr val="f0b362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0" name="Rectangle 5"/>
          <p:cNvSpPr/>
          <p:nvPr/>
        </p:nvSpPr>
        <p:spPr>
          <a:xfrm>
            <a:off x="25092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Перв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здание условий 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первоочередного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изнеобеспечения пострадавшег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се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Rectangle 6"/>
          <p:cNvSpPr/>
          <p:nvPr/>
        </p:nvSpPr>
        <p:spPr>
          <a:xfrm>
            <a:off x="478800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Втор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2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ектов, пострадавших при ЧС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2" name="Line 7"/>
          <p:cNvSpPr/>
          <p:nvPr/>
        </p:nvSpPr>
        <p:spPr>
          <a:xfrm flipH="1">
            <a:off x="2268000" y="1413000"/>
            <a:ext cx="230364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3" name="Line 8"/>
          <p:cNvSpPr/>
          <p:nvPr/>
        </p:nvSpPr>
        <p:spPr>
          <a:xfrm>
            <a:off x="4500720" y="1413000"/>
            <a:ext cx="230328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4" name="WordArt 9"/>
          <p:cNvSpPr txBox="1"/>
          <p:nvPr/>
        </p:nvSpPr>
        <p:spPr>
          <a:xfrm>
            <a:off x="1908000" y="54936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этап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квидация последствий ЧС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0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DE85-EBCC-4922-BD83-528F6C77AE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6" name="Text Box 5"/>
          <p:cNvSpPr/>
          <p:nvPr/>
        </p:nvSpPr>
        <p:spPr>
          <a:xfrm>
            <a:off x="755640" y="17002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проведения специальной обработки, дезактивация, дегазация             и дезинфекция территории, дорог, сооружений и других объектов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7" name="Text Box 6"/>
          <p:cNvSpPr/>
          <p:nvPr/>
        </p:nvSpPr>
        <p:spPr>
          <a:xfrm>
            <a:off x="755640" y="2781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распределение ресурсов в пользу пострадавше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8" name="Text Box 7"/>
          <p:cNvSpPr/>
          <p:nvPr/>
        </p:nvSpPr>
        <p:spPr>
          <a:xfrm>
            <a:off x="755640" y="4941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осстановления систем и объектов первоочередного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Text Box 8"/>
          <p:cNvSpPr/>
          <p:nvPr/>
        </p:nvSpPr>
        <p:spPr>
          <a:xfrm>
            <a:off x="755640" y="2349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движение в район ЧС мобильных формирований жизне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0" name="Text Box 9"/>
          <p:cNvSpPr/>
          <p:nvPr/>
        </p:nvSpPr>
        <p:spPr>
          <a:xfrm>
            <a:off x="755640" y="6237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эвакуация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1" name="Text Box 10"/>
          <p:cNvSpPr/>
          <p:nvPr/>
        </p:nvSpPr>
        <p:spPr>
          <a:xfrm>
            <a:off x="755640" y="42940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топливо - энергетического и транспортного обеспечения работы систем и объектов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2" name="Text Box 11"/>
          <p:cNvSpPr/>
          <p:nvPr/>
        </p:nvSpPr>
        <p:spPr>
          <a:xfrm>
            <a:off x="755640" y="5589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медико-санитарного обеспечения и другие необходимые меры. Организация медицинского обслужива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3" name="WordArt 12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перв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4" name="Text Box 13"/>
          <p:cNvSpPr/>
          <p:nvPr/>
        </p:nvSpPr>
        <p:spPr>
          <a:xfrm>
            <a:off x="755640" y="321300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ременное размещение населения, оставшегося без кро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Text Box 14"/>
          <p:cNvSpPr/>
          <p:nvPr/>
        </p:nvSpPr>
        <p:spPr>
          <a:xfrm>
            <a:off x="755640" y="364500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населения продуктами питания, водой и предметами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omb dir="ver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0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4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5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4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5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50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4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5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3B6D-C32F-426E-B2DA-5515DC6756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Text Box 4"/>
          <p:cNvSpPr/>
          <p:nvPr/>
        </p:nvSpPr>
        <p:spPr>
          <a:xfrm>
            <a:off x="611280" y="2421000"/>
            <a:ext cx="777708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Федеральный   закон  «О гражданской обороне» от 12.02.98г. №2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611280" y="41497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. Федеральный   закон «Об аварийно-спасательных службах и статусе спасателей» от 22.08.1995г. №151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611280" y="31399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Федеральный   закон  «О защите населения    и территорий от чрезвычайных ситуаций природного и техногенного характера» от 21.12.1994г. № 6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9" name="WordArt 8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611280" y="508464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4. "Руководство по действиям органов управления и сил РСЧС при угрозе и возникновении чрезвычайных ситуаций", 1996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5E09-1BAB-4878-9EE2-86CAB947DD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7" name="WordArt 4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втор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8" name="Text Box 5"/>
          <p:cNvSpPr/>
          <p:nvPr/>
        </p:nvSpPr>
        <p:spPr>
          <a:xfrm>
            <a:off x="900000" y="2276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строительство здан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Text Box 6"/>
          <p:cNvSpPr/>
          <p:nvPr/>
        </p:nvSpPr>
        <p:spPr>
          <a:xfrm>
            <a:off x="900000" y="3284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энергоснабжения и транспор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0" name="Text Box 7"/>
          <p:cNvSpPr/>
          <p:nvPr/>
        </p:nvSpPr>
        <p:spPr>
          <a:xfrm>
            <a:off x="900000" y="4292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гидротехнических сооружений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1" name="Text Box 8"/>
          <p:cNvSpPr/>
          <p:nvPr/>
        </p:nvSpPr>
        <p:spPr>
          <a:xfrm>
            <a:off x="900000" y="2781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установка нового оборудова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Text Box 9"/>
          <p:cNvSpPr/>
          <p:nvPr/>
        </p:nvSpPr>
        <p:spPr>
          <a:xfrm>
            <a:off x="900000" y="3789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полн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Text Box 10"/>
          <p:cNvSpPr/>
          <p:nvPr/>
        </p:nvSpPr>
        <p:spPr>
          <a:xfrm>
            <a:off x="900000" y="4797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хозяйственных связе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0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4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5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4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4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5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4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622B-ACFA-4A26-88FD-F883F33490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5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мир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Text Box 5"/>
          <p:cNvSpPr/>
          <p:nvPr/>
        </p:nvSpPr>
        <p:spPr>
          <a:xfrm>
            <a:off x="250920" y="1557360"/>
            <a:ext cx="76341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и средств для проведения АСДНР определена в «Плане действий по предупреждению и ликвидации последствий ЧС», который вводится в действие Председателем КЧС или руководителем местного самоуправления, организац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7" name="Text Box 6"/>
          <p:cNvSpPr/>
          <p:nvPr/>
        </p:nvSpPr>
        <p:spPr>
          <a:xfrm>
            <a:off x="2843280" y="278136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ВЛЕКАЮТС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8" name="Text Box 8"/>
          <p:cNvSpPr/>
          <p:nvPr/>
        </p:nvSpPr>
        <p:spPr>
          <a:xfrm>
            <a:off x="250920" y="350208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рриториальные аварийно-спасательные формирования решением КЧС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Text Box 9"/>
          <p:cNvSpPr/>
          <p:nvPr/>
        </p:nvSpPr>
        <p:spPr>
          <a:xfrm>
            <a:off x="4427640" y="3502080"/>
            <a:ext cx="34574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ъектовые аварийно-спасательные формирования решением объектовой К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Line 10"/>
          <p:cNvSpPr/>
          <p:nvPr/>
        </p:nvSpPr>
        <p:spPr>
          <a:xfrm flipH="1">
            <a:off x="2410920" y="314172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Line 11"/>
          <p:cNvSpPr/>
          <p:nvPr/>
        </p:nvSpPr>
        <p:spPr>
          <a:xfrm>
            <a:off x="4427640" y="314172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2" name="Text Box 12"/>
          <p:cNvSpPr/>
          <p:nvPr/>
        </p:nvSpPr>
        <p:spPr>
          <a:xfrm>
            <a:off x="755640" y="5013360"/>
            <a:ext cx="6624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щее количество сил и средств определяется Председателем КЧС с учетом объема выполняем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383-FB6D-44B6-87C9-B568C4F0AB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воен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250920" y="1341360"/>
            <a:ext cx="76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(на основе оценки прогнозируемой обстановки) отражена в специальном разделе «Плана ГО и защиты населения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ое звено организующее проведение АСДНР – субъект РФ (область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2916360" y="2421000"/>
            <a:ext cx="32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Text Box 13"/>
          <p:cNvSpPr/>
          <p:nvPr/>
        </p:nvSpPr>
        <p:spPr>
          <a:xfrm>
            <a:off x="32400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вы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Text Box 14"/>
          <p:cNvSpPr/>
          <p:nvPr/>
        </p:nvSpPr>
        <p:spPr>
          <a:xfrm>
            <a:off x="324000" y="3357720"/>
            <a:ext cx="266364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обильные, подготовленные и оснащенные техникой силы для выполнения работ в высоком темп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инские части и подразделения, выделяемые по планам взаимодейств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категорированных город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службы и формирования привлекаемые в интересах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9" name="Text Box 15"/>
          <p:cNvSpPr/>
          <p:nvPr/>
        </p:nvSpPr>
        <p:spPr>
          <a:xfrm>
            <a:off x="6084720" y="2998800"/>
            <a:ext cx="266400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зерв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0" name="Text Box 16"/>
          <p:cNvSpPr/>
          <p:nvPr/>
        </p:nvSpPr>
        <p:spPr>
          <a:xfrm>
            <a:off x="6084720" y="3357720"/>
            <a:ext cx="266400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внезапно возникающих задач,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мены сил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муниципальных образов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, выделяемые по планам взаимодействия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1" name="Text Box 17"/>
          <p:cNvSpPr/>
          <p:nvPr/>
        </p:nvSpPr>
        <p:spPr>
          <a:xfrm>
            <a:off x="320364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торо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2" name="Text Box 18"/>
          <p:cNvSpPr/>
          <p:nvPr/>
        </p:nvSpPr>
        <p:spPr>
          <a:xfrm>
            <a:off x="3203640" y="3357720"/>
            <a:ext cx="2663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наращивания усилий и расширения фронта спасательных работ и замены подразделений первого эшелон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асти и подразделения МО РФ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 с более поздними сроками развертыва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3" name="Line 19"/>
          <p:cNvSpPr/>
          <p:nvPr/>
        </p:nvSpPr>
        <p:spPr>
          <a:xfrm>
            <a:off x="4500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4" name="Line 20"/>
          <p:cNvSpPr/>
          <p:nvPr/>
        </p:nvSpPr>
        <p:spPr>
          <a:xfrm flipH="1">
            <a:off x="2339640" y="278136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5" name="Line 21"/>
          <p:cNvSpPr/>
          <p:nvPr/>
        </p:nvSpPr>
        <p:spPr>
          <a:xfrm>
            <a:off x="5651640" y="2781360"/>
            <a:ext cx="122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54D3-F337-40B4-A328-54292A966E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27" name="WordArt 7"/>
          <p:cNvGrpSpPr/>
          <p:nvPr/>
        </p:nvGrpSpPr>
        <p:grpSpPr>
          <a:xfrm>
            <a:off x="1468440" y="974880"/>
            <a:ext cx="6492960" cy="1019160"/>
            <a:chOff x="1468440" y="974880"/>
            <a:chExt cx="6492960" cy="1019160"/>
          </a:xfrm>
        </p:grpSpPr>
        <p:pic>
          <p:nvPicPr>
            <p:cNvPr id="1828" name="WordArt 7" descr=""/>
            <p:cNvPicPr/>
            <p:nvPr/>
          </p:nvPicPr>
          <p:blipFill>
            <a:blip r:embed="rId1"/>
            <a:stretch/>
          </p:blipFill>
          <p:spPr>
            <a:xfrm>
              <a:off x="1468440" y="974880"/>
              <a:ext cx="64929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9" name=""/>
            <p:cNvSpPr/>
            <p:nvPr/>
          </p:nvSpPr>
          <p:spPr>
            <a:xfrm>
              <a:off x="1476360" y="981000"/>
              <a:ext cx="6480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при организации и в ход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дения АСДНР включает: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30" name="Text Box 9"/>
          <p:cNvSpPr/>
          <p:nvPr/>
        </p:nvSpPr>
        <p:spPr>
          <a:xfrm>
            <a:off x="971640" y="2205000"/>
            <a:ext cx="7632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осуществление мероприятий по поддержанию и приведению в готовность органов управления и сил РС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рерывный сбор, анализ и отображение данных обстановки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одготовку расчетов и предложений для принятия начальником ГО (председателем комиссии по ЧС) решен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ринятие решений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уточнение планов (планирование действий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своевременное доведение задач до подчиненны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поддержание взаимодейств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всестороннего обеспечения привлекаемых сил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осредственное руководство подразделениями и контроль исполн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0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8" dur="3000"/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4" dur="3000"/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0" dur="3000"/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6" dur="3000"/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2" dur="3000"/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0" dur="3000"/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6" dur="3000"/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D932-0B7A-40D6-9DF5-B8C730E5E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2" name="Text Box 4"/>
          <p:cNvSpPr/>
          <p:nvPr/>
        </p:nvSpPr>
        <p:spPr>
          <a:xfrm>
            <a:off x="1187280" y="1628640"/>
            <a:ext cx="6985080" cy="398520"/>
          </a:xfrm>
          <a:prstGeom prst="rect">
            <a:avLst/>
          </a:prstGeom>
          <a:noFill/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рганизация управл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Text Box 5"/>
          <p:cNvSpPr/>
          <p:nvPr/>
        </p:nvSpPr>
        <p:spPr>
          <a:xfrm>
            <a:off x="1835280" y="2494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Text Box 6"/>
          <p:cNvSpPr/>
          <p:nvPr/>
        </p:nvSpPr>
        <p:spPr>
          <a:xfrm>
            <a:off x="1835280" y="321300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5" name="Text Box 7"/>
          <p:cNvSpPr/>
          <p:nvPr/>
        </p:nvSpPr>
        <p:spPr>
          <a:xfrm>
            <a:off x="1835280" y="386064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6" name="Text Box 8"/>
          <p:cNvSpPr/>
          <p:nvPr/>
        </p:nvSpPr>
        <p:spPr>
          <a:xfrm>
            <a:off x="1835280" y="4510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Text Box 9"/>
          <p:cNvSpPr/>
          <p:nvPr/>
        </p:nvSpPr>
        <p:spPr>
          <a:xfrm>
            <a:off x="1835280" y="515772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Line 10"/>
          <p:cNvSpPr/>
          <p:nvPr/>
        </p:nvSpPr>
        <p:spPr>
          <a:xfrm>
            <a:off x="1401840" y="2133720"/>
            <a:ext cx="0" cy="3166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9" name="Line 11"/>
          <p:cNvSpPr/>
          <p:nvPr/>
        </p:nvSpPr>
        <p:spPr>
          <a:xfrm>
            <a:off x="1403280" y="530208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0" name="Line 12"/>
          <p:cNvSpPr/>
          <p:nvPr/>
        </p:nvSpPr>
        <p:spPr>
          <a:xfrm>
            <a:off x="1403280" y="4653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Line 13"/>
          <p:cNvSpPr/>
          <p:nvPr/>
        </p:nvSpPr>
        <p:spPr>
          <a:xfrm>
            <a:off x="1403280" y="400536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Line 14"/>
          <p:cNvSpPr/>
          <p:nvPr/>
        </p:nvSpPr>
        <p:spPr>
          <a:xfrm>
            <a:off x="1403280" y="335772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3" name="Line 15"/>
          <p:cNvSpPr/>
          <p:nvPr/>
        </p:nvSpPr>
        <p:spPr>
          <a:xfrm>
            <a:off x="1403280" y="2637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74E-A26B-4B81-B524-DDC16385F5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1692360" y="1557360"/>
            <a:ext cx="5473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лавная цель управ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6" name="Text Box 5"/>
          <p:cNvSpPr/>
          <p:nvPr/>
        </p:nvSpPr>
        <p:spPr>
          <a:xfrm>
            <a:off x="61128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эффективного использования сил и средств по спасению людей и выполнению неотлож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7" name="Text Box 6"/>
          <p:cNvSpPr/>
          <p:nvPr/>
        </p:nvSpPr>
        <p:spPr>
          <a:xfrm>
            <a:off x="478800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полнение АСДНР в полном объеме, в короткие сроки и с минимальными потерями сил и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Line 7"/>
          <p:cNvSpPr/>
          <p:nvPr/>
        </p:nvSpPr>
        <p:spPr>
          <a:xfrm flipH="1">
            <a:off x="2771280" y="2060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Line 8"/>
          <p:cNvSpPr/>
          <p:nvPr/>
        </p:nvSpPr>
        <p:spPr>
          <a:xfrm>
            <a:off x="4788000" y="2060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Text Box 9"/>
          <p:cNvSpPr/>
          <p:nvPr/>
        </p:nvSpPr>
        <p:spPr>
          <a:xfrm>
            <a:off x="684360" y="3645000"/>
            <a:ext cx="7488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ой управления является Решение руководителей местного самоуправления и организаций (председателя КЧС) и указаний вышестоящего органа управления по ГО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1" name="WordArt 10"/>
          <p:cNvSpPr txBox="1"/>
          <p:nvPr/>
        </p:nvSpPr>
        <p:spPr>
          <a:xfrm>
            <a:off x="1116000" y="692280"/>
            <a:ext cx="699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в ходе ведения  АСДНР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2" name="Text Box 11"/>
          <p:cNvSpPr/>
          <p:nvPr/>
        </p:nvSpPr>
        <p:spPr>
          <a:xfrm>
            <a:off x="1332000" y="4724280"/>
            <a:ext cx="5976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ебования к управлению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Line 12"/>
          <p:cNvSpPr/>
          <p:nvPr/>
        </p:nvSpPr>
        <p:spPr>
          <a:xfrm>
            <a:off x="1619280" y="5589720"/>
            <a:ext cx="55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Text Box 13"/>
          <p:cNvSpPr/>
          <p:nvPr/>
        </p:nvSpPr>
        <p:spPr>
          <a:xfrm>
            <a:off x="334800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Непреры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Text Box 14"/>
          <p:cNvSpPr/>
          <p:nvPr/>
        </p:nvSpPr>
        <p:spPr>
          <a:xfrm>
            <a:off x="6084720" y="5877000"/>
            <a:ext cx="223236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Гибкость и тверд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Text Box 15"/>
          <p:cNvSpPr/>
          <p:nvPr/>
        </p:nvSpPr>
        <p:spPr>
          <a:xfrm>
            <a:off x="61128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перати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Line 16"/>
          <p:cNvSpPr/>
          <p:nvPr/>
        </p:nvSpPr>
        <p:spPr>
          <a:xfrm>
            <a:off x="4427640" y="5157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8" name="Line 17"/>
          <p:cNvSpPr/>
          <p:nvPr/>
        </p:nvSpPr>
        <p:spPr>
          <a:xfrm>
            <a:off x="161928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9" name="Line 18"/>
          <p:cNvSpPr/>
          <p:nvPr/>
        </p:nvSpPr>
        <p:spPr>
          <a:xfrm>
            <a:off x="716436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15AC-3F36-41D8-81EF-20256DE48A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1" name="WordArt 4"/>
          <p:cNvSpPr txBox="1"/>
          <p:nvPr/>
        </p:nvSpPr>
        <p:spPr>
          <a:xfrm>
            <a:off x="971640" y="40464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правление в ходе ведения АСДНР</a:t>
            </a:r>
            <a:endParaRPr b="0" lang="en-US" sz="16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1692360" y="19890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Требования к управлению достигаются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611280" y="2565360"/>
            <a:ext cx="8064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приближением пунктов управления (ПУ) к местам действий подразделений (сил и средств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выполнением задач во взаимодействии с комиссией по ЧС и формированиями аварийного объекта, а также с территориальной комиссией по ЧС и ее оперативной группо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знанием обстановки и быстрым реагированием на ее изменения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настойчивым претворением в жизнь принятых решений и технологий выполнения задач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облюдением мер безопасности при проведении АСДНР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1A17-A41F-47AF-89D8-A54B617637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39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При оценке обстановки командир (руководитель) должен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изучи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и объем разрушений, пожаров и других поражений на участке работ и пути выдвижения к ни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иды предстоящих работ и их объе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радиационную, химическую и биологическую обстановки (РХБ) и их влияние на выполнение задач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состояние готовности и обеспеченности своего и приданных формирований и их возмож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действий и задачи сосед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местности на действия формирования и состояние маршрута выдвижения к очагу поражения и на участок рабо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погоды, времени года и суток на выполнение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WordArt 7"/>
          <p:cNvSpPr txBox="1"/>
          <p:nvPr/>
        </p:nvSpPr>
        <p:spPr>
          <a:xfrm>
            <a:off x="611280" y="549360"/>
            <a:ext cx="56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0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600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600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600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600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600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600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600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600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08DE-38BE-44FC-AF25-5450714BBC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92144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 fontScale="99000"/>
          </a:bodyPr>
          <a:p>
            <a:pPr marL="262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В оценку обстановки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Narrow"/>
              </a:rPr>
              <a:t>входит</a:t>
            </a: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анализ основных факторов обстановки и оценка последствий ЧС (вид экстремальной ситуации, характер и масштабы аварии), тип, характер и масштабы радиоактивного, химического зараж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факторы, осложняющие обстановку (пожары, взрывы и др.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ценка имеющихся сил и средств, состояние их готовности к действию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характер местности в районе аварии, состояние погоды, время года и суток, их возможное влияние на обстановку и выполнение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беспеченность и потребность в материально-технических средствах для выполнения поставленной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ыбор наиболее целесообразных вариантов действий насел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пределение мероприятий по защите населения и ликвидации последствий ЧС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озможности аварийного объекта и территориальных органов по ликвидации последствий авар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WordArt 5"/>
          <p:cNvSpPr txBox="1"/>
          <p:nvPr/>
        </p:nvSpPr>
        <p:spPr>
          <a:xfrm>
            <a:off x="611280" y="476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0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0" fill="hold"/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3000" fill="hold"/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000" fill="hold"/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000" fill="hold"/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000" fill="hold"/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000" fill="hold"/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3000" fill="hold"/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EB0-3D9F-4A3C-B5EF-676509F43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Rectangle 4"/>
          <p:cNvSpPr/>
          <p:nvPr/>
        </p:nvSpPr>
        <p:spPr>
          <a:xfrm>
            <a:off x="1619280" y="765000"/>
            <a:ext cx="6408720" cy="935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2" name="Rectangle 5"/>
          <p:cNvSpPr/>
          <p:nvPr/>
        </p:nvSpPr>
        <p:spPr>
          <a:xfrm>
            <a:off x="322200" y="2637000"/>
            <a:ext cx="2232000" cy="1439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Уясн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3" name="Rectangle 6"/>
          <p:cNvSpPr/>
          <p:nvPr/>
        </p:nvSpPr>
        <p:spPr>
          <a:xfrm>
            <a:off x="1835280" y="4869000"/>
            <a:ext cx="230328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бстанов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4" name="Rectangle 7"/>
          <p:cNvSpPr/>
          <p:nvPr/>
        </p:nvSpPr>
        <p:spPr>
          <a:xfrm>
            <a:off x="4930920" y="4869000"/>
            <a:ext cx="235080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Проведе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расчет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6804000" y="2637000"/>
            <a:ext cx="2133720" cy="1401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Сдела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вывод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Line 9"/>
          <p:cNvSpPr/>
          <p:nvPr/>
        </p:nvSpPr>
        <p:spPr>
          <a:xfrm flipH="1">
            <a:off x="1402920" y="1700280"/>
            <a:ext cx="331164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Line 10"/>
          <p:cNvSpPr/>
          <p:nvPr/>
        </p:nvSpPr>
        <p:spPr>
          <a:xfrm flipH="1">
            <a:off x="2987640" y="1700280"/>
            <a:ext cx="17272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4714920" y="1700280"/>
            <a:ext cx="12970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4714920" y="1700280"/>
            <a:ext cx="316872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WordArt 13"/>
          <p:cNvSpPr txBox="1"/>
          <p:nvPr/>
        </p:nvSpPr>
        <p:spPr>
          <a:xfrm>
            <a:off x="1763640" y="98100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336666"/>
                    </a:gs>
                    <a:gs pos="50000">
                      <a:srgbClr val="d1ffff"/>
                    </a:gs>
                    <a:gs pos="100000">
                      <a:srgbClr val="3366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 </a:t>
            </a:r>
            <a:endParaRPr b="0" lang="en-US" sz="16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336666"/>
                  </a:gs>
                  <a:gs pos="50000">
                    <a:srgbClr val="d1ffff"/>
                  </a:gs>
                  <a:gs pos="100000">
                    <a:srgbClr val="3366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0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8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47C9-2E6C-4E6B-9AC1-57EAA52315C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2" name="Text Box 5"/>
          <p:cNvSpPr/>
          <p:nvPr/>
        </p:nvSpPr>
        <p:spPr>
          <a:xfrm>
            <a:off x="971640" y="314172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7. "Руководство по выполнению спасательных и других неотложных работ  в условиях завалов и разрушения зданий и сооружений", 1994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3" name="Text Box 6"/>
          <p:cNvSpPr/>
          <p:nvPr/>
        </p:nvSpPr>
        <p:spPr>
          <a:xfrm>
            <a:off x="971640" y="220500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6. "Наставление (для войск ГО и ПСС) по организации и технологии ведения АСДНР при ЧС", М., ВНИИ ГОЧС, 1998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4" name="Text Box 7"/>
          <p:cNvSpPr/>
          <p:nvPr/>
        </p:nvSpPr>
        <p:spPr>
          <a:xfrm>
            <a:off x="971640" y="4149720"/>
            <a:ext cx="7561080" cy="1191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и ведение гражданской обороны и защиты населения и территорий от чрезвычайных ситуаций природного и техногенного характера / Учебное пособие ; Под общ. ред. Г.Н. Кириллова , г. Москва, 200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5" name="WordArt 9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C385-DC11-4FE9-88DE-F619E2DED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2" name="AutoShape 2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3" name="WordArt 3"/>
          <p:cNvSpPr txBox="1"/>
          <p:nvPr/>
        </p:nvSpPr>
        <p:spPr>
          <a:xfrm>
            <a:off x="539640" y="836640"/>
            <a:ext cx="806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решения руководителя (председателя КЧС)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редложения должностных лиц ОУ ГОЧС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884" name="Group 4"/>
          <p:cNvGrpSpPr/>
          <p:nvPr/>
        </p:nvGrpSpPr>
        <p:grpSpPr>
          <a:xfrm>
            <a:off x="395280" y="2133720"/>
            <a:ext cx="8424720" cy="2665440"/>
            <a:chOff x="395280" y="2133720"/>
            <a:chExt cx="8424720" cy="2665440"/>
          </a:xfrm>
        </p:grpSpPr>
        <p:sp>
          <p:nvSpPr>
            <p:cNvPr id="1885" name="Text Box 5"/>
            <p:cNvSpPr/>
            <p:nvPr/>
          </p:nvSpPr>
          <p:spPr>
            <a:xfrm>
              <a:off x="684360" y="2206800"/>
              <a:ext cx="51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 Narrow"/>
                </a:rPr>
                <a:t>РЕШЕНИЕ руководителя (постановление КЧС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6" name="Text Box 6"/>
            <p:cNvSpPr/>
            <p:nvPr/>
          </p:nvSpPr>
          <p:spPr>
            <a:xfrm>
              <a:off x="6948360" y="2133720"/>
              <a:ext cx="1871640" cy="47484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должностных лиц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7" name="Line 7"/>
            <p:cNvSpPr/>
            <p:nvPr/>
          </p:nvSpPr>
          <p:spPr>
            <a:xfrm flipH="1">
              <a:off x="5292360" y="2349360"/>
              <a:ext cx="1655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8" name="Rectangle 8"/>
            <p:cNvSpPr/>
            <p:nvPr/>
          </p:nvSpPr>
          <p:spPr>
            <a:xfrm>
              <a:off x="6948360" y="278280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9" name="Rectangle 9"/>
            <p:cNvSpPr/>
            <p:nvPr/>
          </p:nvSpPr>
          <p:spPr>
            <a:xfrm>
              <a:off x="6804000" y="292572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0" name="Rectangle 10"/>
            <p:cNvSpPr/>
            <p:nvPr/>
          </p:nvSpPr>
          <p:spPr>
            <a:xfrm>
              <a:off x="6659640" y="307008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1" name="AutoShape 11"/>
            <p:cNvSpPr/>
            <p:nvPr/>
          </p:nvSpPr>
          <p:spPr>
            <a:xfrm>
              <a:off x="6012000" y="3214800"/>
              <a:ext cx="2376360" cy="934920"/>
            </a:xfrm>
            <a:prstGeom prst="leftArrowCallout">
              <a:avLst>
                <a:gd name="adj1" fmla="val 21224"/>
                <a:gd name="adj2" fmla="val 31324"/>
                <a:gd name="adj3" fmla="val 34126"/>
                <a:gd name="adj4" fmla="val 81234"/>
              </a:avLst>
            </a:prstGeom>
            <a:gradFill rotWithShape="0">
              <a:gsLst>
                <a:gs pos="0">
                  <a:srgbClr val="d1f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2" name="Text Box 12"/>
            <p:cNvSpPr/>
            <p:nvPr/>
          </p:nvSpPr>
          <p:spPr>
            <a:xfrm>
              <a:off x="6516720" y="3286080"/>
              <a:ext cx="18003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 Narrow"/>
                </a:rPr>
                <a:t>Выводы </a:t>
              </a:r>
              <a:r>
                <a:rPr b="0" lang="ru-RU" sz="1400" spc="-1" strike="noStrike">
                  <a:solidFill>
                    <a:srgbClr val="000099"/>
                  </a:solidFill>
                  <a:latin typeface="Arial Narrow"/>
                </a:rPr>
                <a:t>из оценки каждого элемента обстановки, влияющие на выполнени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893" name="Group 13"/>
            <p:cNvGrpSpPr/>
            <p:nvPr/>
          </p:nvGrpSpPr>
          <p:grpSpPr>
            <a:xfrm>
              <a:off x="2556000" y="2782800"/>
              <a:ext cx="3456000" cy="1977480"/>
              <a:chOff x="2556000" y="2782800"/>
              <a:chExt cx="3456000" cy="1977480"/>
            </a:xfrm>
          </p:grpSpPr>
          <p:sp>
            <p:nvSpPr>
              <p:cNvPr id="1894" name="Text Box 14"/>
              <p:cNvSpPr/>
              <p:nvPr/>
            </p:nvSpPr>
            <p:spPr>
              <a:xfrm>
                <a:off x="2556000" y="2782800"/>
                <a:ext cx="3456000" cy="85572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уяснения задач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99"/>
                    </a:solidFill>
                    <a:latin typeface="Arial Narrow"/>
                  </a:rPr>
                  <a:t>Цель предстоящих действий, основные задачи, порядок взаимодействия, сроки выполнения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5" name="Text Box 15"/>
              <p:cNvSpPr/>
              <p:nvPr/>
            </p:nvSpPr>
            <p:spPr>
              <a:xfrm>
                <a:off x="2556000" y="3646440"/>
                <a:ext cx="3456000" cy="47484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оценки обстановк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6" name="Text Box 16"/>
              <p:cNvSpPr/>
              <p:nvPr/>
            </p:nvSpPr>
            <p:spPr>
              <a:xfrm>
                <a:off x="255600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Характер 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озможн. последст.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7" name="Text Box 17"/>
              <p:cNvSpPr/>
              <p:nvPr/>
            </p:nvSpPr>
            <p:spPr>
              <a:xfrm>
                <a:off x="341964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Свои силы, соседи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8" name="Text Box 18"/>
              <p:cNvSpPr/>
              <p:nvPr/>
            </p:nvSpPr>
            <p:spPr>
              <a:xfrm>
                <a:off x="514692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ремя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9" name="Text Box 19"/>
              <p:cNvSpPr/>
              <p:nvPr/>
            </p:nvSpPr>
            <p:spPr>
              <a:xfrm>
                <a:off x="428328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Район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900" name="AutoShape 20"/>
            <p:cNvSpPr/>
            <p:nvPr/>
          </p:nvSpPr>
          <p:spPr>
            <a:xfrm>
              <a:off x="395280" y="2782800"/>
              <a:ext cx="1657440" cy="2016360"/>
            </a:xfrm>
            <a:custGeom>
              <a:avLst/>
              <a:gdLst>
                <a:gd name="textAreaLeft" fmla="*/ 80640 w 1657440"/>
                <a:gd name="textAreaRight" fmla="*/ 1576800 w 1657440"/>
                <a:gd name="textAreaTop" fmla="*/ 80640 h 2016360"/>
                <a:gd name="textAreaBottom" fmla="*/ 1935720 h 2016360"/>
              </a:gdLst>
              <a:ahLst/>
              <a:rect l="textAreaLeft" t="textAreaTop" r="textAreaRight" b="textAreaBottom"/>
              <a:pathLst>
                <a:path w="21600" h="26276">
                  <a:moveTo>
                    <a:pt x="3600" y="0"/>
                  </a:moveTo>
                  <a:arcTo wR="3600" hR="3600" stAng="16200000" swAng="-5400000"/>
                  <a:lnTo>
                    <a:pt x="0" y="22676"/>
                  </a:lnTo>
                  <a:arcTo wR="3600" hR="3600" stAng="10800000" swAng="-5400000"/>
                  <a:lnTo>
                    <a:pt x="18000" y="262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1" name="Text Box 21"/>
            <p:cNvSpPr/>
            <p:nvPr/>
          </p:nvSpPr>
          <p:spPr>
            <a:xfrm>
              <a:off x="395280" y="3357720"/>
              <a:ext cx="15843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Мотивацион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2" name="AutoShape 22"/>
            <p:cNvSpPr/>
            <p:nvPr/>
          </p:nvSpPr>
          <p:spPr>
            <a:xfrm>
              <a:off x="2124000" y="2782800"/>
              <a:ext cx="360360" cy="2016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0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008-8800-4A34-9CE5-DC11655A4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4" name="AutoShape 4"/>
          <p:cNvSpPr/>
          <p:nvPr/>
        </p:nvSpPr>
        <p:spPr>
          <a:xfrm>
            <a:off x="0" y="-171360"/>
            <a:ext cx="9144000" cy="702936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05" name="Group 59"/>
          <p:cNvGrpSpPr/>
          <p:nvPr/>
        </p:nvGrpSpPr>
        <p:grpSpPr>
          <a:xfrm>
            <a:off x="395280" y="2016000"/>
            <a:ext cx="8569440" cy="3393360"/>
            <a:chOff x="395280" y="2016000"/>
            <a:chExt cx="8569440" cy="3393360"/>
          </a:xfrm>
        </p:grpSpPr>
        <p:sp>
          <p:nvSpPr>
            <p:cNvPr id="1906" name="Text Box 8"/>
            <p:cNvSpPr/>
            <p:nvPr/>
          </p:nvSpPr>
          <p:spPr>
            <a:xfrm>
              <a:off x="7524720" y="2016000"/>
              <a:ext cx="1332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замысел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7" name="AutoShape 22"/>
            <p:cNvSpPr/>
            <p:nvPr/>
          </p:nvSpPr>
          <p:spPr>
            <a:xfrm>
              <a:off x="395280" y="2681280"/>
              <a:ext cx="1512720" cy="2066760"/>
            </a:xfrm>
            <a:custGeom>
              <a:avLst/>
              <a:gdLst>
                <a:gd name="textAreaLeft" fmla="*/ 73800 w 1512720"/>
                <a:gd name="textAreaRight" fmla="*/ 1438920 w 1512720"/>
                <a:gd name="textAreaTop" fmla="*/ 73800 h 2066760"/>
                <a:gd name="textAreaBottom" fmla="*/ 1992960 h 2066760"/>
              </a:gdLst>
              <a:ahLst/>
              <a:rect l="textAreaLeft" t="textAreaTop" r="textAreaRight" b="textAreaBottom"/>
              <a:pathLst>
                <a:path w="21600" h="29509">
                  <a:moveTo>
                    <a:pt x="3600" y="0"/>
                  </a:moveTo>
                  <a:arcTo wR="3600" hR="3600" stAng="16200000" swAng="-5400000"/>
                  <a:lnTo>
                    <a:pt x="0" y="25909"/>
                  </a:lnTo>
                  <a:arcTo wR="3600" hR="3600" stAng="10800000" swAng="-5400000"/>
                  <a:lnTo>
                    <a:pt x="18000" y="29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8" name="Text Box 23"/>
            <p:cNvSpPr/>
            <p:nvPr/>
          </p:nvSpPr>
          <p:spPr>
            <a:xfrm>
              <a:off x="395280" y="3270240"/>
              <a:ext cx="15127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Содержатель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9" name="AutoShape 24"/>
            <p:cNvSpPr/>
            <p:nvPr/>
          </p:nvSpPr>
          <p:spPr>
            <a:xfrm>
              <a:off x="1979640" y="2679840"/>
              <a:ext cx="360360" cy="20667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3640 h 2066760"/>
                <a:gd name="textAreaBottom" fmla="*/ 2013120 h 20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0" name="Text Box 44"/>
            <p:cNvSpPr/>
            <p:nvPr/>
          </p:nvSpPr>
          <p:spPr>
            <a:xfrm>
              <a:off x="2411280" y="267984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Цель предстоящих действ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1" name="Text Box 45"/>
            <p:cNvSpPr/>
            <p:nvPr/>
          </p:nvSpPr>
          <p:spPr>
            <a:xfrm>
              <a:off x="2411280" y="319572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пособы проведения работ, направления основных усил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2" name="Text Box 46"/>
            <p:cNvSpPr/>
            <p:nvPr/>
          </p:nvSpPr>
          <p:spPr>
            <a:xfrm>
              <a:off x="2411280" y="3713040"/>
              <a:ext cx="4896000" cy="5526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сновные задачи, сроки, порядок и способы их реш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3" name="Text Box 47"/>
            <p:cNvSpPr/>
            <p:nvPr/>
          </p:nvSpPr>
          <p:spPr>
            <a:xfrm>
              <a:off x="2411280" y="422928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Группировка сил, ее построение, возможный маневр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4" name="AutoShape 48"/>
            <p:cNvSpPr/>
            <p:nvPr/>
          </p:nvSpPr>
          <p:spPr>
            <a:xfrm rot="16200000">
              <a:off x="7947720" y="2400840"/>
              <a:ext cx="665280" cy="1368360"/>
            </a:xfrm>
            <a:prstGeom prst="wedgeRectCallout">
              <a:avLst>
                <a:gd name="adj1" fmla="val -141199"/>
                <a:gd name="adj2" fmla="val -74944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5" name="Text Box 49"/>
            <p:cNvSpPr/>
            <p:nvPr/>
          </p:nvSpPr>
          <p:spPr>
            <a:xfrm>
              <a:off x="7667640" y="2825640"/>
              <a:ext cx="122544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Как решать основны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16" name="Group 54"/>
            <p:cNvGrpSpPr/>
            <p:nvPr/>
          </p:nvGrpSpPr>
          <p:grpSpPr>
            <a:xfrm>
              <a:off x="7596360" y="4228920"/>
              <a:ext cx="1368360" cy="1180440"/>
              <a:chOff x="7596360" y="4228920"/>
              <a:chExt cx="1368360" cy="1180440"/>
            </a:xfrm>
          </p:grpSpPr>
          <p:sp>
            <p:nvSpPr>
              <p:cNvPr id="1917" name="AutoShape 52"/>
              <p:cNvSpPr/>
              <p:nvPr/>
            </p:nvSpPr>
            <p:spPr>
              <a:xfrm rot="16200000">
                <a:off x="7690320" y="4134960"/>
                <a:ext cx="1180440" cy="1368360"/>
              </a:xfrm>
              <a:prstGeom prst="wedgeRectCallout">
                <a:avLst>
                  <a:gd name="adj1" fmla="val 43384"/>
                  <a:gd name="adj2" fmla="val -74365"/>
                </a:avLst>
              </a:prstGeom>
              <a:gradFill rotWithShape="0">
                <a:gsLst>
                  <a:gs pos="0">
                    <a:srgbClr val="ebffff"/>
                  </a:gs>
                  <a:gs pos="50000">
                    <a:srgbClr val="f3ffff"/>
                  </a:gs>
                  <a:gs pos="100000">
                    <a:srgbClr val="ebffff"/>
                  </a:gs>
                </a:gsLst>
                <a:lin ang="10800000"/>
              </a:gradFill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8" name="Text Box 53"/>
              <p:cNvSpPr/>
              <p:nvPr/>
            </p:nvSpPr>
            <p:spPr>
              <a:xfrm>
                <a:off x="7667640" y="4302360"/>
                <a:ext cx="1225440" cy="10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 Narrow"/>
                  </a:rPr>
                  <a:t>Какую иметь группировку сил, порядок ее построения, характер маневра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9" name="WordArt 58"/>
          <p:cNvSpPr txBox="1"/>
          <p:nvPr/>
        </p:nvSpPr>
        <p:spPr>
          <a:xfrm>
            <a:off x="3276720" y="1484280"/>
            <a:ext cx="28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ысел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nodeType="clickEffect" fill="hold">
                      <p:stCondLst>
                        <p:cond delay="0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E2F-2D3A-495E-BC0C-DA90B63D1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1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22" name="Group 40"/>
          <p:cNvGrpSpPr/>
          <p:nvPr/>
        </p:nvGrpSpPr>
        <p:grpSpPr>
          <a:xfrm>
            <a:off x="179280" y="333360"/>
            <a:ext cx="8785440" cy="6211080"/>
            <a:chOff x="179280" y="333360"/>
            <a:chExt cx="8785440" cy="6211080"/>
          </a:xfrm>
        </p:grpSpPr>
        <p:sp>
          <p:nvSpPr>
            <p:cNvPr id="1923" name="Text Box 5"/>
            <p:cNvSpPr/>
            <p:nvPr/>
          </p:nvSpPr>
          <p:spPr>
            <a:xfrm>
              <a:off x="2627280" y="333360"/>
              <a:ext cx="39607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 Narrow"/>
                </a:rPr>
                <a:t>РЕШИЛ (ПРИКАЗЫВАЮ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Задачи подчиненным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4" name="Text Box 6"/>
            <p:cNvSpPr/>
            <p:nvPr/>
          </p:nvSpPr>
          <p:spPr>
            <a:xfrm>
              <a:off x="7380360" y="692280"/>
              <a:ext cx="13320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приказную часть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5" name="AutoShape 7"/>
            <p:cNvSpPr/>
            <p:nvPr/>
          </p:nvSpPr>
          <p:spPr>
            <a:xfrm>
              <a:off x="179280" y="2852640"/>
              <a:ext cx="1513080" cy="2016360"/>
            </a:xfrm>
            <a:custGeom>
              <a:avLst/>
              <a:gdLst>
                <a:gd name="textAreaLeft" fmla="*/ 73800 w 1513080"/>
                <a:gd name="textAreaRight" fmla="*/ 1439280 w 1513080"/>
                <a:gd name="textAreaTop" fmla="*/ 73800 h 2016360"/>
                <a:gd name="textAreaBottom" fmla="*/ 1942560 h 201636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6" name="Text Box 8"/>
            <p:cNvSpPr/>
            <p:nvPr/>
          </p:nvSpPr>
          <p:spPr>
            <a:xfrm>
              <a:off x="179280" y="3427560"/>
              <a:ext cx="15130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Приказная (распоряди-тельная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7" name="AutoShape 9"/>
            <p:cNvSpPr/>
            <p:nvPr/>
          </p:nvSpPr>
          <p:spPr>
            <a:xfrm>
              <a:off x="1763640" y="1268280"/>
              <a:ext cx="360360" cy="46818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2040 h 4681800"/>
                <a:gd name="textAreaBottom" fmla="*/ 4559760 h 46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8" name="Text Box 10"/>
            <p:cNvSpPr/>
            <p:nvPr/>
          </p:nvSpPr>
          <p:spPr>
            <a:xfrm>
              <a:off x="2124000" y="126828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ются действия для решения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9" name="Text Box 11"/>
            <p:cNvSpPr/>
            <p:nvPr/>
          </p:nvSpPr>
          <p:spPr>
            <a:xfrm>
              <a:off x="2124000" y="234936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ется порядок взаимодействия в ходе совместных действий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2124000" y="479736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орядок управления действиями привлекаемых сил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1" name="Text Box 13"/>
            <p:cNvSpPr/>
            <p:nvPr/>
          </p:nvSpPr>
          <p:spPr>
            <a:xfrm>
              <a:off x="2124000" y="537372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 каких пунктов управления будет осуществляться управление привлекаемыми силами, очередность взятия управл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2" name="AutoShape 17"/>
            <p:cNvSpPr/>
            <p:nvPr/>
          </p:nvSpPr>
          <p:spPr>
            <a:xfrm rot="16200000">
              <a:off x="7632000" y="1161000"/>
              <a:ext cx="1081080" cy="1584360"/>
            </a:xfrm>
            <a:prstGeom prst="wedgeRectCallout">
              <a:avLst>
                <a:gd name="adj1" fmla="val 56458"/>
                <a:gd name="adj2" fmla="val -74449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3" name="Text Box 18"/>
            <p:cNvSpPr/>
            <p:nvPr/>
          </p:nvSpPr>
          <p:spPr>
            <a:xfrm>
              <a:off x="7524720" y="1486080"/>
              <a:ext cx="128592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Задачи группировкам сил для реализации замысла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4" name="Text Box 19"/>
            <p:cNvSpPr/>
            <p:nvPr/>
          </p:nvSpPr>
          <p:spPr>
            <a:xfrm>
              <a:off x="2627280" y="191628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взаимодейств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5" name="Text Box 20"/>
            <p:cNvSpPr/>
            <p:nvPr/>
          </p:nvSpPr>
          <p:spPr>
            <a:xfrm>
              <a:off x="2627280" y="306864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обеспеч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6" name="Text Box 24"/>
            <p:cNvSpPr/>
            <p:nvPr/>
          </p:nvSpPr>
          <p:spPr>
            <a:xfrm>
              <a:off x="2124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Специальн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7" name="Text Box 25"/>
            <p:cNvSpPr/>
            <p:nvPr/>
          </p:nvSpPr>
          <p:spPr>
            <a:xfrm>
              <a:off x="3348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ехни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8" name="Text Box 26"/>
            <p:cNvSpPr/>
            <p:nvPr/>
          </p:nvSpPr>
          <p:spPr>
            <a:xfrm>
              <a:off x="5796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Морально-психологи-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9" name="Text Box 27"/>
            <p:cNvSpPr/>
            <p:nvPr/>
          </p:nvSpPr>
          <p:spPr>
            <a:xfrm>
              <a:off x="4572000" y="3500280"/>
              <a:ext cx="129528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ылов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0" name="Text Box 28"/>
            <p:cNvSpPr/>
            <p:nvPr/>
          </p:nvSpPr>
          <p:spPr>
            <a:xfrm>
              <a:off x="2627280" y="43657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1" name="AutoShape 30"/>
            <p:cNvSpPr/>
            <p:nvPr/>
          </p:nvSpPr>
          <p:spPr>
            <a:xfrm rot="16200000">
              <a:off x="7452720" y="4293000"/>
              <a:ext cx="1439640" cy="1584360"/>
            </a:xfrm>
            <a:prstGeom prst="wedgeRectCallout">
              <a:avLst>
                <a:gd name="adj1" fmla="val -43055"/>
                <a:gd name="adj2" fmla="val -76657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2" name="Text Box 31"/>
            <p:cNvSpPr/>
            <p:nvPr/>
          </p:nvSpPr>
          <p:spPr>
            <a:xfrm>
              <a:off x="7380360" y="4437000"/>
              <a:ext cx="158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 Narrow"/>
                </a:rPr>
                <a:t>Какой пункт управ-ления будет команд-ным, необходимые силы и средства для обеспечения его функ ционирования, оче-редность взятия управления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3" name="AutoShape 33"/>
            <p:cNvSpPr/>
            <p:nvPr/>
          </p:nvSpPr>
          <p:spPr>
            <a:xfrm rot="16200000">
              <a:off x="7740000" y="3069000"/>
              <a:ext cx="865080" cy="1584360"/>
            </a:xfrm>
            <a:prstGeom prst="wedgeRectCallout">
              <a:avLst>
                <a:gd name="adj1" fmla="val 32935"/>
                <a:gd name="adj2" fmla="val -74750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4" name="Text Box 34"/>
            <p:cNvSpPr/>
            <p:nvPr/>
          </p:nvSpPr>
          <p:spPr>
            <a:xfrm>
              <a:off x="7462800" y="3500280"/>
              <a:ext cx="141912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и спосо-бы обеспечения, проводимые мероприят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5" name="AutoShape 36"/>
            <p:cNvSpPr/>
            <p:nvPr/>
          </p:nvSpPr>
          <p:spPr>
            <a:xfrm rot="16200000">
              <a:off x="7765200" y="2169000"/>
              <a:ext cx="792360" cy="1584360"/>
            </a:xfrm>
            <a:prstGeom prst="wedgeRectCallout">
              <a:avLst>
                <a:gd name="adj1" fmla="val 53805"/>
                <a:gd name="adj2" fmla="val -76055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6" name="Text Box 37"/>
            <p:cNvSpPr/>
            <p:nvPr/>
          </p:nvSpPr>
          <p:spPr>
            <a:xfrm>
              <a:off x="7451640" y="2637000"/>
              <a:ext cx="141948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взаимодействия привлекаемых сил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7" name="Text Box 38"/>
            <p:cNvSpPr/>
            <p:nvPr/>
          </p:nvSpPr>
          <p:spPr>
            <a:xfrm>
              <a:off x="611280" y="6237360"/>
              <a:ext cx="69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Вопросы для согласования со старшим начальником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(при необходимости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fade thruBlk="true"/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nodeType="clickEffect" fill="hold">
                      <p:stCondLst>
                        <p:cond delay="0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4" dur="5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413E-33E4-408D-A96F-DB7DC6C5906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замысла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0" name="Text Box 5"/>
          <p:cNvSpPr/>
          <p:nvPr/>
        </p:nvSpPr>
        <p:spPr>
          <a:xfrm>
            <a:off x="900000" y="249228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Цели, объем и характер предстоящих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1" name="Text Box 6"/>
          <p:cNvSpPr/>
          <p:nvPr/>
        </p:nvSpPr>
        <p:spPr>
          <a:xfrm>
            <a:off x="900000" y="357336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частки сосредоточения основных усил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2" name="Text Box 7"/>
          <p:cNvSpPr/>
          <p:nvPr/>
        </p:nvSpPr>
        <p:spPr>
          <a:xfrm>
            <a:off x="900000" y="465300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сновные задачи, сроки, последовательность и способы технологи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3" name="Text Box 8"/>
          <p:cNvSpPr/>
          <p:nvPr/>
        </p:nvSpPr>
        <p:spPr>
          <a:xfrm>
            <a:off x="900000" y="573408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Группировка сил (состав, количество), ее построение, возможный маневр, материально-техническое обеспечени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4" name="AutoShape 9"/>
          <p:cNvSpPr/>
          <p:nvPr/>
        </p:nvSpPr>
        <p:spPr>
          <a:xfrm>
            <a:off x="4356000" y="328464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5" name="AutoShape 10"/>
          <p:cNvSpPr/>
          <p:nvPr/>
        </p:nvSpPr>
        <p:spPr>
          <a:xfrm>
            <a:off x="4356000" y="436572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6" name="AutoShape 11"/>
          <p:cNvSpPr/>
          <p:nvPr/>
        </p:nvSpPr>
        <p:spPr>
          <a:xfrm>
            <a:off x="4356000" y="5445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amond/>
  </p:transition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nodeType="clickEffect" fill="hold">
                      <p:stCondLst>
                        <p:cond delay="0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252-BB92-4E48-BC65-29D79DAF29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8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9" name="Text Box 5"/>
          <p:cNvSpPr/>
          <p:nvPr/>
        </p:nvSpPr>
        <p:spPr>
          <a:xfrm>
            <a:off x="900000" y="24922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мысел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0" name="Text Box 6"/>
          <p:cNvSpPr/>
          <p:nvPr/>
        </p:nvSpPr>
        <p:spPr>
          <a:xfrm>
            <a:off x="900000" y="335772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дачи подчиненных и приданных формирований, способы и срок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1" name="Text Box 7"/>
          <p:cNvSpPr/>
          <p:nvPr/>
        </p:nvSpPr>
        <p:spPr>
          <a:xfrm>
            <a:off x="900000" y="422100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ыдвижения на участок (объект)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Text Box 8"/>
          <p:cNvSpPr/>
          <p:nvPr/>
        </p:nvSpPr>
        <p:spPr>
          <a:xfrm>
            <a:off x="900000" y="508464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заимодейств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AutoShape 9"/>
          <p:cNvSpPr/>
          <p:nvPr/>
        </p:nvSpPr>
        <p:spPr>
          <a:xfrm>
            <a:off x="4500720" y="314172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4" name="Text Box 12"/>
          <p:cNvSpPr/>
          <p:nvPr/>
        </p:nvSpPr>
        <p:spPr>
          <a:xfrm>
            <a:off x="900000" y="59500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ероприятия по организации управления и обеспеч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5" name="AutoShape 13"/>
          <p:cNvSpPr/>
          <p:nvPr/>
        </p:nvSpPr>
        <p:spPr>
          <a:xfrm>
            <a:off x="4500720" y="400536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AutoShape 14"/>
          <p:cNvSpPr/>
          <p:nvPr/>
        </p:nvSpPr>
        <p:spPr>
          <a:xfrm>
            <a:off x="4500720" y="486900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AutoShape 15"/>
          <p:cNvSpPr/>
          <p:nvPr/>
        </p:nvSpPr>
        <p:spPr>
          <a:xfrm>
            <a:off x="4500720" y="573408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0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B717-C50D-45FF-898A-C9CFFAD41B3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9" name="WordArt 4"/>
          <p:cNvSpPr txBox="1"/>
          <p:nvPr/>
        </p:nvSpPr>
        <p:spPr>
          <a:xfrm>
            <a:off x="1908000" y="765000"/>
            <a:ext cx="55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cf0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а приказ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cf0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0" name="Text Box 6"/>
          <p:cNvSpPr/>
          <p:nvPr/>
        </p:nvSpPr>
        <p:spPr>
          <a:xfrm>
            <a:off x="1116000" y="191628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аткие выводы из оценки обстановки на участке работ (степень разрушения, пожары, концентрация АХОВ, состояние сетей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Text Box 7"/>
          <p:cNvSpPr/>
          <p:nvPr/>
        </p:nvSpPr>
        <p:spPr>
          <a:xfrm>
            <a:off x="1116000" y="249228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2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формирования, способы и технологии выполнения работ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2" name="Text Box 8"/>
          <p:cNvSpPr/>
          <p:nvPr/>
        </p:nvSpPr>
        <p:spPr>
          <a:xfrm>
            <a:off x="1116000" y="378936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5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сле слов «приказываю» ставятся задачи подчиненным: объем спасательных работ, способы и сроки выполн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3" name="Text Box 9"/>
          <p:cNvSpPr/>
          <p:nvPr/>
        </p:nvSpPr>
        <p:spPr>
          <a:xfrm>
            <a:off x="1116000" y="2852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3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соседей и приданных си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Text Box 10"/>
          <p:cNvSpPr/>
          <p:nvPr/>
        </p:nvSpPr>
        <p:spPr>
          <a:xfrm>
            <a:off x="1116000" y="3213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4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мысел действий: где, какие работы необходимо выполнить и время их выполнения, где и на какие работы сосредоточить основные усил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5" name="Text Box 11"/>
          <p:cNvSpPr/>
          <p:nvPr/>
        </p:nvSpPr>
        <p:spPr>
          <a:xfrm>
            <a:off x="1116000" y="472428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7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о расположения медицинского пункта,  пути и порядок эвакуации пораженных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6" name="Text Box 12"/>
          <p:cNvSpPr/>
          <p:nvPr/>
        </p:nvSpPr>
        <p:spPr>
          <a:xfrm>
            <a:off x="1116000" y="5300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8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рядок и особенности работ в зоне заражения, порядок ввода сил и средств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Text Box 13"/>
          <p:cNvSpPr/>
          <p:nvPr/>
        </p:nvSpPr>
        <p:spPr>
          <a:xfrm>
            <a:off x="1116000" y="5661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9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ремя начала и окончания работ, место своего расположения, сигналы оповещения, организация взаимодействия,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Text Box 16"/>
          <p:cNvSpPr/>
          <p:nvPr/>
        </p:nvSpPr>
        <p:spPr>
          <a:xfrm>
            <a:off x="1116000" y="436572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6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роприятия по защите населения, привлекаемые СМИ, меры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Text Box 17"/>
          <p:cNvSpPr/>
          <p:nvPr/>
        </p:nvSpPr>
        <p:spPr>
          <a:xfrm>
            <a:off x="1116000" y="623736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0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я управления в ходе 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0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0A7-B926-4622-BC60-14E6C2BB5BD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1" name="Rectangle 2"/>
          <p:cNvSpPr/>
          <p:nvPr/>
        </p:nvSpPr>
        <p:spPr>
          <a:xfrm>
            <a:off x="395280" y="692280"/>
            <a:ext cx="842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сновой управления действиями формировани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 ведении АСДНР являетс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80000"/>
                </a:solidFill>
                <a:uFillTx/>
                <a:latin typeface="Arial Narrow"/>
              </a:rPr>
              <a:t>решение командира (руководителя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Text Box 3"/>
          <p:cNvSpPr/>
          <p:nvPr/>
        </p:nvSpPr>
        <p:spPr>
          <a:xfrm>
            <a:off x="1042920" y="2781360"/>
            <a:ext cx="7632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Ввиду ограниченных сроков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выживания пораженных в обстановке, характерной для основных видов ЧС, необходимости как можно быстрей спасти людей, локализовать или ликвидировать возникшие поражающие факторы, работы по приведению в готовность, подготовке к выдвижению и выдвижение в район ЧС осуществляется </a:t>
            </a: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параллельно с выработкой решения на ведение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0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3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5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BDB-6D58-4BFC-A418-9B00E5D39C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Text Box 2"/>
          <p:cNvSpPr/>
          <p:nvPr/>
        </p:nvSpPr>
        <p:spPr>
          <a:xfrm>
            <a:off x="539640" y="1773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яснение задач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Text Box 3"/>
          <p:cNvSpPr/>
          <p:nvPr/>
        </p:nvSpPr>
        <p:spPr>
          <a:xfrm>
            <a:off x="539640" y="2781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Расчет времен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Text Box 4"/>
          <p:cNvSpPr/>
          <p:nvPr/>
        </p:nvSpPr>
        <p:spPr>
          <a:xfrm>
            <a:off x="539640" y="3789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7" name="Text Box 5"/>
          <p:cNvSpPr/>
          <p:nvPr/>
        </p:nvSpPr>
        <p:spPr>
          <a:xfrm>
            <a:off x="539640" y="2276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тдача предварительных распоряжен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8" name="Text Box 6"/>
          <p:cNvSpPr/>
          <p:nvPr/>
        </p:nvSpPr>
        <p:spPr>
          <a:xfrm>
            <a:off x="539640" y="4797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становка задач подразделениям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9" name="Text Box 7"/>
          <p:cNvSpPr/>
          <p:nvPr/>
        </p:nvSpPr>
        <p:spPr>
          <a:xfrm>
            <a:off x="539640" y="3284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разведки и проведение рекогносцир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0" name="Text Box 8"/>
          <p:cNvSpPr/>
          <p:nvPr/>
        </p:nvSpPr>
        <p:spPr>
          <a:xfrm>
            <a:off x="539640" y="4292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нятие реш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1" name="Text Box 9"/>
          <p:cNvSpPr/>
          <p:nvPr/>
        </p:nvSpPr>
        <p:spPr>
          <a:xfrm>
            <a:off x="539640" y="5300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, обеспечения, управ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Text Box 10"/>
          <p:cNvSpPr/>
          <p:nvPr/>
        </p:nvSpPr>
        <p:spPr>
          <a:xfrm>
            <a:off x="539640" y="5805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правление ведением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3" name="WordArt 11"/>
          <p:cNvSpPr txBox="1"/>
          <p:nvPr/>
        </p:nvSpPr>
        <p:spPr>
          <a:xfrm>
            <a:off x="826920" y="549360"/>
            <a:ext cx="763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рядок работ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мандира (руководителя) после получения 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nodeType="clickEffect" fill="hold">
                      <p:stCondLst>
                        <p:cond delay="0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3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3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3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3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3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3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3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3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3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AE3-CA34-40F7-AC3B-D0F65E91CAA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5" name="Text Box 2"/>
          <p:cNvSpPr/>
          <p:nvPr/>
        </p:nvSpPr>
        <p:spPr>
          <a:xfrm>
            <a:off x="1763640" y="2347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Цель предстоящих 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6" name="Text Box 3"/>
          <p:cNvSpPr/>
          <p:nvPr/>
        </p:nvSpPr>
        <p:spPr>
          <a:xfrm>
            <a:off x="1763640" y="3355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мысел старшего начальн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7" name="Text Box 4"/>
          <p:cNvSpPr/>
          <p:nvPr/>
        </p:nvSpPr>
        <p:spPr>
          <a:xfrm>
            <a:off x="1763640" y="4292640"/>
            <a:ext cx="5473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ча, место и рол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воего формирова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выполнении общей задач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8" name="Line 5"/>
          <p:cNvSpPr/>
          <p:nvPr/>
        </p:nvSpPr>
        <p:spPr>
          <a:xfrm>
            <a:off x="4500720" y="285264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9" name="Line 6"/>
          <p:cNvSpPr/>
          <p:nvPr/>
        </p:nvSpPr>
        <p:spPr>
          <a:xfrm>
            <a:off x="450072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WordArt 7"/>
          <p:cNvSpPr txBox="1"/>
          <p:nvPr/>
        </p:nvSpPr>
        <p:spPr>
          <a:xfrm>
            <a:off x="1187280" y="907920"/>
            <a:ext cx="648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уяснения задачи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nodeType="clickEffect" fill="hold">
                      <p:stCondLst>
                        <p:cond delay="0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2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2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5" dur="2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10AF-2AA1-46B3-973C-F72D8C5F17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2" name="Text Box 2"/>
          <p:cNvSpPr/>
          <p:nvPr/>
        </p:nvSpPr>
        <p:spPr>
          <a:xfrm>
            <a:off x="900000" y="1989000"/>
            <a:ext cx="73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Ориентирование подчиненных производится с целью </a:t>
            </a: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доведения до них задачи, поставленной старшим начальником, в части их касающейся, и постановки им частных задач, решение которых обеспечивает процесс выработки решения и организации его выполнения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При ориентировании руководитель доводит до подчиненных следующую информацию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редстоящих действ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б организации разведки и других действиях, необходимых для последующей оценки обстановки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одготовке предложений в решение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сроках подготовки и представления необходимых данных для выработки реш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3" name="WordArt 3"/>
          <p:cNvSpPr txBox="1"/>
          <p:nvPr/>
        </p:nvSpPr>
        <p:spPr>
          <a:xfrm>
            <a:off x="1116000" y="76500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atin typeface="Times New Roman"/>
              </a:rPr>
              <a:t>Отдача предварительных распоря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nodeType="clickEffect" fill="hold">
                      <p:stCondLst>
                        <p:cond delay="0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1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4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0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1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8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6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7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16880"/>
                            </p:stCondLst>
                            <p:childTnLst>
                              <p:par>
                                <p:cTn id="19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2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3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410-B03D-4B6B-B7F5-D30490FA47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Text Box 4"/>
          <p:cNvSpPr/>
          <p:nvPr/>
        </p:nvSpPr>
        <p:spPr>
          <a:xfrm>
            <a:off x="826920" y="33336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 Narrow"/>
              </a:rPr>
              <a:t>Одной из важнейших задач Единой государственной системы предупреждения и ликвидации чрезвычайных ситуаций (РСЧС) и ГО является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ликвидация чрезвычайных ситуаций (ЧС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8" name="Text Box 5"/>
          <p:cNvSpPr/>
          <p:nvPr/>
        </p:nvSpPr>
        <p:spPr>
          <a:xfrm>
            <a:off x="900000" y="1700280"/>
            <a:ext cx="73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Источники ЧС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природное явлен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авар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техногенное происшеств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широко распространенная инфекционная болезнь людей, сельскохозяйственных животных и расте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применение современных средств пораж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9" name="Group 6"/>
          <p:cNvGrpSpPr/>
          <p:nvPr/>
        </p:nvGrpSpPr>
        <p:grpSpPr>
          <a:xfrm>
            <a:off x="250920" y="4076640"/>
            <a:ext cx="8435520" cy="2057400"/>
            <a:chOff x="250920" y="4076640"/>
            <a:chExt cx="8435520" cy="2057400"/>
          </a:xfrm>
        </p:grpSpPr>
        <p:sp>
          <p:nvSpPr>
            <p:cNvPr id="1540" name="Rectangle 7"/>
            <p:cNvSpPr/>
            <p:nvPr/>
          </p:nvSpPr>
          <p:spPr>
            <a:xfrm>
              <a:off x="3728520" y="4076640"/>
              <a:ext cx="14799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ЧС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1" name="Line 8"/>
            <p:cNvSpPr/>
            <p:nvPr/>
          </p:nvSpPr>
          <p:spPr>
            <a:xfrm>
              <a:off x="1212840" y="5067360"/>
              <a:ext cx="65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2" name="Rectangle 9"/>
            <p:cNvSpPr/>
            <p:nvPr/>
          </p:nvSpPr>
          <p:spPr>
            <a:xfrm>
              <a:off x="2509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рирод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3" name="Rectangle 10"/>
            <p:cNvSpPr/>
            <p:nvPr/>
          </p:nvSpPr>
          <p:spPr>
            <a:xfrm>
              <a:off x="23965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техног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4" name="Rectangle 11"/>
            <p:cNvSpPr/>
            <p:nvPr/>
          </p:nvSpPr>
          <p:spPr>
            <a:xfrm>
              <a:off x="461664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биолого-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оциаль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5" name="Rectangle 12"/>
            <p:cNvSpPr/>
            <p:nvPr/>
          </p:nvSpPr>
          <p:spPr>
            <a:xfrm>
              <a:off x="683640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во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6" name="Text Box 13"/>
            <p:cNvSpPr/>
            <p:nvPr/>
          </p:nvSpPr>
          <p:spPr>
            <a:xfrm>
              <a:off x="2949480" y="4697640"/>
              <a:ext cx="30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о характеру              источника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7" name="Line 14"/>
            <p:cNvSpPr/>
            <p:nvPr/>
          </p:nvSpPr>
          <p:spPr>
            <a:xfrm>
              <a:off x="121284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8" name="Line 15"/>
            <p:cNvSpPr/>
            <p:nvPr/>
          </p:nvSpPr>
          <p:spPr>
            <a:xfrm>
              <a:off x="335880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9" name="Line 16"/>
            <p:cNvSpPr/>
            <p:nvPr/>
          </p:nvSpPr>
          <p:spPr>
            <a:xfrm>
              <a:off x="557856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0" name="Line 17"/>
            <p:cNvSpPr/>
            <p:nvPr/>
          </p:nvSpPr>
          <p:spPr>
            <a:xfrm>
              <a:off x="772452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1" name="Line 18"/>
            <p:cNvSpPr/>
            <p:nvPr/>
          </p:nvSpPr>
          <p:spPr>
            <a:xfrm>
              <a:off x="4468680" y="4610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84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84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84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B3D7-82E8-456D-96C8-48E88D5FB1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/>
          </p:nvPr>
        </p:nvSpPr>
        <p:spPr>
          <a:xfrm>
            <a:off x="900000" y="476280"/>
            <a:ext cx="7920000" cy="20160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указаниях по организации разведки команди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определя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цели и задачи разведк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кие данные и к какому сроку представи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каких объектах(участках) сосредоточить основные усилия развед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Rectangle 3"/>
          <p:cNvSpPr/>
          <p:nvPr/>
        </p:nvSpPr>
        <p:spPr>
          <a:xfrm>
            <a:off x="900000" y="2637000"/>
            <a:ext cx="7920000" cy="3816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ходе рекогносцировки командир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уточняет</a:t>
            </a: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становку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ts val="16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изучае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частки(объекты) работ и пути подхода к ни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арактер разрушений, завалов, пожаров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личие, характер, масштабы и границы заражения, затопл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, населения, наличие местных материалов, необходимых для ведения АСДНР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 коммунально-энергетических сетей и местност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а удобные для развертывания пунктов управления, медицинского пункта, подразделений тыла, пункта обеззараживания техники, санитарной обработки личного состав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1187280" y="1268280"/>
            <a:ext cx="75614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0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2000"/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2000"/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2000"/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2000"/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2000"/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1" dur="20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2000"/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2000"/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2000"/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2000"/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2000"/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2000"/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2000"/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2000"/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7" dur="2000"/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2000"/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5386-9366-40AF-8B4E-C0071BC4F8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09" name="Group 2"/>
          <p:cNvGrpSpPr/>
          <p:nvPr/>
        </p:nvGrpSpPr>
        <p:grpSpPr>
          <a:xfrm>
            <a:off x="468360" y="260280"/>
            <a:ext cx="7416720" cy="707760"/>
            <a:chOff x="468360" y="260280"/>
            <a:chExt cx="7416720" cy="707760"/>
          </a:xfrm>
        </p:grpSpPr>
        <p:sp>
          <p:nvSpPr>
            <p:cNvPr id="2010" name="Text Box 3"/>
            <p:cNvSpPr/>
            <p:nvPr/>
          </p:nvSpPr>
          <p:spPr>
            <a:xfrm>
              <a:off x="468360" y="260280"/>
              <a:ext cx="7416720" cy="707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1" name="WordArt 4"/>
            <p:cNvSpPr txBox="1"/>
            <p:nvPr/>
          </p:nvSpPr>
          <p:spPr>
            <a:xfrm>
              <a:off x="826920" y="333360"/>
              <a:ext cx="677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189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рганизация и ведение разведки</a:t>
              </a:r>
              <a:endPara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12" name="Text Box 5"/>
          <p:cNvSpPr/>
          <p:nvPr/>
        </p:nvSpPr>
        <p:spPr>
          <a:xfrm>
            <a:off x="468360" y="1484280"/>
            <a:ext cx="3240000" cy="8240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Руководитель (председатель) КЧС определяет цель, задачи, силы и средства разведк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Text Box 6"/>
          <p:cNvSpPr/>
          <p:nvPr/>
        </p:nvSpPr>
        <p:spPr>
          <a:xfrm>
            <a:off x="4643280" y="1484280"/>
            <a:ext cx="3240360" cy="77976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Орган управления по ГОЧС             (штаб) организует разведк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AutoShape 7"/>
          <p:cNvSpPr/>
          <p:nvPr/>
        </p:nvSpPr>
        <p:spPr>
          <a:xfrm rot="7326600">
            <a:off x="1694160" y="1099080"/>
            <a:ext cx="5032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5" name="AutoShape 8"/>
          <p:cNvSpPr/>
          <p:nvPr/>
        </p:nvSpPr>
        <p:spPr>
          <a:xfrm rot="3385200">
            <a:off x="6152040" y="1099440"/>
            <a:ext cx="50328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6" name="Text Box 9"/>
          <p:cNvSpPr/>
          <p:nvPr/>
        </p:nvSpPr>
        <p:spPr>
          <a:xfrm>
            <a:off x="468360" y="2492280"/>
            <a:ext cx="8351640" cy="3980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Цель разведки</a:t>
            </a: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беспечение органов управления достоверными данными об обстановке при ведении АСДНР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обстановки на объекте, масштабов зон заражения, динамики развития поражающих факторов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Задачи разведки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обстановки (аварийного объекта) границ зоны заражения на участке ведения работ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(обследование) местности на участке работ и ее возможное влияние на выполнение поставленной задачи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пределение мест нахождения пострадавших, их состояние и способов спас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непрерывное наблюдение за изменением степени и характера зараж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коммунально-энергетических сетей в местах действий формирований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выявление факторов, препятствующих ведению АСДНР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nodeType="clickEffect" fill="hold">
                      <p:stCondLst>
                        <p:cond delay="0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20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8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8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2000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8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8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8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2000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20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8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2000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20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8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20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8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2000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8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8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A5B2-5AAB-42D6-8FB7-1B0D80CE6F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8" name="WordArt 4"/>
          <p:cNvSpPr txBox="1"/>
          <p:nvPr/>
        </p:nvSpPr>
        <p:spPr>
          <a:xfrm>
            <a:off x="395280" y="333360"/>
            <a:ext cx="698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виды обеспеч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9" name="Text Box 6"/>
          <p:cNvSpPr/>
          <p:nvPr/>
        </p:nvSpPr>
        <p:spPr>
          <a:xfrm>
            <a:off x="1042920" y="1484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азведка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Text Box 7"/>
          <p:cNvSpPr/>
          <p:nvPr/>
        </p:nvSpPr>
        <p:spPr>
          <a:xfrm>
            <a:off x="1042920" y="4508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ехническое</a:t>
            </a:r>
            <a:r>
              <a:rPr b="0" lang="ru-RU" sz="1800" spc="-1" strike="noStrike">
                <a:solidFill>
                  <a:srgbClr val="99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Text Box 8"/>
          <p:cNvSpPr/>
          <p:nvPr/>
        </p:nvSpPr>
        <p:spPr>
          <a:xfrm>
            <a:off x="1042920" y="2492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ранспортн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Text Box 9"/>
          <p:cNvSpPr/>
          <p:nvPr/>
        </p:nvSpPr>
        <p:spPr>
          <a:xfrm>
            <a:off x="1042920" y="3500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атериально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3" name="Text Box 10"/>
          <p:cNvSpPr/>
          <p:nvPr/>
        </p:nvSpPr>
        <p:spPr>
          <a:xfrm>
            <a:off x="1042920" y="5516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едицинск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4" name="Line 11"/>
          <p:cNvSpPr/>
          <p:nvPr/>
        </p:nvSpPr>
        <p:spPr>
          <a:xfrm>
            <a:off x="4356000" y="198900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Line 12"/>
          <p:cNvSpPr/>
          <p:nvPr/>
        </p:nvSpPr>
        <p:spPr>
          <a:xfrm>
            <a:off x="4356000" y="2997360"/>
            <a:ext cx="0" cy="50292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Line 13"/>
          <p:cNvSpPr/>
          <p:nvPr/>
        </p:nvSpPr>
        <p:spPr>
          <a:xfrm>
            <a:off x="4356000" y="4005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Line 14"/>
          <p:cNvSpPr/>
          <p:nvPr/>
        </p:nvSpPr>
        <p:spPr>
          <a:xfrm>
            <a:off x="4356000" y="5013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0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2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00E-3072-47BE-B00C-B86C4735CF7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WordArt 4"/>
          <p:cNvSpPr txBox="1"/>
          <p:nvPr/>
        </p:nvSpPr>
        <p:spPr>
          <a:xfrm>
            <a:off x="1619280" y="76500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Цели обеспечения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0" name="Text Box 5"/>
          <p:cNvSpPr/>
          <p:nvPr/>
        </p:nvSpPr>
        <p:spPr>
          <a:xfrm>
            <a:off x="1042920" y="22766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лучение исчерпывающих данных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воевременное оказание медицинской помощи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бесперебойное удовлетворение потребностей                        в материальных средствах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выполнение перевозок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ддержание техники в исправном состоян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оздание благоприятных условий для своевременного и организационного проведения АСДНР и выполнения других задач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zoom dir="out"/>
  </p:transition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nodeType="clickEffect" fill="hold">
                      <p:stCondLst>
                        <p:cond delay="0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10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2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C528-55F0-436C-9BBF-B1A71C053A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2" name="Text Box 5"/>
          <p:cNvSpPr/>
          <p:nvPr/>
        </p:nvSpPr>
        <p:spPr>
          <a:xfrm>
            <a:off x="539640" y="206064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тановку задач подразделениям обеспечения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3" name="Text Box 6"/>
          <p:cNvSpPr/>
          <p:nvPr/>
        </p:nvSpPr>
        <p:spPr>
          <a:xfrm>
            <a:off x="539640" y="5445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троль за выполнением мероприяти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4" name="Text Box 7"/>
          <p:cNvSpPr/>
          <p:nvPr/>
        </p:nvSpPr>
        <p:spPr>
          <a:xfrm>
            <a:off x="539640" y="3213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ение взаимодействия сил участвующих в обеспечен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Text Box 8"/>
          <p:cNvSpPr/>
          <p:nvPr/>
        </p:nvSpPr>
        <p:spPr>
          <a:xfrm>
            <a:off x="539640" y="436572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ведение задач до исполнителей по обеспечению работ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6" name="Line 9"/>
          <p:cNvSpPr/>
          <p:nvPr/>
        </p:nvSpPr>
        <p:spPr>
          <a:xfrm>
            <a:off x="4500720" y="2781360"/>
            <a:ext cx="0" cy="4316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7" name="Line 10"/>
          <p:cNvSpPr/>
          <p:nvPr/>
        </p:nvSpPr>
        <p:spPr>
          <a:xfrm>
            <a:off x="4500720" y="3933720"/>
            <a:ext cx="0" cy="43200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8" name="Line 11"/>
          <p:cNvSpPr/>
          <p:nvPr/>
        </p:nvSpPr>
        <p:spPr>
          <a:xfrm>
            <a:off x="4500720" y="5086440"/>
            <a:ext cx="0" cy="3585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9" name="WordArt 12"/>
          <p:cNvSpPr txBox="1"/>
          <p:nvPr/>
        </p:nvSpPr>
        <p:spPr>
          <a:xfrm>
            <a:off x="971640" y="1197000"/>
            <a:ext cx="75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 обеспечения включает </a:t>
            </a:r>
            <a:endParaRPr b="0" lang="en-US" sz="1600" spc="1" strike="noStrike">
              <a:ln w="19080">
                <a:solidFill>
                  <a:srgbClr val="9933ff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nodeType="clickEffect" fill="hold">
                      <p:stCondLst>
                        <p:cond delay="0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77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9" dur="770" fill="hold"/>
                                        <p:tgtEl>
                                          <p:spTgt spid="20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1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3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92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9" dur="192" fill="hold"/>
                                        <p:tgtEl>
                                          <p:spTgt spid="20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1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3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77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9" dur="770" fill="hold"/>
                                        <p:tgtEl>
                                          <p:spTgt spid="20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1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3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92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9" dur="192" fill="hold"/>
                                        <p:tgtEl>
                                          <p:spTgt spid="2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1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3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77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9" dur="770" fill="hold"/>
                                        <p:tgtEl>
                                          <p:spTgt spid="20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1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3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92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9" dur="192" fill="hold"/>
                                        <p:tgtEl>
                                          <p:spTgt spid="2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1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3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77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9" dur="770" fill="hold"/>
                                        <p:tgtEl>
                                          <p:spTgt spid="20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1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3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B66-D36C-4730-9DB8-399F8D2B22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1" name="Text Box 5"/>
          <p:cNvSpPr/>
          <p:nvPr/>
        </p:nvSpPr>
        <p:spPr>
          <a:xfrm>
            <a:off x="2556000" y="2131920"/>
            <a:ext cx="396072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елям (задачам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2" name="Text Box 6"/>
          <p:cNvSpPr/>
          <p:nvPr/>
        </p:nvSpPr>
        <p:spPr>
          <a:xfrm>
            <a:off x="1654200" y="3429000"/>
            <a:ext cx="579744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есту и времен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Text Box 7"/>
          <p:cNvSpPr/>
          <p:nvPr/>
        </p:nvSpPr>
        <p:spPr>
          <a:xfrm>
            <a:off x="1131120" y="4653000"/>
            <a:ext cx="6967080" cy="603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особам выполнения поставленных задач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4" name="WordArt 8"/>
          <p:cNvSpPr txBox="1"/>
          <p:nvPr/>
        </p:nvSpPr>
        <p:spPr>
          <a:xfrm>
            <a:off x="900000" y="260280"/>
            <a:ext cx="7775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заимодействие заключается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огласовании действий формирований по :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nodeType="clickEffect" fill="hold">
                      <p:stCondLst>
                        <p:cond delay="0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16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6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6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66E7-DA3B-46AE-AFC4-F5A4B88A89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6" name="Text Box 5"/>
          <p:cNvSpPr/>
          <p:nvPr/>
        </p:nvSpPr>
        <p:spPr>
          <a:xfrm>
            <a:off x="900000" y="1700280"/>
            <a:ext cx="748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ts val="18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воде на участок (объекты)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организация ликвидации или снижения до минимально возможного         уровня факторов, препятствующих 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едении спасательных работ в сложных условиях обстановк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взаимодействия с территориальными (объектовыми) формированиями и специалистами при ликвидации повреждений на коммунально-энергет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смене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резком изменении обстановки, возникновении непосредственной опасности для жизни спасател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связи и информаци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места размещения пунктов управл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7" name="WordArt 6"/>
          <p:cNvSpPr txBox="1"/>
          <p:nvPr/>
        </p:nvSpPr>
        <p:spPr>
          <a:xfrm>
            <a:off x="1116000" y="47628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008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b2b2b2">
                      <a:alpha val="70000"/>
                    </a:srgbClr>
                  </a:outerShdw>
                </a:effectLst>
                <a:latin typeface="Arial"/>
              </a:rPr>
              <a:t>При взаимодействии согласовываются</a:t>
            </a:r>
            <a:endParaRPr b="1" lang="en-US" sz="2000" spc="1" strike="noStrike">
              <a:ln w="28440">
                <a:solidFill>
                  <a:srgbClr val="00808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b2b2b2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0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500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23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nodeType="afterEffect" fill="hold">
                            <p:stCondLst>
                              <p:cond delay="13450"/>
                            </p:stCondLst>
                            <p:childTnLst>
                              <p:par>
                                <p:cTn id="2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500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2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500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nodeType="afterEffect" fill="hold">
                            <p:stCondLst>
                              <p:cond delay="21650"/>
                            </p:stCondLst>
                            <p:childTnLst>
                              <p:par>
                                <p:cTn id="2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2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23750"/>
                            </p:stCondLst>
                            <p:childTnLst>
                              <p:par>
                                <p:cTn id="2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nodeType="afterEffect" fill="hold">
                            <p:stCondLst>
                              <p:cond delay="29250"/>
                            </p:stCondLst>
                            <p:childTnLst>
                              <p:par>
                                <p:cTn id="2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4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nodeType="afterEffect" fill="hold">
                            <p:stCondLst>
                              <p:cond delay="31350"/>
                            </p:stCondLst>
                            <p:childTnLst>
                              <p:par>
                                <p:cTn id="2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500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500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6CC-F436-40D9-9BE8-3D03F9199F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9" name="Заголовок 3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070840" cy="100620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52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6CEE-237D-465E-983F-8E0554C1AE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2" name="Заголовок 3" descr=""/>
          <p:cNvPicPr/>
          <p:nvPr/>
        </p:nvPicPr>
        <p:blipFill>
          <a:blip r:embed="rId1"/>
          <a:stretch/>
        </p:blipFill>
        <p:spPr>
          <a:xfrm>
            <a:off x="165240" y="73080"/>
            <a:ext cx="8070840" cy="107928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2" descr=""/>
          <p:cNvPicPr/>
          <p:nvPr/>
        </p:nvPicPr>
        <p:blipFill>
          <a:blip r:embed="rId2"/>
          <a:stretch/>
        </p:blipFill>
        <p:spPr>
          <a:xfrm>
            <a:off x="539640" y="1333440"/>
            <a:ext cx="8209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5E59-4F4D-4118-8D0F-B05CE14749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AutoShape 3"/>
          <p:cNvSpPr/>
          <p:nvPr/>
        </p:nvSpPr>
        <p:spPr>
          <a:xfrm>
            <a:off x="2340000" y="2403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250920" y="220500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диоактивн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грязн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5" name="Rectangle 5"/>
          <p:cNvSpPr/>
          <p:nvPr/>
        </p:nvSpPr>
        <p:spPr>
          <a:xfrm>
            <a:off x="3146400" y="220500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следствие аварий на радиационно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варий транспортных средств с ядерными энергетическими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тановками или перевозящими радиоактив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AutoShape 6"/>
          <p:cNvSpPr/>
          <p:nvPr/>
        </p:nvSpPr>
        <p:spPr>
          <a:xfrm>
            <a:off x="250920" y="1341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руш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AutoShape 7"/>
          <p:cNvSpPr/>
          <p:nvPr/>
        </p:nvSpPr>
        <p:spPr>
          <a:xfrm>
            <a:off x="2340000" y="152244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Rectangle 8"/>
          <p:cNvSpPr/>
          <p:nvPr/>
        </p:nvSpPr>
        <p:spPr>
          <a:xfrm>
            <a:off x="3146400" y="1341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землетрясениях, взрывах, пожар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изводственных авариях, ураганах, смерчах, обвалах, селях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AutoShape 9"/>
          <p:cNvSpPr/>
          <p:nvPr/>
        </p:nvSpPr>
        <p:spPr>
          <a:xfrm>
            <a:off x="250920" y="306864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имическ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раж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AutoShape 10"/>
          <p:cNvSpPr/>
          <p:nvPr/>
        </p:nvSpPr>
        <p:spPr>
          <a:xfrm>
            <a:off x="2340000" y="321300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1" name="Rectangle 11"/>
          <p:cNvSpPr/>
          <p:nvPr/>
        </p:nvSpPr>
        <p:spPr>
          <a:xfrm>
            <a:off x="3146400" y="2992320"/>
            <a:ext cx="552924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результате аварий на химически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водящих к разрушению емкостей и технологическ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ммуникаций, содержащих АХОВ, а также аварий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транспорте,перевозящем указан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AutoShape 12"/>
          <p:cNvSpPr/>
          <p:nvPr/>
        </p:nvSpPr>
        <p:spPr>
          <a:xfrm>
            <a:off x="250920" y="3933720"/>
            <a:ext cx="1865160" cy="6638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жар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3" name="AutoShape 13"/>
          <p:cNvSpPr/>
          <p:nvPr/>
        </p:nvSpPr>
        <p:spPr>
          <a:xfrm>
            <a:off x="2340000" y="40957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Rectangle 14"/>
          <p:cNvSpPr/>
          <p:nvPr/>
        </p:nvSpPr>
        <p:spPr>
          <a:xfrm>
            <a:off x="3146400" y="3933720"/>
            <a:ext cx="5529240" cy="6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являющиеся следствием природных явлений, аварий 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соблюдения правил пожарной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AutoShape 15"/>
          <p:cNvSpPr/>
          <p:nvPr/>
        </p:nvSpPr>
        <p:spPr>
          <a:xfrm>
            <a:off x="250920" y="4797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топл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AutoShape 16"/>
          <p:cNvSpPr/>
          <p:nvPr/>
        </p:nvSpPr>
        <p:spPr>
          <a:xfrm>
            <a:off x="2340000" y="49039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Rectangle 17"/>
          <p:cNvSpPr/>
          <p:nvPr/>
        </p:nvSpPr>
        <p:spPr>
          <a:xfrm>
            <a:off x="3146400" y="4797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наводнениях, разрушения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идротехнических сооружений, цунами, селях и друг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родных явлениях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AutoShape 18"/>
          <p:cNvSpPr/>
          <p:nvPr/>
        </p:nvSpPr>
        <p:spPr>
          <a:xfrm>
            <a:off x="250920" y="5608800"/>
            <a:ext cx="1865160" cy="8445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дем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зоот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фитот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9" name="AutoShape 19"/>
          <p:cNvSpPr/>
          <p:nvPr/>
        </p:nvSpPr>
        <p:spPr>
          <a:xfrm>
            <a:off x="2340000" y="5805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0" name="Rectangle 20"/>
          <p:cNvSpPr/>
          <p:nvPr/>
        </p:nvSpPr>
        <p:spPr>
          <a:xfrm>
            <a:off x="3146400" y="5684760"/>
            <a:ext cx="552924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 заболевания людей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льскохозяйственных животных и растен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1" name="Text Box 21"/>
          <p:cNvSpPr/>
          <p:nvPr/>
        </p:nvSpPr>
        <p:spPr>
          <a:xfrm>
            <a:off x="8675640" y="6165720"/>
            <a:ext cx="1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2" name="WordArt 23"/>
          <p:cNvSpPr txBox="1"/>
          <p:nvPr/>
        </p:nvSpPr>
        <p:spPr>
          <a:xfrm>
            <a:off x="1187280" y="476280"/>
            <a:ext cx="684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cccce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ее характерные последствия ЧС</a:t>
            </a:r>
            <a:endParaRPr b="0" lang="en-US" sz="2000" spc="1" strike="noStrike">
              <a:ln w="19080">
                <a:solidFill>
                  <a:srgbClr val="9999ff"/>
                </a:solidFill>
                <a:miter/>
              </a:ln>
              <a:solidFill>
                <a:srgbClr val="cccce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83C-01D8-4F1E-89DE-6033855962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AutoShape 2"/>
          <p:cNvSpPr/>
          <p:nvPr/>
        </p:nvSpPr>
        <p:spPr>
          <a:xfrm>
            <a:off x="152280" y="765000"/>
            <a:ext cx="8839440" cy="5472360"/>
          </a:xfrm>
          <a:prstGeom prst="cube">
            <a:avLst>
              <a:gd name="adj" fmla="val 4231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квидация Ч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аварийно-спасательные и други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ложные работы(АСДНР), проводимые пр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и ЧС и направленные на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с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жизни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хра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я люде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ни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меров ущерба окружающей природно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е и материальных потер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окализац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он ЧС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екра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ных для них опасных факторов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478-6AB1-4DE3-B26E-DF3E10FFE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6" name="Picture 4" descr="фон-20"/>
          <p:cNvPicPr/>
          <p:nvPr/>
        </p:nvPicPr>
        <p:blipFill>
          <a:blip r:embed="rId1"/>
          <a:stretch/>
        </p:blipFill>
        <p:spPr>
          <a:xfrm>
            <a:off x="250920" y="765000"/>
            <a:ext cx="8712000" cy="517212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6"/>
          <p:cNvSpPr txBox="1"/>
          <p:nvPr/>
        </p:nvSpPr>
        <p:spPr>
          <a:xfrm>
            <a:off x="1619280" y="333360"/>
            <a:ext cx="5991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арийно-спасательные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другие неотложные работ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8" name="Text Box 7"/>
          <p:cNvSpPr/>
          <p:nvPr/>
        </p:nvSpPr>
        <p:spPr>
          <a:xfrm>
            <a:off x="104292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 Narrow"/>
              </a:rPr>
              <a:t>АСДНР – это совокупность действий, осуществляемых по различным технологическим процессам  и включающих в себя порядок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Text Box 8"/>
          <p:cNvSpPr/>
          <p:nvPr/>
        </p:nvSpPr>
        <p:spPr>
          <a:xfrm>
            <a:off x="395280" y="2133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Технологии выполнения АСДНР в значительной степени зависят от совокупностей объекта (РОО, ХОО и т.д.), на котором должны осуществляться работы по спасению пострадавших и от среды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Text Box 9"/>
          <p:cNvSpPr/>
          <p:nvPr/>
        </p:nvSpPr>
        <p:spPr>
          <a:xfrm>
            <a:off x="395280" y="3141720"/>
            <a:ext cx="842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Narrow"/>
              </a:rPr>
              <a:t>АСДНР</a:t>
            </a:r>
            <a:r>
              <a:rPr b="1" lang="ru-RU" sz="20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– совокупность первоочередных работ в зоне ЧС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заключающаяся в спасении и оказании помощи людям, локализаци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и подавлении очагов поражающего воздействия, предотвращении воздействия вторичных поражающих факторов, защите и спасении материальных и культурных ценностей, восстановлении минимально необходимого жизнеобеспеч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Text Box 10"/>
          <p:cNvSpPr/>
          <p:nvPr/>
        </p:nvSpPr>
        <p:spPr>
          <a:xfrm>
            <a:off x="3348000" y="4869000"/>
            <a:ext cx="259236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Text Box 11"/>
          <p:cNvSpPr/>
          <p:nvPr/>
        </p:nvSpPr>
        <p:spPr>
          <a:xfrm>
            <a:off x="579600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другие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отлож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Text Box 13"/>
          <p:cNvSpPr/>
          <p:nvPr/>
        </p:nvSpPr>
        <p:spPr>
          <a:xfrm>
            <a:off x="118728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аварийно-спасатель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AutoShape 14"/>
          <p:cNvSpPr/>
          <p:nvPr/>
        </p:nvSpPr>
        <p:spPr>
          <a:xfrm rot="19149000">
            <a:off x="2987640" y="5444640"/>
            <a:ext cx="687600" cy="227160"/>
          </a:xfrm>
          <a:prstGeom prst="leftArrow">
            <a:avLst>
              <a:gd name="adj1" fmla="val 50000"/>
              <a:gd name="adj2" fmla="val 75674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5" name="AutoShape 15"/>
          <p:cNvSpPr/>
          <p:nvPr/>
        </p:nvSpPr>
        <p:spPr>
          <a:xfrm rot="13478400">
            <a:off x="5681160" y="5391000"/>
            <a:ext cx="649440" cy="262080"/>
          </a:xfrm>
          <a:prstGeom prst="leftArrow">
            <a:avLst>
              <a:gd name="adj1" fmla="val 50000"/>
              <a:gd name="adj2" fmla="val 61951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A3D-C0E7-4336-A9A9-4922155AA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Picture 4" descr="фон-7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722920"/>
          </a:xfrm>
          <a:prstGeom prst="rect">
            <a:avLst/>
          </a:prstGeom>
          <a:ln w="0">
            <a:noFill/>
          </a:ln>
        </p:spPr>
      </p:pic>
      <p:sp>
        <p:nvSpPr>
          <p:cNvPr id="1588" name="WordArt 6"/>
          <p:cNvSpPr txBox="1"/>
          <p:nvPr/>
        </p:nvSpPr>
        <p:spPr>
          <a:xfrm>
            <a:off x="1187280" y="692280"/>
            <a:ext cx="699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арийно-спасательные работы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чагах поражения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539640" y="1916280"/>
            <a:ext cx="7920000" cy="26550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Аварийно-спасательные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это действия по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ению люд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щите природной среды в зоне ЧС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и ЧС и подавлению или доведению до минимально возможного уровня воздействия характерных для них опасных фактор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0" name="Text Box 8"/>
          <p:cNvSpPr/>
          <p:nvPr/>
        </p:nvSpPr>
        <p:spPr>
          <a:xfrm>
            <a:off x="539640" y="4724280"/>
            <a:ext cx="7920000" cy="17402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Цель проведения аварийно-спасатель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8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и деблокирование пострадавших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им первой медицинской помощи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акуация из опасной з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3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95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8:22Z</dcterms:created>
  <dc:creator>KOMP</dc:creator>
  <dc:description/>
  <dc:language>en-US</dc:language>
  <cp:lastModifiedBy>user</cp:lastModifiedBy>
  <dcterms:modified xsi:type="dcterms:W3CDTF">2012-12-18T15:50:47Z</dcterms:modified>
  <cp:revision>176</cp:revision>
  <dc:subject/>
  <dc:title>Слайд 1</dc:title>
</cp:coreProperties>
</file>