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9DD-A022-4159-9232-11E36FF6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3CF-213E-449D-B1E0-AFF3C7CD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844-8877-41B4-9CBF-F411889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0F1-9D19-45DA-9D5C-E926A7E3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D62C-5736-418A-A2CC-95D2EC55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50D8-D599-44FD-AEE7-34B296AB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E6FE-7731-4DB5-8D59-B1B79BA9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5478-603B-4584-87EB-A9EE8DDA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EB4D-D0BD-4EE7-A736-03B82F2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1729-1562-4C79-BE4A-511BF22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FB3E-3D98-4236-A510-51FD7D79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2A3-07E7-4B62-8FEF-BD297BA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BD9B-6894-466B-9CFC-14FFD47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D179-0E26-41F4-ACE2-E67856D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5DC4-3BCA-44F1-B4D7-0DE94B14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E275-C8B5-4FCF-BA99-13946A55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2756-25E1-42EC-9822-000405D8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640-4B8E-4D9A-A3E8-D23A060A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B14-6DC8-4882-A464-FA5AF7CD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072-BB9E-49EF-9D9C-71F79F79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AB5-F963-4D77-9C44-8B91EF04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22E-63DE-4EA5-B891-E20CCE1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141-17ED-4CC1-80CB-3ED235D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384-63A7-4B2B-9BA5-18E9954E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DD5-78D6-4190-B5AE-5BE2722615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3A79-41C1-4B69-92DD-7A4C1B3FD75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www.koob.ru/images/sechenov.jpg&amp;imgrefurl=http://www.koob.ru/sechenov/&amp;usg=__R1II0m5zGjqw5AnHDy97HreM78Q=&amp;h=200&amp;w=150&amp;sz=9&amp;hl=ru&amp;start=20&amp;um=1&amp;tbnid=-oYMJkP09pxCyM:&amp;tbnh=104&amp;tbnw=78&amp;prev=/images%3Fq%3D%25D1%2581%25D0%25B5%25D1%2587%25D0%25B5%25D0%25BD%25D0%25BE%25D0%25B2%2B%25D0%25B8.%25D0%25BC.%26ndsp%3D18%26hl%3Dru%26lr%3D%26sa%3DN%26start%3D18%26um%3D1%26newwindow%3D1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ntuit.ru/department/history/ithistory/10/10-1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ntuit.ru/department/history/ithistory/10/10-1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ido.rudn.ru/psychology/history_of_psychology/biograf19.gif&amp;imgrefurl=http://ido.rudn.ru/psychology/history_of_psychology/14.html&amp;usg=__o9RWYqfqwS5_UMhvVFN25Ub1wKE=&amp;h=151&amp;w=132&amp;sz=9&amp;hl=ru&amp;start=79&amp;um=1&amp;tbnid=lli4NKFulk8YTM:&amp;tbnh=96&amp;tbnw=84&amp;prev=/images%3Fq%3D%25D0%25B0%25D0%25BD%25D0%25BE%25D1%2585%25D0%25B8%25D0%25BD%2B%25D0%25BF.%25D0%25BA.%26ndsp%3D18%26hl%3Dru%26lr%3D%26sa%3DN%26start%3D72%26um%3D1%26newwindow%3D1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518680" cy="5616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среднем по России за год в в результате несчастных случаев и чрезвычайных ситуаций погибает около 140‑150 тысяч человек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землетрясениях, наводнениях — 500‑8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походах и экспедициях — 250‑3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техногенных авариях — 1000‑15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а воде — 9000‑12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авариях на транспорте — 40000‑45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криминальных происшествиях — 30000‑32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результате самоубийств — 55000‑65000(!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прочих обстоятельствах — 3000‑600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вседневная жизнь по сравнению с боевыми действиями «всего» в 2 раза менее опасна!  - экологические и техногенные катастрофы, экономический хаос в стране, физическое или психологическое нападение в общественных местах и дома, болезни и травмы, психологические расстройства и т.д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 Black"/>
              </a:rPr>
              <a:t>Угрозы безопасности жизнедеятельности человека:</a:t>
            </a:r>
            <a:br>
              <a:rPr sz="24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900000" y="1989000"/>
            <a:ext cx="734544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ы на эти вопросы можно получить, рассматривая, например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ую жесто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тношению к человеку)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пакт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ставящимся целям и задачам) модель борьбы за существование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стему рукопашного боя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498600" y="53006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А. А. Кад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5920" y="189000"/>
            <a:ext cx="82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истема выживания человека в экстремальны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2" descr="Кадочников Алексей Алексеевич (Aleksey A. Kadochnikov)"/>
          <p:cNvPicPr/>
          <p:nvPr/>
        </p:nvPicPr>
        <p:blipFill>
          <a:blip r:embed="rId3"/>
          <a:stretch/>
        </p:blipFill>
        <p:spPr>
          <a:xfrm>
            <a:off x="684360" y="1341360"/>
            <a:ext cx="254448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8" name="Rectangle 23"/>
          <p:cNvSpPr/>
          <p:nvPr/>
        </p:nvSpPr>
        <p:spPr>
          <a:xfrm>
            <a:off x="3348000" y="1341360"/>
            <a:ext cx="535464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укопашный бой — это бой с применением невидимого оружия, котор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льзя обнаружи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ка его не применили, 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льзя отобр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ка человек жи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истема учит жизни через знание и предвидение, учит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как не попадать в критические ситуаци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учит умению управлять внешними силами при попадании в критические ситуации, а не сопротивляться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азвивать и совершенствовать резервы тела и сознания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абот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в соответствии со своими функциональными возможностями в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данное время и в данном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498600" y="53006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А. А. Кад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75920" y="189000"/>
            <a:ext cx="82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истема выживания человека в экстремальны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Кадочников Алексей Алексеевич (Aleksey A. Kadochnikov)"/>
          <p:cNvPicPr/>
          <p:nvPr/>
        </p:nvPicPr>
        <p:blipFill>
          <a:blip r:embed="rId3"/>
          <a:stretch/>
        </p:blipFill>
        <p:spPr>
          <a:xfrm>
            <a:off x="684360" y="1341360"/>
            <a:ext cx="254448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6" name="Rectangle 9"/>
          <p:cNvSpPr/>
          <p:nvPr/>
        </p:nvSpPr>
        <p:spPr>
          <a:xfrm>
            <a:off x="3492360" y="1197000"/>
            <a:ext cx="521028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стоящий рукопашник — человек дисциплинированный, обладающий чувством ответственности, умеющий мгновенно анализировать сложные ситуации боя, молниеносно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ринимающий единственно правильное реше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и, не последнее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иртуозно владеющий своим т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стоящий рукопашник проявляет себя тогда, когда надо не просто действовать, а действовать правильно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аилучшим образом в непредсказуемой обстановк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гда нет времени задуматься и нельзя ошиби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Основная задача всякого живого организма (индивида) – собственн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ыжива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Обеспечение данной задачи возможно с помощью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адаптивного приспособительного повед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т.е. возможностью выполнения функций, необходимых для удовлетворения внешних и внутренних потребностей организм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ведение можно определить как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еремещение в среде и взаимодейств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 её объектам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для достижения каких-либо цел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се существующие сложные системы организма необходимы человеку для обеспечения возможности в данном месте и времен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существля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двигательные акт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 результат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возможности перемещ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в пространстве (двигательной депривации) организм самостоятельно выжить не в состоя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Индивид  может реализовывать функции по освоению пространства только обладая возможностью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охранения собственного двигательного равновесия.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орфологическим субстратом равновесия являетс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естибулярный аппарат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торый находится в тесном взаимодействии со зрительной и двигательной систем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еразвитость вестибулярного аппарата формируе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сихомоторную и умственную ригид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т.е. невозможность выйти за рамки шаблона, что в экстремальных условиях обрушения тела и психики  оставляет минимальные шансы на выжива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64072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тресс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– ответная реакция организма на экстремальное воздействие, нарушающая физическое и психологическое равновесие человека. Стресс – это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отеря равновес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(точки опоры), вызывающа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адекватное реагирова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на внешние и внутренние стимулы, не позволяющее достигать эффективного жизнеобеспечени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рганизма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охранение равновесия позволяет обеспечивать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амодостаточ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независимость от внешних объектов, людей, их мнений, эмоциональных состояний, оценок и т.д. и использовать их исключительно в целях собственных ориентировочных реакций, принимая решени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 реальном времени «здесь и сейчас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ледовательно, равновесной системой становится невозможно управлять и манипулировать извн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можно только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заимодействов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с н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95280" y="620640"/>
            <a:ext cx="8431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290680" y="-2151000"/>
            <a:ext cx="456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9640" y="2421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Выполнение правила </a:t>
            </a:r>
            <a:r>
              <a:rPr b="1" i="1" lang="ru-RU" sz="2800" spc="-1" strike="noStrike">
                <a:solidFill>
                  <a:srgbClr val="ff3300"/>
                </a:solidFill>
                <a:latin typeface="Perpetua"/>
              </a:rPr>
              <a:t>"адекватного поведения"</a:t>
            </a: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всегда служило допуском человека к сосуществованию со сре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518680" cy="5329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Каждый должен использовать любой шанс, чтобы выжи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Главный постулат выживания - обязанность, возможность и необходимость сохранения своего здоровья, своих сил, своей жизни для решения более значимых задач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Необходимо обрести понимание о себе, об окружающем мире и месте в нем челове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Научиться выбирать линию персонального поведения в сложных человеческих взаимоотношениях, а также взаимодействиях в современном технологическом обществе, направленную на избавление от стресс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Всякому человеку нужно жить, сохраняя себя как личность, приумножая это в друг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Безопасность жизнедеятельности человека: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Петр Францевич Лесгафт"/>
          <p:cNvPicPr/>
          <p:nvPr/>
        </p:nvPicPr>
        <p:blipFill>
          <a:blip r:embed="rId3"/>
          <a:stretch/>
        </p:blipFill>
        <p:spPr>
          <a:xfrm>
            <a:off x="324000" y="1125360"/>
            <a:ext cx="2763720" cy="352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3" name="Rectangle 7"/>
          <p:cNvSpPr/>
          <p:nvPr/>
        </p:nvSpPr>
        <p:spPr>
          <a:xfrm>
            <a:off x="3348000" y="836640"/>
            <a:ext cx="54054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олько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гармонично развитый человек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способен во всех областях жизни на оптимальную производительность с наиболее экономичным использованием энергии и в наиболее короткий с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Гармоничное развитие основывается на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единстве физических и духовных сил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человека и происходит при ведущей роли созн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истемы физического воспитания подчинены закономерностям физиологии. Параллельно с развитием физиологии постоянно нужно пересматривать и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развивать физические упражн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ladimir Script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70240" y="50133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Ф. Лесг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92360" y="189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сновы педагогическ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96600" y="5229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И. М. Сече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76360" y="549360"/>
            <a:ext cx="56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«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Жизненные потребности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 родят хотения, и уже эти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ведут за собой действия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: хотение будет мотивом или целью, а движение – действием или средством достижения цели. Без хотения как мотива или импульса движение было бы вообще бессмысленно…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«Все бесконечное разнообразие внешних проявлений мозговой деятельности сводится окончательно лишь к одному явлению -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мышечному движению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. Смеется ли ребенок при виде игрушки, улыбается ли Гарибальди, когда его гонят за излишнюю любовь к родине, дрожит ли девушка при первой мысли о любви, создает ли Ньютон мировые законы и пишет их на бумаге -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везде окончательным фактом является мышечное движение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…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9" descr="secheno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836640"/>
            <a:ext cx="286380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564000" y="1170000"/>
            <a:ext cx="511344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«Исследование особе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психомоторного развития человека представляет особый интерес в связи с тем, что практически в </a:t>
            </a:r>
            <a:r>
              <a:rPr b="1" i="1" lang="ru-RU" sz="2000" spc="-1" strike="noStrike">
                <a:solidFill>
                  <a:srgbClr val="ff3300"/>
                </a:solidFill>
                <a:latin typeface="Perpetua"/>
              </a:rPr>
              <a:t>моторной организации человека,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в его поведении, деятельности, речи отражается </a:t>
            </a:r>
            <a:r>
              <a:rPr b="1" i="1" lang="ru-RU" sz="2000" spc="-1" strike="noStrike">
                <a:solidFill>
                  <a:srgbClr val="ff3300"/>
                </a:solidFill>
                <a:latin typeface="Perpetua"/>
              </a:rPr>
              <a:t>вся целостная характеристика его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и как индивида, и как личности, и как субъекта при всей неповторимой индивидуальности человека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074960" y="53006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Р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2646360" cy="40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40328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Физиология движений и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04000" y="5157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Бернште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24360" y="907920"/>
            <a:ext cx="475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тимул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реагирую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тела мертвой природ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Или живой, но после того, как стали мертвы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ела мертвой природы отвечаю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еакциями на прошлы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по отношению к реакциям события – внешние воздейств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Живой организ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отражает мир опережающее: его активность в данный момент – не ответ на прошлое событи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одготовка и обеспечение будуще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лючевое свойство живых систем –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ддерживаемая собственной активностью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«Живое»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движение не реакция, а акция, не ответ на внешнее раздражени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ешение задач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Просмотреть картинку полностью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052640"/>
            <a:ext cx="276084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40328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Физиология движений и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04000" y="5157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Бернште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24360" y="1052640"/>
            <a:ext cx="475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«Живое» движение - это не только и не столько перемещение тела в пространстве и времени, сколько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 овладение пространством и времене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Чтобы стать управляемым, движение должно быть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щущаемы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 функциональную структуру действия входят два когнитивных компонента: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лан-программа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предстоящего действия 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контрол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реализующийся после плана-программы  и завершающий движ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Просмотреть картинку полностью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052640"/>
            <a:ext cx="276084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69236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Теория функциональных систе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14240" y="50846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К. Ано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347640" y="764640"/>
            <a:ext cx="554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ведение может быть охарактеризовано как континуум результатов, а поведенческий акт рассмотрен как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трезок поведенческого континуума от одного результата до другого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езультат внешнего поведения индивида  - это определенн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оотношение организма и внешней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ред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торое прекращает действие, направленное на его достижение, и делает возможной реализацию следующего поведенческого акт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Функциональной системой называют такой комплекс  избирательно вовлеченных компонентов, у которых взаимодействие и взаимоотношение приобретают характер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заимоСОдействия компонентов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направленного на получение полезного результат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6" descr="biograf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341360"/>
            <a:ext cx="2808360" cy="34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69236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Теория функциональных систе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14240" y="50846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К. Ано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563640" y="1025280"/>
            <a:ext cx="5257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сю деятельность системы и ее всевозможные изменения можно представить целиком в терминах </a:t>
            </a:r>
            <a:r>
              <a:rPr b="1" lang="ru-RU" sz="2000" spc="-1" strike="noStrike">
                <a:solidFill>
                  <a:srgbClr val="cc3300"/>
                </a:solidFill>
                <a:latin typeface="Perpetua"/>
              </a:rPr>
              <a:t>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ой результат должен быть получен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огда именно должен быть получен результат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ими механизмами должен быть получен результат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 система убеждается в достаточности полученного результата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6" descr="biograf19"/>
          <p:cNvPicPr/>
          <p:nvPr/>
        </p:nvPicPr>
        <p:blipFill>
          <a:blip r:embed="rId2"/>
          <a:stretch/>
        </p:blipFill>
        <p:spPr>
          <a:xfrm>
            <a:off x="395280" y="1341360"/>
            <a:ext cx="2808360" cy="34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2:23:56Z</dcterms:created>
  <dc:creator>Serguey</dc:creator>
  <dc:description/>
  <dc:language>en-US</dc:language>
  <cp:lastModifiedBy>Николай</cp:lastModifiedBy>
  <dcterms:modified xsi:type="dcterms:W3CDTF">2013-07-01T09:46:45Z</dcterms:modified>
  <cp:revision>155</cp:revision>
  <dc:subject/>
  <dc:title>Роль движений в жизни человека</dc:title>
</cp:coreProperties>
</file>