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45D-FAFF-49AA-863A-7F412E4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93C-EF79-4B21-809F-A7A2CA54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4A4-D6E1-4C0D-AC7E-F6AF6AC4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181-FA4B-4B44-AE80-DAB86D1F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A73A-4686-43C9-909F-9FF9B653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115-BB15-4196-8FB3-2910FDC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231-A235-4200-9881-77F5881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100-78C2-4F9C-B4A0-4A4FA769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A3A0-C14A-4C10-AD61-59BE6E1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3DB-55D1-4DF1-BDA8-5F8D44E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1B48-AB32-456A-9380-0A875F8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4D0-C5A3-4CBE-8AB6-EA7E53CC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9EDC-8C31-40D8-A401-2CE1480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B0E2-9315-4824-94B4-942A58B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7BD-D58F-454A-A2F0-C54C2F4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5E2-CBC5-4FE0-B0FF-D42B7F9B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426A-7B21-4B6C-834D-69BDF230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576-D675-426B-BBEE-62C02D44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38F-7376-4E78-9E65-D53D173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8F6-D7AC-4AEA-A6A7-3FE5B6FC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88C-8DEC-454A-9D73-9A1DA9B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5BE-29DC-440D-99E2-8F058F2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331-3711-4C0B-A205-074B3D9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9FB-DC48-462C-B21E-153F5B3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4359-7AC7-4711-8B0A-68819F023F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F8A4-D863-41E4-87A0-CDA59BA752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www.koob.ru/images/sechenov.jpg&amp;imgrefurl=http://www.koob.ru/sechenov/&amp;usg=__R1II0m5zGjqw5AnHDy97HreM78Q=&amp;h=200&amp;w=150&amp;sz=9&amp;hl=ru&amp;start=20&amp;um=1&amp;tbnid=-oYMJkP09pxCyM:&amp;tbnh=104&amp;tbnw=78&amp;prev=/images%3Fq%3D%25D1%2581%25D0%25B5%25D1%2587%25D0%25B5%25D0%25BD%25D0%25BE%25D0%25B2%2B%25D0%25B8.%25D0%25BC.%26ndsp%3D18%26hl%3Dru%26lr%3D%26sa%3DN%26start%3D18%26um%3D1%26newwindow%3D1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ido.rudn.ru/psychology/history_of_psychology/biograf19.gif&amp;imgrefurl=http://ido.rudn.ru/psychology/history_of_psychology/14.html&amp;usg=__o9RWYqfqwS5_UMhvVFN25Ub1wKE=&amp;h=151&amp;w=132&amp;sz=9&amp;hl=ru&amp;start=79&amp;um=1&amp;tbnid=lli4NKFulk8YTM:&amp;tbnh=96&amp;tbnw=84&amp;prev=/images%3Fq%3D%25D0%25B0%25D0%25BD%25D0%25BE%25D1%2585%25D0%25B8%25D0%25BD%2B%25D0%25BF.%25D0%25BA.%26ndsp%3D18%26hl%3Dru%26lr%3D%26sa%3DN%26start%3D72%26um%3D1%26newwindow%3D1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518680" cy="561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среднем по России за год в в результате несчастных случаев и чрезвычайных ситуаций погибает около 140‑150 тысяч человек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землетрясениях, наводнениях — 500‑8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походах и экспедициях — 250‑3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техногенных авариях — 1000‑15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 воде — 9000‑1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авариях на транспорте — 40000‑45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криминальных происшествиях — 30000‑3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результате самоубийств — 55000‑65000(!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рочих обстоятельствах — 3000‑60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вседневная жизнь по сравнению с боевыми действиями «всего» в 2 раза менее опасна!  - экологические и техногенные катастрофы, экономический хаос в стране, физическое или психологическое нападение в общественных местах и дома, болезни и травмы, психологические расстройства и т.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 Black"/>
              </a:rPr>
              <a:t>Угрозы безопасности жизнедеятельности человека:</a:t>
            </a:r>
            <a:br>
              <a:rPr sz="24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900000" y="1989000"/>
            <a:ext cx="7345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ы на эти вопросы можно получить, рассматривая, например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ую жесто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тношению к человеку)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пак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ставящимся целям и задачам) модель борьбы за существование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стему рукопашного бо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2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Rectangle 23"/>
          <p:cNvSpPr/>
          <p:nvPr/>
        </p:nvSpPr>
        <p:spPr>
          <a:xfrm>
            <a:off x="3348000" y="1341360"/>
            <a:ext cx="53546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укопашный бой — это бой с применением невидимого оружия, котор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бнаружи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его не применили,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тобр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человек жи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а учит жизни через знание и предвидение, учит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ак не попадать в критические ситуаци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учит умению управлять внешними силами при попадании в критические ситуации, а не сопротивляться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азвивать и совершенствовать резервы тела и сознания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абот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соответствии со своими функциональными возможностями в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анное время и в данном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6" name="Rectangle 9"/>
          <p:cNvSpPr/>
          <p:nvPr/>
        </p:nvSpPr>
        <p:spPr>
          <a:xfrm>
            <a:off x="3492360" y="1197000"/>
            <a:ext cx="521028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— человек дисциплинированный, обладающий чувством ответственности, умеющий мгновенно анализировать сложные ситуации боя, молниеносн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ринимающий единственно правильное реше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и, не последнее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иртуозно владеющий своим т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проявляет себя тогда, когда надо не просто действовать, а действовать правильно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аилучшим образом в непредсказуемой обстановк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гда нет времени задуматься и нельзя ошиб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сновная задача всякого живого организма (индивида) – собств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ыжи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беспечение данной задачи возможно с помощ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адаптивного приспособительного повед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возможностью выполнения функций, необходимых для удовлетворения внешних и внутренних потребностей организм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но определить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еремещение в среде и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 её объектам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ля достижения каких-либо цел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се существующие сложные системы организма необходимы человеку для обеспечения возможности в данном месте и времен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существля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вигательные акт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результат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возможности перемещ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пространстве (двигательной депривации) организм самостоятельно выжить не в состоя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Индивид  может реализовывать функции по освоению пространства только обладая возможност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хранения собственного двигательного равновесия.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орфологическим субстратом равновесия являетс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естибулярный аппарат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ый находится в тесном взаимодействии со зрительной и двигательной систем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еразвитость вестибулярного аппарата формируе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сихомоторную и умственную ригид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невозможность выйти за рамки шаблона, что в экстремальных условиях обрушения тела и психики  оставляет минимальные шансы на выжива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64072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ресс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– ответная реакция организма на экстремальное воздействие, нарушающая физическое и психологическое равновесие человека. Стресс – эт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теря равновес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(точки опоры), вызывающа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адекватное реагиро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на внешние и внутренние стимулы, не позволяющее достигать эффективного жизнеобеспеч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рганиз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охранение равновесия позволяет обеспечива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амодостаточ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езависимость от внешних объектов, людей, их мнений, эмоциональных состояний, оценок и т.д. и использовать их исключительно в целях собственных ориентировочных реакций, принимая реш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 реальном времени «здесь и сейчас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ледовательно, равновесной системой становится невозможно управлять и манипулировать извн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можно тольк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действов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 н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95280" y="620640"/>
            <a:ext cx="8431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90680" y="-215100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9640" y="242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ыполнение правила </a:t>
            </a:r>
            <a:r>
              <a:rPr b="1" i="1" lang="ru-RU" sz="2800" spc="-1" strike="noStrike">
                <a:solidFill>
                  <a:srgbClr val="ff3300"/>
                </a:solidFill>
                <a:latin typeface="Perpetua"/>
              </a:rPr>
              <a:t>"адекватного поведения"</a:t>
            </a: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сегда служило допуском человека к сосуществованию со сре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518680" cy="5329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Каждый должен использовать любой шанс, чтобы выж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Главный постулат выживания - обязанность, возможность и необходимость сохранения своего здоровья, своих сил, своей жизни для решения более значимых задач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еобходимо обрести понимание о себе, об окружающем мире и месте в нем челове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аучиться выбирать линию персонального поведения в сложных человеческих взаимоотношениях, а также взаимодействиях в современном технологическом обществе, направленную на избавление от стресс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сякому человеку нужно жить, сохраняя себя как личность, приумножая это в друг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Безопасность жизнедеятельности человека: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Петр Францевич Лесгафт"/>
          <p:cNvPicPr/>
          <p:nvPr/>
        </p:nvPicPr>
        <p:blipFill>
          <a:blip r:embed="rId3"/>
          <a:stretch/>
        </p:blipFill>
        <p:spPr>
          <a:xfrm>
            <a:off x="324000" y="1125360"/>
            <a:ext cx="2763720" cy="352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Rectangle 7"/>
          <p:cNvSpPr/>
          <p:nvPr/>
        </p:nvSpPr>
        <p:spPr>
          <a:xfrm>
            <a:off x="3348000" y="836640"/>
            <a:ext cx="54054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олько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гармонично развитый человек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пособен во всех областях жизни на оптимальную производительность с наиболее экономичным использованием энергии и в наиболее короткий с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армоничное развитие основывается на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единстве физических и духовных си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человека и происходит при ведущей роли созн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ы физического воспитания подчинены закономерностям физиологии. Параллельно с развитием физиологии постоянно нужно пересматривать и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развивать физические упражн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ladimir Script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70240" y="50133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Ф. Лесг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9236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сновы педагогическ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96600" y="5229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И. М. Сече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360" y="549360"/>
            <a:ext cx="56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Жизненные потребности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родят хотения, и уже эти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дут за собой действия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: хотение будет мотивом или целью, а движение – действием или средством достижения цели. Без хотения как мотива или импульса движение было бы вообще бессмысленно…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Все бесконечное разнообразие внешних проявлений мозговой деятельности сводится окончательно лишь к одному явлению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мышечному движению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. Смеется ли ребенок при виде игрушки, улыбается ли Гарибальди, когда его гонят за излишнюю любовь к родине, дрожит ли девушка при первой мысли о любви, создает ли Ньютон мировые законы и пишет их на бумаге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зде окончательным фактом является мышечное движение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…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sechen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836640"/>
            <a:ext cx="286380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564000" y="1170000"/>
            <a:ext cx="511344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«Исследование особ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психомоторного развития человека представляет особый интерес в связи с тем, что практически в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моторной организации человека,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в его поведении, деятельности, речи отражается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вся целостная характеристика его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и как индивида, и как личности, и как субъекта при всей неповторимой индивидуальности человека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074960" y="53006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Р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2646360" cy="40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24360" y="90792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имул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реагиру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тела мертвой приро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Или живой, но после того, как стали мертвы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ела мертвой природы отвеча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акциями на прошлы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о отношению к реакциям события – внешние воздейств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Живой организ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отражает мир опережающее: его активность в данный момент – не ответ на прошлое событ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дготовка и обеспечение будуще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лючевое свойство живых систем –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ддерживаемая собственной активностью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«Живое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вижение не реакция, а акция, не ответ на внешнее раздражен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шение задач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24360" y="105264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«Живое» движение - это не только и не столько перемещение тела в пространстве и времени, сколько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 овладение пространством и времене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Чтобы стать управляемым, движение должно бы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щущаемы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функциональную структуру действия входят два когнитивных компонента: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лан-програм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редстоящего действия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онтрол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реализующийся после плана-программы  и завершающий движ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47640" y="764640"/>
            <a:ext cx="554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ет быть охарактеризовано как континуум результатов, а поведенческий акт рассмотрен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трезок поведенческого континуума от одного результата до другог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езультат внешнего поведения индивида  - это определ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отношение организма и внешней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ре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ое прекращает действие, направленное на его достижение, и делает возможной реализацию следующего поведенческого ак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Функциональной системой называют такой комплекс  избирательно вовлеченных компонентов, у которых взаимодействие и взаимоотношение приобретают характер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СОдействия компонентов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аправленного на получение полезного результа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6" descr="biograf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563640" y="1025280"/>
            <a:ext cx="525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сю деятельность системы и ее всевозможные изменения можно представить целиком в терминах </a:t>
            </a:r>
            <a:r>
              <a:rPr b="1" lang="ru-RU" sz="2000" spc="-1" strike="noStrike">
                <a:solidFill>
                  <a:srgbClr val="cc3300"/>
                </a:solidFill>
                <a:latin typeface="Perpetua"/>
              </a:rPr>
              <a:t>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ой результат должен быть получен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огда именно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ими механизмами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 система убеждается в достаточности полученного результата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6" descr="biograf19"/>
          <p:cNvPicPr/>
          <p:nvPr/>
        </p:nvPicPr>
        <p:blipFill>
          <a:blip r:embed="rId2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2:23:56Z</dcterms:created>
  <dc:creator>Serguey</dc:creator>
  <dc:description/>
  <dc:language>en-US</dc:language>
  <cp:lastModifiedBy>Николай</cp:lastModifiedBy>
  <dcterms:modified xsi:type="dcterms:W3CDTF">2013-07-01T09:46:45Z</dcterms:modified>
  <cp:revision>155</cp:revision>
  <dc:subject/>
  <dc:title>Роль движений в жизни человека</dc:title>
</cp:coreProperties>
</file>