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1C63-F51B-4901-B946-E308D4C7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95C-E896-42CF-BF97-EFA48AE7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7F6-CC65-44FF-977D-9AFF498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7BE-F0C5-4CD4-AA10-64EA0608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2246-B7F6-456D-BCDB-B14336E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D1E4-7842-4E4C-8510-7A9EB8D2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C637-079C-41D8-9449-9E2EABF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341E-E535-40DD-AD76-0BB5A213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9F33-2E3C-4924-AAFE-4DD1895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243A-2B4A-48DA-B950-9B82476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BB29-88E6-40F8-B1AB-1E4CE79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514-2D42-41B4-B8AD-D5ECD6A9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D892-B5F2-4CEB-90FC-DC5B42A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48F-50E6-419E-AA9D-96BECF1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12DC-D44D-4A2B-BA07-E53815E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94E-1CAD-47E6-B71F-32FD2E8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F01F-25AF-4C14-B0B9-742ACE3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73F-A669-4597-99F3-8F11E924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A7A-EACF-4AE9-A7A6-5F70BFD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95D-4B51-4BE7-BDE4-79969DFA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9D3-D2CF-4FAC-BCC0-FE77EAB1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94C-792F-4E79-859D-189FAC90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B48-D1C4-4A9F-94F4-F024309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556-2245-4864-9319-D2CD044E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D79C-84B0-4D3E-B97E-174198BC32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F82E-EB9A-48C6-BA76-1FBE952EBCD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www.koob.ru/images/sechenov.jpg&amp;imgrefurl=http://www.koob.ru/sechenov/&amp;usg=__R1II0m5zGjqw5AnHDy97HreM78Q=&amp;h=200&amp;w=150&amp;sz=9&amp;hl=ru&amp;start=20&amp;um=1&amp;tbnid=-oYMJkP09pxCyM:&amp;tbnh=104&amp;tbnw=78&amp;prev=/images%3Fq%3D%25D1%2581%25D0%25B5%25D1%2587%25D0%25B5%25D0%25BD%25D0%25BE%25D0%25B2%2B%25D0%25B8.%25D0%25BC.%26ndsp%3D18%26hl%3Dru%26lr%3D%26sa%3DN%26start%3D18%26um%3D1%26newwindow%3D1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ntuit.ru/department/history/ithistory/10/10-1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ru/imgres?imgurl=http://ido.rudn.ru/psychology/history_of_psychology/biograf19.gif&amp;imgrefurl=http://ido.rudn.ru/psychology/history_of_psychology/14.html&amp;usg=__o9RWYqfqwS5_UMhvVFN25Ub1wKE=&amp;h=151&amp;w=132&amp;sz=9&amp;hl=ru&amp;start=79&amp;um=1&amp;tbnid=lli4NKFulk8YTM:&amp;tbnh=96&amp;tbnw=84&amp;prev=/images%3Fq%3D%25D0%25B0%25D0%25BD%25D0%25BE%25D1%2585%25D0%25B8%25D0%25BD%2B%25D0%25BF.%25D0%25BA.%26ndsp%3D18%26hl%3Dru%26lr%3D%26sa%3DN%26start%3D72%26um%3D1%26newwindow%3D1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518680" cy="5616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среднем по России за год в в результате несчастных случаев и чрезвычайных ситуаций погибает около 140‑150 тысяч человек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землетрясениях, наводнениях — 500‑8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походах и экспедициях — 250‑3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техногенных авариях — 1000‑15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 воде — 9000‑1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авариях на транспорте — 40000‑45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криминальных происшествиях — 30000‑32000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результате самоубийств — 55000‑65000(!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рочих обстоятельствах — 3000‑6000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вседневная жизнь по сравнению с боевыми действиями «всего» в 2 раза менее опасна!  - экологические и техногенные катастрофы, экономический хаос в стране, физическое или психологическое нападение в общественных местах и дома, болезни и травмы, психологические расстройства и т.д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 Black"/>
              </a:rPr>
              <a:t>Угрозы безопасности жизнедеятельности человека:</a:t>
            </a:r>
            <a:br>
              <a:rPr sz="24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900000" y="1989000"/>
            <a:ext cx="734544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ы на эти вопросы можно получить, рассматривая, например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ую жесток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отношению к человеку)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пакт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 ставящимся целям и задачам) модель борьбы за существование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стему рукопашного боя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2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8" name="Rectangle 23"/>
          <p:cNvSpPr/>
          <p:nvPr/>
        </p:nvSpPr>
        <p:spPr>
          <a:xfrm>
            <a:off x="3348000" y="1341360"/>
            <a:ext cx="53546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укопашный бой — это бой с применением невидимого оружия, котор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бнаружи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его не применили,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льзя отобр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ка человек жи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а учит жизни через знание и предвидение, учит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ак не попадать в критические ситуаци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учит умению управлять внешними силами при попадании в критические ситуации, а не сопротивляться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азвивать и совершенствовать резервы тела и сознания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абот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соответствии со своими функциональными возможностями в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анное время и в данном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498600" y="53006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А. А. Кадоч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75920" y="189000"/>
            <a:ext cx="82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истема выживания человека в экстремальны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8" descr="Кадочников Алексей Алексеевич (Aleksey A. Kadochnikov)"/>
          <p:cNvPicPr/>
          <p:nvPr/>
        </p:nvPicPr>
        <p:blipFill>
          <a:blip r:embed="rId3"/>
          <a:stretch/>
        </p:blipFill>
        <p:spPr>
          <a:xfrm>
            <a:off x="684360" y="1341360"/>
            <a:ext cx="2544480" cy="36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6" name="Rectangle 9"/>
          <p:cNvSpPr/>
          <p:nvPr/>
        </p:nvSpPr>
        <p:spPr>
          <a:xfrm>
            <a:off x="3492360" y="1197000"/>
            <a:ext cx="521028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— человек дисциплинированный, обладающий чувством ответственности, умеющий мгновенно анализировать сложные ситуации боя, молниеносн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ринимающий единственно правильное реше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и, не последнее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иртуозно владеющий своим те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стоящий рукопашник проявляет себя тогда, когда надо не просто действовать, а действовать правильно,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аилучшим образом в непредсказуемой обстановк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гда нет времени задуматься и нельзя ошиби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сновная задача всякого живого организма (индивида) – собств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ыжи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Обеспечение данной задачи возможно с помощ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адаптивного приспособительного повед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возможностью выполнения функций, необходимых для удовлетворения внешних и внутренних потребностей организм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но определить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еремещение в среде и взаимодейств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 её объектам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ля достижения каких-либо целе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се существующие сложные системы организма необходимы человеку для обеспечения возможности в данном месте и времен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существля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двигательные акт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 algn="just">
              <a:lnSpc>
                <a:spcPct val="8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результат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возможности перемещ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в пространстве (двигательной депривации) организм самостоятельно выжить не в состояни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Индивид  может реализовывать функции по освоению пространства только обладая возможностью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хранения собственного двигательного равновесия.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Морфологическим субстратом равновесия являетс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естибулярный аппарат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ый находится в тесном взаимодействии со зрительной и двигательной систем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just">
              <a:lnSpc>
                <a:spcPct val="100000"/>
              </a:lnSpc>
              <a:buClr>
                <a:srgbClr val="000000"/>
              </a:buClr>
              <a:buFont typeface="Perpetu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еразвитость вестибулярного аппарата формируе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сихомоторную и умственную ригид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т.е. невозможность выйти за рамки шаблона, что в экстремальных условиях обрушения тела и психики  оставляет минимальные шансы на выжива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сновная роль движения 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в жизни челове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64072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ресс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– ответная реакция организма на экстремальное воздействие, нарушающая физическое и психологическое равновесие человека. Стресс – это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теря равновес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(точки опоры), вызывающа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неадекватное реагировани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на внешние и внутренние стимулы, не позволяющее достигать эффективного жизнеобеспеч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рганиз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охранение равновесия позволяет обеспечива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амодостаточ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езависимость от внешних объектов, людей, их мнений, эмоциональных состояний, оценок и т.д. и использовать их исключительно в целях собственных ориентировочных реакций, принимая решения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 реальном времени «здесь и сейчас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erpetu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ледовательно, равновесной системой становится невозможно управлять и манипулировать извн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можно тольк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действова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 н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395280" y="620640"/>
            <a:ext cx="8431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290680" y="-2151000"/>
            <a:ext cx="4562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39640" y="242100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ыполнение правила </a:t>
            </a:r>
            <a:r>
              <a:rPr b="1" i="1" lang="ru-RU" sz="2800" spc="-1" strike="noStrike">
                <a:solidFill>
                  <a:srgbClr val="ff3300"/>
                </a:solidFill>
                <a:latin typeface="Perpetua"/>
              </a:rPr>
              <a:t>"адекватного поведения"</a:t>
            </a: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всегда служило допуском человека к сосуществованию со сре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518680" cy="5329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Каждый должен использовать любой шанс, чтобы выж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Главный постулат выживания - обязанность, возможность и необходимость сохранения своего здоровья, своих сил, своей жизни для решения более значимых задач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еобходимо обрести понимание о себе, об окружающем мире и месте в нем челове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Научиться выбирать линию персонального поведения в сложных человеческих взаимоотношениях, а также взаимодействиях в современном технологическом обществе, направленную на избавление от стрессо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aramond"/>
              </a:rPr>
              <a:t>Всякому человеку нужно жить, сохраняя себя как личность, приумножая это в друг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Безопасность жизнедеятельности человека: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Петр Францевич Лесгафт"/>
          <p:cNvPicPr/>
          <p:nvPr/>
        </p:nvPicPr>
        <p:blipFill>
          <a:blip r:embed="rId3"/>
          <a:stretch/>
        </p:blipFill>
        <p:spPr>
          <a:xfrm>
            <a:off x="324000" y="1125360"/>
            <a:ext cx="2763720" cy="352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3" name="Rectangle 7"/>
          <p:cNvSpPr/>
          <p:nvPr/>
        </p:nvSpPr>
        <p:spPr>
          <a:xfrm>
            <a:off x="3348000" y="836640"/>
            <a:ext cx="54054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олько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гармонично развитый человек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способен во всех областях жизни на оптимальную производительность с наиболее экономичным использованием энергии и в наиболее короткий с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Гармоничное развитие основывается на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единстве физических и духовных си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человека и происходит при ведущей роли созн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Системы физического воспитания подчинены закономерностям физиологии. Параллельно с развитием физиологии постоянно нужно пересматривать и </a:t>
            </a:r>
            <a:r>
              <a:rPr b="1" lang="ru-RU" sz="1800" spc="-1" strike="noStrike">
                <a:solidFill>
                  <a:srgbClr val="ff3300"/>
                </a:solidFill>
                <a:latin typeface="Perpetua"/>
              </a:rPr>
              <a:t>развивать физические упражнения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ladimir Script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70240" y="50133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Ф. Лесг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92360" y="189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сновы педагогической 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96600" y="5229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И. М. Сече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76360" y="549360"/>
            <a:ext cx="5616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Жизненные потребности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родят хотения, и уже эти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дут за собой действия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: хотение будет мотивом или целью, а движение – действием или средством достижения цели. Без хотения как мотива или импульса движение было бы вообще бессмысленно…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«Все бесконечное разнообразие внешних проявлений мозговой деятельности сводится окончательно лишь к одному явлению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мышечному движению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. Смеется ли ребенок при виде игрушки, улыбается ли Гарибальди, когда его гонят за излишнюю любовь к родине, дрожит ли девушка при первой мысли о любви, создает ли Ньютон мировые законы и пишет их на бумаге - </a:t>
            </a:r>
            <a:r>
              <a:rPr b="1" i="1" lang="ru-RU" sz="1800" spc="-1" strike="noStrike">
                <a:solidFill>
                  <a:srgbClr val="ff3300"/>
                </a:solidFill>
                <a:latin typeface="Perpetua"/>
              </a:rPr>
              <a:t>везде окончательным фактом является мышечное движение</a:t>
            </a:r>
            <a:r>
              <a:rPr b="1" i="1" lang="ru-RU" sz="1800" spc="-1" strike="noStrike">
                <a:solidFill>
                  <a:srgbClr val="000000"/>
                </a:solidFill>
                <a:latin typeface="Perpetua"/>
              </a:rPr>
              <a:t>…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9" descr="secheno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836640"/>
            <a:ext cx="286380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564000" y="1170000"/>
            <a:ext cx="511344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«Исследование особен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психомоторного развития человека представляет особый интерес в связи с тем, что практически в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моторной организации человека,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в его поведении, деятельности, речи отражается </a:t>
            </a:r>
            <a:r>
              <a:rPr b="1" i="1" lang="ru-RU" sz="2000" spc="-1" strike="noStrike">
                <a:solidFill>
                  <a:srgbClr val="ff3300"/>
                </a:solidFill>
                <a:latin typeface="Perpetua"/>
              </a:rPr>
              <a:t>вся целостная характеристика его</a:t>
            </a: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и как индивида, и как личности, и как субъекта при всей неповторимой индивидуальности человека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074960" y="530064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Ро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2646360" cy="403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24360" y="90792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Н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тимул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реагиру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тела мертвой приро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Или живой, но после того, как стали мертвы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Тела мертвой природы отвечают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акциями на прошлые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о отношению к реакциям события – внешние воздейств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Живой организ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отражает мир опережающее: его активность в данный момент – не ответ на прошлое событ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одготовка и обеспечение будущего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Ключевое свойство живых систем –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поддерживаемая собственной активностью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«Живое»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движение не реакция, а акция, не ответ на внешнее раздражение, а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решение задачи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40328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Физиология движений и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04000" y="515772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Н. А. Бернште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24360" y="1052640"/>
            <a:ext cx="4757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«Живое» движение - это не только и не столько перемещение тела в пространстве и времени, сколько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 овладение пространством и времене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Чтобы стать управляемым, движение должно быть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щущаемым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В функциональную структуру действия входят два когнитивных компонента: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план-программа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предстоящего действия и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контроль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реализующийся после плана-программы  и завершающий движен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Просмотреть картинку полностью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052640"/>
            <a:ext cx="2760840" cy="37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47640" y="764640"/>
            <a:ext cx="554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Поведение может быть охарактеризовано как континуум результатов, а поведенческий акт рассмотрен как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отрезок поведенческого континуума от одного результата до другого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Результат внешнего поведения индивида  - это определенное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оотношение организма и внешней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среды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которое прекращает действие, направленное на его достижение, и делает возможной реализацию следующего поведенческого ак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Функциональной системой называют такой комплекс  избирательно вовлеченных компонентов, у которых взаимодействие и взаимоотношение приобретают характер </a:t>
            </a:r>
            <a:r>
              <a:rPr b="1" lang="ru-RU" sz="1800" spc="-1" strike="noStrike">
                <a:solidFill>
                  <a:srgbClr val="cc3300"/>
                </a:solidFill>
                <a:latin typeface="Perpetua"/>
              </a:rPr>
              <a:t>взаимоСОдействия компонентов</a:t>
            </a:r>
            <a:r>
              <a:rPr b="1" lang="ru-RU" sz="1800" spc="-1" strike="noStrike">
                <a:solidFill>
                  <a:srgbClr val="000000"/>
                </a:solidFill>
                <a:latin typeface="Perpetua"/>
              </a:rPr>
              <a:t>, направленного на получение полезного результата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6" descr="biograf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692360" y="260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Теория функциональных систем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14240" y="50846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rush Script Std"/>
              </a:rPr>
              <a:t>П. К. Анох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563640" y="1025280"/>
            <a:ext cx="5257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Всю деятельность системы и ее всевозможные изменения можно представить целиком в терминах </a:t>
            </a:r>
            <a:r>
              <a:rPr b="1" lang="ru-RU" sz="2000" spc="-1" strike="noStrike">
                <a:solidFill>
                  <a:srgbClr val="cc3300"/>
                </a:solidFill>
                <a:latin typeface="Perpetua"/>
              </a:rPr>
              <a:t>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ой результат должен быть получен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огда именно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ими механизмами должен быть получен результат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Как система убеждается в достаточности полученного результата?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6" descr="biograf19"/>
          <p:cNvPicPr/>
          <p:nvPr/>
        </p:nvPicPr>
        <p:blipFill>
          <a:blip r:embed="rId2"/>
          <a:stretch/>
        </p:blipFill>
        <p:spPr>
          <a:xfrm>
            <a:off x="395280" y="1341360"/>
            <a:ext cx="2808360" cy="34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22:23:56Z</dcterms:created>
  <dc:creator>Serguey</dc:creator>
  <dc:description/>
  <dc:language>en-US</dc:language>
  <cp:lastModifiedBy>Николай</cp:lastModifiedBy>
  <dcterms:modified xsi:type="dcterms:W3CDTF">2013-07-01T09:46:45Z</dcterms:modified>
  <cp:revision>155</cp:revision>
  <dc:subject/>
  <dc:title>Роль движений в жизни человека</dc:title>
</cp:coreProperties>
</file>