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31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voltage.wav" ContentType="audio/x-wav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5A55-53A1-4FC4-97FE-089863AC3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29FA-3D09-4D8D-A006-B1658916A9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153-460F-4346-8027-C2079A02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4EA-6B53-4323-BB45-4B535EE5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0A9-A186-4F1C-8BFF-C7706E0D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422-CF35-4A0D-8DC7-0F077CAA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6BDC-DD40-41B5-A2AA-B23A2EFA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91BD-7A38-4E9E-B52D-F51C6E1C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206D-396F-4AE7-B9D2-2D77C25F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0147-C57F-4B95-87DC-96ED062C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ABA2-B617-4AD1-936C-988C01A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34EA-A42F-4FEF-ABCB-085A7A06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8642-5776-4305-9288-44C21DE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DA2-A0BD-44E8-9C0B-6B5C62A5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6732-5A32-4095-8B71-AFBB8B5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C42D-0321-4B09-B2DF-C7BDDEC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F14A-7B2C-4B44-8278-382CE4E3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4E4B-1DC1-4654-B924-1F105CDD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00E-08CE-4859-951E-83F97FC1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385AB-8778-42EC-9681-324AD8B1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4B318-13A3-49B6-BB24-186AEAA3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6F1E8-5B31-4B78-A598-95E5C1B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19CC1-08B0-480E-BAF4-DF7D5069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3D433-AEBE-44D3-B2F4-223D997B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D18-5768-4737-9504-132F41AE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399BE-E580-4A84-9BFB-4178D1DE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628AF-BAA4-4028-819D-5DBEDD9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C690D-10E2-4486-A3B9-EFF4A322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F2780-37BC-42C8-8615-DD720645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B6E14-53FB-4C5A-8E63-0BBD5C53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96A98-6597-4CF5-ADF8-1EED4C2F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FEB54-5261-4CC7-9264-BBDDECD1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0EB7F-D366-4BF5-88EE-B92D1894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C5024-7E10-4B75-AD91-F7A2B14B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03704-315B-4447-ADBA-62FCFDBB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0C4-1657-45C7-806E-88361665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FDA73-DF03-4BC4-841D-514B36D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E24D7-5074-498C-9A31-E0151BC6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C48F3-4D62-4EC8-8445-9D3E28B3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DB648-ECC8-4EB6-92A2-B418E79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F8FB8-C820-450B-86E3-B85D1B07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96D9B-AC08-4195-908E-FA9742BE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4E466-19A6-4B83-9431-87082AC9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5D286-40CD-47DD-8580-E88CF4BD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9B6EE-0EC4-4120-B568-3D5C3F34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DCE2B-84D7-48B6-A54D-1633FD8B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289-B837-4EA4-B5B9-E489C331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5A9A3-F500-4D8D-BBC8-1F1CB053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EF7E1-81B3-4A14-AE93-F6408162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06CBD-167F-4835-9764-68EEA244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27593-BC86-4881-972C-7D042A58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0B674-BBC3-4569-ADB1-E7BB58B0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B06C9-B579-44D0-8934-EBDD57F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3A3BC-AD88-4881-B2FB-87705D14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45EA7-2974-4591-8520-E9CA46CA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AF40C-366A-4AD2-8561-633EB76D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625F8-5613-4885-99E5-856E9EA1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4FB-D7B0-437C-926A-0166EEEF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D8E20-5D8F-44CE-B9F4-3348C903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E6100-662E-4F00-ABCC-60C1464E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4E8A-C30F-4338-B9BB-86899331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C485-3CB1-46E9-B20F-F2C4961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F1A1F-0121-41E3-B330-70249197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BD562-B45F-44D5-878B-328630B7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657E-333D-46B6-A800-2068CB2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431BD-9003-4219-B4DF-960C290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7F02C-35AA-4ABB-BF9A-ADB8701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8831-7C89-4541-BC21-E15CC32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A74-3BB4-4C3D-94DE-6D09900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BD1F-EBDF-4080-A8A8-AC6C8230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0C33F-0E21-4ABD-84A9-60EDF3F1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52C9B-3146-4B9A-A4C2-0A8604C5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E81B6-D135-40C7-865B-A09F1CD6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E7CB7-B51A-46C4-B38D-0D12A250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38448-0414-4774-86DB-F0AC106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D56774-AA1E-4711-AC7F-B9925275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4E8C2-9255-48C8-AEAC-D6276024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0A733-58A9-4CD7-80DC-4643A0CC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452F6-3C3A-4869-8E8C-FC7A2A6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6D5-88B8-4CC8-8CD5-E35D49E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AA04A-77EA-45F2-BD03-83AC6C2D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B2381-389B-4703-B811-EF3FD01A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A0089-4247-47D6-8480-798A83A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A7A68-90B6-44A6-9A6A-68EFC622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DF649-6E8E-4709-8BF6-FC0D55BE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88F75-EA16-4A3B-A0DB-3BEB8C11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A2D3F-4BA2-4229-A6E2-A9969AC8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2063-D2DF-48F3-BB37-2DE602AF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EB249-D97E-4AB0-AD20-E773BADF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15F64-CA3B-4B49-B047-A4C9B04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384-BCCF-4C02-A8D1-91B353F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551F1-EF05-4E4E-9A16-629D4E23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D105C-F713-4FCC-A8B8-F5CE2E1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2508-788B-4E38-8D30-E600AF0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D5A77-B68B-4ADA-8A56-D7CFBCF4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7E15D-7C76-4ED4-8CB1-C4BEAC92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6B81-E7D2-472C-848D-9AC70BB4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19B60-BD04-4163-9CA5-1C647552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587-D22B-4B43-8D44-2B2E9D80600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2203-E1CC-45E7-8061-5CBAE7F97DF8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F6B0-E7A1-48E4-A613-9280B4F79E59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3D9E-DD62-4BB8-9C66-2076F92552E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8994-0988-40B9-A833-4A1F74D62D5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87EA-7958-47A8-B567-04705E3D75AC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E981-921C-40B5-ABA4-9B5F091E1A1F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B3F0-AFEA-49F4-B3D0-E10E285D193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865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ЯВЛЕНИЕ ЭКСТРЕМИЗМА В МОЛОДЕЖНОЙ СРЕДЕ: ФАНАТ, СПОРТИВНЫЙ БОЛЕЛЬЩИК, ЭКСТРЕМИСТ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560" y="3429000"/>
            <a:ext cx="381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Цель проведения – профилактика экстремизма и всех его проявлений в молодежной среде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9" name="Picture 2" descr="C:\Users\Таня\Pictures\a2bbf7e30aad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52720" cy="3164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2859120" y="602136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Классный руководитель 10В класса ГБОУ СОШ №6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Макарова Татьян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" descr="C:\Users\Таня\Pictures\5bbdd724-3d89-487c-ac07-0895d6079054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484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413000"/>
            <a:ext cx="8153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насильственное изменение основ конституционного строя и    нарушение целостности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дрыв безопасности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захват или присвоение властных полномоч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незаконных вооруженных формиров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ение террористической деятельности либо публичное  оправдание террориз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озбуждение расовой, национальной или религиозной розни, а  также социальной розни,  связанной с насилием или призывами к  насил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нижение национального достоинств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C:\Users\Таня\Pictures\imagesCAGTAAP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5736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силия в отношении представителя государственной власти либо на угрозу применения насилия в отношении представителя государственной власти или его близких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нарушение прав и свобод человека и гражданина, причинение  вреда здоровью и имуществу граждан в связи с их убеждениями, расовой или национальной принадлежностью, вероисповеданием, социальной принадлежностью или социальным происхождением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создание и (или) распространение печатных, аудио-аудиовизуальных и иных материалов (произведений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сягательство на жизнь государственного или общественного деятеля, совершенное в целях прекращения его государственной или иной политической деятельности либо из мести за такую деятельность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C:\Users\Таня\Pictures\imagesCAUHHEKP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57360"/>
            <a:ext cx="9036000" cy="51847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1280" y="1484280"/>
            <a:ext cx="815328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паганда и публичное демонстрирование нацистской  атрибутики или символики либо атрибутики или символики,  сходных с нацистской атрибутикой или символикой до степени  смеш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убличные призывы к осуществлению указанной деятельности, а также публичные призывы и выступления, побуждающие к осуществлению указанной деятельности, обосновывающие либо оправдывающие совершение деяний, указанных в настоящей статье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инансирование указанной деятельности либо иное содействие в планировании, организации, подготовке и совершении указанных действий, в том числе путем предоставления для осуществления указанной деятельности финансовых средств, недвижимости, учебной, полиграфической и материально-технической базы, телефонной, факсимильной и иных видов связи, информационных услуг, иных материально-технических средств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кинхеды, как носители идей национализма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348000" y="1600200"/>
            <a:ext cx="541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инхедами или «скинами» называют участников относительно нового неформального молодежного движения, возникшего в Англии, Европе и Америке во второй половине 20 века. Слово «скинхед» произошло от слияния двух английских слов skin (кожа) и head (голова) и в буквальном переводе означает «кожаная голова»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C:\Users\Таня\Pictures\skinxedy1.jpg"/>
          <p:cNvPicPr/>
          <p:nvPr/>
        </p:nvPicPr>
        <p:blipFill>
          <a:blip r:embed="rId1"/>
          <a:stretch/>
        </p:blipFill>
        <p:spPr>
          <a:xfrm>
            <a:off x="179280" y="1557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Таня\Pictures\untitled1.png"/>
          <p:cNvPicPr/>
          <p:nvPr/>
        </p:nvPicPr>
        <p:blipFill>
          <a:blip r:embed="rId2"/>
          <a:stretch/>
        </p:blipFill>
        <p:spPr>
          <a:xfrm>
            <a:off x="179280" y="4724280"/>
            <a:ext cx="3024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ая идея движения: </a:t>
            </a: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борьба за «чистоту» русской расы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48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C:\Users\Таня\Pictures\5.jpg"/>
          <p:cNvPicPr/>
          <p:nvPr/>
        </p:nvPicPr>
        <p:blipFill>
          <a:blip r:embed="rId1"/>
          <a:stretch/>
        </p:blipFill>
        <p:spPr>
          <a:xfrm>
            <a:off x="755640" y="1263600"/>
            <a:ext cx="7027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C:\Users\Таня\Pictures\imagesCAVTKVBJ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Основные методы работ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гитация, распространение листовок (обычно с расистскими призывами), различные акты вандализма (рисунки свастики на видных местах, и др.), нападения на иностранцев, лиц кавказской национальности, избиения граждан СНГ, общеуголовные преступления: нанесение изображений экстремистского характера, в том числе, свастики, хулиганство, распитие спиртных напитков, участие в столкновениях с футбольными фанат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тличительные признаки: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599840"/>
            <a:ext cx="5472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ритая голова (или короткая стрижка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муфляжная форма, куртки «бомберы» (черного цвета, внутри оранжевые), толстовки с капюшоном («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Lonsdale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»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ногах - «берцы», «гриндерсы», закатанные джинс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личие татуировок (обычно, свастика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они имеют в данной среде прозвища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2" descr="C:\Users\Таня\Pictures\22718.jpg"/>
          <p:cNvPicPr/>
          <p:nvPr/>
        </p:nvPicPr>
        <p:blipFill>
          <a:blip r:embed="rId1"/>
          <a:stretch/>
        </p:blipFill>
        <p:spPr>
          <a:xfrm>
            <a:off x="6415200" y="189000"/>
            <a:ext cx="2581200" cy="180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Таня\Pictures\7863.jpg"/>
          <p:cNvPicPr/>
          <p:nvPr/>
        </p:nvPicPr>
        <p:blipFill>
          <a:blip r:embed="rId2"/>
          <a:stretch/>
        </p:blipFill>
        <p:spPr>
          <a:xfrm>
            <a:off x="6084720" y="458136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Users\Таня\Pictures\im3_5_8_lrg.jpg"/>
          <p:cNvPicPr/>
          <p:nvPr/>
        </p:nvPicPr>
        <p:blipFill>
          <a:blip r:embed="rId3"/>
          <a:stretch/>
        </p:blipFill>
        <p:spPr>
          <a:xfrm>
            <a:off x="6516720" y="2060640"/>
            <a:ext cx="24811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ей идеей для них являетс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000" y="1599840"/>
            <a:ext cx="82976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неприятие инородцев, доходящее до ненависти. Здесь в полной мере проявляется открытое противостояние лицам иных рас и национальност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насилия, запугивание мирных граждан и даже представителей власти, организация погромов, терактов и убийств – эти действия направлены против всех «чужаков» одновременно Собирательный образ врага для скинов – «бремя белого человек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C:\Users\Таня\Pictures\db0a444d5e8d4b3dc47b89e272af5c86.jpg"/>
          <p:cNvPicPr/>
          <p:nvPr/>
        </p:nvPicPr>
        <p:blipFill>
          <a:blip r:embed="rId1"/>
          <a:stretch/>
        </p:blipFill>
        <p:spPr>
          <a:xfrm>
            <a:off x="2556000" y="4241880"/>
            <a:ext cx="3924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68000" y="404280"/>
            <a:ext cx="5111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на территории России действуют свыше 35 крупных скин - группировок, которые отличаются установленными правилами поведения и жесткой дисциплин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м регионе активно действует 23 наиболее агрессивные группы, общей численностью достигающие более 3000 участнико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 – около 9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троме группировки носят разрозненный характер, общая численность - около 40 челове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Таня\Pictures\picture.jpg"/>
          <p:cNvPicPr/>
          <p:nvPr/>
        </p:nvPicPr>
        <p:blipFill>
          <a:blip r:embed="rId1"/>
          <a:stretch/>
        </p:blipFill>
        <p:spPr>
          <a:xfrm>
            <a:off x="5796000" y="333360"/>
            <a:ext cx="3108240" cy="21589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5724360" y="2565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Скинхеды. Факельное шествие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C:\Users\Таня\Pictures\watermark.jpg"/>
          <p:cNvPicPr/>
          <p:nvPr/>
        </p:nvPicPr>
        <p:blipFill>
          <a:blip r:embed="rId2"/>
          <a:stretch/>
        </p:blipFill>
        <p:spPr>
          <a:xfrm>
            <a:off x="5651640" y="3357720"/>
            <a:ext cx="3333600" cy="21430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7"/>
          <p:cNvSpPr/>
          <p:nvPr/>
        </p:nvSpPr>
        <p:spPr>
          <a:xfrm>
            <a:off x="5651640" y="5589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В Костроме скинхеды напали на неформ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ве в настоящее время действуют группировки: - «Скинлегион» - «Русский филиал B&amp;H» (Blood&amp;Honor – запрещенная в Германии нацистская организация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Объединенные бригады-88» (8 – порядковый номер буквы h в латинском алфавите, и 88 означает начальные буквы приветствия «Хайль Гитлер!»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тромской области активисты скин-группировок неоднократно привлекались к уголовной и административной ответственности в связи с осуществлением деятельности экстремистской направлен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астоящем времени скин-сообщества существуют приблизительно в 85 городах.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C:\Users\Таня\Pictures\7ce9f237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экстремизм - это приверженность крайним взглядам и мерам.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кты насилия относятся к категории экстремистских, если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) они не только используются в качестве прямого способа достижения политических, идеологических и социальных целей, но и являются инструментом публичности и устрашения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б) они направлены на то, чтобы причинить вред не непосредственному противнику, а другим людя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На территории РФ действует ряд молодёжных организаций, в отдельных акциях которых усматриваются признаки экстремистской деятельности.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ангард красной молодежи (АК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естное гражданское движение «Оборон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Идущие без Путин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лодежная общественная организация «Пор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есоюзная Молодая Гвардия Большевиков (ВМГБ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КСМ (большевики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олодежный левый фронт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оссийская ассоциация профсоюзных организаций студентов (РАПОС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«Евразийский Союз Молодежи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«Социалистическое сопротивление за рабочий интернационал» (СС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Союз коммунистической молодежи (СК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Центр общественных инициатив «УРА!» (Утро-Родина-Атак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оюз молодежи «За Родину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оссийская демократическая партия «Наш выбор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Независимая ассоциация студентов «Я думаю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Молодежное правозащитное движ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75f55"/>
                </a:solidFill>
                <a:latin typeface="Calibri"/>
              </a:rPr>
              <a:t>Праворадикальные (националистические) </a:t>
            </a:r>
            <a:br>
              <a:rPr sz="2900"/>
            </a:br>
            <a:r>
              <a:rPr b="1" lang="ru-RU" sz="2900" spc="-1" strike="noStrike">
                <a:solidFill>
                  <a:srgbClr val="775f55"/>
                </a:solidFill>
                <a:latin typeface="Calibri"/>
              </a:rPr>
              <a:t>молодежные организации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одная национальная партия (НН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циональное единство (Р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ение против нелегальной иммиграции (ДП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авянский сою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одно-державная партия Росси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619280" y="4797360"/>
          <a:ext cx="267660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797360"/>
                    <a:ext cx="2676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7"/>
          <p:cNvGraphicFramePr/>
          <p:nvPr/>
        </p:nvGraphicFramePr>
        <p:xfrm>
          <a:off x="6084720" y="4869000"/>
          <a:ext cx="1857600" cy="18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869000"/>
                    <a:ext cx="18576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1" name="Picture 6" descr="C:\Users\Таня\Pictures\imagesCA0B1TSH.jpg"/>
          <p:cNvPicPr/>
          <p:nvPr/>
        </p:nvPicPr>
        <p:blipFill>
          <a:blip r:embed="rId5"/>
          <a:stretch/>
        </p:blipFill>
        <p:spPr>
          <a:xfrm>
            <a:off x="250920" y="494172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C:\Users\Таня\Pictures\imagesCACDPTAG.jpg"/>
          <p:cNvPicPr/>
          <p:nvPr/>
        </p:nvPicPr>
        <p:blipFill>
          <a:blip r:embed="rId6"/>
          <a:stretch/>
        </p:blipFill>
        <p:spPr>
          <a:xfrm>
            <a:off x="3851280" y="486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7" name="voltage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059280" y="2209320"/>
            <a:ext cx="562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ой признак этих культов – все сатанистские и демонические вероучения считают, что объект их поклонения является в мире основной причиной зла и смерти. Адепты откровенных сатанистских сект поклоняются и служат злу и, что особенно для них характерно, ненавидят православие, негативно относятся ко всем культурообразующим традиционным религия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иверженцы сатанистских и</a:t>
            </a:r>
            <a:br>
              <a:rPr sz="3200"/>
            </a:b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демонических культов.</a:t>
            </a:r>
            <a:br>
              <a:rPr sz="25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5" name="Picture 2" descr="http://ateismy.net/content/images/satanist.jpg"/>
          <p:cNvPicPr/>
          <p:nvPr/>
        </p:nvPicPr>
        <p:blipFill>
          <a:blip r:embed="rId1"/>
          <a:stretch/>
        </p:blipFill>
        <p:spPr>
          <a:xfrm>
            <a:off x="250920" y="1557360"/>
            <a:ext cx="23763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5003280" y="1600200"/>
            <a:ext cx="3762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ви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ные длинные волосы, большая крашеная чёлка, различного рода металлические украшения, неформальная одежда. Депрессия, самоуничтожение, протест против взрослых. Выражается протест в суицидальном поведении. Авторитет имеют те представители ЭМО, которые имели большее количество попыток суиц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культура ЭМ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8" name="Picture 2" descr="C:\Users\Таня\Pictures\0001-001-Emo.jpg"/>
          <p:cNvPicPr/>
          <p:nvPr/>
        </p:nvPicPr>
        <p:blipFill>
          <a:blip r:embed="rId1"/>
          <a:stretch/>
        </p:blipFill>
        <p:spPr>
          <a:xfrm>
            <a:off x="0" y="1628640"/>
            <a:ext cx="5292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Национал-большевистская партия (НБП)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0" name="Picture 1" descr="C:\Users\Таня\Pictures\imagesCA9FWVYS.jpg"/>
          <p:cNvPicPr/>
          <p:nvPr/>
        </p:nvPicPr>
        <p:blipFill>
          <a:blip r:embed="rId1"/>
          <a:stretch/>
        </p:blipFill>
        <p:spPr>
          <a:xfrm>
            <a:off x="468360" y="1773360"/>
            <a:ext cx="2581200" cy="25192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4"/>
          <p:cNvSpPr/>
          <p:nvPr/>
        </p:nvSpPr>
        <p:spPr>
          <a:xfrm>
            <a:off x="3995640" y="1484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личительный знак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ерп и молот в белом круге на красном фон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щность идеологи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«Испепеляющая ненависть к античеловеческой системе троицы: либерализма, демократии, капитализма. Человек восстания, национал-большевик видит свою миссию в разрушении системы до основания. На идеалах духовной мужественности, социальной и национальной справедливости будет построено традиционалистическое, иерархическое общество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 методы действий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пространение листовок, агитация населения, выезды в Москву для участия в массовых акция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Таня\Pictures\imagesCAGSUMAB.jpg"/>
          <p:cNvPicPr/>
          <p:nvPr/>
        </p:nvPicPr>
        <p:blipFill>
          <a:blip r:embed="rId2"/>
          <a:stretch/>
        </p:blipFill>
        <p:spPr>
          <a:xfrm>
            <a:off x="7380360" y="18900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C:\Users\Таня\Pictures\imagesCALL627X.jpg"/>
          <p:cNvPicPr/>
          <p:nvPr/>
        </p:nvPicPr>
        <p:blipFill>
          <a:blip r:embed="rId3"/>
          <a:stretch/>
        </p:blipFill>
        <p:spPr>
          <a:xfrm>
            <a:off x="468360" y="450864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32000" y="228600"/>
            <a:ext cx="743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ВМЕСТЕ ПРОТИВ ЭКСТРЕМИЗМ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5" name="Picture 2" descr="C:\Users\Таня\Pictures\ea8a8d791ced870ab2b952be20148615.jpg"/>
          <p:cNvPicPr/>
          <p:nvPr/>
        </p:nvPicPr>
        <p:blipFill>
          <a:blip r:embed="rId1"/>
          <a:stretch/>
        </p:blipFill>
        <p:spPr>
          <a:xfrm>
            <a:off x="5940360" y="4508640"/>
            <a:ext cx="2764080" cy="20746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468360" y="177336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роризм и экстремиз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 молодеж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лодеж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 терроризма и экстремизма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" descr="C:\Users\Таня\Pictures\untitled 2.png"/>
          <p:cNvPicPr/>
          <p:nvPr/>
        </p:nvPicPr>
        <p:blipFill>
          <a:blip r:embed="rId2"/>
          <a:stretch/>
        </p:blipFill>
        <p:spPr>
          <a:xfrm>
            <a:off x="755640" y="4508640"/>
            <a:ext cx="4824360" cy="2089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Users\Таня\Pictures\%20jlfjym%20wxbpcucrihl_%20zomxpvhk_%20001%20j25bthumbnail.jpg"/>
          <p:cNvPicPr/>
          <p:nvPr/>
        </p:nvPicPr>
        <p:blipFill>
          <a:blip r:embed="rId3"/>
          <a:stretch/>
        </p:blipFill>
        <p:spPr>
          <a:xfrm>
            <a:off x="6227640" y="1628640"/>
            <a:ext cx="2797200" cy="1871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C:\Users\Таня\Pictures\ekstr.jpg"/>
          <p:cNvPicPr/>
          <p:nvPr/>
        </p:nvPicPr>
        <p:blipFill>
          <a:blip r:embed="rId4"/>
          <a:stretch/>
        </p:blipFill>
        <p:spPr>
          <a:xfrm>
            <a:off x="179280" y="189000"/>
            <a:ext cx="10796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scienceport.ru/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www.dissers.ru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bugabooks.com/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newparlament.ru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ru.wikipedia.org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nnov.ruy.ru/news.html?did=171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gisap.eu/ru/node/398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Понимание культуры и традиций другой национальной группы - источник конструктивного межнационального сотрудничества.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целью налаживания отношений между разными этническими и национальными группа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относитесь к чужой культуре с тем же уважением с которым относитесь к собствен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не судите о ценностях, убеждениях и традициях других культ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талкиваясь от собственных це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никогда не исходите из превосходства своей религии над чужой религ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Общаясь с представителями других верований старайтесь понимать и уважать их точку з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Помните, что каждая культура какой бы малой она не была, имеет что предложить миру, но нет такой культуры которая бы имела монополию на все аспе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Всегда помните, что ни какие научные данные не доказывают превосходство одной этнической группы над дру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79280" y="2997000"/>
            <a:ext cx="3818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ационального превосходства также рассматривается как фактор, способствующий всплескам агрессии и экстремизма, наряду с тремя культурными предпосылками, ведущими к развитию агрессии против других нац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40000" y="3068640"/>
            <a:ext cx="4679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озникновение идеологии антагонизма, вызванное изначальным разделением «своя», «чужая» группа, что затем приводит к тому, что внешней группе приписываются крайне негативные, часто основанные на стереотипных представлениях чер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деология национальной безопасности, в которой непрерывная оценка опасности противника и приспособление к ней заменяется безоговорочной целью любой ценой господствовать над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идение мира в свете питаемых войной ценностей, таких как товарищество, преданность национальная гордость или достойная це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1" descr="C:\Users\Таня\Pictures\1292073223_061991_7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2924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Users\Таня\Pictures\17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Меры профилактики экстремизма в молодёжной сред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о ст. 2 Федерального закона от 25.07.2002 г. № 114-ФЗ «О противодействии экстремистской деятельности» противодействие (т.е. пресечение и профилактика) экстремистской деятельности основывается на следующих принцип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нание, соблюдение и защита прав и свобод человека и гражданина, а равно законных интересов организ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о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с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ритет обеспечения безопасности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ритет мер, направленных на предупреждение экстремист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трудничество государства с общественными и религиозными объединениями, иными организациями, гражданами в противодействии экстремист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твратимость наказания за осуществление экстремист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Фанаты Зенита отметили побе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Picture 2" descr="C:\Users\Таня\Pictures\1289946428_zenit_09.jpg"/>
          <p:cNvPicPr/>
          <p:nvPr/>
        </p:nvPicPr>
        <p:blipFill>
          <a:blip r:embed="rId1"/>
          <a:stretch/>
        </p:blipFill>
        <p:spPr>
          <a:xfrm>
            <a:off x="1355760" y="1628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частливые спортивные фанаты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2" descr="C:\Users\Таня\Pictures\1264774439_sport_fun-25.jpg"/>
          <p:cNvPicPr/>
          <p:nvPr/>
        </p:nvPicPr>
        <p:blipFill>
          <a:blip r:embed="rId1"/>
          <a:stretch/>
        </p:blipFill>
        <p:spPr>
          <a:xfrm>
            <a:off x="4716360" y="1484280"/>
            <a:ext cx="4283280" cy="2940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Таня\Pictures\1264774409_sport_fun-8.jpg"/>
          <p:cNvPicPr/>
          <p:nvPr/>
        </p:nvPicPr>
        <p:blipFill>
          <a:blip r:embed="rId2"/>
          <a:stretch/>
        </p:blipFill>
        <p:spPr>
          <a:xfrm>
            <a:off x="0" y="1484280"/>
            <a:ext cx="4643280" cy="2995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C:\Users\Таня\Pictures\spartak_cska__22_05_2005__11__560x420__14886.jpg"/>
          <p:cNvPicPr/>
          <p:nvPr/>
        </p:nvPicPr>
        <p:blipFill>
          <a:blip r:embed="rId3"/>
          <a:stretch/>
        </p:blipFill>
        <p:spPr>
          <a:xfrm>
            <a:off x="0" y="4221000"/>
            <a:ext cx="3203640" cy="2454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C:\Users\Таня\Pictures\TalismL.jpg"/>
          <p:cNvPicPr/>
          <p:nvPr/>
        </p:nvPicPr>
        <p:blipFill>
          <a:blip r:embed="rId4"/>
          <a:stretch/>
        </p:blipFill>
        <p:spPr>
          <a:xfrm>
            <a:off x="5867280" y="4221000"/>
            <a:ext cx="3276720" cy="2497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C:\Users\Таня\Pictures\08f02-(26).jpg"/>
          <p:cNvPicPr/>
          <p:nvPr/>
        </p:nvPicPr>
        <p:blipFill>
          <a:blip r:embed="rId5"/>
          <a:stretch/>
        </p:blipFill>
        <p:spPr>
          <a:xfrm>
            <a:off x="334800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Хоккейные фанаты устроили погром в Ванкувере</a:t>
            </a:r>
            <a:br>
              <a:rPr sz="40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3" descr="C:\Users\Таня\Pictures\vancouvr.jpg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360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Таня\Pictures\vancouvz.jpg"/>
          <p:cNvPicPr/>
          <p:nvPr/>
        </p:nvPicPr>
        <p:blipFill>
          <a:blip r:embed="rId2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В Федеральном законе «О противодействии экстремистской деятельности» даётся следующее определение экстремизма: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1280" y="1484280"/>
            <a:ext cx="8136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экстремистская деятельность: 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) деятельность общественных и религиозных объединений, либо иных организаций, либо редакций средств массовой информации, либо физических лиц по планированию, организации, подготовке и совершению действий, направленных на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9" descr="%d0%a1%d1%82%d0%be%d0%bb%d0%ba%d0%ba%d0%b8%d0%b5%d0%b2"/>
          <p:cNvPicPr/>
          <p:nvPr/>
        </p:nvPicPr>
        <p:blipFill>
          <a:blip r:embed="rId1"/>
          <a:stretch/>
        </p:blipFill>
        <p:spPr>
          <a:xfrm>
            <a:off x="5148360" y="3933720"/>
            <a:ext cx="3755880" cy="2816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C:\Users\Таня\Pictures\11.jpg"/>
          <p:cNvPicPr/>
          <p:nvPr/>
        </p:nvPicPr>
        <p:blipFill>
          <a:blip r:embed="rId2"/>
          <a:stretch/>
        </p:blipFill>
        <p:spPr>
          <a:xfrm>
            <a:off x="900000" y="4292640"/>
            <a:ext cx="35276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5:48:59Z</dcterms:created>
  <dc:creator>Таня</dc:creator>
  <dc:description/>
  <dc:language>en-US</dc:language>
  <cp:lastModifiedBy>Николай</cp:lastModifiedBy>
  <dcterms:modified xsi:type="dcterms:W3CDTF">2013-04-25T08:13:39Z</dcterms:modified>
  <cp:revision>49</cp:revision>
  <dc:subject/>
  <dc:title>Слайд 1</dc:title>
</cp:coreProperties>
</file>