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25.jpeg" ContentType="image/jpeg"/>
  <Override PartName="/ppt/media/image21.png" ContentType="image/pn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28.jpeg" ContentType="image/jpeg"/>
  <Override PartName="/ppt/media/image34.jpeg" ContentType="image/jpeg"/>
  <Override PartName="/ppt/media/image6.jpeg" ContentType="image/jpeg"/>
  <Override PartName="/ppt/media/image33.jpeg" ContentType="image/jpeg"/>
  <Override PartName="/ppt/media/image27.jpeg" ContentType="image/jpeg"/>
  <Override PartName="/ppt/media/image11.jpeg" ContentType="image/jpeg"/>
  <Override PartName="/ppt/media/image9.jpeg" ContentType="image/jpeg"/>
  <Override PartName="/ppt/media/image40.png" ContentType="image/png"/>
  <Override PartName="/ppt/media/image31.png" ContentType="image/png"/>
  <Override PartName="/ppt/media/image7.jpeg" ContentType="image/jpeg"/>
  <Override PartName="/ppt/media/image38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30.png" ContentType="image/png"/>
  <Override PartName="/ppt/media/voltage.wav" ContentType="audio/x-wav"/>
  <Override PartName="/ppt/media/image37.jpeg" ContentType="image/jpeg"/>
  <Override PartName="/ppt/media/image3.jpeg" ContentType="image/jpeg"/>
  <Override PartName="/ppt/media/image24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71F0E-C05D-4978-B2E9-3392622C271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C16D2-DB49-4A96-B39B-E25998FB8DA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23FC0-A8A4-4FB6-86C5-5EBE861E1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BB751-7EC4-495B-9E4B-79CCE2B76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4F297-2C82-448F-A2BC-BDAD10179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0A3E0-0714-496A-9F6E-A0399E2F9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D9A43-D277-4AE7-B900-ADCF865B1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EB4F5-9F79-44AB-8FB7-6DEB5B172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07E52-F736-4D97-AA47-0C3C9FB10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1DDEA-402F-4548-9064-2A7D8BFC9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BF7D6-66B5-4ACF-AB80-86BEBD7F5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0A0A9-8698-4B92-849D-A5F738C61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D1BB6-78CA-4CC5-9A28-33BE83E6F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5C205-FF75-48F5-BCDF-C0014BB30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04EF8-15B9-4B48-B31B-17381BE5C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6F563-232E-4CB6-889C-220D2D794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2041D-B5A2-42F8-9CEE-386B288AD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8974F-ECF7-4F05-B250-35C000EEC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81734-0CDB-47E7-89DA-4B6BA8F3A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DFE1F9B-902E-481C-8599-D3D8E4405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7FF4F61-4A87-4564-9680-4550802D6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A4F0ADD-3117-4DE5-8B96-E29DC6DC4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326E4B1-30AE-4F5E-A14B-A1A73A05F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84FAFA9-F545-4942-9695-1FE41D286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15CD2-6B83-4A77-B669-46B497E24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74E1409-BDA2-4BB8-8C47-629C44699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A03C234-A8FA-4E27-94F0-51666E28D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91D4B3F-1DFD-4F44-A483-699426F6D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AA40BD8-1256-4E22-B5E7-9909E38D3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5B4CDD-6729-4C51-ACEC-5375A606A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81EBF09-469F-4208-96DA-7B87DA49C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80E758E-2307-413C-852F-E3B6AF8C9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53091EB-F8BC-45C4-A688-D3EF510B4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0DFCF5B-BB5B-47CB-A44C-30D748F3F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C81EBD3-34BE-40E1-93B5-2BA6E5369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0BF91-5FED-476B-B175-5575BDAC1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5D8A54B-BFF1-4B2F-B128-29CA4FE8F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5364C73-F271-49E5-87ED-C50D403F8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83B705E-E51B-4C08-84F8-8F5FCAD15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DD991DD-BE5A-46EF-81C5-EA1A505AC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B67E225-DB8D-4776-B4E1-9CEE0E064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B23C242-BC04-499E-9295-A8BED9179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BC0A305-BD47-4803-914B-78657171F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B56D70F-C578-4FB1-8C35-966EF8C03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CFB5F61-5E46-4305-8C9F-C2718801F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B4C65C7-A8C3-478D-80EA-DF9263489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DC9B8-5136-4FC4-A8DB-39D720AAA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818D334-3198-4B35-A491-425E1A9C8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06A6A9B-DACF-412C-B068-C064BAA2D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E667606-458F-4882-8D34-EAE126F23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A21EE41-3139-4152-8737-181E5F85A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CAC5065-9434-4631-AE1C-1CD746E39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10F58C6-408D-4001-9E12-8A3C1E281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92DEC98-D967-48CF-A607-38CFB0338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EE598DF-E4FD-4E1A-8E36-87444E895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2D6CD23-117E-4466-BBB2-3F5EAE76C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A5C8F14-DC2E-4B4A-9DA2-8606DBD6D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34AC2-C2F0-4F2C-BC84-E648A4466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B540EA2-A211-4A48-86F6-364464F58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A124DA-BA78-453E-93FC-3CA33588A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1697D8-C247-48DA-B6CB-BCF4A08D7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D3383C-B591-4616-B440-09E1BDA21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454E2A-EE2D-464A-8A19-BC12928AA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68DD53-56B0-4531-95BB-E8A35AAD1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BE50F0-4307-4C36-972D-8803AD8B2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4CDE49-97DB-4D9E-B59E-2679D81F4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18D761-A30B-4413-B108-D22AFBFB3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4B5C94-243B-48F6-948A-B6B1B4D11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1E0FE-7357-47CD-9F43-6DFDD1134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3BA36E-8641-4444-AD9A-DFA677A8B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6CB5AF-ED68-41FB-A4D6-ED196FE52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11722D-51A2-4226-BCEA-D245662BB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156F465-CFB2-4B66-9EBE-FEFA85FA3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6CE42D9-AC1E-4802-AF65-01F4D6AB7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EEDCF46-36A3-4CD6-B520-E8EB479A7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E72A599-8040-484F-8DB5-CDDD75F7F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4301E33-1D29-4C77-A8F1-73A4A66A9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10EBE05-7955-4ED2-AE50-3CA969CAD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BEE34AD-F86A-4035-831D-C1B01CF7E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84212-4E37-4EAD-A3FB-5642A80D1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F3D2801-D4A3-442A-8C35-2804C6F2B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C01505E-AA41-491B-BA93-8234E9FA5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790387E-A9F5-41B1-9DA5-C4B17CE20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EE70722-4FA4-4F48-AC9A-A17B63280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B2788E0-1EC5-4C5B-BE15-AC9BFBFC8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525BEA-1C6C-49F2-A90F-9F32EC9E1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B53A13-9D6A-4028-9DFE-ADE5CC9F7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9AF2AF-C77A-4DB7-B69C-90AD5C150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A75644-9AD6-4CA5-90D3-5DF5804B5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069FA2-1002-4496-9874-FE56435AE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4D162-F0C4-4CC8-A397-B2EC39881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E93191-8BB7-4ACF-B7FD-7DFD56467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965F4D-ACCD-43AF-9281-6AD56AA1A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5C5802-A59E-4145-848A-F47BF5D92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8F3401-45E8-47C5-948D-B510417EA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ED3B5D-1824-4F7E-8203-FA402E821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7AB7C5-C918-4350-A53F-304FE7AB8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8EAD6C-CCAD-4438-A636-C79675806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E6AAA-4531-4A46-8749-8ACF62424E93}" type="slidenum">
              <a:rPr b="1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ebddc3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BAC4F-F349-45E9-9245-9364A619DC89}" type="slidenum">
              <a:rPr b="1" lang="ru-RU" sz="1400" spc="-1" strike="noStrike">
                <a:solidFill>
                  <a:srgbClr val="ebddc3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Прямоугольник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оугольник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1C839-F017-4C86-8251-023F1733E6BA}" type="slidenum">
              <a:rPr b="1" lang="ru-RU" sz="2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2B5DF-D3DE-4857-8F71-66D97839024F}" type="slidenum">
              <a:rPr b="1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D7599-3A8C-4AA9-8FB1-D10E1ECDDFFF}" type="slidenum">
              <a:rPr b="1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775f55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CE359-D0B2-4C0E-B527-A475C82ADB3E}" type="slidenum">
              <a:rPr b="1" lang="ru-RU" sz="1400" spc="-1" strike="noStrike">
                <a:solidFill>
                  <a:srgbClr val="775f55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Прямоугольник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Прямоугольник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Прямоугольник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Прямоугольник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70C6A-C04A-4E6B-944E-AEA424765378}" type="slidenum">
              <a:rPr b="1" lang="ru-RU" sz="2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Прямоугольник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оугольник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оугольник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087CB-1527-4856-8718-2E22F4BDE001}" type="slidenum">
              <a:rPr b="1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1.png"/><Relationship Id="rId5" Type="http://schemas.openxmlformats.org/officeDocument/2006/relationships/image" Target="../media/image32.jpeg"/><Relationship Id="rId6" Type="http://schemas.openxmlformats.org/officeDocument/2006/relationships/image" Target="../media/image33.jpeg"/><Relationship Id="rId7" Type="http://schemas.openxmlformats.org/officeDocument/2006/relationships/audio" Target="../media/voltage.wav"/><Relationship Id="rId8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pn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78920" y="907920"/>
            <a:ext cx="865980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bddc3"/>
                </a:solidFill>
                <a:latin typeface="Calibri"/>
              </a:rPr>
              <a:t>ЯВЛЕНИЕ ЭКСТРЕМИЗМА В МОЛОДЕЖНОЙ СРЕДЕ: ФАНАТ, СПОРТИВНЫЙ БОЛЕЛЬЩИК, ЭКСТРЕМИСТ</a:t>
            </a:r>
            <a:endParaRPr b="0" lang="en-US" sz="40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250560" y="3429000"/>
            <a:ext cx="381636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Calibri"/>
              </a:rPr>
              <a:t>Цель проведения – профилактика экстремизма и всех его проявлений в молодежной среде.</a:t>
            </a:r>
            <a:endParaRPr b="0" lang="en-US" sz="19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59" name="Picture 2" descr="C:\Users\Таня\Pictures\a2bbf7e30aad.jpg"/>
          <p:cNvPicPr/>
          <p:nvPr/>
        </p:nvPicPr>
        <p:blipFill>
          <a:blip r:embed="rId1"/>
          <a:stretch/>
        </p:blipFill>
        <p:spPr>
          <a:xfrm>
            <a:off x="4140360" y="2492280"/>
            <a:ext cx="4752720" cy="3164040"/>
          </a:xfrm>
          <a:prstGeom prst="rect">
            <a:avLst/>
          </a:prstGeom>
          <a:ln w="0">
            <a:noFill/>
          </a:ln>
        </p:spPr>
      </p:pic>
      <p:sp>
        <p:nvSpPr>
          <p:cNvPr id="360" name="TextBox 4"/>
          <p:cNvSpPr/>
          <p:nvPr/>
        </p:nvSpPr>
        <p:spPr>
          <a:xfrm>
            <a:off x="2859120" y="6021360"/>
            <a:ext cx="543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Calibri"/>
              </a:rPr>
              <a:t>Классный руководитель 10В класса ГБОУ СОШ №6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Calibri"/>
              </a:rPr>
              <a:t>Макарова Татьяна Павл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Picture 1" descr="C:\Users\Таня\Pictures\5bbdd724-3d89-487c-ac07-0895d6079054.jpg"/>
          <p:cNvPicPr/>
          <p:nvPr/>
        </p:nvPicPr>
        <p:blipFill>
          <a:blip r:embed="rId1">
            <a:lum bright="40000"/>
          </a:blip>
          <a:stretch/>
        </p:blipFill>
        <p:spPr>
          <a:xfrm>
            <a:off x="0" y="1484280"/>
            <a:ext cx="9144000" cy="5281560"/>
          </a:xfrm>
          <a:prstGeom prst="rect">
            <a:avLst/>
          </a:prstGeom>
          <a:ln w="0">
            <a:noFill/>
          </a:ln>
        </p:spPr>
      </p:pic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Экстремизм – это: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612720" y="1413000"/>
            <a:ext cx="8153280" cy="468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82320" indent="-29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 насильственное изменение основ конституционного строя и    нарушение целостности Российской Федерации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82320" indent="-29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82320" indent="-29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 подрыв безопасности Российской Федерации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82320" indent="-29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82320" indent="-29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захват или присвоение властных полномочий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82320" indent="-29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82320" indent="-29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оздание незаконных вооруженных формирований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82320" indent="-29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82320" indent="-29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осуществление террористической деятельности либо публичное  оправдание терроризма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82320" indent="-29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82320" indent="-29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возбуждение расовой, национальной или религиозной розни, а  также социальной розни,  связанной с насилием или призывами к  насилию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82320" indent="-29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82320" indent="-29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унижение национального достоинства 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3000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3000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3000" fill="hold"/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3000" fill="hold"/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3000" fill="hold"/>
                                        <p:tgtEl>
                                          <p:spTgt spid="3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3000" fill="hold"/>
                                        <p:tgtEl>
                                          <p:spTgt spid="3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3000" fill="hold"/>
                                        <p:tgtEl>
                                          <p:spTgt spid="3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3000" fill="hold"/>
                                        <p:tgtEl>
                                          <p:spTgt spid="3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3000" fill="hold"/>
                                        <p:tgtEl>
                                          <p:spTgt spid="3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3000" fill="hold"/>
                                        <p:tgtEl>
                                          <p:spTgt spid="3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3000" fill="hold"/>
                                        <p:tgtEl>
                                          <p:spTgt spid="3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3000" fill="hold"/>
                                        <p:tgtEl>
                                          <p:spTgt spid="3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3000" fill="hold"/>
                                        <p:tgtEl>
                                          <p:spTgt spid="39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3000" fill="hold"/>
                                        <p:tgtEl>
                                          <p:spTgt spid="39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2" name="Picture 1" descr="C:\Users\Таня\Pictures\imagesCAGTAAPL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1557360"/>
            <a:ext cx="9144000" cy="522432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Экстремизм – это: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612720" y="1599840"/>
            <a:ext cx="815328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  </a:t>
            </a:r>
            <a:r>
              <a:rPr b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нение насилия в отношении представителя государственной власти либо на угрозу применения насилия в отношении представителя государственной власти или его близких;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 нарушение прав и свобод человека и гражданина, причинение  вреда здоровью и имуществу граждан в связи с их убеждениями, расовой или национальной принадлежностью, вероисповеданием, социальной принадлежностью или социальным происхождением;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 создание и (или) распространение печатных, аудио-аудиовизуальных и иных материалов (произведений);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 посягательство на жизнь государственного или общественного деятеля, совершенное в целях прекращения его государственной или иной политической деятельности либо из мести за такую деятельность;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7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3000" fill="hold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3000" fill="hold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3000" fill="hold"/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3000" fill="hold"/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3000" fill="hold"/>
                                        <p:tgtEl>
                                          <p:spTgt spid="3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3000" fill="hold"/>
                                        <p:tgtEl>
                                          <p:spTgt spid="3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3000" fill="hold"/>
                                        <p:tgtEl>
                                          <p:spTgt spid="3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3000" fill="hold"/>
                                        <p:tgtEl>
                                          <p:spTgt spid="3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Picture 1" descr="C:\Users\Таня\Pictures\imagesCAUHHEKP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1557360"/>
            <a:ext cx="9036000" cy="5184720"/>
          </a:xfrm>
          <a:prstGeom prst="rect">
            <a:avLst/>
          </a:prstGeom>
          <a:ln w="0">
            <a:noFill/>
          </a:ln>
        </p:spPr>
      </p:pic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Экстремизм – это: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611280" y="1484280"/>
            <a:ext cx="8153280" cy="47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пропаганда и публичное демонстрирование нацистской  атрибутики или символики либо атрибутики или символики,  сходных с нацистской атрибутикой или символикой до степени  смешения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публичные призывы к осуществлению указанной деятельности, а также публичные призывы и выступления, побуждающие к осуществлению указанной деятельности, обосновывающие либо оправдывающие совершение деяний, указанных в настоящей статье;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) финансирование указанной деятельности либо иное содействие в планировании, организации, подготовке и совершении указанных действий, в том числе путем предоставления для осуществления указанной деятельности финансовых средств, недвижимости, учебной, полиграфической и материально-технической базы, телефонной, факсимильной и иных видов связи, информационных услуг, иных материально-технических средств.</a:t>
            </a:r>
            <a:br>
              <a:rPr sz="14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75f55"/>
                </a:solidFill>
                <a:latin typeface="Calibri"/>
              </a:rPr>
              <a:t>Скинхеды, как носители идей национализма.</a:t>
            </a:r>
            <a:endParaRPr b="0" lang="en-US" sz="4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3348000" y="1600200"/>
            <a:ext cx="5418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Скинхедами или «скинами» называют участников относительно нового неформального молодежного движения, возникшего в Англии, Европе и Америке во второй половине 20 века. Слово «скинхед» произошло от слияния двух английских слов skin (кожа) и head (голова) и в буквальном переводе означает «кожаная голова». </a:t>
            </a:r>
            <a:br>
              <a:rPr sz="2700"/>
            </a:b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0" name="Picture 2" descr="C:\Users\Таня\Pictures\skinxedy1.jpg"/>
          <p:cNvPicPr/>
          <p:nvPr/>
        </p:nvPicPr>
        <p:blipFill>
          <a:blip r:embed="rId1"/>
          <a:stretch/>
        </p:blipFill>
        <p:spPr>
          <a:xfrm>
            <a:off x="179280" y="1557360"/>
            <a:ext cx="3048120" cy="304812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3" descr="C:\Users\Таня\Pictures\untitled1.png"/>
          <p:cNvPicPr/>
          <p:nvPr/>
        </p:nvPicPr>
        <p:blipFill>
          <a:blip r:embed="rId2"/>
          <a:stretch/>
        </p:blipFill>
        <p:spPr>
          <a:xfrm>
            <a:off x="179280" y="4724280"/>
            <a:ext cx="3024360" cy="19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11280" y="691920"/>
            <a:ext cx="815328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сновная идея движения: </a:t>
            </a:r>
            <a:r>
              <a:rPr b="1" lang="ru-RU" sz="2400" spc="-1" strike="noStrike">
                <a:solidFill>
                  <a:srgbClr val="775f55"/>
                </a:solidFill>
                <a:latin typeface="Calibri"/>
              </a:rPr>
              <a:t>борьба за «чистоту» русской расы.</a:t>
            </a: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775f55"/>
                </a:solidFill>
                <a:latin typeface="Calibri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612720" y="1600200"/>
            <a:ext cx="4896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4" name="Picture 2" descr="C:\Users\Таня\Pictures\5.jpg"/>
          <p:cNvPicPr/>
          <p:nvPr/>
        </p:nvPicPr>
        <p:blipFill>
          <a:blip r:embed="rId1"/>
          <a:stretch/>
        </p:blipFill>
        <p:spPr>
          <a:xfrm>
            <a:off x="755640" y="1263600"/>
            <a:ext cx="702792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Picture 1" descr="C:\Users\Таня\Pictures\imagesCAVTKVBJ.jpg"/>
          <p:cNvPicPr/>
          <p:nvPr/>
        </p:nvPicPr>
        <p:blipFill>
          <a:blip r:embed="rId1">
            <a:lum bright="40000"/>
          </a:blip>
          <a:stretch/>
        </p:blipFill>
        <p:spPr>
          <a:xfrm>
            <a:off x="0" y="1484280"/>
            <a:ext cx="9144000" cy="5373720"/>
          </a:xfrm>
          <a:prstGeom prst="rect">
            <a:avLst/>
          </a:prstGeom>
          <a:ln w="0">
            <a:noFill/>
          </a:ln>
        </p:spPr>
      </p:pic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75f55"/>
                </a:solidFill>
                <a:latin typeface="Calibri"/>
              </a:rPr>
              <a:t>Основные методы работы: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агитация, распространение листовок (обычно с расистскими призывами), различные акты вандализма (рисунки свастики на видных местах, и др.), нападения на иностранцев, лиц кавказской национальности, избиения граждан СНГ, общеуголовные преступления: нанесение изображений экстремистского характера, в том числе, свастики, хулиганство, распитие спиртных напитков, участие в столкновениях с футбольными фанатами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Calibri"/>
              </a:rPr>
              <a:t>Отличительные признаки: </a:t>
            </a:r>
            <a:br>
              <a:rPr sz="4000"/>
            </a:br>
            <a:endParaRPr b="0" lang="en-US" sz="4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612720" y="1599840"/>
            <a:ext cx="54720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бритая голова (или короткая стрижка),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камуфляжная форма, куртки «бомберы» (черного цвета, внутри оранжевые), толстовки с капюшоном («</a:t>
            </a: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Lonsdale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»),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на ногах - «берцы», «гриндерсы», закатанные джинсы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Наличие татуировок (обычно, свастика)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Все они имеют в данной среде прозвища. 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0" name="Picture 2" descr="C:\Users\Таня\Pictures\22718.jpg"/>
          <p:cNvPicPr/>
          <p:nvPr/>
        </p:nvPicPr>
        <p:blipFill>
          <a:blip r:embed="rId1"/>
          <a:stretch/>
        </p:blipFill>
        <p:spPr>
          <a:xfrm>
            <a:off x="6415200" y="189000"/>
            <a:ext cx="2581200" cy="180000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3" descr="C:\Users\Таня\Pictures\7863.jpg"/>
          <p:cNvPicPr/>
          <p:nvPr/>
        </p:nvPicPr>
        <p:blipFill>
          <a:blip r:embed="rId2"/>
          <a:stretch/>
        </p:blipFill>
        <p:spPr>
          <a:xfrm>
            <a:off x="6084720" y="4581360"/>
            <a:ext cx="2857680" cy="213372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4" descr="C:\Users\Таня\Pictures\im3_5_8_lrg.jpg"/>
          <p:cNvPicPr/>
          <p:nvPr/>
        </p:nvPicPr>
        <p:blipFill>
          <a:blip r:embed="rId3"/>
          <a:stretch/>
        </p:blipFill>
        <p:spPr>
          <a:xfrm>
            <a:off x="6516720" y="2060640"/>
            <a:ext cx="2481120" cy="24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сновополагающей идеей для них является</a:t>
            </a:r>
            <a:endParaRPr b="0" lang="en-US" sz="4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468000" y="1599840"/>
            <a:ext cx="8297640" cy="29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ивное неприятие инородцев, доходящее до ненависти. Здесь в полной мере проявляется открытое противостояние лицам иных рас и национальностей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паганда насилия, запугивание мирных граждан и даже представителей власти, организация погромов, терактов и убийств – эти действия направлены против всех «чужаков» одновременно Собирательный образ врага для скинов – «бремя белого человека»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5" name="Picture 2" descr="C:\Users\Таня\Pictures\db0a444d5e8d4b3dc47b89e272af5c86.jpg"/>
          <p:cNvPicPr/>
          <p:nvPr/>
        </p:nvPicPr>
        <p:blipFill>
          <a:blip r:embed="rId1"/>
          <a:stretch/>
        </p:blipFill>
        <p:spPr>
          <a:xfrm>
            <a:off x="2556000" y="4241880"/>
            <a:ext cx="3924000" cy="26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 txBox="1"/>
          <p:nvPr/>
        </p:nvSpPr>
        <p:spPr>
          <a:xfrm>
            <a:off x="468000" y="404280"/>
            <a:ext cx="511164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сегодняшний день на территории России действуют свыше 35 крупных скин - группировок, которые отличаются установленными правилами поведения и жесткой дисциплиной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Московском регионе активно действует 23 наиболее агрессивные группы, общей численностью достигающие более 3000 участников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анкт-Петербурге – около 9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остроме группировки носят разрозненный характер, общая численность - около 40 человек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7" name="Picture 2" descr="C:\Users\Таня\Pictures\picture.jpg"/>
          <p:cNvPicPr/>
          <p:nvPr/>
        </p:nvPicPr>
        <p:blipFill>
          <a:blip r:embed="rId1"/>
          <a:stretch/>
        </p:blipFill>
        <p:spPr>
          <a:xfrm>
            <a:off x="5796000" y="333360"/>
            <a:ext cx="3108240" cy="2158920"/>
          </a:xfrm>
          <a:prstGeom prst="rect">
            <a:avLst/>
          </a:prstGeom>
          <a:ln w="0">
            <a:noFill/>
          </a:ln>
        </p:spPr>
      </p:pic>
      <p:sp>
        <p:nvSpPr>
          <p:cNvPr id="418" name="TextBox 5"/>
          <p:cNvSpPr/>
          <p:nvPr/>
        </p:nvSpPr>
        <p:spPr>
          <a:xfrm>
            <a:off x="5724360" y="2565360"/>
            <a:ext cx="331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800000"/>
                </a:solidFill>
                <a:latin typeface="Calibri"/>
              </a:rPr>
              <a:t>Скинхеды. Факельное шествие в Петербург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9" name="Picture 3" descr="C:\Users\Таня\Pictures\watermark.jpg"/>
          <p:cNvPicPr/>
          <p:nvPr/>
        </p:nvPicPr>
        <p:blipFill>
          <a:blip r:embed="rId2"/>
          <a:stretch/>
        </p:blipFill>
        <p:spPr>
          <a:xfrm>
            <a:off x="5651640" y="3357720"/>
            <a:ext cx="3333600" cy="2143080"/>
          </a:xfrm>
          <a:prstGeom prst="rect">
            <a:avLst/>
          </a:prstGeom>
          <a:ln w="0">
            <a:noFill/>
          </a:ln>
        </p:spPr>
      </p:pic>
      <p:sp>
        <p:nvSpPr>
          <p:cNvPr id="420" name="TextBox 7"/>
          <p:cNvSpPr/>
          <p:nvPr/>
        </p:nvSpPr>
        <p:spPr>
          <a:xfrm>
            <a:off x="5651640" y="5589720"/>
            <a:ext cx="31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800000"/>
                </a:solidFill>
                <a:latin typeface="Calibri"/>
              </a:rPr>
              <a:t>В Костроме скинхеды напали на неформал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4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4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Москве в настоящее время действуют группировки: - «Скинлегион» - «Русский филиал B&amp;H» (Blood&amp;Honor – запрещенная в Германии нацистская организация)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«Объединенные бригады-88» (8 – порядковый номер буквы h в латинском алфавите, и 88 означает начальные буквы приветствия «Хайль Гитлер!»)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остромской области активисты скин-группировок неоднократно привлекались к уголовной и административной ответственности в связи с осуществлением деятельности экстремистской направленности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 настоящем времени скин-сообщества существуют приблизительно в 85 городах.</a:t>
            </a:r>
            <a:endParaRPr b="0" lang="en-US" sz="2900" spc="-1" strike="noStrike">
              <a:solidFill>
                <a:srgbClr val="775f55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Picture 1" descr="C:\Users\Таня\Pictures\7ce9f237.jpg"/>
          <p:cNvPicPr/>
          <p:nvPr/>
        </p:nvPicPr>
        <p:blipFill>
          <a:blip r:embed="rId1"/>
          <a:stretch/>
        </p:blipFill>
        <p:spPr>
          <a:xfrm>
            <a:off x="0" y="1484280"/>
            <a:ext cx="9144000" cy="5373720"/>
          </a:xfrm>
          <a:prstGeom prst="rect">
            <a:avLst/>
          </a:prstGeom>
          <a:ln w="0">
            <a:noFill/>
          </a:ln>
        </p:spPr>
      </p:pic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75f55"/>
                </a:solidFill>
                <a:latin typeface="Calibri"/>
              </a:rPr>
              <a:t>экстремизм - это приверженность крайним взглядам и мерам. </a:t>
            </a:r>
            <a:endParaRPr b="0" lang="en-US" sz="4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2900" spc="-1" strike="noStrike">
                <a:solidFill>
                  <a:srgbClr val="000000"/>
                </a:solidFill>
                <a:latin typeface="Calibri"/>
              </a:rPr>
              <a:t>Акты насилия относятся к категории экстремистских, если: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2900" spc="-1" strike="noStrike">
                <a:solidFill>
                  <a:srgbClr val="000000"/>
                </a:solidFill>
                <a:latin typeface="Calibri"/>
              </a:rPr>
              <a:t>а) они не только используются в качестве прямого способа достижения политических, идеологических и социальных целей, но и являются инструментом публичности и устрашения;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2900" spc="-1" strike="noStrike">
                <a:solidFill>
                  <a:srgbClr val="000000"/>
                </a:solidFill>
                <a:latin typeface="Calibri"/>
              </a:rPr>
              <a:t>б) они направлены на то, чтобы причинить вред не непосредственному противнику, а другим людям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75f55"/>
                </a:solidFill>
                <a:latin typeface="Calibri"/>
              </a:rPr>
              <a:t>На территории РФ действует ряд молодёжных организаций, в отдельных акциях которых усматриваются признаки экстремистской деятельности.</a:t>
            </a:r>
            <a:endParaRPr b="0" lang="en-US" sz="2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612720" y="1600200"/>
            <a:ext cx="815328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Авангард красной молодежи (АКМ)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Протестное гражданское движение «Оборона»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«Идущие без Путина»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Молодежная общественная организация «Пора»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Всесоюзная Молодая Гвардия Большевиков (ВМГБ)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РКСМ (большевики)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Молодежный левый фронт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Российская ассоциация профсоюзных организаций студентов (РАПОС)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 «Евразийский Союз Молодежи»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 «Социалистическое сопротивление за рабочий интернационал» (СС)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. Союз коммунистической молодежи (СКМ)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. Центр общественных инициатив «УРА!» (Утро-Родина-Атака)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. Союз молодежи «За Родину»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. Российская демократическая партия «Наш выбор»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. Независимая ассоциация студентов «Я думаю»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. Молодежное правозащитное движение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775f55"/>
                </a:solidFill>
                <a:latin typeface="Calibri"/>
              </a:rPr>
              <a:t>Праворадикальные (националистические) </a:t>
            </a:r>
            <a:br>
              <a:rPr sz="2900"/>
            </a:br>
            <a:r>
              <a:rPr b="1" lang="ru-RU" sz="2900" spc="-1" strike="noStrike">
                <a:solidFill>
                  <a:srgbClr val="775f55"/>
                </a:solidFill>
                <a:latin typeface="Calibri"/>
              </a:rPr>
              <a:t>молодежные организации</a:t>
            </a:r>
            <a:endParaRPr b="0" lang="en-US" sz="29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родная национальная партия (ННП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1112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усское национальное единство (РНЕ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1112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вижение против нелегальной иммиграции (ДПНИ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1112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лавянский союз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1112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родно-державная партия России</a:t>
            </a: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41112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7" name="Object 7"/>
          <p:cNvGraphicFramePr/>
          <p:nvPr/>
        </p:nvGraphicFramePr>
        <p:xfrm>
          <a:off x="1619280" y="4797360"/>
          <a:ext cx="2676600" cy="1866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9280" y="4797360"/>
                    <a:ext cx="2676600" cy="186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9" name="Object 17"/>
          <p:cNvGraphicFramePr/>
          <p:nvPr/>
        </p:nvGraphicFramePr>
        <p:xfrm>
          <a:off x="6084720" y="4869000"/>
          <a:ext cx="1857600" cy="184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30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84720" y="4869000"/>
                    <a:ext cx="1857600" cy="184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31" name="Picture 6" descr="C:\Users\Таня\Pictures\imagesCA0B1TSH.jpg"/>
          <p:cNvPicPr/>
          <p:nvPr/>
        </p:nvPicPr>
        <p:blipFill>
          <a:blip r:embed="rId5"/>
          <a:stretch/>
        </p:blipFill>
        <p:spPr>
          <a:xfrm>
            <a:off x="250920" y="4941720"/>
            <a:ext cx="1800000" cy="172728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7" descr="C:\Users\Таня\Pictures\imagesCACDPTAG.jpg"/>
          <p:cNvPicPr/>
          <p:nvPr/>
        </p:nvPicPr>
        <p:blipFill>
          <a:blip r:embed="rId6"/>
          <a:stretch/>
        </p:blipFill>
        <p:spPr>
          <a:xfrm>
            <a:off x="3851280" y="4869000"/>
            <a:ext cx="1800360" cy="180000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  <p:sndAc>
      <p:stSnd>
        <p:snd r:embed="rId7" name="voltage.wav"/>
      </p:stSnd>
    </p:sndAc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6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1" dur="500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6" dur="500"/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1" dur="500"/>
                                        <p:tgtEl>
                                          <p:spTgt spid="4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6" dur="500"/>
                                        <p:tgtEl>
                                          <p:spTgt spid="4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1" dur="500"/>
                                        <p:tgtEl>
                                          <p:spTgt spid="4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1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"/>
          <p:cNvSpPr txBox="1"/>
          <p:nvPr/>
        </p:nvSpPr>
        <p:spPr>
          <a:xfrm>
            <a:off x="3059280" y="2209320"/>
            <a:ext cx="5627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ючевой признак этих культов – все сатанистские и демонические вероучения считают, что объект их поклонения является в мире основной причиной зла и смерти. Адепты откровенных сатанистских сект поклоняются и служат злу и, что особенно для них характерно, ненавидят православие, негативно относятся ко всем культурообразующим традиционным религиям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1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f7f7f"/>
                </a:solidFill>
                <a:latin typeface="Times New Roman"/>
                <a:ea typeface="Times New Roman"/>
              </a:rPr>
              <a:t>Приверженцы сатанистских и</a:t>
            </a:r>
            <a:br>
              <a:rPr sz="3200"/>
            </a:br>
            <a:r>
              <a:rPr b="1" lang="ru-RU" sz="3200" spc="-1" strike="noStrike">
                <a:solidFill>
                  <a:srgbClr val="7f7f7f"/>
                </a:solidFill>
                <a:latin typeface="Times New Roman"/>
                <a:ea typeface="Times New Roman"/>
              </a:rPr>
              <a:t> демонических культов.</a:t>
            </a:r>
            <a:br>
              <a:rPr sz="2500"/>
            </a:br>
            <a:endParaRPr b="0" lang="en-US" sz="3200" spc="-1" strike="noStrike">
              <a:solidFill>
                <a:srgbClr val="775f55"/>
              </a:solidFill>
              <a:latin typeface="Calibri"/>
            </a:endParaRPr>
          </a:p>
        </p:txBody>
      </p:sp>
      <p:pic>
        <p:nvPicPr>
          <p:cNvPr id="435" name="Picture 2" descr="http://ateismy.net/content/images/satanist.jpg"/>
          <p:cNvPicPr/>
          <p:nvPr/>
        </p:nvPicPr>
        <p:blipFill>
          <a:blip r:embed="rId1"/>
          <a:stretch/>
        </p:blipFill>
        <p:spPr>
          <a:xfrm>
            <a:off x="250920" y="1557360"/>
            <a:ext cx="2376360" cy="47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3000" fill="hold"/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3000" fill="hold"/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"/>
          <p:cNvSpPr txBox="1"/>
          <p:nvPr/>
        </p:nvSpPr>
        <p:spPr>
          <a:xfrm>
            <a:off x="5003280" y="1600200"/>
            <a:ext cx="376236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ешний вид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черные длинные волосы, большая крашеная чёлка, различного рода металлические украшения, неформальная одежда. Депрессия, самоуничтожение, протест против взрослых. Выражается протест в суицидальном поведении. Авторитет имеют те представители ЭМО, которые имели большее количество попыток суицид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убкультура ЭМО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pic>
        <p:nvPicPr>
          <p:cNvPr id="438" name="Picture 2" descr="C:\Users\Таня\Pictures\0001-001-Emo.jpg"/>
          <p:cNvPicPr/>
          <p:nvPr/>
        </p:nvPicPr>
        <p:blipFill>
          <a:blip r:embed="rId1"/>
          <a:stretch/>
        </p:blipFill>
        <p:spPr>
          <a:xfrm>
            <a:off x="0" y="1628640"/>
            <a:ext cx="5292720" cy="50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0" fill="hold"/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0" fill="hold"/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5000"/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775f55"/>
                </a:solidFill>
                <a:latin typeface="Calibri"/>
              </a:rPr>
              <a:t>Национал-большевистская партия (НБП).</a:t>
            </a:r>
            <a:br>
              <a:rPr sz="4000"/>
            </a:br>
            <a:br>
              <a:rPr sz="4000"/>
            </a:br>
            <a:endParaRPr b="0" lang="en-US" sz="2800" spc="-1" strike="noStrike">
              <a:solidFill>
                <a:srgbClr val="775f55"/>
              </a:solidFill>
              <a:latin typeface="Calibri"/>
            </a:endParaRPr>
          </a:p>
        </p:txBody>
      </p:sp>
      <p:pic>
        <p:nvPicPr>
          <p:cNvPr id="440" name="Picture 1" descr="C:\Users\Таня\Pictures\imagesCA9FWVYS.jpg"/>
          <p:cNvPicPr/>
          <p:nvPr/>
        </p:nvPicPr>
        <p:blipFill>
          <a:blip r:embed="rId1"/>
          <a:stretch/>
        </p:blipFill>
        <p:spPr>
          <a:xfrm>
            <a:off x="468360" y="1773360"/>
            <a:ext cx="2581200" cy="2519280"/>
          </a:xfrm>
          <a:prstGeom prst="rect">
            <a:avLst/>
          </a:prstGeom>
          <a:ln w="0">
            <a:noFill/>
          </a:ln>
        </p:spPr>
      </p:pic>
      <p:sp>
        <p:nvSpPr>
          <p:cNvPr id="441" name="Прямоугольник 4"/>
          <p:cNvSpPr/>
          <p:nvPr/>
        </p:nvSpPr>
        <p:spPr>
          <a:xfrm>
            <a:off x="3995640" y="1484280"/>
            <a:ext cx="45720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Отличительный знак: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серп и молот в белом круге на красном фоне.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ущность идеологии: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«Испепеляющая ненависть к античеловеческой системе троицы: либерализма, демократии, капитализма. Человек восстания, национал-большевик видит свою миссию в разрушении системы до основания. На идеалах духовной мужественности, социальной и национальной справедливости будет построено традиционалистическое, иерархическое общество»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Основные методы действий: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распространение листовок, агитация населения, выезды в Москву для участия в массовых акциях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2" name="Picture 2" descr="C:\Users\Таня\Pictures\imagesCAGSUMAB.jpg"/>
          <p:cNvPicPr/>
          <p:nvPr/>
        </p:nvPicPr>
        <p:blipFill>
          <a:blip r:embed="rId2"/>
          <a:stretch/>
        </p:blipFill>
        <p:spPr>
          <a:xfrm>
            <a:off x="7380360" y="189000"/>
            <a:ext cx="1584360" cy="1050840"/>
          </a:xfrm>
          <a:prstGeom prst="rect">
            <a:avLst/>
          </a:prstGeom>
          <a:ln w="0">
            <a:noFill/>
          </a:ln>
        </p:spPr>
      </p:pic>
      <p:pic>
        <p:nvPicPr>
          <p:cNvPr id="443" name="Picture 3" descr="C:\Users\Таня\Pictures\imagesCALL627X.jpg"/>
          <p:cNvPicPr/>
          <p:nvPr/>
        </p:nvPicPr>
        <p:blipFill>
          <a:blip r:embed="rId3"/>
          <a:stretch/>
        </p:blipFill>
        <p:spPr>
          <a:xfrm>
            <a:off x="468360" y="4508640"/>
            <a:ext cx="259092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332000" y="228600"/>
            <a:ext cx="743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75f55"/>
                </a:solidFill>
                <a:latin typeface="Calibri"/>
              </a:rPr>
              <a:t>ВМЕСТЕ ПРОТИВ ЭКСТРЕМИЗМА</a:t>
            </a:r>
            <a:endParaRPr b="0" lang="en-US" sz="4000" spc="-1" strike="noStrike">
              <a:solidFill>
                <a:srgbClr val="775f55"/>
              </a:solidFill>
              <a:latin typeface="Calibri"/>
            </a:endParaRPr>
          </a:p>
        </p:txBody>
      </p:sp>
      <p:pic>
        <p:nvPicPr>
          <p:cNvPr id="445" name="Picture 2" descr="C:\Users\Таня\Pictures\ea8a8d791ced870ab2b952be20148615.jpg"/>
          <p:cNvPicPr/>
          <p:nvPr/>
        </p:nvPicPr>
        <p:blipFill>
          <a:blip r:embed="rId1"/>
          <a:stretch/>
        </p:blipFill>
        <p:spPr>
          <a:xfrm>
            <a:off x="5940360" y="4508640"/>
            <a:ext cx="2764080" cy="2074680"/>
          </a:xfrm>
          <a:prstGeom prst="rect">
            <a:avLst/>
          </a:prstGeom>
          <a:ln w="0">
            <a:noFill/>
          </a:ln>
        </p:spPr>
      </p:pic>
      <p:sp>
        <p:nvSpPr>
          <p:cNvPr id="446" name="Прямоугольник 4"/>
          <p:cNvSpPr/>
          <p:nvPr/>
        </p:nvSpPr>
        <p:spPr>
          <a:xfrm>
            <a:off x="468360" y="1773360"/>
            <a:ext cx="84247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Терроризм и экстремизм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ротив молодежи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молодежь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ротив терроризма и экстремизма!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7" name="Picture 1" descr="C:\Users\Таня\Pictures\untitled 2.png"/>
          <p:cNvPicPr/>
          <p:nvPr/>
        </p:nvPicPr>
        <p:blipFill>
          <a:blip r:embed="rId2"/>
          <a:stretch/>
        </p:blipFill>
        <p:spPr>
          <a:xfrm>
            <a:off x="755640" y="4508640"/>
            <a:ext cx="4824360" cy="2089080"/>
          </a:xfrm>
          <a:prstGeom prst="rect">
            <a:avLst/>
          </a:prstGeom>
          <a:ln w="0">
            <a:noFill/>
          </a:ln>
        </p:spPr>
      </p:pic>
      <p:pic>
        <p:nvPicPr>
          <p:cNvPr id="448" name="Picture 2" descr="C:\Users\Таня\Pictures\%20jlfjym%20wxbpcucrihl_%20zomxpvhk_%20001%20j25bthumbnail.jpg"/>
          <p:cNvPicPr/>
          <p:nvPr/>
        </p:nvPicPr>
        <p:blipFill>
          <a:blip r:embed="rId3"/>
          <a:stretch/>
        </p:blipFill>
        <p:spPr>
          <a:xfrm>
            <a:off x="6227640" y="1628640"/>
            <a:ext cx="2797200" cy="1871640"/>
          </a:xfrm>
          <a:prstGeom prst="rect">
            <a:avLst/>
          </a:prstGeom>
          <a:ln w="0">
            <a:noFill/>
          </a:ln>
        </p:spPr>
      </p:pic>
      <p:pic>
        <p:nvPicPr>
          <p:cNvPr id="449" name="Picture 3" descr="C:\Users\Таня\Pictures\ekstr.jpg"/>
          <p:cNvPicPr/>
          <p:nvPr/>
        </p:nvPicPr>
        <p:blipFill>
          <a:blip r:embed="rId4"/>
          <a:stretch/>
        </p:blipFill>
        <p:spPr>
          <a:xfrm>
            <a:off x="179280" y="189000"/>
            <a:ext cx="1079640" cy="106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75f55"/>
                </a:solidFill>
                <a:latin typeface="Calibri"/>
              </a:rPr>
              <a:t>Источники: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http://scienceport.ru/</a:t>
            </a: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http://www.dissers.ru/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http://bugabooks.com/</a:t>
            </a: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http://newparlament.ru/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http://ru.wikipedia.org/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http://nnov.ruy.ru/news.html?did=1717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http://gisap.eu/ru/node/398</a:t>
            </a: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75f55"/>
                </a:solidFill>
                <a:latin typeface="Calibri"/>
              </a:rPr>
              <a:t>Понимание культуры и традиций другой национальной группы - источник конструктивного межнационального сотрудничества.</a:t>
            </a:r>
            <a:endParaRPr b="0" lang="en-US" sz="28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 целью налаживания отношений между разными этническими и национальными группами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) относитесь к чужой культуре с тем же уважением с которым относитесь к собственной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2) не судите о ценностях, убеждениях и традициях других культур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тталкиваясь от собственных ценносте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3) никогда не исходите из превосходства своей религии над чужой религие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4) Общаясь с представителями других верований старайтесь понимать и уважать их точку зрени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5) Помните, что каждая культура какой бы малой она не была, имеет что предложить миру, но нет такой культуры которая бы имела монополию на все аспекты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6) Всегда помните, что ни какие научные данные не доказывают превосходство одной этнической группы над друго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179280" y="2997000"/>
            <a:ext cx="3818160" cy="36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увство национального превосходства также рассматривается как фактор, способствующий всплескам агрессии и экстремизма, наряду с тремя культурными предпосылками, ведущими к развитию агрессии против других наций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4140000" y="3068640"/>
            <a:ext cx="4679640" cy="36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возникновение идеологии антагонизма, вызванное изначальным разделением «своя», «чужая» группа, что затем приводит к тому, что внешней группе приписываются крайне негативные, часто основанные на стереотипных представлениях черты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идеология национальной безопасности, в которой непрерывная оценка опасности противника и приспособление к ней заменяется безоговорочной целью любой ценой господствовать над ним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видение мира в свете питаемых войной ценностей, таких как товарищество, преданность национальная гордость или достойная цель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9" name="Picture 1" descr="C:\Users\Таня\Pictures\1292073223_061991_73.jpg"/>
          <p:cNvPicPr/>
          <p:nvPr/>
        </p:nvPicPr>
        <p:blipFill>
          <a:blip r:embed="rId1"/>
          <a:stretch/>
        </p:blipFill>
        <p:spPr>
          <a:xfrm>
            <a:off x="0" y="0"/>
            <a:ext cx="4643280" cy="292428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2" descr="C:\Users\Таня\Pictures\17.jpg"/>
          <p:cNvPicPr/>
          <p:nvPr/>
        </p:nvPicPr>
        <p:blipFill>
          <a:blip r:embed="rId2"/>
          <a:stretch/>
        </p:blipFill>
        <p:spPr>
          <a:xfrm>
            <a:off x="4643280" y="0"/>
            <a:ext cx="4500720" cy="29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75f55"/>
                </a:solidFill>
                <a:latin typeface="Calibri"/>
              </a:rPr>
              <a:t>Меры профилактики экстремизма в молодёжной среде</a:t>
            </a:r>
            <a:endParaRPr b="0" lang="en-US" sz="4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соответствии со ст. 2 Федерального закона от 25.07.2002 г. № 114-ФЗ «О противодействии экстремистской деятельности» противодействие (т.е. пресечение и профилактика) экстремистской деятельности основывается на следующих принципах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изнание, соблюдение и защита прав и свобод человека и гражданина, а равно законных интересов организаций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аконность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гласность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иоритет обеспечения безопасности Российской Федерации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иоритет мер, направленных на предупреждение экстремистской деятельности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отрудничество государства с общественными и религиозными объединениями, иными организациями, гражданами в противодействии экстремистской деятельности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еотвратимость наказания за осуществление экстремистской деятельност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75f55"/>
                </a:solidFill>
                <a:latin typeface="Calibri"/>
              </a:rPr>
              <a:t>Фанаты Зенита отметили победу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pic>
        <p:nvPicPr>
          <p:cNvPr id="374" name="Picture 2" descr="C:\Users\Таня\Pictures\1289946428_zenit_09.jpg"/>
          <p:cNvPicPr/>
          <p:nvPr/>
        </p:nvPicPr>
        <p:blipFill>
          <a:blip r:embed="rId1"/>
          <a:stretch/>
        </p:blipFill>
        <p:spPr>
          <a:xfrm>
            <a:off x="1355760" y="1628640"/>
            <a:ext cx="666756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75f55"/>
                </a:solidFill>
                <a:latin typeface="Calibri"/>
              </a:rPr>
              <a:t>Счастливые спортивные фанаты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pic>
        <p:nvPicPr>
          <p:cNvPr id="376" name="Picture 2" descr="C:\Users\Таня\Pictures\1264774439_sport_fun-25.jpg"/>
          <p:cNvPicPr/>
          <p:nvPr/>
        </p:nvPicPr>
        <p:blipFill>
          <a:blip r:embed="rId1"/>
          <a:stretch/>
        </p:blipFill>
        <p:spPr>
          <a:xfrm>
            <a:off x="4716360" y="1484280"/>
            <a:ext cx="4283280" cy="294012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3" descr="C:\Users\Таня\Pictures\1264774409_sport_fun-8.jpg"/>
          <p:cNvPicPr/>
          <p:nvPr/>
        </p:nvPicPr>
        <p:blipFill>
          <a:blip r:embed="rId2"/>
          <a:stretch/>
        </p:blipFill>
        <p:spPr>
          <a:xfrm>
            <a:off x="0" y="1484280"/>
            <a:ext cx="4643280" cy="299556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4" descr="C:\Users\Таня\Pictures\spartak_cska__22_05_2005__11__560x420__14886.jpg"/>
          <p:cNvPicPr/>
          <p:nvPr/>
        </p:nvPicPr>
        <p:blipFill>
          <a:blip r:embed="rId3"/>
          <a:stretch/>
        </p:blipFill>
        <p:spPr>
          <a:xfrm>
            <a:off x="0" y="4221000"/>
            <a:ext cx="3203640" cy="245448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5" descr="C:\Users\Таня\Pictures\TalismL.jpg"/>
          <p:cNvPicPr/>
          <p:nvPr/>
        </p:nvPicPr>
        <p:blipFill>
          <a:blip r:embed="rId4"/>
          <a:stretch/>
        </p:blipFill>
        <p:spPr>
          <a:xfrm>
            <a:off x="5867280" y="4221000"/>
            <a:ext cx="3276720" cy="249732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6" descr="C:\Users\Таня\Pictures\08f02-(26).jpg"/>
          <p:cNvPicPr/>
          <p:nvPr/>
        </p:nvPicPr>
        <p:blipFill>
          <a:blip r:embed="rId5"/>
          <a:stretch/>
        </p:blipFill>
        <p:spPr>
          <a:xfrm>
            <a:off x="3348000" y="4221000"/>
            <a:ext cx="244800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11280" y="40464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75f55"/>
                </a:solidFill>
                <a:latin typeface="Calibri"/>
              </a:rPr>
              <a:t>Хоккейные фанаты устроили погром в Ванкувере</a:t>
            </a:r>
            <a:br>
              <a:rPr sz="4000"/>
            </a:br>
            <a:endParaRPr b="0" lang="en-US" sz="32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3" name="Picture 3" descr="C:\Users\Таня\Pictures\vancouvr.jpg"/>
          <p:cNvPicPr/>
          <p:nvPr/>
        </p:nvPicPr>
        <p:blipFill>
          <a:blip r:embed="rId1"/>
          <a:stretch/>
        </p:blipFill>
        <p:spPr>
          <a:xfrm>
            <a:off x="0" y="1557360"/>
            <a:ext cx="4788000" cy="360036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5" descr="C:\Users\Таня\Pictures\vancouvz.jpg"/>
          <p:cNvPicPr/>
          <p:nvPr/>
        </p:nvPicPr>
        <p:blipFill>
          <a:blip r:embed="rId2"/>
          <a:stretch/>
        </p:blipFill>
        <p:spPr>
          <a:xfrm>
            <a:off x="4427640" y="3357720"/>
            <a:ext cx="471636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11280" y="47628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75f55"/>
                </a:solidFill>
                <a:latin typeface="Calibri"/>
              </a:rPr>
              <a:t>В Федеральном законе «О противодействии экстремистской деятельности» даётся следующее определение экстремизма: </a:t>
            </a:r>
            <a:br>
              <a:rPr sz="4000"/>
            </a:br>
            <a:endParaRPr b="0" lang="en-US" sz="28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611280" y="1484280"/>
            <a:ext cx="8136000" cy="32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- экстремистская деятельность: </a:t>
            </a:r>
            <a:br>
              <a:rPr sz="2700"/>
            </a:br>
            <a:br>
              <a:rPr sz="2700"/>
            </a:b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а) деятельность общественных и религиозных объединений, либо иных организаций, либо редакций средств массовой информации, либо физических лиц по планированию, организации, подготовке и совершению действий, направленных на:</a:t>
            </a:r>
            <a:br>
              <a:rPr sz="2700"/>
            </a:b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7" name="Picture 9" descr="%d0%a1%d1%82%d0%be%d0%bb%d0%ba%d0%ba%d0%b8%d0%b5%d0%b2"/>
          <p:cNvPicPr/>
          <p:nvPr/>
        </p:nvPicPr>
        <p:blipFill>
          <a:blip r:embed="rId1"/>
          <a:stretch/>
        </p:blipFill>
        <p:spPr>
          <a:xfrm>
            <a:off x="5148360" y="3933720"/>
            <a:ext cx="3755880" cy="281628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6" descr="C:\Users\Таня\Pictures\11.jpg"/>
          <p:cNvPicPr/>
          <p:nvPr/>
        </p:nvPicPr>
        <p:blipFill>
          <a:blip r:embed="rId2"/>
          <a:stretch/>
        </p:blipFill>
        <p:spPr>
          <a:xfrm>
            <a:off x="900000" y="4292640"/>
            <a:ext cx="3527640" cy="243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8T15:48:59Z</dcterms:created>
  <dc:creator>Таня</dc:creator>
  <dc:description/>
  <dc:language>en-US</dc:language>
  <cp:lastModifiedBy>Николай</cp:lastModifiedBy>
  <dcterms:modified xsi:type="dcterms:W3CDTF">2013-04-25T08:13:39Z</dcterms:modified>
  <cp:revision>49</cp:revision>
  <dc:subject/>
  <dc:title>Слайд 1</dc:title>
</cp:coreProperties>
</file>