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31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voltage.wav" ContentType="audio/x-wav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AA46-A63C-49CC-8AFE-476CEF4853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3BDD-6B2B-4F53-852E-59DFCF7F78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DF5-9392-4FDE-9BC1-89786981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C8E-A999-4EC2-9233-9E0ED8FB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A69-2FF2-4B26-9003-6D0A3826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997-F27B-457F-A121-9101CAC5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7EEC-B2C7-416A-BD73-F8A116EE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9EEB-FA83-479D-8C89-C42B8DAF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D4D9-C191-411D-93BF-1B269513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C4D8-ABDF-4886-846D-94D6CAC3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3B82-47C3-4BD7-882B-62C02403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EBAC-97DA-4C90-B725-5AD36A03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0B79-ADDF-462E-B566-1F8DC271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37A-51A6-4CC2-BDF3-9ACC2DB1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8300-2104-4882-A9B8-F54A28E5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CCA9-42DA-4AE8-999E-DA500CA8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14A9-15AB-47E7-B87E-27352AD2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26D9-CE07-42F2-A1F9-E87EA611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8CA1-F75C-4DA2-A91D-A872C4F9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BB5B8-0069-43D6-875B-9108788C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08BED-59BC-4573-8748-5E16BC80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4C83D-0413-4D6C-A863-7C3F6C37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41E9C-2D5E-4056-ABFE-39133A84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C00CE-359F-4997-AD43-471ADF80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821-EAC0-44E1-BD0D-94DD8914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A29A9-EE98-4912-B17F-AF600238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075C0-2C2D-487E-85A6-A5AC8516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AA36C-26EC-42E0-A5AA-B1F48507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D59BE-31B0-4713-8D3A-8F2A48C1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CCBB6-65F0-49F1-A778-C744FE4A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D0E2E-975B-46B9-98C8-B18E5AC2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AA41A-EAE9-475E-82A9-9A5AA36C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19881D-A692-452A-AFAE-5954390C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3A64A1-B757-46F1-AAFE-87D26AB6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F1196-C480-4B69-BCD0-DE07EDA5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5BC-3ABB-49E3-B09D-76A5AB8C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37CF2D-570A-4E41-86BC-8606F52B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824E05-55A2-4964-B6EA-AE54FD81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779E8F-410A-4811-B7E4-E670B4E0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A4A97-A7A0-43C0-BD66-0D5415A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09CA27-14CA-4E56-98F3-915829FD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1465A-9ED7-4FC6-832E-03025DB2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48734-2896-42D5-B5EF-D66C578E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0BA5B-D353-4FFA-ADA8-22455918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FB56F-3909-405C-B1FD-30DAE17C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A790B-20B0-4D05-87D0-04B5E7D4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720-31A4-40B7-8A47-66B80E94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5DEAF-288B-419E-A078-C7F00409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4EA32-0586-460A-B2E6-FF8547BA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42D4C-889B-4774-8A5C-355D13AC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B9616-F090-411C-A4A5-81EA1CAD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E2D83-3F10-4853-B590-65E3C128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E1088-94B6-4342-8063-C8F97925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46BDF-8EA8-44BF-A142-2FCE0E7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D3D2C-8D81-4D9A-BA7D-B661818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06FA6-DE17-4D1A-9240-BA5AD3CF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496AA-8C89-463C-8521-C8295AE3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485-9A44-4FAD-847E-4C9AE369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71860-AFA8-4694-A6EE-0E3F7CBF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98D80-ED7D-4069-B3F4-1486CC6A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ADADA-9816-44D6-9377-2A33EDEB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80C9A-5AF4-411D-8ADF-A1ADE355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507DB-BC78-49D5-A829-FBF83D64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E16D7-F28A-40AE-A41B-C4786462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63A2E-D371-4C62-98C7-28A3350B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BCCE2-5389-42E9-BBBF-7EFA3149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BF318-7854-4CB7-85B9-C001D83E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CFAC2-AC0C-4218-A481-C836870A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E37-7601-4B3F-964E-AAF274E2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D653F-7D53-48DC-A2DD-1466B4FF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849C1-0CB5-4C35-BE14-B1E58412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02A2D-6377-475C-B2FF-8D15553B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EAFD4-6092-43B8-A6BE-CADFF37A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1102D-DB07-481D-9205-BC736E1F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1BA27D-1F7F-4C79-B491-770AE7B0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DE99D-FE03-4A69-9ED1-01551650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99D14-6B2B-4B81-B6AE-CB893A73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41EE2-96FA-4ED1-83A6-12732523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CAD5F-7E6E-43F2-91D1-4FF2FC7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954-D725-4F2F-BF20-CD581F69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20F61-90B4-4F78-BD57-55D6F67F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0BB7E-7A3D-4DE9-8D1A-8F837322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8697B-782A-4BE2-9425-6F4CA7CB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5004E-6A85-4081-B69C-25FCE2FA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83873-16BA-4DEB-A560-82A65830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53D4F-0A7A-4793-8FDF-B5E75921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0C1B1-86B2-4840-9263-48EBAEA3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F7AE3-4237-4A0D-88C0-DDED0719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2DF05-FA3F-4D90-BB47-852F8FD4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25EEA-3BF8-4C62-8394-6209703C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452-79EA-4E86-802F-E3F8C7C7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9311B-14E7-4640-BE1C-CD888C2C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E5BD2-8E87-4100-BAF6-0B71AF9B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1DD89-4930-42C4-BF73-939F50DC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D07B7-4B5A-4EE6-AEB7-113FC39A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E055D-BB2C-4FBB-9156-ADF68EA0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9D0DB-BF80-4C4C-A395-E72D1657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631D5-4E99-4B45-AC3C-A5F2F41B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68A9-7459-4377-A5B7-FAE8FACAEA5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956A-3704-424E-A7AF-1243A1CD8494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BF1E-090D-424E-8273-BD23328C0E7F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087C-AF2B-4E68-9693-2DA8090FD4C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772A-4699-44A3-8CD2-D2E0035C1B3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E3E3-1549-4483-AF24-B3FC0FC5D2BE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B56D-902E-4AAD-9F21-E5F5A1E80520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1AB9-84BF-42F0-93B6-B3DCDE0D98D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8920" y="907920"/>
            <a:ext cx="8659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ЯВЛЕНИЕ ЭКСТРЕМИЗМА В МОЛОДЕЖНОЙ СРЕДЕ: ФАНАТ, СПОРТИВНЫЙ БОЛЕЛЬЩИК, ЭКСТРЕМИСТ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560" y="3429000"/>
            <a:ext cx="381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Цель проведения – профилактика экстремизма и всех его проявлений в молодежной среде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9" name="Picture 2" descr="C:\Users\Таня\Pictures\a2bbf7e30aad.jpg"/>
          <p:cNvPicPr/>
          <p:nvPr/>
        </p:nvPicPr>
        <p:blipFill>
          <a:blip r:embed="rId1"/>
          <a:stretch/>
        </p:blipFill>
        <p:spPr>
          <a:xfrm>
            <a:off x="4140360" y="2492280"/>
            <a:ext cx="4752720" cy="31640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2859120" y="6021360"/>
            <a:ext cx="54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Классный руководитель 10В класса ГБОУ СОШ №6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Макарова Татьяна Пав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" descr="C:\Users\Таня\Pictures\5bbdd724-3d89-487c-ac07-0895d6079054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484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413000"/>
            <a:ext cx="81532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насильственное изменение основ конституционного строя и    нарушение целостности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дрыв безопасности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захват или присвоение властных полномоч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незаконных вооруженных формиров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ение террористической деятельности либо публичное  оправдание террориз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озбуждение расовой, национальной или религиозной розни, а  также социальной розни,  связанной с насилием или призывами к  насил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нижение национального достоинств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C:\Users\Таня\Pictures\imagesCAGTAAP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557360"/>
            <a:ext cx="9144000" cy="52243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59984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насилия в отношении представителя государственной власти либо на угрозу применения насилия в отношении представителя государственной власти или его близких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нарушение прав и свобод человека и гражданина, причинение  вреда здоровью и имуществу граждан в связи с их убеждениями, расовой или национальной принадлежностью, вероисповеданием, социальной принадлежностью или социальным происхождением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создание и (или) распространение печатных, аудио-аудиовизуальных и иных материалов (произведений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сягательство на жизнь государственного или общественного деятеля, совершенное в целях прекращения его государственной или иной политической деятельности либо из мести за такую деятельность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C:\Users\Таня\Pictures\imagesCAUHHEKP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557360"/>
            <a:ext cx="9036000" cy="51847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1280" y="1484280"/>
            <a:ext cx="815328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опаганда и публичное демонстрирование нацистской  атрибутики или символики либо атрибутики или символики,  сходных с нацистской атрибутикой или символикой до степени  смеш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убличные призывы к осуществлению указанной деятельности, а также публичные призывы и выступления, побуждающие к осуществлению указанной деятельности, обосновывающие либо оправдывающие совершение деяний, указанных в настоящей статье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финансирование указанной деятельности либо иное содействие в планировании, организации, подготовке и совершении указанных действий, в том числе путем предоставления для осуществления указанной деятельности финансовых средств, недвижимости, учебной, полиграфической и материально-технической базы, телефонной, факсимильной и иных видов связи, информационных услуг, иных материально-технических средств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кинхеды, как носители идей национализма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348000" y="1600200"/>
            <a:ext cx="541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кинхедами или «скинами» называют участников относительно нового неформального молодежного движения, возникшего в Англии, Европе и Америке во второй половине 20 века. Слово «скинхед» произошло от слияния двух английских слов skin (кожа) и head (голова) и в буквальном переводе означает «кожаная голова»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2" descr="C:\Users\Таня\Pictures\skinxedy1.jpg"/>
          <p:cNvPicPr/>
          <p:nvPr/>
        </p:nvPicPr>
        <p:blipFill>
          <a:blip r:embed="rId1"/>
          <a:stretch/>
        </p:blipFill>
        <p:spPr>
          <a:xfrm>
            <a:off x="179280" y="15573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C:\Users\Таня\Pictures\untitled1.png"/>
          <p:cNvPicPr/>
          <p:nvPr/>
        </p:nvPicPr>
        <p:blipFill>
          <a:blip r:embed="rId2"/>
          <a:stretch/>
        </p:blipFill>
        <p:spPr>
          <a:xfrm>
            <a:off x="179280" y="4724280"/>
            <a:ext cx="30243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ая идея движения: </a:t>
            </a:r>
            <a:r>
              <a:rPr b="1" lang="ru-RU" sz="2400" spc="-1" strike="noStrike">
                <a:solidFill>
                  <a:srgbClr val="775f55"/>
                </a:solidFill>
                <a:latin typeface="Calibri"/>
              </a:rPr>
              <a:t>борьба за «чистоту» русской расы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48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C:\Users\Таня\Pictures\5.jpg"/>
          <p:cNvPicPr/>
          <p:nvPr/>
        </p:nvPicPr>
        <p:blipFill>
          <a:blip r:embed="rId1"/>
          <a:stretch/>
        </p:blipFill>
        <p:spPr>
          <a:xfrm>
            <a:off x="755640" y="1263600"/>
            <a:ext cx="7027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C:\Users\Таня\Pictures\imagesCAVTKVBJ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Основные методы работы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гитация, распространение листовок (обычно с расистскими призывами), различные акты вандализма (рисунки свастики на видных местах, и др.), нападения на иностранцев, лиц кавказской национальности, избиения граждан СНГ, общеуголовные преступления: нанесение изображений экстремистского характера, в том числе, свастики, хулиганство, распитие спиртных напитков, участие в столкновениях с футбольными фанат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тличительные признаки: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599840"/>
            <a:ext cx="5472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ритая голова (или короткая стрижка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муфляжная форма, куртки «бомберы» (черного цвета, внутри оранжевые), толстовки с капюшоном («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Lonsdale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»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ногах - «берцы», «гриндерсы», закатанные джинс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личие татуировок (обычно, свастика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они имеют в данной среде прозвища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2" descr="C:\Users\Таня\Pictures\22718.jpg"/>
          <p:cNvPicPr/>
          <p:nvPr/>
        </p:nvPicPr>
        <p:blipFill>
          <a:blip r:embed="rId1"/>
          <a:stretch/>
        </p:blipFill>
        <p:spPr>
          <a:xfrm>
            <a:off x="6415200" y="189000"/>
            <a:ext cx="2581200" cy="1800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Users\Таня\Pictures\7863.jpg"/>
          <p:cNvPicPr/>
          <p:nvPr/>
        </p:nvPicPr>
        <p:blipFill>
          <a:blip r:embed="rId2"/>
          <a:stretch/>
        </p:blipFill>
        <p:spPr>
          <a:xfrm>
            <a:off x="6084720" y="4581360"/>
            <a:ext cx="2857680" cy="2133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Users\Таня\Pictures\im3_5_8_lrg.jpg"/>
          <p:cNvPicPr/>
          <p:nvPr/>
        </p:nvPicPr>
        <p:blipFill>
          <a:blip r:embed="rId3"/>
          <a:stretch/>
        </p:blipFill>
        <p:spPr>
          <a:xfrm>
            <a:off x="6516720" y="2060640"/>
            <a:ext cx="24811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ополагающей идеей для них являетс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000" y="1599840"/>
            <a:ext cx="82976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неприятие инородцев, доходящее до ненависти. Здесь в полной мере проявляется открытое противостояние лицам иных рас и национальност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насилия, запугивание мирных граждан и даже представителей власти, организация погромов, терактов и убийств – эти действия направлены против всех «чужаков» одновременно Собирательный образ врага для скинов – «бремя белого человека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2" descr="C:\Users\Таня\Pictures\db0a444d5e8d4b3dc47b89e272af5c86.jpg"/>
          <p:cNvPicPr/>
          <p:nvPr/>
        </p:nvPicPr>
        <p:blipFill>
          <a:blip r:embed="rId1"/>
          <a:stretch/>
        </p:blipFill>
        <p:spPr>
          <a:xfrm>
            <a:off x="2556000" y="4241880"/>
            <a:ext cx="3924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68000" y="404280"/>
            <a:ext cx="5111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 на территории России действуют свыше 35 крупных скин - группировок, которые отличаются установленными правилами поведения и жесткой дисциплин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овском регионе активно действует 23 наиболее агрессивные группы, общей численностью достигающие более 3000 участнико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кт-Петербурге – около 9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троме группировки носят разрозненный характер, общая численность - около 40 челове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C:\Users\Таня\Pictures\picture.jpg"/>
          <p:cNvPicPr/>
          <p:nvPr/>
        </p:nvPicPr>
        <p:blipFill>
          <a:blip r:embed="rId1"/>
          <a:stretch/>
        </p:blipFill>
        <p:spPr>
          <a:xfrm>
            <a:off x="5796000" y="333360"/>
            <a:ext cx="3108240" cy="21589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"/>
          <p:cNvSpPr/>
          <p:nvPr/>
        </p:nvSpPr>
        <p:spPr>
          <a:xfrm>
            <a:off x="5724360" y="2565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Скинхеды. Факельное шествие в 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C:\Users\Таня\Pictures\watermark.jpg"/>
          <p:cNvPicPr/>
          <p:nvPr/>
        </p:nvPicPr>
        <p:blipFill>
          <a:blip r:embed="rId2"/>
          <a:stretch/>
        </p:blipFill>
        <p:spPr>
          <a:xfrm>
            <a:off x="5651640" y="3357720"/>
            <a:ext cx="3333600" cy="2143080"/>
          </a:xfrm>
          <a:prstGeom prst="rect">
            <a:avLst/>
          </a:prstGeom>
          <a:ln w="0">
            <a:noFill/>
          </a:ln>
        </p:spPr>
      </p:pic>
      <p:sp>
        <p:nvSpPr>
          <p:cNvPr id="420" name="TextBox 7"/>
          <p:cNvSpPr/>
          <p:nvPr/>
        </p:nvSpPr>
        <p:spPr>
          <a:xfrm>
            <a:off x="5651640" y="5589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В Костроме скинхеды напали на неформ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ве в настоящее время действуют группировки: - «Скинлегион» - «Русский филиал B&amp;H» (Blood&amp;Honor – запрещенная в Германии нацистская организация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Объединенные бригады-88» (8 – порядковый номер буквы h в латинском алфавите, и 88 означает начальные буквы приветствия «Хайль Гитлер!»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тромской области активисты скин-группировок неоднократно привлекались к уголовной и административной ответственности в связи с осуществлением деятельности экстремистской направлен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настоящем времени скин-сообщества существуют приблизительно в 85 городах.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C:\Users\Таня\Pictures\7ce9f237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экстремизм - это приверженность крайним взглядам и мерам.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кты насилия относятся к категории экстремистских, если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) они не только используются в качестве прямого способа достижения политических, идеологических и социальных целей, но и являются инструментом публичности и устрашения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б) они направлены на то, чтобы причинить вред не непосредственному противнику, а другим людя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Calibri"/>
              </a:rPr>
              <a:t>На территории РФ действует ряд молодёжных организаций, в отдельных акциях которых усматриваются признаки экстремистской деятельности.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ангард красной молодежи (АКМ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тестное гражданское движение «Оборона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Идущие без Путина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лодежная общественная организация «Пора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сесоюзная Молодая Гвардия Большевиков (ВМГБ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КСМ (большевики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олодежный левый фронт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оссийская ассоциация профсоюзных организаций студентов (РАПОС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«Евразийский Союз Молодежи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«Социалистическое сопротивление за рабочий интернационал» (СС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Союз коммунистической молодежи (СКМ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Центр общественных инициатив «УРА!» (Утро-Родина-Атака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Союз молодежи «За Родину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Российская демократическая партия «Наш выбор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Независимая ассоциация студентов «Я думаю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Молодежное правозащитное движ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75f55"/>
                </a:solidFill>
                <a:latin typeface="Calibri"/>
              </a:rPr>
              <a:t>Праворадикальные (националистические) </a:t>
            </a:r>
            <a:br>
              <a:rPr sz="2900"/>
            </a:br>
            <a:r>
              <a:rPr b="1" lang="ru-RU" sz="2900" spc="-1" strike="noStrike">
                <a:solidFill>
                  <a:srgbClr val="775f55"/>
                </a:solidFill>
                <a:latin typeface="Calibri"/>
              </a:rPr>
              <a:t>молодежные организации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одная национальная партия (ННП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циональное единство (РН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жение против нелегальной иммиграции (ДПН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авянский сою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одно-державная партия Росси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7" name="Object 7"/>
          <p:cNvGraphicFramePr/>
          <p:nvPr/>
        </p:nvGraphicFramePr>
        <p:xfrm>
          <a:off x="1619280" y="4797360"/>
          <a:ext cx="267660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797360"/>
                    <a:ext cx="2676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17"/>
          <p:cNvGraphicFramePr/>
          <p:nvPr/>
        </p:nvGraphicFramePr>
        <p:xfrm>
          <a:off x="6084720" y="4869000"/>
          <a:ext cx="1857600" cy="18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869000"/>
                    <a:ext cx="18576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1" name="Picture 6" descr="C:\Users\Таня\Pictures\imagesCA0B1TSH.jpg"/>
          <p:cNvPicPr/>
          <p:nvPr/>
        </p:nvPicPr>
        <p:blipFill>
          <a:blip r:embed="rId5"/>
          <a:stretch/>
        </p:blipFill>
        <p:spPr>
          <a:xfrm>
            <a:off x="250920" y="4941720"/>
            <a:ext cx="1800000" cy="1727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C:\Users\Таня\Pictures\imagesCACDPTAG.jpg"/>
          <p:cNvPicPr/>
          <p:nvPr/>
        </p:nvPicPr>
        <p:blipFill>
          <a:blip r:embed="rId6"/>
          <a:stretch/>
        </p:blipFill>
        <p:spPr>
          <a:xfrm>
            <a:off x="3851280" y="486900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7" name="voltage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059280" y="2209320"/>
            <a:ext cx="562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ой признак этих культов – все сатанистские и демонические вероучения считают, что объект их поклонения является в мире основной причиной зла и смерти. Адепты откровенных сатанистских сект поклоняются и служат злу и, что особенно для них характерно, ненавидят православие, негативно относятся ко всем культурообразующим традиционным религия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риверженцы сатанистских и</a:t>
            </a:r>
            <a:br>
              <a:rPr sz="3200"/>
            </a:br>
            <a:r>
              <a:rPr b="1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демонических культов.</a:t>
            </a:r>
            <a:br>
              <a:rPr sz="25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35" name="Picture 2" descr="http://ateismy.net/content/images/satanist.jpg"/>
          <p:cNvPicPr/>
          <p:nvPr/>
        </p:nvPicPr>
        <p:blipFill>
          <a:blip r:embed="rId1"/>
          <a:stretch/>
        </p:blipFill>
        <p:spPr>
          <a:xfrm>
            <a:off x="250920" y="1557360"/>
            <a:ext cx="237636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5003280" y="1600200"/>
            <a:ext cx="3762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ви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рные длинные волосы, большая крашеная чёлка, различного рода металлические украшения, неформальная одежда. Депрессия, самоуничтожение, протест против взрослых. Выражается протест в суицидальном поведении. Авторитет имеют те представители ЭМО, которые имели большее количество попыток суиц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бкультура ЭМ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38" name="Picture 2" descr="C:\Users\Таня\Pictures\0001-001-Emo.jpg"/>
          <p:cNvPicPr/>
          <p:nvPr/>
        </p:nvPicPr>
        <p:blipFill>
          <a:blip r:embed="rId1"/>
          <a:stretch/>
        </p:blipFill>
        <p:spPr>
          <a:xfrm>
            <a:off x="0" y="1628640"/>
            <a:ext cx="5292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75f55"/>
                </a:solidFill>
                <a:latin typeface="Calibri"/>
              </a:rPr>
              <a:t>Национал-большевистская партия (НБП).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40" name="Picture 1" descr="C:\Users\Таня\Pictures\imagesCA9FWVYS.jpg"/>
          <p:cNvPicPr/>
          <p:nvPr/>
        </p:nvPicPr>
        <p:blipFill>
          <a:blip r:embed="rId1"/>
          <a:stretch/>
        </p:blipFill>
        <p:spPr>
          <a:xfrm>
            <a:off x="468360" y="1773360"/>
            <a:ext cx="2581200" cy="251928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4"/>
          <p:cNvSpPr/>
          <p:nvPr/>
        </p:nvSpPr>
        <p:spPr>
          <a:xfrm>
            <a:off x="3995640" y="148428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личительный знак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ерп и молот в белом круге на красном фон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щность идеологи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«Испепеляющая ненависть к античеловеческой системе троицы: либерализма, демократии, капитализма. Человек восстания, национал-большевик видит свою миссию в разрушении системы до основания. На идеалах духовной мужественности, социальной и национальной справедливости будет построено традиционалистическое, иерархическое общество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ые методы действий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пространение листовок, агитация населения, выезды в Москву для участия в массовых акция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C:\Users\Таня\Pictures\imagesCAGSUMAB.jpg"/>
          <p:cNvPicPr/>
          <p:nvPr/>
        </p:nvPicPr>
        <p:blipFill>
          <a:blip r:embed="rId2"/>
          <a:stretch/>
        </p:blipFill>
        <p:spPr>
          <a:xfrm>
            <a:off x="7380360" y="18900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C:\Users\Таня\Pictures\imagesCALL627X.jpg"/>
          <p:cNvPicPr/>
          <p:nvPr/>
        </p:nvPicPr>
        <p:blipFill>
          <a:blip r:embed="rId3"/>
          <a:stretch/>
        </p:blipFill>
        <p:spPr>
          <a:xfrm>
            <a:off x="468360" y="450864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32000" y="228600"/>
            <a:ext cx="743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ВМЕСТЕ ПРОТИВ ЭКСТРЕМИЗМ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45" name="Picture 2" descr="C:\Users\Таня\Pictures\ea8a8d791ced870ab2b952be20148615.jpg"/>
          <p:cNvPicPr/>
          <p:nvPr/>
        </p:nvPicPr>
        <p:blipFill>
          <a:blip r:embed="rId1"/>
          <a:stretch/>
        </p:blipFill>
        <p:spPr>
          <a:xfrm>
            <a:off x="5940360" y="4508640"/>
            <a:ext cx="2764080" cy="20746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4"/>
          <p:cNvSpPr/>
          <p:nvPr/>
        </p:nvSpPr>
        <p:spPr>
          <a:xfrm>
            <a:off x="468360" y="177336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роризм и экстремиз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 молодеж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лодеж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 терроризма и экстремизма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" descr="C:\Users\Таня\Pictures\untitled 2.png"/>
          <p:cNvPicPr/>
          <p:nvPr/>
        </p:nvPicPr>
        <p:blipFill>
          <a:blip r:embed="rId2"/>
          <a:stretch/>
        </p:blipFill>
        <p:spPr>
          <a:xfrm>
            <a:off x="755640" y="4508640"/>
            <a:ext cx="4824360" cy="2089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C:\Users\Таня\Pictures\%20jlfjym%20wxbpcucrihl_%20zomxpvhk_%20001%20j25bthumbnail.jpg"/>
          <p:cNvPicPr/>
          <p:nvPr/>
        </p:nvPicPr>
        <p:blipFill>
          <a:blip r:embed="rId3"/>
          <a:stretch/>
        </p:blipFill>
        <p:spPr>
          <a:xfrm>
            <a:off x="6227640" y="1628640"/>
            <a:ext cx="2797200" cy="1871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C:\Users\Таня\Pictures\ekstr.jpg"/>
          <p:cNvPicPr/>
          <p:nvPr/>
        </p:nvPicPr>
        <p:blipFill>
          <a:blip r:embed="rId4"/>
          <a:stretch/>
        </p:blipFill>
        <p:spPr>
          <a:xfrm>
            <a:off x="179280" y="189000"/>
            <a:ext cx="10796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scienceport.ru/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www.dissers.ru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bugabooks.com/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newparlament.ru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ru.wikipedia.org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nnov.ruy.ru/news.html?did=171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gisap.eu/ru/node/398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Понимание культуры и традиций другой национальной группы - источник конструктивного межнационального сотрудничества.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целью налаживания отношений между разными этническими и национальными группа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относитесь к чужой культуре с тем же уважением с которым относитесь к собствен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не судите о ценностях, убеждениях и традициях других культу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талкиваясь от собственных це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никогда не исходите из превосходства своей религии над чужой религ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 Общаясь с представителями других верований старайтесь понимать и уважать их точку зр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 Помните, что каждая культура какой бы малой она не была, имеет что предложить миру, но нет такой культуры которая бы имела монополию на все аспек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 Всегда помните, что ни какие научные данные не доказывают превосходство одной этнической группы над друг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79280" y="2997000"/>
            <a:ext cx="38181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национального превосходства также рассматривается как фактор, способствующий всплескам агрессии и экстремизма, наряду с тремя культурными предпосылками, ведущими к развитию агрессии против других нац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140000" y="3068640"/>
            <a:ext cx="46796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озникновение идеологии антагонизма, вызванное изначальным разделением «своя», «чужая» группа, что затем приводит к тому, что внешней группе приписываются крайне негативные, часто основанные на стереотипных представлениях чер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деология национальной безопасности, в которой непрерывная оценка опасности противника и приспособление к ней заменяется безоговорочной целью любой ценой господствовать над ни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идение мира в свете питаемых войной ценностей, таких как товарищество, преданность национальная гордость или достойная цел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1" descr="C:\Users\Таня\Pictures\1292073223_061991_73.jpg"/>
          <p:cNvPicPr/>
          <p:nvPr/>
        </p:nvPicPr>
        <p:blipFill>
          <a:blip r:embed="rId1"/>
          <a:stretch/>
        </p:blipFill>
        <p:spPr>
          <a:xfrm>
            <a:off x="0" y="0"/>
            <a:ext cx="4643280" cy="2924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Users\Таня\Pictures\17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Меры профилактики экстремизма в молодёжной сред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оответствии со ст. 2 Федерального закона от 25.07.2002 г. № 114-ФЗ «О противодействии экстремистской деятельности» противодействие (т.е. пресечение и профилактика) экстремистской деятельности основывается на следующих принцип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нание, соблюдение и защита прав и свобод человека и гражданина, а равно законных интересов организа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он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с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ритет обеспечения безопасности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ритет мер, направленных на предупреждение экстремистск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трудничество государства с общественными и религиозными объединениями, иными организациями, гражданами в противодействии экстремистск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твратимость наказания за осуществление экстремистск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Фанаты Зенита отметили побед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4" name="Picture 2" descr="C:\Users\Таня\Pictures\1289946428_zenit_09.jpg"/>
          <p:cNvPicPr/>
          <p:nvPr/>
        </p:nvPicPr>
        <p:blipFill>
          <a:blip r:embed="rId1"/>
          <a:stretch/>
        </p:blipFill>
        <p:spPr>
          <a:xfrm>
            <a:off x="1355760" y="1628640"/>
            <a:ext cx="6667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частливые спортивные фанаты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6" name="Picture 2" descr="C:\Users\Таня\Pictures\1264774439_sport_fun-25.jpg"/>
          <p:cNvPicPr/>
          <p:nvPr/>
        </p:nvPicPr>
        <p:blipFill>
          <a:blip r:embed="rId1"/>
          <a:stretch/>
        </p:blipFill>
        <p:spPr>
          <a:xfrm>
            <a:off x="4716360" y="1484280"/>
            <a:ext cx="4283280" cy="2940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Таня\Pictures\1264774409_sport_fun-8.jpg"/>
          <p:cNvPicPr/>
          <p:nvPr/>
        </p:nvPicPr>
        <p:blipFill>
          <a:blip r:embed="rId2"/>
          <a:stretch/>
        </p:blipFill>
        <p:spPr>
          <a:xfrm>
            <a:off x="0" y="1484280"/>
            <a:ext cx="4643280" cy="2995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C:\Users\Таня\Pictures\spartak_cska__22_05_2005__11__560x420__14886.jpg"/>
          <p:cNvPicPr/>
          <p:nvPr/>
        </p:nvPicPr>
        <p:blipFill>
          <a:blip r:embed="rId3"/>
          <a:stretch/>
        </p:blipFill>
        <p:spPr>
          <a:xfrm>
            <a:off x="0" y="4221000"/>
            <a:ext cx="3203640" cy="2454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C:\Users\Таня\Pictures\TalismL.jpg"/>
          <p:cNvPicPr/>
          <p:nvPr/>
        </p:nvPicPr>
        <p:blipFill>
          <a:blip r:embed="rId4"/>
          <a:stretch/>
        </p:blipFill>
        <p:spPr>
          <a:xfrm>
            <a:off x="5867280" y="4221000"/>
            <a:ext cx="3276720" cy="2497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C:\Users\Таня\Pictures\08f02-(26).jpg"/>
          <p:cNvPicPr/>
          <p:nvPr/>
        </p:nvPicPr>
        <p:blipFill>
          <a:blip r:embed="rId5"/>
          <a:stretch/>
        </p:blipFill>
        <p:spPr>
          <a:xfrm>
            <a:off x="334800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Хоккейные фанаты устроили погром в Ванкувере</a:t>
            </a:r>
            <a:br>
              <a:rPr sz="40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3" descr="C:\Users\Таня\Pictures\vancouvr.jpg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3600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Таня\Pictures\vancouvz.jpg"/>
          <p:cNvPicPr/>
          <p:nvPr/>
        </p:nvPicPr>
        <p:blipFill>
          <a:blip r:embed="rId2"/>
          <a:stretch/>
        </p:blipFill>
        <p:spPr>
          <a:xfrm>
            <a:off x="4427640" y="3357720"/>
            <a:ext cx="4716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В Федеральном законе «О противодействии экстремистской деятельности» даётся следующее определение экстремизма: 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1280" y="1484280"/>
            <a:ext cx="8136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 экстремистская деятельность: 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) деятельность общественных и религиозных объединений, либо иных организаций, либо редакций средств массовой информации, либо физических лиц по планированию, организации, подготовке и совершению действий, направленных на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9" descr="%d0%a1%d1%82%d0%be%d0%bb%d0%ba%d0%ba%d0%b8%d0%b5%d0%b2"/>
          <p:cNvPicPr/>
          <p:nvPr/>
        </p:nvPicPr>
        <p:blipFill>
          <a:blip r:embed="rId1"/>
          <a:stretch/>
        </p:blipFill>
        <p:spPr>
          <a:xfrm>
            <a:off x="5148360" y="3933720"/>
            <a:ext cx="3755880" cy="2816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C:\Users\Таня\Pictures\11.jpg"/>
          <p:cNvPicPr/>
          <p:nvPr/>
        </p:nvPicPr>
        <p:blipFill>
          <a:blip r:embed="rId2"/>
          <a:stretch/>
        </p:blipFill>
        <p:spPr>
          <a:xfrm>
            <a:off x="900000" y="4292640"/>
            <a:ext cx="35276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5:48:59Z</dcterms:created>
  <dc:creator>Таня</dc:creator>
  <dc:description/>
  <dc:language>en-US</dc:language>
  <cp:lastModifiedBy>Николай</cp:lastModifiedBy>
  <dcterms:modified xsi:type="dcterms:W3CDTF">2013-04-25T08:13:39Z</dcterms:modified>
  <cp:revision>49</cp:revision>
  <dc:subject/>
  <dc:title>Слайд 1</dc:title>
</cp:coreProperties>
</file>