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AA9-14C7-44D1-BA75-EBBBF1B0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BDB-BDA0-40B6-AAE3-DB3CCD07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5E4-9EBF-4850-8683-51315F30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FD4-C2FC-4B50-9BF2-C18E19D7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6F5F-0D5F-423A-9244-86B601FF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7662-DB32-4E59-8C63-1D24DD5A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6869-24B5-4B5F-978C-7D46428C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C481-5B29-4C09-8675-B02871C7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5590-1481-4539-8DE7-3877AAD5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DE77-5E2D-4ADD-89A9-F0581530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BFC2-2918-4946-85D7-E8ED4417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8B1-B189-40C1-A5D8-5E49FBE6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4C1D-6208-4190-B4F4-BF5D490B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C213-65F9-44A2-841E-E7E986C3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3535-5E65-4D02-8D3A-BD2BD3A8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5191-CB87-4E15-AA6E-BC19EEDB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23C6-FF1A-4A06-8DBC-3428B636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00F-662F-4A96-B7B5-833D9D24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333B-0BD1-472E-BF8E-BC448A7F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88D-082F-419B-8FD0-7F0E00B8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DAB-EE39-465F-81D0-FB73EDF5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E90-0282-4CE8-840C-1BBE16AB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F83-BB34-4E14-9098-51A34B83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DF6-EBEC-4AC3-B80D-3626681D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614D-A1E0-4562-BF02-08B05DD65B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E143-9690-447A-B2AB-5D15F57852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1.wmf"/><Relationship Id="rId17" Type="http://schemas.openxmlformats.org/officeDocument/2006/relationships/image" Target="../media/image12.png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14.wmf"/><Relationship Id="rId22" Type="http://schemas.openxmlformats.org/officeDocument/2006/relationships/image" Target="../media/image15.png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6.wmf"/><Relationship Id="rId25" Type="http://schemas.openxmlformats.org/officeDocument/2006/relationships/image" Target="../media/image17.jpe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0" y="3060720"/>
            <a:ext cx="9144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332000" y="612720"/>
            <a:ext cx="655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476360" y="0"/>
            <a:ext cx="7128000" cy="66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Управление образования г. Аст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школа- лицей  № 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анорамный урок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«Вычисление производн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                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Выполнила: 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аулетбекова Г.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200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4572000" y="189000"/>
            <a:ext cx="4390920" cy="30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572000" y="3573360"/>
            <a:ext cx="4390920" cy="30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79280" y="3573360"/>
            <a:ext cx="4211640" cy="30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179280" y="189000"/>
            <a:ext cx="4211640" cy="30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692280"/>
            <a:ext cx="3672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роизводной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4716360" y="47628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ид Гильбе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GILBERT"/>
          <p:cNvPicPr/>
          <p:nvPr/>
        </p:nvPicPr>
        <p:blipFill>
          <a:blip r:embed="rId1"/>
          <a:stretch/>
        </p:blipFill>
        <p:spPr>
          <a:xfrm>
            <a:off x="4716360" y="907920"/>
            <a:ext cx="1382760" cy="2157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Рисунок1"/>
          <p:cNvPicPr/>
          <p:nvPr/>
        </p:nvPicPr>
        <p:blipFill>
          <a:blip r:embed="rId2"/>
          <a:stretch/>
        </p:blipFill>
        <p:spPr>
          <a:xfrm>
            <a:off x="5940360" y="476280"/>
            <a:ext cx="2892600" cy="26859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0"/>
          <p:cNvSpPr/>
          <p:nvPr/>
        </p:nvSpPr>
        <p:spPr>
          <a:xfrm>
            <a:off x="611280" y="3429000"/>
            <a:ext cx="345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50920" y="4076640"/>
            <a:ext cx="43210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ец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еред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ков ознаменовались огромным интересом ученых к объяснению движения и нахождению законов, которым оно подчиняется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никогда остро встали вопросы об определении и вычислении скорости движения и его ускорения. Решение этих вопросов привело к установлению связи между задачей о вычислении скорости движения тела и задачей проведения касательной к кривой, описывающей зависимость пройденного расстояния от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4716360" y="364500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е понятие производной было сделано независимо друг от друга почти одновреме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newton"/>
          <p:cNvPicPr/>
          <p:nvPr/>
        </p:nvPicPr>
        <p:blipFill>
          <a:blip r:embed="rId3"/>
          <a:stretch/>
        </p:blipFill>
        <p:spPr>
          <a:xfrm>
            <a:off x="4716360" y="5013360"/>
            <a:ext cx="1238400" cy="1596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годф"/>
          <p:cNvPicPr/>
          <p:nvPr/>
        </p:nvPicPr>
        <p:blipFill>
          <a:blip r:embed="rId4"/>
          <a:stretch/>
        </p:blipFill>
        <p:spPr>
          <a:xfrm>
            <a:off x="7491240" y="5013360"/>
            <a:ext cx="1224000" cy="15843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5"/>
          <p:cNvSpPr/>
          <p:nvPr/>
        </p:nvSpPr>
        <p:spPr>
          <a:xfrm>
            <a:off x="4643280" y="4365720"/>
            <a:ext cx="21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глийским физиком и математиком И.Ньюто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6877080" y="4365720"/>
            <a:ext cx="201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м философом и математиком Г.Лейбниц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17"/>
          <p:cNvSpPr txBox="1"/>
          <p:nvPr/>
        </p:nvSpPr>
        <p:spPr>
          <a:xfrm>
            <a:off x="6732720" y="4653000"/>
            <a:ext cx="123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1042920" y="620640"/>
            <a:ext cx="24494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78200" y="25956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и оце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79280" y="907920"/>
          <a:ext cx="8425080" cy="4897440"/>
        </p:xfrm>
        <a:graphic>
          <a:graphicData uri="http://schemas.openxmlformats.org/drawingml/2006/table">
            <a:tbl>
              <a:tblPr/>
              <a:tblGrid>
                <a:gridCol w="2106720"/>
                <a:gridCol w="2106720"/>
                <a:gridCol w="2104920"/>
                <a:gridCol w="210672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найдаров Му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зумова Дина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йж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таева Гульмар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Rectangle 134"/>
          <p:cNvSpPr/>
          <p:nvPr/>
        </p:nvSpPr>
        <p:spPr>
          <a:xfrm>
            <a:off x="0" y="490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684360" y="260280"/>
            <a:ext cx="734364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767ff"/>
                </a:solidFill>
                <a:latin typeface="Times New Roman"/>
              </a:rPr>
              <a:t>Анно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Это урок-практикум по теме «Вычисление производной». Урок проводится с применением интерактивной доски. Продолжительность 15 минут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  На данном уроке рассматриваются вопросы, способствующ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-закреплению навыков вычисления производ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- развитию умений выделять глав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логически излагать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Урок рассчитан на творческую деятельность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50920" y="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Алгебра и начала анализа (10 «Д» класс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24000" y="47628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ff"/>
                </a:solidFill>
                <a:latin typeface="Times New Roman"/>
              </a:rPr>
              <a:t>Тема панорамного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«Вычисление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68360" y="1484280"/>
            <a:ext cx="878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Цель урока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репление знаний по теме «Производна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нформационно-коммуникационн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ип урок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к закрепления знаний, умений и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Форма уро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а в малой груп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ехнические средства обуч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терактивная доска,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11280" y="404640"/>
            <a:ext cx="7993080" cy="62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Задачи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ганизовать работу учащихся по систематизации знаний основных теоретических вопросов 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общить умения и навыки учащихся при вычислении производ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вивать интеллектуальную,  рефлексивную культу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выки самостоятельной деятельности, навыки самоконтроля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спитывать культуру умственного труда, умение давать самооценку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редполагаемые результаты обучающих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нать и уметь применять правила дифференциров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мулы вычисления производных  линейной, степен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игонометрических фун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539640" y="1484280"/>
            <a:ext cx="748836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Используемая 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А. Е. Абылкасымова, К. Д. Шойынбеков, М. И. Есенова, З. А. Жумагулова «Алгебра и начала анализа», 10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Сборник задач по алгеб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Учебное пособие для 10-классов естественно-математического направления общеобразовательных шк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3. Старцева Н.А. Применение электронных пособий на уроках математики // Информационные технологии в образовании. Сб. научно - методических материалов, Новосибирск: НГУ,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79280" y="476280"/>
            <a:ext cx="864072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767ff"/>
                </a:solidFill>
                <a:latin typeface="Times New Roman"/>
              </a:rPr>
              <a:t>Основные этапы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ационный мо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Французский писатель Анатоль Франс (1844–1924) заметил: «Что учиться можно только весело... Чтобы переварить знания, надо поглощать их с аппетитом».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ледуем совету писателя: будем на уроке активны, внимательны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д нами стоит задача: повторить и закрепить правила вычисления производных, формулы производной сложной, степенной и тригонометрических функций. Сегодняшний урок пройдет с использованием презент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ктивизация знаний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тная разминка, повторение правил вычисления произво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слайд №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ктическая ча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а по таблице у интерактивной доски на тему «Производные» (решение приме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Проверка творческого домашнего задания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рическая справка о создании теории производной (оформить в виде презентации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айд №2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Домашнее задание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дготовить презентацию на тему: « Применение производной к исследованию функ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флексия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мооценка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042920" y="1413000"/>
          <a:ext cx="7488360" cy="4217760"/>
        </p:xfrm>
        <a:graphic>
          <a:graphicData uri="http://schemas.openxmlformats.org/drawingml/2006/table">
            <a:tbl>
              <a:tblPr/>
              <a:tblGrid>
                <a:gridCol w="2495520"/>
                <a:gridCol w="2497320"/>
                <a:gridCol w="24955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³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х (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х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х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Line 55"/>
          <p:cNvSpPr/>
          <p:nvPr/>
        </p:nvSpPr>
        <p:spPr>
          <a:xfrm>
            <a:off x="3851280" y="141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6"/>
          <p:cNvSpPr/>
          <p:nvPr/>
        </p:nvSpPr>
        <p:spPr>
          <a:xfrm>
            <a:off x="6372360" y="141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60"/>
          <p:cNvSpPr txBox="1"/>
          <p:nvPr/>
        </p:nvSpPr>
        <p:spPr>
          <a:xfrm>
            <a:off x="1619280" y="404640"/>
            <a:ext cx="626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Заполните таблицу, решив данные примеры</a:t>
            </a:r>
            <a:endParaRPr b="0" lang="en-US" sz="24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(на интерактивной доске):</a:t>
            </a:r>
            <a:endParaRPr b="0" lang="en-US" sz="24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59280" y="189000"/>
            <a:ext cx="273672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79280" y="189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012000" y="189000"/>
            <a:ext cx="273672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059280" y="3618000"/>
            <a:ext cx="273672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084720" y="3618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84360" y="476280"/>
            <a:ext cx="1800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50920" y="1052640"/>
            <a:ext cx="2871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пределение производной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539640" y="1341360"/>
                <a:ext cx="1944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324000" y="1773360"/>
                <a:ext cx="1079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С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1"/>
              <p:cNvSpPr txBox="1"/>
              <p:nvPr/>
            </p:nvSpPr>
            <p:spPr>
              <a:xfrm>
                <a:off x="1619280" y="1916280"/>
                <a:ext cx="10526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2"/>
              <p:cNvSpPr txBox="1"/>
              <p:nvPr/>
            </p:nvSpPr>
            <p:spPr>
              <a:xfrm>
                <a:off x="324000" y="2703600"/>
                <a:ext cx="15112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3"/>
              <p:cNvSpPr txBox="1"/>
              <p:nvPr/>
            </p:nvSpPr>
            <p:spPr>
              <a:xfrm>
                <a:off x="1908000" y="2637000"/>
                <a:ext cx="936720" cy="53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14"/>
          <p:cNvSpPr/>
          <p:nvPr/>
        </p:nvSpPr>
        <p:spPr>
          <a:xfrm>
            <a:off x="3492360" y="262080"/>
            <a:ext cx="22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авила вычисления производны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3708360" y="765000"/>
            <a:ext cx="1800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u+v)'=u'+v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uv)'=u'v+uv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u/v)'=(u'v-uv'):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3203640" y="1628640"/>
            <a:ext cx="25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изводные тригонометрических функц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3419640" y="2276640"/>
            <a:ext cx="2160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spcBef>
                <a:spcPts val="2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sinx)'=cos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cosx)'=-sinx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ctgx)'=-1/si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ahoma"/>
              </a:rPr>
              <a:t>²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tgx)'=1/co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ahoma"/>
              </a:rPr>
              <a:t>²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8" descr="Image209"/>
          <p:cNvPicPr/>
          <p:nvPr/>
        </p:nvPicPr>
        <p:blipFill>
          <a:blip r:embed="rId1"/>
          <a:stretch/>
        </p:blipFill>
        <p:spPr>
          <a:xfrm>
            <a:off x="6227640" y="2276640"/>
            <a:ext cx="2305080" cy="414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9"/>
          <p:cNvSpPr/>
          <p:nvPr/>
        </p:nvSpPr>
        <p:spPr>
          <a:xfrm>
            <a:off x="6156360" y="26370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Image214"/>
          <p:cNvPicPr/>
          <p:nvPr/>
        </p:nvPicPr>
        <p:blipFill>
          <a:blip r:embed="rId2"/>
          <a:stretch/>
        </p:blipFill>
        <p:spPr>
          <a:xfrm>
            <a:off x="6227640" y="2924280"/>
            <a:ext cx="193212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1"/>
          <p:cNvSpPr/>
          <p:nvPr/>
        </p:nvSpPr>
        <p:spPr>
          <a:xfrm>
            <a:off x="179280" y="3618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324000" y="386064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зический смысл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395280" y="4365720"/>
            <a:ext cx="201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spcBef>
                <a:spcPts val="2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задаче о мгновенной скорости каждому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соответствует свое значение мгновенной скорости, т.е. производная от пути по времени есть скор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4"/>
          <p:cNvSpPr/>
          <p:nvPr/>
        </p:nvSpPr>
        <p:spPr>
          <a:xfrm>
            <a:off x="-1332000" y="5661000"/>
            <a:ext cx="38894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общем случае, производная – это скорость изменения функц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3132000" y="3716280"/>
            <a:ext cx="2603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 функция </a:t>
            </a:r>
            <a:r>
              <a:rPr b="0" lang="en-US" sz="900" spc="-1" strike="noStrike">
                <a:solidFill>
                  <a:srgbClr val="000000"/>
                </a:solidFill>
                <a:latin typeface="Script MT Bold"/>
              </a:rPr>
              <a:t>f(x)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имеет производную в точке </a:t>
            </a:r>
            <a:r>
              <a:rPr b="0" lang="en-US" sz="900" spc="-1" strike="noStrike">
                <a:solidFill>
                  <a:srgbClr val="000000"/>
                </a:solidFill>
                <a:latin typeface="Script MT Bold"/>
              </a:rPr>
              <a:t>x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о эта функция называется </a:t>
            </a:r>
            <a:r>
              <a:rPr b="0" lang="ru-RU" sz="900" spc="-1" strike="noStrike" u="sng">
                <a:solidFill>
                  <a:srgbClr val="000000"/>
                </a:solidFill>
                <a:uFillTx/>
                <a:latin typeface="Arial"/>
              </a:rPr>
              <a:t>дифференцируемой в этой точке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3132000" y="4437000"/>
            <a:ext cx="25815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 функция </a:t>
            </a:r>
            <a:r>
              <a:rPr b="0" lang="en-US" sz="900" spc="-1" strike="noStrike">
                <a:solidFill>
                  <a:srgbClr val="000000"/>
                </a:solidFill>
                <a:latin typeface="Script MT Bold"/>
              </a:rPr>
              <a:t>f(x)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имеет производную в каждой точке некоторого промежутка, то говорят, что эта функция </a:t>
            </a:r>
            <a:r>
              <a:rPr b="0" lang="ru-RU" sz="900" spc="-1" strike="noStrike" u="sng">
                <a:solidFill>
                  <a:srgbClr val="000000"/>
                </a:solidFill>
                <a:uFillTx/>
                <a:latin typeface="Arial"/>
              </a:rPr>
              <a:t>дифференцируема на этом промежутке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3348000" y="5445000"/>
            <a:ext cx="237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перация нахождения производной называется </a:t>
            </a:r>
            <a:r>
              <a:rPr b="0" lang="ru-RU" sz="900" spc="-1" strike="noStrike" u="sng">
                <a:solidFill>
                  <a:srgbClr val="000000"/>
                </a:solidFill>
                <a:uFillTx/>
                <a:latin typeface="Arial"/>
              </a:rPr>
              <a:t>дифференцированием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6227640" y="4005360"/>
            <a:ext cx="44640" cy="24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 flipH="1">
            <a:off x="6300360" y="55166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>
            <a:off x="7829640" y="3835440"/>
            <a:ext cx="144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604360" y="3716280"/>
            <a:ext cx="1440" cy="19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6227640" y="4221000"/>
            <a:ext cx="1559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6270480" y="3618000"/>
            <a:ext cx="2346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4"/>
          <p:cNvSpPr/>
          <p:nvPr/>
        </p:nvSpPr>
        <p:spPr>
          <a:xfrm>
            <a:off x="6300720" y="3860640"/>
            <a:ext cx="2521080" cy="1584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3085" h="2268">
                <a:moveTo>
                  <a:pt x="0" y="2268"/>
                </a:moveTo>
                <a:cubicBezTo>
                  <a:pt x="371" y="1765"/>
                  <a:pt x="742" y="1263"/>
                  <a:pt x="1180" y="953"/>
                </a:cubicBezTo>
                <a:cubicBezTo>
                  <a:pt x="1618" y="643"/>
                  <a:pt x="2313" y="567"/>
                  <a:pt x="2631" y="408"/>
                </a:cubicBezTo>
                <a:cubicBezTo>
                  <a:pt x="2949" y="249"/>
                  <a:pt x="3032" y="83"/>
                  <a:pt x="308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7829640" y="5568840"/>
            <a:ext cx="787320" cy="1800"/>
          </a:xfrm>
          <a:prstGeom prst="line">
            <a:avLst/>
          </a:prstGeom>
          <a:ln w="3492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6"/>
          <p:cNvSpPr/>
          <p:nvPr/>
        </p:nvSpPr>
        <p:spPr>
          <a:xfrm>
            <a:off x="7740720" y="4149720"/>
            <a:ext cx="160200" cy="1461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7"/>
          <p:cNvSpPr/>
          <p:nvPr/>
        </p:nvSpPr>
        <p:spPr>
          <a:xfrm>
            <a:off x="8604360" y="3860640"/>
            <a:ext cx="160200" cy="1461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5981400" y="3716280"/>
            <a:ext cx="1369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 marL="460440" indent="-4604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9"/>
          <p:cNvSpPr/>
          <p:nvPr/>
        </p:nvSpPr>
        <p:spPr>
          <a:xfrm>
            <a:off x="6340320" y="6093000"/>
            <a:ext cx="2172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 marL="460440" indent="-4604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Script MT Bold"/>
              </a:rPr>
              <a:t>y=f(x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0"/>
          <p:cNvSpPr/>
          <p:nvPr/>
        </p:nvSpPr>
        <p:spPr>
          <a:xfrm>
            <a:off x="7524720" y="5634000"/>
            <a:ext cx="4366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spAutoFit/>
          </a:bodyPr>
          <a:p>
            <a:pPr marL="460440" indent="-460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1"/>
          <p:cNvSpPr/>
          <p:nvPr/>
        </p:nvSpPr>
        <p:spPr>
          <a:xfrm>
            <a:off x="7916760" y="5135400"/>
            <a:ext cx="438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spAutoFit/>
          </a:bodyPr>
          <a:p>
            <a:pPr marL="460440" indent="-4604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100" spc="-1" strike="noStrike">
                <a:solidFill>
                  <a:srgbClr val="d9d8ec"/>
                </a:solidFill>
                <a:latin typeface="Script MT Bold"/>
              </a:rPr>
              <a:t>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2"/>
          <p:cNvSpPr/>
          <p:nvPr/>
        </p:nvSpPr>
        <p:spPr>
          <a:xfrm>
            <a:off x="8529480" y="5492880"/>
            <a:ext cx="160560" cy="141120"/>
          </a:xfrm>
          <a:prstGeom prst="ellipse">
            <a:avLst/>
          </a:prstGeom>
          <a:solidFill>
            <a:srgbClr val="d9d8ec"/>
          </a:solidFill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3"/>
          <p:cNvSpPr/>
          <p:nvPr/>
        </p:nvSpPr>
        <p:spPr>
          <a:xfrm>
            <a:off x="7756560" y="5492880"/>
            <a:ext cx="160200" cy="141120"/>
          </a:xfrm>
          <a:prstGeom prst="ellipse">
            <a:avLst/>
          </a:prstGeom>
          <a:solidFill>
            <a:srgbClr val="d9d8ec"/>
          </a:solidFill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4"/>
          <p:cNvSpPr/>
          <p:nvPr/>
        </p:nvSpPr>
        <p:spPr>
          <a:xfrm>
            <a:off x="6084720" y="260280"/>
            <a:ext cx="25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изический смысл производно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5"/>
          <p:cNvSpPr/>
          <p:nvPr/>
        </p:nvSpPr>
        <p:spPr>
          <a:xfrm>
            <a:off x="6156360" y="1700280"/>
            <a:ext cx="23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ную сложной фун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6"/>
              <p:cNvSpPr txBox="1"/>
              <p:nvPr/>
            </p:nvSpPr>
            <p:spPr>
              <a:xfrm>
                <a:off x="6227640" y="907920"/>
                <a:ext cx="2160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79280" y="189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227640" y="3618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3276720" y="3618000"/>
            <a:ext cx="273672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79280" y="3618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276720" y="189000"/>
            <a:ext cx="273672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227640" y="189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50920" y="333360"/>
            <a:ext cx="2449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419640" y="404640"/>
            <a:ext cx="2376360" cy="1008360"/>
          </a:xfrm>
          <a:prstGeom prst="rect">
            <a:avLst/>
          </a:prstGeom>
          <a:solidFill>
            <a:srgbClr val="abea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нятие предела функций в точке и непрерывность фун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10"/>
          <p:cNvGraphicFramePr/>
          <p:nvPr/>
        </p:nvGraphicFramePr>
        <p:xfrm>
          <a:off x="3492360" y="1484280"/>
          <a:ext cx="237672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23767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Picture 11" descr="MYNET062"/>
          <p:cNvPicPr/>
          <p:nvPr/>
        </p:nvPicPr>
        <p:blipFill>
          <a:blip r:embed="rId3"/>
          <a:stretch/>
        </p:blipFill>
        <p:spPr>
          <a:xfrm>
            <a:off x="3492360" y="2276640"/>
            <a:ext cx="107964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BD00146_"/>
          <p:cNvPicPr/>
          <p:nvPr/>
        </p:nvPicPr>
        <p:blipFill>
          <a:blip r:embed="rId4"/>
          <a:stretch/>
        </p:blipFill>
        <p:spPr>
          <a:xfrm>
            <a:off x="4716360" y="2349360"/>
            <a:ext cx="1150920" cy="927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3"/>
          <p:cNvSpPr/>
          <p:nvPr/>
        </p:nvSpPr>
        <p:spPr>
          <a:xfrm>
            <a:off x="6516720" y="333360"/>
            <a:ext cx="225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предела функции в точк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4"/>
          <p:cNvGraphicFramePr/>
          <p:nvPr/>
        </p:nvGraphicFramePr>
        <p:xfrm>
          <a:off x="6659640" y="1052640"/>
          <a:ext cx="71892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1052640"/>
                    <a:ext cx="718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WordArt 15"/>
          <p:cNvSpPr txBox="1"/>
          <p:nvPr/>
        </p:nvSpPr>
        <p:spPr>
          <a:xfrm>
            <a:off x="6372360" y="1197000"/>
            <a:ext cx="104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170" name="Object 16"/>
          <p:cNvGraphicFramePr/>
          <p:nvPr/>
        </p:nvGraphicFramePr>
        <p:xfrm>
          <a:off x="6588000" y="1484280"/>
          <a:ext cx="136692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88000" y="1484280"/>
                    <a:ext cx="1366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WordArt 17"/>
          <p:cNvSpPr txBox="1"/>
          <p:nvPr/>
        </p:nvSpPr>
        <p:spPr>
          <a:xfrm>
            <a:off x="6300720" y="1557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WordArt 18"/>
          <p:cNvSpPr txBox="1"/>
          <p:nvPr/>
        </p:nvSpPr>
        <p:spPr>
          <a:xfrm>
            <a:off x="6300720" y="1916280"/>
            <a:ext cx="17640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6588000" y="1844640"/>
          <a:ext cx="2376720" cy="31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1844640"/>
                    <a:ext cx="23767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20"/>
          <p:cNvGraphicFramePr/>
          <p:nvPr/>
        </p:nvGraphicFramePr>
        <p:xfrm>
          <a:off x="6659640" y="2276640"/>
          <a:ext cx="2160360" cy="29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59640" y="2276640"/>
                    <a:ext cx="216036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21"/>
          <p:cNvGraphicFramePr/>
          <p:nvPr/>
        </p:nvGraphicFramePr>
        <p:xfrm>
          <a:off x="6659640" y="2637000"/>
          <a:ext cx="1584360" cy="326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9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59640" y="2637000"/>
                    <a:ext cx="158436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2"/>
          <p:cNvGraphicFramePr/>
          <p:nvPr/>
        </p:nvGraphicFramePr>
        <p:xfrm>
          <a:off x="6659640" y="2997360"/>
          <a:ext cx="1009440" cy="34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1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59640" y="2997360"/>
                    <a:ext cx="1009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WordArt 23"/>
          <p:cNvSpPr txBox="1"/>
          <p:nvPr/>
        </p:nvSpPr>
        <p:spPr>
          <a:xfrm>
            <a:off x="6372360" y="2276640"/>
            <a:ext cx="104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WordArt 24"/>
          <p:cNvSpPr txBox="1"/>
          <p:nvPr/>
        </p:nvSpPr>
        <p:spPr>
          <a:xfrm>
            <a:off x="6372360" y="2637000"/>
            <a:ext cx="104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WordArt 25"/>
          <p:cNvSpPr txBox="1"/>
          <p:nvPr/>
        </p:nvSpPr>
        <p:spPr>
          <a:xfrm>
            <a:off x="6372360" y="2997360"/>
            <a:ext cx="104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250920" y="3933720"/>
            <a:ext cx="2593800" cy="1527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Если в точке х функций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имеют производные, причем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0, то в этой точке существует производная частного этих функций     , которая вычисляется по форму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27"/>
              <p:cNvSpPr txBox="1"/>
              <p:nvPr/>
            </p:nvSpPr>
            <p:spPr>
              <a:xfrm>
                <a:off x="468360" y="5589720"/>
                <a:ext cx="2232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v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7" name="Picture 28" descr=""/>
          <p:cNvPicPr/>
          <p:nvPr/>
        </p:nvPicPr>
        <p:blipFill>
          <a:blip r:embed="rId17"/>
          <a:stretch/>
        </p:blipFill>
        <p:spPr>
          <a:xfrm>
            <a:off x="395280" y="765000"/>
            <a:ext cx="2376360" cy="244800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188" name="Rectangle 29"/>
          <p:cNvSpPr/>
          <p:nvPr/>
        </p:nvSpPr>
        <p:spPr>
          <a:xfrm>
            <a:off x="3492360" y="3716280"/>
            <a:ext cx="246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авило Лопиталя-Бернул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30"/>
          <p:cNvGraphicFramePr/>
          <p:nvPr/>
        </p:nvGraphicFramePr>
        <p:xfrm>
          <a:off x="3708360" y="4221000"/>
          <a:ext cx="2016000" cy="722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90" name="Object 3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708360" y="4221000"/>
                    <a:ext cx="20160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31"/>
          <p:cNvGraphicFramePr/>
          <p:nvPr/>
        </p:nvGraphicFramePr>
        <p:xfrm>
          <a:off x="3492360" y="5950080"/>
          <a:ext cx="2448000" cy="6919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92" name="Object 3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492360" y="5950080"/>
                    <a:ext cx="244800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Picture 32" descr=""/>
          <p:cNvPicPr/>
          <p:nvPr/>
        </p:nvPicPr>
        <p:blipFill>
          <a:blip r:embed="rId22"/>
          <a:stretch/>
        </p:blipFill>
        <p:spPr>
          <a:xfrm>
            <a:off x="3708360" y="5013360"/>
            <a:ext cx="2124000" cy="78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Object 33"/>
          <p:cNvGraphicFramePr/>
          <p:nvPr/>
        </p:nvGraphicFramePr>
        <p:xfrm>
          <a:off x="6372360" y="4076640"/>
          <a:ext cx="2447640" cy="2035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5" name="Object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72360" y="4076640"/>
                    <a:ext cx="244764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Freeform 34"/>
          <p:cNvSpPr/>
          <p:nvPr/>
        </p:nvSpPr>
        <p:spPr>
          <a:xfrm>
            <a:off x="6948360" y="4508640"/>
            <a:ext cx="1800360" cy="10810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948" h="1475">
                <a:moveTo>
                  <a:pt x="0" y="1475"/>
                </a:moveTo>
                <a:cubicBezTo>
                  <a:pt x="7" y="1414"/>
                  <a:pt x="15" y="1354"/>
                  <a:pt x="45" y="1248"/>
                </a:cubicBezTo>
                <a:cubicBezTo>
                  <a:pt x="75" y="1142"/>
                  <a:pt x="121" y="976"/>
                  <a:pt x="181" y="840"/>
                </a:cubicBezTo>
                <a:cubicBezTo>
                  <a:pt x="241" y="704"/>
                  <a:pt x="310" y="544"/>
                  <a:pt x="408" y="431"/>
                </a:cubicBezTo>
                <a:cubicBezTo>
                  <a:pt x="506" y="318"/>
                  <a:pt x="642" y="227"/>
                  <a:pt x="771" y="159"/>
                </a:cubicBezTo>
                <a:cubicBezTo>
                  <a:pt x="900" y="91"/>
                  <a:pt x="1028" y="46"/>
                  <a:pt x="1179" y="23"/>
                </a:cubicBezTo>
                <a:cubicBezTo>
                  <a:pt x="1330" y="0"/>
                  <a:pt x="1519" y="0"/>
                  <a:pt x="1678" y="23"/>
                </a:cubicBezTo>
                <a:cubicBezTo>
                  <a:pt x="1837" y="46"/>
                  <a:pt x="1966" y="83"/>
                  <a:pt x="2132" y="159"/>
                </a:cubicBezTo>
                <a:cubicBezTo>
                  <a:pt x="2298" y="235"/>
                  <a:pt x="2540" y="394"/>
                  <a:pt x="2676" y="477"/>
                </a:cubicBezTo>
                <a:cubicBezTo>
                  <a:pt x="2812" y="560"/>
                  <a:pt x="2880" y="609"/>
                  <a:pt x="2948" y="658"/>
                </a:cubicBez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35"/>
          <p:cNvGrpSpPr/>
          <p:nvPr/>
        </p:nvGrpSpPr>
        <p:grpSpPr>
          <a:xfrm>
            <a:off x="6414480" y="5709960"/>
            <a:ext cx="2333880" cy="924480"/>
            <a:chOff x="6414480" y="5709960"/>
            <a:chExt cx="2333880" cy="924480"/>
          </a:xfrm>
        </p:grpSpPr>
        <p:sp>
          <p:nvSpPr>
            <p:cNvPr id="198" name="Freeform 36"/>
            <p:cNvSpPr/>
            <p:nvPr/>
          </p:nvSpPr>
          <p:spPr>
            <a:xfrm flipH="1" rot="4881600">
              <a:off x="7296840" y="5049360"/>
              <a:ext cx="593640" cy="2244960"/>
            </a:xfrm>
            <a:custGeom>
              <a:avLst/>
              <a:gdLst>
                <a:gd name="textAreaLeft" fmla="*/ -360 w 593640"/>
                <a:gd name="textAreaRight" fmla="*/ 593640 w 593640"/>
                <a:gd name="textAreaTop" fmla="*/ 0 h 2244960"/>
                <a:gd name="textAreaBottom" fmla="*/ 2245320 h 224496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7"/>
            <p:cNvSpPr/>
            <p:nvPr/>
          </p:nvSpPr>
          <p:spPr>
            <a:xfrm flipH="1" rot="4881600">
              <a:off x="6566760" y="5856840"/>
              <a:ext cx="149040" cy="4363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8"/>
            <p:cNvSpPr/>
            <p:nvPr/>
          </p:nvSpPr>
          <p:spPr>
            <a:xfrm flipH="1" rot="4881600">
              <a:off x="6484680" y="5966640"/>
              <a:ext cx="56880" cy="165600"/>
            </a:xfrm>
            <a:custGeom>
              <a:avLst/>
              <a:gdLst>
                <a:gd name="textAreaLeft" fmla="*/ 360 w 56880"/>
                <a:gd name="textAreaRight" fmla="*/ 57600 w 568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9"/>
            <p:cNvSpPr/>
            <p:nvPr/>
          </p:nvSpPr>
          <p:spPr>
            <a:xfrm flipH="1" rot="4881600">
              <a:off x="7504200" y="5200920"/>
              <a:ext cx="518400" cy="1875960"/>
            </a:xfrm>
            <a:custGeom>
              <a:avLst/>
              <a:gdLst>
                <a:gd name="textAreaLeft" fmla="*/ 360 w 518400"/>
                <a:gd name="textAreaRight" fmla="*/ 519120 w 518400"/>
                <a:gd name="textAreaTop" fmla="*/ 0 h 1875960"/>
                <a:gd name="textAreaBottom" fmla="*/ 1876320 h 187596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0"/>
          <p:cNvGrpSpPr/>
          <p:nvPr/>
        </p:nvGrpSpPr>
        <p:grpSpPr>
          <a:xfrm>
            <a:off x="6467040" y="3906720"/>
            <a:ext cx="1657440" cy="1378800"/>
            <a:chOff x="6467040" y="3906720"/>
            <a:chExt cx="1657440" cy="1378800"/>
          </a:xfrm>
        </p:grpSpPr>
        <p:sp>
          <p:nvSpPr>
            <p:cNvPr id="203" name="Freeform 41"/>
            <p:cNvSpPr/>
            <p:nvPr/>
          </p:nvSpPr>
          <p:spPr>
            <a:xfrm rot="8572200">
              <a:off x="6334200" y="4457880"/>
              <a:ext cx="1829520" cy="174240"/>
            </a:xfrm>
            <a:custGeom>
              <a:avLst/>
              <a:gdLst>
                <a:gd name="textAreaLeft" fmla="*/ 0 w 1829520"/>
                <a:gd name="textAreaRight" fmla="*/ 1829880 w 182952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 rot="4548000">
              <a:off x="7870320" y="4035600"/>
              <a:ext cx="46440" cy="41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3"/>
            <p:cNvSpPr/>
            <p:nvPr/>
          </p:nvSpPr>
          <p:spPr>
            <a:xfrm rot="19372800">
              <a:off x="6401880" y="4525200"/>
              <a:ext cx="1839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4"/>
            <p:cNvSpPr/>
            <p:nvPr/>
          </p:nvSpPr>
          <p:spPr>
            <a:xfrm rot="8572200">
              <a:off x="6322680" y="4451040"/>
              <a:ext cx="184608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1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3 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7        8  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10      11      12       13      14      15      16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1:40:31Z</dcterms:created>
  <dc:creator>учитель</dc:creator>
  <dc:description/>
  <dc:language>en-US</dc:language>
  <cp:lastModifiedBy>Коля</cp:lastModifiedBy>
  <dcterms:modified xsi:type="dcterms:W3CDTF">2013-03-27T15:44:44Z</dcterms:modified>
  <cp:revision>23</cp:revision>
  <dc:subject/>
  <dc:title>Слайд 1</dc:title>
</cp:coreProperties>
</file>