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7D0-A142-48D4-9C1F-6A7D3DB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B09-D515-4048-9AD8-6017873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D21-EBC8-46AA-BB43-6DAC87E2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5FC-D844-4924-917C-541FF4E5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8187-A226-499E-BF74-49BEB138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5C1-E393-4B2D-AA24-72DE4A27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EF5-ABC3-418B-B90A-F885BEAB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3BE-52FB-4C3E-A3E6-E7656F6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F7B3-FDC1-4851-95B5-7CEF3E7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311-2E73-4AD3-948F-C0E7113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BE7-5E71-46F4-BE53-CA92829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773-9DB8-441C-BCAE-C29EB9B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8A0-6A23-4401-9688-56AA278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E64-7747-4D4B-81FB-AE704C3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F9B4-E64D-4F67-A2AE-2471CA1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56C-D03C-4B1F-9842-4D9C7E4F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BE2-E245-41B9-AB86-A5CAC441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019-388E-4BEA-88A5-5F30AAB2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86F-33C3-4CB0-BB70-480C442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4C4-3AF0-4E6E-82BE-DFC6ED19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2D4-6C14-496A-83AB-0906F45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799-02D8-4A4D-B398-1716A22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B6E-64A2-47BB-84A4-0838AE5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9A5-66A8-4B99-A14E-4C27413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393-2A24-4867-BA1F-55B0E96A49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B4D-7869-4782-BC63-199468B779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4.wmf"/><Relationship Id="rId22" Type="http://schemas.openxmlformats.org/officeDocument/2006/relationships/image" Target="../media/image15.png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6.wmf"/><Relationship Id="rId25" Type="http://schemas.openxmlformats.org/officeDocument/2006/relationships/image" Target="../media/image17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306072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32000" y="6127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476360" y="0"/>
            <a:ext cx="712800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Управление образования г. Аст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школа- лицей  №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анорамный урок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«Вычисление производ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ыполнила: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аулетбекова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0" y="18900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572000" y="357336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79280" y="357336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79280" y="18900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692280"/>
            <a:ext cx="367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оизводной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716360" y="47628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ид Гильбе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GILBERT"/>
          <p:cNvPicPr/>
          <p:nvPr/>
        </p:nvPicPr>
        <p:blipFill>
          <a:blip r:embed="rId1"/>
          <a:stretch/>
        </p:blipFill>
        <p:spPr>
          <a:xfrm>
            <a:off x="4716360" y="907920"/>
            <a:ext cx="1382760" cy="215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Рисунок1"/>
          <p:cNvPicPr/>
          <p:nvPr/>
        </p:nvPicPr>
        <p:blipFill>
          <a:blip r:embed="rId2"/>
          <a:stretch/>
        </p:blipFill>
        <p:spPr>
          <a:xfrm>
            <a:off x="5940360" y="476280"/>
            <a:ext cx="2892600" cy="2685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611280" y="3429000"/>
            <a:ext cx="34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4076640"/>
            <a:ext cx="43210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ов ознаменовались огромным интересом ученых к объяснению движения и нахождению законов, которым оно подчиняетс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икогда остро встали вопросы об определении и вычислении скорости движения и его ускорения. Решение этих вопросов привело к установлению связи между задачей о вычислении скорости движения тела и задачей проведения касательной к кривой, описывающей зависимость пройденного расстояния о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4716360" y="364500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е понятие производной было сделано независимо друг от друга почти одноврем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newton"/>
          <p:cNvPicPr/>
          <p:nvPr/>
        </p:nvPicPr>
        <p:blipFill>
          <a:blip r:embed="rId3"/>
          <a:stretch/>
        </p:blipFill>
        <p:spPr>
          <a:xfrm>
            <a:off x="4716360" y="5013360"/>
            <a:ext cx="1238400" cy="1596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годф"/>
          <p:cNvPicPr/>
          <p:nvPr/>
        </p:nvPicPr>
        <p:blipFill>
          <a:blip r:embed="rId4"/>
          <a:stretch/>
        </p:blipFill>
        <p:spPr>
          <a:xfrm>
            <a:off x="7491240" y="5013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4643280" y="4365720"/>
            <a:ext cx="21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м физиком и математиком И.Ньют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6877080" y="436572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м философом и математиком Г.Лейбниц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7"/>
          <p:cNvSpPr txBox="1"/>
          <p:nvPr/>
        </p:nvSpPr>
        <p:spPr>
          <a:xfrm>
            <a:off x="6732720" y="4653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042920" y="620640"/>
            <a:ext cx="24494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8200" y="25956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оц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907920"/>
          <a:ext cx="8425080" cy="48974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4920"/>
                <a:gridCol w="21067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айдаров Му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зумова Дин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ж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ева Гульмар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134"/>
          <p:cNvSpPr/>
          <p:nvPr/>
        </p:nvSpPr>
        <p:spPr>
          <a:xfrm>
            <a:off x="0" y="49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84360" y="260280"/>
            <a:ext cx="73436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767ff"/>
                </a:solidFill>
                <a:latin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Это урок-практикум по теме «Вычисление производной». Урок проводится с применением интерактивной доски. Продолжительность 15 минут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  На данном уроке рассматриваются вопросы, способству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закреплению навыков вычисления производ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 развитию умений выделять глав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логически излагать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Урок рассчитан на творческ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50920" y="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лгебра и начала анализа (10 «Д» класс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24000" y="476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Times New Roman"/>
              </a:rPr>
              <a:t>Тема панорамного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«Вычисление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1484280"/>
            <a:ext cx="878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Цель урок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репление знаний по теме «Производн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нформационно-коммуникацио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ип уро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 закрепления знаний,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ор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в мал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хнические средства обуч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,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404640"/>
            <a:ext cx="799308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Задачи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бщить умения и навыки учащихся при вычислении производ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вать интеллектуальную,  рефлексивную культу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выки самостоятельной деятельности, навыки самоконтрол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итывать культуру умственного труда, умение давать самооценку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едполагаемые результаты обучаю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ть и уметь применять правила дифференцир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улы вычисления производных  линейной, степен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онометрически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539640" y="1484280"/>
            <a:ext cx="74883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А. Е. Абылкасымова, К. Д. Шойынбеков, М. И. Есенова, З. А. Жумагулова «Алгебра и начала анализа»,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борник задач по алгеб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ебное пособие для 10-классов естественно-математического направления общеобразовательных шк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3. Старцева Н.А. Применение электронных пособий на уроках математики // Информационные технологии в образовании. Сб. научно - методических материалов, Новосибирск: НГУ,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476280"/>
            <a:ext cx="864072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67ff"/>
                </a:solidFill>
                <a:latin typeface="Times New Roman"/>
              </a:rPr>
              <a:t>Основные 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Французский писатель Анатоль Франс (1844–1924) заметил: «Что учиться можно только весело... Чтобы переварить знания, надо поглощать их с аппетитом»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ем совету писателя: будем на уроке активны, внимательн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 нами стоит задача: повторить и закрепить правила вычисления производных, формулы производной сложной, степенной и тригонометрических функций. Сегодняшний урок пройдет с использованием презент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изация знани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ная разминка, повторение правил вычисления произв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лайд №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ктическая ч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по таблице у интерактивной доски на тему «Производные» (решение при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Проверка творческого домашнего задан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ческая справка о создании теории производной (оформить в виде презентаци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айд №2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Домашнее задан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дготовить презентацию на тему: « Применение производной к исследованию функ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а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42920" y="1413000"/>
          <a:ext cx="7488360" cy="421776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 (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х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х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55"/>
          <p:cNvSpPr/>
          <p:nvPr/>
        </p:nvSpPr>
        <p:spPr>
          <a:xfrm>
            <a:off x="385128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6"/>
          <p:cNvSpPr/>
          <p:nvPr/>
        </p:nvSpPr>
        <p:spPr>
          <a:xfrm>
            <a:off x="637236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0"/>
          <p:cNvSpPr txBox="1"/>
          <p:nvPr/>
        </p:nvSpPr>
        <p:spPr>
          <a:xfrm>
            <a:off x="1619280" y="404640"/>
            <a:ext cx="626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Заполните таблицу, решив данные примеры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(на интерактивной доске):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5928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01200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5928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8472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4360" y="476280"/>
            <a:ext cx="18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0920" y="1052640"/>
            <a:ext cx="287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пределение производн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9640" y="1341360"/>
                <a:ext cx="194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324000" y="177336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1619280" y="1916280"/>
                <a:ext cx="1052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324000" y="2703600"/>
                <a:ext cx="15112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1908000" y="2637000"/>
                <a:ext cx="9367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3492360" y="262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а вычисления производ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708360" y="765000"/>
            <a:ext cx="180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+v)'=u'+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v)'=u'v+u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/v)'=(u'v-uv'):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203640" y="1628640"/>
            <a:ext cx="25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ные тригонометрических фун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419640" y="2276640"/>
            <a:ext cx="216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sinx)'=cos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osx)'=-sin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tgx)'=-1/s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tgx)'=1/c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Image209"/>
          <p:cNvPicPr/>
          <p:nvPr/>
        </p:nvPicPr>
        <p:blipFill>
          <a:blip r:embed="rId1"/>
          <a:stretch/>
        </p:blipFill>
        <p:spPr>
          <a:xfrm>
            <a:off x="6227640" y="2276640"/>
            <a:ext cx="2305080" cy="41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6156360" y="2637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Image214"/>
          <p:cNvPicPr/>
          <p:nvPr/>
        </p:nvPicPr>
        <p:blipFill>
          <a:blip r:embed="rId2"/>
          <a:stretch/>
        </p:blipFill>
        <p:spPr>
          <a:xfrm>
            <a:off x="6227640" y="2924280"/>
            <a:ext cx="193212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324000" y="38606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95280" y="4365720"/>
            <a:ext cx="201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задаче о мгновенной скорости каждом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ответствует свое значение мгновенной скорости, т.е. производная от пути по времени есть скор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-1332000" y="5661000"/>
            <a:ext cx="38894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щем случае, производная – это скорость изменения функ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132000" y="3716280"/>
            <a:ext cx="2603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точке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о эта функция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ой в этой точк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132000" y="4437000"/>
            <a:ext cx="2581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каждой точке некоторого промежутка, то говорят, что эта функци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а на этом промежутк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348000" y="544500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перация нахождения производной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ованием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227640" y="4005360"/>
            <a:ext cx="44640" cy="24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H="1">
            <a:off x="6300360" y="5516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829640" y="3835440"/>
            <a:ext cx="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604360" y="3716280"/>
            <a:ext cx="1440" cy="19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6227640" y="4221000"/>
            <a:ext cx="1559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6270480" y="361800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6300720" y="3860640"/>
            <a:ext cx="2521080" cy="1584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3085" h="2268">
                <a:moveTo>
                  <a:pt x="0" y="2268"/>
                </a:moveTo>
                <a:cubicBezTo>
                  <a:pt x="371" y="1765"/>
                  <a:pt x="742" y="1263"/>
                  <a:pt x="1180" y="953"/>
                </a:cubicBezTo>
                <a:cubicBezTo>
                  <a:pt x="1618" y="643"/>
                  <a:pt x="2313" y="567"/>
                  <a:pt x="2631" y="408"/>
                </a:cubicBezTo>
                <a:cubicBezTo>
                  <a:pt x="2949" y="249"/>
                  <a:pt x="3032" y="83"/>
                  <a:pt x="308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7829640" y="5568840"/>
            <a:ext cx="787320" cy="1800"/>
          </a:xfrm>
          <a:prstGeom prst="line">
            <a:avLst/>
          </a:prstGeom>
          <a:ln w="3492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7740720" y="414972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7"/>
          <p:cNvSpPr/>
          <p:nvPr/>
        </p:nvSpPr>
        <p:spPr>
          <a:xfrm>
            <a:off x="8604360" y="386064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5981400" y="3716280"/>
            <a:ext cx="1369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6340320" y="6093000"/>
            <a:ext cx="217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Script MT Bold"/>
              </a:rPr>
              <a:t>y=f(x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7524720" y="5634000"/>
            <a:ext cx="436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7916760" y="5135400"/>
            <a:ext cx="438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d9d8ec"/>
                </a:solidFill>
                <a:latin typeface="Script MT Bold"/>
              </a:rPr>
              <a:t>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2"/>
          <p:cNvSpPr/>
          <p:nvPr/>
        </p:nvSpPr>
        <p:spPr>
          <a:xfrm>
            <a:off x="8529480" y="5492880"/>
            <a:ext cx="16056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3"/>
          <p:cNvSpPr/>
          <p:nvPr/>
        </p:nvSpPr>
        <p:spPr>
          <a:xfrm>
            <a:off x="7756560" y="5492880"/>
            <a:ext cx="16020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6084720" y="260280"/>
            <a:ext cx="25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6156360" y="1700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ную сложной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6"/>
              <p:cNvSpPr txBox="1"/>
              <p:nvPr/>
            </p:nvSpPr>
            <p:spPr>
              <a:xfrm>
                <a:off x="6227640" y="90792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22764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27672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22764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50920" y="333360"/>
            <a:ext cx="244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419640" y="404640"/>
            <a:ext cx="2376360" cy="1008360"/>
          </a:xfrm>
          <a:prstGeom prst="rect">
            <a:avLst/>
          </a:prstGeom>
          <a:solidFill>
            <a:srgbClr val="abe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нятие предела функций в точке и непрерывность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0"/>
          <p:cNvGraphicFramePr/>
          <p:nvPr/>
        </p:nvGraphicFramePr>
        <p:xfrm>
          <a:off x="3492360" y="1484280"/>
          <a:ext cx="23767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3767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11" descr="MYNET062"/>
          <p:cNvPicPr/>
          <p:nvPr/>
        </p:nvPicPr>
        <p:blipFill>
          <a:blip r:embed="rId3"/>
          <a:stretch/>
        </p:blipFill>
        <p:spPr>
          <a:xfrm>
            <a:off x="3492360" y="227664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BD00146_"/>
          <p:cNvPicPr/>
          <p:nvPr/>
        </p:nvPicPr>
        <p:blipFill>
          <a:blip r:embed="rId4"/>
          <a:stretch/>
        </p:blipFill>
        <p:spPr>
          <a:xfrm>
            <a:off x="4716360" y="2349360"/>
            <a:ext cx="1150920" cy="927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6516720" y="333360"/>
            <a:ext cx="225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предела функции в точк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4"/>
          <p:cNvGraphicFramePr/>
          <p:nvPr/>
        </p:nvGraphicFramePr>
        <p:xfrm>
          <a:off x="6659640" y="1052640"/>
          <a:ext cx="71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1052640"/>
                    <a:ext cx="71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WordArt 15"/>
          <p:cNvSpPr txBox="1"/>
          <p:nvPr/>
        </p:nvSpPr>
        <p:spPr>
          <a:xfrm>
            <a:off x="6372360" y="119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0" name="Object 16"/>
          <p:cNvGraphicFramePr/>
          <p:nvPr/>
        </p:nvGraphicFramePr>
        <p:xfrm>
          <a:off x="6588000" y="1484280"/>
          <a:ext cx="13669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88000" y="1484280"/>
                    <a:ext cx="1366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WordArt 17"/>
          <p:cNvSpPr txBox="1"/>
          <p:nvPr/>
        </p:nvSpPr>
        <p:spPr>
          <a:xfrm>
            <a:off x="6300720" y="1557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18"/>
          <p:cNvSpPr txBox="1"/>
          <p:nvPr/>
        </p:nvSpPr>
        <p:spPr>
          <a:xfrm>
            <a:off x="6300720" y="1916280"/>
            <a:ext cx="1764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6588000" y="1844640"/>
          <a:ext cx="237672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1844640"/>
                    <a:ext cx="2376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0"/>
          <p:cNvGraphicFramePr/>
          <p:nvPr/>
        </p:nvGraphicFramePr>
        <p:xfrm>
          <a:off x="6659640" y="2276640"/>
          <a:ext cx="216036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9640" y="2276640"/>
                    <a:ext cx="21603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1"/>
          <p:cNvGraphicFramePr/>
          <p:nvPr/>
        </p:nvGraphicFramePr>
        <p:xfrm>
          <a:off x="6659640" y="2637000"/>
          <a:ext cx="158436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2637000"/>
                    <a:ext cx="1584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2"/>
          <p:cNvGraphicFramePr/>
          <p:nvPr/>
        </p:nvGraphicFramePr>
        <p:xfrm>
          <a:off x="6659640" y="2997360"/>
          <a:ext cx="100944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2997360"/>
                    <a:ext cx="100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WordArt 23"/>
          <p:cNvSpPr txBox="1"/>
          <p:nvPr/>
        </p:nvSpPr>
        <p:spPr>
          <a:xfrm>
            <a:off x="6372360" y="227664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WordArt 24"/>
          <p:cNvSpPr txBox="1"/>
          <p:nvPr/>
        </p:nvSpPr>
        <p:spPr>
          <a:xfrm>
            <a:off x="6372360" y="263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WordArt 25"/>
          <p:cNvSpPr txBox="1"/>
          <p:nvPr/>
        </p:nvSpPr>
        <p:spPr>
          <a:xfrm>
            <a:off x="6372360" y="299736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50920" y="3933720"/>
            <a:ext cx="2593800" cy="152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сли в точке х функций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меют производные, причем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0, то в этой точке существует производная частного этих функций     , которая вычисляется по форму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7"/>
              <p:cNvSpPr txBox="1"/>
              <p:nvPr/>
            </p:nvSpPr>
            <p:spPr>
              <a:xfrm>
                <a:off x="468360" y="5589720"/>
                <a:ext cx="223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7" name="Picture 28" descr=""/>
          <p:cNvPicPr/>
          <p:nvPr/>
        </p:nvPicPr>
        <p:blipFill>
          <a:blip r:embed="rId17"/>
          <a:stretch/>
        </p:blipFill>
        <p:spPr>
          <a:xfrm>
            <a:off x="395280" y="765000"/>
            <a:ext cx="2376360" cy="24480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88" name="Rectangle 29"/>
          <p:cNvSpPr/>
          <p:nvPr/>
        </p:nvSpPr>
        <p:spPr>
          <a:xfrm>
            <a:off x="3492360" y="3716280"/>
            <a:ext cx="246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о Лопиталя-Бернул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0"/>
          <p:cNvGraphicFramePr/>
          <p:nvPr/>
        </p:nvGraphicFramePr>
        <p:xfrm>
          <a:off x="3708360" y="4221000"/>
          <a:ext cx="2016000" cy="722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Object 3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08360" y="4221000"/>
                    <a:ext cx="2016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1"/>
          <p:cNvGraphicFramePr/>
          <p:nvPr/>
        </p:nvGraphicFramePr>
        <p:xfrm>
          <a:off x="3492360" y="5950080"/>
          <a:ext cx="2448000" cy="691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2" name="Object 3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92360" y="5950080"/>
                    <a:ext cx="24480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32" descr=""/>
          <p:cNvPicPr/>
          <p:nvPr/>
        </p:nvPicPr>
        <p:blipFill>
          <a:blip r:embed="rId22"/>
          <a:stretch/>
        </p:blipFill>
        <p:spPr>
          <a:xfrm>
            <a:off x="3708360" y="5013360"/>
            <a:ext cx="212400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33"/>
          <p:cNvGraphicFramePr/>
          <p:nvPr/>
        </p:nvGraphicFramePr>
        <p:xfrm>
          <a:off x="6372360" y="4076640"/>
          <a:ext cx="2447640" cy="20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72360" y="4076640"/>
                    <a:ext cx="244764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Freeform 34"/>
          <p:cNvSpPr/>
          <p:nvPr/>
        </p:nvSpPr>
        <p:spPr>
          <a:xfrm>
            <a:off x="6948360" y="4508640"/>
            <a:ext cx="1800360" cy="1081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948" h="1475">
                <a:moveTo>
                  <a:pt x="0" y="1475"/>
                </a:moveTo>
                <a:cubicBezTo>
                  <a:pt x="7" y="1414"/>
                  <a:pt x="15" y="1354"/>
                  <a:pt x="45" y="1248"/>
                </a:cubicBezTo>
                <a:cubicBezTo>
                  <a:pt x="75" y="1142"/>
                  <a:pt x="121" y="976"/>
                  <a:pt x="181" y="840"/>
                </a:cubicBezTo>
                <a:cubicBezTo>
                  <a:pt x="241" y="704"/>
                  <a:pt x="310" y="544"/>
                  <a:pt x="408" y="431"/>
                </a:cubicBezTo>
                <a:cubicBezTo>
                  <a:pt x="506" y="318"/>
                  <a:pt x="642" y="227"/>
                  <a:pt x="771" y="159"/>
                </a:cubicBezTo>
                <a:cubicBezTo>
                  <a:pt x="900" y="91"/>
                  <a:pt x="1028" y="46"/>
                  <a:pt x="1179" y="23"/>
                </a:cubicBezTo>
                <a:cubicBezTo>
                  <a:pt x="1330" y="0"/>
                  <a:pt x="1519" y="0"/>
                  <a:pt x="1678" y="23"/>
                </a:cubicBezTo>
                <a:cubicBezTo>
                  <a:pt x="1837" y="46"/>
                  <a:pt x="1966" y="83"/>
                  <a:pt x="2132" y="159"/>
                </a:cubicBezTo>
                <a:cubicBezTo>
                  <a:pt x="2298" y="235"/>
                  <a:pt x="2540" y="394"/>
                  <a:pt x="2676" y="477"/>
                </a:cubicBezTo>
                <a:cubicBezTo>
                  <a:pt x="2812" y="560"/>
                  <a:pt x="2880" y="609"/>
                  <a:pt x="2948" y="658"/>
                </a:cubicBez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5"/>
          <p:cNvGrpSpPr/>
          <p:nvPr/>
        </p:nvGrpSpPr>
        <p:grpSpPr>
          <a:xfrm>
            <a:off x="6414480" y="5709960"/>
            <a:ext cx="2333880" cy="924480"/>
            <a:chOff x="6414480" y="5709960"/>
            <a:chExt cx="2333880" cy="924480"/>
          </a:xfrm>
        </p:grpSpPr>
        <p:sp>
          <p:nvSpPr>
            <p:cNvPr id="198" name="Freeform 36"/>
            <p:cNvSpPr/>
            <p:nvPr/>
          </p:nvSpPr>
          <p:spPr>
            <a:xfrm flipH="1" rot="4881600">
              <a:off x="7296840" y="5049360"/>
              <a:ext cx="593640" cy="224496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2244960"/>
                <a:gd name="textAreaBottom" fmla="*/ 2245320 h 2244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 flipH="1" rot="4881600">
              <a:off x="6566760" y="5856840"/>
              <a:ext cx="149040" cy="4363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 flipH="1" rot="4881600">
              <a:off x="6484680" y="5966640"/>
              <a:ext cx="56880" cy="165600"/>
            </a:xfrm>
            <a:custGeom>
              <a:avLst/>
              <a:gdLst>
                <a:gd name="textAreaLeft" fmla="*/ 360 w 56880"/>
                <a:gd name="textAreaRight" fmla="*/ 57600 w 56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 flipH="1" rot="4881600">
              <a:off x="7504200" y="5200920"/>
              <a:ext cx="518400" cy="1875960"/>
            </a:xfrm>
            <a:custGeom>
              <a:avLst/>
              <a:gdLst>
                <a:gd name="textAreaLeft" fmla="*/ 360 w 518400"/>
                <a:gd name="textAreaRight" fmla="*/ 519120 w 51840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6467040" y="3906720"/>
            <a:ext cx="1657440" cy="1378800"/>
            <a:chOff x="6467040" y="3906720"/>
            <a:chExt cx="1657440" cy="1378800"/>
          </a:xfrm>
        </p:grpSpPr>
        <p:sp>
          <p:nvSpPr>
            <p:cNvPr id="203" name="Freeform 41"/>
            <p:cNvSpPr/>
            <p:nvPr/>
          </p:nvSpPr>
          <p:spPr>
            <a:xfrm rot="8572200">
              <a:off x="6334200" y="4457880"/>
              <a:ext cx="1829520" cy="174240"/>
            </a:xfrm>
            <a:custGeom>
              <a:avLst/>
              <a:gdLst>
                <a:gd name="textAreaLeft" fmla="*/ 0 w 1829520"/>
                <a:gd name="textAreaRight" fmla="*/ 1829880 w 18295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 rot="4548000">
              <a:off x="7870320" y="4035600"/>
              <a:ext cx="46440" cy="4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3"/>
            <p:cNvSpPr/>
            <p:nvPr/>
          </p:nvSpPr>
          <p:spPr>
            <a:xfrm rot="19372800">
              <a:off x="6401880" y="4525200"/>
              <a:ext cx="1839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4"/>
            <p:cNvSpPr/>
            <p:nvPr/>
          </p:nvSpPr>
          <p:spPr>
            <a:xfrm rot="8572200">
              <a:off x="6322680" y="4451040"/>
              <a:ext cx="18460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1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3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7        8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10      11      12       13      14      15      16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40:31Z</dcterms:created>
  <dc:creator>учитель</dc:creator>
  <dc:description/>
  <dc:language>en-US</dc:language>
  <cp:lastModifiedBy>Коля</cp:lastModifiedBy>
  <dcterms:modified xsi:type="dcterms:W3CDTF">2013-03-27T15:44:44Z</dcterms:modified>
  <cp:revision>23</cp:revision>
  <dc:subject/>
  <dc:title>Слайд 1</dc:title>
</cp:coreProperties>
</file>