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745-9E4F-4D5C-906D-8B554904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0C7-9945-479B-8BCD-F04D0BBA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B0C-B069-4F7F-806C-6CE1C588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D8F-38AE-4BF0-9EEA-DC63F444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B39F-3254-451F-BA2A-234A9C97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7FB6-FC42-425F-A881-23232FD5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C1A1-B09D-4089-B478-2699D1A5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DDD0-A1B1-4C44-B4C5-16B6AF13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B175-BB37-45A0-B512-8FC39BB9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E1A2-6E24-45EF-A51C-A9803407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C7A1-AB2F-47A0-A8DA-3BB800EE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E86-EC21-4C6A-87D7-5DFEF4B7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172F-98DB-4DB4-ABAD-D99A3D01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F3F1-53A7-4D3C-8ED3-7F23F10A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43FB-CA49-4527-9615-9C53D3DB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E29A-E18A-4B80-B8FD-949B9D43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373B-691E-4E15-B091-3FE5D597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E28-0962-4E85-864D-AB6925A4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538-6BAB-48B1-9A24-BF417D83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AF9-D9B0-47CD-92F5-D7F93A3C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842-9A1F-496C-B9AA-4024D9A1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A90-3B12-47F2-AB59-DEE36A4F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1BB-A0BF-4E14-9469-6CE2BF0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59E-4A50-4772-9E33-C345233F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9FA2-261E-4077-B788-124392011D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6616-C2C7-4C11-BE4B-185C120A83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6429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Tahoma"/>
              </a:rPr>
              <a:t>Вавилов Николай Иванович</a:t>
            </a:r>
            <a:br>
              <a:rPr sz="4800"/>
            </a:b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08720" y="4220640"/>
            <a:ext cx="3200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вченко Я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 9-Б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vaviliv"/>
          <p:cNvPicPr/>
          <p:nvPr/>
        </p:nvPicPr>
        <p:blipFill>
          <a:blip r:embed="rId1"/>
          <a:stretch/>
        </p:blipFill>
        <p:spPr>
          <a:xfrm>
            <a:off x="428760" y="2214720"/>
            <a:ext cx="346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тах Н.И.Вавилова прослежена изменчивость признаков у семейства злаковых. Им описаны наиболее важные морфологические признаки, характерные для видов этого семейства, такие как остистость и безостость колоса, разная окраска колосковых и цветочных чешуй и зерна, пленчатое и голое зерно, форма зерна, его консистенция, строение листьев, окраска всходов, озимость и яровость, скороспелость, холодостойкость и т.п. Из 38 различных признаков, характерных для всех видов семейства, Н.И.Вавиловым было обнаружено у ржи – 37, у пшеницы – 37, у ячменя и овса – по 35, у кукурузы и риса – по 32, у проса – 27 призн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47640" y="404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стижения в нау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vavilov_25"/>
          <p:cNvPicPr/>
          <p:nvPr/>
        </p:nvPicPr>
        <p:blipFill>
          <a:blip r:embed="rId1"/>
          <a:srcRect l="0" t="0" r="2590" b="57017"/>
          <a:stretch/>
        </p:blipFill>
        <p:spPr>
          <a:xfrm>
            <a:off x="250920" y="189000"/>
            <a:ext cx="6554520" cy="4449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vavilov_25"/>
          <p:cNvPicPr/>
          <p:nvPr/>
        </p:nvPicPr>
        <p:blipFill>
          <a:blip r:embed="rId2"/>
          <a:srcRect l="0" t="53335" r="49876" b="2710"/>
          <a:stretch/>
        </p:blipFill>
        <p:spPr>
          <a:xfrm>
            <a:off x="5508720" y="1989000"/>
            <a:ext cx="3430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И. Вавилов был репрессирован, погиб в тюрьме в 1943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VAVILOV"/>
          <p:cNvPicPr/>
          <p:nvPr/>
        </p:nvPicPr>
        <p:blipFill>
          <a:blip r:embed="rId1"/>
          <a:stretch/>
        </p:blipFill>
        <p:spPr>
          <a:xfrm>
            <a:off x="826920" y="1989000"/>
            <a:ext cx="712980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vaviliv"/>
          <p:cNvPicPr/>
          <p:nvPr/>
        </p:nvPicPr>
        <p:blipFill>
          <a:blip r:embed="rId1"/>
          <a:stretch/>
        </p:blipFill>
        <p:spPr>
          <a:xfrm>
            <a:off x="4356000" y="333360"/>
            <a:ext cx="4554720" cy="6248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395280" y="2133720"/>
            <a:ext cx="345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. И. Вавилов родился 26 ноября 1887 г. в Москве. Ко времени окончания коммерческого училища он уже твердо знал, что будет биологом. В 1906 г. Николай Иванович поступил в Московский сельскохозяйственный институт Уже в студенческие годы начали проявляться его замечательные каче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68360" y="33336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Мне не жалко отдать жизнь ради самого малого в науке... 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181080" y="40464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. И. Вавилов летом 1910 г. прошел агрономическую практику на Полтавской опытной станции, получив, по собственному признанию, "импульс для всей дальнейшей работы". По окончании института Н. И. Вавилов был оставлен для подготовки к профессорскому званию на кафедре частного земледелия. Он был прикомандирован на селекционную станцию института, где начал исследование по иммунитету культурных растений к паразитическим гриб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2-tablitsa_06"/>
          <p:cNvPicPr/>
          <p:nvPr/>
        </p:nvPicPr>
        <p:blipFill>
          <a:blip r:embed="rId1"/>
          <a:srcRect l="7089" t="0" r="5874" b="17905"/>
          <a:stretch/>
        </p:blipFill>
        <p:spPr>
          <a:xfrm>
            <a:off x="5219640" y="620640"/>
            <a:ext cx="3760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13 г. Н. И. Вавилов был командирован за границу для научной работы. В Мертоне (Англия), в генетической лаборатории Садоводственного института. Там он продолжил исследование иммунитета хлебных з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колько месяцев Николай Иванович работал в лаборатории генетики Кембриджского университета; во Франции он посетил крупнейшую семеноводческую фирму Вильморена, где ознакомился с новейшими достижениями селекции в семеноводстве, в поражаемости различных сортов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4679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ы этих исследований с широким использованием эксперимента были обобщены в монографии "Иммунитет растений к инфекционным заболеваниям" (1919 г.). В 1917 г. Н. И. Вавилов получил приглашение возглавить кафедру генетики, селекции и частного земледелия на Саратовских высших сельскохозяйственных курсах и переехал в Саратов. Вместе с тем он продолжал широкое полевое изучение сортов различных сельскохозяйственных растений, в первую очередь хлебных зла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0703-3"/>
          <p:cNvPicPr/>
          <p:nvPr/>
        </p:nvPicPr>
        <p:blipFill>
          <a:blip r:embed="rId1"/>
          <a:stretch/>
        </p:blipFill>
        <p:spPr>
          <a:xfrm>
            <a:off x="5148360" y="476280"/>
            <a:ext cx="37162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075520" cy="57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принял активное участие в организации в 1923 г. первой Всесоюзной сельскохозяйственной выставки в Москве. Авторитет Вавилова как ученого и организатора науки рос. В 1924 г. Отдел прикладной ботаники и селекции был преобразован во Всесоюзный институт прикладной ботаники и новых культур при Совнаркоме (с 1930 г. – Всесоюзный институт растениеводства ВИР), и Н. И. Вавилов был утвержден его директором. К концу 20-х годов Всесоюзный институт прикладной ботаники и новых культур превратился в один из крупнейших и известнейших в мире научных центров по изучению культурных раст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240255443"/>
          <p:cNvPicPr/>
          <p:nvPr/>
        </p:nvPicPr>
        <p:blipFill>
          <a:blip r:embed="rId1"/>
          <a:stretch/>
        </p:blipFill>
        <p:spPr>
          <a:xfrm>
            <a:off x="900000" y="4797360"/>
            <a:ext cx="7524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278652712"/>
          <p:cNvPicPr/>
          <p:nvPr/>
        </p:nvPicPr>
        <p:blipFill>
          <a:blip r:embed="rId1"/>
          <a:stretch/>
        </p:blipFill>
        <p:spPr>
          <a:xfrm>
            <a:off x="1403280" y="836640"/>
            <a:ext cx="5391360" cy="5759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50920" y="18900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союзный институт прикладной бота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vir_logo"/>
          <p:cNvPicPr/>
          <p:nvPr/>
        </p:nvPicPr>
        <p:blipFill>
          <a:blip r:embed="rId2"/>
          <a:stretch/>
        </p:blipFill>
        <p:spPr>
          <a:xfrm>
            <a:off x="7740720" y="907920"/>
            <a:ext cx="809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вилов активно организовывал и участвовал в экспедициях. В итоге с 1923 по 1940 гг. Н. И. Вавиловым и другими сотрудниками ВИРа было совершено 180 экспедиций, из них 40 – в 65 зарубежных стран. Мировая коллекция института к 1940 г. состояла из 250 тыс. образцов, из них 36 тыс. образцов пшеницы, 10 тыс. – кукурузы, 23 тыс. – кормовых и т. 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vavilov-1"/>
          <p:cNvPicPr/>
          <p:nvPr/>
        </p:nvPicPr>
        <p:blipFill>
          <a:blip r:embed="rId1"/>
          <a:srcRect l="1582" t="0" r="1960" b="1833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1:36:59Z</dcterms:created>
  <dc:creator>Lusi</dc:creator>
  <dc:description/>
  <dc:language>en-US</dc:language>
  <cp:lastModifiedBy>Николай</cp:lastModifiedBy>
  <dcterms:modified xsi:type="dcterms:W3CDTF">2013-01-09T09:17:29Z</dcterms:modified>
  <cp:revision>8</cp:revision>
  <dc:subject/>
  <dc:title>Вавилов Николай Иванович</dc:title>
</cp:coreProperties>
</file>