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4B6-0DA7-4468-8D4A-D44793D2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96C-CBBA-48BB-94C1-D162A34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95-012A-4329-8226-B8A8C42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790-DAA8-47C6-AC97-FFE2067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E4F7-6793-4D6F-B13D-E6FA2AD6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4F8B-8044-4432-A554-6C41302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15C3-AE48-49DA-8F40-081D47F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7A5C-7D81-496B-8313-D904BF9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73A-21EB-4C22-9CB6-667BE2D7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E6A-6268-4A6A-BDCF-46BAA24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E0D0-6568-48EF-A328-99ED527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F23-ED30-4081-A41F-31064318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4D43-286D-426D-94CD-6B72883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290D-C36E-440B-A041-74CDF96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C6E0-33AE-45A5-9BB3-41BB4D5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347-D7C4-480B-8733-58EFB181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656-2759-46BC-81DB-3573D6A4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3D6-0930-43F1-86C4-206D625E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134-8D66-405C-9D30-22745F4D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74E-1D8E-4194-AD27-9C21E637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B26-7DBD-4794-885B-82BAD0D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B9B-FE3E-4050-B98E-B5CE9AB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263-A53E-4414-9439-52215FC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D38-5C20-4746-81A5-74EFDD0F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71F-BF71-4F17-B5D2-B25143626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691-72C6-4BE0-B9D6-8B55AAF4B4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Николай</cp:lastModifiedBy>
  <dcterms:modified xsi:type="dcterms:W3CDTF">2013-01-09T09:17:29Z</dcterms:modified>
  <cp:revision>8</cp:revision>
  <dc:subject/>
  <dc:title>Вавилов Николай Иванович</dc:title>
</cp:coreProperties>
</file>