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A27-FAC2-4A43-BF6C-303AFF60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497-BAB2-41BB-B28A-0AD7E49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6A6-32AA-48AC-82D9-817A563E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AF2-5C61-4C67-BE44-8A80962B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89F7-44B6-48C6-8FFF-4FB617E3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7BF-0AAB-4DED-8036-695CC2AC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AEB-95A4-46A1-A4B3-0EE7E85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71CB-9CCD-411E-A0AA-3CE9679D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8BD9-15F6-408C-884D-E4012CED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3B07-C6E0-4BAF-8C55-3C235D05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0656-DB1A-4E36-86A5-D1BC127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022-2482-4EA9-A2F5-1E0A365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A46C-5AA4-4455-B659-EB8A130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A5B-515C-4F4A-8D8B-092FF85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6F1-437D-41F8-AAA2-F0C2E15B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57DA-614A-4084-9A42-122DFFAF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49D7-78BD-4318-AC7D-DA34FF30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994-AC97-4D33-BD67-8DF10771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8C4-AB16-4408-84BC-7522575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7D6-ED42-4C1A-A542-1307B503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C5E-ED79-4BDB-9331-E56C7AA9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43F-23A8-4AEF-8163-1813597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AEC-0E22-447B-BE6D-ACC4F90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C92-33FC-498F-A24D-AAE1867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42B0-7357-4837-9E49-FF04A9FC53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960-307B-464A-B73D-4FD43AC25C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Вавилов Николай Иванович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8720" y="4220640"/>
            <a:ext cx="3200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вченко 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9-Б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vaviliv"/>
          <p:cNvPicPr/>
          <p:nvPr/>
        </p:nvPicPr>
        <p:blipFill>
          <a:blip r:embed="rId1"/>
          <a:stretch/>
        </p:blipFill>
        <p:spPr>
          <a:xfrm>
            <a:off x="428760" y="2214720"/>
            <a:ext cx="346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ах Н.И.Вавилова прослежена изменчивость признаков у семейства злаковых. Им описаны наиболее важные морфологические признаки, характерные для видов этого семейства, такие как остистость и безостость колоса, разная окраска колосковых и цветочных чешуй и зерна, пленчатое и голое зерно, форма зерна, его консистенция, строение листьев, окраска всходов, озимость и яровость, скороспелость, холодостойкость и т.п. Из 38 различных признаков, характерных для всех видов семейства, Н.И.Вавиловым было обнаружено у ржи – 37, у пшеницы – 37, у ячменя и овса – по 35, у кукурузы и риса – по 32, у проса – 27 призн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4764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стижения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vavilov_25"/>
          <p:cNvPicPr/>
          <p:nvPr/>
        </p:nvPicPr>
        <p:blipFill>
          <a:blip r:embed="rId1"/>
          <a:srcRect l="0" t="0" r="2590" b="57017"/>
          <a:stretch/>
        </p:blipFill>
        <p:spPr>
          <a:xfrm>
            <a:off x="250920" y="189000"/>
            <a:ext cx="6554520" cy="444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vavilov_25"/>
          <p:cNvPicPr/>
          <p:nvPr/>
        </p:nvPicPr>
        <p:blipFill>
          <a:blip r:embed="rId2"/>
          <a:srcRect l="0" t="53335" r="49876" b="2710"/>
          <a:stretch/>
        </p:blipFill>
        <p:spPr>
          <a:xfrm>
            <a:off x="5508720" y="1989000"/>
            <a:ext cx="3430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И. Вавилов был репрессирован, погиб в тюрьме в 1943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VAVILOV"/>
          <p:cNvPicPr/>
          <p:nvPr/>
        </p:nvPicPr>
        <p:blipFill>
          <a:blip r:embed="rId1"/>
          <a:stretch/>
        </p:blipFill>
        <p:spPr>
          <a:xfrm>
            <a:off x="826920" y="1989000"/>
            <a:ext cx="71298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vaviliv"/>
          <p:cNvPicPr/>
          <p:nvPr/>
        </p:nvPicPr>
        <p:blipFill>
          <a:blip r:embed="rId1"/>
          <a:stretch/>
        </p:blipFill>
        <p:spPr>
          <a:xfrm>
            <a:off x="4356000" y="333360"/>
            <a:ext cx="4554720" cy="6248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95280" y="213372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 И. Вавилов родился 26 ноября 1887 г. в Москве. Ко времени окончания коммерческого училища он уже твердо знал, что будет биологом. В 1906 г. Николай Иванович поступил в Московский сельскохозяйственный институт Уже в студенческие годы начали проявляться его замечательные кач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68360" y="333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не не жалко отдать жизнь ради самого малого в науке... 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181080" y="40464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. И. Вавилов летом 1910 г. прошел агрономическую практику на Полтавской опытной станции, получив, по собственному признанию, "импульс для всей дальнейшей работы". По окончании института Н. И. Вавилов был оставлен для подготовки к профессорскому званию на кафедре частного земледелия. Он был прикомандирован на селекционную станцию института, где начал исследование по иммунитету культурных растений к паразитическим гриб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2-tablitsa_06"/>
          <p:cNvPicPr/>
          <p:nvPr/>
        </p:nvPicPr>
        <p:blipFill>
          <a:blip r:embed="rId1"/>
          <a:srcRect l="7089" t="0" r="5874" b="17905"/>
          <a:stretch/>
        </p:blipFill>
        <p:spPr>
          <a:xfrm>
            <a:off x="5219640" y="620640"/>
            <a:ext cx="3760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3 г. Н. И. Вавилов был командирован за границу для научной работы. В Мертоне (Англия), в генетической лаборатории Садоводственного института. Там он продолжил исследование иммунитета хлебных з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месяцев Николай Иванович работал в лаборатории генетики Кембриджского университета; во Франции он посетил крупнейшую семеноводческую фирму Вильморена, где ознакомился с новейшими достижениями селекции в семеноводстве, в поражаемости различных сортов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467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этих исследований с широким использованием эксперимента были обобщены в монографии "Иммунитет растений к инфекционным заболеваниям" (1919 г.). В 1917 г. Н. И. Вавилов получил приглашение возглавить кафедру генетики, селекции и частного земледелия на Саратовских высших сельскохозяйственных курсах и переехал в Саратов. Вместе с тем он продолжал широкое полевое изучение сортов различных сельскохозяйственных растений, в первую очередь хлебных зл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0703-3"/>
          <p:cNvPicPr/>
          <p:nvPr/>
        </p:nvPicPr>
        <p:blipFill>
          <a:blip r:embed="rId1"/>
          <a:stretch/>
        </p:blipFill>
        <p:spPr>
          <a:xfrm>
            <a:off x="5148360" y="476280"/>
            <a:ext cx="3716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инял активное участие в организации в 1923 г. первой Всесоюзной сельскохозяйственной выставки в Москве. Авторитет Вавилова как ученого и организатора науки рос. В 1924 г. Отдел прикладной ботаники и селекции был преобразован во Всесоюзный институт прикладной ботаники и новых культур при Совнаркоме (с 1930 г. – Всесоюзный институт растениеводства ВИР), и Н. И. Вавилов был утвержден его директором. К концу 20-х годов Всесоюзный институт прикладной ботаники и новых культур превратился в один из крупнейших и известнейших в мире научных центров по изучению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240255443"/>
          <p:cNvPicPr/>
          <p:nvPr/>
        </p:nvPicPr>
        <p:blipFill>
          <a:blip r:embed="rId1"/>
          <a:stretch/>
        </p:blipFill>
        <p:spPr>
          <a:xfrm>
            <a:off x="900000" y="4797360"/>
            <a:ext cx="7524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78652712"/>
          <p:cNvPicPr/>
          <p:nvPr/>
        </p:nvPicPr>
        <p:blipFill>
          <a:blip r:embed="rId1"/>
          <a:stretch/>
        </p:blipFill>
        <p:spPr>
          <a:xfrm>
            <a:off x="1403280" y="836640"/>
            <a:ext cx="5391360" cy="5759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союзный институт прикладной бот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vir_logo"/>
          <p:cNvPicPr/>
          <p:nvPr/>
        </p:nvPicPr>
        <p:blipFill>
          <a:blip r:embed="rId2"/>
          <a:stretch/>
        </p:blipFill>
        <p:spPr>
          <a:xfrm>
            <a:off x="7740720" y="90792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вилов активно организовывал и участвовал в экспедициях. В итоге с 1923 по 1940 гг. Н. И. Вавиловым и другими сотрудниками ВИРа было совершено 180 экспедиций, из них 40 – в 65 зарубежных стран. Мировая коллекция института к 1940 г. состояла из 250 тыс. образцов, из них 36 тыс. образцов пшеницы, 10 тыс. – кукурузы, 23 тыс. – кормовых и т. 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vavilov-1"/>
          <p:cNvPicPr/>
          <p:nvPr/>
        </p:nvPicPr>
        <p:blipFill>
          <a:blip r:embed="rId1"/>
          <a:srcRect l="1582" t="0" r="1960" b="1833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36:59Z</dcterms:created>
  <dc:creator>Lusi</dc:creator>
  <dc:description/>
  <dc:language>en-US</dc:language>
  <cp:lastModifiedBy>Николай</cp:lastModifiedBy>
  <dcterms:modified xsi:type="dcterms:W3CDTF">2013-01-09T09:17:29Z</dcterms:modified>
  <cp:revision>8</cp:revision>
  <dc:subject/>
  <dc:title>Вавилов Николай Иванович</dc:title>
</cp:coreProperties>
</file>