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06E-3225-4CBD-B81E-6D250EB0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E19-CE00-450A-9806-6AF1BBE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23D-12AE-407D-BA88-85C139B1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2E3-E388-4BBA-B13C-C32A630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BDD-6FC6-4752-8FA6-7121E93F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764-2547-4145-854D-19A3E0D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325-6A72-48B8-9377-6C1601D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C2F-1612-43A7-B002-9BB0A91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91E-459C-49E7-A42A-3C4F806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2BF-F551-4770-96B1-A97D6F4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B97-F07A-4168-8D78-ED64711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C4E-3B16-4A5B-B7FB-CBD3293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F05-9A4A-44AB-8504-210A411EA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ы жизни на Земле и эколог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4360" y="1700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жизни на Зем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Organization Chart 6"/>
          <p:cNvGrpSpPr/>
          <p:nvPr/>
        </p:nvGrpSpPr>
        <p:grpSpPr>
          <a:xfrm>
            <a:off x="357120" y="594360"/>
            <a:ext cx="8496000" cy="2794680"/>
            <a:chOff x="357120" y="594360"/>
            <a:chExt cx="8496000" cy="2794680"/>
          </a:xfrm>
        </p:grpSpPr>
        <p:cxnSp>
          <p:nvCxnSpPr>
            <p:cNvPr id="81" name="_s2052"/>
            <p:cNvCxnSpPr>
              <a:stCxn id="82" idx="0"/>
              <a:endCxn id="83" idx="2"/>
            </p:cNvCxnSpPr>
            <p:nvPr/>
          </p:nvCxnSpPr>
          <p:spPr>
            <a:xfrm flipV="1" rot="16200000">
              <a:off x="5964480" y="353520"/>
              <a:ext cx="559080" cy="327636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4" name="_s2053"/>
            <p:cNvCxnSpPr>
              <a:stCxn id="85" idx="0"/>
              <a:endCxn id="83" idx="2"/>
            </p:cNvCxnSpPr>
            <p:nvPr/>
          </p:nvCxnSpPr>
          <p:spPr>
            <a:xfrm flipV="1" rot="16200000">
              <a:off x="4871880" y="1446120"/>
              <a:ext cx="559080" cy="10908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2054"/>
            <p:cNvCxnSpPr>
              <a:stCxn id="87" idx="0"/>
              <a:endCxn id="83" idx="2"/>
            </p:cNvCxnSpPr>
            <p:nvPr/>
          </p:nvCxnSpPr>
          <p:spPr>
            <a:xfrm flipH="1" flipV="1" rot="5400000">
              <a:off x="3780360" y="1444680"/>
              <a:ext cx="559080" cy="109404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2055"/>
            <p:cNvCxnSpPr>
              <a:stCxn id="89" idx="0"/>
              <a:endCxn id="83" idx="2"/>
            </p:cNvCxnSpPr>
            <p:nvPr/>
          </p:nvCxnSpPr>
          <p:spPr>
            <a:xfrm flipH="1" flipV="1" rot="5400000">
              <a:off x="2687760" y="352080"/>
              <a:ext cx="559080" cy="32796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3" name="_s2056"/>
            <p:cNvSpPr/>
            <p:nvPr/>
          </p:nvSpPr>
          <p:spPr>
            <a:xfrm>
              <a:off x="3083400" y="594360"/>
              <a:ext cx="304524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Среды 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35712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зем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оздушна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8"/>
            <p:cNvSpPr/>
            <p:nvPr/>
          </p:nvSpPr>
          <p:spPr>
            <a:xfrm>
              <a:off x="254268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од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4728240" y="2271240"/>
              <a:ext cx="193932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чвен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60"/>
            <p:cNvSpPr/>
            <p:nvPr/>
          </p:nvSpPr>
          <p:spPr>
            <a:xfrm>
              <a:off x="6913440" y="227124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изм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емно – воздушная 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наземно – воздушной среды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эробио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EARS"/>
          <p:cNvPicPr/>
          <p:nvPr/>
        </p:nvPicPr>
        <p:blipFill>
          <a:blip r:embed="rId1"/>
          <a:stretch/>
        </p:blipFill>
        <p:spPr>
          <a:xfrm>
            <a:off x="4932360" y="1413000"/>
            <a:ext cx="326376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RABBIT"/>
          <p:cNvPicPr/>
          <p:nvPr/>
        </p:nvPicPr>
        <p:blipFill>
          <a:blip r:embed="rId2"/>
          <a:stretch/>
        </p:blipFill>
        <p:spPr>
          <a:xfrm>
            <a:off x="3635280" y="3213000"/>
            <a:ext cx="182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ная 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водной среды -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идр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res05A45A4F-9176-4715-9CB3-093C9DBB5469"/>
          <p:cNvPicPr/>
          <p:nvPr/>
        </p:nvPicPr>
        <p:blipFill>
          <a:blip r:embed="rId1"/>
          <a:stretch/>
        </p:blipFill>
        <p:spPr>
          <a:xfrm>
            <a:off x="4859280" y="1341360"/>
            <a:ext cx="3591000" cy="2648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res12686AA6-CA64-4B38-AD68-A8C04EFE5964"/>
          <p:cNvPicPr/>
          <p:nvPr/>
        </p:nvPicPr>
        <p:blipFill>
          <a:blip r:embed="rId2"/>
          <a:stretch/>
        </p:blipFill>
        <p:spPr>
          <a:xfrm>
            <a:off x="4716360" y="4437000"/>
            <a:ext cx="4038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в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 представляет собой тонкий слой на поверхности суши, переработанный деятельности живых существ. Это трехфазная среда (почва, влага, воз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тели почвенной среды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дафобио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res9B3F8E8D-93E7-46FB-9582-95D175C26D1B"/>
          <p:cNvPicPr/>
          <p:nvPr/>
        </p:nvPicPr>
        <p:blipFill>
          <a:blip r:embed="rId1"/>
          <a:stretch/>
        </p:blipFill>
        <p:spPr>
          <a:xfrm>
            <a:off x="4427640" y="1413000"/>
            <a:ext cx="3101760" cy="214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res4EE61782-A430-43D9-8341-97F10C713EA8"/>
          <p:cNvPicPr/>
          <p:nvPr/>
        </p:nvPicPr>
        <p:blipFill>
          <a:blip r:embed="rId2"/>
          <a:stretch/>
        </p:blipFill>
        <p:spPr>
          <a:xfrm>
            <a:off x="6659640" y="2421000"/>
            <a:ext cx="234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м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мы, населяющие живые существа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добио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es12E54318-C624-44EB-9012-7809E7513181"/>
          <p:cNvPicPr/>
          <p:nvPr/>
        </p:nvPicPr>
        <p:blipFill>
          <a:blip r:embed="rId1"/>
          <a:stretch/>
        </p:blipFill>
        <p:spPr>
          <a:xfrm>
            <a:off x="4648320" y="1884240"/>
            <a:ext cx="40384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сре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844640"/>
          <a:ext cx="8229600" cy="335772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86"/>
          <p:cNvSpPr/>
          <p:nvPr/>
        </p:nvSpPr>
        <p:spPr>
          <a:xfrm>
            <a:off x="611280" y="4508640"/>
            <a:ext cx="81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1763640" y="522936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Очень высокая, высокая, средняя, низ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сокая, средняя, низкая, отсутств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ысокие, средние, слаб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ного, умеренно, ма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ного, умеренно, мало, очень 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8"/>
          <p:cNvSpPr/>
          <p:nvPr/>
        </p:nvSpPr>
        <p:spPr>
          <a:xfrm>
            <a:off x="395280" y="83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берите из предлагаемого ниже списка, соответствующее значение той или и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981000"/>
          <a:ext cx="8229600" cy="3537000"/>
        </p:xfrm>
        <a:graphic>
          <a:graphicData uri="http://schemas.openxmlformats.org/drawingml/2006/table">
            <a:tbl>
              <a:tblPr/>
              <a:tblGrid>
                <a:gridCol w="1811160"/>
                <a:gridCol w="1481400"/>
                <a:gridCol w="1644480"/>
                <a:gridCol w="1646280"/>
                <a:gridCol w="1646280"/>
              </a:tblGrid>
              <a:tr h="34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 - воздуш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 -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о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свещ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лебания темп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личество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личество кисл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 ма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53"/>
          <p:cNvSpPr/>
          <p:nvPr/>
        </p:nvSpPr>
        <p:spPr>
          <a:xfrm>
            <a:off x="539640" y="4581360"/>
            <a:ext cx="8209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ценка выводится по каждому столбцу таб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правильных ответа – оценка 5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вая оценка ставиться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правильных ответа – оценка 4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му арифметичес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правильных ответа – оценка 3;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Изучение влияния факторов среды (света) на животны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989000"/>
          <a:ext cx="8229600" cy="2505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2"/>
          <p:cNvSpPr/>
          <p:nvPr/>
        </p:nvSpPr>
        <p:spPr>
          <a:xfrm>
            <a:off x="250920" y="126828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пределите животных по группам по отношению к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395280" y="486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ел, летучая мышь, дождевой червь, ласточка, антилопа, жираф, сова, крот, тигр, попугай, койот,  колиб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125360"/>
          <a:ext cx="8229600" cy="326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ри, ласточка, попугай, орел, антилопа, жи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ной образ жиз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а, тигр, койот, летучая мы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 в постоянной темнот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й червь, кр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зучение различных сред обитания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2205000"/>
          <a:ext cx="8229600" cy="2590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3"/>
          <p:cNvSpPr/>
          <p:nvPr/>
        </p:nvSpPr>
        <p:spPr>
          <a:xfrm>
            <a:off x="611280" y="4937040"/>
            <a:ext cx="81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карида, дельфин, чайка, страус, акула, береза, орел, ворона, карась, комар, корень дерева, овод, ламинария, крот, медуза, дождевой червь, личинка майского жука, ряска, постельный клоп, бабочка, олень, клубеньковые бактерии, волк, свиной цепень, щука, человек, трясогузка,  гидра, клещ собач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468360" y="1484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естите в соответствующую среду обитания животных или растения из предложенного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ть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ы обитания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факторов среды на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б"/>
          <p:cNvPicPr/>
          <p:nvPr/>
        </p:nvPicPr>
        <p:blipFill>
          <a:blip r:embed="rId1"/>
          <a:srcRect l="14595" t="8296" r="10458" b="5211"/>
          <a:stretch/>
        </p:blipFill>
        <p:spPr>
          <a:xfrm>
            <a:off x="324000" y="3068640"/>
            <a:ext cx="4038480" cy="235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б 001"/>
          <p:cNvPicPr/>
          <p:nvPr/>
        </p:nvPicPr>
        <p:blipFill>
          <a:blip r:embed="rId2"/>
          <a:srcRect l="5682" t="9345" r="15611" b="14806"/>
          <a:stretch/>
        </p:blipFill>
        <p:spPr>
          <a:xfrm>
            <a:off x="5076720" y="3284640"/>
            <a:ext cx="3033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и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484280"/>
          <a:ext cx="8229600" cy="36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т, дождевой червь, личинка майского жука, клубеньковые бактерии, корень де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ка, олень, волк, береза, орел, ворона, человек, трясогузка, чайка, стра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ьфин, акула, карась, ламинария, медуза, ряска, щука, ги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арида, комар, овод, постельный клоп, свиной цепень, клещ соба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39"/>
          <p:cNvSpPr/>
          <p:nvPr/>
        </p:nvSpPr>
        <p:spPr>
          <a:xfrm>
            <a:off x="539640" y="530064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2 ошибки – оценка 5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4 ошибки – оценка 4;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8 ошибок – оценка 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реды обита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обитания животных в водно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б 002"/>
          <p:cNvPicPr/>
          <p:nvPr/>
        </p:nvPicPr>
        <p:blipFill>
          <a:blip r:embed="rId1"/>
          <a:srcRect l="5887" t="3081" r="4748" b="9483"/>
          <a:stretch/>
        </p:blipFill>
        <p:spPr>
          <a:xfrm>
            <a:off x="1042920" y="2565360"/>
            <a:ext cx="288936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б 003"/>
          <p:cNvPicPr/>
          <p:nvPr/>
        </p:nvPicPr>
        <p:blipFill>
          <a:blip r:embed="rId2"/>
          <a:srcRect l="8761" t="5925" r="0" b="10136"/>
          <a:stretch/>
        </p:blipFill>
        <p:spPr>
          <a:xfrm>
            <a:off x="4716360" y="321300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уро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знания о  четырех средах обитания и  их характерных особенно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закономерности действия экологических факторов в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экологическими типами живых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а обитан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(окружающая сре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все то, что окружает живой организм (совокупность сил и явлений природы, ее вещество и пространство, а также деятельность человека) и прямо или косвенно влияет на его состояние, рост и развитие, выживаемость, размножение и другие процессы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5"/>
          <p:cNvGrpSpPr/>
          <p:nvPr/>
        </p:nvGrpSpPr>
        <p:grpSpPr>
          <a:xfrm>
            <a:off x="250920" y="186480"/>
            <a:ext cx="8722800" cy="2666880"/>
            <a:chOff x="250920" y="186480"/>
            <a:chExt cx="8722800" cy="26668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892120" y="9540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1"/>
            </p:cNvCxnSpPr>
            <p:nvPr/>
          </p:nvCxnSpPr>
          <p:spPr>
            <a:xfrm flipV="1">
              <a:off x="4611960" y="1375920"/>
              <a:ext cx="3960" cy="49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0"/>
            </p:cNvCxnSpPr>
            <p:nvPr/>
          </p:nvCxnSpPr>
          <p:spPr>
            <a:xfrm flipH="1" flipV="1" rot="5400000">
              <a:off x="2839320" y="9576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792160" y="186480"/>
              <a:ext cx="3639960" cy="1189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Экологи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509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биотиче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37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тическ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35688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нтропогенный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7" descr="NLA_051"/>
          <p:cNvPicPr/>
          <p:nvPr/>
        </p:nvPicPr>
        <p:blipFill>
          <a:blip r:embed="rId1"/>
          <a:stretch/>
        </p:blipFill>
        <p:spPr>
          <a:xfrm>
            <a:off x="179280" y="357336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163037"/>
          <p:cNvPicPr/>
          <p:nvPr/>
        </p:nvPicPr>
        <p:blipFill>
          <a:blip r:embed="rId2"/>
          <a:stretch/>
        </p:blipFill>
        <p:spPr>
          <a:xfrm>
            <a:off x="3203640" y="3573360"/>
            <a:ext cx="2808360" cy="188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антр 2"/>
          <p:cNvPicPr/>
          <p:nvPr/>
        </p:nvPicPr>
        <p:blipFill>
          <a:blip r:embed="rId3"/>
          <a:stretch/>
        </p:blipFill>
        <p:spPr>
          <a:xfrm>
            <a:off x="6156360" y="357336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иотические факторы - это комплекс условий окружающей среды, влияющих на живой организм (температура, давление, радиационный фон, влажность, состав атмосферы, морских и пресных вод, донных отложений, почвы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биотические факторы"/>
          <p:cNvPicPr/>
          <p:nvPr/>
        </p:nvPicPr>
        <p:blipFill>
          <a:blip r:embed="rId1"/>
          <a:stretch/>
        </p:blipFill>
        <p:spPr>
          <a:xfrm>
            <a:off x="755640" y="2565360"/>
            <a:ext cx="273528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PPIC0610"/>
          <p:cNvPicPr/>
          <p:nvPr/>
        </p:nvPicPr>
        <p:blipFill>
          <a:blip r:embed="rId2"/>
          <a:stretch/>
        </p:blipFill>
        <p:spPr>
          <a:xfrm>
            <a:off x="4788000" y="2492280"/>
            <a:ext cx="2808360" cy="173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BOROV_6"/>
          <p:cNvPicPr/>
          <p:nvPr/>
        </p:nvPicPr>
        <p:blipFill>
          <a:blip r:embed="rId3"/>
          <a:stretch/>
        </p:blipFill>
        <p:spPr>
          <a:xfrm>
            <a:off x="2124000" y="371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SC008"/>
          <p:cNvPicPr/>
          <p:nvPr/>
        </p:nvPicPr>
        <p:blipFill>
          <a:blip r:embed="rId4"/>
          <a:stretch/>
        </p:blipFill>
        <p:spPr>
          <a:xfrm>
            <a:off x="6516720" y="3716280"/>
            <a:ext cx="2124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ические факторы - это совокупность влияний жизнедеятельности одних организмов на другие (конкуренция, хищничество, паразитизм и друг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916280"/>
          <a:ext cx="8229600" cy="420984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42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 "плюс" обозначают благоприятное действие одного вида на характеристики 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 "минус" обозначают отрицательные действия одного вида на характеристики друг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" descr="биотич фактор"/>
          <p:cNvPicPr/>
          <p:nvPr/>
        </p:nvPicPr>
        <p:blipFill>
          <a:blip r:embed="rId1"/>
          <a:stretch/>
        </p:blipFill>
        <p:spPr>
          <a:xfrm>
            <a:off x="826920" y="3500280"/>
            <a:ext cx="3384720" cy="21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хищничество"/>
          <p:cNvPicPr/>
          <p:nvPr/>
        </p:nvPicPr>
        <p:blipFill>
          <a:blip r:embed="rId2"/>
          <a:stretch/>
        </p:blipFill>
        <p:spPr>
          <a:xfrm>
            <a:off x="5148360" y="3438360"/>
            <a:ext cx="3095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генные факторы - э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окупность влияний деятельности человека на окружающую среду (выбросы вредных веществ в атмосферу, разрушение почвенного слоя, нарушение природных ландшафтов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антропогенное"/>
          <p:cNvPicPr/>
          <p:nvPr/>
        </p:nvPicPr>
        <p:blipFill>
          <a:blip r:embed="rId1"/>
          <a:stretch/>
        </p:blipFill>
        <p:spPr>
          <a:xfrm>
            <a:off x="395280" y="2708280"/>
            <a:ext cx="3251160" cy="244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нтр 2"/>
          <p:cNvPicPr/>
          <p:nvPr/>
        </p:nvPicPr>
        <p:blipFill>
          <a:blip r:embed="rId2"/>
          <a:stretch/>
        </p:blipFill>
        <p:spPr>
          <a:xfrm>
            <a:off x="5003640" y="2781360"/>
            <a:ext cx="3672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09:30Z</dcterms:created>
  <dc:creator>q</dc:creator>
  <dc:description/>
  <dc:language>en-US</dc:language>
  <cp:lastModifiedBy>Николай</cp:lastModifiedBy>
  <dcterms:modified xsi:type="dcterms:W3CDTF">2013-09-28T08:09:06Z</dcterms:modified>
  <cp:revision>51</cp:revision>
  <dc:subject/>
  <dc:title>Слайд 1</dc:title>
</cp:coreProperties>
</file>