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D191-FEE5-49AA-8A36-B3E58279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60B-CA33-4ACA-8A6E-0D6D2FF8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938-8580-4DD9-A618-2EAFB5E4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28C-A39E-495C-9FD4-00118907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F2F-4D40-4B67-87D6-C22A3CCD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889-1E91-4133-93C7-01800A75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471-C770-4A26-B977-A986789D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A06-8AE5-45BD-B9A3-FA2359E3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821-A211-4376-80C9-F415BF7A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CDE-18BD-4565-91E7-33524B9A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B95-1D77-4E00-B1FB-DF27A298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8A4-F0F9-4709-9E21-C36D24FF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D680-96A7-4B79-BA4E-A7F465E16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ы жизни на Земле и экологические фа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684360" y="1700280"/>
            <a:ext cx="792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ловия жизни на Земл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Organization Chart 6"/>
          <p:cNvGrpSpPr/>
          <p:nvPr/>
        </p:nvGrpSpPr>
        <p:grpSpPr>
          <a:xfrm>
            <a:off x="357120" y="594360"/>
            <a:ext cx="8496000" cy="2794680"/>
            <a:chOff x="357120" y="594360"/>
            <a:chExt cx="8496000" cy="2794680"/>
          </a:xfrm>
        </p:grpSpPr>
        <p:cxnSp>
          <p:nvCxnSpPr>
            <p:cNvPr id="81" name="_s2052"/>
            <p:cNvCxnSpPr>
              <a:stCxn id="82" idx="0"/>
              <a:endCxn id="83" idx="2"/>
            </p:cNvCxnSpPr>
            <p:nvPr/>
          </p:nvCxnSpPr>
          <p:spPr>
            <a:xfrm flipV="1" rot="16200000">
              <a:off x="5964480" y="353520"/>
              <a:ext cx="559080" cy="3276360"/>
            </a:xfrm>
            <a:prstGeom prst="bentConnector3">
              <a:avLst>
                <a:gd name="adj1" fmla="val 2042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4" name="_s2053"/>
            <p:cNvCxnSpPr>
              <a:stCxn id="85" idx="0"/>
              <a:endCxn id="83" idx="2"/>
            </p:cNvCxnSpPr>
            <p:nvPr/>
          </p:nvCxnSpPr>
          <p:spPr>
            <a:xfrm flipV="1" rot="16200000">
              <a:off x="4871880" y="1446120"/>
              <a:ext cx="559080" cy="1090800"/>
            </a:xfrm>
            <a:prstGeom prst="bentConnector3">
              <a:avLst>
                <a:gd name="adj1" fmla="val 2042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6" name="_s2054"/>
            <p:cNvCxnSpPr>
              <a:stCxn id="87" idx="0"/>
              <a:endCxn id="83" idx="2"/>
            </p:cNvCxnSpPr>
            <p:nvPr/>
          </p:nvCxnSpPr>
          <p:spPr>
            <a:xfrm flipH="1" flipV="1" rot="5400000">
              <a:off x="3780360" y="1444680"/>
              <a:ext cx="559080" cy="1094040"/>
            </a:xfrm>
            <a:prstGeom prst="bentConnector3">
              <a:avLst>
                <a:gd name="adj1" fmla="val 2042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8" name="_s2055"/>
            <p:cNvCxnSpPr>
              <a:stCxn id="89" idx="0"/>
              <a:endCxn id="83" idx="2"/>
            </p:cNvCxnSpPr>
            <p:nvPr/>
          </p:nvCxnSpPr>
          <p:spPr>
            <a:xfrm flipH="1" flipV="1" rot="5400000">
              <a:off x="2687760" y="352080"/>
              <a:ext cx="559080" cy="3279600"/>
            </a:xfrm>
            <a:prstGeom prst="bentConnector3">
              <a:avLst>
                <a:gd name="adj1" fmla="val 20425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83" name="_s2056"/>
            <p:cNvSpPr/>
            <p:nvPr/>
          </p:nvSpPr>
          <p:spPr>
            <a:xfrm>
              <a:off x="3083400" y="594360"/>
              <a:ext cx="304524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Среды жизн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7"/>
            <p:cNvSpPr/>
            <p:nvPr/>
          </p:nvSpPr>
          <p:spPr>
            <a:xfrm>
              <a:off x="357120" y="2271240"/>
              <a:ext cx="193968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аземно 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оздушна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58"/>
            <p:cNvSpPr/>
            <p:nvPr/>
          </p:nvSpPr>
          <p:spPr>
            <a:xfrm>
              <a:off x="2542680" y="2271240"/>
              <a:ext cx="193968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одная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9"/>
            <p:cNvSpPr/>
            <p:nvPr/>
          </p:nvSpPr>
          <p:spPr>
            <a:xfrm>
              <a:off x="4728240" y="2271240"/>
              <a:ext cx="193932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очвенная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060"/>
            <p:cNvSpPr/>
            <p:nvPr/>
          </p:nvSpPr>
          <p:spPr>
            <a:xfrm>
              <a:off x="6913440" y="2271240"/>
              <a:ext cx="193968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рганизмен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земно – воздушная 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итатели наземно – воздушной среды -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эробион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BEARS"/>
          <p:cNvPicPr/>
          <p:nvPr/>
        </p:nvPicPr>
        <p:blipFill>
          <a:blip r:embed="rId1"/>
          <a:stretch/>
        </p:blipFill>
        <p:spPr>
          <a:xfrm>
            <a:off x="4932360" y="1413000"/>
            <a:ext cx="3263760" cy="244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RABBIT"/>
          <p:cNvPicPr/>
          <p:nvPr/>
        </p:nvPicPr>
        <p:blipFill>
          <a:blip r:embed="rId2"/>
          <a:stretch/>
        </p:blipFill>
        <p:spPr>
          <a:xfrm>
            <a:off x="3635280" y="3213000"/>
            <a:ext cx="18288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ная 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итатели водной среды -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идробио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res05A45A4F-9176-4715-9CB3-093C9DBB5469"/>
          <p:cNvPicPr/>
          <p:nvPr/>
        </p:nvPicPr>
        <p:blipFill>
          <a:blip r:embed="rId1"/>
          <a:stretch/>
        </p:blipFill>
        <p:spPr>
          <a:xfrm>
            <a:off x="4859280" y="1341360"/>
            <a:ext cx="3591000" cy="2648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res12686AA6-CA64-4B38-AD68-A8C04EFE5964"/>
          <p:cNvPicPr/>
          <p:nvPr/>
        </p:nvPicPr>
        <p:blipFill>
          <a:blip r:embed="rId2"/>
          <a:stretch/>
        </p:blipFill>
        <p:spPr>
          <a:xfrm>
            <a:off x="4716360" y="4437000"/>
            <a:ext cx="40388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венн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а представляет собой тонкий слой на поверхности суши, переработанный деятельности живых существ. Это трехфазная среда (почва, влага, возду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татели почвенной среды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дафобио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res9B3F8E8D-93E7-46FB-9582-95D175C26D1B"/>
          <p:cNvPicPr/>
          <p:nvPr/>
        </p:nvPicPr>
        <p:blipFill>
          <a:blip r:embed="rId1"/>
          <a:stretch/>
        </p:blipFill>
        <p:spPr>
          <a:xfrm>
            <a:off x="4427640" y="1413000"/>
            <a:ext cx="3101760" cy="2149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res4EE61782-A430-43D9-8341-97F10C713EA8"/>
          <p:cNvPicPr/>
          <p:nvPr/>
        </p:nvPicPr>
        <p:blipFill>
          <a:blip r:embed="rId2"/>
          <a:stretch/>
        </p:blipFill>
        <p:spPr>
          <a:xfrm>
            <a:off x="6659640" y="2421000"/>
            <a:ext cx="234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изменн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мы, населяющие живые существа -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добио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res12E54318-C624-44EB-9012-7809E7513181"/>
          <p:cNvPicPr/>
          <p:nvPr/>
        </p:nvPicPr>
        <p:blipFill>
          <a:blip r:embed="rId1"/>
          <a:stretch/>
        </p:blipFill>
        <p:spPr>
          <a:xfrm>
            <a:off x="4648320" y="1884240"/>
            <a:ext cx="40384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среды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844640"/>
          <a:ext cx="8229600" cy="3357720"/>
        </p:xfrm>
        <a:graphic>
          <a:graphicData uri="http://schemas.openxmlformats.org/drawingml/2006/table">
            <a:tbl>
              <a:tblPr/>
              <a:tblGrid>
                <a:gridCol w="1811160"/>
                <a:gridCol w="1481400"/>
                <a:gridCol w="1644480"/>
                <a:gridCol w="1646280"/>
                <a:gridCol w="164628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емно - воздуш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ен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ен -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ло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свещ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олебания темпера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Количество 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Количество кисл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86"/>
          <p:cNvSpPr/>
          <p:nvPr/>
        </p:nvSpPr>
        <p:spPr>
          <a:xfrm>
            <a:off x="611280" y="4508640"/>
            <a:ext cx="813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7"/>
          <p:cNvSpPr/>
          <p:nvPr/>
        </p:nvSpPr>
        <p:spPr>
          <a:xfrm>
            <a:off x="1763640" y="5229360"/>
            <a:ext cx="57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Очень высокая, высокая, средняя, низ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ысокая, средняя, низкая, отсутству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Высокие, средние, слабы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Много, умеренно, ма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Много, умеренно, мало, очень  м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8"/>
          <p:cNvSpPr/>
          <p:nvPr/>
        </p:nvSpPr>
        <p:spPr>
          <a:xfrm>
            <a:off x="395280" y="836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берите из предлагаемого ниже списка, соответствующее значение той или ино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и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981000"/>
          <a:ext cx="8229600" cy="3537000"/>
        </p:xfrm>
        <a:graphic>
          <a:graphicData uri="http://schemas.openxmlformats.org/drawingml/2006/table">
            <a:tbl>
              <a:tblPr/>
              <a:tblGrid>
                <a:gridCol w="1811160"/>
                <a:gridCol w="1481400"/>
                <a:gridCol w="1644480"/>
                <a:gridCol w="1646280"/>
                <a:gridCol w="1646280"/>
              </a:tblGrid>
              <a:tr h="34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емно - воздуш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ен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ен -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ло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свещ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у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олебания темпера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Количество 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Количество кисл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 ма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53"/>
          <p:cNvSpPr/>
          <p:nvPr/>
        </p:nvSpPr>
        <p:spPr>
          <a:xfrm>
            <a:off x="539640" y="4581360"/>
            <a:ext cx="8209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ерии оце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ценка выводится по каждому столбцу таб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правильных ответа – оценка 5;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тоговая оценка ставиться п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правильных ответа – оценка 4;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му арифметическ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правильных ответа – оценка 3;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Изучение влияния факторов среды (света) на животных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1989000"/>
          <a:ext cx="8229600" cy="2505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ой образ жиз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чной образ жиз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знь в постоянной темно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22"/>
          <p:cNvSpPr/>
          <p:nvPr/>
        </p:nvSpPr>
        <p:spPr>
          <a:xfrm>
            <a:off x="250920" y="126828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пределите животных по группам по отношению к 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395280" y="486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ел, летучая мышь, дождевой червь, ласточка, антилопа, жираф, сова, крот, тигр, попугай, койот,  колиб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и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1125360"/>
          <a:ext cx="8229600" cy="3260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ой образ жизн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бри, ласточка, попугай, орел, антилопа, жира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чной образ жизн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а, тигр, койот, летучая мы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знь в постоянной темнот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евой червь, кр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зучение различных сред обитания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2205000"/>
          <a:ext cx="8229600" cy="2590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 обит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емно-возду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23"/>
          <p:cNvSpPr/>
          <p:nvPr/>
        </p:nvSpPr>
        <p:spPr>
          <a:xfrm>
            <a:off x="611280" y="4937040"/>
            <a:ext cx="813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карида, дельфин, чайка, страус, акула, береза, орел, ворона, карась, комар, корень дерева, овод, ламинария, крот, медуза, дождевой червь, личинка майского жука, ряска, постельный клоп, бабочка, олень, клубеньковые бактерии, волк, свиной цепень, щука, человек, трясогузка,  гидра, клещ собач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468360" y="1484280"/>
            <a:ext cx="77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местите в соответствующую среду обитания животных или растения из предложенного сп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помнить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ы обитания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е факторов среды на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б"/>
          <p:cNvPicPr/>
          <p:nvPr/>
        </p:nvPicPr>
        <p:blipFill>
          <a:blip r:embed="rId1"/>
          <a:srcRect l="14595" t="8296" r="10458" b="5211"/>
          <a:stretch/>
        </p:blipFill>
        <p:spPr>
          <a:xfrm>
            <a:off x="324000" y="3068640"/>
            <a:ext cx="4038480" cy="2355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б 001"/>
          <p:cNvPicPr/>
          <p:nvPr/>
        </p:nvPicPr>
        <p:blipFill>
          <a:blip r:embed="rId2"/>
          <a:srcRect l="5682" t="9345" r="15611" b="14806"/>
          <a:stretch/>
        </p:blipFill>
        <p:spPr>
          <a:xfrm>
            <a:off x="5076720" y="3284640"/>
            <a:ext cx="3033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и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8360" y="1484280"/>
          <a:ext cx="8229600" cy="36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 обит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т, дождевой червь, личинка майского жука, клубеньковые бактерии, корень дер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емно-возду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бочка, олень, волк, береза, орел, ворона, человек, трясогузка, чайка, стра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ьфин, акула, карась, ламинария, медуза, ряска, щука, ги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карида, комар, овод, постельный клоп, свиной цепень, клещ собач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39"/>
          <p:cNvSpPr/>
          <p:nvPr/>
        </p:nvSpPr>
        <p:spPr>
          <a:xfrm>
            <a:off x="539640" y="5300640"/>
            <a:ext cx="79930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ерии оцен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2 ошибки – оценка 5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-4 ошибки – оценка 4;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-8 ошибок – оценка 3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среды обитания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обитания животных в водной с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б 002"/>
          <p:cNvPicPr/>
          <p:nvPr/>
        </p:nvPicPr>
        <p:blipFill>
          <a:blip r:embed="rId1"/>
          <a:srcRect l="5887" t="3081" r="4748" b="9483"/>
          <a:stretch/>
        </p:blipFill>
        <p:spPr>
          <a:xfrm>
            <a:off x="1042920" y="2565360"/>
            <a:ext cx="2889360" cy="36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б 003"/>
          <p:cNvPicPr/>
          <p:nvPr/>
        </p:nvPicPr>
        <p:blipFill>
          <a:blip r:embed="rId2"/>
          <a:srcRect l="8761" t="5925" r="0" b="10136"/>
          <a:stretch/>
        </p:blipFill>
        <p:spPr>
          <a:xfrm>
            <a:off x="4716360" y="321300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уро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знания о  четырех средах обитания и  их характерных особенност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ь закономерности действия экологических факторов в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основными экологическими типами живых орган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реда обитани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(окружающая сред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все то, что окружает живой организм (совокупность сил и явлений природы, ее вещество и пространство, а также деятельность человека) и прямо или косвенно влияет на его состояние, рост и развитие, выживаемость, размножение и другие процессы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5"/>
          <p:cNvGrpSpPr/>
          <p:nvPr/>
        </p:nvGrpSpPr>
        <p:grpSpPr>
          <a:xfrm>
            <a:off x="250920" y="186480"/>
            <a:ext cx="8722800" cy="2666880"/>
            <a:chOff x="250920" y="186480"/>
            <a:chExt cx="8722800" cy="266688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V="1" rot="16200000">
              <a:off x="5892120" y="95400"/>
              <a:ext cx="492840" cy="3053520"/>
            </a:xfrm>
            <a:prstGeom prst="bentConnector3">
              <a:avLst>
                <a:gd name="adj1" fmla="val 2317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1"/>
            </p:cNvCxnSpPr>
            <p:nvPr/>
          </p:nvCxnSpPr>
          <p:spPr>
            <a:xfrm flipV="1">
              <a:off x="4611960" y="1375920"/>
              <a:ext cx="3960" cy="492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0"/>
            </p:cNvCxnSpPr>
            <p:nvPr/>
          </p:nvCxnSpPr>
          <p:spPr>
            <a:xfrm flipH="1" flipV="1" rot="5400000">
              <a:off x="2839320" y="95760"/>
              <a:ext cx="492840" cy="3053520"/>
            </a:xfrm>
            <a:prstGeom prst="bentConnector3">
              <a:avLst>
                <a:gd name="adj1" fmla="val 2317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0" name="_s1031"/>
            <p:cNvSpPr/>
            <p:nvPr/>
          </p:nvSpPr>
          <p:spPr>
            <a:xfrm>
              <a:off x="2792160" y="186480"/>
              <a:ext cx="3639960" cy="1189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Экологическ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факторы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250920" y="1868760"/>
              <a:ext cx="2616840" cy="984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биотическ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3"/>
            <p:cNvSpPr/>
            <p:nvPr/>
          </p:nvSpPr>
          <p:spPr>
            <a:xfrm>
              <a:off x="3303720" y="1868760"/>
              <a:ext cx="2616840" cy="984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иотический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6356880" y="1868760"/>
              <a:ext cx="2616840" cy="984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нтропогенный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17" descr="NLA_051"/>
          <p:cNvPicPr/>
          <p:nvPr/>
        </p:nvPicPr>
        <p:blipFill>
          <a:blip r:embed="rId1"/>
          <a:stretch/>
        </p:blipFill>
        <p:spPr>
          <a:xfrm>
            <a:off x="179280" y="3573360"/>
            <a:ext cx="2808360" cy="1873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163037"/>
          <p:cNvPicPr/>
          <p:nvPr/>
        </p:nvPicPr>
        <p:blipFill>
          <a:blip r:embed="rId2"/>
          <a:stretch/>
        </p:blipFill>
        <p:spPr>
          <a:xfrm>
            <a:off x="3203640" y="3573360"/>
            <a:ext cx="2808360" cy="188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8" descr="антр 2"/>
          <p:cNvPicPr/>
          <p:nvPr/>
        </p:nvPicPr>
        <p:blipFill>
          <a:blip r:embed="rId3"/>
          <a:stretch/>
        </p:blipFill>
        <p:spPr>
          <a:xfrm>
            <a:off x="6156360" y="3573360"/>
            <a:ext cx="280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иотические факторы - это комплекс условий окружающей среды, влияющих на живой организм (температура, давление, радиационный фон, влажность, состав атмосферы, морских и пресных вод, донных отложений, почвы и д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абиотические факторы"/>
          <p:cNvPicPr/>
          <p:nvPr/>
        </p:nvPicPr>
        <p:blipFill>
          <a:blip r:embed="rId1"/>
          <a:stretch/>
        </p:blipFill>
        <p:spPr>
          <a:xfrm>
            <a:off x="755640" y="2565360"/>
            <a:ext cx="2735280" cy="1755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PPIC0610"/>
          <p:cNvPicPr/>
          <p:nvPr/>
        </p:nvPicPr>
        <p:blipFill>
          <a:blip r:embed="rId2"/>
          <a:stretch/>
        </p:blipFill>
        <p:spPr>
          <a:xfrm>
            <a:off x="4788000" y="2492280"/>
            <a:ext cx="2808360" cy="1730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_BOROV_6"/>
          <p:cNvPicPr/>
          <p:nvPr/>
        </p:nvPicPr>
        <p:blipFill>
          <a:blip r:embed="rId3"/>
          <a:stretch/>
        </p:blipFill>
        <p:spPr>
          <a:xfrm>
            <a:off x="2124000" y="371628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03SC008"/>
          <p:cNvPicPr/>
          <p:nvPr/>
        </p:nvPicPr>
        <p:blipFill>
          <a:blip r:embed="rId4"/>
          <a:stretch/>
        </p:blipFill>
        <p:spPr>
          <a:xfrm>
            <a:off x="6516720" y="3716280"/>
            <a:ext cx="2124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тические факторы - это совокупность влияний жизнедеятельности одних организмов на другие (конкуренция, хищничество, паразитизм и друг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916280"/>
          <a:ext cx="8229600" cy="4209840"/>
        </p:xfrm>
        <a:graphic>
          <a:graphicData uri="http://schemas.openxmlformats.org/drawingml/2006/table">
            <a:tbl>
              <a:tblPr/>
              <a:tblGrid>
                <a:gridCol w="4116240"/>
                <a:gridCol w="4113360"/>
              </a:tblGrid>
              <a:tr h="42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м  "плюс" обозначают благоприятное действие одного вида на характеристики  другого 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м "минус" обозначают отрицательные действия одного вида на характеристики другого 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" descr="биотич фактор"/>
          <p:cNvPicPr/>
          <p:nvPr/>
        </p:nvPicPr>
        <p:blipFill>
          <a:blip r:embed="rId1"/>
          <a:stretch/>
        </p:blipFill>
        <p:spPr>
          <a:xfrm>
            <a:off x="826920" y="3500280"/>
            <a:ext cx="3384720" cy="217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хищничество"/>
          <p:cNvPicPr/>
          <p:nvPr/>
        </p:nvPicPr>
        <p:blipFill>
          <a:blip r:embed="rId2"/>
          <a:stretch/>
        </p:blipFill>
        <p:spPr>
          <a:xfrm>
            <a:off x="5148360" y="3438360"/>
            <a:ext cx="30956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ропогенные факторы - э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окупность влияний деятельности человека на окружающую среду (выбросы вредных веществ в атмосферу, разрушение почвенного слоя, нарушение природных ландшафтов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антропогенное"/>
          <p:cNvPicPr/>
          <p:nvPr/>
        </p:nvPicPr>
        <p:blipFill>
          <a:blip r:embed="rId1"/>
          <a:stretch/>
        </p:blipFill>
        <p:spPr>
          <a:xfrm>
            <a:off x="395280" y="2708280"/>
            <a:ext cx="3251160" cy="2441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антр 2"/>
          <p:cNvPicPr/>
          <p:nvPr/>
        </p:nvPicPr>
        <p:blipFill>
          <a:blip r:embed="rId2"/>
          <a:stretch/>
        </p:blipFill>
        <p:spPr>
          <a:xfrm>
            <a:off x="5003640" y="2781360"/>
            <a:ext cx="3672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8:09:30Z</dcterms:created>
  <dc:creator>q</dc:creator>
  <dc:description/>
  <dc:language>en-US</dc:language>
  <cp:lastModifiedBy>Николай</cp:lastModifiedBy>
  <dcterms:modified xsi:type="dcterms:W3CDTF">2013-09-28T08:09:06Z</dcterms:modified>
  <cp:revision>51</cp:revision>
  <dc:subject/>
  <dc:title>Слайд 1</dc:title>
</cp:coreProperties>
</file>