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951-86F9-49C8-AE38-397EF2A0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49A-B24C-4624-8A70-B35CC3CB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E7A-4C32-42C8-AE12-F29BDF94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D12-6058-487B-B411-C2958787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FC79-FB6D-4A2D-8AC8-F5B2B7CC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1F6E-A2ED-4374-BDBC-C36467F0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28C3-0E4A-40DE-B8B9-0FEA80BB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9F98-B084-482C-A89F-FEFB2136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C69B-AA9B-43B1-B532-4996BD2F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7EE3-C04F-46BD-AE8D-ECECF8D9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F36C-2F33-472D-95DC-AE09FFB4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54C-7C77-4FD1-8FB8-E4E9A46B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FFDC-C884-4959-9795-B8BC30EA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1A72-EA46-4DEC-AE84-DD80DFFF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85CA-55DD-4781-9A47-AF33FC3B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7EED-1814-4BF4-ACB9-B9A8EB37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C9FB-F7A0-40DB-9D0E-697879F8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94884-B827-4549-A80E-8AB3A7E9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F85A4-D576-457F-A111-DAB629B3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2244-5919-4F4F-A721-2CDAA243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ADA2-EE43-4E8A-A451-F263E8B9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4816-2E86-47A9-89CB-C0BCDB78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1C9-2CAB-4586-89CD-E073A2D5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3627-609E-40E2-9A35-ACF110ED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E305-E26B-40CD-A626-DD893F0A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A33D-C2FB-4986-A17A-DF76BD4A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1DBC-51FA-4378-928C-E3107BA6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B39A-564B-4416-B222-4BAAC4AF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54843-83D7-46D4-81B4-71A60ED0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0DBE3-5AC9-42DA-B948-91C19902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F76-5F19-4DC5-A38C-56A0A45C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582-659A-4DE5-9AB0-0440E463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816-10A3-48E3-9234-BDE7F69E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7E6-5570-405F-B76C-2549176E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9A0-BE6A-471E-A4E7-E2B9281F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E6A-27F3-430F-B70C-A4833C5D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CD64-239D-4C9B-8502-42C106602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A727-BB45-43BF-B36D-66F7560F7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1628-A8BD-400D-8BC0-7F0E4E96A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1268280"/>
            <a:ext cx="8424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Уголок пожарной безопасност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404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формацио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763280" y="1341360"/>
            <a:ext cx="129564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13372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редств противопожарной защ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1268280"/>
            <a:ext cx="86508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2060640"/>
            <a:ext cx="3456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целей эвак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1076400" cy="108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1009800" cy="108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1280" y="4724280"/>
            <a:ext cx="1125360" cy="1152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700360" y="4724280"/>
            <a:ext cx="1127160" cy="11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393372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лефон для использования при пожа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4005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жарная лест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5877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нет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5877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859280" y="2924280"/>
            <a:ext cx="1513080" cy="772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6877080" y="2924280"/>
            <a:ext cx="1511280" cy="772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5003640" y="4076640"/>
            <a:ext cx="1081080" cy="103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7164360" y="4221000"/>
            <a:ext cx="1150920" cy="1089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716360" y="3716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азатель вы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371628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азатель запасного вы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157720"/>
            <a:ext cx="15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правление к эвакуационному выходу по лестнице вн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544500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ункт (место) сб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500"/>
                            </p:stCondLst>
                            <p:childTnLst>
                              <p:par>
                                <p:cTn id="4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9500"/>
                            </p:stCondLst>
                            <p:childTnLst>
                              <p:par>
                                <p:cTn id="4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820"/>
                            </p:stCondLst>
                            <p:childTnLst>
                              <p:par>
                                <p:cTn id="5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4820"/>
                            </p:stCondLst>
                            <p:childTnLst>
                              <p:par>
                                <p:cTn id="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8020"/>
                            </p:stCondLst>
                            <p:childTnLst>
                              <p:par>
                                <p:cTn id="5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2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540"/>
                            </p:stCondLst>
                            <p:childTnLst>
                              <p:par>
                                <p:cTn id="5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40"/>
                            </p:stCondLst>
                            <p:childTnLst>
                              <p:par>
                                <p:cTn id="5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2540"/>
                            </p:stCondLst>
                            <p:childTnLst>
                              <p:par>
                                <p:cTn id="5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3040"/>
                            </p:stCondLst>
                            <p:childTnLst>
                              <p:par>
                                <p:cTn id="5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3680"/>
                            </p:stCondLst>
                            <p:childTnLst>
                              <p:par>
                                <p:cTn id="6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18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5180"/>
                            </p:stCondLst>
                            <p:childTnLst>
                              <p:par>
                                <p:cTn id="6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5680"/>
                            </p:stCondLst>
                            <p:childTnLst>
                              <p:par>
                                <p:cTn id="6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7560"/>
                            </p:stCondLst>
                            <p:childTnLst>
                              <p:par>
                                <p:cTn id="6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8060"/>
                            </p:stCondLst>
                            <p:childTnLst>
                              <p:par>
                                <p:cTn id="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omic Sans MS"/>
              </a:rPr>
              <a:t>Требование закона – требование жизн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7924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раждане имеют право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щиту их жизни, здоровья и имущества в случае пожа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ещение ущерба, причиненного пожаром, в порядке, установленном действующим законодательств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установлении причин пожара, нанесшего ущерб их здоровью и имуще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ие информации по вопросам пожарной безопасности, в том числе от органов управления и подразделений пожарной ох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обеспечении пожарной безопасности, в том числе добровольной пожарной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0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Обеспечение пожарной безопасности является одной из важнейшей функции госуда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ждане обяз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людать требования пожарной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ть в помещениях и строениях первичные средства тушения пожаров и противопожарный инвентар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бнаружении пожаров немедленно уведомлять о них пожарную охра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прибытия пожарной охраны принимать посильные меры по спасению людей, имущества и тушению пожа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азывать содействие пожарной охране при тушении пожа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ять предписания и иные законные требования должностных лиц пожарной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60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 нарушение требований пожарной безопасности граждане могут быть привлечены к дисциплинарной, административной или уголовной ответственности в соответствии с действующим законода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87640" y="4653000"/>
            <a:ext cx="6012000" cy="1942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519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ервичные средства пожаротуш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10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ный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НАЗНАЧЕН для размещения первичных средств пожаротушения, немеханизированного инструмента и пожарного инвентаря в производственных и складских помещениях, не оборудованных противопожарным водопроводом и автоматическими установками пожаротушения, а также на территории предприятий, не имеющих наружного противопожарного водопровода, или при удалении зданий на расстоянии более 100 м от наружных пожарных источ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лектуется в завис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типа щита и класса пожа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248360" cy="290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900"/>
                            </p:stCondLst>
                            <p:childTnLst>
                              <p:par>
                                <p:cTn id="11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900"/>
                            </p:stCondLst>
                            <p:childTnLst>
                              <p:par>
                                <p:cTn id="1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9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38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126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230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жарный кра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3746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 для тушения пожаров и загораний веществ и материалов, кроме электроустановок под напря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хранения клю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льт дистанционного включения насоса – повыс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ый 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5184720" cy="3116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1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1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62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38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14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98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6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гнетушите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851280" cy="1770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808360" cy="1811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3500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ле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80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ош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3573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душно – п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3779640" cy="1920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932360" y="3933720"/>
            <a:ext cx="3168720" cy="592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364000" y="4508640"/>
            <a:ext cx="2411640" cy="134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59280" y="580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рабат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20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2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700"/>
                            </p:stCondLst>
                            <p:childTnLst>
                              <p:par>
                                <p:cTn id="2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7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7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7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3200"/>
                            </p:stCondLst>
                            <p:childTnLst>
                              <p:par>
                                <p:cTn id="26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ки пожарной безопасно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1363680" cy="1314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843280" y="2565360"/>
            <a:ext cx="1379520" cy="1314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020000" y="2565360"/>
            <a:ext cx="1371600" cy="1314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126828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прещ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загромождать проходы и (или) склад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кур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пользоваться открытым огнём и ку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8800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 запрещ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96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96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2680"/>
                            </p:stCondLst>
                            <p:childTnLst>
                              <p:par>
                                <p:cTn id="3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468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6440"/>
                            </p:stCondLst>
                            <p:childTnLst>
                              <p:par>
                                <p:cTn id="3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844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11280" y="26028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упрежд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1257480" cy="110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1371600" cy="1101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1257480" cy="1101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732720" y="3500280"/>
            <a:ext cx="1371600" cy="1101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95640" y="27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ывоопа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472428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асно. Радиоактивные вещества или ионизирующее изл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4797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асность поражения электрото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637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оопасно. Легковоспламеняющиеся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22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12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460"/>
                            </p:stCondLst>
                            <p:childTnLst>
                              <p:par>
                                <p:cTn id="3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46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98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4980"/>
                            </p:stCondLst>
                            <p:childTnLst>
                              <p:par>
                                <p:cTn id="3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333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писы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1371600" cy="138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1379520" cy="1387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14698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72360" y="3933720"/>
            <a:ext cx="1493640" cy="1397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11280" y="177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ить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170028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ючить штепсельную ви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3933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40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ючить перед раб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39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50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980"/>
                            </p:stCondLst>
                            <p:childTnLst>
                              <p:par>
                                <p:cTn id="4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948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520"/>
                            </p:stCondLst>
                            <p:childTnLst>
                              <p:par>
                                <p:cTn id="438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52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3400"/>
                            </p:stCondLst>
                            <p:childTnLst>
                              <p:par>
                                <p:cTn id="4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40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9:39:42Z</dcterms:created>
  <dc:creator>1</dc:creator>
  <dc:description/>
  <dc:language>en-US</dc:language>
  <cp:lastModifiedBy>ALEX</cp:lastModifiedBy>
  <dcterms:modified xsi:type="dcterms:W3CDTF">2008-01-16T14:59:03Z</dcterms:modified>
  <cp:revision>7</cp:revision>
  <dc:subject/>
  <dc:title>Слайд 1</dc:title>
</cp:coreProperties>
</file>