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F3E-92A4-43D0-9355-1BAFC03C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891-FAB5-47F5-91BD-852FEE20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B36-CB77-4652-B375-FFE2B689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33D-0858-4FB4-8383-536B561A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4A2B-D5DD-468D-A3A3-237B5B6A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2B22-B6A1-4FCA-B7F0-41FE10D0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82F0-E091-46A3-A54A-E883228F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8E7-7131-4A0E-9629-08C92091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2F0-4F08-4E27-AB63-65E3DE47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967C-4961-4D32-83DE-C32D9A0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728B-0982-4B88-BA96-B62A939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4BD-E65F-4EA8-992E-1FB89BE0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185C-F62A-4B71-A920-C988AE0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35A1-F6C4-4834-849B-15287842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C746-E3CC-4F23-B124-5F9D5270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83EF-D228-4F99-B1C7-05F8FF3B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2FB4-BD76-4A04-9FB0-679DD2C2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EC6F-EFDF-4493-8DAC-242B83D6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FA5A-8B61-4524-9591-43468205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1415-3AC0-49E4-8A79-800A419D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F821-CD0D-4467-8F92-E1307C2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F399-84D3-420D-B2DE-05BC80E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ED0-2A0F-403B-B34D-9D3ED708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4B47-D5E2-4969-938F-071E326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1419-2115-4FB2-A3DE-691C01BF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199F-C8E6-4519-9EA7-267B46C9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3759-9442-4AF4-91EB-15714D08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C86C-F48B-40EE-BC3A-E685F5C7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A701-ECDD-4288-BD2D-2D2232AE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A559-AAA5-4B52-9B9B-9BA1027C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258-8BC4-4571-B467-941D0BAC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833-5AC7-430D-9D94-E98839D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F6A-FDC8-4B40-8526-B37354C5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123-E89D-4931-ADE7-FF4B7CBA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262-3447-41DD-AC42-344DA23D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538-900D-4E99-A432-72CE6D0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1AC8-1835-4D0A-9120-94BC9FEA7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BE90-16C4-4326-AC81-33ED7E72B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1A7E-EE8A-4581-81EB-4086FF87B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1268280"/>
            <a:ext cx="8424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Уголок пожарной безопасност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404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63280" y="1341360"/>
            <a:ext cx="129564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13372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редств противопожарной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1268280"/>
            <a:ext cx="86508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2060640"/>
            <a:ext cx="345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целей эвак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1076400" cy="10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1009800" cy="10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112536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700360" y="4724280"/>
            <a:ext cx="1127160" cy="11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393372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фон для использования при пож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4005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ая лест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нет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59280" y="2924280"/>
            <a:ext cx="1513080" cy="772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877080" y="2924280"/>
            <a:ext cx="1511280" cy="77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003640" y="4076640"/>
            <a:ext cx="1081080" cy="103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7164360" y="4221000"/>
            <a:ext cx="1150920" cy="108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360" y="3716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371628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запасного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15772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правление к эвакуационному выходу по лестнице вн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544500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нкт (место) с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500"/>
                            </p:stCondLst>
                            <p:childTnLst>
                              <p:par>
                                <p:cTn id="4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500"/>
                            </p:stCondLst>
                            <p:childTnLst>
                              <p:par>
                                <p:cTn id="4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820"/>
                            </p:stCondLst>
                            <p:childTnLst>
                              <p:par>
                                <p:cTn id="5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482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802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2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540"/>
                            </p:stCondLst>
                            <p:childTnLst>
                              <p:par>
                                <p:cTn id="5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40"/>
                            </p:stCondLst>
                            <p:childTnLst>
                              <p:par>
                                <p:cTn id="5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2540"/>
                            </p:stCondLst>
                            <p:childTnLst>
                              <p:par>
                                <p:cTn id="5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304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680"/>
                            </p:stCondLst>
                            <p:childTnLst>
                              <p:par>
                                <p:cTn id="6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18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180"/>
                            </p:stCondLst>
                            <p:childTnLst>
                              <p:par>
                                <p:cTn id="6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5680"/>
                            </p:stCondLst>
                            <p:childTnLst>
                              <p:par>
                                <p:cTn id="6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7560"/>
                            </p:stCondLst>
                            <p:childTnLst>
                              <p:par>
                                <p:cTn id="6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806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mic Sans MS"/>
              </a:rPr>
              <a:t>Требование закона – требование жиз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аждане имеют право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у их жизни, здоровья и имущества в случае пож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ещение ущерба, причиненного пожаром, в порядке, установленном действующим законодательст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их здоровью и иму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, в том числе от органов управления и подразделений пожарной 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обеспечении пожарной безопасности, в том числе добровольной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0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Обеспечение пожарной безопасности является одной из важнейшей функции госуд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е 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людать требования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ть в помещениях и строениях первичные средства тушения пожаров и противопожарный инвентар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бнаружении пожаров немедленно уведомлять о них пожарную охра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прибытия пожарной охраны принимать посильные меры по спасению людей, имущества и тушению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ывать содействие пожарной охране при тушении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ть предписания и иные законные требования должностных лиц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6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 нарушение требований пожарной безопасности граждане могут быть привлечены к дисциплинарной, административной или уголовной ответственности в соответствии с действующим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87640" y="4653000"/>
            <a:ext cx="6012000" cy="1942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519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10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ый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ЗНАЧЕН для размещения первичных средств пожаротушения, немеханизированного инструмента и пожарного инвентаря в производственных и складских помещениях, не оборудованных противопожарным водопроводом и автоматическими установками пожаротушения, а также на территории предприятий, не имеющих наружного противопожарного водопровода, или при удалении зданий на расстоянии более 100 м от наружных пожарных источ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лектуется в завис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ипа щита и класса пож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248360" cy="29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1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900"/>
                            </p:stCondLst>
                            <p:childTnLst>
                              <p:par>
                                <p:cTn id="1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9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8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12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23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жарный кр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746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 для тушения пожаров и загораний веществ и материалов, кроме электроустановок под напря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хранения кл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ьт дистанционного включения насоса – повы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51847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1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1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2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38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14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98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гнетуши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851280" cy="1770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808360" cy="1811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3500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е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ш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3573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о – п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3779640" cy="192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168720" cy="592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2411640" cy="134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59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рабат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2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2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7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7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7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ки пожарной безопас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363680" cy="131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43280" y="2565360"/>
            <a:ext cx="1379520" cy="131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020000" y="2565360"/>
            <a:ext cx="137160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126828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рещ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загромождать проходы и (или) склад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ку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пользоваться открытым огнём и ку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апре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96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96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680"/>
                            </p:stCondLst>
                            <p:childTnLst>
                              <p:par>
                                <p:cTn id="3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68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644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44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260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упрежд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1257480" cy="110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137160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1257480" cy="110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732720" y="3500280"/>
            <a:ext cx="1371600" cy="1101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5640" y="27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ывоопа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72428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. Радиоактивные вещества или ионизирующее из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797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сть поражения электро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37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оопасно. Легковоспламеняющиеся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22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12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460"/>
                            </p:stCondLst>
                            <p:childTnLst>
                              <p:par>
                                <p:cTn id="3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46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98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498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пис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371600" cy="13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379520" cy="138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14698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72360" y="3933720"/>
            <a:ext cx="1493640" cy="1397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1280" y="177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ить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1700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штепсельную ви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3933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перед раб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9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5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980"/>
                            </p:stCondLst>
                            <p:childTnLst>
                              <p:par>
                                <p:cTn id="4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48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520"/>
                            </p:stCondLst>
                            <p:childTnLst>
                              <p:par>
                                <p:cTn id="438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52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400"/>
                            </p:stCondLst>
                            <p:childTnLst>
                              <p:par>
                                <p:cTn id="4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9:39:42Z</dcterms:created>
  <dc:creator>1</dc:creator>
  <dc:description/>
  <dc:language>en-US</dc:language>
  <cp:lastModifiedBy>ALEX</cp:lastModifiedBy>
  <dcterms:modified xsi:type="dcterms:W3CDTF">2008-01-16T14:59:03Z</dcterms:modified>
  <cp:revision>7</cp:revision>
  <dc:subject/>
  <dc:title>Слайд 1</dc:title>
</cp:coreProperties>
</file>