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0BC-507D-4332-B381-12B151EF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CF0-9A06-498E-AB8D-EB8E8B7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617-03DF-4562-8169-38CDD34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0BB-EEB3-422B-8034-5CC5233E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B5FB-0C36-48B5-8151-471DD544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8A7E-DD03-4306-8257-C006F37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2B51-DE4C-42AF-9FA5-00DF4C81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ABF4-4AE0-4F0F-B67C-98FA3735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D9D4-79FA-465A-898B-366F6067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6436-EF7C-44FE-8611-A53196B8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3EC6-E0A7-4BEA-A4A9-F60E92A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A07-56EA-4EC3-88F5-43917FA6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E464-73DC-494D-8F19-4AD087C6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1C0D-6246-4DDF-AFE7-6ACD0526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C4CA-5ADA-4097-8FEF-3DB3BE7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E3E4-6BEE-42A8-AAAC-AF2FD3DA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2B4-4651-4A8A-B4FE-784F5E56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CB77-EBE1-4D2A-AB45-A625FDF3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3CD4-7E63-4526-B6C6-EDA873E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D35B6-DF7B-4220-BA50-BCBBAF5D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7887-B191-4E9B-A745-4166ED8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2D60-D15A-4D92-9D78-36643D9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A6D-D4C3-4852-A639-7CBA2209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C1B5-FE7E-4D45-85B3-B28187D1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CF47-F03A-4F7C-ABF0-4C593DA5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F2ED-B0C7-4411-9B63-A79E0B7E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D84F-A18D-472A-B153-C71A7EB1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3D53-D5FE-4D11-AEC7-E759DD0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25C8-6F2D-49DC-B143-0651C2F6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7762-B15A-4151-AAB7-3EE2B7CB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D80-C179-4372-87A2-79F572F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BB5-21DD-4251-8238-E84677CB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3E8-6287-48C2-A3F0-DDA6EAAD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CF0-514A-4142-8383-5AE29F4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6A7-4B48-47BC-9FCD-F4249AAB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E15-5076-4365-BD86-E4CB7B7D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2FB4-50B6-4A27-99E8-FEEEF5F9D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9FB-3919-4447-84D9-14506E5D9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B8A7-CEEB-4EE9-9DAC-5CE775B57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268280"/>
            <a:ext cx="842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Уголок пожарной безопасност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1341360"/>
            <a:ext cx="129564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13372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редств противопожарной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268280"/>
            <a:ext cx="86508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060640"/>
            <a:ext cx="34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целей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1076400" cy="10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10098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1253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1127160" cy="11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93372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фон для использования при пож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005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ая ле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59280" y="2924280"/>
            <a:ext cx="151308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51128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003640" y="4076640"/>
            <a:ext cx="10810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164360" y="4221000"/>
            <a:ext cx="1150920" cy="10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16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71628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запасного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15772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правление к эвакуационному выходу по лестнице вн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544500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нкт (место) с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2820"/>
                            </p:stCondLst>
                            <p:childTnLst>
                              <p:par>
                                <p:cTn id="5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482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8020"/>
                            </p:stCondLst>
                            <p:childTnLst>
                              <p:par>
                                <p:cTn id="5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002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540"/>
                            </p:stCondLst>
                            <p:childTnLst>
                              <p:par>
                                <p:cTn id="5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40"/>
                            </p:stCondLst>
                            <p:childTnLst>
                              <p:par>
                                <p:cTn id="5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2540"/>
                            </p:stCondLst>
                            <p:childTnLst>
                              <p:par>
                                <p:cTn id="5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40"/>
                            </p:stCondLst>
                            <p:childTnLst>
                              <p:par>
                                <p:cTn id="6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3680"/>
                            </p:stCondLst>
                            <p:childTnLst>
                              <p:par>
                                <p:cTn id="6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18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18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680"/>
                            </p:stCondLst>
                            <p:childTnLst>
                              <p:par>
                                <p:cTn id="6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7560"/>
                            </p:stCondLst>
                            <p:childTnLst>
                              <p:par>
                                <p:cTn id="6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6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mic Sans MS"/>
              </a:rPr>
              <a:t>Требование закона – требование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ждане имеют право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у их жизни, здоровья и имущества в случае пож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ещение ущерба, причиненного пожаром, в порядке, установленном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их здоровью и иму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, в том числе от органов управления и подразделений пожарной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обеспечении пожарной безопасности, в том числе добровольной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беспечение пожарной безопасности является одной из важнейшей функции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е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ть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в помещениях и строениях первичные средства тушения пожаров и противопожарный инвент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бнаружении пожаров немедленно уведомлять о них пожарную охра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ывать содействие пожарной охране при тушении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предписания и иные законные требования должностных лиц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 нарушение требований пожарной безопасности граждане могут быть привлечены к дисциплинарной, административной или уголовной ответственности в соответствии с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7640" y="4653000"/>
            <a:ext cx="6012000" cy="1942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19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й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размещения первичных средств пожаротушения, немеханизированного инструмента и пожарного инвентаря в производственных и складских помещениях, не оборудованных противопожарным водопроводом и автоматическими установками пожаротушения, а также на территории предприятий, не имеющих наружного противопожарного водопровода, или при удалении зданий на расстоянии более 100 м от наружных пожарных источ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лектуется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ипа щита и класса пож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48360" cy="29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900"/>
                            </p:stCondLst>
                            <p:childTnLst>
                              <p:par>
                                <p:cTn id="1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900"/>
                            </p:stCondLst>
                            <p:childTnLst>
                              <p:par>
                                <p:cTn id="1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9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38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26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жарный кр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 для тушения пожаров и загораний веществ и материалов, кроме электроустановок под напр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хранения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ьт дистанционного включения насоса – повы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1847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10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62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38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14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98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гнетуш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51280" cy="177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08360" cy="1811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50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е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7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о – п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779640" cy="192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16872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11640" cy="134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9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рабат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2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2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7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7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200"/>
                            </p:stCondLst>
                            <p:childTnLst>
                              <p:par>
                                <p:cTn id="2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200"/>
                            </p:stCondLst>
                            <p:childTnLst>
                              <p:par>
                                <p:cTn id="2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ки пожарной безопас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363680" cy="13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3716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1268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рещ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загромождать проходы и (или) склад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ку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пользоваться открытым огнём и ку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96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96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68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68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44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844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260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257480" cy="110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1257480" cy="110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3500280"/>
            <a:ext cx="1371600" cy="110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5640" y="27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ывоопа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724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. Радиоактивные вещества или ионизирующее 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сть поражения электро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оопасно. Легковоспламеняющиеся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12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460"/>
                            </p:stCondLst>
                            <p:childTnLst>
                              <p:par>
                                <p:cTn id="3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46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98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98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379520" cy="13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14698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493640" cy="1397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177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и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1700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штепсельную ви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933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9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500"/>
                            </p:stCondLst>
                            <p:childTnLst>
                              <p:par>
                                <p:cTn id="4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980"/>
                            </p:stCondLst>
                            <p:childTnLst>
                              <p:par>
                                <p:cTn id="4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48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520"/>
                            </p:stCondLst>
                            <p:childTnLst>
                              <p:par>
                                <p:cTn id="44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2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34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9:39:42Z</dcterms:created>
  <dc:creator>1</dc:creator>
  <dc:description/>
  <dc:language>en-US</dc:language>
  <cp:lastModifiedBy>ALEX</cp:lastModifiedBy>
  <dcterms:modified xsi:type="dcterms:W3CDTF">2008-01-16T14:59:03Z</dcterms:modified>
  <cp:revision>7</cp:revision>
  <dc:subject/>
  <dc:title>Слайд 1</dc:title>
</cp:coreProperties>
</file>