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8.gif" ContentType="image/gif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click.wav" ContentType="audio/x-wav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4D8-19AA-4247-BC81-2179C303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FBC-8309-4FA4-86FD-9C91A8A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6A9-E5F3-4A3F-97E0-0D052557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230-8E67-472D-9D3C-86799E66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F65E-0117-46D0-865E-E06BB301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6426-7DC0-4AD5-BE48-3F85CAE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FA0E-0B1C-4B39-B73A-E9F71F67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89FA-48C7-4616-8426-C791FDE7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349F-8049-41FA-9141-E0762E53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C536-BDAD-40FF-B91F-D9F39331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C893-44DB-4159-A2EB-696EC81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515-47AD-426E-AF1A-296A10D8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A09F-241E-4EAA-AABF-CCC6B6C7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F26B-A436-4AB4-9F4C-C9F11C2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20DE-4B88-44ED-A7FD-69F69DCF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868E-4F75-4C5C-9A4E-40A16952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D14F-619E-4C22-B089-8303319E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6FE7-115F-4368-B09D-7EF03CBF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6918-B23C-42AC-B7F2-CE7B3EA3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70B3-56B4-45E5-9251-DBB8B809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4455-E822-40CD-8686-C09CD875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AB5C-BDFA-4A19-9CE4-ACE01F8A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058-1E85-4342-93F2-45B4964C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34D3-46BA-4167-B148-9A9689FE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7689-98E5-48BD-91EB-FEA3C5C3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FEEC-0835-45E0-8920-9E7F41E5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478D-F929-4EB3-81DE-59AB0C4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3CC5-7CEC-42E9-9A21-FF797778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27EC-0B35-41CE-AAD5-4CCADAFB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61510-25FE-447A-86AC-764D08FA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9AC-416D-4E2A-A525-010BAA97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1E7-89CC-416F-82CD-87FBF487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474-C159-47E6-9918-FF3A5DAE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BF9-1FAE-4CB9-8ABD-A95B9AB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E3A-35F8-4C10-AE91-D5237202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3EE-2B88-4E2F-A9C1-3A1D3E4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AE94-56FE-4BCE-8036-E8DC50131E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8299-3460-4E1D-B822-499EEFB79F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5520-5152-4A90-B875-C60EFE8E38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трова Атлантического океана БЕРМУ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391360" cy="4809960"/>
          </a:xfrm>
          <a:prstGeom prst="rect">
            <a:avLst/>
          </a:prstGeom>
          <a:ln w="0">
            <a:noFill/>
          </a:ln>
        </p:spPr>
      </p:pic>
      <p:sp>
        <p:nvSpPr>
          <p:cNvPr id="125" name="Равнобедренный треугольник 5"/>
          <p:cNvSpPr/>
          <p:nvPr/>
        </p:nvSpPr>
        <p:spPr>
          <a:xfrm rot="1844400">
            <a:off x="4398840" y="1746360"/>
            <a:ext cx="2803680" cy="23479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375000" cy="3192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треугольных гр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КТ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 треугольных гр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Icosahedron"/>
          <p:cNvPicPr/>
          <p:nvPr/>
        </p:nvPicPr>
        <p:blipFill>
          <a:blip r:embed="rId2"/>
          <a:stretch/>
        </p:blipFill>
        <p:spPr>
          <a:xfrm>
            <a:off x="5508720" y="2060640"/>
            <a:ext cx="2943000" cy="2943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КОС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0 треугольных гр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рно ли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роугольный треугольник-это треугольник у которого все углы остр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угольный треугольник-это треугольник у которого все углы прям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упоугольный треугольник-это треугольник у которого есть один тупой у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роугольный треугольник-это треугольник у которого есть один острый у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угольный треугольник-это треугольник у которого есть один прямой уг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упоугольный треугольник-это треугольник у которого все углы туп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тангр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882800"/>
            <a:ext cx="354348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нгра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квадрат, разрезанный на семь частей определённым образом,              как показано на рисун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D:\документы\Костя\Танграм НОУ\Копия TangramCuttingл.GIF"/>
          <p:cNvPicPr/>
          <p:nvPr/>
        </p:nvPicPr>
        <p:blipFill>
          <a:blip r:embed="rId1"/>
          <a:stretch/>
        </p:blipFill>
        <p:spPr>
          <a:xfrm>
            <a:off x="4071960" y="1571760"/>
            <a:ext cx="4827600" cy="482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ногообразие фигур-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3" descr="D:\документы\Костя\Танграм НОУ\кошки.jpg"/>
          <p:cNvPicPr/>
          <p:nvPr/>
        </p:nvPicPr>
        <p:blipFill>
          <a:blip r:embed="rId1"/>
          <a:stretch/>
        </p:blipFill>
        <p:spPr>
          <a:xfrm>
            <a:off x="684360" y="1557360"/>
            <a:ext cx="3240000" cy="4680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D:\документы\Костя\Танграм НОУ\кошки.jpg"/>
          <p:cNvPicPr/>
          <p:nvPr/>
        </p:nvPicPr>
        <p:blipFill>
          <a:blip r:embed="rId2"/>
          <a:stretch/>
        </p:blipFill>
        <p:spPr>
          <a:xfrm>
            <a:off x="4788000" y="1538280"/>
            <a:ext cx="324324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611280" y="1374480"/>
            <a:ext cx="7705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Геометрия является самым могущественным средством для развития наших умственных способностей и даёт нам возможность правильно мыслить и рассуждат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2" descr=""/>
          <p:cNvPicPr/>
          <p:nvPr/>
        </p:nvPicPr>
        <p:blipFill>
          <a:blip r:embed="rId1"/>
          <a:stretch/>
        </p:blipFill>
        <p:spPr>
          <a:xfrm>
            <a:off x="171360" y="2054160"/>
            <a:ext cx="89424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ТРЕУГОЛЬНИК     И ЕГО ВИД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вы видите прямых, острых, тупых  развернутых углов и назовите их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551640" cy="3744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692360" y="393372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826920" y="4724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троуго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5651640" y="40766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поуголь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 flipV="1" rot="10800000">
            <a:off x="3664080" y="57441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оуго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1763640" y="134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059280" y="42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611280" y="4221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427640" y="1341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8028000" y="3860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565164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3635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5292720" y="551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3492360" y="5516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ый треугольник 17"/>
          <p:cNvSpPr/>
          <p:nvPr/>
        </p:nvSpPr>
        <p:spPr>
          <a:xfrm>
            <a:off x="3924360" y="3213000"/>
            <a:ext cx="1346040" cy="23544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извлечение 29"/>
          <p:cNvSpPr/>
          <p:nvPr/>
        </p:nvSpPr>
        <p:spPr>
          <a:xfrm flipH="1" rot="12503400">
            <a:off x="3869280" y="2673360"/>
            <a:ext cx="4389480" cy="1188720"/>
          </a:xfrm>
          <a:prstGeom prst="flowChartExtra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Равнобедренный треугольник 33"/>
          <p:cNvSpPr/>
          <p:nvPr/>
        </p:nvSpPr>
        <p:spPr>
          <a:xfrm>
            <a:off x="826920" y="1773360"/>
            <a:ext cx="2305080" cy="237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ЛЫ И ТРЕУГОЛЬ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угл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треуголь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оуго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уго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2" descr="Разносторонний треугольник"/>
          <p:cNvPicPr/>
          <p:nvPr/>
        </p:nvPicPr>
        <p:blipFill>
          <a:blip r:embed="rId1"/>
          <a:stretch/>
        </p:blipFill>
        <p:spPr>
          <a:xfrm>
            <a:off x="571680" y="2071800"/>
            <a:ext cx="2428560" cy="18572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Равнобедренный треугольник"/>
          <p:cNvPicPr/>
          <p:nvPr/>
        </p:nvPicPr>
        <p:blipFill>
          <a:blip r:embed="rId2"/>
          <a:stretch/>
        </p:blipFill>
        <p:spPr>
          <a:xfrm>
            <a:off x="6215040" y="185724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Равносторонний треугольник"/>
          <p:cNvPicPr/>
          <p:nvPr/>
        </p:nvPicPr>
        <p:blipFill>
          <a:blip r:embed="rId3"/>
          <a:stretch/>
        </p:blipFill>
        <p:spPr>
          <a:xfrm>
            <a:off x="3357720" y="292896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5"/>
          <p:cNvSpPr/>
          <p:nvPr/>
        </p:nvSpPr>
        <p:spPr>
          <a:xfrm>
            <a:off x="857160" y="3786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сторонни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6215040" y="407196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обедренны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3664080" y="49752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осторо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176652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7745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5425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719240" y="270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601452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3205800" y="501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709560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5"/>
          <p:cNvSpPr/>
          <p:nvPr/>
        </p:nvSpPr>
        <p:spPr>
          <a:xfrm>
            <a:off x="803160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601488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ОРОНЫ И ТРЕУГОЛЬ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916280"/>
          <a:ext cx="8229600" cy="329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авных сто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треуголь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нет равных сторо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сторон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бедрен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сторон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799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ить вид треугольника не выполняя постро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у внесе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Буквенные обозначения сторон треуг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Длины сторон треуг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3716280"/>
          <a:ext cx="7696080" cy="207324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 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см 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см 4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_треугольник кольцо"/>
          <p:cNvPicPr/>
          <p:nvPr/>
        </p:nvPicPr>
        <p:blipFill>
          <a:blip r:embed="rId1"/>
          <a:stretch/>
        </p:blipFill>
        <p:spPr>
          <a:xfrm>
            <a:off x="539640" y="1125360"/>
            <a:ext cx="1152720" cy="1121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угольники вокруг на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надувной треугольник"/>
          <p:cNvPicPr/>
          <p:nvPr/>
        </p:nvPicPr>
        <p:blipFill>
          <a:blip r:embed="rId2"/>
          <a:stretch/>
        </p:blipFill>
        <p:spPr>
          <a:xfrm>
            <a:off x="1835280" y="907920"/>
            <a:ext cx="1944720" cy="145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пирамида треугольник"/>
          <p:cNvPicPr/>
          <p:nvPr/>
        </p:nvPicPr>
        <p:blipFill>
          <a:blip r:embed="rId3"/>
          <a:stretch/>
        </p:blipFill>
        <p:spPr>
          <a:xfrm>
            <a:off x="4859280" y="836640"/>
            <a:ext cx="1362240" cy="1752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разворотный треугольник"/>
          <p:cNvPicPr/>
          <p:nvPr/>
        </p:nvPicPr>
        <p:blipFill>
          <a:blip r:embed="rId4"/>
          <a:stretch/>
        </p:blipFill>
        <p:spPr>
          <a:xfrm>
            <a:off x="395280" y="2708280"/>
            <a:ext cx="2340000" cy="1560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цветной треугольник"/>
          <p:cNvPicPr/>
          <p:nvPr/>
        </p:nvPicPr>
        <p:blipFill>
          <a:blip r:embed="rId5"/>
          <a:stretch/>
        </p:blipFill>
        <p:spPr>
          <a:xfrm>
            <a:off x="2987640" y="2708280"/>
            <a:ext cx="1751040" cy="1504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часы треугольник"/>
          <p:cNvPicPr/>
          <p:nvPr/>
        </p:nvPicPr>
        <p:blipFill>
          <a:blip r:embed="rId6"/>
          <a:stretch/>
        </p:blipFill>
        <p:spPr>
          <a:xfrm>
            <a:off x="6804000" y="765000"/>
            <a:ext cx="1873440" cy="1497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треугольник стоп сигнал"/>
          <p:cNvPicPr/>
          <p:nvPr/>
        </p:nvPicPr>
        <p:blipFill>
          <a:blip r:embed="rId7"/>
          <a:srcRect l="0" t="0" r="0" b="11358"/>
          <a:stretch/>
        </p:blipFill>
        <p:spPr>
          <a:xfrm>
            <a:off x="3708360" y="4336920"/>
            <a:ext cx="2232000" cy="226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скульптура невозможного треугольника"/>
          <p:cNvPicPr/>
          <p:nvPr/>
        </p:nvPicPr>
        <p:blipFill>
          <a:blip r:embed="rId8"/>
          <a:srcRect l="0" t="8571" r="0" b="0"/>
          <a:stretch/>
        </p:blipFill>
        <p:spPr>
          <a:xfrm>
            <a:off x="1116000" y="4489560"/>
            <a:ext cx="1727280" cy="2181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светомузыка треугольник"/>
          <p:cNvPicPr/>
          <p:nvPr/>
        </p:nvPicPr>
        <p:blipFill>
          <a:blip r:embed="rId9"/>
          <a:stretch/>
        </p:blipFill>
        <p:spPr>
          <a:xfrm>
            <a:off x="6105600" y="270828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10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8:12:25Z</dcterms:created>
  <dc:creator>Андрей</dc:creator>
  <dc:description/>
  <dc:language>en-US</dc:language>
  <cp:lastModifiedBy>Андрей</cp:lastModifiedBy>
  <dcterms:modified xsi:type="dcterms:W3CDTF">2014-04-14T16:42:45Z</dcterms:modified>
  <cp:revision>51</cp:revision>
  <dc:subject/>
  <dc:title>ТРЕУГОЛЬНИК</dc:title>
</cp:coreProperties>
</file>