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8.gif" ContentType="image/gif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click.wav" ContentType="audio/x-wav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2C9-0A4B-4428-9BEF-151672B9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6CB-30AF-4F22-8A59-9FA1923F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E66-F52D-4276-AA64-D1B92B01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888-924B-42EF-B0CB-1A3BD181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817F-2206-467E-9F17-4A7B2548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F62A-CDA0-4F59-B650-248A0C79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EBED-83CA-4502-8A41-4687C32D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8ADE-7E97-4152-8984-99472A45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12EB-9EC9-41EE-BF2C-495893C0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7005-29D1-43C8-8343-CB306103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678F-DD2C-45BC-BEEC-65545359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257-70D9-41AF-AAA1-D3E64A3C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1DAC-9691-4BC7-B9EA-893374C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DB61-84E7-442B-B4D0-AB15702D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8BDE-D5D1-4481-8F7B-8647A20B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B7B9-144A-4BE8-A803-74111536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0D38-23F1-4ADB-98AC-7855FDE4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04DD-34FE-4DCB-AE80-2E3AAA58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2DA0-E3F2-4822-A27E-CF436E1D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28A3-A1A1-469B-8D79-F22561F3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80C9-C468-4431-8C10-0DDACD04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65CE-D0B7-4C47-B1AB-C6CFE706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ADC-33BB-411B-9FCF-7A122DC7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4918-E455-4503-9A7D-04599A0F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FF84-5700-4F2D-A3F2-2F8AF83E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31EC-C489-4B9E-97C1-D9F070F3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65A2-C33C-42DB-A522-C33D226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B8B2-6CEB-44C5-913D-A8977870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7953-6EED-41F3-9ECC-B53AD6C7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3895-C97B-43B5-BEBF-833A7BDB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1DF-9D67-405D-886C-7C85D390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ED7-6127-421A-9B61-B64EC9EB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43B-BB9C-49FE-A117-3AFFFEAC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06A-7AE8-481A-925A-44224E32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580-DD90-403A-BA5A-AA7FF633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822-83CF-45CA-8AFB-22909BB9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482C-D0D7-4893-975F-61E6FB90897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FB72-97E9-4FD1-ADC0-9E4B70B8728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8C5B-6B66-4D3F-A74E-34D89ED0B82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трова Атлантического океана БЕРМУ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391360" cy="4809960"/>
          </a:xfrm>
          <a:prstGeom prst="rect">
            <a:avLst/>
          </a:prstGeom>
          <a:ln w="0">
            <a:noFill/>
          </a:ln>
        </p:spPr>
      </p:pic>
      <p:sp>
        <p:nvSpPr>
          <p:cNvPr id="125" name="Равнобедренный треугольник 5"/>
          <p:cNvSpPr/>
          <p:nvPr/>
        </p:nvSpPr>
        <p:spPr>
          <a:xfrm rot="1844400">
            <a:off x="4398840" y="1746360"/>
            <a:ext cx="2803680" cy="23479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375000" cy="3192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треугольных гра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КТ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 треугольных гра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Icosahedron"/>
          <p:cNvPicPr/>
          <p:nvPr/>
        </p:nvPicPr>
        <p:blipFill>
          <a:blip r:embed="rId2"/>
          <a:stretch/>
        </p:blipFill>
        <p:spPr>
          <a:xfrm>
            <a:off x="5508720" y="2060640"/>
            <a:ext cx="2943000" cy="2943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КОС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0 треугольных гра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рно ли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роугольный треугольник-это треугольник у которого все углы остр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угольный треугольник-это треугольник у которого все углы прям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упоугольный треугольник-это треугольник у которого есть один тупой у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роугольный треугольник-это треугольник у которого есть один острый у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угольный треугольник-это треугольник у которого есть один прямой у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упоугольный треугольник-это треугольник у которого все углы туп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тангр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882800"/>
            <a:ext cx="354348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нгра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квадрат, разрезанный на семь частей определённым образом,              как показано на рисун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D:\документы\Костя\Танграм НОУ\Копия TangramCuttingл.GIF"/>
          <p:cNvPicPr/>
          <p:nvPr/>
        </p:nvPicPr>
        <p:blipFill>
          <a:blip r:embed="rId1"/>
          <a:stretch/>
        </p:blipFill>
        <p:spPr>
          <a:xfrm>
            <a:off x="4071960" y="1571760"/>
            <a:ext cx="4827600" cy="482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ногообразие фигур-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3" descr="D:\документы\Костя\Танграм НОУ\кошки.jpg"/>
          <p:cNvPicPr/>
          <p:nvPr/>
        </p:nvPicPr>
        <p:blipFill>
          <a:blip r:embed="rId1"/>
          <a:stretch/>
        </p:blipFill>
        <p:spPr>
          <a:xfrm>
            <a:off x="684360" y="1557360"/>
            <a:ext cx="3240000" cy="4680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D:\документы\Костя\Танграм НОУ\кошки.jpg"/>
          <p:cNvPicPr/>
          <p:nvPr/>
        </p:nvPicPr>
        <p:blipFill>
          <a:blip r:embed="rId2"/>
          <a:stretch/>
        </p:blipFill>
        <p:spPr>
          <a:xfrm>
            <a:off x="4788000" y="1538280"/>
            <a:ext cx="324324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611280" y="1374480"/>
            <a:ext cx="7705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Геометрия является самым могущественным средством для развития наших умственных способностей и даёт нам возможность правильно мыслить и рассуждат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2" descr=""/>
          <p:cNvPicPr/>
          <p:nvPr/>
        </p:nvPicPr>
        <p:blipFill>
          <a:blip r:embed="rId1"/>
          <a:stretch/>
        </p:blipFill>
        <p:spPr>
          <a:xfrm>
            <a:off x="171360" y="2054160"/>
            <a:ext cx="89424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ТРЕУГОЛЬНИК     И ЕГО ВИД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вы видите прямых, острых, тупых  развернутых углов и назовите их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551640" cy="3744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692360" y="393372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826920" y="4724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троуго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5651640" y="40766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поугольны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 flipV="1" rot="10800000">
            <a:off x="3664080" y="574416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оуго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1763640" y="134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059280" y="42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611280" y="4221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4427640" y="1341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8028000" y="38606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565164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3635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5292720" y="551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3492360" y="5516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ый треугольник 17"/>
          <p:cNvSpPr/>
          <p:nvPr/>
        </p:nvSpPr>
        <p:spPr>
          <a:xfrm>
            <a:off x="3924360" y="3213000"/>
            <a:ext cx="1346040" cy="23544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извлечение 29"/>
          <p:cNvSpPr/>
          <p:nvPr/>
        </p:nvSpPr>
        <p:spPr>
          <a:xfrm flipH="1" rot="12503400">
            <a:off x="3869280" y="2673360"/>
            <a:ext cx="4389480" cy="1188720"/>
          </a:xfrm>
          <a:prstGeom prst="flowChartExtra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Равнобедренный треугольник 33"/>
          <p:cNvSpPr/>
          <p:nvPr/>
        </p:nvSpPr>
        <p:spPr>
          <a:xfrm>
            <a:off x="826920" y="1773360"/>
            <a:ext cx="2305080" cy="237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ГЛЫ И ТРЕУГОЛЬ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угл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треугольн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р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роуго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п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поуго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2" descr="Разносторонний треугольник"/>
          <p:cNvPicPr/>
          <p:nvPr/>
        </p:nvPicPr>
        <p:blipFill>
          <a:blip r:embed="rId1"/>
          <a:stretch/>
        </p:blipFill>
        <p:spPr>
          <a:xfrm>
            <a:off x="571680" y="2071800"/>
            <a:ext cx="2428560" cy="18572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Равнобедренный треугольник"/>
          <p:cNvPicPr/>
          <p:nvPr/>
        </p:nvPicPr>
        <p:blipFill>
          <a:blip r:embed="rId2"/>
          <a:stretch/>
        </p:blipFill>
        <p:spPr>
          <a:xfrm>
            <a:off x="6215040" y="185724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Равносторонний треугольник"/>
          <p:cNvPicPr/>
          <p:nvPr/>
        </p:nvPicPr>
        <p:blipFill>
          <a:blip r:embed="rId3"/>
          <a:stretch/>
        </p:blipFill>
        <p:spPr>
          <a:xfrm>
            <a:off x="3357720" y="2928960"/>
            <a:ext cx="2643120" cy="21430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5"/>
          <p:cNvSpPr/>
          <p:nvPr/>
        </p:nvSpPr>
        <p:spPr>
          <a:xfrm>
            <a:off x="857160" y="3786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сторонни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6215040" y="407196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обедренны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3664080" y="49752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осторо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176652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27745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5425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4719240" y="270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601452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3205800" y="501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709560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5"/>
          <p:cNvSpPr/>
          <p:nvPr/>
        </p:nvSpPr>
        <p:spPr>
          <a:xfrm>
            <a:off x="803160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601488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ОРОНЫ И ТРЕУГОЛЬ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916280"/>
          <a:ext cx="8229600" cy="329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авных сто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треугольн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нет равных стор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осторон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бедрен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сторон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799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ить вид треугольника не выполняя постро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блицу внесе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Буквенные обозначения сторон треуг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Длины сторон треуг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3716280"/>
          <a:ext cx="7696080" cy="207324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 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см 4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см 4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_треугольник кольцо"/>
          <p:cNvPicPr/>
          <p:nvPr/>
        </p:nvPicPr>
        <p:blipFill>
          <a:blip r:embed="rId1"/>
          <a:stretch/>
        </p:blipFill>
        <p:spPr>
          <a:xfrm>
            <a:off x="539640" y="1125360"/>
            <a:ext cx="1152720" cy="1121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угольники вокруг на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надувной треугольник"/>
          <p:cNvPicPr/>
          <p:nvPr/>
        </p:nvPicPr>
        <p:blipFill>
          <a:blip r:embed="rId2"/>
          <a:stretch/>
        </p:blipFill>
        <p:spPr>
          <a:xfrm>
            <a:off x="1835280" y="907920"/>
            <a:ext cx="1944720" cy="145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пирамида треугольник"/>
          <p:cNvPicPr/>
          <p:nvPr/>
        </p:nvPicPr>
        <p:blipFill>
          <a:blip r:embed="rId3"/>
          <a:stretch/>
        </p:blipFill>
        <p:spPr>
          <a:xfrm>
            <a:off x="4859280" y="836640"/>
            <a:ext cx="1362240" cy="1752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разворотный треугольник"/>
          <p:cNvPicPr/>
          <p:nvPr/>
        </p:nvPicPr>
        <p:blipFill>
          <a:blip r:embed="rId4"/>
          <a:stretch/>
        </p:blipFill>
        <p:spPr>
          <a:xfrm>
            <a:off x="395280" y="2708280"/>
            <a:ext cx="2340000" cy="1560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цветной треугольник"/>
          <p:cNvPicPr/>
          <p:nvPr/>
        </p:nvPicPr>
        <p:blipFill>
          <a:blip r:embed="rId5"/>
          <a:stretch/>
        </p:blipFill>
        <p:spPr>
          <a:xfrm>
            <a:off x="2987640" y="2708280"/>
            <a:ext cx="1751040" cy="1504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часы треугольник"/>
          <p:cNvPicPr/>
          <p:nvPr/>
        </p:nvPicPr>
        <p:blipFill>
          <a:blip r:embed="rId6"/>
          <a:stretch/>
        </p:blipFill>
        <p:spPr>
          <a:xfrm>
            <a:off x="6804000" y="765000"/>
            <a:ext cx="1873440" cy="1497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треугольник стоп сигнал"/>
          <p:cNvPicPr/>
          <p:nvPr/>
        </p:nvPicPr>
        <p:blipFill>
          <a:blip r:embed="rId7"/>
          <a:srcRect l="0" t="0" r="0" b="11358"/>
          <a:stretch/>
        </p:blipFill>
        <p:spPr>
          <a:xfrm>
            <a:off x="3708360" y="4336920"/>
            <a:ext cx="2232000" cy="226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скульптура невозможного треугольника"/>
          <p:cNvPicPr/>
          <p:nvPr/>
        </p:nvPicPr>
        <p:blipFill>
          <a:blip r:embed="rId8"/>
          <a:srcRect l="0" t="8571" r="0" b="0"/>
          <a:stretch/>
        </p:blipFill>
        <p:spPr>
          <a:xfrm>
            <a:off x="1116000" y="4489560"/>
            <a:ext cx="1727280" cy="2181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светомузыка треугольник"/>
          <p:cNvPicPr/>
          <p:nvPr/>
        </p:nvPicPr>
        <p:blipFill>
          <a:blip r:embed="rId9"/>
          <a:stretch/>
        </p:blipFill>
        <p:spPr>
          <a:xfrm>
            <a:off x="6105600" y="270828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10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8:12:25Z</dcterms:created>
  <dc:creator>Андрей</dc:creator>
  <dc:description/>
  <dc:language>en-US</dc:language>
  <cp:lastModifiedBy>Андрей</cp:lastModifiedBy>
  <dcterms:modified xsi:type="dcterms:W3CDTF">2014-04-14T16:42:45Z</dcterms:modified>
  <cp:revision>51</cp:revision>
  <dc:subject/>
  <dc:title>ТРЕУГОЛЬНИК</dc:title>
</cp:coreProperties>
</file>