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18.gif" ContentType="image/gif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click.wav" ContentType="audio/x-wav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CADB-1B58-4471-9D4B-4B095CDE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EF04-689C-44F0-AAF2-2C7CBB66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0F19-DC79-4A11-AA83-046395CA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E6C8-08A9-4D4C-A91D-351C564D9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52CB-5743-449C-82C3-3CC7AC1D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06E4-4EE1-413C-9FE0-B1EC0A96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AFC7-1A54-4A40-BDA4-689A73B8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7091-A232-4046-885D-0D2CAC9E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811E-4154-44B0-9C4B-E406933C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5264-AF4D-4A70-8494-A3030B1F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431D-E484-4F6A-9877-C8E92155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887A-C588-4A1F-8DA2-04187849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515F-8E4C-4EFD-8604-6876D457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3714-697B-4414-9AB9-B94B8DF0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C8B5-8882-44F9-B10C-86D0D82D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E374-2F63-4C0F-83A8-F8BA67C2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4CDC-31C6-419F-B5CB-17B00741F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5ED9A-7E25-4360-8E5E-7C60F07E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E9B40-9E0D-4DA2-81C5-556B22D5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8054B-04F7-4D9A-829C-8B8EBECC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3B7DE-9560-4B75-8F3E-4F0E90F9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9E8B5-3DA2-4DCF-8A36-48070E68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E11C-EB15-4921-B73C-68E63C7A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BE4C4-AD45-47D0-91D9-CAC411D2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FB36D-6774-4D83-8299-F61A9C95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3E8DC-C5B0-4960-B229-48249170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B337C-7F22-404D-9D65-C3715550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5E1BD-B265-4BF1-868F-CE8BE3F0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DDD1B-F482-44BE-8FDA-7FB59AD98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BF6FB-613A-4EE9-8504-D0F76C2C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EC69-633B-40C1-B408-E00A72C6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F302-BC97-44FF-8C98-5C20793B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591D-1F90-470A-8F32-7FBA555C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C861-E047-4666-A1D0-DBECAD49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4A63-D4B0-47E2-9A6F-A8021267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B664-28E5-49DA-9868-DE833899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6702-58DB-4B2D-BDEE-1325902DEAA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F3F9-7142-4F06-BA42-5D75747F440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2456-3982-4855-AE13-3AC6E89F906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audio" Target="../media/click.wav"/><Relationship Id="rId1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трова Атлантического океана БЕРМУ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1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5391360" cy="4809960"/>
          </a:xfrm>
          <a:prstGeom prst="rect">
            <a:avLst/>
          </a:prstGeom>
          <a:ln w="0">
            <a:noFill/>
          </a:ln>
        </p:spPr>
      </p:pic>
      <p:sp>
        <p:nvSpPr>
          <p:cNvPr id="125" name="Равнобедренный треугольник 5"/>
          <p:cNvSpPr/>
          <p:nvPr/>
        </p:nvSpPr>
        <p:spPr>
          <a:xfrm rot="1844400">
            <a:off x="4398840" y="1746360"/>
            <a:ext cx="2803680" cy="234792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3375000" cy="31924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ТРАЭД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 треугольных гра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3905280" cy="39052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КТАЭД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8 треугольных гран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3168720" cy="3168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Icosahedron"/>
          <p:cNvPicPr/>
          <p:nvPr/>
        </p:nvPicPr>
        <p:blipFill>
          <a:blip r:embed="rId2"/>
          <a:stretch/>
        </p:blipFill>
        <p:spPr>
          <a:xfrm>
            <a:off x="5508720" y="2060640"/>
            <a:ext cx="2943000" cy="2943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КОСАЭД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0 треугольных гран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ерно ли, чт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троугольный треугольник-это треугольник у которого все углы остр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ямоугольный треугольник-это треугольник у которого все углы прям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упоугольный треугольник-это треугольник у которого есть один тупой уго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троугольный треугольник-это треугольник у которого есть один острый уго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ямоугольный треугольник-это треугольник у которого есть один прямой уго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упоугольный треугольник-это треугольник у которого все углы туп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то такое тангра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1882800"/>
            <a:ext cx="354348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ангра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это квадрат, разрезанный на семь частей определённым образом,              как показано на рисунк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3" descr="D:\документы\Костя\Танграм НОУ\Копия TangramCuttingл.GIF"/>
          <p:cNvPicPr/>
          <p:nvPr/>
        </p:nvPicPr>
        <p:blipFill>
          <a:blip r:embed="rId1"/>
          <a:stretch/>
        </p:blipFill>
        <p:spPr>
          <a:xfrm>
            <a:off x="4071960" y="1571760"/>
            <a:ext cx="4827600" cy="482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ногообразие фигур-зад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Рисунок 3" descr="D:\документы\Костя\Танграм НОУ\кошки.jpg"/>
          <p:cNvPicPr/>
          <p:nvPr/>
        </p:nvPicPr>
        <p:blipFill>
          <a:blip r:embed="rId1"/>
          <a:stretch/>
        </p:blipFill>
        <p:spPr>
          <a:xfrm>
            <a:off x="684360" y="1557360"/>
            <a:ext cx="3240000" cy="468000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1" descr="D:\документы\Костя\Танграм НОУ\кошки.jpg"/>
          <p:cNvPicPr/>
          <p:nvPr/>
        </p:nvPicPr>
        <p:blipFill>
          <a:blip r:embed="rId2"/>
          <a:stretch/>
        </p:blipFill>
        <p:spPr>
          <a:xfrm>
            <a:off x="4788000" y="1538280"/>
            <a:ext cx="3243240" cy="469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0"/>
          <p:cNvSpPr/>
          <p:nvPr/>
        </p:nvSpPr>
        <p:spPr>
          <a:xfrm>
            <a:off x="611280" y="1374480"/>
            <a:ext cx="7705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Геометрия является самым могущественным средством для развития наших умственных способностей и даёт нам возможность правильно мыслить и рассуждать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Прямоугольник 2" descr=""/>
          <p:cNvPicPr/>
          <p:nvPr/>
        </p:nvPicPr>
        <p:blipFill>
          <a:blip r:embed="rId1"/>
          <a:stretch/>
        </p:blipFill>
        <p:spPr>
          <a:xfrm>
            <a:off x="171360" y="2054160"/>
            <a:ext cx="894240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40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ТРЕУГОЛЬНИК     И ЕГО ВИДЫ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колько вы видите прямых, острых, тупых  развернутых углов и назовите их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403280" y="2421000"/>
            <a:ext cx="6551640" cy="37447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"/>
          <p:cNvSpPr/>
          <p:nvPr/>
        </p:nvSpPr>
        <p:spPr>
          <a:xfrm>
            <a:off x="1692360" y="3933720"/>
            <a:ext cx="2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ТРЕУГОЛЬН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8"/>
          <p:cNvSpPr/>
          <p:nvPr/>
        </p:nvSpPr>
        <p:spPr>
          <a:xfrm>
            <a:off x="826920" y="472428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троуго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9"/>
          <p:cNvSpPr/>
          <p:nvPr/>
        </p:nvSpPr>
        <p:spPr>
          <a:xfrm>
            <a:off x="5651640" y="407664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упоугольный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0"/>
          <p:cNvSpPr/>
          <p:nvPr/>
        </p:nvSpPr>
        <p:spPr>
          <a:xfrm flipV="1" rot="10800000">
            <a:off x="3664080" y="574416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ямоуго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1763640" y="1341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3059280" y="422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1"/>
          <p:cNvSpPr/>
          <p:nvPr/>
        </p:nvSpPr>
        <p:spPr>
          <a:xfrm>
            <a:off x="611280" y="4221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2"/>
          <p:cNvSpPr/>
          <p:nvPr/>
        </p:nvSpPr>
        <p:spPr>
          <a:xfrm>
            <a:off x="4427640" y="13413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8028000" y="386064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4"/>
          <p:cNvSpPr/>
          <p:nvPr/>
        </p:nvSpPr>
        <p:spPr>
          <a:xfrm>
            <a:off x="5651640" y="38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5"/>
          <p:cNvSpPr/>
          <p:nvPr/>
        </p:nvSpPr>
        <p:spPr>
          <a:xfrm>
            <a:off x="3635280" y="292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6"/>
          <p:cNvSpPr/>
          <p:nvPr/>
        </p:nvSpPr>
        <p:spPr>
          <a:xfrm>
            <a:off x="5292720" y="5516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7"/>
          <p:cNvSpPr/>
          <p:nvPr/>
        </p:nvSpPr>
        <p:spPr>
          <a:xfrm>
            <a:off x="3492360" y="551664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ый треугольник 17"/>
          <p:cNvSpPr/>
          <p:nvPr/>
        </p:nvSpPr>
        <p:spPr>
          <a:xfrm>
            <a:off x="3924360" y="3213000"/>
            <a:ext cx="1346040" cy="235440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Блок-схема: извлечение 29"/>
          <p:cNvSpPr/>
          <p:nvPr/>
        </p:nvSpPr>
        <p:spPr>
          <a:xfrm flipH="1" rot="12503400">
            <a:off x="3869280" y="2673360"/>
            <a:ext cx="4389480" cy="1188720"/>
          </a:xfrm>
          <a:prstGeom prst="flowChartExtra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Равнобедренный треугольник 33"/>
          <p:cNvSpPr/>
          <p:nvPr/>
        </p:nvSpPr>
        <p:spPr>
          <a:xfrm>
            <a:off x="826920" y="1773360"/>
            <a:ext cx="2305080" cy="2376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ГЛЫ И ТРЕУГОЛЬ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1600200"/>
          <a:ext cx="8229600" cy="4267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ы угл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вание треугольни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тр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троугольн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ямо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ямоугольн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упо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упоугольн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ТРЕУГОЛЬН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Рисунок 2" descr="Разносторонний треугольник"/>
          <p:cNvPicPr/>
          <p:nvPr/>
        </p:nvPicPr>
        <p:blipFill>
          <a:blip r:embed="rId1"/>
          <a:stretch/>
        </p:blipFill>
        <p:spPr>
          <a:xfrm>
            <a:off x="571680" y="2071800"/>
            <a:ext cx="2428560" cy="185724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3" descr="Равнобедренный треугольник"/>
          <p:cNvPicPr/>
          <p:nvPr/>
        </p:nvPicPr>
        <p:blipFill>
          <a:blip r:embed="rId2"/>
          <a:stretch/>
        </p:blipFill>
        <p:spPr>
          <a:xfrm>
            <a:off x="6215040" y="1857240"/>
            <a:ext cx="1785960" cy="207180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4" descr="Равносторонний треугольник"/>
          <p:cNvPicPr/>
          <p:nvPr/>
        </p:nvPicPr>
        <p:blipFill>
          <a:blip r:embed="rId3"/>
          <a:stretch/>
        </p:blipFill>
        <p:spPr>
          <a:xfrm>
            <a:off x="3357720" y="2928960"/>
            <a:ext cx="2643120" cy="214308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5"/>
          <p:cNvSpPr/>
          <p:nvPr/>
        </p:nvSpPr>
        <p:spPr>
          <a:xfrm>
            <a:off x="857160" y="3786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носторонний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6"/>
          <p:cNvSpPr/>
          <p:nvPr/>
        </p:nvSpPr>
        <p:spPr>
          <a:xfrm>
            <a:off x="6215040" y="407196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внобедренный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7"/>
          <p:cNvSpPr/>
          <p:nvPr/>
        </p:nvSpPr>
        <p:spPr>
          <a:xfrm>
            <a:off x="3664080" y="497520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вносторон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8"/>
          <p:cNvSpPr/>
          <p:nvPr/>
        </p:nvSpPr>
        <p:spPr>
          <a:xfrm>
            <a:off x="1766520" y="177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2774520" y="3716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0"/>
          <p:cNvSpPr/>
          <p:nvPr/>
        </p:nvSpPr>
        <p:spPr>
          <a:xfrm>
            <a:off x="542520" y="3716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4719240" y="2708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6014520" y="50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3"/>
          <p:cNvSpPr/>
          <p:nvPr/>
        </p:nvSpPr>
        <p:spPr>
          <a:xfrm>
            <a:off x="3205800" y="5013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4"/>
          <p:cNvSpPr/>
          <p:nvPr/>
        </p:nvSpPr>
        <p:spPr>
          <a:xfrm>
            <a:off x="709560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5"/>
          <p:cNvSpPr/>
          <p:nvPr/>
        </p:nvSpPr>
        <p:spPr>
          <a:xfrm>
            <a:off x="8031600" y="364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6"/>
          <p:cNvSpPr/>
          <p:nvPr/>
        </p:nvSpPr>
        <p:spPr>
          <a:xfrm>
            <a:off x="6014880" y="3860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ТОРОНЫ И ТРЕУГОЛЬ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11280" y="1916280"/>
          <a:ext cx="8229600" cy="3292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равных сторо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вание треугольни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 нет равных сторон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носторонни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внобедренн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вносторонни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7993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пределить вид треугольника не выполняя постро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таблицу внесен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Буквенные обозначения сторон треуголь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Длины сторон треугольн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5800" y="3716280"/>
          <a:ext cx="7696080" cy="207324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см 6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см 4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см 4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_треугольник кольцо"/>
          <p:cNvPicPr/>
          <p:nvPr/>
        </p:nvPicPr>
        <p:blipFill>
          <a:blip r:embed="rId1"/>
          <a:stretch/>
        </p:blipFill>
        <p:spPr>
          <a:xfrm>
            <a:off x="539640" y="1125360"/>
            <a:ext cx="1152720" cy="1121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реугольники вокруг на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6" descr="надувной треугольник"/>
          <p:cNvPicPr/>
          <p:nvPr/>
        </p:nvPicPr>
        <p:blipFill>
          <a:blip r:embed="rId2"/>
          <a:stretch/>
        </p:blipFill>
        <p:spPr>
          <a:xfrm>
            <a:off x="1835280" y="907920"/>
            <a:ext cx="1944720" cy="1451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пирамида треугольник"/>
          <p:cNvPicPr/>
          <p:nvPr/>
        </p:nvPicPr>
        <p:blipFill>
          <a:blip r:embed="rId3"/>
          <a:stretch/>
        </p:blipFill>
        <p:spPr>
          <a:xfrm>
            <a:off x="4859280" y="836640"/>
            <a:ext cx="1362240" cy="1752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разворотный треугольник"/>
          <p:cNvPicPr/>
          <p:nvPr/>
        </p:nvPicPr>
        <p:blipFill>
          <a:blip r:embed="rId4"/>
          <a:stretch/>
        </p:blipFill>
        <p:spPr>
          <a:xfrm>
            <a:off x="395280" y="2708280"/>
            <a:ext cx="2340000" cy="1560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5" descr="цветной треугольник"/>
          <p:cNvPicPr/>
          <p:nvPr/>
        </p:nvPicPr>
        <p:blipFill>
          <a:blip r:embed="rId5"/>
          <a:stretch/>
        </p:blipFill>
        <p:spPr>
          <a:xfrm>
            <a:off x="2987640" y="2708280"/>
            <a:ext cx="1751040" cy="1504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8" descr="часы треугольник"/>
          <p:cNvPicPr/>
          <p:nvPr/>
        </p:nvPicPr>
        <p:blipFill>
          <a:blip r:embed="rId6"/>
          <a:stretch/>
        </p:blipFill>
        <p:spPr>
          <a:xfrm>
            <a:off x="6804000" y="765000"/>
            <a:ext cx="1873440" cy="14972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9" descr="треугольник стоп сигнал"/>
          <p:cNvPicPr/>
          <p:nvPr/>
        </p:nvPicPr>
        <p:blipFill>
          <a:blip r:embed="rId7"/>
          <a:srcRect l="0" t="0" r="0" b="11358"/>
          <a:stretch/>
        </p:blipFill>
        <p:spPr>
          <a:xfrm>
            <a:off x="3708360" y="4336920"/>
            <a:ext cx="2232000" cy="2262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0" descr="скульптура невозможного треугольника"/>
          <p:cNvPicPr/>
          <p:nvPr/>
        </p:nvPicPr>
        <p:blipFill>
          <a:blip r:embed="rId8"/>
          <a:srcRect l="0" t="8571" r="0" b="0"/>
          <a:stretch/>
        </p:blipFill>
        <p:spPr>
          <a:xfrm>
            <a:off x="1116000" y="4489560"/>
            <a:ext cx="1727280" cy="2181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1" descr="светомузыка треугольник"/>
          <p:cNvPicPr/>
          <p:nvPr/>
        </p:nvPicPr>
        <p:blipFill>
          <a:blip r:embed="rId9"/>
          <a:stretch/>
        </p:blipFill>
        <p:spPr>
          <a:xfrm>
            <a:off x="6105600" y="270828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10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18:12:25Z</dcterms:created>
  <dc:creator>Андрей</dc:creator>
  <dc:description/>
  <dc:language>en-US</dc:language>
  <cp:lastModifiedBy>Андрей</cp:lastModifiedBy>
  <dcterms:modified xsi:type="dcterms:W3CDTF">2014-04-14T16:42:45Z</dcterms:modified>
  <cp:revision>51</cp:revision>
  <dc:subject/>
  <dc:title>ТРЕУГОЛЬНИК</dc:title>
</cp:coreProperties>
</file>