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AE23-BF29-4634-B2F5-84B37E6AE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ация автоматически. Щелчок по рисунки Маши – переход на фрагмент м/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по щелчку мыши. Числа, которые не подходят – мигают, число для примера – исчезает и меняется запись. Так на всех следующих слай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мация автоматически. На фигурке Маши по щелчку переход на фрагмент м/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по щелчку мыши. Числа, которые не подходят – мигают, число для примера – исчезает и меняется запись. Так на всех следующих слай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666-1C49-4FE8-9973-F939C884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526-4F1A-4547-96AD-A2D31D65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5A2-FE3A-4CB2-A55B-1B3A0E28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F61-6AF8-4FD8-8122-A2861005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020-108A-4BE9-B1A9-211CF473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A24-3FC9-4E36-B108-A3FD73D5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693-58EE-4423-9449-EB2E3665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EC9-D1EB-409C-8567-F0919BDE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AE1-2FD0-4E3E-9256-351260F2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9C1-59D4-48CB-AD06-844925B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84A-8E33-4A06-AEF4-1CA715A8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7D6-199E-4B64-A7B2-6E8D1659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4BC3-9D35-4548-B0B5-8D5EC6AD4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reamworlds.ru/obzori/prochee/34116-rossijskij-proekt-masha-i-medved.html" TargetMode="External"/><Relationship Id="rId3" Type="http://schemas.openxmlformats.org/officeDocument/2006/relationships/hyperlink" Target="http://vtorrente.biz/browse.php?cat=19&amp;page=1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38120" y="5562360"/>
            <a:ext cx="480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Материал для устного счё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Работа учителя МОУ «Обманковская О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Комаровой Светланы Василье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1295280"/>
            <a:ext cx="6019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Числовые   прят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с  Маш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65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      = 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3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9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0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3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4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0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1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7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8       = 5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5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6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2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3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7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1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 rot="19128600">
            <a:off x="3119400" y="2361960"/>
            <a:ext cx="6024600" cy="18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65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reamworlds.ru/obzori/prochee/34116-rossijskij-proekt-masha-i-medved.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- Маша (слайд 1 и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torrente.biz/browse.php?cat=19&amp;page=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– мультик «Маша и медвед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5       = 3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6       = 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590920"/>
            <a:ext cx="1371600" cy="1676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7       = 4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      = 3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590920"/>
            <a:ext cx="1371600" cy="1676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8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9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9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3       = 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0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7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9       = 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5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1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8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9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5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6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2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3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9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0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      = 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5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2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5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6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8       = 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590920"/>
            <a:ext cx="1371600" cy="1676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9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0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6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7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3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0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1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7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4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5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2:41:24Z</dcterms:created>
  <dc:creator>user</dc:creator>
  <dc:description/>
  <dc:language>en-US</dc:language>
  <cp:lastModifiedBy>КарМаН</cp:lastModifiedBy>
  <dcterms:modified xsi:type="dcterms:W3CDTF">2012-01-28T06:52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