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8802-3603-4F30-98FD-99D9832110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нимация автоматически. Щелчок по рисунки Маши – переход на фрагмент м/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се действия по щелчку мыши. Числа, которые не подходят – мигают, число для примера – исчезает и меняется запись. Так на всех следующих слайд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имация автоматически. На фигурке Маши по щелчку переход на фрагмент м/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се действия по щелчку мыши. Числа, которые не подходят – мигают, число для примера – исчезает и меняется запись. Так на всех следующих слайд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F305-BF4B-4365-89A9-2D27C9110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0461-F7D8-4B77-9CAF-C91D0506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52B2-EE1A-45F6-B451-22EAE093C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2A53-0050-40BC-967A-7428E37CA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D7CD-7B37-4245-A5EE-7D3EB320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3722-1A94-4147-BDD5-648445EE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A8D9-31A6-49F5-BE8D-F35FE1EA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C5C4-AF3F-4E12-BFE2-C291FE62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2052-98C0-419C-8D5A-2DB79BC4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9C02-F7F2-481B-92CC-A4C6795B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6872-961C-45D8-8EFD-CC60EDAE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48FC-7EC1-4921-9C70-F39CEA49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8083-370D-4E6C-9B2E-56CA42382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dreamworlds.ru/obzori/prochee/34116-rossijskij-proekt-masha-i-medved.html" TargetMode="External"/><Relationship Id="rId3" Type="http://schemas.openxmlformats.org/officeDocument/2006/relationships/hyperlink" Target="http://vtorrente.biz/browse.php?cat=19&amp;page=1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038120" y="5562360"/>
            <a:ext cx="4800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Arial"/>
              </a:rPr>
              <a:t>Материал для устного счё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Arial"/>
              </a:rPr>
              <a:t>Работа учителя МОУ «Обманковская ООШ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Arial"/>
              </a:rPr>
              <a:t>Комаровой Светланы Васильев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438280" y="1295280"/>
            <a:ext cx="60199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Comic Sans MS"/>
              </a:rPr>
              <a:t>Числовые   прят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Comic Sans MS"/>
              </a:rPr>
              <a:t>с  Маше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Comic Sans MS"/>
              <a:ea typeface="Comic Sans MS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2362320"/>
            <a:ext cx="26542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219320" y="2666880"/>
            <a:ext cx="5257800" cy="17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4       = 1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81080" y="342900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7848720" y="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848720" y="9907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848720" y="19810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7848720" y="297180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848720" y="39625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848720" y="49528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7924680" y="5943600"/>
            <a:ext cx="609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971800" y="2743200"/>
            <a:ext cx="7621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2666880"/>
            <a:ext cx="1371600" cy="1676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448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25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52" dur="25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3" dur="25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4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455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250" autoRev="1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59" dur="250" autoRev="1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60" dur="250" autoRev="1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1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462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5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66" dur="25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67" dur="25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8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469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25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73" dur="25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4" dur="25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2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5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486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9" dur="250" autoRev="1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90" dur="250" autoRev="1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1" dur="250" autoRev="1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2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493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6" dur="250" autoRev="1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97" dur="250" autoRev="1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8" dur="250" autoRev="1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219320" y="2666880"/>
            <a:ext cx="5257800" cy="17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8       = 5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81080" y="342900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848720" y="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848720" y="9907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7848720" y="19810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7848720" y="297180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7848720" y="39625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7848720" y="49528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924680" y="5943600"/>
            <a:ext cx="609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971800" y="2743200"/>
            <a:ext cx="7621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666880" y="2666880"/>
            <a:ext cx="1371600" cy="1676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501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4" dur="250" autoRev="1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05" dur="250" autoRev="1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6" dur="250" autoRev="1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508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1" dur="250" autoRev="1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12" dur="250" autoRev="1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3" dur="250" autoRev="1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4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515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8" dur="250" autoRev="1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19" dur="250" autoRev="1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0" dur="250" autoRev="1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1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522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5" dur="250" autoRev="1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26" dur="250" autoRev="1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7" dur="250" autoRev="1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8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529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2" dur="25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33" dur="25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34" dur="25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9" dur="250" autoRev="1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40" dur="250" autoRev="1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1" dur="250" autoRev="1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2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543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9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 rot="19128600">
            <a:off x="3119400" y="2361960"/>
            <a:ext cx="6024600" cy="182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Comic Sans MS"/>
              </a:rPr>
              <a:t>МОЛОДЦЫ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Comic Sans MS"/>
              <a:ea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04920" y="2362320"/>
            <a:ext cx="26542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сыл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dreamworlds.ru/obzori/prochee/34116-rossijskij-proekt-masha-i-medved.html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- Маша (слайд 1 и 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vtorrente.biz/browse.php?cat=19&amp;page=1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– мультик «Маша и медвед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219320" y="2666880"/>
            <a:ext cx="5257800" cy="17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5       = 3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81080" y="342900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848720" y="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848720" y="9907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848720" y="19810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848720" y="297180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848720" y="39625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848720" y="49528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924680" y="5943600"/>
            <a:ext cx="609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971800" y="2743200"/>
            <a:ext cx="7621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2666880"/>
            <a:ext cx="1371600" cy="1676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" dur="25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0" dur="25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1" dur="25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7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8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25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4" dur="25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" dur="25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25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1" dur="25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" dur="25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2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8" dur="2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" dur="2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25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5" dur="25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" dur="25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219320" y="2666880"/>
            <a:ext cx="5257800" cy="17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6       = 1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342900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848720" y="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848720" y="9907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848720" y="19810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848720" y="297180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848720" y="39625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848720" y="49528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924680" y="5943600"/>
            <a:ext cx="609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971800" y="2743200"/>
            <a:ext cx="7621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2590920"/>
            <a:ext cx="1371600" cy="1676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250" autoRev="1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3" dur="250" autoRev="1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4" dur="250" autoRev="1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25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0" dur="25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" dur="25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250" autoRev="1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7" dur="250" autoRev="1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" dur="250" autoRev="1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250" autoRev="1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4" dur="250" autoRev="1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" dur="250" autoRev="1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25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1" dur="25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" dur="25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250" autoRev="1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8" dur="250" autoRev="1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" dur="250" autoRev="1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219320" y="2666880"/>
            <a:ext cx="5257800" cy="17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7       = 4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81080" y="342900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848720" y="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848720" y="9907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848720" y="19810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848720" y="297180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848720" y="39625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848720" y="49528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924680" y="5943600"/>
            <a:ext cx="609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971800" y="2743200"/>
            <a:ext cx="7621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43200" y="2666880"/>
            <a:ext cx="1371600" cy="1676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" dur="250" autoRev="1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6" dur="250" autoRev="1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" dur="250" autoRev="1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250" autoRev="1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3" dur="250" autoRev="1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4" dur="250" autoRev="1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" dur="25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0" dur="25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" dur="25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" dur="250" autoRev="1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7" dur="250" autoRev="1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" dur="250" autoRev="1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250" autoRev="1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4" dur="250" autoRev="1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5" dur="250" autoRev="1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219320" y="2666880"/>
            <a:ext cx="5257800" cy="17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4       = 3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81080" y="342900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848720" y="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848720" y="9907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848720" y="19810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848720" y="297180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848720" y="39625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848720" y="49528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924680" y="5943600"/>
            <a:ext cx="609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971800" y="2743200"/>
            <a:ext cx="7621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66880" y="2590920"/>
            <a:ext cx="1371600" cy="1676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250" autoRev="1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88" dur="250" autoRev="1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9" dur="250" autoRev="1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50" autoRev="1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5" dur="250" autoRev="1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6" dur="250" autoRev="1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98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" dur="250" autoRev="1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2" dur="250" autoRev="1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3" dur="250" autoRev="1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1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250" autoRev="1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9" dur="250" autoRev="1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0" dur="250" autoRev="1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22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50" autoRev="1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6" dur="250" autoRev="1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7" dur="250" autoRev="1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5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3" dur="25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4" dur="25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219320" y="2666880"/>
            <a:ext cx="5257800" cy="17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3       = 2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342900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848720" y="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848720" y="9907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848720" y="19810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848720" y="297180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848720" y="39625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848720" y="49528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924680" y="5943600"/>
            <a:ext cx="609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971800" y="2743200"/>
            <a:ext cx="7621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90920" y="2666880"/>
            <a:ext cx="1371600" cy="1676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50" autoRev="1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1" dur="250" autoRev="1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2" dur="250" autoRev="1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25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8" dur="25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9" dur="25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25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55" dur="25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6" dur="25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58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4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1" dur="250" autoRev="1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72" dur="250" autoRev="1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3" dur="250" autoRev="1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75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250" autoRev="1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79" dur="250" autoRev="1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0" dur="250" autoRev="1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5" dur="250" autoRev="1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86" dur="250" autoRev="1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7" dur="250" autoRev="1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219320" y="2666880"/>
            <a:ext cx="5257800" cy="17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9       = 2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81080" y="342900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848720" y="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848720" y="9907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848720" y="19810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848720" y="297180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848720" y="39625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848720" y="49528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7924680" y="5943600"/>
            <a:ext cx="609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971800" y="2743200"/>
            <a:ext cx="7621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2666880"/>
            <a:ext cx="1371600" cy="1676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250" autoRev="1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94" dur="250" autoRev="1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95" dur="250" autoRev="1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250" autoRev="1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01" dur="250" autoRev="1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2" dur="250" autoRev="1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7" dur="250" autoRev="1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08" dur="250" autoRev="1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9" dur="250" autoRev="1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4" dur="250" autoRev="1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15" dur="250" autoRev="1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16" dur="250" autoRev="1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4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28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250" autoRev="1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32" dur="250" autoRev="1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33" dur="250" autoRev="1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8" dur="25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39" dur="25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0" dur="25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219320" y="2666880"/>
            <a:ext cx="5257800" cy="17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4       = 2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81080" y="342900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848720" y="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848720" y="9907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848720" y="19810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848720" y="297180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848720" y="39625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848720" y="49528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924680" y="5943600"/>
            <a:ext cx="609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971800" y="2743200"/>
            <a:ext cx="7621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43200" y="2666880"/>
            <a:ext cx="1371600" cy="1676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9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6" dur="25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57" dur="25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8" dur="25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3" dur="25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64" dur="25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65" dur="25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5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71" dur="25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2" dur="25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7" dur="25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78" dur="25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9" dur="25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0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81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4" dur="25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85" dur="25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86" dur="25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7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388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219320" y="2666880"/>
            <a:ext cx="5257800" cy="17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8       = 4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342900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848720" y="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848720" y="9907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848720" y="19810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848720" y="297180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7848720" y="39625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848720" y="49528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24680" y="5943600"/>
            <a:ext cx="609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971800" y="2743200"/>
            <a:ext cx="7621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6880" y="2590920"/>
            <a:ext cx="1371600" cy="1676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8" dur="250" autoRev="1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99" dur="250" autoRev="1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0" dur="250" autoRev="1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1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402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25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06" dur="25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7" dur="25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8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409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2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13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14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416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250" autoRev="1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20" dur="250" autoRev="1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1" dur="250" autoRev="1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6" dur="2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27" dur="2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8" dur="2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9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430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6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9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440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3" dur="25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44" dur="25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5" dur="25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4T02:41:24Z</dcterms:created>
  <dc:creator>user</dc:creator>
  <dc:description/>
  <dc:language>en-US</dc:language>
  <cp:lastModifiedBy>КарМаН</cp:lastModifiedBy>
  <dcterms:modified xsi:type="dcterms:W3CDTF">2012-01-28T06:52:35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