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0A1A-28D1-46C9-9AC3-684F97306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ация автоматически. Щелчок по рисунки Маши – переход на фрагмент м/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по щелчку мыши. Числа, которые не подходят – мигают, число для примера – исчезает и меняется запись. Так на всех следующих слай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мация автоматически. На фигурке Маши по щелчку переход на фрагмент м/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по щелчку мыши. Числа, которые не подходят – мигают, число для примера – исчезает и меняется запись. Так на всех следующих слай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350-413D-45B0-B19A-A3716D4C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D07-2923-4E03-BA46-007185E3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75D-1022-4F9B-AB26-2CB6E100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85E-D157-4596-8F49-7C925DB0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356-B98A-4C42-BFB1-7674366C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75C-7015-4E1D-A2C6-9EE13E08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F07-C51E-40BC-ACDE-5F28D3D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7A7-0A81-42AE-BEA3-889E2BB3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284-7E36-45AC-A7CD-2B1D578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FE2-6F75-4636-A11E-0A2AB0A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6CF-0BBC-48FB-922A-738F67E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DDD-C130-41B4-B462-11E5672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90A0-D431-4A5B-B2F7-348BD032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reamworlds.ru/obzori/prochee/34116-rossijskij-proekt-masha-i-medved.html" TargetMode="External"/><Relationship Id="rId3" Type="http://schemas.openxmlformats.org/officeDocument/2006/relationships/hyperlink" Target="http://vtorrente.biz/browse.php?cat=19&amp;page=1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80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Материал для устного счё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Работа учителя МОУ «Обманковская О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Комаровой Светланы Василь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129528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Числовые   прят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с  Маш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65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9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0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4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0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1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7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8       = 5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5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6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2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3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7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1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 rot="19128600">
            <a:off x="3119400" y="2361960"/>
            <a:ext cx="602460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65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eamworlds.ru/obzori/prochee/34116-rossijskij-proekt-masha-i-medved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 Маша (слайд 1 и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torrente.biz/browse.php?cat=19&amp;page=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– мультик «Маша и медвед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5       = 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6       = 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7       = 4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3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       = 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9       = 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5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8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9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5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6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2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3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5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5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6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8       = 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9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0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6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7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3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4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5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2:41:24Z</dcterms:created>
  <dc:creator>user</dc:creator>
  <dc:description/>
  <dc:language>en-US</dc:language>
  <cp:lastModifiedBy>КарМаН</cp:lastModifiedBy>
  <dcterms:modified xsi:type="dcterms:W3CDTF">2012-01-28T06:52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