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A87-C906-4D53-8277-899477EF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DEC-647B-485E-B340-3477275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0FC60-E41E-45C6-8046-287DD3C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6E886-40AB-4FE4-88E3-9A329AE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FC774-976C-48C8-A560-C2DCC34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4157F-EB4E-44CD-B990-A2BB385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92B78-3D0A-441B-84A4-6751EC7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5759-54C6-4C50-88B3-E7E1FEC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D0EBD-CA9E-4002-A6ED-A9AEF5E2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3E70A-2F61-4A27-B87B-00964A3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44186-E286-4B4B-AA32-F8621497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AED8A-9588-43F6-817E-957D1BEA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855-D7AF-4D7F-9865-FC81C9D7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3CB2C-B358-4339-808A-C9AA0B1C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202A5-7B13-450C-9D80-FA44FE77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F0408-E4E9-4828-9BC8-84D326B0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C6ED7-CDCC-4CA2-AD12-7B138678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E9E6E-2C50-4E2C-BB94-05A23904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E07A8-28F4-40FB-97B2-C61F2CF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3D49D-69DC-407A-928F-AED5306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070D-2B2E-491D-A7D7-4F48AB3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59400-AFB1-4FD7-97D3-69F05096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1023-6A7F-4869-A9AB-B8AF11C8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1A9-4E26-4C9A-B8B2-3995D8D8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491E-15C7-48FC-AA01-85BA9B60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65580-94A7-4A38-A9DF-78E5A8DF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D3D6-90FF-4580-BC01-292D30C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DEBAC-4F77-43B7-8A2A-39E31C45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5D20E-C607-441D-B114-48F8009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5C9B-0E10-4178-A7BC-6A7E95C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A42D1-ADBD-437E-9D8C-43C1203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070BC-2B98-4A22-B1FE-4FA7380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A65CA-A7AD-45A7-BDE3-F29B4BE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3A4A4-7B6C-4DB6-ACBD-B5121D7C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FD5-2554-40D1-A1D0-7D9D5FE1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A226A-27BF-4A79-A947-874F5AFE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7D876-D842-4777-BA81-E9548152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7E100-26FA-4EDC-B9E6-7351E690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B390-E58C-49F4-B8D5-9AAB9FF7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F3D9C-1C62-4F2F-BC5A-384DDB0B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8606-916A-4706-A920-9A411FD7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C6C50-CD2A-4D32-A4E3-E49CEA5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65188-BCEC-4BF9-A477-46C81AD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DA949-018C-4490-BCF6-729E64A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793E7-BDF6-4A81-BEE4-BBC76A8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32A-0017-4051-BF57-D19CA57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230F4-C490-470E-AF99-4D9D4BF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48031-2B5A-4519-BDC9-7EB5F2F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0C4F7-0154-4270-B8E0-B5092D2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C8647-DD9C-42C4-8FFA-CA3D51E1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B6293-FE62-40C8-B8E5-41DB2715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EDDAD-27FD-467B-BF0A-4A81AECF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CBB68-BC3C-4B5E-8B34-DEB28E0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AAF65-B5DC-4DC2-876E-E62B28CC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9103C-C6FB-44B1-98FE-37EDECCE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9FC4E-2ED5-45EC-AC32-F93068F7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2A9-B05A-4293-99D3-DA14111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6250A-67F9-4E0B-8FE4-03B0B85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45CF2-BB76-4761-BFD4-1F2024F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815C0-FC0F-45C2-9286-95DB7D7F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360F7-5C0D-4AEC-B482-794C417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D544E-D345-4E97-AD47-FDB8242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72D76-DF14-4F00-9370-7A5A0591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4C8F8-71BA-4C94-A87F-D1C223B5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AA52-E935-405C-8557-0CC9F3C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AE0-E19E-4842-A45A-7E1C933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73DA-D1F8-44F5-AE4D-273C5F90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90B5-2372-4849-9FE0-9E12717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E9B-D222-4CF4-BEA1-98D830B4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0AC9-F319-437D-B1CD-63FECCA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9CC1-A108-4998-BAEE-B98F40E4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24A-0F13-4205-A96D-390BB68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2EB-348D-4060-BE5B-2176DB4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356E-F44F-4E3D-AAC2-6C31B07D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385D-49CF-40B6-9ADF-82869C11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B794-EF7F-4231-A9FC-FC196048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1794-8106-44CB-8833-B2223804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2727-BD6B-44B2-B428-3647064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EBACD-4005-4533-AC62-0A429B1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704-A230-4BCC-8D1B-CAB2008A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5E23-AF1C-4651-A6C5-6EE66260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D287-82F9-4925-8B5A-A8DBA79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08BD-1AF6-4845-9CB7-9DDE74D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3341-8DA0-4DDC-AF27-57BACEE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EA52-E4E8-4D28-8595-7DEFBA55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E67E-7092-4250-8EE7-753A95FE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C0EC-8A6B-4393-B3FD-6B37E7F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603F-C80D-4BCF-8CBD-CA46EF09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7E37-733B-420B-9BA9-9A1B52D1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959F-43DD-4FFC-9BE0-FF210BD8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D2-A4DD-4D74-8D6A-8E7E608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2300-644F-4609-9E48-CD09D49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DF38-9A82-4BD4-BDFC-660A8237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4ED7-D78F-4BE6-8ED2-2D0EEEA8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788F2-B7F5-4723-BF99-6FDA55C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7D7B-9E8E-4CDE-BB70-6F9F124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365D-E155-4789-A0F5-82D38A1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45DA-A218-4CC0-8DD3-EA11DD4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7328-D6B4-4CB4-BE7D-E5580A32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CC26-782D-4F35-BD36-A8F29A79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5564-5C3A-44A9-B94D-E49153EB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E65-BACD-49BD-9745-12D08D21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DBC3-83EB-4185-88CC-BDD0C42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6015-E0AC-468E-91ED-96738E08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7F557-27A6-4376-BE5C-FFC0395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C4EE-A489-4CC5-807F-E8D44B75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BA056-3748-4D9E-ABE8-DDE56123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D683-6E09-494A-9FAB-16672B2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61DD-D147-4350-AC93-C677C5F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C4C3-3267-45A6-AA93-4CC4996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C7AA-32AD-42E7-9553-367746EE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F5DFB-295F-4BF5-9B93-4B4DAF14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EB1-3C54-4D72-8ADC-F09188A2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66A7-AB59-45CC-BA3A-57BE35C8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8604A-6920-4B10-A5DD-004AA49F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5D43-6761-42B1-8ADA-81D4949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BFB3-5594-4BE0-BC2B-C0E24C71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11D6-6BD3-4221-951C-06793831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31F7-5161-4C83-9AAB-A22DD36A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CBBD3-FC28-403D-A6E6-A8C994E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A385-8524-4441-8FEA-C43F40E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441A-1A6F-47A9-903F-B0BBC6E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C4C6-2970-402B-A886-04720C1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255-F0EB-41F1-8715-246076B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79612-9ED2-4218-BF9E-99C23F5A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838B-74AE-4E64-BE1E-1D0F00E8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0691-B4BC-47FA-BDF4-80CF76C7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BFD2-E1C9-47B1-B469-4029F9FC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171BE-471A-4415-B3DD-1C3AE32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B226-C653-4743-810A-5D99E47C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B2B9-B0E3-4F4A-BF41-AEC98B4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64F2-7166-485B-A544-AC7ECAE7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DF5F3-2C2E-438B-AF03-0557F7C3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3624-706C-4AB5-B8E8-BAD7154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779-90EE-4FFE-8CAC-A2EBB87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2036-A633-47A0-BE90-583B533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3313-E37E-491C-A003-043643A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7AF6A-2265-4B78-8199-65A4B67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8A6D-3F69-42DC-915E-843DE84D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B6A2-176C-48C2-9CC9-7076F25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275E3-01C0-42B4-AF13-931331A1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0D10-2086-42CE-AFAE-0381EC6B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BC88-E5ED-41D9-A10B-42C2CBBF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B4CB-C09C-4C27-AF98-B486D75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7D11-CA3E-48B9-9EF2-4E2DB9C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BE6-CC00-4D0B-8AC2-66DA77E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4B91-4B68-4703-8A40-0B83500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3D2D9-BF05-49C4-870F-AE854E0E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4D5F-543A-472A-A0E2-A32D342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0344-4D0D-4CDE-B2A0-6E87D77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1698-6B8F-4985-9A25-10EF62B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FCC2-21A0-49BC-BE66-F673DF28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3C44-F477-4DCD-BA8C-7F73F3E8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CD8B-02C6-417F-AA7D-774B2EC4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EE978-F6E9-4537-96C2-FC81A158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4AF71-5C43-419E-8A3F-96772B4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9CC-8940-4DEF-9E93-5ADDC9D810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FF2-8ED0-45A7-90D3-393B6AF2B7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2B42-5EF8-46ED-8885-C1D1D29D99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B529-DE55-4CD7-A305-E44EDA0650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04C-71AF-47E4-83BF-FC0A347CF0B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C75-8887-4D29-BD8D-9204447E59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6618-FA22-47AA-8C02-EFB0250F39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A9B-DFF7-4D6E-AB25-5F3A56614F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C876-2AED-4F5A-AFBB-8AE2559A6670}" type="datetime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A754-9985-4C9F-A55D-8A0A521AFBC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A944-7562-4B68-986D-BBAFBBA2E4A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66C-7D82-4E17-9D2A-1F8C858D2F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94CC-F59F-401D-A455-B5ED6A690CA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574-344F-43B7-B744-98F9DD70982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D95-FA65-463F-B3EA-CB7ABBFE0E8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0D6-BEF7-40E1-BA2C-FC9922FF33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907-BD80-41CB-921F-5844FD44D0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9989-BDA5-4861-8B49-9A25F5EB24E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B44-3CA1-454D-9DD5-19DE609F7F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824-1847-4346-950D-D5E2AC70EE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A9A3-0135-4BA9-BF0F-66A32344C1C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43CB-7DD1-4B13-8EE6-87B77B47F50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2ABF-D1E1-40D9-9E0B-921D4528B99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2FED-F3D4-45CB-98CE-7C66EA46ED8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AA9-B4D5-4FF6-B2CE-3A8406E15CD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0DE6-C4F2-49DB-B992-CC65AF3EA47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24760" y="824400"/>
            <a:ext cx="79516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БОУ Зареченская средняя общеобразовательная школа № 2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    п.Тоцкое Второе </a:t>
            </a:r>
            <a:br>
              <a:rPr sz="18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5181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1 класс, урок 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реподаватель-организатор ОБ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Котлов Вадим Витальеви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9B4-8FAC-49C2-AAC9-FAE48ABBD96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07000" cy="279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Rectangle 6"/>
          <p:cNvSpPr/>
          <p:nvPr/>
        </p:nvSpPr>
        <p:spPr>
          <a:xfrm>
            <a:off x="0" y="11016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НЯТИЕ О КОНЕЧН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РПИДНОЙ)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228600" y="1142640"/>
            <a:ext cx="8915400" cy="33858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Если в течение 30-40 минут пострадавший не получит медицинской помощи, то длительная ЦЕНТРАЛИЗАЦИЯ КРОВООБРАЩЕНИЯ приведет к грубым нарушениям микроциркуляции в почках, коже, кишечнике и других органах, исключенных из крово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Таким образом, то, что играло защитную роль на начальном этапе и давало шанс на спасение, через 30 минут станет причиной смер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2971800" y="5024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Фактор времени в развитии и исходе шока имеет определяющее знач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0E7-B352-4160-A62B-C0C2B6FD175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1" name="Picture 11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"/>
          <p:cNvPicPr/>
          <p:nvPr/>
        </p:nvPicPr>
        <p:blipFill>
          <a:blip r:embed="rId4"/>
          <a:stretch/>
        </p:blipFill>
        <p:spPr>
          <a:xfrm>
            <a:off x="304920" y="46483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3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Rectangle 6"/>
          <p:cNvSpPr/>
          <p:nvPr/>
        </p:nvSpPr>
        <p:spPr>
          <a:xfrm>
            <a:off x="-120600" y="119160"/>
            <a:ext cx="93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РАЗВИТИЯ НЕОБРАТИМ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1752480" y="2057040"/>
            <a:ext cx="3668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228600" y="1370160"/>
            <a:ext cx="8915400" cy="9169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КРОЗ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АЦИДОЗ     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ПС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(ОЦК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 )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АД )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СМЕР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ГИПОКС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15"/>
          <p:cNvSpPr/>
          <p:nvPr/>
        </p:nvSpPr>
        <p:spPr>
          <a:xfrm>
            <a:off x="228600" y="25909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(тонус прекапилляров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43" name="Прямая со стрелкой 16"/>
          <p:cNvCxnSpPr/>
          <p:nvPr/>
        </p:nvCxnSpPr>
        <p:spPr>
          <a:xfrm flipH="1">
            <a:off x="2817000" y="1525320"/>
            <a:ext cx="396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4" name="Прямая со стрелкой 18"/>
          <p:cNvCxnSpPr/>
          <p:nvPr/>
        </p:nvCxnSpPr>
        <p:spPr>
          <a:xfrm flipH="1">
            <a:off x="4190760" y="1601280"/>
            <a:ext cx="2160" cy="60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5" name="Прямая со стрелкой 22"/>
          <p:cNvCxnSpPr/>
          <p:nvPr/>
        </p:nvCxnSpPr>
        <p:spPr>
          <a:xfrm flipH="1">
            <a:off x="5636520" y="1601640"/>
            <a:ext cx="396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6" name="Прямая со стрелкой 24"/>
          <p:cNvCxnSpPr/>
          <p:nvPr/>
        </p:nvCxnSpPr>
        <p:spPr>
          <a:xfrm flipH="1">
            <a:off x="7084800" y="1601640"/>
            <a:ext cx="360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7" name="Дата 25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227-5AAD-4A12-AC04-524AB05740FF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Нижний колонтитул 2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9" name="Picture 17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3809880" cy="25257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8" descr=""/>
          <p:cNvPicPr/>
          <p:nvPr/>
        </p:nvPicPr>
        <p:blipFill>
          <a:blip r:embed="rId4"/>
          <a:stretch/>
        </p:blipFill>
        <p:spPr>
          <a:xfrm>
            <a:off x="5048280" y="3581280"/>
            <a:ext cx="36766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5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Rectangle 6"/>
          <p:cNvSpPr/>
          <p:nvPr/>
        </p:nvSpPr>
        <p:spPr>
          <a:xfrm>
            <a:off x="0" y="32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ТОРПИД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Прямоугольник 6"/>
          <p:cNvSpPr/>
          <p:nvPr/>
        </p:nvSpPr>
        <p:spPr>
          <a:xfrm>
            <a:off x="304920" y="838080"/>
            <a:ext cx="8839080" cy="3660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вигательное и эмоциональное возбуждение первой фазы шока уже через 30-40 минут сменяется апатией и равнодушием. Уровень артериального давления понижается до 30-60 мм рт. ст. Кожа приобретает землистый оттенок с характерными малиновыми и серовато-зеленоватыми разводами. Их причудливый рисунок настолько напоминает мрамор, что возник даже термин  МРАМОРНОСТЬ КОЖИ. Этот рисунок наиболее ярко выражен на коже живота и передней поверхности бедер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Потеря жидкости с обильным потом и перераспределение плазмы из кровеносного русла в межклеточные пространства тканей вызывает значительное сгущение крови. Эритроциты начинают выстраиваться в капиллярах в виде монетных столбиков, полностью заполняя их просвет, и склеиваться между собой бесчисленным множеством  тончайших, подобных тине, нитей ФИБРИНА. Начинается процесс ТРОМБООБРАЗОВ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9758-DD4F-402D-89A8-275AAF7911FA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971800" cy="1928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1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2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6"/>
          <p:cNvSpPr/>
          <p:nvPr/>
        </p:nvSpPr>
        <p:spPr>
          <a:xfrm>
            <a:off x="228600" y="466200"/>
            <a:ext cx="8915400" cy="26535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ЗАКЛЮЧИТЕЛЬ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торможенность и апа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явление на коже мраморного рисун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нижение температуры тела и артериального дав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острение черт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лное прекращение выделения мо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201-B3C2-4DCC-B0AC-CE19BE47477C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9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472428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75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Rectangle 6"/>
          <p:cNvSpPr/>
          <p:nvPr/>
        </p:nvSpPr>
        <p:spPr>
          <a:xfrm>
            <a:off x="4038480" y="357480"/>
            <a:ext cx="510552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О Е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Л Е Г К О 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брос венозной крови в артериальное русло, минуя альвеолярную сеть, без должного насыщения кислородом, приводит к изъятию из газообмена огромного числа альвеол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егочных пузырьков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вается состояние острой дыхательной недостаточности: появляются одышка, посинение губ и кончиков пальце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DECE-4449-4770-93ED-FEEE46013995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0" name="Picture 9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624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8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6"/>
          <p:cNvSpPr/>
          <p:nvPr/>
        </p:nvSpPr>
        <p:spPr>
          <a:xfrm>
            <a:off x="3657600" y="699120"/>
            <a:ext cx="54864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П О Ч К 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ительное исключение капиллярной сети почек из кровообращения приводит к острой почечной недостаточности и накоплению в крови токсичных веществ, к уменьшению выделения мочи, вплоть до развития Анурии (полного прекращения выделения мочи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6DBE-93E4-495C-BAEE-4FEFD699CC6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9" name="Picture 9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3498840" cy="23623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342900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Rectangle 6"/>
          <p:cNvSpPr/>
          <p:nvPr/>
        </p:nvSpPr>
        <p:spPr>
          <a:xfrm>
            <a:off x="0" y="49860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 П Е Ч Е Н 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ражение обескровленных тканей печени оборачивается грубым нарушением ее защитных функций, что обязательно вызовет острую печеночную недостаточность и быстрое накопление в крови крайне токсичных продуктов обме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D542-C70F-49C3-AC3E-6B40FCE102B6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9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038480" cy="2619360"/>
          </a:xfrm>
          <a:prstGeom prst="rect">
            <a:avLst/>
          </a:prstGeom>
          <a:ln w="0">
            <a:noFill/>
          </a:ln>
        </p:spPr>
      </p:pic>
      <p:sp>
        <p:nvSpPr>
          <p:cNvPr id="800" name="Стрелка влево 9"/>
          <p:cNvSpPr/>
          <p:nvPr/>
        </p:nvSpPr>
        <p:spPr>
          <a:xfrm>
            <a:off x="3809880" y="4724280"/>
            <a:ext cx="5181840" cy="60984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ая центральная ве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Rectangle 6"/>
          <p:cNvSpPr/>
          <p:nvPr/>
        </p:nvSpPr>
        <p:spPr>
          <a:xfrm>
            <a:off x="4114800" y="111096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АСЕНИЕ ПОСТРАДАВШИХ ВОЗМОЖ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ТОЛЬКО В УСЛОВИЯХ РЕАНИМАЦИОННОГО ОТДЕЛЕ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ДЕ ПРИМЕНЯЮТ АППАРАТ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КУССТВЕННАЯ ПОЧ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, ИСКУССТВЕННОЙ ВЕНТИЛЯЦИИ ЛЁГК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МОНИТОРЫ ПОСТОЯННОГО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ФУНКЦИЯМИ ОРГАН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5C36-7B0B-4D44-9473-66249D8A744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3"/>
          <a:stretch/>
        </p:blipFill>
        <p:spPr>
          <a:xfrm>
            <a:off x="0" y="1676520"/>
            <a:ext cx="40543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13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6"/>
          <p:cNvSpPr/>
          <p:nvPr/>
        </p:nvSpPr>
        <p:spPr>
          <a:xfrm>
            <a:off x="932040" y="263160"/>
            <a:ext cx="72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ПОСОБЫ ОБЕЗБОЛИВА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228600" y="1369080"/>
            <a:ext cx="8915400" cy="37530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иболее эффективны для обезболивания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аркотические анальгетики: ПРОМЕДОЛ, МОРФИН, ОМНОПОН, ФЕНТА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Единственное, что никогда не следует забывать,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все они вызывают угнетение дыхательного центра. По этой причине их не назначают детям до 5 лет и с большой осторожностью применяют для обезболивания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обходимо также учитывать и другое побочное действие наркотических анальгетиков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оявление тошноты и многократной рвоты. Для устранения этих нежелательных осложнений подкожно вводят 0,5 мл 0,1%-ного раствора АТРОПИ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статочно эффективного обезболивания достигают, применяя большие дозы АНАЛЬГИНА (до четырех таблеток для взрослого человек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0" y="5820120"/>
            <a:ext cx="5867280" cy="642600"/>
          </a:xfrm>
          <a:prstGeom prst="rect">
            <a:avLst/>
          </a:prstGeom>
          <a:solidFill>
            <a:srgbClr val="005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крайнее средство можно рекомендовать алкогол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F2C2-ABDD-40E3-963F-550ECEB5067F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0" name="Picture 11" descr=""/>
          <p:cNvPicPr/>
          <p:nvPr/>
        </p:nvPicPr>
        <p:blipFill>
          <a:blip r:embed="rId3"/>
          <a:stretch/>
        </p:blipFill>
        <p:spPr>
          <a:xfrm>
            <a:off x="6095880" y="5181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Rectangle 6"/>
          <p:cNvSpPr/>
          <p:nvPr/>
        </p:nvSpPr>
        <p:spPr>
          <a:xfrm>
            <a:off x="0" y="14112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ОКАЗАНИЯ ПЕРВОЙ ПОМОЩИ 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кровотечени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емедленно наложить кровоостанавливающие жгуты или тугие давящие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костей конечностей, таза и ребер, проникающих ранениях грудной клетки и брюшной полости тщательно обезболить пострадавше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ботать раны и наложить стерильные повязк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транспортные шин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CA01-D968-497C-B030-7721447002D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31" name="Object 5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6"/>
          <p:cNvSpPr/>
          <p:nvPr/>
        </p:nvSpPr>
        <p:spPr>
          <a:xfrm>
            <a:off x="0" y="-16200"/>
            <a:ext cx="9372600" cy="155628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АКТИВНАЯ ЗАЩИТА ОРГАНИЗМА ОТ АГРЕССИИ СР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380880" y="2130840"/>
            <a:ext cx="4191120" cy="436284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Пусковыми моментами шока являются сильная боль и страх смерти, психическое напряжение и стресс, которые неизбежны в момент нанесения травм и повреждени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Экстремальная ситуация уже сама по себе провоцирует развитие шока. Когда человек сталкивается с угрозой смерти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будь то несчастный случай или боевые действия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его организм в состоянии стресса выделяет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Times New Roman"/>
                <a:ea typeface="Calibri"/>
              </a:rPr>
              <a:t>огромное количество адренал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4876920" y="52729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Колоссальный выброс адреналина вызывает резкий спазм прекапилляров кожи, почек, печени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ишеч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3888-B182-4E0B-9895-5C391C067A75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8" name="Picture 12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3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Rectangle 6"/>
          <p:cNvSpPr/>
          <p:nvPr/>
        </p:nvSpPr>
        <p:spPr>
          <a:xfrm>
            <a:off x="228600" y="1868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ГОРИТМ ОКАЗАНИЯ ПОМОЩ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1082160"/>
            <a:ext cx="9144000" cy="66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Уложить на спину и обеспечить пок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жгут при артериальном кровотечен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поднять ноги при кровотечении или ранениях живо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наложить шины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езболи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на раны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чать ингаляцию кислоро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язательно доставить  в больниц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6E94-97CB-4C7A-9478-D3DFD7F30B6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197000" y="435240"/>
            <a:ext cx="7054200" cy="59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И ЗАПОВЕДИ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КАК НЕ НАВРЕДИТЬ ПОСТРАДАВШЕМУ В СОСТОЯНИИ ШОКА</a:t>
            </a:r>
            <a:br>
              <a:rPr sz="3200"/>
            </a:br>
            <a:br>
              <a:rPr sz="24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ПЕРВ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ТРЕВОЖЬ ПОНАПРАСНУ ПОСТРАДАВШЕГО: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ЛЮБОЕ ДВИЖЕНИЕ ПРИЧИНЯЕТ ЕМУ МУЧИТЕЛЬНУЮ БОЛЬ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еремещать пострадавшего можно только после иммобилизации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оврежденных конечностей и обязательно на носилках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ВТОР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РОЯВИ ВНИМАНИЕ К КАЖДОМУ ЧЕЛОВЕКУ, ПОСТРАДАВШЕМУ В КАТАСТРОФЕ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ИЛИ ПРИ НЕСЧАСТНОМ СЛУЧАЕ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Тем более если у него бледный вид, и он эмоционально возбужден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ТРЕТЬ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МЕДЛИ С НАЛОЖЕНИЕМ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РОВООСТАНАВЛИВАЮЩИХ ЖГУТОВ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отеря каждой секунды может привести к невосполнимой кровопотере.)</a:t>
            </a:r>
            <a:br>
              <a:rPr sz="16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Дата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34F-7776-4B96-9BC7-A7C8D1756DC0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Нижний колонтитул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БУДЬТЕ  ЗДОРОВЫ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F25-74FF-4D95-9DBF-E3D41E318C0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4" name="Picture 6" descr=""/>
          <p:cNvPicPr/>
          <p:nvPr/>
        </p:nvPicPr>
        <p:blipFill>
          <a:blip r:embed="rId1"/>
          <a:stretch/>
        </p:blipFill>
        <p:spPr>
          <a:xfrm>
            <a:off x="2590920" y="2662200"/>
            <a:ext cx="44193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4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Rectangle 6"/>
          <p:cNvSpPr/>
          <p:nvPr/>
        </p:nvSpPr>
        <p:spPr>
          <a:xfrm>
            <a:off x="0" y="37332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КОМПЛЕКС ОТВЕТНЫХ РЕАКЦИЙ ОРГАНИЗМ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ПРАВЛЕННЫХ НА ДОСТИЖЕНИЕ ОДНОЙ ЦЕЛИ - ВЫЖИТЬ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572000" y="51325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Только за счет спазма сосудов кожи и ее исключения из кровообращения компенсируется  потеря 1,5-2 литров кров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200952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ждый знает, как легко пугливая ящерица в минуту, опасности расстается со своим хвостом, а из сохранившейся культи не выделяется ни единой капли крови - настолько сильно спазмированы сосуды при испуг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ль хвоста ящерицы в нашем организме играют кожа, почки, кишечник и т.п. В минуту смертельной опасности, когда нет настоятельной необходимости в полном объеме их функций, эти органы приносятся в жертв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Дата 1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83E5-9976-4013-BED3-437061BAF23C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Нижний колонтитул 1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3"/>
          <a:stretch/>
        </p:blipFill>
        <p:spPr>
          <a:xfrm>
            <a:off x="4892760" y="1981080"/>
            <a:ext cx="42512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838080" y="4040280"/>
          <a:ext cx="3770280" cy="3682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8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АХ                                             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ЕСС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АДРЕНАЛИН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(ПС)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ОЦК )    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УОС)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     (АД)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БОЛЬ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53" name="Object 2"/>
          <p:cNvGraphicFramePr/>
          <p:nvPr/>
        </p:nvGraphicFramePr>
        <p:xfrm>
          <a:off x="0" y="-15228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Rectangle 13"/>
          <p:cNvSpPr/>
          <p:nvPr/>
        </p:nvSpPr>
        <p:spPr>
          <a:xfrm>
            <a:off x="0" y="1971000"/>
            <a:ext cx="6477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нус прекапилляров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14"/>
          <p:cNvSpPr/>
          <p:nvPr/>
        </p:nvSpPr>
        <p:spPr>
          <a:xfrm>
            <a:off x="0" y="265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ПЕРВЫХ МИНУТ РАЗВИТИЯ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ЦЕНТРАЛИЗАЦИЯ КРОВООБРАЩ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22"/>
          <p:cNvSpPr/>
          <p:nvPr/>
        </p:nvSpPr>
        <p:spPr>
          <a:xfrm>
            <a:off x="0" y="1810080"/>
            <a:ext cx="9144000" cy="10087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АХ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ЕС          АДРЕНАЛИН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ПС)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ОЦК )    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)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АД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БОЛЬ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Правая фигурная скобка 24"/>
          <p:cNvSpPr/>
          <p:nvPr/>
        </p:nvSpPr>
        <p:spPr>
          <a:xfrm>
            <a:off x="990720" y="1828800"/>
            <a:ext cx="304560" cy="9907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60" name="Прямая со стрелкой 26"/>
          <p:cNvCxnSpPr/>
          <p:nvPr/>
        </p:nvCxnSpPr>
        <p:spPr>
          <a:xfrm flipV="1">
            <a:off x="3578760" y="1982520"/>
            <a:ext cx="396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1" name="Прямая со стрелкой 30"/>
          <p:cNvCxnSpPr/>
          <p:nvPr/>
        </p:nvCxnSpPr>
        <p:spPr>
          <a:xfrm flipV="1">
            <a:off x="4876920" y="1980360"/>
            <a:ext cx="2160" cy="762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2" name="Прямая со стрелкой 32"/>
          <p:cNvCxnSpPr/>
          <p:nvPr/>
        </p:nvCxnSpPr>
        <p:spPr>
          <a:xfrm flipV="1">
            <a:off x="6019920" y="1904760"/>
            <a:ext cx="216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3" name="Прямая со стрелкой 34"/>
          <p:cNvCxnSpPr/>
          <p:nvPr/>
        </p:nvCxnSpPr>
        <p:spPr>
          <a:xfrm flipV="1">
            <a:off x="7695000" y="1904760"/>
            <a:ext cx="252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4" name="Прямая со стрелкой 41"/>
          <p:cNvCxnSpPr/>
          <p:nvPr/>
        </p:nvCxnSpPr>
        <p:spPr>
          <a:xfrm flipV="1">
            <a:off x="8913960" y="1906200"/>
            <a:ext cx="360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5" name="Дата 4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4C3-8885-4108-8DE9-84D148F8DA8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Нижний колонтитул 4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7" name="Picture 11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2922480" cy="274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6"/>
          <p:cNvSpPr/>
          <p:nvPr/>
        </p:nvSpPr>
        <p:spPr>
          <a:xfrm>
            <a:off x="0" y="1260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ВЫЕ ПРИЗНАКИ ШО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(ПАРАДОКСЫ ШОКА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1533960"/>
            <a:ext cx="9372600" cy="119124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ое побледнение кожных покров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Эмоциональное и двигательное возбужд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адекватная оценка ситуации и своего состояния.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сутствие жалоб на боли даже при шокогенных повреждения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3237480"/>
            <a:ext cx="937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П Е Р В Ы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первые 10-15 минут после получения травмы врачи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Скорой помощи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талкиваются с клиническим парадоксом шока: человек с белым, как полотно лицом возбужден, много говорит и практически не обращает внимания на тяжесть полученной травмы. Более того, у пострадавшего отмечается выраженный подъем артериального давл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ая бледность кожных покровов никак не соответствует такому поведению и высокому уровню артериального давления. При том обескровленная, с множеством мелких пупырышков, как при ознобе, кожа (гусиная кожа) очень быстро покрывается липким холодным потом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Т О Р О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ключается в том, что из вен начинает течь алая артериальная кровь. Объясняется это просто: при ЦЕНТРАЛИЗАЦИИ КРОВООБРАЩЕНИЯ происходит так называемое шунтирование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брасывание артериальной крови в венозное русло. Богатая кислородом артериальная кровь, минуя капиллярную сеть многих органов, сразу поступает в вены. Появляется симптом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ой вены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Т Р Е Т И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, когда раненый совершенно не ощущает боли, настолько загадочен и необычен, а его значение так велико в дальнейшем развитии событий, что есть смысл рассказать о нем подробнее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782-3EB1-4094-87E8-57578EE1F601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6"/>
          <p:cNvSpPr/>
          <p:nvPr/>
        </p:nvSpPr>
        <p:spPr>
          <a:xfrm>
            <a:off x="0" y="28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1248480"/>
            <a:ext cx="5638680" cy="4961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С незапамятных времен известны случаи, когда в пылу сражения воины не обращали внимания даже на тяжелые ранения. Веками слагались легенды об их мужестве и самоотвержен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днако и в повседневной жизни нередки такие страшные картины, когда в результате нелепой случайности человек получает тяжелейшие повреждения, вплоть до ампутации конечности, но какое-то время не замечает боли. Более того, в состоянии сильного возбуждения он будет суетлив и словоохотлив. Его порыв в достижении намеченной цел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е опоздать на службу или на свидание, купить подарок ребенку или ошейник для любимой собачк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может быть так велик, что потребуются усилия, чтобы удержать пострадавшего на мест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счастный будет упорно отказываться от помощи, называя тяжелую травму пустяком. И все это может происходить с человеком, внешность которого весьма далека от облика супермена. Правда, хватает такого геройства не более чем на 10-15 минут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7F79-55EB-4F64-B008-4A9741E93734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7" name="Picture 10" descr=""/>
          <p:cNvPicPr/>
          <p:nvPr/>
        </p:nvPicPr>
        <p:blipFill>
          <a:blip r:embed="rId3"/>
          <a:stretch/>
        </p:blipFill>
        <p:spPr>
          <a:xfrm>
            <a:off x="5867280" y="1219320"/>
            <a:ext cx="3359160" cy="1904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1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3249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Rectangle 6"/>
          <p:cNvSpPr/>
          <p:nvPr/>
        </p:nvSpPr>
        <p:spPr>
          <a:xfrm>
            <a:off x="0" y="1670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ВРЕЖДЕНИЯ И ТРАВМЫ, ПРИВОДЯЩИЕ К РАЗВИТИЮ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ШОКОГЕННЫЕ ПОВРЕЖДЕНИЯ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рыв или травматическая ампутация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рытые переломы костей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лом костей таза и позвоноч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никающие ранения грудной клетки и брюшной пол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5029200" y="4583160"/>
            <a:ext cx="4114800" cy="1554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УМЕНИЕ ПРИНЯТЬ ЧУЖУЮ БОЛЬ И ОБЛЕГЧИТЬ СТРАДАНИЯ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ЭТО И ЕСТЬ ИСКУССТВО МИЛОСЕРД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ВЛАДЕТЬ ИМ МОЖЕТ КАЖДЫЙ, ЧЬЯ ДУША ДОБРА,  </a:t>
            </a: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А СЕРДЦЕ СПОСОБНО К СОСТРАДА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4089-0EC3-46F2-B107-4F96CD952F1C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8" name="Picture 10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4137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Rectangle 6"/>
          <p:cNvSpPr/>
          <p:nvPr/>
        </p:nvSpPr>
        <p:spPr>
          <a:xfrm>
            <a:off x="0" y="10224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РИЦАТЕЛЬНЫЕ МОМЕНТЫ САМООБЕЗБОЛИ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152280" y="1362240"/>
            <a:ext cx="5181840" cy="22284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редки случаи, когда пострадавшие во время катастроф или стихийных бедствий с переломами голеней, ребер и даже ранениями сердца обращались за помощью спустя несколько суток. Естественно, их состояние к этому времени значительно ухудшало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5334120" y="4147920"/>
            <a:ext cx="3809880" cy="1797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СЛУЧАЕ КАТАСТРОФЫ С БОЛЬШИМ ЧИСЛО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СТРАДАВШИХ НЕОБХОДИМО ОБРАТИТЬ ВНИМ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И НА ТЕХ, КТО НЕ ПРЕДЪЯВЛЯЕТ НИКАКИХ ЖАЛОБ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О ОЧЕНЬ БЛЕДЕН И ВОЗБУЖДЕ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847-9B02-4DCF-A657-5434ACA60D8B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09" name="Picture 11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657600" cy="2433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2" descr=""/>
          <p:cNvPicPr/>
          <p:nvPr/>
        </p:nvPicPr>
        <p:blipFill>
          <a:blip r:embed="rId4"/>
          <a:stretch/>
        </p:blipFill>
        <p:spPr>
          <a:xfrm>
            <a:off x="762120" y="3889440"/>
            <a:ext cx="3962160" cy="296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1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6"/>
          <p:cNvSpPr/>
          <p:nvPr/>
        </p:nvSpPr>
        <p:spPr>
          <a:xfrm>
            <a:off x="228600" y="-12240"/>
            <a:ext cx="8915400" cy="3080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ДОПУСТИМО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звлекать из раны осколки или любые другие предме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правлять в рану выпавшие органы при проникающих ране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овмещать костные обломки при открытых перелом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4876920" y="429372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Немедленное и правильное обезболивание поможет избежать развития конечной стадии шока и предотвратить смер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915-91B3-455C-8C44-F0534D04356A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3"/>
          <a:stretch/>
        </p:blipFill>
        <p:spPr>
          <a:xfrm>
            <a:off x="990720" y="35053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1T04:03:01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arkAsFinal">
    <vt:bool>1</vt:bool>
  </property>
</Properties>
</file>