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wmf" ContentType="image/x-wmf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C461-8F79-42F5-851E-E1C8FF994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25B2-7151-4D28-A3B6-0857DE2F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45EA9-83D9-4CEA-8E54-DCF0EBF8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1E4F69-92F7-4885-AC33-6F00AFEF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F7469-A78D-46C7-9FA0-751A8B0A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44DF32-D951-4074-838F-4B3776B2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BE2A2-8319-43B3-9EC1-AA5BD1D8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28BF38-F0F7-421B-925E-A6EB8EBD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1BA96-F8A4-4C28-892A-DCE666D6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B4B29-012D-447B-95C1-CE96B094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C876F-AE5B-4B9B-A322-D15DE51FC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543763-0D54-4D93-B58C-C7634C12B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3017-883C-40A0-88B8-FCE2D7C2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819D7-9BCB-46B8-AD6E-9BD1178E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D24B9-DABD-4B38-BDCC-24016227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AD4F7-C122-40BE-94FE-D9641946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327CD-BAAB-48FF-BDD8-18269CF7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2DD16D-907F-43BD-8964-F8F5BDCE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3D9BF-2F91-4637-A41C-8500491D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973D5-0B26-45CF-B75A-9217CA4A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81C179-9E2B-476D-BF74-6EF77EE6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495709-10A8-495E-8CD2-63D740EB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B1E5AA-F66F-44B7-9BC7-0258AFE57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E997-36C6-42F0-BF0C-7C603FD52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A5FC0-5D93-4F40-8D27-C9BDD3007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2EB19-0A2E-4C88-B23F-F4CB568EB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3FCF0-500D-4C03-BE4F-445032E7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B617C-234A-4BFE-8854-2D39FEDE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9FB48-64F5-4AA3-9BBD-A5D4429D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4B2C5-DF4D-4840-AF36-42605FDD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28354-F54A-4A0F-90F7-12E768F7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762E8-BCAE-4E7D-90E6-0480D793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AF5AD-66A7-4E85-9DC2-DFBBCFDD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D35AF-71AE-4D47-A3CE-D9AFAD5B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98D7-5A02-4996-92CB-BD1594E36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1E8EC-6740-4C88-BB00-8E1746FA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2C9BD-B7A8-47D4-ACD5-7BFBB41EF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E0053-2F47-408A-85DD-F7A338711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35969D-2988-4F1B-9812-50A4C6742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B871EA-7C97-448B-A719-2E2E136F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1B55E1-675F-4248-B61B-3E21298F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38427-3146-44B7-80C4-2FD486E5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EF4E98-EE12-41E5-8701-9D642B18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A32BB4-9483-415D-AE93-B1737C1A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4E2301-9846-4BB6-BBB0-F48AD8A2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AFFA-01B6-40FB-A93D-354CBFDA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8ACBC9-3DC9-49E5-AE90-E39545E3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68D094-3722-44E0-AD77-C2F8E564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305C5F-7EB1-4E42-AEBF-2064BDEA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C9CBF4-3463-494F-9A40-3DE970016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333258-872E-4262-A8DD-2C3740FA6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10E583-AA35-492E-B1BD-ECA88CECF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3E5F8E-306D-4D09-BA58-3E56219A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B93E8F-7995-4362-B06E-A30AF26C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2EFFE5-16C3-4D68-A06B-52C0D784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185FC5-3464-4173-9ABB-312E7243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E1CA-F5D4-47EC-B3CD-014B341F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29862E-C52F-43E7-BF1A-5FA2714B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9C299B-A8F7-4940-A9E8-4E899283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F14CCF-F6FF-4C47-9FC7-456215DE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A934CE-0E3D-486F-8C9D-2DEF4911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E0F468-11F8-4397-AE80-AB4413D2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3C7208-C063-4F6D-9A31-9A74455C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AFC9B8-EC21-4365-B239-E1C59D846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B0D9-D89C-4394-9A4B-B8896304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8EF9-DAAB-4C6D-9627-330A07A0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92B5-5B18-467A-BA60-C1D513F3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35AE-80CA-44C6-8C14-444D84F6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8D44-258D-4FFD-B33B-28540E04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17BB-5C20-48E1-A970-5CD84046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F969-7FE5-40D8-907F-DBBE89BA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1358-95DD-4EC4-9FE3-C656C4F4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B8C1-7442-432B-8A91-338750CC5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DDE3-5C97-4AA5-87A0-D9D69E04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99910-C0AB-4CF5-83E1-09C8C4151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3FAF0-CC5B-4216-9109-BAD1F245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6F9B4-907C-43BA-A722-5B5E7EEB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9ADF3-0A10-446C-9A6B-59D945F3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E3755-0C09-4A5D-B665-FB2B7D35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212A-6075-4B16-BECA-14F0C024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F5BFF-5ED9-4888-B1D9-512C6B80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93F21-4F96-46DB-A3CF-6FE59C2B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AB643-B86C-42BE-94A3-FD5EADC9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B76C5-5381-4C58-BD5E-24DC0B14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5CABA-C01F-4284-ABA7-759B7A9C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25FA7-89F0-4F1D-A29A-8ED52EE21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89D87-A678-41AC-A1B3-EA6AABEDB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28CF5-EA99-42E0-B9BF-A756E69FE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4BF82-1F50-456F-A478-5F2F3BAB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AF84B-B98A-4979-99E4-8C686C6B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2112-6703-4C77-89C4-FE8D1376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2E731-4092-406F-B78E-BF7D5D5E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4F6CC-6AFA-41CB-A046-31646376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A68F2-D29A-465C-9B83-37BA8FF6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FAF05-78D0-4C61-9A5A-0AD9046D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A7703-BCDB-4956-AE5D-46678444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69DEF-D3CC-4A7F-BE61-EE8803D2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CBFDB-5486-41B5-9DD3-4A184E63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436D0-98FA-4B8B-9720-9E92910F5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C1D17-84C2-4567-B4D5-CCB617B56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96C3A-B8D9-4EBD-AEDD-3C34FEB9A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29C0-330A-4271-A16C-5458F4D9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790B0-957B-4FF5-BF5F-5A525A96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3E952-A4C7-4913-BE92-4D0FD1AA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A8EAE-499F-460D-8495-ECA4256C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54D09-11FF-4499-A8C3-7269BC4B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B6D42-39AE-4FD6-A345-3D4FD75A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783D3-FF88-4602-9177-F0A06426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5D966-D6E4-4EF5-84E0-336A03CE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AEB65-723D-4D24-A46A-00CDD62D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30308-8E84-4037-B330-22197294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B6D99-D181-47D7-81F8-89B301083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D9BD-9441-45BE-8A24-96C5E26A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F4EA7-F808-40D2-9505-987171E9E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EC738-D9BF-4819-A6D7-EEBEE11FB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02914-0E0B-4093-B538-2A0264C7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374C4-F894-4FAD-BE83-BC20B203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09562-65D4-43CA-B369-B1A10A9D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BC59B-6441-4A9E-8846-E683EBE7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31433-8432-4D03-9BB9-F200DD7B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D0833-F803-41AC-AAD3-90952894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0DD63-ADDC-460C-B1B0-14E44570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8462E-F80F-4A8A-9288-48D49A7D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4AF7-08F0-4BF1-906B-713925E9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D9E96-71A8-4D81-8FB2-7BB08A00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47854-B32A-4FDA-BD2C-9FE7D62A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15B11-EA8B-4820-816D-78FC9DA08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F81EE-9537-4EC0-BB7A-E339F3DEB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2C1C9-D22C-4176-8163-75865619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CBD91-372E-4D70-ADEA-5899A7D2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769A2-D426-4CFB-8D23-0414673B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8DB69-657D-462D-AA08-3FEA6204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DEC29-7676-4D31-9EBB-38303257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B67E4-B93E-4A17-82CE-9239ADDF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7009-9DCA-494B-8511-2613D84C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510F0-2C85-4B77-9F49-4D202C16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C97CC-5F85-49F8-9F0B-1AF19675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FD8D3-7795-4235-BD4E-DFDDA7ED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DA8F1-F22F-4765-BFA5-109B07024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7081C-2915-4C68-AE1F-0E3080773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576C6-D2E9-437F-8674-D0529C1BE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948BD-B420-4062-9567-95A9E42A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16C36-8BE1-45CD-8E2C-E5599250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12F45-1703-47FD-B9CE-5CE78007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DC8B1-BC48-4E94-B7E0-B2D368C2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A962-A119-4FC9-A6F8-F4DB1F5A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20FA6-ED6E-4E1A-8B70-C1D68AC2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11BD8-2FE6-448C-B615-3FA4A21B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0A9EC-79E5-4F7A-BF53-A7D0350D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0B088-2D01-4DFD-8DF9-366B4D10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6395A-5685-44DB-8F77-8225C974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4ADF2-8D59-4B2C-87FE-32B66C4D7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E8677-7B84-4B15-AA9A-D79E19D36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CA242-7DCD-47CD-B9C1-AEACE0165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C611E-AC00-4869-9B71-81F45B1D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B233C-BB8B-450A-81F0-54EA82F0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BFC2-2C6D-44A1-A701-910C80B89D6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: 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E87A-9281-4E0C-8019-EAC59FA76B3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3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3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5FB5-709A-4671-AD5C-93EA49B446E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: 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A23C-F8D0-4DBC-A6F0-B9FF6DD9260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80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81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2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84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5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6FB6-BEB7-4C85-AC0B-846548D0FC9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: 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00AE-988D-4436-B5E9-45CEBD0C653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28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29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0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31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32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3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9F38-AE49-4F02-9430-988BA051D42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: 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1621-4FF3-425B-9CAA-033BE0C70D8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76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77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8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80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1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3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BBC2-2500-4524-AA78-80CC16CA9768}" type="datetime"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3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Автор: 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3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4688-58F5-4A4F-9744-2E2121779AC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1B60-BB2B-4B01-B73A-3393FAE5BAE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: 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9E93-408E-430D-AC06-496BAAC0B15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6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00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1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3A2A-823A-4CD5-ABAD-016FFEBED5E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: 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E044-0669-411D-9745-7A763C9B517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4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4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4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C53B-7007-467F-9756-75DE3685484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: 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94C2-E7B0-474F-8653-56C942B629F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9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9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9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9C0F-8CF3-43C6-BAB4-C048BAC6402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: 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1C16-7ABA-4D86-BF1C-860AEA672A0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40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41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44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77D0-D77F-4051-AEC4-F874C5356CC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: 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F160-A0A8-4205-AE11-200E56A6A73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88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89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0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92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3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57CB-B743-42AF-A641-0D1F3271666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: 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9EB0-FA9E-49CB-9AD8-6511C2EF80D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36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37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8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40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1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F6A3-27EB-4A83-BBCD-ABE06149A24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: 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487C-6CDB-44C9-8EDB-3025ED0E8B2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8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8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8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6F00-0810-4470-8F70-57EED16BB8D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: В.В.Кот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1CC1-89CC-4691-9C2C-829AC4AC7F3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824760" y="824400"/>
            <a:ext cx="795168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МБОУ Зареченская средняя общеобразовательная школа № 2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                                               п.Тоцкое Второе </a:t>
            </a:r>
            <a:br>
              <a:rPr sz="1800"/>
            </a:b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761760" y="2361960"/>
            <a:ext cx="51814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11 класс, урок 24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Преподаватель-организатор ОБ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Котлов Вадим Витальевич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5" name="Дата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C40A-361F-4D4B-9C6E-A90E7D4347CC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6" name="Нижний колонтитул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27" name="Picture 6" descr=""/>
          <p:cNvPicPr/>
          <p:nvPr/>
        </p:nvPicPr>
        <p:blipFill>
          <a:blip r:embed="rId1"/>
          <a:stretch/>
        </p:blipFill>
        <p:spPr>
          <a:xfrm>
            <a:off x="5867280" y="3048120"/>
            <a:ext cx="2907000" cy="2792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24" name="Object 2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6" name="Rectangle 6"/>
          <p:cNvSpPr/>
          <p:nvPr/>
        </p:nvSpPr>
        <p:spPr>
          <a:xfrm>
            <a:off x="0" y="110160"/>
            <a:ext cx="937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ПОНЯТИЕ О КОНЕЧНОЙ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(ТОРПИДНОЙ) СТАДИИ ШО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7" name="Rectangle 7"/>
          <p:cNvSpPr/>
          <p:nvPr/>
        </p:nvSpPr>
        <p:spPr>
          <a:xfrm>
            <a:off x="228600" y="1142640"/>
            <a:ext cx="8915400" cy="3385800"/>
          </a:xfrm>
          <a:prstGeom prst="rect">
            <a:avLst/>
          </a:prstGeom>
          <a:solidFill>
            <a:srgbClr val="a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Если в течение 30-40 минут пострадавший не получит медицинской помощи, то длительная ЦЕНТРАЛИЗАЦИЯ КРОВООБРАЩЕНИЯ приведет к грубым нарушениям микроциркуляции в почках, коже, кишечнике и других органах, исключенных из кровообращ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Таким образом, то, что играло защитную роль на начальном этапе и давало шанс на спасение, через 30 минут станет причиной смерт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8" name="Rectangle 8"/>
          <p:cNvSpPr/>
          <p:nvPr/>
        </p:nvSpPr>
        <p:spPr>
          <a:xfrm>
            <a:off x="2971800" y="502488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Calibri"/>
              </a:rPr>
              <a:t>Запомните! Фактор времени в развитии и исходе шока имеет определяющее значени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9" name="Дата 8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3560-6923-48E6-8F4D-E217C4AD1FB3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0" name="Нижний колонтитул 9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31" name="Picture 11" descr=""/>
          <p:cNvPicPr/>
          <p:nvPr/>
        </p:nvPicPr>
        <p:blipFill>
          <a:blip r:embed="rId3"/>
          <a:stretch/>
        </p:blipFill>
        <p:spPr>
          <a:xfrm>
            <a:off x="7238880" y="45720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12" descr=""/>
          <p:cNvPicPr/>
          <p:nvPr/>
        </p:nvPicPr>
        <p:blipFill>
          <a:blip r:embed="rId4"/>
          <a:stretch/>
        </p:blipFill>
        <p:spPr>
          <a:xfrm>
            <a:off x="304920" y="4648320"/>
            <a:ext cx="2543040" cy="19047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36" name="Object 2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8" name="Rectangle 6"/>
          <p:cNvSpPr/>
          <p:nvPr/>
        </p:nvSpPr>
        <p:spPr>
          <a:xfrm>
            <a:off x="-120600" y="119160"/>
            <a:ext cx="938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СХЕМА РАЗВИТИЯ НЕОБРАТИМОЙ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СТАДИИ ШО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9" name="Line 8"/>
          <p:cNvSpPr/>
          <p:nvPr/>
        </p:nvSpPr>
        <p:spPr>
          <a:xfrm flipV="1">
            <a:off x="1752480" y="2057040"/>
            <a:ext cx="3668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0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1" name="Rectangle 14"/>
          <p:cNvSpPr/>
          <p:nvPr/>
        </p:nvSpPr>
        <p:spPr>
          <a:xfrm>
            <a:off x="228600" y="1370160"/>
            <a:ext cx="8915400" cy="916920"/>
          </a:xfrm>
          <a:prstGeom prst="rect">
            <a:avLst/>
          </a:prstGeom>
          <a:solidFill>
            <a:srgbClr val="a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Calibri"/>
              </a:rPr>
              <a:t>НЕКРОЗ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Calibri"/>
              </a:rPr>
              <a:t>АЦИДОЗ           </a:t>
            </a:r>
            <a:r>
              <a:rPr b="1" lang="ru-RU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Calibri"/>
              </a:rPr>
              <a:t>  (ПС)    </a:t>
            </a:r>
            <a:r>
              <a:rPr b="1" lang="ru-RU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Calibri"/>
              </a:rPr>
              <a:t>    (ОЦК)    </a:t>
            </a:r>
            <a:r>
              <a:rPr b="1" lang="ru-RU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Calibri"/>
              </a:rPr>
              <a:t>     (УОС )      </a:t>
            </a:r>
            <a:r>
              <a:rPr b="1" lang="ru-RU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Calibri"/>
              </a:rPr>
              <a:t>      (АД )     </a:t>
            </a:r>
            <a:r>
              <a:rPr b="1" lang="ru-RU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Calibri"/>
              </a:rPr>
              <a:t>  СМЕРТЬ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Calibri"/>
              </a:rPr>
              <a:t>ГИПОКСИЯ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Rectangle 15"/>
          <p:cNvSpPr/>
          <p:nvPr/>
        </p:nvSpPr>
        <p:spPr>
          <a:xfrm>
            <a:off x="228600" y="259092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ПС </a:t>
            </a:r>
            <a:r>
              <a:rPr b="1" lang="ru-RU" sz="2400" spc="-1" strike="noStrike">
                <a:solidFill>
                  <a:srgbClr val="003366"/>
                </a:solidFill>
                <a:latin typeface="Calibri"/>
                <a:ea typeface="Calibri"/>
              </a:rPr>
              <a:t>–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 периферическое сопротивление (тонус прекапилляров)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ОЦК </a:t>
            </a:r>
            <a:r>
              <a:rPr b="1" lang="ru-RU" sz="2400" spc="-1" strike="noStrike">
                <a:solidFill>
                  <a:srgbClr val="003366"/>
                </a:solidFill>
                <a:latin typeface="Calibri"/>
                <a:ea typeface="Calibri"/>
              </a:rPr>
              <a:t>–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 объем циркулирующей крови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УОС </a:t>
            </a:r>
            <a:r>
              <a:rPr b="1" lang="ru-RU" sz="2400" spc="-1" strike="noStrike">
                <a:solidFill>
                  <a:srgbClr val="003366"/>
                </a:solidFill>
                <a:latin typeface="Calibri"/>
                <a:ea typeface="Calibri"/>
              </a:rPr>
              <a:t>–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 ударный объем сердца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АД </a:t>
            </a:r>
            <a:r>
              <a:rPr b="1" lang="ru-RU" sz="2400" spc="-1" strike="noStrike">
                <a:solidFill>
                  <a:srgbClr val="003366"/>
                </a:solidFill>
                <a:latin typeface="Calibri"/>
                <a:ea typeface="Calibri"/>
              </a:rPr>
              <a:t>–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 артериальное давление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743" name="Прямая со стрелкой 16"/>
          <p:cNvCxnSpPr/>
          <p:nvPr/>
        </p:nvCxnSpPr>
        <p:spPr>
          <a:xfrm flipH="1">
            <a:off x="2817000" y="1525320"/>
            <a:ext cx="3960" cy="686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44" name="Прямая со стрелкой 18"/>
          <p:cNvCxnSpPr/>
          <p:nvPr/>
        </p:nvCxnSpPr>
        <p:spPr>
          <a:xfrm flipH="1">
            <a:off x="4190760" y="1601280"/>
            <a:ext cx="2160" cy="6087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45" name="Прямая со стрелкой 22"/>
          <p:cNvCxnSpPr/>
          <p:nvPr/>
        </p:nvCxnSpPr>
        <p:spPr>
          <a:xfrm flipH="1">
            <a:off x="5636520" y="1601640"/>
            <a:ext cx="3960" cy="6105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46" name="Прямая со стрелкой 24"/>
          <p:cNvCxnSpPr/>
          <p:nvPr/>
        </p:nvCxnSpPr>
        <p:spPr>
          <a:xfrm flipH="1">
            <a:off x="7084800" y="1601640"/>
            <a:ext cx="3600" cy="6105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47" name="Дата 25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AEC4-590C-4506-A4B3-2D4C5D04247D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8" name="Нижний колонтитул 26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49" name="Picture 17" descr=""/>
          <p:cNvPicPr/>
          <p:nvPr/>
        </p:nvPicPr>
        <p:blipFill>
          <a:blip r:embed="rId3"/>
          <a:stretch/>
        </p:blipFill>
        <p:spPr>
          <a:xfrm>
            <a:off x="914400" y="4114800"/>
            <a:ext cx="3809880" cy="252576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8" descr=""/>
          <p:cNvPicPr/>
          <p:nvPr/>
        </p:nvPicPr>
        <p:blipFill>
          <a:blip r:embed="rId4"/>
          <a:stretch/>
        </p:blipFill>
        <p:spPr>
          <a:xfrm>
            <a:off x="5048280" y="3581280"/>
            <a:ext cx="367668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54" name="Object 2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6" name="Rectangle 6"/>
          <p:cNvSpPr/>
          <p:nvPr/>
        </p:nvSpPr>
        <p:spPr>
          <a:xfrm>
            <a:off x="0" y="3265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ПРИЗНАКИ ТОРПИДНОЙ СТАДИИ ШО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7" name="Прямоугольник 6"/>
          <p:cNvSpPr/>
          <p:nvPr/>
        </p:nvSpPr>
        <p:spPr>
          <a:xfrm>
            <a:off x="304920" y="838080"/>
            <a:ext cx="8839080" cy="3660120"/>
          </a:xfrm>
          <a:prstGeom prst="rect">
            <a:avLst/>
          </a:prstGeom>
          <a:solidFill>
            <a:srgbClr val="a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Двигательное и эмоциональное возбуждение первой фазы шока уже через 30-40 минут сменяется апатией и равнодушием. Уровень артериального давления понижается до 30-60 мм рт. ст. Кожа приобретает землистый оттенок с характерными малиновыми и серовато-зеленоватыми разводами. Их причудливый рисунок настолько напоминает мрамор, что возник даже термин  МРАМОРНОСТЬ КОЖИ. Этот рисунок наиболее ярко выражен на коже живота и передней поверхности бедер.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Потеря жидкости с обильным потом и перераспределение плазмы из кровеносного русла в межклеточные пространства тканей вызывает значительное сгущение крови. Эритроциты начинают выстраиваться в капиллярах в виде монетных столбиков, полностью заполняя их просвет, и склеиваться между собой бесчисленным множеством  тончайших, подобных тине, нитей ФИБРИНА. Начинается процесс ТРОМБООБРАЗОВАНИЯ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8" name="Дата 7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A178-4F24-4956-ADA7-1FFDBF6E8681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9" name="Нижний колонтитул 8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60" name="Picture 10" descr=""/>
          <p:cNvPicPr/>
          <p:nvPr/>
        </p:nvPicPr>
        <p:blipFill>
          <a:blip r:embed="rId3"/>
          <a:stretch/>
        </p:blipFill>
        <p:spPr>
          <a:xfrm>
            <a:off x="380880" y="4800600"/>
            <a:ext cx="2971800" cy="192888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11" descr=""/>
          <p:cNvPicPr/>
          <p:nvPr/>
        </p:nvPicPr>
        <p:blipFill>
          <a:blip r:embed="rId4"/>
          <a:stretch/>
        </p:blipFill>
        <p:spPr>
          <a:xfrm>
            <a:off x="3581280" y="4800600"/>
            <a:ext cx="2543400" cy="190512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12" descr=""/>
          <p:cNvPicPr/>
          <p:nvPr/>
        </p:nvPicPr>
        <p:blipFill>
          <a:blip r:embed="rId5"/>
          <a:stretch/>
        </p:blipFill>
        <p:spPr>
          <a:xfrm>
            <a:off x="6324480" y="48006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66" name="Object 2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8" name="Rectangle 6"/>
          <p:cNvSpPr/>
          <p:nvPr/>
        </p:nvSpPr>
        <p:spPr>
          <a:xfrm>
            <a:off x="228600" y="466200"/>
            <a:ext cx="8915400" cy="2653560"/>
          </a:xfrm>
          <a:prstGeom prst="rect">
            <a:avLst/>
          </a:prstGeom>
          <a:solidFill>
            <a:srgbClr val="a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ПРИЗНАКИ ЗАКЛЮЧИТЕЛЬНОЙ СТАДИИ ШО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Заторможенность и апат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Появление на коже мраморного рисун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Снижение температуры тела и артериального давл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Заострение черт лиц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Полное прекращение выделения моч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9" name="Дата 6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3568-8B37-4956-8B29-EB20314EF85D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0" name="Нижний колонтитул 7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71" name="Picture 9" descr=""/>
          <p:cNvPicPr/>
          <p:nvPr/>
        </p:nvPicPr>
        <p:blipFill>
          <a:blip r:embed="rId3"/>
          <a:stretch/>
        </p:blipFill>
        <p:spPr>
          <a:xfrm>
            <a:off x="2057400" y="3352680"/>
            <a:ext cx="4724280" cy="26798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75" name="Object 2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7" name="Rectangle 6"/>
          <p:cNvSpPr/>
          <p:nvPr/>
        </p:nvSpPr>
        <p:spPr>
          <a:xfrm>
            <a:off x="4038480" y="357480"/>
            <a:ext cx="5105520" cy="66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Calibri"/>
              </a:rPr>
              <a:t>Ш О К О В О Е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Calibri"/>
              </a:rPr>
              <a:t>Л Е Г К О 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Сброс венозной крови в артериальное русло, минуя альвеолярную сеть, без должного насыщения кислородом, приводит к изъятию из газообмена огромного числа альвеол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–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«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легочных пузырьков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»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звивается состояние острой дыхательной недостаточности: появляются одышка, посинение губ и кончиков пальцев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8" name="Дата 6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2D3A-B478-45DB-88C5-17D4733E8FE2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9" name="Нижний колонтитул 7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80" name="Picture 9" descr=""/>
          <p:cNvPicPr/>
          <p:nvPr/>
        </p:nvPicPr>
        <p:blipFill>
          <a:blip r:embed="rId3"/>
          <a:stretch/>
        </p:blipFill>
        <p:spPr>
          <a:xfrm>
            <a:off x="228600" y="2133720"/>
            <a:ext cx="346248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84" name="Object 2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6" name="Rectangle 6"/>
          <p:cNvSpPr/>
          <p:nvPr/>
        </p:nvSpPr>
        <p:spPr>
          <a:xfrm>
            <a:off x="3657600" y="699120"/>
            <a:ext cx="548640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Calibri"/>
              </a:rPr>
              <a:t>Ш О К О В А Я   П О Ч К 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Длительное исключение капиллярной сети почек из кровообращения приводит к острой почечной недостаточности и накоплению в крови токсичных веществ, к уменьшению выделения мочи, вплоть до развития Анурии (полного прекращения выделения мочи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Дата 6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0B99-C0B4-4720-A753-925CDEE449B8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8" name="Нижний колонтитул 7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89" name="Picture 9" descr=""/>
          <p:cNvPicPr/>
          <p:nvPr/>
        </p:nvPicPr>
        <p:blipFill>
          <a:blip r:embed="rId3"/>
          <a:stretch/>
        </p:blipFill>
        <p:spPr>
          <a:xfrm>
            <a:off x="152280" y="1066680"/>
            <a:ext cx="3498840" cy="236232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10" descr=""/>
          <p:cNvPicPr/>
          <p:nvPr/>
        </p:nvPicPr>
        <p:blipFill>
          <a:blip r:embed="rId4"/>
          <a:stretch/>
        </p:blipFill>
        <p:spPr>
          <a:xfrm>
            <a:off x="228600" y="3657600"/>
            <a:ext cx="3429000" cy="22813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94" name="Object 2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6" name="Rectangle 6"/>
          <p:cNvSpPr/>
          <p:nvPr/>
        </p:nvSpPr>
        <p:spPr>
          <a:xfrm>
            <a:off x="0" y="498600"/>
            <a:ext cx="9144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Calibri"/>
              </a:rPr>
              <a:t>Ш О К О В А Я    П Е Ч Е Н 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Поражение обескровленных тканей печени оборачивается грубым нарушением ее защитных функций, что обязательно вызовет острую печеночную недостаточность и быстрое накопление в крови крайне токсичных продуктов обмен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7" name="Дата 6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41DB-E1C6-4082-8436-1B63A48495AE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Нижний колонтитул 7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99" name="Picture 9" descr=""/>
          <p:cNvPicPr/>
          <p:nvPr/>
        </p:nvPicPr>
        <p:blipFill>
          <a:blip r:embed="rId3"/>
          <a:stretch/>
        </p:blipFill>
        <p:spPr>
          <a:xfrm>
            <a:off x="533520" y="3505320"/>
            <a:ext cx="4038480" cy="2619360"/>
          </a:xfrm>
          <a:prstGeom prst="rect">
            <a:avLst/>
          </a:prstGeom>
          <a:ln w="0">
            <a:noFill/>
          </a:ln>
        </p:spPr>
      </p:pic>
      <p:sp>
        <p:nvSpPr>
          <p:cNvPr id="800" name="Стрелка влево 9"/>
          <p:cNvSpPr/>
          <p:nvPr/>
        </p:nvSpPr>
        <p:spPr>
          <a:xfrm>
            <a:off x="3809880" y="4724280"/>
            <a:ext cx="5181840" cy="609840"/>
          </a:xfrm>
          <a:prstGeom prst="leftArrow">
            <a:avLst>
              <a:gd name="adj1" fmla="val 50000"/>
              <a:gd name="adj2" fmla="val 49999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стая центральная вен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804" name="Object 2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6" name="Rectangle 6"/>
          <p:cNvSpPr/>
          <p:nvPr/>
        </p:nvSpPr>
        <p:spPr>
          <a:xfrm>
            <a:off x="4114800" y="1110960"/>
            <a:ext cx="5029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СПАСЕНИЕ ПОСТРАДАВШИХ ВОЗМОЖН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ТОЛЬКО В УСЛОВИЯХ РЕАНИМАЦИОННОГО ОТДЕЛЕНИЯ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ГДЕ ПРИМЕНЯЮТ АППАРАТЫ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«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ИСКУССТВЕННАЯ ПОЧКА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»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, ИСКУССТВЕННОЙ ВЕНТИЛЯЦИИ ЛЁГКИ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И МОНИТОРЫ ПОСТОЯННОГО НАБЛЮД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 ФУНКЦИЯМИ ОРГАНИЗМ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7" name="Дата 6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5A48-E642-4ECE-8101-BEF367A27D9C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8" name="Нижний колонтитул 7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09" name="Picture 9" descr=""/>
          <p:cNvPicPr/>
          <p:nvPr/>
        </p:nvPicPr>
        <p:blipFill>
          <a:blip r:embed="rId3"/>
          <a:stretch/>
        </p:blipFill>
        <p:spPr>
          <a:xfrm>
            <a:off x="0" y="1676520"/>
            <a:ext cx="4054320" cy="3276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813" name="Object 2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6"/>
          <p:cNvSpPr/>
          <p:nvPr/>
        </p:nvSpPr>
        <p:spPr>
          <a:xfrm>
            <a:off x="932040" y="263160"/>
            <a:ext cx="727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Calibri"/>
              </a:rPr>
              <a:t>СПОСОБЫ ОБЕЗБОЛИВАНИЯ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Calibri"/>
              </a:rPr>
              <a:t>ПРИ ТРАВМАТИЧЕСКОМ ШОК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6" name="Rectangle 7"/>
          <p:cNvSpPr/>
          <p:nvPr/>
        </p:nvSpPr>
        <p:spPr>
          <a:xfrm>
            <a:off x="228600" y="1369080"/>
            <a:ext cx="8915400" cy="3753000"/>
          </a:xfrm>
          <a:prstGeom prst="rect">
            <a:avLst/>
          </a:prstGeom>
          <a:solidFill>
            <a:srgbClr val="a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Наиболее эффективны для обезболивания </a:t>
            </a:r>
            <a:r>
              <a:rPr b="1" lang="ru-RU" sz="2000" spc="-1" strike="noStrike">
                <a:solidFill>
                  <a:srgbClr val="003366"/>
                </a:solidFill>
                <a:latin typeface="Calibri"/>
                <a:ea typeface="Calibri"/>
              </a:rPr>
              <a:t>–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 наркотические анальгетики: ПРОМЕДОЛ, МОРФИН, ОМНОПОН, ФЕНТАНИ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Единственное, что никогда не следует забывать, </a:t>
            </a:r>
            <a:r>
              <a:rPr b="1" lang="ru-RU" sz="2000" spc="-1" strike="noStrike">
                <a:solidFill>
                  <a:srgbClr val="003366"/>
                </a:solidFill>
                <a:latin typeface="Calibri"/>
                <a:ea typeface="Calibri"/>
              </a:rPr>
              <a:t>–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 все они вызывают угнетение дыхательного центра. По этой причине их не назначают детям до 5 лет и с большой осторожностью применяют для обезболивания взрослы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Необходимо также учитывать и другое побочное действие наркотических анальгетиков </a:t>
            </a:r>
            <a:r>
              <a:rPr b="1" lang="ru-RU" sz="2000" spc="-1" strike="noStrike">
                <a:solidFill>
                  <a:srgbClr val="003366"/>
                </a:solidFill>
                <a:latin typeface="Calibri"/>
                <a:ea typeface="Calibri"/>
              </a:rPr>
              <a:t>–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 появление тошноты и многократной рвоты. Для устранения этих нежелательных осложнений подкожно вводят 0,5 мл 0,1%-ного раствора АТРОПИН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Достаточно эффективного обезболивания достигают, применяя большие дозы АНАЛЬГИНА (до четырех таблеток для взрослого человека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7" name="Rectangle 8"/>
          <p:cNvSpPr/>
          <p:nvPr/>
        </p:nvSpPr>
        <p:spPr>
          <a:xfrm>
            <a:off x="0" y="5820120"/>
            <a:ext cx="5867280" cy="642600"/>
          </a:xfrm>
          <a:prstGeom prst="rect">
            <a:avLst/>
          </a:prstGeom>
          <a:solidFill>
            <a:srgbClr val="005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Как крайнее средство можно рекомендовать алкоголь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8" name="Дата 8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D614-495F-4C23-BFA3-FE453AEB33D2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9" name="Нижний колонтитул 9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20" name="Picture 11" descr=""/>
          <p:cNvPicPr/>
          <p:nvPr/>
        </p:nvPicPr>
        <p:blipFill>
          <a:blip r:embed="rId3"/>
          <a:stretch/>
        </p:blipFill>
        <p:spPr>
          <a:xfrm>
            <a:off x="6095880" y="51814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824" name="Object 2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6" name="Rectangle 6"/>
          <p:cNvSpPr/>
          <p:nvPr/>
        </p:nvSpPr>
        <p:spPr>
          <a:xfrm>
            <a:off x="0" y="141120"/>
            <a:ext cx="914400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Calibri"/>
              </a:rPr>
              <a:t>СХЕМА ОКАЗАНИЯ ПЕРВОЙ ПОМОЩИ ПРИ ТРАВМАТИЧЕСКОМ ШОК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и кровотечении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–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немедленно наложить кровоостанавливающие жгуты или тугие давящие повязк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и переломах костей конечностей, таза и ребер, проникающих ранениях грудной клетки и брюшной полости тщательно обезболить пострадавшего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работать раны и наложить стерильные повязк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ложить транспортные шины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Вызвать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«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Скорую помощь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»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7" name="Дата 6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6853-3130-4A9E-9F63-BE80B5F4C3DD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8" name="Нижний колонтитул 7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31" name="Object 5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Rectangle 6"/>
          <p:cNvSpPr/>
          <p:nvPr/>
        </p:nvSpPr>
        <p:spPr>
          <a:xfrm>
            <a:off x="0" y="-16200"/>
            <a:ext cx="9372600" cy="1556280"/>
          </a:xfrm>
          <a:prstGeom prst="rect">
            <a:avLst/>
          </a:prstGeom>
          <a:gradFill rotWithShape="0">
            <a:gsLst>
              <a:gs pos="0">
                <a:srgbClr val="bff0bf"/>
              </a:gs>
              <a:gs pos="100000">
                <a:srgbClr val="edfbed"/>
              </a:gs>
            </a:gsLst>
            <a:lin ang="16200000"/>
          </a:gradFill>
          <a:ln w="9360">
            <a:solidFill>
              <a:srgbClr val="86b68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Calibri"/>
              </a:rPr>
              <a:t>ШОК - ЭТО АКТИВНАЯ ЗАЩИТА ОРГАНИЗМА ОТ АГРЕССИИ СРЕД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4" name="Rectangle 7"/>
          <p:cNvSpPr/>
          <p:nvPr/>
        </p:nvSpPr>
        <p:spPr>
          <a:xfrm>
            <a:off x="380880" y="2130840"/>
            <a:ext cx="4191120" cy="4362840"/>
          </a:xfrm>
          <a:prstGeom prst="rect">
            <a:avLst/>
          </a:prstGeom>
          <a:gradFill rotWithShape="0">
            <a:gsLst>
              <a:gs pos="0">
                <a:srgbClr val="bff0bf"/>
              </a:gs>
              <a:gs pos="100000">
                <a:srgbClr val="edfbed"/>
              </a:gs>
            </a:gsLst>
            <a:lin ang="16200000"/>
          </a:gradFill>
          <a:ln w="9360">
            <a:solidFill>
              <a:srgbClr val="86b68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Пусковыми моментами шока являются сильная боль и страх смерти, психическое напряжение и стресс, которые неизбежны в момент нанесения травм и повреждений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Экстремальная ситуация уже сама по себе провоцирует развитие шока. Когда человек сталкивается с угрозой смерти, </a:t>
            </a:r>
            <a:r>
              <a:rPr b="0" lang="ru-RU" sz="2000" spc="-1" strike="noStrike">
                <a:solidFill>
                  <a:srgbClr val="003366"/>
                </a:solidFill>
                <a:latin typeface="Calibri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 будь то несчастный случай или боевые действия, </a:t>
            </a:r>
            <a:r>
              <a:rPr b="0" lang="ru-RU" sz="2000" spc="-1" strike="noStrike">
                <a:solidFill>
                  <a:srgbClr val="003366"/>
                </a:solidFill>
                <a:latin typeface="Calibri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 его организм в состоянии стресса выделяет </a:t>
            </a:r>
            <a:r>
              <a:rPr b="1" i="1" lang="ru-RU" sz="2000" spc="-1" strike="noStrike" u="sng">
                <a:solidFill>
                  <a:srgbClr val="003366"/>
                </a:solidFill>
                <a:uFillTx/>
                <a:latin typeface="Times New Roman"/>
                <a:ea typeface="Calibri"/>
              </a:rPr>
              <a:t>огромное количество адреналина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5" name="Rectangle 8"/>
          <p:cNvSpPr/>
          <p:nvPr/>
        </p:nvSpPr>
        <p:spPr>
          <a:xfrm>
            <a:off x="4876920" y="5272920"/>
            <a:ext cx="3886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Calibri"/>
              </a:rPr>
              <a:t>Запомните! Колоссальный выброс адреналина вызывает резкий спазм прекапилляров кожи, почек, печени 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Calibri"/>
              </a:rPr>
              <a:t>кишечник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6" name="Дата 8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C082-AF77-4E78-AB37-04EE98AAA958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7" name="Нижний колонтитул 9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38" name="Picture 12" descr=""/>
          <p:cNvPicPr/>
          <p:nvPr/>
        </p:nvPicPr>
        <p:blipFill>
          <a:blip r:embed="rId3"/>
          <a:stretch/>
        </p:blipFill>
        <p:spPr>
          <a:xfrm>
            <a:off x="5257800" y="182880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832" name="Object 2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4" name="Rectangle 6"/>
          <p:cNvSpPr/>
          <p:nvPr/>
        </p:nvSpPr>
        <p:spPr>
          <a:xfrm>
            <a:off x="228600" y="18684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Calibri"/>
              </a:rPr>
              <a:t>АЛГОРИТМ ОКАЗАНИЯ ПОМОЩИ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Calibri"/>
              </a:rPr>
              <a:t>ПРИ ТРАВМАТИЧЕСКОМ ШОК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5" name="Rectangle 7"/>
          <p:cNvSpPr/>
          <p:nvPr/>
        </p:nvSpPr>
        <p:spPr>
          <a:xfrm>
            <a:off x="0" y="1082160"/>
            <a:ext cx="9144000" cy="66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0" rIns="539640" tIns="539640" bIns="53964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Уложить на спину и обеспечить покой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ложить жгут при артериальном кровотечени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иподнять ноги при кровотечении или ранениях живот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и переломах наложить шины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езболить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ложить на раны повязк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чать ингаляцию кислород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Вызвать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«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Скорую  помощь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»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язательно доставить  в больницу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6" name="Дата 7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2DEB-6BA0-4DC8-A69C-49A35BA64CFF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7" name="Нижний колонтитул 8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1197000" y="435240"/>
            <a:ext cx="7054200" cy="59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ТРИ ЗАПОВЕДИ: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КАК НЕ НАВРЕДИТЬ ПОСТРАДАВШЕМУ В СОСТОЯНИИ ШОКА</a:t>
            </a:r>
            <a:br>
              <a:rPr sz="3200"/>
            </a:br>
            <a:br>
              <a:rPr sz="2400"/>
            </a:br>
            <a:br>
              <a:rPr sz="18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ЗАПОВЕДЬ ПЕРВАЯ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НЕ ТРЕВОЖЬ ПОНАПРАСНУ ПОСТРАДАВШЕГО: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ЛЮБОЕ ДВИЖЕНИЕ ПРИЧИНЯЕТ ЕМУ МУЧИТЕЛЬНУЮ БОЛЬ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(Перемещать пострадавшего можно только после иммобилизации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поврежденных конечностей и обязательно на носилках.)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ЗАПОВЕДЬ ВТОРАЯ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ПРОЯВИ ВНИМАНИЕ К КАЖДОМУ ЧЕЛОВЕКУ, ПОСТРАДАВШЕМУ В КАТАСТРОФЕ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ИЛИ ПРИ НЕСЧАСТНОМ СЛУЧАЕ.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(Тем более если у него бледный вид, и он эмоционально возбужден.)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ЗАПОВЕДЬ ТРЕТЬЯ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НЕ МЕДЛИ С НАЛОЖЕНИЕМ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КРОВООСТАНАВЛИВАЮЩИХ ЖГУТОВ.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(Потеря каждой секунды может привести к невосполнимой кровопотере.)</a:t>
            </a:r>
            <a:br>
              <a:rPr sz="1600"/>
            </a:b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9" name="Дата 2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52A0-4048-4A0C-BF7F-27DE4DE0205D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0" name="Нижний колонтитул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Arial"/>
              </a:rPr>
              <a:t>БУДЬТЕ  ЗДОРОВЫ!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2" name="Дата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2BB6-6418-4E29-B8AD-64515357D6DE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3" name="Нижний колонтитул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44" name="Picture 6" descr=""/>
          <p:cNvPicPr/>
          <p:nvPr/>
        </p:nvPicPr>
        <p:blipFill>
          <a:blip r:embed="rId1"/>
          <a:stretch/>
        </p:blipFill>
        <p:spPr>
          <a:xfrm>
            <a:off x="2590920" y="2662200"/>
            <a:ext cx="4419360" cy="32972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42" name="Object 2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4" name="Rectangle 6"/>
          <p:cNvSpPr/>
          <p:nvPr/>
        </p:nvSpPr>
        <p:spPr>
          <a:xfrm>
            <a:off x="0" y="373320"/>
            <a:ext cx="937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ШОК - ЭТО КОМПЛЕКС ОТВЕТНЫХ РЕАКЦИЙ ОРГАНИЗМА,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  <a:ea typeface="Calibri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НАПРАВЛЕННЫХ НА ДОСТИЖЕНИЕ ОДНОЙ ЦЕЛИ - ВЫЖИТЬ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5" name="Rectangle 7"/>
          <p:cNvSpPr/>
          <p:nvPr/>
        </p:nvSpPr>
        <p:spPr>
          <a:xfrm>
            <a:off x="4572000" y="51325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Calibri"/>
              </a:rPr>
              <a:t>Запомните! Только за счет спазма сосудов кожи и ее исключения из кровообращения компенсируется  потеря 1,5-2 литров кров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6" name="Rectangle 8"/>
          <p:cNvSpPr/>
          <p:nvPr/>
        </p:nvSpPr>
        <p:spPr>
          <a:xfrm>
            <a:off x="0" y="2009520"/>
            <a:ext cx="4800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Каждый знает, как легко пугливая ящерица в минуту, опасности расстается со своим хвостом, а из сохранившейся культи не выделяется ни единой капли крови - настолько сильно спазмированы сосуды при испуг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оль хвоста ящерицы в нашем организме играют кожа, почки, кишечник и т.п. В минуту смертельной опасности, когда нет настоятельной необходимости в полном объеме их функций, эти органы приносятся в жертву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7" name="Дата 12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BCFA-19C6-4107-A2E2-3016CDFA60F2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8" name="Нижний колонтитул 1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49" name="Picture 11" descr=""/>
          <p:cNvPicPr/>
          <p:nvPr/>
        </p:nvPicPr>
        <p:blipFill>
          <a:blip r:embed="rId3"/>
          <a:stretch/>
        </p:blipFill>
        <p:spPr>
          <a:xfrm>
            <a:off x="4892760" y="1981080"/>
            <a:ext cx="4251240" cy="3048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838080" y="4040280"/>
          <a:ext cx="3770280" cy="368280"/>
        </p:xfrm>
        <a:graphic>
          <a:graphicData uri="http://schemas.openxmlformats.org/drawingml/2006/table">
            <a:tbl>
              <a:tblPr/>
              <a:tblGrid>
                <a:gridCol w="3770280"/>
              </a:tblGrid>
              <a:tr h="36828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СТРАХ                                              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СТРЕСС </a:t>
                      </a:r>
                      <a:r>
                        <a:rPr b="1" lang="ru-RU" sz="700" spc="-1" strike="noStrike">
                          <a:solidFill>
                            <a:srgbClr val="003366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ru-RU" sz="7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 АДРЕНАЛИН </a:t>
                      </a:r>
                      <a:r>
                        <a:rPr b="1" lang="ru-RU" sz="700" spc="-1" strike="noStrike">
                          <a:solidFill>
                            <a:srgbClr val="003366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ru-RU" sz="7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 (ПС) </a:t>
                      </a:r>
                      <a:r>
                        <a:rPr b="1" lang="ru-RU" sz="700" spc="-1" strike="noStrike">
                          <a:solidFill>
                            <a:srgbClr val="003366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ru-RU" sz="7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      (ОЦК )      </a:t>
                      </a:r>
                      <a:r>
                        <a:rPr b="1" lang="ru-RU" sz="700" spc="-1" strike="noStrike">
                          <a:solidFill>
                            <a:srgbClr val="003366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ru-RU" sz="7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      (УОС)  </a:t>
                      </a:r>
                      <a:r>
                        <a:rPr b="1" lang="ru-RU" sz="700" spc="-1" strike="noStrike">
                          <a:solidFill>
                            <a:srgbClr val="003366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ru-RU" sz="7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           (АД)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3366"/>
                          </a:solidFill>
                          <a:latin typeface="Times New Roman"/>
                          <a:ea typeface="Calibri"/>
                        </a:rPr>
                        <a:t>БОЛЬ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2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53" name="Object 2"/>
          <p:cNvGraphicFramePr/>
          <p:nvPr/>
        </p:nvGraphicFramePr>
        <p:xfrm>
          <a:off x="0" y="-15228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5228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5" name="Rectangle 13"/>
          <p:cNvSpPr/>
          <p:nvPr/>
        </p:nvSpPr>
        <p:spPr>
          <a:xfrm>
            <a:off x="0" y="1971000"/>
            <a:ext cx="647712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0" rIns="539640" tIns="539640" bIns="539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ПС </a:t>
            </a:r>
            <a:r>
              <a:rPr b="1" lang="ru-RU" sz="2400" spc="-1" strike="noStrike">
                <a:solidFill>
                  <a:srgbClr val="003366"/>
                </a:solidFill>
                <a:latin typeface="Calibri"/>
                <a:ea typeface="Calibri"/>
              </a:rPr>
              <a:t>–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 периферическое сопротивление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(тонус прекапилляров)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ОЦК </a:t>
            </a:r>
            <a:r>
              <a:rPr b="1" lang="ru-RU" sz="2400" spc="-1" strike="noStrike">
                <a:solidFill>
                  <a:srgbClr val="003366"/>
                </a:solidFill>
                <a:latin typeface="Calibri"/>
                <a:ea typeface="Calibri"/>
              </a:rPr>
              <a:t>–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 объем циркулирующей кров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УОС </a:t>
            </a:r>
            <a:r>
              <a:rPr b="1" lang="ru-RU" sz="2400" spc="-1" strike="noStrike">
                <a:solidFill>
                  <a:srgbClr val="003366"/>
                </a:solidFill>
                <a:latin typeface="Calibri"/>
                <a:ea typeface="Calibri"/>
              </a:rPr>
              <a:t>–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 ударный объем сердц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АД </a:t>
            </a:r>
            <a:r>
              <a:rPr b="1" lang="ru-RU" sz="2400" spc="-1" strike="noStrike">
                <a:solidFill>
                  <a:srgbClr val="003366"/>
                </a:solidFill>
                <a:latin typeface="Calibri"/>
                <a:ea typeface="Calibri"/>
              </a:rPr>
              <a:t>–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 артериальное давлен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6" name="Rectangle 14"/>
          <p:cNvSpPr/>
          <p:nvPr/>
        </p:nvSpPr>
        <p:spPr>
          <a:xfrm>
            <a:off x="0" y="2653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СХЕМА ПЕРВЫХ МИНУТ РАЗВИТИЯ ШО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(ЦЕНТРАЛИЗАЦИЯ КРОВООБРАЩЕНИЯ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7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8" name="Rectangle 22"/>
          <p:cNvSpPr/>
          <p:nvPr/>
        </p:nvSpPr>
        <p:spPr>
          <a:xfrm>
            <a:off x="0" y="1810080"/>
            <a:ext cx="9144000" cy="1008720"/>
          </a:xfrm>
          <a:prstGeom prst="rect">
            <a:avLst/>
          </a:prstGeom>
          <a:solidFill>
            <a:srgbClr val="a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СТРАХ        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СТРЕС          АДРЕНАЛИН </a:t>
            </a:r>
            <a:r>
              <a:rPr b="1" lang="ru-RU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     (ПС) </a:t>
            </a:r>
            <a:r>
              <a:rPr b="1" lang="ru-RU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      (ОЦК )      </a:t>
            </a:r>
            <a:r>
              <a:rPr b="1" lang="ru-RU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     (УОС)  </a:t>
            </a:r>
            <a:r>
              <a:rPr b="1" lang="ru-RU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  (АД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БОЛЬ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9" name="Правая фигурная скобка 24"/>
          <p:cNvSpPr/>
          <p:nvPr/>
        </p:nvSpPr>
        <p:spPr>
          <a:xfrm>
            <a:off x="990720" y="1828800"/>
            <a:ext cx="304560" cy="99072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990720"/>
              <a:gd name="textAreaBottom" fmla="*/ 9828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7"/>
                  <a:pt x="10800" y="554"/>
                </a:cubicBezTo>
                <a:lnTo>
                  <a:pt x="10800" y="10246"/>
                </a:lnTo>
                <a:cubicBezTo>
                  <a:pt x="10800" y="10523"/>
                  <a:pt x="16200" y="10800"/>
                  <a:pt x="21600" y="10800"/>
                </a:cubicBezTo>
                <a:cubicBezTo>
                  <a:pt x="16200" y="10800"/>
                  <a:pt x="10800" y="11077"/>
                  <a:pt x="10800" y="11354"/>
                </a:cubicBezTo>
                <a:lnTo>
                  <a:pt x="10800" y="21046"/>
                </a:lnTo>
                <a:cubicBezTo>
                  <a:pt x="10800" y="21323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660" name="Прямая со стрелкой 26"/>
          <p:cNvCxnSpPr/>
          <p:nvPr/>
        </p:nvCxnSpPr>
        <p:spPr>
          <a:xfrm flipV="1">
            <a:off x="3578760" y="1982520"/>
            <a:ext cx="396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1" name="Прямая со стрелкой 30"/>
          <p:cNvCxnSpPr/>
          <p:nvPr/>
        </p:nvCxnSpPr>
        <p:spPr>
          <a:xfrm flipV="1">
            <a:off x="4876920" y="1980360"/>
            <a:ext cx="2160" cy="7628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2" name="Прямая со стрелкой 32"/>
          <p:cNvCxnSpPr/>
          <p:nvPr/>
        </p:nvCxnSpPr>
        <p:spPr>
          <a:xfrm flipV="1">
            <a:off x="6019920" y="1904760"/>
            <a:ext cx="2160" cy="8388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3" name="Прямая со стрелкой 34"/>
          <p:cNvCxnSpPr/>
          <p:nvPr/>
        </p:nvCxnSpPr>
        <p:spPr>
          <a:xfrm flipV="1">
            <a:off x="7695000" y="1904760"/>
            <a:ext cx="2520" cy="8388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4" name="Прямая со стрелкой 41"/>
          <p:cNvCxnSpPr/>
          <p:nvPr/>
        </p:nvCxnSpPr>
        <p:spPr>
          <a:xfrm flipV="1">
            <a:off x="8913960" y="1906200"/>
            <a:ext cx="3600" cy="8388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65" name="Дата 42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E320-5BFF-4A0A-93F8-AF77ADF3A751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6" name="Нижний колонтитул 4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67" name="Picture 11" descr=""/>
          <p:cNvPicPr/>
          <p:nvPr/>
        </p:nvPicPr>
        <p:blipFill>
          <a:blip r:embed="rId3"/>
          <a:stretch/>
        </p:blipFill>
        <p:spPr>
          <a:xfrm>
            <a:off x="5715000" y="3048120"/>
            <a:ext cx="2922480" cy="2746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71" name="Object 2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Rectangle 6"/>
          <p:cNvSpPr/>
          <p:nvPr/>
        </p:nvSpPr>
        <p:spPr>
          <a:xfrm>
            <a:off x="0" y="12600"/>
            <a:ext cx="9296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ПЕРВЫЕ ПРИЗНАКИ ШОК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(ПАРАДОКСЫ ШОКА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4" name="Rectangle 7"/>
          <p:cNvSpPr/>
          <p:nvPr/>
        </p:nvSpPr>
        <p:spPr>
          <a:xfrm>
            <a:off x="0" y="1533960"/>
            <a:ext cx="9372600" cy="1191240"/>
          </a:xfrm>
          <a:prstGeom prst="rect">
            <a:avLst/>
          </a:prstGeom>
          <a:solidFill>
            <a:srgbClr val="a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Calibri"/>
              </a:rPr>
              <a:t>  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Calibri"/>
              </a:rPr>
              <a:t>Резкое побледнение кожных покров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Calibri"/>
              </a:rPr>
              <a:t>Эмоциональное и двигательное возбуждени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Calibri"/>
              </a:rPr>
              <a:t>Неадекватная оценка ситуации и своего состояния.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Calibri"/>
              </a:rPr>
              <a:t>Отсутствие жалоб на боли даже при шокогенных повреждениях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5" name="Rectangle 8"/>
          <p:cNvSpPr/>
          <p:nvPr/>
        </p:nvSpPr>
        <p:spPr>
          <a:xfrm>
            <a:off x="0" y="3237480"/>
            <a:ext cx="93726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                                                                                </a:t>
            </a: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П Е Р В Ы Й   П А Р А Д О К С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В первые 10-15 минут после получения травмы врачи </a:t>
            </a:r>
            <a:r>
              <a:rPr b="0" lang="ru-RU" sz="1400" spc="-1" strike="noStrike">
                <a:solidFill>
                  <a:srgbClr val="003366"/>
                </a:solidFill>
                <a:latin typeface="Calibri"/>
                <a:ea typeface="Calibri"/>
              </a:rPr>
              <a:t>«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Скорой помощи</a:t>
            </a:r>
            <a:r>
              <a:rPr b="0" lang="ru-RU" sz="1400" spc="-1" strike="noStrike">
                <a:solidFill>
                  <a:srgbClr val="003366"/>
                </a:solidFill>
                <a:latin typeface="Calibri"/>
                <a:ea typeface="Calibri"/>
              </a:rPr>
              <a:t>»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 сталкиваются с клиническим парадоксом шока: человек с белым, как полотно лицом возбужден, много говорит и практически не обращает внимания на тяжесть полученной травмы. Более того, у пострадавшего отмечается выраженный подъем артериального давления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Резкая бледность кожных покровов никак не соответствует такому поведению и высокому уровню артериального давления. При том обескровленная, с множеством мелких пупырышков, как при ознобе, кожа (гусиная кожа) очень быстро покрывается липким холодным потом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                                                                                 </a:t>
            </a: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В Т О Р О Й   П А Р А Д О К С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Заключается в том, что из вен начинает течь алая артериальная кровь. Объясняется это просто: при ЦЕНТРАЛИЗАЦИИ КРОВООБРАЩЕНИЯ происходит так называемое шунтирование </a:t>
            </a:r>
            <a:r>
              <a:rPr b="0" lang="ru-RU" sz="1400" spc="-1" strike="noStrike">
                <a:solidFill>
                  <a:srgbClr val="003366"/>
                </a:solidFill>
                <a:latin typeface="Calibri"/>
                <a:ea typeface="Calibri"/>
              </a:rPr>
              <a:t>–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 сбрасывание артериальной крови в венозное русло. Богатая кислородом артериальная кровь, минуя капиллярную сеть многих органов, сразу поступает в вены. Появляется симптом </a:t>
            </a:r>
            <a:r>
              <a:rPr b="0" lang="ru-RU" sz="1400" spc="-1" strike="noStrike">
                <a:solidFill>
                  <a:srgbClr val="003366"/>
                </a:solidFill>
                <a:latin typeface="Calibri"/>
                <a:ea typeface="Calibri"/>
              </a:rPr>
              <a:t>«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алой вены</a:t>
            </a:r>
            <a:r>
              <a:rPr b="0" lang="ru-RU" sz="1400" spc="-1" strike="noStrike">
                <a:solidFill>
                  <a:srgbClr val="003366"/>
                </a:solidFill>
                <a:latin typeface="Calibri"/>
                <a:ea typeface="Calibri"/>
              </a:rPr>
              <a:t>»</a:t>
            </a: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                                                                                 </a:t>
            </a: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Т Р Е Т И Й   П А Р А Д О К С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Calibri"/>
              </a:rPr>
              <a:t>Феномен самообезболивания, когда раненый совершенно не ощущает боли, настолько загадочен и необычен, а его значение так велико в дальнейшем развитии событий, что есть смысл рассказать о нем подробнее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6" name="Дата 8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66FE-32EA-4465-B30B-B754C655B0C1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7" name="Нижний колонтитул 9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81" name="Object 2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3" name="Rectangle 6"/>
          <p:cNvSpPr/>
          <p:nvPr/>
        </p:nvSpPr>
        <p:spPr>
          <a:xfrm>
            <a:off x="0" y="288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  <a:ea typeface="Calibri"/>
              </a:rPr>
              <a:t>ФЕНОМЕН САМООБЕЗБОЛИВАНИ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4" name="Rectangle 7"/>
          <p:cNvSpPr/>
          <p:nvPr/>
        </p:nvSpPr>
        <p:spPr>
          <a:xfrm>
            <a:off x="0" y="1248480"/>
            <a:ext cx="5638680" cy="4961160"/>
          </a:xfrm>
          <a:prstGeom prst="rect">
            <a:avLst/>
          </a:prstGeom>
          <a:solidFill>
            <a:srgbClr val="a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Calibri"/>
              </a:rPr>
              <a:t>С незапамятных времен известны случаи, когда в пылу сражения воины не обращали внимания даже на тяжелые ранения. Веками слагались легенды об их мужестве и самоотверженности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Calibri"/>
              </a:rPr>
              <a:t>Однако и в повседневной жизни нередки такие страшные картины, когда в результате нелепой случайности человек получает тяжелейшие повреждения, вплоть до ампутации конечности, но какое-то время не замечает боли. Более того, в состоянии сильного возбуждения он будет суетлив и словоохотлив. Его порыв в достижении намеченной цели </a:t>
            </a:r>
            <a:r>
              <a:rPr b="1" lang="ru-RU" sz="1600" spc="-1" strike="noStrike">
                <a:solidFill>
                  <a:srgbClr val="003366"/>
                </a:solidFill>
                <a:latin typeface="Calibri"/>
                <a:ea typeface="Calibri"/>
              </a:rPr>
              <a:t>–</a:t>
            </a: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Calibri"/>
              </a:rPr>
              <a:t> не опоздать на службу или на свидание, купить подарок ребенку или ошейник для любимой собачки </a:t>
            </a:r>
            <a:r>
              <a:rPr b="1" lang="ru-RU" sz="1600" spc="-1" strike="noStrike">
                <a:solidFill>
                  <a:srgbClr val="003366"/>
                </a:solidFill>
                <a:latin typeface="Calibri"/>
                <a:ea typeface="Calibri"/>
              </a:rPr>
              <a:t>–</a:t>
            </a: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Calibri"/>
              </a:rPr>
              <a:t> может быть так велик, что потребуются усилия, чтобы удержать пострадавшего на мест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Calibri"/>
              </a:rPr>
              <a:t>Несчастный будет упорно отказываться от помощи, называя тяжелую травму пустяком. И все это может происходить с человеком, внешность которого весьма далека от облика супермена. Правда, хватает такого геройства не более чем на 10-15 минут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5" name="Дата 7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4E04-B9AD-44CB-B003-079D2BCFC1CA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6" name="Нижний колонтитул 8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87" name="Picture 10" descr=""/>
          <p:cNvPicPr/>
          <p:nvPr/>
        </p:nvPicPr>
        <p:blipFill>
          <a:blip r:embed="rId3"/>
          <a:stretch/>
        </p:blipFill>
        <p:spPr>
          <a:xfrm>
            <a:off x="5867280" y="1219320"/>
            <a:ext cx="3359160" cy="190476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11" descr=""/>
          <p:cNvPicPr/>
          <p:nvPr/>
        </p:nvPicPr>
        <p:blipFill>
          <a:blip r:embed="rId4"/>
          <a:stretch/>
        </p:blipFill>
        <p:spPr>
          <a:xfrm>
            <a:off x="5943600" y="3429000"/>
            <a:ext cx="324972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92" name="Object 2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4" name="Rectangle 6"/>
          <p:cNvSpPr/>
          <p:nvPr/>
        </p:nvSpPr>
        <p:spPr>
          <a:xfrm>
            <a:off x="0" y="16704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ПОВРЕЖДЕНИЯ И ТРАВМЫ, ПРИВОДЯЩИЕ К РАЗВИТИЮ ШО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(ШОКОГЕННЫЕ ПОВРЕЖДЕНИЯ)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Отрыв или травматическая ампутация конечносте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Открытые переломы костей конечносте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Перелом костей таза и позвоночни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оникающие ранения грудной клетки и брюшной пол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5" name="Rectangle 7"/>
          <p:cNvSpPr/>
          <p:nvPr/>
        </p:nvSpPr>
        <p:spPr>
          <a:xfrm>
            <a:off x="5029200" y="4583160"/>
            <a:ext cx="4114800" cy="1554120"/>
          </a:xfrm>
          <a:prstGeom prst="rect">
            <a:avLst/>
          </a:prstGeom>
          <a:solidFill>
            <a:srgbClr val="a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Calibri"/>
              </a:rPr>
              <a:t>УМЕНИЕ ПРИНЯТЬ ЧУЖУЮ БОЛЬ И ОБЛЕГЧИТЬ СТРАДАНИЯ </a:t>
            </a:r>
            <a:r>
              <a:rPr b="1" lang="ru-RU" sz="1600" spc="-1" strike="noStrike">
                <a:solidFill>
                  <a:srgbClr val="003366"/>
                </a:solidFill>
                <a:latin typeface="Calibri"/>
                <a:ea typeface="Calibri"/>
              </a:rPr>
              <a:t>–</a:t>
            </a: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Calibri"/>
              </a:rPr>
              <a:t> ЭТО И ЕСТЬ ИСКУССТВО МИЛОСЕРД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Calibri"/>
              </a:rPr>
              <a:t>ОВЛАДЕТЬ ИМ МОЖЕТ КАЖДЫЙ, ЧЬЯ ДУША ДОБРА,  </a:t>
            </a:r>
            <a:r>
              <a:rPr b="1" lang="ru-RU" sz="11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Calibri"/>
              </a:rPr>
              <a:t>А СЕРДЦЕ СПОСОБНО К СОСТРАДАНИЮ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6" name="Дата 7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4C87-32B0-4128-8ACC-6560C80F30BE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7" name="Нижний колонтитул 8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98" name="Picture 10" descr=""/>
          <p:cNvPicPr/>
          <p:nvPr/>
        </p:nvPicPr>
        <p:blipFill>
          <a:blip r:embed="rId3"/>
          <a:stretch/>
        </p:blipFill>
        <p:spPr>
          <a:xfrm>
            <a:off x="685800" y="3581280"/>
            <a:ext cx="413712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02" name="Object 2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4" name="Rectangle 6"/>
          <p:cNvSpPr/>
          <p:nvPr/>
        </p:nvSpPr>
        <p:spPr>
          <a:xfrm>
            <a:off x="0" y="102240"/>
            <a:ext cx="937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66"/>
                </a:solidFill>
                <a:latin typeface="Times New Roman"/>
                <a:ea typeface="Calibri"/>
              </a:rPr>
              <a:t>.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Calibri"/>
              </a:rPr>
              <a:t>ОТРИЦАТЕЛЬНЫЕ МОМЕНТЫ САМООБЕЗБОЛИВАНИЯ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152280" y="1362240"/>
            <a:ext cx="5181840" cy="2228400"/>
          </a:xfrm>
          <a:prstGeom prst="rect">
            <a:avLst/>
          </a:prstGeom>
          <a:solidFill>
            <a:srgbClr val="a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Calibri"/>
              </a:rPr>
              <a:t>Нередки случаи, когда пострадавшие во время катастроф или стихийных бедствий с переломами голеней, ребер и даже ранениями сердца обращались за помощью спустя несколько суток. Естественно, их состояние к этому времени значительно ухудшалось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6" name="Rectangle 8"/>
          <p:cNvSpPr/>
          <p:nvPr/>
        </p:nvSpPr>
        <p:spPr>
          <a:xfrm>
            <a:off x="5334120" y="4147920"/>
            <a:ext cx="3809880" cy="1797480"/>
          </a:xfrm>
          <a:prstGeom prst="rect">
            <a:avLst/>
          </a:prstGeom>
          <a:solidFill>
            <a:srgbClr val="a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Calibri"/>
              </a:rPr>
              <a:t>В СЛУЧАЕ КАТАСТРОФЫ С БОЛЬШИМ ЧИСЛОМ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Calibri"/>
              </a:rPr>
              <a:t>ПОСТРАДАВШИХ НЕОБХОДИМО ОБРАТИТЬ ВНИМАНИ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Calibri"/>
              </a:rPr>
              <a:t>И НА ТЕХ, КТО НЕ ПРЕДЪЯВЛЯЕТ НИКАКИХ ЖАЛОБ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imes New Roman"/>
                <a:ea typeface="Calibri"/>
              </a:rPr>
              <a:t>НО ОЧЕНЬ БЛЕДЕН И ВОЗБУЖДЕН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7" name="Дата 8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C034-8E30-4063-AA82-155339FE49A9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8" name="Нижний колонтитул 9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09" name="Picture 11" descr=""/>
          <p:cNvPicPr/>
          <p:nvPr/>
        </p:nvPicPr>
        <p:blipFill>
          <a:blip r:embed="rId3"/>
          <a:stretch/>
        </p:blipFill>
        <p:spPr>
          <a:xfrm>
            <a:off x="5486400" y="1371600"/>
            <a:ext cx="3657600" cy="243360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12" descr=""/>
          <p:cNvPicPr/>
          <p:nvPr/>
        </p:nvPicPr>
        <p:blipFill>
          <a:blip r:embed="rId4"/>
          <a:stretch/>
        </p:blipFill>
        <p:spPr>
          <a:xfrm>
            <a:off x="762120" y="3889440"/>
            <a:ext cx="3962160" cy="2968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 txBox="1"/>
          <p:nvPr/>
        </p:nvSpPr>
        <p:spPr>
          <a:xfrm>
            <a:off x="853560" y="853560"/>
            <a:ext cx="7741080" cy="126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ОК - ЭТО АКТИВНАЯ ЗАЩИТА ОРГАНИЗМА ОТ АГРЕССИИ СРЕ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14" name="Object 2"/>
          <p:cNvGraphicFramePr/>
          <p:nvPr/>
        </p:nvGraphicFramePr>
        <p:xfrm>
          <a:off x="0" y="0"/>
          <a:ext cx="93488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488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6" name="Rectangle 6"/>
          <p:cNvSpPr/>
          <p:nvPr/>
        </p:nvSpPr>
        <p:spPr>
          <a:xfrm>
            <a:off x="228600" y="-12240"/>
            <a:ext cx="8915400" cy="3080160"/>
          </a:xfrm>
          <a:prstGeom prst="rect">
            <a:avLst/>
          </a:prstGeom>
          <a:solidFill>
            <a:srgbClr val="a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НЕДОПУСТИМО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Извлекать из раны осколки или любые другие предмет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Вправлять в рану выпавшие органы при проникающих ранениях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Calibri"/>
              </a:rPr>
              <a:t>Совмещать костные обломки при открытых переломах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4876920" y="4293720"/>
            <a:ext cx="426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Calibri"/>
              </a:rPr>
              <a:t>Запомните! Немедленное и правильное обезболивание поможет избежать развития конечной стадии шока и предотвратить смерть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8" name="Дата 7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47A2-5F41-4063-BA81-E10B33EC28B4}" type="datetime">
              <a:rPr b="0" lang="ru-RU" sz="1400" spc="-1" strike="noStrike">
                <a:solidFill>
                  <a:srgbClr val="003366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9" name="Нижний колонтитул 8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втор: В.В.Котл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20" name="Picture 10" descr=""/>
          <p:cNvPicPr/>
          <p:nvPr/>
        </p:nvPicPr>
        <p:blipFill>
          <a:blip r:embed="rId3"/>
          <a:stretch/>
        </p:blipFill>
        <p:spPr>
          <a:xfrm>
            <a:off x="990720" y="3505320"/>
            <a:ext cx="380988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21T04:03:01Z</dcterms:modified>
  <cp:revision>9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_MarkAsFinal">
    <vt:bool>1</vt:bool>
  </property>
</Properties>
</file>