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wmf" ContentType="image/x-wmf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6EC9-76F0-4AEF-AED6-62109508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8875-389C-4CEE-8FEA-FF86FBD8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40FB3-9E01-4730-98D8-ADA1168A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BA2B5-31B5-4ECE-94BA-1EE5108C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84BAC-4F83-4579-B844-8C556186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2FEAF-D0C4-4504-B46C-68D5E2FC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8C5E5-30B3-48EC-955E-3A702F0B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BA693-EF05-43C2-8361-18810636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0B1FE-B83A-4F59-95D8-240FAC54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813D7-940F-4000-84E4-ADC10E51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3B248-7AA8-4C9F-AEEE-C91A50E8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884F6-C14B-49B2-85FC-7C50D212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0D53-C740-472B-A1C3-8314206C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BCC60-601C-4467-B018-77675B36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134B7-A113-4382-BDC0-A0E764C3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52C0C-6CF1-4974-9C93-D4BDC608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B784A-A8ED-4441-9D5F-A21EE077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FEABE-2820-4BF4-9A12-0CCB0608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6F8C2-915C-49A8-996C-7F1EAC3D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3C9E3-2959-4BA1-81FD-C634656D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EA158-9B2C-4BF5-82B3-EF16EA33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3CF8E-C46B-4047-99CB-5133D0F7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F0B27-F33F-4FF7-B5B3-CD520E55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AA79-EBB8-446C-8FFD-9E5B94F3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5221E-BD14-4CEC-90DC-F56A7B0F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7A8E0-19E1-4208-8E0E-DBDD07E2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42552-DC7C-4D33-93F9-C84D5F2F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18232-D258-4818-B45A-7F49208A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70896-B813-493D-AE63-69B113EF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90195-5DBE-47F7-8938-BFA90FB7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A0210-0F43-418A-BD29-AF513A26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63419-E84A-41FF-93CB-1FBFBEEC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37E72-CD91-4B30-877A-B2E354B4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31AD0-45BF-474E-9BEE-3957A30A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C024-61CC-4F4E-87CF-26D6589E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6A6B0-95F0-404E-A3A5-D7FF6DBA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BEF94-BD0E-4CE1-B174-A1D1E804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77D49-6ED3-450C-88AE-9AE1034C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2EAA9-4C85-4FBF-A3C8-485151B9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3F848-F579-4218-A5AF-2B84D858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D4F36-6E4A-45D6-A9BE-B1295AAF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AFFC3-4484-40A6-8819-788FC13A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BBBAB-92C3-4540-912A-0F475F04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3D7B2-50D1-4046-813A-D23D95E7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2939F-9759-4972-B69C-13E5A176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1EB4-2BB4-4ED2-82A5-50D49502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B4D94-A243-4A7E-B9F3-34000EC1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D7CFC-B01F-4C46-8948-123FC005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3BC6F-8D54-4B58-924E-E84951FA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25684-3BEE-477D-8D65-4558B2D0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09DB9-2B38-49AE-8811-56DB1121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D4488E-EC65-4391-BD6B-E5030DCA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DB7B11-B1B6-4592-8250-702F73FD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47C24A-FA6C-48F7-BB52-448A4504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D8CEDA-76AB-46C1-A62D-B6CD66B3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7F0D2F-0BEB-46A6-9C72-059BD974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840F-FDD0-4A56-A8C4-CE0428F3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51DA54-6587-4CE9-8CDC-FB1A2E32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D0A7BD-D420-4E1C-B370-88F153AB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9E8830-2DAF-40B7-BE60-1002EDAC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927193-CE28-4940-BB75-EF6F89CA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411C2A-658F-4425-BBF8-F4108282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3728B8-B850-4A39-A357-A2347135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E9595F-2E2F-430C-870B-A65E5A35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436A-7D5B-4AA2-860C-029284D0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BD5F-C796-4D50-BFB9-F83C4C9F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CC6D-8FF1-4671-801B-89BC7964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D9F4-99BB-4BD7-B9E6-BDFF50EF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8664-D89A-4AEE-A86E-80C32684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C3E8-F5D4-4131-8918-87D91ABB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BB13-963A-4521-871A-DCAB90C8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05EA-453B-43CB-8F37-DD38BBB8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ADEE-72BE-4B98-919F-5A0D3B1C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0692-95E0-41AE-9061-D76E97E4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F277B-C099-40B4-A79F-B661EB83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2AAFF-5D48-462F-BBEE-84D9D0F4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C1F7B-D2D2-4780-80BE-2461E991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1DC77-D90C-4D66-8D05-78747FF1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A428B-40C1-406B-901B-CF5D96EB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A9E2-CA34-4234-ABBF-DBFA2DD0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F2B27-3452-4A3C-975D-3F055ACF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6D65E-3367-4091-A664-589CF58A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86958-E503-4718-8829-2C50FBCF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53EE0-72B0-4DC3-96E1-13B7F6EB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D04C0-3B62-4CF6-A4B4-4D799ACE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1132A-6DAD-4C3C-B698-107EE71D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7CBB0-4B01-493B-A479-8A0AFF23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EE9E8-ED29-40BC-A43C-8F9C2380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C01C1-86C8-4EBE-980F-B20C76E9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B6919-31F0-4168-88E6-6B845A3E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4FBA-ADA2-4EF7-8742-3F13B2C6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E95C9-4025-4D64-8A06-82B8DA9D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E826F-B82D-4F8C-8839-37E1684C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EA478-5A68-4291-912C-72F9C26E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50C98-4AC3-48C3-A552-CF0E1D63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B0BB5-9EA9-4BF4-8FB3-7AAAF067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DE48E-1F75-491C-A4E9-7E6287C8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25663-170F-4E7A-A0CC-0925E064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BA770-0EC1-45FD-9F63-3D378568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DAD7D-0F57-4FE0-9834-0662A925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24A59-9213-4FE8-B6B7-0F4E7CE3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3D4A-E613-45B8-A87B-40E8F0CE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71236-557E-4B7A-8D11-377BBC07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EBA51-F6B0-4FE5-AA69-B7F658A8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FCDE0-EA0F-4932-93BF-CF1140EA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DE394-36E7-4CD6-B84B-FCAEEBB5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7D133-00E1-4E8E-8911-0A1AB43D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646E6-4C7A-4480-A08E-44FD6B50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14063-A5C4-4812-AFB6-678F14B4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171DC-3F03-4243-8C41-B516ABBC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42C41-A8CD-48D8-96EC-60F11E3C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1F8D8-C754-4981-BDDB-B1483DA9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D8E5-A224-4D92-AC3B-FD44DC0A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18B0A-1A17-473B-A8D6-B0775B38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330AB-A4B5-444E-82A3-F93B109C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D0644-96D7-4BF7-A33D-73A57F9A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DDD99-B24F-48E5-92BE-AB6C4034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63833-E625-4302-804C-2B706900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7653B-D6F3-4B64-BB4F-EE91F652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25B85-96B1-44E2-93E7-F7D32185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55CD7-CE3F-4568-A4FD-3CB05F34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C6887-F3E8-4C68-9DEB-60449F33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1F069-7DD5-4704-8FDB-C9A58B08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FF44-D716-49E2-BD98-EB7027D4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F6982-3207-49A7-955D-A8FEA32E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C9C98-DD9D-4C08-AA7E-9A446DD4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51F81-38D1-4DEB-9C84-7A699598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40492-8A53-4FE3-A756-9F3ED16C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97821-3216-4480-84F0-9A6DC2C9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DD88A-03F5-4A4A-B6A0-089E39C9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CCE85-1EA3-481E-88B3-CAEBE8BC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EFA8B-1F3A-46D5-8F74-EB09DCE9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F538D-4F02-40AD-98FC-3C45F7A0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22C52-D4BD-47A2-866B-466CDC35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27EB-DFC5-4B1B-9035-C1343787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26D71-A81D-47EC-9AC5-4D3CE1A2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B2D9D-B1CC-4EE4-8E74-A21BBAA6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BC5DD-3DA0-4A03-A542-A851A7C8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BE4AD-F63B-4969-A474-82A17252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099E0-4327-4268-9125-189806EA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92750-2B1B-414B-95C5-7362AE3E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E55AC-F022-4D82-AE74-A6197B4C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3B6CD-95F8-475B-9AF3-526C6BB0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CB51F-984E-43FB-93D0-487DEEC6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522E4-54FE-4EA0-8B5B-E8BE010C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8A90-A259-40A4-8ABF-435C0F8A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648B2-F38B-4787-A4E5-4FD26238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6D12A-8F0A-4086-A909-2947A89D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D7E79-7750-454E-9F79-0CC4B83B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A628A-6051-498F-87FD-1AEB690A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1B3D7-B81A-48DF-8339-4A83CCFC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93265-D603-4EB7-8A41-06F1ECF9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11039-6575-44C2-9F6A-D8D8D23F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8D9C4-AA13-4DEC-85A3-A50266F2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B0C90-477A-4C5B-A90D-C3E3A503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EDA53-CEAB-40CB-B4BA-15C076F8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88E7-7CAE-460A-921C-A60F07D1EBC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2140-3E40-4B5C-AC01-C175FC81F11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3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3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E35E-FE8E-4E3F-ADE7-CB18BD31FD5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9063-AE67-41E9-BF8A-6D613C9E17D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80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81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2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84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9DAE-C475-4069-946F-10E4059A5FD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E3C3-85EF-4F17-86E8-6267F22E8C9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0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3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8642-9D27-452B-9682-B55144D9A42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3643-84C4-4FE6-A4CA-462DF0DB316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7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7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8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3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978E-EE85-41AC-8F34-282BA40181AF}" type="datetime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3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3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C7F4-8BFE-4386-9D22-8677C5FC7FE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B985-9969-4CA1-9804-439648E6723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4FD9-4DDF-4FFE-8FE0-828A1886FC3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8EC6-7A6E-4E40-8446-E17481A4C0F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31FC-7020-449F-8DEA-6F9AE970A6D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4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4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4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9202-9E58-4534-A292-C5B2423F6FC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DB9A-2873-4517-8F76-7F217BCD0F1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9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9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9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91D3-7830-410C-BA1D-B1AE7546390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C935-056B-4067-B478-4D340C965E4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40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41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44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2607-5F14-4D7B-A34E-06AFD09AD3A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7CF2-E697-4148-B9BA-F183D01919C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8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8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0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9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48D1-06DF-4E5C-A6A7-5BF613467B8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961B-7BA8-42D6-99A6-11C29825F40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3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3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4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20C1-62A8-4480-9817-E3BFA18938D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4C4C-1AF2-429D-AF92-D24B3C0EA4B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8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8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8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8361-708E-4D63-9193-4395C02563C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7E07-1497-49BC-86DC-433A13CEA5C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824760" y="824400"/>
            <a:ext cx="79516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МБОУ Зареченская средняя общеобразовательная школа № 2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                                               п.Тоцкое Второе </a:t>
            </a:r>
            <a:br>
              <a:rPr sz="1800"/>
            </a:b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51814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11 класс, урок 24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Преподаватель-организатор ОБ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Котлов Вадим Витальевич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5" name="Дата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FB8D-EC56-47A4-8980-DD10558C7E67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6" name="Нижний колонтитул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27" name="Picture 6" descr=""/>
          <p:cNvPicPr/>
          <p:nvPr/>
        </p:nvPicPr>
        <p:blipFill>
          <a:blip r:embed="rId1"/>
          <a:stretch/>
        </p:blipFill>
        <p:spPr>
          <a:xfrm>
            <a:off x="5867280" y="3048120"/>
            <a:ext cx="2907000" cy="2792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24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6" name="Rectangle 6"/>
          <p:cNvSpPr/>
          <p:nvPr/>
        </p:nvSpPr>
        <p:spPr>
          <a:xfrm>
            <a:off x="0" y="110160"/>
            <a:ext cx="93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ПОНЯТИЕ О КОНЕЧНО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(ТОРПИДНОЙ) СТАДИИ ШО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7" name="Rectangle 7"/>
          <p:cNvSpPr/>
          <p:nvPr/>
        </p:nvSpPr>
        <p:spPr>
          <a:xfrm>
            <a:off x="228600" y="1142640"/>
            <a:ext cx="8915400" cy="338580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Если в течение 30-40 минут пострадавший не получит медицинской помощи, то длительная ЦЕНТРАЛИЗАЦИЯ КРОВООБРАЩЕНИЯ приведет к грубым нарушениям микроциркуляции в почках, коже, кишечнике и других органах, исключенных из кровообращ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Таким образом, то, что играло защитную роль на начальном этапе и давало шанс на спасение, через 30 минут станет причиной смерт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8" name="Rectangle 8"/>
          <p:cNvSpPr/>
          <p:nvPr/>
        </p:nvSpPr>
        <p:spPr>
          <a:xfrm>
            <a:off x="2971800" y="502488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Запомните! Фактор времени в развитии и исходе шока имеет определяющее значени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9" name="Дата 8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4D8C-D4B5-408B-9BDF-EE9F5E531382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0" name="Нижний колонтитул 9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31" name="Picture 11" descr=""/>
          <p:cNvPicPr/>
          <p:nvPr/>
        </p:nvPicPr>
        <p:blipFill>
          <a:blip r:embed="rId3"/>
          <a:stretch/>
        </p:blipFill>
        <p:spPr>
          <a:xfrm>
            <a:off x="7238880" y="45720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12" descr=""/>
          <p:cNvPicPr/>
          <p:nvPr/>
        </p:nvPicPr>
        <p:blipFill>
          <a:blip r:embed="rId4"/>
          <a:stretch/>
        </p:blipFill>
        <p:spPr>
          <a:xfrm>
            <a:off x="304920" y="4648320"/>
            <a:ext cx="2543040" cy="1904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36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8" name="Rectangle 6"/>
          <p:cNvSpPr/>
          <p:nvPr/>
        </p:nvSpPr>
        <p:spPr>
          <a:xfrm>
            <a:off x="-120600" y="119160"/>
            <a:ext cx="938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СХЕМА РАЗВИТИЯ НЕОБРАТИМО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СТАДИИ ШО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Line 8"/>
          <p:cNvSpPr/>
          <p:nvPr/>
        </p:nvSpPr>
        <p:spPr>
          <a:xfrm flipV="1">
            <a:off x="1752480" y="2057040"/>
            <a:ext cx="3668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Rectangle 14"/>
          <p:cNvSpPr/>
          <p:nvPr/>
        </p:nvSpPr>
        <p:spPr>
          <a:xfrm>
            <a:off x="228600" y="1370160"/>
            <a:ext cx="8915400" cy="91692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НЕКРОЗ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АЦИДОЗ           </a:t>
            </a:r>
            <a:r>
              <a:rPr b="1" lang="ru-RU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  (ПС)    </a:t>
            </a:r>
            <a:r>
              <a:rPr b="1" lang="ru-RU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    (ОЦК)    </a:t>
            </a:r>
            <a:r>
              <a:rPr b="1" lang="ru-RU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     (УОС )      </a:t>
            </a:r>
            <a:r>
              <a:rPr b="1" lang="ru-RU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      (АД )     </a:t>
            </a:r>
            <a:r>
              <a:rPr b="1" lang="ru-RU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  СМЕРТЬ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ГИПОКСИ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Rectangle 15"/>
          <p:cNvSpPr/>
          <p:nvPr/>
        </p:nvSpPr>
        <p:spPr>
          <a:xfrm>
            <a:off x="228600" y="259092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ПС 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периферическое сопротивление (тонус прекапилляров)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ОЦК 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объем циркулирующей крови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УОС 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ударный объем сердца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АД 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артериальное давление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743" name="Прямая со стрелкой 16"/>
          <p:cNvCxnSpPr/>
          <p:nvPr/>
        </p:nvCxnSpPr>
        <p:spPr>
          <a:xfrm flipH="1">
            <a:off x="2817000" y="1525320"/>
            <a:ext cx="3960" cy="686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44" name="Прямая со стрелкой 18"/>
          <p:cNvCxnSpPr/>
          <p:nvPr/>
        </p:nvCxnSpPr>
        <p:spPr>
          <a:xfrm flipH="1">
            <a:off x="4190760" y="1601280"/>
            <a:ext cx="2160" cy="608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45" name="Прямая со стрелкой 22"/>
          <p:cNvCxnSpPr/>
          <p:nvPr/>
        </p:nvCxnSpPr>
        <p:spPr>
          <a:xfrm flipH="1">
            <a:off x="5636520" y="1601640"/>
            <a:ext cx="3960" cy="610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46" name="Прямая со стрелкой 24"/>
          <p:cNvCxnSpPr/>
          <p:nvPr/>
        </p:nvCxnSpPr>
        <p:spPr>
          <a:xfrm flipH="1">
            <a:off x="7084800" y="1601640"/>
            <a:ext cx="3600" cy="610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7" name="Дата 25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FF17-1D34-4F94-A47D-86B4446D04F0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Нижний колонтитул 2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49" name="Picture 17" descr=""/>
          <p:cNvPicPr/>
          <p:nvPr/>
        </p:nvPicPr>
        <p:blipFill>
          <a:blip r:embed="rId3"/>
          <a:stretch/>
        </p:blipFill>
        <p:spPr>
          <a:xfrm>
            <a:off x="914400" y="4114800"/>
            <a:ext cx="3809880" cy="252576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8" descr=""/>
          <p:cNvPicPr/>
          <p:nvPr/>
        </p:nvPicPr>
        <p:blipFill>
          <a:blip r:embed="rId4"/>
          <a:stretch/>
        </p:blipFill>
        <p:spPr>
          <a:xfrm>
            <a:off x="5048280" y="3581280"/>
            <a:ext cx="367668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54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Rectangle 6"/>
          <p:cNvSpPr/>
          <p:nvPr/>
        </p:nvSpPr>
        <p:spPr>
          <a:xfrm>
            <a:off x="0" y="326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ПРИЗНАКИ ТОРПИДНОЙ СТАДИИ ШО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Прямоугольник 6"/>
          <p:cNvSpPr/>
          <p:nvPr/>
        </p:nvSpPr>
        <p:spPr>
          <a:xfrm>
            <a:off x="304920" y="838080"/>
            <a:ext cx="8839080" cy="366012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Двигательное и эмоциональное возбуждение первой фазы шока уже через 30-40 минут сменяется апатией и равнодушием. Уровень артериального давления понижается до 30-60 мм рт. ст. Кожа приобретает землистый оттенок с характерными малиновыми и серовато-зеленоватыми разводами. Их причудливый рисунок настолько напоминает мрамор, что возник даже термин  МРАМОРНОСТЬ КОЖИ. Этот рисунок наиболее ярко выражен на коже живота и передней поверхности бедер.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Потеря жидкости с обильным потом и перераспределение плазмы из кровеносного русла в межклеточные пространства тканей вызывает значительное сгущение крови. Эритроциты начинают выстраиваться в капиллярах в виде монетных столбиков, полностью заполняя их просвет, и склеиваться между собой бесчисленным множеством  тончайших, подобных тине, нитей ФИБРИНА. Начинается процесс ТРОМБООБРАЗОВАНИЯ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Дата 7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3416-84C5-46AD-B07B-BFAAE3B32156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Нижний колонтитул 8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0" name="Picture 10" descr=""/>
          <p:cNvPicPr/>
          <p:nvPr/>
        </p:nvPicPr>
        <p:blipFill>
          <a:blip r:embed="rId3"/>
          <a:stretch/>
        </p:blipFill>
        <p:spPr>
          <a:xfrm>
            <a:off x="380880" y="4800600"/>
            <a:ext cx="2971800" cy="192888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11" descr=""/>
          <p:cNvPicPr/>
          <p:nvPr/>
        </p:nvPicPr>
        <p:blipFill>
          <a:blip r:embed="rId4"/>
          <a:stretch/>
        </p:blipFill>
        <p:spPr>
          <a:xfrm>
            <a:off x="3581280" y="4800600"/>
            <a:ext cx="2543400" cy="190512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12" descr=""/>
          <p:cNvPicPr/>
          <p:nvPr/>
        </p:nvPicPr>
        <p:blipFill>
          <a:blip r:embed="rId5"/>
          <a:stretch/>
        </p:blipFill>
        <p:spPr>
          <a:xfrm>
            <a:off x="6324480" y="4800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66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8" name="Rectangle 6"/>
          <p:cNvSpPr/>
          <p:nvPr/>
        </p:nvSpPr>
        <p:spPr>
          <a:xfrm>
            <a:off x="228600" y="466200"/>
            <a:ext cx="8915400" cy="265356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ПРИЗНАКИ ЗАКЛЮЧИТЕЛЬНОЙ СТАДИИ ШО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Заторможенность и апат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Появление на коже мраморного рисун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Снижение температуры тела и артериального давл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Заострение черт лиц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Полное прекращение выделения моч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Дата 6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A08C-66DD-4D20-AFEE-48A45C8735E9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Нижний колонтитул 7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71" name="Picture 9" descr=""/>
          <p:cNvPicPr/>
          <p:nvPr/>
        </p:nvPicPr>
        <p:blipFill>
          <a:blip r:embed="rId3"/>
          <a:stretch/>
        </p:blipFill>
        <p:spPr>
          <a:xfrm>
            <a:off x="2057400" y="3352680"/>
            <a:ext cx="4724280" cy="2679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75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7" name="Rectangle 6"/>
          <p:cNvSpPr/>
          <p:nvPr/>
        </p:nvSpPr>
        <p:spPr>
          <a:xfrm>
            <a:off x="4038480" y="357480"/>
            <a:ext cx="5105520" cy="66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Ш О К О В О Е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Л Е Г К О 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Сброс венозной крови в артериальное русло, минуя альвеолярную сеть, без должного насыщения кислородом, приводит к изъятию из газообмена огромного числа альвеол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–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легочных пузырьков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вается состояние острой дыхательной недостаточности: появляются одышка, посинение губ и кончиков пальцев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Дата 6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0847-D0DC-45FD-A7D9-54006E46B657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Нижний колонтитул 7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80" name="Picture 9" descr=""/>
          <p:cNvPicPr/>
          <p:nvPr/>
        </p:nvPicPr>
        <p:blipFill>
          <a:blip r:embed="rId3"/>
          <a:stretch/>
        </p:blipFill>
        <p:spPr>
          <a:xfrm>
            <a:off x="228600" y="2133720"/>
            <a:ext cx="346248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84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6" name="Rectangle 6"/>
          <p:cNvSpPr/>
          <p:nvPr/>
        </p:nvSpPr>
        <p:spPr>
          <a:xfrm>
            <a:off x="3657600" y="699120"/>
            <a:ext cx="54864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Ш О К О В А Я   П О Ч К 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Длительное исключение капиллярной сети почек из кровообращения приводит к острой почечной недостаточности и накоплению в крови токсичных веществ, к уменьшению выделения мочи, вплоть до развития Анурии (полного прекращения выделения мочи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Дата 6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88BF-F93E-47A6-8703-22A259A983CF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8" name="Нижний колонтитул 7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89" name="Picture 9" descr=""/>
          <p:cNvPicPr/>
          <p:nvPr/>
        </p:nvPicPr>
        <p:blipFill>
          <a:blip r:embed="rId3"/>
          <a:stretch/>
        </p:blipFill>
        <p:spPr>
          <a:xfrm>
            <a:off x="152280" y="1066680"/>
            <a:ext cx="3498840" cy="236232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10" descr=""/>
          <p:cNvPicPr/>
          <p:nvPr/>
        </p:nvPicPr>
        <p:blipFill>
          <a:blip r:embed="rId4"/>
          <a:stretch/>
        </p:blipFill>
        <p:spPr>
          <a:xfrm>
            <a:off x="228600" y="3657600"/>
            <a:ext cx="3429000" cy="2281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94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6" name="Rectangle 6"/>
          <p:cNvSpPr/>
          <p:nvPr/>
        </p:nvSpPr>
        <p:spPr>
          <a:xfrm>
            <a:off x="0" y="498600"/>
            <a:ext cx="9144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Ш О К О В А Я    П Е Ч Е Н 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ражение обескровленных тканей печени оборачивается грубым нарушением ее защитных функций, что обязательно вызовет острую печеночную недостаточность и быстрое накопление в крови крайне токсичных продуктов обмен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Дата 6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321F-8D59-477B-9615-9F5285A211D8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Нижний колонтитул 7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99" name="Picture 9" descr=""/>
          <p:cNvPicPr/>
          <p:nvPr/>
        </p:nvPicPr>
        <p:blipFill>
          <a:blip r:embed="rId3"/>
          <a:stretch/>
        </p:blipFill>
        <p:spPr>
          <a:xfrm>
            <a:off x="533520" y="3505320"/>
            <a:ext cx="4038480" cy="2619360"/>
          </a:xfrm>
          <a:prstGeom prst="rect">
            <a:avLst/>
          </a:prstGeom>
          <a:ln w="0">
            <a:noFill/>
          </a:ln>
        </p:spPr>
      </p:pic>
      <p:sp>
        <p:nvSpPr>
          <p:cNvPr id="800" name="Стрелка влево 9"/>
          <p:cNvSpPr/>
          <p:nvPr/>
        </p:nvSpPr>
        <p:spPr>
          <a:xfrm>
            <a:off x="3809880" y="4724280"/>
            <a:ext cx="5181840" cy="609840"/>
          </a:xfrm>
          <a:prstGeom prst="leftArrow">
            <a:avLst>
              <a:gd name="adj1" fmla="val 50000"/>
              <a:gd name="adj2" fmla="val 49999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стая центральная ве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804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6" name="Rectangle 6"/>
          <p:cNvSpPr/>
          <p:nvPr/>
        </p:nvSpPr>
        <p:spPr>
          <a:xfrm>
            <a:off x="4114800" y="1110960"/>
            <a:ext cx="5029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СПАСЕНИЕ ПОСТРАДАВШИХ ВОЗМОЖН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ТОЛЬКО В УСЛОВИЯХ РЕАНИМАЦИОННОГО ОТДЕЛЕНИЯ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ГДЕ ПРИМЕНЯЮТ АППАРАТЫ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СКУССТВЕННАЯ ПОЧКА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, ИСКУССТВЕННОЙ ВЕНТИЛЯЦИИ ЛЁГКИ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 МОНИТОРЫ ПОСТОЯННОГО НАБЛЮД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 ФУНКЦИЯМИ ОРГАНИЗМ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7" name="Дата 6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C0D3-852F-4D3A-A677-229DDFB5557D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Нижний колонтитул 7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09" name="Picture 9" descr=""/>
          <p:cNvPicPr/>
          <p:nvPr/>
        </p:nvPicPr>
        <p:blipFill>
          <a:blip r:embed="rId3"/>
          <a:stretch/>
        </p:blipFill>
        <p:spPr>
          <a:xfrm>
            <a:off x="0" y="1676520"/>
            <a:ext cx="4054320" cy="3276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813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6"/>
          <p:cNvSpPr/>
          <p:nvPr/>
        </p:nvSpPr>
        <p:spPr>
          <a:xfrm>
            <a:off x="932040" y="263160"/>
            <a:ext cx="727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СПОСОБЫ ОБЕЗБОЛИВАНИЯ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ПРИ ТРАВМАТИЧЕСКОМ ШОК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228600" y="1369080"/>
            <a:ext cx="8915400" cy="375300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Наиболее эффективны для обезболивания </a:t>
            </a:r>
            <a:r>
              <a:rPr b="1" lang="ru-RU" sz="20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 наркотические анальгетики: ПРОМЕДОЛ, МОРФИН, ОМНОПОН, ФЕНТАНИ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Единственное, что никогда не следует забывать, </a:t>
            </a:r>
            <a:r>
              <a:rPr b="1" lang="ru-RU" sz="20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 все они вызывают угнетение дыхательного центра. По этой причине их не назначают детям до 5 лет и с большой осторожностью применяют для обезболивания взрослы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Необходимо также учитывать и другое побочное действие наркотических анальгетиков </a:t>
            </a:r>
            <a:r>
              <a:rPr b="1" lang="ru-RU" sz="20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 появление тошноты и многократной рвоты. Для устранения этих нежелательных осложнений подкожно вводят 0,5 мл 0,1%-ного раствора АТРОПИН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Достаточно эффективного обезболивания достигают, применяя большие дозы АНАЛЬГИНА (до четырех таблеток для взрослого человека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7" name="Rectangle 8"/>
          <p:cNvSpPr/>
          <p:nvPr/>
        </p:nvSpPr>
        <p:spPr>
          <a:xfrm>
            <a:off x="0" y="5820120"/>
            <a:ext cx="5867280" cy="642600"/>
          </a:xfrm>
          <a:prstGeom prst="rect">
            <a:avLst/>
          </a:prstGeom>
          <a:solidFill>
            <a:srgbClr val="005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к крайнее средство можно рекомендовать алкоголь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8" name="Дата 8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2A00-FDD3-4668-86CB-3605C81CF3A0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9" name="Нижний колонтитул 9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20" name="Picture 11" descr=""/>
          <p:cNvPicPr/>
          <p:nvPr/>
        </p:nvPicPr>
        <p:blipFill>
          <a:blip r:embed="rId3"/>
          <a:stretch/>
        </p:blipFill>
        <p:spPr>
          <a:xfrm>
            <a:off x="6095880" y="51814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824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6" name="Rectangle 6"/>
          <p:cNvSpPr/>
          <p:nvPr/>
        </p:nvSpPr>
        <p:spPr>
          <a:xfrm>
            <a:off x="0" y="141120"/>
            <a:ext cx="91440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СХЕМА ОКАЗАНИЯ ПЕРВОЙ ПОМОЩИ ПРИ ТРАВМАТИЧЕСКОМ ШОК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 кровотечении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–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немедленно наложить кровоостанавливающие жгуты или тугие давящие повязк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 переломах костей конечностей, таза и ребер, проникающих ранениях грудной клетки и брюшной полости тщательно обезболить пострадавшего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работать раны и наложить стерильные повязк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ложить транспортные шины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ызвать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Скорую помощь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7" name="Дата 6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D528-5FE5-417E-8B72-05644EBB7808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8" name="Нижний колонтитул 7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31" name="Object 5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Rectangle 6"/>
          <p:cNvSpPr/>
          <p:nvPr/>
        </p:nvSpPr>
        <p:spPr>
          <a:xfrm>
            <a:off x="0" y="-16200"/>
            <a:ext cx="9372600" cy="1556280"/>
          </a:xfrm>
          <a:prstGeom prst="rect">
            <a:avLst/>
          </a:prstGeom>
          <a:gradFill rotWithShape="0">
            <a:gsLst>
              <a:gs pos="0">
                <a:srgbClr val="bff0bf"/>
              </a:gs>
              <a:gs pos="100000">
                <a:srgbClr val="edfbed"/>
              </a:gs>
            </a:gsLst>
            <a:lin ang="16200000"/>
          </a:gradFill>
          <a:ln w="9360">
            <a:solidFill>
              <a:srgbClr val="86b68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ШОК - ЭТО АКТИВНАЯ ЗАЩИТА ОРГАНИЗМА ОТ АГРЕССИИ СРЕД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4" name="Rectangle 7"/>
          <p:cNvSpPr/>
          <p:nvPr/>
        </p:nvSpPr>
        <p:spPr>
          <a:xfrm>
            <a:off x="380880" y="2130840"/>
            <a:ext cx="4191120" cy="4362840"/>
          </a:xfrm>
          <a:prstGeom prst="rect">
            <a:avLst/>
          </a:prstGeom>
          <a:gradFill rotWithShape="0">
            <a:gsLst>
              <a:gs pos="0">
                <a:srgbClr val="bff0bf"/>
              </a:gs>
              <a:gs pos="100000">
                <a:srgbClr val="edfbed"/>
              </a:gs>
            </a:gsLst>
            <a:lin ang="16200000"/>
          </a:gradFill>
          <a:ln w="9360">
            <a:solidFill>
              <a:srgbClr val="86b68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Пусковыми моментами шока являются сильная боль и страх смерти, психическое напряжение и стресс, которые неизбежны в момент нанесения травм и повреждени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Экстремальная ситуация уже сама по себе провоцирует развитие шока. Когда человек сталкивается с угрозой смерти, </a:t>
            </a:r>
            <a:r>
              <a:rPr b="0" lang="ru-RU" sz="20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 будь то несчастный случай или боевые действия, </a:t>
            </a:r>
            <a:r>
              <a:rPr b="0" lang="ru-RU" sz="20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 его организм в состоянии стресса выделяет </a:t>
            </a:r>
            <a:r>
              <a:rPr b="1" i="1" lang="ru-RU" sz="2000" spc="-1" strike="noStrike" u="sng">
                <a:solidFill>
                  <a:srgbClr val="003366"/>
                </a:solidFill>
                <a:uFillTx/>
                <a:latin typeface="Times New Roman"/>
                <a:ea typeface="Calibri"/>
              </a:rPr>
              <a:t>огромное количество адреналина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5" name="Rectangle 8"/>
          <p:cNvSpPr/>
          <p:nvPr/>
        </p:nvSpPr>
        <p:spPr>
          <a:xfrm>
            <a:off x="4876920" y="5272920"/>
            <a:ext cx="3886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Запомните! Колоссальный выброс адреналина вызывает резкий спазм прекапилляров кожи, почек, печени 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кишечни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Дата 8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58CD-F358-4FCC-BEFE-4C3E81D9F9D9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7" name="Нижний колонтитул 9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38" name="Picture 12" descr=""/>
          <p:cNvPicPr/>
          <p:nvPr/>
        </p:nvPicPr>
        <p:blipFill>
          <a:blip r:embed="rId3"/>
          <a:stretch/>
        </p:blipFill>
        <p:spPr>
          <a:xfrm>
            <a:off x="5257800" y="18288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832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4" name="Rectangle 6"/>
          <p:cNvSpPr/>
          <p:nvPr/>
        </p:nvSpPr>
        <p:spPr>
          <a:xfrm>
            <a:off x="228600" y="18684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АЛГОРИТМ ОКАЗАНИЯ ПОМОЩИ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ПРИ ТРАВМАТИЧЕСКОМ ШОК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5" name="Rectangle 7"/>
          <p:cNvSpPr/>
          <p:nvPr/>
        </p:nvSpPr>
        <p:spPr>
          <a:xfrm>
            <a:off x="0" y="1082160"/>
            <a:ext cx="9144000" cy="66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539640" tIns="539640" bIns="53964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Уложить на спину и обеспечить поко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ложить жгут при артериальном кровотечени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поднять ноги при кровотечении или ранениях живот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 переломах наложить шины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езболить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ложить на раны повязк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чать ингаляцию кислород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ызвать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Скорую  помощь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язательно доставить  в больницу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Дата 7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FF89-3C1B-4522-836B-81F17D3414CA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7" name="Нижний колонтитул 8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1197000" y="435240"/>
            <a:ext cx="7054200" cy="59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РИ ЗАПОВЕДИ: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КАК НЕ НАВРЕДИТЬ ПОСТРАДАВШЕМУ В СОСТОЯНИИ ШОКА</a:t>
            </a:r>
            <a:br>
              <a:rPr sz="3200"/>
            </a:br>
            <a:br>
              <a:rPr sz="2400"/>
            </a:br>
            <a:br>
              <a:rPr sz="18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ЗАПОВЕДЬ ПЕРВАЯ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НЕ ТРЕВОЖЬ ПОНАПРАСНУ ПОСТРАДАВШЕГО: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ЛЮБОЕ ДВИЖЕНИЕ ПРИЧИНЯЕТ ЕМУ МУЧИТЕЛЬНУЮ БОЛЬ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(Перемещать пострадавшего можно только после иммобилизации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поврежденных конечностей и обязательно на носилках.)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ЗАПОВЕДЬ ВТОРАЯ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ПРОЯВИ ВНИМАНИЕ К КАЖДОМУ ЧЕЛОВЕКУ, ПОСТРАДАВШЕМУ В КАТАСТРОФЕ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ИЛИ ПРИ НЕСЧАСТНОМ СЛУЧАЕ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(Тем более если у него бледный вид, и он эмоционально возбужден.)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ЗАПОВЕДЬ ТРЕТЬЯ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НЕ МЕДЛИ С НАЛОЖЕНИЕМ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КРОВООСТАНАВЛИВАЮЩИХ ЖГУТОВ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(Потеря каждой секунды может привести к невосполнимой кровопотере.)</a:t>
            </a:r>
            <a:br>
              <a:rPr sz="1600"/>
            </a:b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9" name="Дата 2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FEDC-5324-445A-80AA-67D85AD2C393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0" name="Нижний колонтитул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Arial"/>
              </a:rPr>
              <a:t>БУДЬТЕ  ЗДОРОВЫ!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2" name="Дата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7923-CF21-44CD-A3D9-5AD8A39A5DE8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3" name="Нижний колонтитул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4" name="Picture 6" descr=""/>
          <p:cNvPicPr/>
          <p:nvPr/>
        </p:nvPicPr>
        <p:blipFill>
          <a:blip r:embed="rId1"/>
          <a:stretch/>
        </p:blipFill>
        <p:spPr>
          <a:xfrm>
            <a:off x="2590920" y="2662200"/>
            <a:ext cx="4419360" cy="3297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42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4" name="Rectangle 6"/>
          <p:cNvSpPr/>
          <p:nvPr/>
        </p:nvSpPr>
        <p:spPr>
          <a:xfrm>
            <a:off x="0" y="373320"/>
            <a:ext cx="93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ШОК - ЭТО КОМПЛЕКС ОТВЕТНЫХ РЕАКЦИЙ ОРГАНИЗМА,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  <a:ea typeface="Calibri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НАПРАВЛЕННЫХ НА ДОСТИЖЕНИЕ ОДНОЙ ЦЕЛИ - ВЫЖИТЬ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4572000" y="51325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Запомните! Только за счет спазма сосудов кожи и ее исключения из кровообращения компенсируется  потеря 1,5-2 литров кров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0" y="2009520"/>
            <a:ext cx="4800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ждый знает, как легко пугливая ящерица в минуту, опасности расстается со своим хвостом, а из сохранившейся культи не выделяется ни единой капли крови - настолько сильно спазмированы сосуды при испуг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оль хвоста ящерицы в нашем организме играют кожа, почки, кишечник и т.п. В минуту смертельной опасности, когда нет настоятельной необходимости в полном объеме их функций, эти органы приносятся в жертву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7" name="Дата 12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668F-4758-4240-9E51-01240A074187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Нижний колонтитул 1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49" name="Picture 11" descr=""/>
          <p:cNvPicPr/>
          <p:nvPr/>
        </p:nvPicPr>
        <p:blipFill>
          <a:blip r:embed="rId3"/>
          <a:stretch/>
        </p:blipFill>
        <p:spPr>
          <a:xfrm>
            <a:off x="4892760" y="1981080"/>
            <a:ext cx="425124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838080" y="4040280"/>
          <a:ext cx="3770280" cy="368280"/>
        </p:xfrm>
        <a:graphic>
          <a:graphicData uri="http://schemas.openxmlformats.org/drawingml/2006/table">
            <a:tbl>
              <a:tblPr/>
              <a:tblGrid>
                <a:gridCol w="3770280"/>
              </a:tblGrid>
              <a:tr h="36828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СТРАХ                                              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СТРЕСС </a:t>
                      </a: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 АДРЕНАЛИН </a:t>
                      </a: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 (ПС) </a:t>
                      </a: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      (ОЦК )      </a:t>
                      </a: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      (УОС)  </a:t>
                      </a: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           (АД)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БОЛЬ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2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53" name="Object 2"/>
          <p:cNvGraphicFramePr/>
          <p:nvPr/>
        </p:nvGraphicFramePr>
        <p:xfrm>
          <a:off x="0" y="-15228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228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Rectangle 13"/>
          <p:cNvSpPr/>
          <p:nvPr/>
        </p:nvSpPr>
        <p:spPr>
          <a:xfrm>
            <a:off x="0" y="1971000"/>
            <a:ext cx="64771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539640" tIns="539640" bIns="539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ПС 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периферическое сопротивлени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(тонус прекапилляров)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ОЦК 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объем циркулирующей кров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УОС 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ударный объем сердц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АД 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артериальное давле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6" name="Rectangle 14"/>
          <p:cNvSpPr/>
          <p:nvPr/>
        </p:nvSpPr>
        <p:spPr>
          <a:xfrm>
            <a:off x="0" y="2653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СХЕМА ПЕРВЫХ МИНУТ РАЗВИТИЯ ШО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(ЦЕНТРАЛИЗАЦИЯ КРОВООБРАЩЕНИЯ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7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8" name="Rectangle 22"/>
          <p:cNvSpPr/>
          <p:nvPr/>
        </p:nvSpPr>
        <p:spPr>
          <a:xfrm>
            <a:off x="0" y="1810080"/>
            <a:ext cx="9144000" cy="100872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СТРАХ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СТРЕС          АДРЕНАЛИН </a:t>
            </a:r>
            <a:r>
              <a:rPr b="1" lang="ru-RU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     (ПС) </a:t>
            </a:r>
            <a:r>
              <a:rPr b="1" lang="ru-RU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      (ОЦК )      </a:t>
            </a:r>
            <a:r>
              <a:rPr b="1" lang="ru-RU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     (УОС)  </a:t>
            </a:r>
            <a:r>
              <a:rPr b="1" lang="ru-RU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  (АД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БОЛЬ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9" name="Правая фигурная скобка 24"/>
          <p:cNvSpPr/>
          <p:nvPr/>
        </p:nvSpPr>
        <p:spPr>
          <a:xfrm>
            <a:off x="990720" y="1828800"/>
            <a:ext cx="304560" cy="99072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990720"/>
              <a:gd name="textAreaBottom" fmla="*/ 9828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7"/>
                  <a:pt x="10800" y="554"/>
                </a:cubicBezTo>
                <a:lnTo>
                  <a:pt x="10800" y="10246"/>
                </a:lnTo>
                <a:cubicBezTo>
                  <a:pt x="10800" y="10523"/>
                  <a:pt x="16200" y="10800"/>
                  <a:pt x="21600" y="10800"/>
                </a:cubicBezTo>
                <a:cubicBezTo>
                  <a:pt x="16200" y="10800"/>
                  <a:pt x="10800" y="11077"/>
                  <a:pt x="10800" y="11354"/>
                </a:cubicBezTo>
                <a:lnTo>
                  <a:pt x="10800" y="21046"/>
                </a:lnTo>
                <a:cubicBezTo>
                  <a:pt x="10800" y="21323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660" name="Прямая со стрелкой 26"/>
          <p:cNvCxnSpPr/>
          <p:nvPr/>
        </p:nvCxnSpPr>
        <p:spPr>
          <a:xfrm flipV="1">
            <a:off x="3578760" y="1982520"/>
            <a:ext cx="396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1" name="Прямая со стрелкой 30"/>
          <p:cNvCxnSpPr/>
          <p:nvPr/>
        </p:nvCxnSpPr>
        <p:spPr>
          <a:xfrm flipV="1">
            <a:off x="4876920" y="1980360"/>
            <a:ext cx="2160" cy="762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2" name="Прямая со стрелкой 32"/>
          <p:cNvCxnSpPr/>
          <p:nvPr/>
        </p:nvCxnSpPr>
        <p:spPr>
          <a:xfrm flipV="1">
            <a:off x="6019920" y="1904760"/>
            <a:ext cx="2160" cy="838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3" name="Прямая со стрелкой 34"/>
          <p:cNvCxnSpPr/>
          <p:nvPr/>
        </p:nvCxnSpPr>
        <p:spPr>
          <a:xfrm flipV="1">
            <a:off x="7695000" y="1904760"/>
            <a:ext cx="2520" cy="838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4" name="Прямая со стрелкой 41"/>
          <p:cNvCxnSpPr/>
          <p:nvPr/>
        </p:nvCxnSpPr>
        <p:spPr>
          <a:xfrm flipV="1">
            <a:off x="8913960" y="1906200"/>
            <a:ext cx="3600" cy="838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65" name="Дата 42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7F2E-33F4-4846-8DB3-4610D67194E7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6" name="Нижний колонтитул 4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67" name="Picture 11" descr=""/>
          <p:cNvPicPr/>
          <p:nvPr/>
        </p:nvPicPr>
        <p:blipFill>
          <a:blip r:embed="rId3"/>
          <a:stretch/>
        </p:blipFill>
        <p:spPr>
          <a:xfrm>
            <a:off x="5715000" y="3048120"/>
            <a:ext cx="2922480" cy="2746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71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Rectangle 6"/>
          <p:cNvSpPr/>
          <p:nvPr/>
        </p:nvSpPr>
        <p:spPr>
          <a:xfrm>
            <a:off x="0" y="12600"/>
            <a:ext cx="929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ПЕРВЫЕ ПРИЗНАКИ ШО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(ПАРАДОКСЫ ШОКА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0" y="1533960"/>
            <a:ext cx="9372600" cy="119124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 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Резкое побледнение кожных покров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Эмоциональное и двигательное возбуждени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Неадекватная оценка ситуации и своего состояния.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Отсутствие жалоб на боли даже при шокогенных повреждениях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5" name="Rectangle 8"/>
          <p:cNvSpPr/>
          <p:nvPr/>
        </p:nvSpPr>
        <p:spPr>
          <a:xfrm>
            <a:off x="0" y="3237480"/>
            <a:ext cx="93726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                                                                                </a:t>
            </a: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П Е Р В Ы Й   П А Р А Д О К С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В первые 10-15 минут после получения травмы врачи </a:t>
            </a:r>
            <a:r>
              <a:rPr b="0" lang="ru-RU" sz="1400" spc="-1" strike="noStrike">
                <a:solidFill>
                  <a:srgbClr val="003366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Скорой помощи</a:t>
            </a:r>
            <a:r>
              <a:rPr b="0" lang="ru-RU" sz="1400" spc="-1" strike="noStrike">
                <a:solidFill>
                  <a:srgbClr val="003366"/>
                </a:solidFill>
                <a:latin typeface="Calibri"/>
                <a:ea typeface="Calibri"/>
              </a:rPr>
              <a:t>»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 сталкиваются с клиническим парадоксом шока: человек с белым, как полотно лицом возбужден, много говорит и практически не обращает внимания на тяжесть полученной травмы. Более того, у пострадавшего отмечается выраженный подъем артериального давления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Резкая бледность кожных покровов никак не соответствует такому поведению и высокому уровню артериального давления. При том обескровленная, с множеством мелких пупырышков, как при ознобе, кожа (гусиная кожа) очень быстро покрывается липким холодным потом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                                                                                 </a:t>
            </a: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В Т О Р О Й   П А Р А Д О К С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Заключается в том, что из вен начинает течь алая артериальная кровь. Объясняется это просто: при ЦЕНТРАЛИЗАЦИИ КРОВООБРАЩЕНИЯ происходит так называемое шунтирование </a:t>
            </a:r>
            <a:r>
              <a:rPr b="0" lang="ru-RU" sz="14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 сбрасывание артериальной крови в венозное русло. Богатая кислородом артериальная кровь, минуя капиллярную сеть многих органов, сразу поступает в вены. Появляется симптом </a:t>
            </a:r>
            <a:r>
              <a:rPr b="0" lang="ru-RU" sz="1400" spc="-1" strike="noStrike">
                <a:solidFill>
                  <a:srgbClr val="003366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алой вены</a:t>
            </a:r>
            <a:r>
              <a:rPr b="0" lang="ru-RU" sz="1400" spc="-1" strike="noStrike">
                <a:solidFill>
                  <a:srgbClr val="003366"/>
                </a:solidFill>
                <a:latin typeface="Calibri"/>
                <a:ea typeface="Calibri"/>
              </a:rPr>
              <a:t>»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                                                                                 </a:t>
            </a: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Т Р Е Т И Й   П А Р А Д О К С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Феномен самообезболивания, когда раненый совершенно не ощущает боли, настолько загадочен и необычен, а его значение так велико в дальнейшем развитии событий, что есть смысл рассказать о нем подробнее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6" name="Дата 8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9B2D-864B-4639-9A22-36358C80CB5A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7" name="Нижний колонтитул 9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81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Rectangle 6"/>
          <p:cNvSpPr/>
          <p:nvPr/>
        </p:nvSpPr>
        <p:spPr>
          <a:xfrm>
            <a:off x="0" y="288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Calibri"/>
              </a:rPr>
              <a:t>ФЕНОМЕН САМООБЕЗБОЛИВАНИ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0" y="1248480"/>
            <a:ext cx="5638680" cy="496116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С незапамятных времен известны случаи, когда в пылу сражения воины не обращали внимания даже на тяжелые ранения. Веками слагались легенды об их мужестве и самоотверженности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Однако и в повседневной жизни нередки такие страшные картины, когда в результате нелепой случайности человек получает тяжелейшие повреждения, вплоть до ампутации конечности, но какое-то время не замечает боли. Более того, в состоянии сильного возбуждения он будет суетлив и словоохотлив. Его порыв в достижении намеченной цели </a:t>
            </a:r>
            <a:r>
              <a:rPr b="1" lang="ru-RU" sz="16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 не опоздать на службу или на свидание, купить подарок ребенку или ошейник для любимой собачки </a:t>
            </a:r>
            <a:r>
              <a:rPr b="1" lang="ru-RU" sz="16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 может быть так велик, что потребуются усилия, чтобы удержать пострадавшего на мест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Несчастный будет упорно отказываться от помощи, называя тяжелую травму пустяком. И все это может происходить с человеком, внешность которого весьма далека от облика супермена. Правда, хватает такого геройства не более чем на 10-15 минут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5" name="Дата 7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D410-3898-45D2-AC67-9EC4486F0378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6" name="Нижний колонтитул 8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87" name="Picture 10" descr=""/>
          <p:cNvPicPr/>
          <p:nvPr/>
        </p:nvPicPr>
        <p:blipFill>
          <a:blip r:embed="rId3"/>
          <a:stretch/>
        </p:blipFill>
        <p:spPr>
          <a:xfrm>
            <a:off x="5867280" y="1219320"/>
            <a:ext cx="3359160" cy="190476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11" descr=""/>
          <p:cNvPicPr/>
          <p:nvPr/>
        </p:nvPicPr>
        <p:blipFill>
          <a:blip r:embed="rId4"/>
          <a:stretch/>
        </p:blipFill>
        <p:spPr>
          <a:xfrm>
            <a:off x="5943600" y="3429000"/>
            <a:ext cx="324972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92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4" name="Rectangle 6"/>
          <p:cNvSpPr/>
          <p:nvPr/>
        </p:nvSpPr>
        <p:spPr>
          <a:xfrm>
            <a:off x="0" y="16704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ПОВРЕЖДЕНИЯ И ТРАВМЫ, ПРИВОДЯЩИЕ К РАЗВИТИЮ ШО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(ШОКОГЕННЫЕ ПОВРЕЖДЕНИЯ)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трыв или травматическая ампутация конечност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ткрытые переломы костей конечност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ерелом костей таза и позвоночн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оникающие ранения грудной клетки и брюшной пол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5" name="Rectangle 7"/>
          <p:cNvSpPr/>
          <p:nvPr/>
        </p:nvSpPr>
        <p:spPr>
          <a:xfrm>
            <a:off x="5029200" y="4583160"/>
            <a:ext cx="4114800" cy="155412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УМЕНИЕ ПРИНЯТЬ ЧУЖУЮ БОЛЬ И ОБЛЕГЧИТЬ СТРАДАНИЯ </a:t>
            </a:r>
            <a:r>
              <a:rPr b="1" lang="ru-RU" sz="16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 ЭТО И ЕСТЬ ИСКУССТВО МИЛОСЕРД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ОВЛАДЕТЬ ИМ МОЖЕТ КАЖДЫЙ, ЧЬЯ ДУША ДОБРА,  </a:t>
            </a: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А СЕРДЦЕ СПОСОБНО К СОСТРАДАНИЮ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6" name="Дата 7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B697-DB15-440F-A1EC-38E0B9093208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7" name="Нижний колонтитул 8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98" name="Picture 10" descr=""/>
          <p:cNvPicPr/>
          <p:nvPr/>
        </p:nvPicPr>
        <p:blipFill>
          <a:blip r:embed="rId3"/>
          <a:stretch/>
        </p:blipFill>
        <p:spPr>
          <a:xfrm>
            <a:off x="685800" y="3581280"/>
            <a:ext cx="413712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02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4" name="Rectangle 6"/>
          <p:cNvSpPr/>
          <p:nvPr/>
        </p:nvSpPr>
        <p:spPr>
          <a:xfrm>
            <a:off x="0" y="102240"/>
            <a:ext cx="937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Times New Roman"/>
                <a:ea typeface="Calibri"/>
              </a:rPr>
              <a:t>.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ОТРИЦАТЕЛЬНЫЕ МОМЕНТЫ САМООБЕЗБОЛИВАН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152280" y="1362240"/>
            <a:ext cx="5181840" cy="222840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Нередки случаи, когда пострадавшие во время катастроф или стихийных бедствий с переломами голеней, ребер и даже ранениями сердца обращались за помощью спустя несколько суток. Естественно, их состояние к этому времени значительно ухудшалос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6" name="Rectangle 8"/>
          <p:cNvSpPr/>
          <p:nvPr/>
        </p:nvSpPr>
        <p:spPr>
          <a:xfrm>
            <a:off x="5334120" y="4147920"/>
            <a:ext cx="3809880" cy="179748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В СЛУЧАЕ КАТАСТРОФЫ С БОЛЬШИМ ЧИСЛОМ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ПОСТРАДАВШИХ НЕОБХОДИМО ОБРАТИТЬ ВНИМАНИ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И НА ТЕХ, КТО НЕ ПРЕДЪЯВЛЯЕТ НИКАКИХ ЖАЛОБ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НО ОЧЕНЬ БЛЕДЕН И ВОЗБУЖДЕН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7" name="Дата 8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C834-7C9A-411F-9644-5905D3639373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8" name="Нижний колонтитул 9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09" name="Picture 11" descr=""/>
          <p:cNvPicPr/>
          <p:nvPr/>
        </p:nvPicPr>
        <p:blipFill>
          <a:blip r:embed="rId3"/>
          <a:stretch/>
        </p:blipFill>
        <p:spPr>
          <a:xfrm>
            <a:off x="5486400" y="1371600"/>
            <a:ext cx="3657600" cy="243360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12" descr=""/>
          <p:cNvPicPr/>
          <p:nvPr/>
        </p:nvPicPr>
        <p:blipFill>
          <a:blip r:embed="rId4"/>
          <a:stretch/>
        </p:blipFill>
        <p:spPr>
          <a:xfrm>
            <a:off x="762120" y="3889440"/>
            <a:ext cx="3962160" cy="2968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14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Rectangle 6"/>
          <p:cNvSpPr/>
          <p:nvPr/>
        </p:nvSpPr>
        <p:spPr>
          <a:xfrm>
            <a:off x="228600" y="-12240"/>
            <a:ext cx="8915400" cy="308016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НЕДОПУСТИМО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Извлекать из раны осколки или любые другие предмет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Вправлять в рану выпавшие органы при проникающих ранения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Совмещать костные обломки при открытых перелома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4876920" y="4293720"/>
            <a:ext cx="426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Запомните! Немедленное и правильное обезболивание поможет избежать развития конечной стадии шока и предотвратить смерть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8" name="Дата 7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54CE-E1CE-490B-97A3-EA9D6B6C1DB8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9" name="Нижний колонтитул 8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20" name="Picture 10" descr=""/>
          <p:cNvPicPr/>
          <p:nvPr/>
        </p:nvPicPr>
        <p:blipFill>
          <a:blip r:embed="rId3"/>
          <a:stretch/>
        </p:blipFill>
        <p:spPr>
          <a:xfrm>
            <a:off x="990720" y="3505320"/>
            <a:ext cx="380988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21T04:03:01Z</dcterms:modified>
  <cp:revision>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MarkAsFinal">
    <vt:bool>1</vt:bool>
  </property>
</Properties>
</file>