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62F6-C6D9-42B2-B9C5-532CE1D850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AE7B-B385-4CE4-9CBB-1FD61CB56B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6C6-9F70-459E-9DF7-D714F48F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EF1-0B12-4AC0-83EE-F4DACD14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BBB23-1EF5-433E-8BD0-23892E9B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40ABE-4260-41F5-833F-7820F3F1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39F71-B309-4F5C-AE61-5AA30EC0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68629-7E74-4F14-8C0A-78701D86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DB985-5DA4-4572-9FAF-045D5B95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3B0F5-770B-44C7-8A36-83BC2041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686A8-58FF-4241-9212-44CC6095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0DEBC-177B-41E7-9FBB-C78F45CB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E5FF8-0631-4F7B-B1F1-E982D545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5057B-CA5E-4012-936F-2AF39B88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56B-D4FB-484A-B933-9B9B7F5C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44D5B-92C7-487A-BE41-CCE26D2E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FB02D-7E4F-4E39-8E84-BEE72210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A8227-AE76-4418-BA2C-13576470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0371E-DA9B-4F55-AC2D-9E9AC1A4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AD9DC-D25D-4B1E-B613-7C5E5CD7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E1412-E436-40E1-BDD0-54E7EA2C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51DB4-CCF0-4BA7-8764-0AD37E6C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FF113-4F80-4F50-AB78-28BCBE5D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6D70E-C62D-478F-B471-88CBFADD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EF2A9-C0F0-4749-ADC1-6BD64637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42F-98FD-465E-9BB3-2A0A7F26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EC709-9778-4B91-B6D1-F57621DB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64ACF-7241-4D08-A712-631BD9DE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064E0-477D-4015-B33B-853C24D1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7B3FE-DEAF-455E-AD2A-7D36A67A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B49B0-BE3D-418F-8C3D-2E70BDCE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2AF23-4C1A-442E-BA6C-E3FB0570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FF113-C34F-4439-B3E9-61BC1B2E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B3200-A52E-493C-B93E-E08D287D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B910B-8373-4042-B266-91C2FC27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4B6E1-A1A5-49D7-B0B1-91DD001C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55E6-ED0D-4744-898E-1F47BA55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5F25E-0F75-492B-BB6B-5603A606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75821-FE55-42BC-86AC-98696D69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E09EF-878C-4F37-8941-17C85BFD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61F0A-CE42-491C-A741-34838CC9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558C2-640A-4D73-90A7-01380740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2E568-F4A3-4ACE-9EA7-39D22146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6F6B8-A925-451A-BEDE-8EE5A1B9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B4B40-1386-4B8E-872F-38D5B614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A21AB-4A2F-4C57-A0C6-DB3E2DBE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14A42-67AB-448C-93EC-21D2775A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E579-84A9-4348-AC78-1905FC55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CA02A-F4D9-4921-B594-66010882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1150D-74BE-4723-80BE-921E9119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9ABC8-8C6F-40D3-815B-E1136783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AC14A-64D2-4A0E-A5A2-6FD3E35E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13B0E-AE7E-4D8A-A7A9-8CF1F172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DD694-9912-4A1A-BF08-EA2FDE97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FBB915-990D-4F00-819E-1BBBD14B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B7CA8-2291-457C-A104-5B61537F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6578F-A53E-4157-A8DA-84C22049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F7FAE-3BF8-4694-A9DF-AF5C5D81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D0B1-0DFA-4BA5-A8E9-1E27D3B2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D163A-8955-40B0-93CC-B217875B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50D8B9-0E50-4A12-A609-D79CA83E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514B6-D7C8-47F5-8B9B-0E1A5577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70897-34E8-4BD4-8B07-F61DAF6A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1582C-708C-42E0-8650-09C4063C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1D582-50B0-4ECB-93C7-08DEE824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A6302-7589-46F8-B0BD-2DF56D75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B78D-CFFF-4F72-A74D-06EC915B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F955-C3C0-43C7-81E8-61D1C8DD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DCB3-C3DF-4E38-B620-E17FBA22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A01E-230F-4977-8B2E-50F77288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74B-2579-4A2E-8963-FDB04B1D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E9B8-82C7-4C82-AA7C-F17B8803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EDBE-91F7-4B25-8659-1BB235D2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785E-1AAF-4C8F-83BE-AA6150DC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6A0F-9E23-4FC8-A021-1E807633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7EF0-C866-42AF-AF30-A9212808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5063A-7E9F-4047-9FC9-2ADE983E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9ACF2-D1AD-4FD1-8B81-2BCCC94F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A7A3B-AAC7-4B09-BC74-63C19702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DCE8-8B54-4D2E-BD66-F40BB33D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5EFC7-084F-4C17-93D5-87C625B0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F43-965D-4BA9-A8BA-832E70D4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506CC-AF19-44BC-B4DC-D7B76B38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1F3A8-BCD5-45F7-8966-48C23270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C9517-F0CE-4130-B833-18E71F67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BE8C5-812F-401F-89DD-8F6C64C7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B25A9-CF32-4D53-8602-DE3738CD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E0C0A-9D63-4B2D-8260-F5E4CC26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73241-495F-4EF9-AE93-1BCFAA1D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79FCB-76EF-47E1-BB56-84673875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9CCF0-0702-404E-9EB8-2C400024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70513-EB97-470C-ACC6-F2F581C4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6C7-F63C-43D4-AFA5-EF7D7086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0F4D1-F657-4146-9D69-520E7B6D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98F58-327E-446F-9984-DBB8E51D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23AED-3EE9-4747-9993-D1C1D27C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78289-41E0-4749-9687-96D8B7DF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F576D-2E4E-4CED-9300-9C7689EA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12FE5-CDE8-40A1-8F27-36A9D204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F17A3-FDB2-4BA1-99CD-CB03B737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4DAE7-157D-4BDD-BABB-C4572E78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AC3D2-FD80-4D35-B5FC-99CC7005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E86A1-3599-4CCA-B5ED-5EC2555C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D51-3272-4225-BF91-F182F6FA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5A5B5-A752-415F-A450-65291CC8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A1213-2B9A-490F-88B5-C817F145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62351-9443-4FB0-90A8-52D9E975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9F40A-F04A-47D2-BF52-6DF08E63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F124C-6B7E-4350-8F69-3FF7BC3D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FC9FC-AF8C-4C74-906A-DB45A19F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63276-D076-475F-BA17-83A83CD0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37CAD-B6CA-4DDC-8C4F-2803A8BA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3EEB5-4CF4-4ED3-BCC7-B001E190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F5B67-5906-4356-89EA-03FA0BA3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A9A-27DB-4262-909A-290254F7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E0573-B524-4FEB-B267-93D7281A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65441-08F3-49DF-A26D-BF7F0B55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3460C-48B9-488E-A3A7-98E2D48D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5BA27-A88C-4773-A729-688CC9A2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40600-0DF1-4714-B77F-EC3C2457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D4FCE-0A6D-40BA-81C1-45F980CD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0D912-AB58-4F01-94D1-844B719E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8E4F5-A5C3-49C4-8C84-127297EB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9C7CA-33DA-4950-B883-9F9B9223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77C83-17D7-438A-B5CD-DB8FFE83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18B-07F7-4EBA-BC08-B3538C27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0F56C-D50B-44C6-8EB7-0522BC35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EB89E-B70D-4E4B-9F4B-25856F9B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C5D55-B2EA-4F78-87E2-2F97550A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E4552-01A8-4FEA-9254-7177B8ED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15722-F301-499B-9EF2-055FA5C9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19A8D-E0D2-40E7-9EE2-103EA845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7CA69-09B1-4A77-BF3D-7D7AE686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4F987-A4AE-405E-B9AF-F4BCB837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E180C-291B-45CF-8107-EC8FFDA4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EDB64-B3EB-4AAF-927D-6C578BEA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523-2675-4883-85F9-241F2C4E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B863C-A857-47DD-8CCC-BB8E1797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4BFE2-ECEB-41C2-A27B-A37ED6BA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2BF8D-C498-454C-8433-35734A77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550E5-3488-45D2-97AB-36C35B19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9A7D1-778E-4379-8F4A-D17C1FCA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3AE60-8BB4-4AAB-91D7-9BEEEEB9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F596E-55D5-4F0D-ABA1-2FE97AE9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F9053-8869-4428-BBFA-BA70CE91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37D8B-6E85-4581-8EDB-5C3375F9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DFE7E-8849-46DE-BE52-FCE4D243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5B8-9BDE-4AB8-89B0-5F9E6A07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24430-4317-4F1A-A483-4B650CE4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893D0-487E-4FAD-93ED-5A692574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D1D2D-4C19-4953-95E6-D3079A38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26D1B-8F6B-41B6-8643-F9D76FD0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3E7F1-F457-46EE-8EE6-1E409BAD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0B10D-2056-473C-A255-8967A218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11D81-91FB-4C89-8B35-8A38E962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797FD-EF49-460F-83C0-01664A89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E991C-C3F8-4B04-A58B-1619378C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626CF-F6B9-4401-9670-3987C846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2EFA-3402-43EC-AF16-32F88D2CAE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D0D5-E7B7-4AF9-A1C0-0863CA80A8B6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46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DF17-6D65-476F-9557-E29F1F081515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5E3B-00B6-47BB-82D8-49E591885C94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EFE1-629C-44B1-8DDD-B77B7CBEC763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B734-29BA-4DEC-B7A2-BD355A9DCC3F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5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36D5-DE01-4626-A8F5-A893240604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B749-12AE-480F-B20A-8F967A16E1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3E31-366B-4EB5-B073-FE63D7268C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821D-D83A-4A55-B50D-C13796E737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C598-088C-4A89-874F-ACE81146BC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D4B3-ECDA-49C6-936D-9F28AC2272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7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0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393A-A84C-4B4A-B3B2-A1A3475122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WordArt 5" descr=""/>
          <p:cNvPicPr/>
          <p:nvPr/>
        </p:nvPicPr>
        <p:blipFill>
          <a:blip r:embed="rId1"/>
          <a:stretch/>
        </p:blipFill>
        <p:spPr>
          <a:xfrm>
            <a:off x="469800" y="895320"/>
            <a:ext cx="7991640" cy="3000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700000" y="5013360"/>
            <a:ext cx="6119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Ладанова И.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МКОУ «Верх-Жилинская ООШ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WordArt 4"/>
          <p:cNvSpPr txBox="1"/>
          <p:nvPr/>
        </p:nvSpPr>
        <p:spPr>
          <a:xfrm>
            <a:off x="1042920" y="549360"/>
            <a:ext cx="74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е трапеции: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8" name="Picture 10" descr=""/>
          <p:cNvPicPr/>
          <p:nvPr/>
        </p:nvPicPr>
        <p:blipFill>
          <a:blip r:embed="rId2"/>
          <a:stretch/>
        </p:blipFill>
        <p:spPr>
          <a:xfrm>
            <a:off x="466560" y="1484280"/>
            <a:ext cx="3821400" cy="331776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1"/>
          <p:cNvSpPr/>
          <p:nvPr/>
        </p:nvSpPr>
        <p:spPr>
          <a:xfrm>
            <a:off x="140328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8269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334800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392436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5"/>
          <p:cNvSpPr/>
          <p:nvPr/>
        </p:nvSpPr>
        <p:spPr>
          <a:xfrm>
            <a:off x="4935600" y="1916280"/>
            <a:ext cx="3236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/ 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параллельные от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6"/>
          <p:cNvSpPr/>
          <p:nvPr/>
        </p:nvSpPr>
        <p:spPr>
          <a:xfrm>
            <a:off x="826920" y="4802040"/>
            <a:ext cx="806616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4"/>
          <p:cNvSpPr txBox="1"/>
          <p:nvPr/>
        </p:nvSpPr>
        <p:spPr>
          <a:xfrm>
            <a:off x="1403280" y="54936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трапеции:</a:t>
            </a:r>
            <a:endParaRPr b="0" i="1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4"/>
          <a:stretch/>
        </p:blipFill>
        <p:spPr>
          <a:xfrm>
            <a:off x="755640" y="1773360"/>
            <a:ext cx="3384720" cy="208728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6"/>
          <p:cNvSpPr/>
          <p:nvPr/>
        </p:nvSpPr>
        <p:spPr>
          <a:xfrm>
            <a:off x="68436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125892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059280" y="17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3708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971640" y="422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1" descr=""/>
          <p:cNvPicPr/>
          <p:nvPr/>
        </p:nvPicPr>
        <p:blipFill>
          <a:blip r:embed="rId5"/>
          <a:stretch/>
        </p:blipFill>
        <p:spPr>
          <a:xfrm>
            <a:off x="5076720" y="1844640"/>
            <a:ext cx="2951280" cy="20160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12"/>
          <p:cNvSpPr/>
          <p:nvPr/>
        </p:nvSpPr>
        <p:spPr>
          <a:xfrm>
            <a:off x="4932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493236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658800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781200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9"/>
          <p:cNvSpPr/>
          <p:nvPr/>
        </p:nvSpPr>
        <p:spPr>
          <a:xfrm>
            <a:off x="5292720" y="501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4859280" y="4149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395280" y="5373720"/>
            <a:ext cx="7705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1116000" y="5013360"/>
            <a:ext cx="763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бокая  трапеция                               Прямоугольная 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6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4"/>
          <p:cNvSpPr txBox="1"/>
          <p:nvPr/>
        </p:nvSpPr>
        <p:spPr>
          <a:xfrm>
            <a:off x="1042920" y="476280"/>
            <a:ext cx="6985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резки в трапеции: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2" name="Picture 5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199960" cy="1495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2447640" cy="1638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227640" y="1197000"/>
            <a:ext cx="2162160" cy="16002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10"/>
          <p:cNvSpPr/>
          <p:nvPr/>
        </p:nvSpPr>
        <p:spPr>
          <a:xfrm>
            <a:off x="1979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17928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2"/>
          <p:cNvSpPr/>
          <p:nvPr/>
        </p:nvSpPr>
        <p:spPr>
          <a:xfrm>
            <a:off x="539640" y="119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4"/>
          <p:cNvSpPr/>
          <p:nvPr/>
        </p:nvSpPr>
        <p:spPr>
          <a:xfrm>
            <a:off x="284328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5"/>
          <p:cNvSpPr/>
          <p:nvPr/>
        </p:nvSpPr>
        <p:spPr>
          <a:xfrm>
            <a:off x="313200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6"/>
          <p:cNvSpPr/>
          <p:nvPr/>
        </p:nvSpPr>
        <p:spPr>
          <a:xfrm>
            <a:off x="4716360" y="119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7"/>
          <p:cNvSpPr/>
          <p:nvPr/>
        </p:nvSpPr>
        <p:spPr>
          <a:xfrm>
            <a:off x="514836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6012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9"/>
          <p:cNvSpPr/>
          <p:nvPr/>
        </p:nvSpPr>
        <p:spPr>
          <a:xfrm>
            <a:off x="6443640" y="112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0"/>
          <p:cNvSpPr/>
          <p:nvPr/>
        </p:nvSpPr>
        <p:spPr>
          <a:xfrm>
            <a:off x="781200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1"/>
          <p:cNvSpPr/>
          <p:nvPr/>
        </p:nvSpPr>
        <p:spPr>
          <a:xfrm>
            <a:off x="8244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2"/>
          <p:cNvSpPr/>
          <p:nvPr/>
        </p:nvSpPr>
        <p:spPr>
          <a:xfrm>
            <a:off x="658800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3"/>
          <p:cNvSpPr/>
          <p:nvPr/>
        </p:nvSpPr>
        <p:spPr>
          <a:xfrm>
            <a:off x="702000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4"/>
          <p:cNvSpPr/>
          <p:nvPr/>
        </p:nvSpPr>
        <p:spPr>
          <a:xfrm>
            <a:off x="702000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5"/>
          <p:cNvSpPr/>
          <p:nvPr/>
        </p:nvSpPr>
        <p:spPr>
          <a:xfrm>
            <a:off x="6659640" y="1916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6"/>
          <p:cNvSpPr/>
          <p:nvPr/>
        </p:nvSpPr>
        <p:spPr>
          <a:xfrm>
            <a:off x="7164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7"/>
          <p:cNvSpPr/>
          <p:nvPr/>
        </p:nvSpPr>
        <p:spPr>
          <a:xfrm>
            <a:off x="395280" y="33577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 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8"/>
          <p:cNvSpPr/>
          <p:nvPr/>
        </p:nvSpPr>
        <p:spPr>
          <a:xfrm>
            <a:off x="2843280" y="3500280"/>
            <a:ext cx="237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средняя ли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В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½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В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9"/>
          <p:cNvSpPr/>
          <p:nvPr/>
        </p:nvSpPr>
        <p:spPr>
          <a:xfrm>
            <a:off x="2987640" y="17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0"/>
          <p:cNvSpPr/>
          <p:nvPr/>
        </p:nvSpPr>
        <p:spPr>
          <a:xfrm>
            <a:off x="500364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1"/>
          <p:cNvSpPr/>
          <p:nvPr/>
        </p:nvSpPr>
        <p:spPr>
          <a:xfrm>
            <a:off x="6012000" y="3573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3"/>
          <p:cNvSpPr/>
          <p:nvPr/>
        </p:nvSpPr>
        <p:spPr>
          <a:xfrm>
            <a:off x="6012000" y="3357720"/>
            <a:ext cx="252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┴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УХ ┴ В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и УХ- высот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4"/>
          <p:cNvSpPr/>
          <p:nvPr/>
        </p:nvSpPr>
        <p:spPr>
          <a:xfrm>
            <a:off x="234000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WordArt 4"/>
          <p:cNvSpPr txBox="1"/>
          <p:nvPr/>
        </p:nvSpPr>
        <p:spPr>
          <a:xfrm>
            <a:off x="324000" y="47628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биение трапеции на части и нахождение площади трапеци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9" name="Picture 5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376720" cy="15112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"/>
          <p:cNvPicPr/>
          <p:nvPr/>
        </p:nvPicPr>
        <p:blipFill>
          <a:blip r:embed="rId3"/>
          <a:stretch/>
        </p:blipFill>
        <p:spPr>
          <a:xfrm>
            <a:off x="2987640" y="1268280"/>
            <a:ext cx="2362320" cy="15829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"/>
          <p:cNvPicPr/>
          <p:nvPr/>
        </p:nvPicPr>
        <p:blipFill>
          <a:blip r:embed="rId4"/>
          <a:stretch/>
        </p:blipFill>
        <p:spPr>
          <a:xfrm>
            <a:off x="5651640" y="1341360"/>
            <a:ext cx="2790720" cy="15811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0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448000" cy="15904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1" descr=""/>
          <p:cNvPicPr/>
          <p:nvPr/>
        </p:nvPicPr>
        <p:blipFill>
          <a:blip r:embed="rId6"/>
          <a:stretch/>
        </p:blipFill>
        <p:spPr>
          <a:xfrm>
            <a:off x="2627280" y="5013360"/>
            <a:ext cx="3168720" cy="14288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3" descr=""/>
          <p:cNvPicPr/>
          <p:nvPr/>
        </p:nvPicPr>
        <p:blipFill>
          <a:blip r:embed="rId7"/>
          <a:stretch/>
        </p:blipFill>
        <p:spPr>
          <a:xfrm>
            <a:off x="5867280" y="5084640"/>
            <a:ext cx="3095640" cy="110664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14"/>
          <p:cNvSpPr/>
          <p:nvPr/>
        </p:nvSpPr>
        <p:spPr>
          <a:xfrm>
            <a:off x="395280" y="134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5"/>
          <p:cNvSpPr/>
          <p:nvPr/>
        </p:nvSpPr>
        <p:spPr>
          <a:xfrm>
            <a:off x="395280" y="1916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108000" y="270828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7"/>
          <p:cNvSpPr/>
          <p:nvPr/>
        </p:nvSpPr>
        <p:spPr>
          <a:xfrm>
            <a:off x="900000" y="13302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539640" y="2852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176364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2124000" y="1413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2124000" y="20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2340000" y="2637000"/>
            <a:ext cx="3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2050920" y="278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4"/>
          <p:cNvSpPr/>
          <p:nvPr/>
        </p:nvSpPr>
        <p:spPr>
          <a:xfrm>
            <a:off x="2916360" y="27082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5"/>
          <p:cNvSpPr/>
          <p:nvPr/>
        </p:nvSpPr>
        <p:spPr>
          <a:xfrm>
            <a:off x="3348000" y="126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6"/>
          <p:cNvSpPr/>
          <p:nvPr/>
        </p:nvSpPr>
        <p:spPr>
          <a:xfrm>
            <a:off x="4067280" y="1268280"/>
            <a:ext cx="2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5003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8"/>
          <p:cNvSpPr/>
          <p:nvPr/>
        </p:nvSpPr>
        <p:spPr>
          <a:xfrm flipH="1">
            <a:off x="5203800" y="1341360"/>
            <a:ext cx="44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4643280" y="2060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3708360" y="2781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6443640" y="285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5796000" y="1341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3"/>
          <p:cNvSpPr/>
          <p:nvPr/>
        </p:nvSpPr>
        <p:spPr>
          <a:xfrm>
            <a:off x="800748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7308720" y="285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5"/>
          <p:cNvSpPr/>
          <p:nvPr/>
        </p:nvSpPr>
        <p:spPr>
          <a:xfrm>
            <a:off x="687708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5580000" y="2781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7"/>
          <p:cNvSpPr/>
          <p:nvPr/>
        </p:nvSpPr>
        <p:spPr>
          <a:xfrm>
            <a:off x="8172360" y="2852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8"/>
          <p:cNvSpPr/>
          <p:nvPr/>
        </p:nvSpPr>
        <p:spPr>
          <a:xfrm>
            <a:off x="5991120" y="21225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7812000" y="2133720"/>
            <a:ext cx="3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564000" y="4365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1"/>
          <p:cNvSpPr/>
          <p:nvPr/>
        </p:nvSpPr>
        <p:spPr>
          <a:xfrm>
            <a:off x="3924360" y="306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5435640" y="3141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3"/>
          <p:cNvSpPr/>
          <p:nvPr/>
        </p:nvSpPr>
        <p:spPr>
          <a:xfrm>
            <a:off x="5724360" y="429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45" descr=""/>
          <p:cNvPicPr/>
          <p:nvPr/>
        </p:nvPicPr>
        <p:blipFill>
          <a:blip r:embed="rId8"/>
          <a:stretch/>
        </p:blipFill>
        <p:spPr>
          <a:xfrm>
            <a:off x="2700360" y="3357720"/>
            <a:ext cx="3311640" cy="108108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46"/>
          <p:cNvSpPr/>
          <p:nvPr/>
        </p:nvSpPr>
        <p:spPr>
          <a:xfrm>
            <a:off x="2390760" y="422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7"/>
          <p:cNvSpPr/>
          <p:nvPr/>
        </p:nvSpPr>
        <p:spPr>
          <a:xfrm>
            <a:off x="3708360" y="371628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8"/>
          <p:cNvSpPr/>
          <p:nvPr/>
        </p:nvSpPr>
        <p:spPr>
          <a:xfrm>
            <a:off x="108000" y="630864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9"/>
          <p:cNvSpPr/>
          <p:nvPr/>
        </p:nvSpPr>
        <p:spPr>
          <a:xfrm>
            <a:off x="539640" y="4869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0"/>
          <p:cNvSpPr/>
          <p:nvPr/>
        </p:nvSpPr>
        <p:spPr>
          <a:xfrm>
            <a:off x="1547640" y="478620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1"/>
          <p:cNvSpPr/>
          <p:nvPr/>
        </p:nvSpPr>
        <p:spPr>
          <a:xfrm>
            <a:off x="2268360" y="6308640"/>
            <a:ext cx="2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2"/>
          <p:cNvSpPr/>
          <p:nvPr/>
        </p:nvSpPr>
        <p:spPr>
          <a:xfrm>
            <a:off x="2340000" y="4869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3"/>
          <p:cNvSpPr/>
          <p:nvPr/>
        </p:nvSpPr>
        <p:spPr>
          <a:xfrm>
            <a:off x="68436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4"/>
          <p:cNvSpPr/>
          <p:nvPr/>
        </p:nvSpPr>
        <p:spPr>
          <a:xfrm>
            <a:off x="843120" y="579420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5"/>
          <p:cNvSpPr/>
          <p:nvPr/>
        </p:nvSpPr>
        <p:spPr>
          <a:xfrm>
            <a:off x="2340000" y="566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6"/>
          <p:cNvSpPr/>
          <p:nvPr/>
        </p:nvSpPr>
        <p:spPr>
          <a:xfrm>
            <a:off x="2700360" y="623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7"/>
          <p:cNvSpPr/>
          <p:nvPr/>
        </p:nvSpPr>
        <p:spPr>
          <a:xfrm>
            <a:off x="3059280" y="47973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8"/>
          <p:cNvSpPr/>
          <p:nvPr/>
        </p:nvSpPr>
        <p:spPr>
          <a:xfrm>
            <a:off x="4500720" y="4797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9"/>
          <p:cNvSpPr/>
          <p:nvPr/>
        </p:nvSpPr>
        <p:spPr>
          <a:xfrm>
            <a:off x="5580000" y="623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60"/>
          <p:cNvSpPr/>
          <p:nvPr/>
        </p:nvSpPr>
        <p:spPr>
          <a:xfrm>
            <a:off x="313200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61"/>
          <p:cNvSpPr/>
          <p:nvPr/>
        </p:nvSpPr>
        <p:spPr>
          <a:xfrm>
            <a:off x="4356000" y="6308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62"/>
          <p:cNvSpPr/>
          <p:nvPr/>
        </p:nvSpPr>
        <p:spPr>
          <a:xfrm>
            <a:off x="3851280" y="63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3"/>
          <p:cNvSpPr/>
          <p:nvPr/>
        </p:nvSpPr>
        <p:spPr>
          <a:xfrm>
            <a:off x="5867280" y="60213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4"/>
          <p:cNvSpPr/>
          <p:nvPr/>
        </p:nvSpPr>
        <p:spPr>
          <a:xfrm>
            <a:off x="6227640" y="494172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5"/>
          <p:cNvSpPr/>
          <p:nvPr/>
        </p:nvSpPr>
        <p:spPr>
          <a:xfrm>
            <a:off x="7596360" y="4941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6"/>
          <p:cNvSpPr/>
          <p:nvPr/>
        </p:nvSpPr>
        <p:spPr>
          <a:xfrm>
            <a:off x="8675640" y="60930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7"/>
          <p:cNvSpPr/>
          <p:nvPr/>
        </p:nvSpPr>
        <p:spPr>
          <a:xfrm>
            <a:off x="637236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8"/>
          <p:cNvSpPr/>
          <p:nvPr/>
        </p:nvSpPr>
        <p:spPr>
          <a:xfrm>
            <a:off x="7524720" y="61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934920" y="260280"/>
            <a:ext cx="7740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ощадь трапеции равна произведению полусуммы её оснований на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рапец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//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a, BC=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┴ AD, BH=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5"/>
          <p:cNvSpPr/>
          <p:nvPr/>
        </p:nvSpPr>
        <p:spPr>
          <a:xfrm>
            <a:off x="1050840" y="2522520"/>
            <a:ext cx="388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1050840" y="2522520"/>
            <a:ext cx="59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пе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448000" cy="187164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8"/>
          <p:cNvSpPr/>
          <p:nvPr/>
        </p:nvSpPr>
        <p:spPr>
          <a:xfrm>
            <a:off x="179280" y="5084640"/>
            <a:ext cx="2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11280" y="3357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1619280" y="3274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1"/>
          <p:cNvSpPr/>
          <p:nvPr/>
        </p:nvSpPr>
        <p:spPr>
          <a:xfrm>
            <a:off x="2340000" y="5084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2411280" y="33577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75564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914400" y="428292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2411280" y="414972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16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024360" cy="161280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17"/>
          <p:cNvSpPr/>
          <p:nvPr/>
        </p:nvSpPr>
        <p:spPr>
          <a:xfrm>
            <a:off x="3419640" y="3357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8"/>
          <p:cNvSpPr/>
          <p:nvPr/>
        </p:nvSpPr>
        <p:spPr>
          <a:xfrm>
            <a:off x="2987640" y="5084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9"/>
          <p:cNvSpPr/>
          <p:nvPr/>
        </p:nvSpPr>
        <p:spPr>
          <a:xfrm>
            <a:off x="4932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0"/>
          <p:cNvSpPr/>
          <p:nvPr/>
        </p:nvSpPr>
        <p:spPr>
          <a:xfrm>
            <a:off x="5724360" y="50846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3564000" y="5084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2"/>
          <p:cNvSpPr/>
          <p:nvPr/>
        </p:nvSpPr>
        <p:spPr>
          <a:xfrm>
            <a:off x="4716360" y="5157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3"/>
          <p:cNvSpPr/>
          <p:nvPr/>
        </p:nvSpPr>
        <p:spPr>
          <a:xfrm>
            <a:off x="4284720" y="5157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24" descr=""/>
          <p:cNvPicPr/>
          <p:nvPr/>
        </p:nvPicPr>
        <p:blipFill>
          <a:blip r:embed="rId4"/>
          <a:stretch/>
        </p:blipFill>
        <p:spPr>
          <a:xfrm>
            <a:off x="6084720" y="3645000"/>
            <a:ext cx="2916360" cy="13683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5"/>
          <p:cNvSpPr/>
          <p:nvPr/>
        </p:nvSpPr>
        <p:spPr>
          <a:xfrm>
            <a:off x="6084720" y="486900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6443640" y="342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596360" y="342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8748720" y="486900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6516720" y="49417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30"/>
          <p:cNvSpPr/>
          <p:nvPr/>
        </p:nvSpPr>
        <p:spPr>
          <a:xfrm>
            <a:off x="7596360" y="49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47:07Z</dcterms:created>
  <dc:creator/>
  <dc:description/>
  <dc:language>en-US</dc:language>
  <cp:lastModifiedBy>Пк</cp:lastModifiedBy>
  <dcterms:modified xsi:type="dcterms:W3CDTF">2012-10-28T08:41:41Z</dcterms:modified>
  <cp:revision>18</cp:revision>
  <dc:subject/>
  <dc:title>Презентация PowerPoint</dc:title>
</cp:coreProperties>
</file>