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F317-DFB2-488B-8C8D-EED1BEB60D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7772-1015-4221-905C-0A4696C21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571-0456-4612-942C-DA785C62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6DF-7DBA-4D39-8264-5CA36F5D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91E4-40D1-4EF6-90D3-5BD03A6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6A1E5-1774-4FC0-B84D-31FFB2C6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07181-34A8-4637-B746-D21F4E3A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1734C-F13F-4E6B-8D3F-D198AAE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60968-9E14-433A-B63B-DB4043A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BACF9-2865-4536-A592-540BB4C4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F0E7C-7097-4A15-8BA4-4EA3186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2766-228B-4F8F-B063-07B183AE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EFA7C-0440-4048-AACF-06F2E9F5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587A1-F903-4C20-B6DA-1A4906D2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4C1-A92D-4A8A-BF93-C54A687A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AC099-5EAF-4A83-B8E6-5152EB23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56D2-03A2-4788-B1C2-779441AD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975EC-53CC-4848-87F5-4D3B682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FF69-258B-41F8-8FAC-4E837F4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D1C82-4B3C-47CB-92B3-FF8E695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0A20D-A4C8-4DB2-A802-2067116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5376B-1488-41D8-81C8-8A246A8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540F7-A6F0-4E91-9275-327CB009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425ED-623F-4A50-8164-4BEF3E2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2072F-6B0E-417F-9189-383B77D9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481-F9A9-4296-90C7-9B145D53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CF7C5-F500-4AD3-9851-3A5FE51A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9BE2E-2F79-47AA-9CD5-34850DE5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0D5B5-BA95-4EB0-BB48-979F927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FC47A-112C-40FE-8AE7-7B883D6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DA6F5-CCC7-4203-BCCD-7987D17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9B603-0FD0-499D-92F8-3A0C3791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2D579-8DCC-4C38-B953-0532FCEB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3755C-AA5C-4DCF-8846-53812DCE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5529A-01F6-48F7-A25D-3CE590E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3C06B-518A-482C-98BA-AC59A350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6297-B915-4090-9448-AC219382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54A0E-C2E8-4C0F-A1DC-5973F19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67EB1-E8A3-4CBD-964A-A0BADF9E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E8D60-4060-4107-96D4-74F32677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989C8-FCED-4C7C-BBBD-4DDD35C5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EDDB9-272D-4B47-B4EF-1103B86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6AAD1-2883-41CD-B12B-014E0320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720B2-AFBB-4723-A93C-E0E0C62B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42523-0201-422A-95C6-9795F7A1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E4E49-6EF5-4348-9C7E-A563C3B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212B8-4116-4D5C-970F-1366AAA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1AFE-DA4D-4C58-91A3-9FB4BC9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CC13-4EF6-45F8-9734-2891FC85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16687-5323-4494-9AF4-8225411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3999A-45A3-402C-BB55-8BADB5C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2D753-1124-4077-A54D-E21BB142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A83CC-92F8-4EC1-822E-DFAD33CA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EC655-6714-41DB-9428-2FA8A8B8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C72DA-9824-4F8F-A82E-3D47E612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C48E4-9897-45FB-8A5B-F91E7E5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038E7-6B50-4777-9A98-DA54EB2B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9BA3D-DD54-48AD-9221-A13BC00D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EF0B-CCF3-4F7F-A10A-9DD1C1D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0509A-D57A-401D-8FB8-D81192F3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8AB05-3A43-455F-AAE9-F2704C8D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4F172-D630-4A74-85A2-AEB74611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4FFD9-ACD2-4671-91BC-3C274807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DA2E6-85F2-4E25-9055-ED4B399D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4C0A2-9DC7-4E84-ACAA-D92B7FB2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EE293-C6C6-4CBE-A961-9EE5BF2B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72C3-EAEF-4577-AF37-66D14009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902-EEF5-4547-99A5-D4B1758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05FA-9275-49E0-8488-C9B962FE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A34-7D4B-4C6D-9F52-A785C73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C2A-0C08-4532-A6D5-1259044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D576-A7ED-4ED6-BB73-74021D24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2F59-D76B-4316-8481-8CEF04F5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5D71-239A-429A-91C6-1A3AA90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8EBA-D878-4004-8A96-F9AAE9B9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591A-B1E3-49A5-B5A3-6F309641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8737-BBDF-48CF-9948-4FC9DE22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5980-1AAB-47B2-BC67-0A996290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27C5-2B3D-420F-967D-962DD59E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97A4-FFBE-4807-83AD-1849EA23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71CF-9516-41A1-9605-C84C3887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15D-56AB-48B6-99C3-2BA1A254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1CDA-8AA9-4DB2-8327-F167F9A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64C7-11AB-4524-A28C-C107548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7130-29CC-48E7-8DCE-D65E628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3D25-2DD5-4EE0-A979-78CC7E65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E3EA-DA1E-43C2-939C-E91EB29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9D62-4D1D-4681-94B1-D74426FD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92F6-A862-4E2F-BC0E-A460FA9F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82BE-2358-46A3-8292-16B3230D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49AF-370E-4C1D-96CF-DCF8EA8F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434F-B421-48EC-8EE3-2D9B4D8A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64F-3636-41E5-BD17-4494501B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66B0-BF01-4312-B72E-CFDDC15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D135-6010-4DFF-9F06-7834804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2068-F0E7-4F54-8400-3DA77B1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BBF3-9585-42F2-8172-920F0C7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368D-4EA3-407E-AB03-CF3DB8F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9443-F6C1-4A4D-9534-099BC68B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456D-B97D-4205-AFC0-BF674508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AF4C-6719-476F-8993-E8E005B6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852E-A4E7-4948-A51C-9822421C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5A36-944D-4C50-8D07-0F49D25E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816-0C7B-4FC7-840C-8214094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0B4E-FED3-48DF-95A5-FAEC9965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64F33-9CAE-4DF9-84C3-37BDCD1B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5DD4F-1505-4103-98BF-017F7E9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7206-F871-4915-BAB7-B007B9C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99CA-0177-4D8E-B5CC-5394B4C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0D74-5873-4B16-A37D-0A981F3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86A1-972A-43A4-9B84-D4FB077D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C046-3504-496B-8590-D9AAE3C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65A7-72AF-4DE6-8FB4-7FB1AD6E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7E313-9719-4055-8E6B-EB975298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42D-602C-4660-8999-943BA51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204B-091B-46D4-B370-0EC1FDEE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0E39-B3E9-452F-8BAD-A5320A19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7A94-C78F-429B-8A2F-DE932DC6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D691-95D4-4B6F-A61D-FFB3A28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BFDE5-D6CD-4E0F-A2FF-7905E7BE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595A-CEDA-47E3-BF46-62C7717F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D98D-7170-42B1-A2A7-0BB0E5E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C0F2-08AB-40A3-977E-20A94A6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2D8F2-D232-4B31-8437-C1290E02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E03EE-728B-4319-B7CD-30B5FC9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737-E1DE-4166-8E94-8D8733A1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C698-7F8A-4CF8-8C39-47C0E4E3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4D58F-DF96-4BB2-AEAD-4A7DFF5A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34DF-CE17-42F5-8BBF-8A1426B2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5228-133A-4394-8372-49A5CD53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A459-1EFF-4389-AAC4-DADA526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4ACB-D002-47D0-825B-D2BC052E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81E7D-1D9F-4C8D-85FC-C0EE0EAB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A00D9-16D6-4830-B9B3-50019A4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1089D-815D-482F-A535-E2F48CFE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A01F-427F-4399-BB2D-BC8B1F9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0F7-8E8E-497A-BDBE-B611C63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3D42F-A3FD-403C-BFB6-5CA4DE5E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2086-D58B-4D7A-A9B2-D644129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F3F7-9281-46C3-A488-26865735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F817B-2E49-4221-9755-7C1BB2E0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B1B9-FC2F-4FE7-BF99-49F3431A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CD811-80A5-4B86-AB06-4B918A31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F0A23-9266-4EBD-93DC-00A0700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DFDF-B3AA-43D2-A843-0474F6D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BA4EC-23B7-4B69-8594-56D76B46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8CA7E-98B4-4155-B978-E6D7B65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0F9-B65D-4EBE-BC0F-E1A69AF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85520-793C-4E3D-9CBE-A83C2AE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8C91-1C3C-4399-A290-41E2A60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4EB49-0338-4308-B980-CA8E4123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86C2-CD70-4AEC-AD15-51026835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0366-35AC-4CD2-95C7-1184B8B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667EB-ABB5-4431-B7FC-B0090940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5E6AB-B59F-4F01-93DC-54136A05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284E5-EF97-4C76-B778-3F7B44F8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06E8F-0990-4354-BFEE-292E63A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7EDBF-664D-4663-8CF6-45CAC8E6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2693-514A-48BB-B737-56AE2F377F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6A4E-5DA5-4FD3-BC68-E43934475185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5CE-BD9D-4823-8A5E-5D9A80EA2AB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34EB-F89F-4005-878C-6F7355BFE8BF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A423-7745-43D9-B556-216AE4C2340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C769-6A48-45DA-AC19-1CABED9DFBA3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A210-B593-4B8E-99ED-C38BC4F95D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727-EDB7-476C-80D8-0FFD1350EF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6E64-1158-4E78-8161-F31051A047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91E1-B080-40A0-A73D-07855DD051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775F-D123-4A9C-96DF-3F89CD3195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BA5B-3B72-4AFC-9FB6-AA8E140E78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F8F5-41EE-49DC-A255-C40570D490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Пк</cp:lastModifiedBy>
  <dcterms:modified xsi:type="dcterms:W3CDTF">2012-10-28T08:41:41Z</dcterms:modified>
  <cp:revision>18</cp:revision>
  <dc:subject/>
  <dc:title>Презентация PowerPoint</dc:title>
</cp:coreProperties>
</file>