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4A07-4303-43D7-8C73-2D226EFC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A990-D0EF-4355-8405-8029D0F5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9C51-B782-44B5-82D2-6C22EDCB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9566-C915-4F3A-8F92-7F634367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C73B7-3C39-472F-A9C2-633021B7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58E4B-8A32-40EE-9FED-6AF482D6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F59BD-2B86-4638-8CFE-2A949C78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C5FE0-777E-4571-BA72-F589BA6B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084AE-D513-4666-9070-3FC24FC0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A28DD-B28B-4A22-AB36-9CB14EE4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B43B4-B5E0-420F-AE94-8F7ED132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2041-CDC4-45AD-B996-A6FAE779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0644-E3F2-4152-9DDE-6C56ACD0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626C1-6CFD-417A-B27E-A0F7FAE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239E4-5C28-4090-B445-36AAA9AD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7F82E-32FB-447F-BED8-2B4D0E86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81AFE-A304-475A-965B-66C42EE0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EA330-E212-455C-90C1-29A15227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6288-2B26-41F1-9F2B-8864E4AE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27262-62CD-4767-BC38-B9BCB92B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FC1D-44E0-4DED-84E9-282EF88E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D317-FC40-44F3-8DC7-A8923D34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61B9-EE89-40F6-A547-B8F6F68C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28A5-8B08-4C43-B419-ED5D18B8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d6efd0"/>
              </a:gs>
              <a:gs pos="100000">
                <a:srgbClr val="9bb9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F520-8BED-4723-A9CE-13C2A2837E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d6efd0"/>
                </a:gs>
                <a:gs pos="100000">
                  <a:srgbClr val="9bb9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bb9c3"/>
                </a:gs>
                <a:gs pos="100000">
                  <a:srgbClr val="65b5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2185-4828-425B-BEBE-316456D96160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3840" cy="25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5400" spc="-1" strike="noStrike">
                <a:solidFill>
                  <a:srgbClr val="1c1c1c"/>
                </a:solidFill>
                <a:latin typeface="Garamond"/>
              </a:rPr>
              <a:t>Теорема о прямой, перпендикулярной к плоскости</a:t>
            </a:r>
            <a:endParaRPr b="0" lang="en-US" sz="5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19280" y="4581000"/>
            <a:ext cx="4352760" cy="10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Дернова А.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учитель математики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кв.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МБОУ «Новотроицкая СОШ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c1c1c"/>
                </a:solidFill>
                <a:latin typeface="Garamond"/>
              </a:rPr>
              <a:t>Проверка домашней работы</a:t>
            </a:r>
            <a:endParaRPr b="0" lang="en-US" sz="40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7821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c1c"/>
                </a:solidFill>
                <a:latin typeface="Arial"/>
              </a:rPr>
              <a:t>№ </a:t>
            </a:r>
            <a:r>
              <a:rPr b="1" i="1" lang="ru-RU" sz="2800" spc="-1" strike="noStrike">
                <a:solidFill>
                  <a:srgbClr val="1c1c1c"/>
                </a:solidFill>
                <a:latin typeface="Arial"/>
              </a:rPr>
              <a:t>121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c1c"/>
                </a:solidFill>
                <a:latin typeface="Arial"/>
              </a:rPr>
              <a:t>Медиана, проведенная к гипотенузе, равна ее половине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392720" cy="2062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4788000" y="2421000"/>
                <a:ext cx="41767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едиана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СК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СК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  <m:r>
                          <m:t xml:space="preserve">−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6553080" cy="307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</p:pic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468360" y="3220920"/>
                <a:ext cx="820728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гипотенуза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едиана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5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с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9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Повторение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3311280" cy="301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87854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Новый материал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90280"/>
            <a:ext cx="83041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Через любую точку пространства проходит прямая, перпендикулярная к данной плоскости, и при том только одна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Закрепление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151080" cy="381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3851280" y="1844640"/>
                <a:ext cx="49687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СД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ямоугольны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параллелепипед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Д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дм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Д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д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Д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д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№ </a:t>
            </a: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125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257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c1c1c"/>
                </a:solidFill>
                <a:latin typeface="Garamond"/>
              </a:rPr>
              <a:t>Дома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П. 16 – 18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№ </a:t>
            </a: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127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5:14:43Z</dcterms:created>
  <dc:creator>школа №1</dc:creator>
  <dc:description/>
  <dc:language>en-US</dc:language>
  <cp:lastModifiedBy>Admin</cp:lastModifiedBy>
  <dcterms:modified xsi:type="dcterms:W3CDTF">2012-06-28T18:06:47Z</dcterms:modified>
  <cp:revision>10</cp:revision>
  <dc:subject/>
  <dc:title>Теорема о прямой, перпендикулярной к плоскости</dc:title>
</cp:coreProperties>
</file>