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4CA6-12AE-4D9B-A1F7-E997E690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3746-253A-4F78-9819-404FCC4A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8B00-E9BF-46EF-B29C-6D5D0BD5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1BF1-EFF0-4EC3-A436-159B796C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B023D-E8A7-48EB-A6B4-2EC39EF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DE60-56A1-4EAC-965C-3B941BD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1F01C-6BB9-4B01-BF41-4E27E92F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318E2-FEC2-421C-841E-FEFF0A8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1F70E-C225-4B42-8E78-844B2F5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E49F7-0EBF-4934-8D2F-AB26CB2F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B6D0-8CFA-4AEE-8014-F8E86A6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1A6E-10AD-4109-9996-CF116C8D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526AD-798A-4A63-8083-405098B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3E0B-86B3-4725-998C-D9EC2A0C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F4780-CF59-48F0-9F8D-E4DB835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3FB6B-6346-4633-AA56-DA6E3950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CEAB1-7844-45A2-B210-7F88620E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16B1-A955-4F2B-A7F2-30F953F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D4DE-DC81-4549-9CBC-24B887A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30B6-BC99-4B00-8C03-32865B84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8209-3127-4059-9E93-D54E6CDF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57AB-7ACB-4EF5-8CCB-479C74D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6F58-D63F-4739-9F85-E3FD3E97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CB9F-05AB-4DF7-B30D-88E416C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d6efd0"/>
              </a:gs>
              <a:gs pos="100000">
                <a:srgbClr val="9bb9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8294-22B1-437D-A0ED-73DC1B6B0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d6efd0"/>
                </a:gs>
                <a:gs pos="100000">
                  <a:srgbClr val="9bb9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bb9c3"/>
                </a:gs>
                <a:gs pos="100000">
                  <a:srgbClr val="65b5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E2F9-92C8-4B30-A344-D19EA2811AF4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3840" cy="25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5400" spc="-1" strike="noStrike">
                <a:solidFill>
                  <a:srgbClr val="1c1c1c"/>
                </a:solidFill>
                <a:latin typeface="Garamond"/>
              </a:rPr>
              <a:t>Теорема о прямой, перпендикулярной к плоскости</a:t>
            </a:r>
            <a:endParaRPr b="0" lang="en-US" sz="5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19280" y="4581000"/>
            <a:ext cx="435276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Дернова А.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учитель математики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кв.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МБОУ «Новотроицкая СОШ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c1c1c"/>
                </a:solidFill>
                <a:latin typeface="Garamond"/>
              </a:rPr>
              <a:t>Проверка домашней работы</a:t>
            </a:r>
            <a:endParaRPr b="0" lang="en-US" sz="40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7821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Медиана, проведенная к гипотенузе, равна ее половине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392720" cy="206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4788000" y="2421000"/>
                <a:ext cx="41767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553080" cy="307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468360" y="3220920"/>
                <a:ext cx="820728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гипотенуза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9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3311280" cy="301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87854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Новый материал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90280"/>
            <a:ext cx="83041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Через любую точку пространства проходит прямая, перпендикулярная к данной плоскости, и при том только одна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Закрепление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15108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3851280" y="1844640"/>
                <a:ext cx="49687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СД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ы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епипед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Д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Д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№ </a:t>
            </a: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125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257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Дома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П. 16 – 18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127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14:43Z</dcterms:created>
  <dc:creator>школа №1</dc:creator>
  <dc:description/>
  <dc:language>en-US</dc:language>
  <cp:lastModifiedBy>Admin</cp:lastModifiedBy>
  <dcterms:modified xsi:type="dcterms:W3CDTF">2012-06-28T18:06:47Z</dcterms:modified>
  <cp:revision>10</cp:revision>
  <dc:subject/>
  <dc:title>Теорема о прямой, перпендикулярной к плоскости</dc:title>
</cp:coreProperties>
</file>