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C844C-DA1B-4707-87D4-4C08F63B2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B3511-3713-41C6-9ED0-FB4FA4B00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CE2AC-FE00-4134-B5BF-2B62C6E7D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859EC-5888-4AD8-A2BA-34B42F2A1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CD9E01-B707-4002-ADD7-810AE9797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1774C4-C0E1-4619-BC9F-96AE29B45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BAC9AC-A8F4-481A-A0A3-C1EC91DBD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FAACB6-85A0-4C2E-8795-99E732D9C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3A63B7-44A5-4049-9B94-6F50F6C06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101E28-58AD-4A3E-98F7-9BA3BAF51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456D20-E274-4390-B041-954BCA9F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6EF60-4F30-44DC-B21E-A8786C3DA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3B3D9B-D953-49F3-AA5A-D5A78FDB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D5C737-127C-436E-AC37-DAEAD5AD7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DDE78C-2C90-4E7A-BF14-0038A9A78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C21F4D-627D-4A6B-A95A-F967760C5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159B44-B2BB-4732-8C4F-7BBC7AA61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6860C-12F2-452C-8FA3-33F8E4BE9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4C9B0-F268-4349-B87C-EDC352215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41A98-B418-4C4C-B2A2-9025D10C7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F5AE3-D1F5-4DEC-B8B6-89CCF2756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7EB4E-C1D3-4D66-B367-B3DDDC5F5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21D2A-49E1-455C-A017-F931F3998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A51DD-2FF9-4FDB-ACAB-7F9331532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b5d1"/>
            </a:gs>
            <a:gs pos="100000">
              <a:srgbClr val="d6ef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444680" cy="6858000"/>
          </a:xfrm>
          <a:prstGeom prst="rect">
            <a:avLst/>
          </a:prstGeom>
          <a:gradFill rotWithShape="0">
            <a:gsLst>
              <a:gs pos="0">
                <a:srgbClr val="d6efd0"/>
              </a:gs>
              <a:gs pos="100000">
                <a:srgbClr val="9bb9c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620640" y="1447920"/>
            <a:ext cx="8523360" cy="75960"/>
            <a:chOff x="620640" y="1447920"/>
            <a:chExt cx="8523360" cy="75960"/>
          </a:xfrm>
        </p:grpSpPr>
        <p:sp>
          <p:nvSpPr>
            <p:cNvPr id="2" name="Line 4"/>
            <p:cNvSpPr/>
            <p:nvPr/>
          </p:nvSpPr>
          <p:spPr>
            <a:xfrm>
              <a:off x="620640" y="1523880"/>
              <a:ext cx="8523360" cy="0"/>
            </a:xfrm>
            <a:prstGeom prst="line">
              <a:avLst/>
            </a:prstGeom>
            <a:ln cap="sq"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620640" y="1447920"/>
              <a:ext cx="8523360" cy="0"/>
            </a:xfrm>
            <a:prstGeom prst="line">
              <a:avLst/>
            </a:prstGeom>
            <a:ln cap="sq" w="7632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5b5d1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336699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390C7-9ED2-4462-AA5D-EDE22C55A92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b5d1"/>
            </a:gs>
            <a:gs pos="100000">
              <a:srgbClr val="d6ef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444680" cy="6858000"/>
            </a:xfrm>
            <a:prstGeom prst="rect">
              <a:avLst/>
            </a:prstGeom>
            <a:gradFill rotWithShape="0">
              <a:gsLst>
                <a:gs pos="0">
                  <a:srgbClr val="d6efd0"/>
                </a:gs>
                <a:gs pos="100000">
                  <a:srgbClr val="9bb9c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47" name="Group 4"/>
            <p:cNvGrpSpPr/>
            <p:nvPr/>
          </p:nvGrpSpPr>
          <p:grpSpPr>
            <a:xfrm>
              <a:off x="604800" y="3619440"/>
              <a:ext cx="8523360" cy="76320"/>
              <a:chOff x="604800" y="3619440"/>
              <a:chExt cx="8523360" cy="76320"/>
            </a:xfrm>
          </p:grpSpPr>
          <p:sp>
            <p:nvSpPr>
              <p:cNvPr id="48" name="Line 5"/>
              <p:cNvSpPr/>
              <p:nvPr/>
            </p:nvSpPr>
            <p:spPr>
              <a:xfrm>
                <a:off x="604800" y="3695760"/>
                <a:ext cx="8523360" cy="0"/>
              </a:xfrm>
              <a:prstGeom prst="line">
                <a:avLst/>
              </a:prstGeom>
              <a:ln cap="sq" w="255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9" name="Line 6"/>
              <p:cNvSpPr/>
              <p:nvPr/>
            </p:nvSpPr>
            <p:spPr>
              <a:xfrm>
                <a:off x="604800" y="3619440"/>
                <a:ext cx="8523360" cy="0"/>
              </a:xfrm>
              <a:prstGeom prst="line">
                <a:avLst/>
              </a:prstGeom>
              <a:ln cap="sq" w="7632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50" name="Rectangle 7"/>
            <p:cNvSpPr/>
            <p:nvPr/>
          </p:nvSpPr>
          <p:spPr>
            <a:xfrm>
              <a:off x="609480" y="1523880"/>
              <a:ext cx="8533080" cy="609840"/>
            </a:xfrm>
            <a:prstGeom prst="rect">
              <a:avLst/>
            </a:prstGeom>
            <a:gradFill rotWithShape="0">
              <a:gsLst>
                <a:gs pos="0">
                  <a:srgbClr val="9bb9c3"/>
                </a:gs>
                <a:gs pos="100000">
                  <a:srgbClr val="65b5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5b5d1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336699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4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5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06060-A1FE-419A-9CA0-84A71C83058E}" type="slidenum">
              <a:rPr b="0" lang="ru-RU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dt" idx="6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3840" cy="259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5b5d1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5400" spc="-1" strike="noStrike">
                <a:solidFill>
                  <a:srgbClr val="1c1c1c"/>
                </a:solidFill>
                <a:latin typeface="Garamond"/>
              </a:rPr>
              <a:t>Теорема о прямой, перпендикулярной к плоскости</a:t>
            </a:r>
            <a:endParaRPr b="0" lang="en-US" sz="5400" spc="-1" strike="noStrike">
              <a:solidFill>
                <a:srgbClr val="336699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419280" y="4581000"/>
            <a:ext cx="4352760" cy="105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d4d4d"/>
                </a:solidFill>
                <a:latin typeface="Arial"/>
              </a:rPr>
              <a:t>Дернова А.М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d4d4d"/>
                </a:solidFill>
                <a:latin typeface="Arial"/>
              </a:rPr>
              <a:t>учитель математики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I</a:t>
            </a:r>
            <a:r>
              <a:rPr b="1" i="1" lang="ru-RU" sz="2000" spc="-1" strike="noStrike">
                <a:solidFill>
                  <a:srgbClr val="4d4d4d"/>
                </a:solidFill>
                <a:latin typeface="Arial"/>
              </a:rPr>
              <a:t>кв.к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d4d4d"/>
                </a:solidFill>
                <a:latin typeface="Arial"/>
              </a:rPr>
              <a:t>МБОУ «Новотроицкая СОШ»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5b5d1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c1c1c"/>
                </a:solidFill>
                <a:latin typeface="Garamond"/>
              </a:rPr>
              <a:t>Проверка домашней работы</a:t>
            </a:r>
            <a:endParaRPr b="0" lang="en-US" sz="4000" spc="-1" strike="noStrike">
              <a:solidFill>
                <a:srgbClr val="336699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2640" y="1790280"/>
            <a:ext cx="782172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c1c1c"/>
                </a:solidFill>
                <a:latin typeface="Arial"/>
              </a:rPr>
              <a:t>№ </a:t>
            </a:r>
            <a:r>
              <a:rPr b="1" i="1" lang="ru-RU" sz="2800" spc="-1" strike="noStrike">
                <a:solidFill>
                  <a:srgbClr val="1c1c1c"/>
                </a:solidFill>
                <a:latin typeface="Arial"/>
              </a:rPr>
              <a:t>121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c1c1c"/>
                </a:solidFill>
                <a:latin typeface="Arial"/>
              </a:rPr>
              <a:t>Медиана, проведенная к гипотенузе, равна ее половине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395280" y="2421000"/>
            <a:ext cx="4392720" cy="2062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7" name="Object 5"/>
              <p:cNvSpPr txBox="1"/>
              <p:nvPr/>
            </p:nvSpPr>
            <p:spPr>
              <a:xfrm>
                <a:off x="4788000" y="2421000"/>
                <a:ext cx="4176720" cy="16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Дано</m:t>
                        </m:r>
                        <m:r>
                          <m:t xml:space="preserve">:</m:t>
                        </m:r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АВС</m:t>
                        </m:r>
                        <m:r>
                          <m:t xml:space="preserve">,</m:t>
                        </m:r>
                        <m:r>
                          <m:t xml:space="preserve">∠</m:t>
                        </m:r>
                        <m:r>
                          <m:t xml:space="preserve">С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АС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см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rPr>
                            <m:lit/>
                            <m:nor/>
                          </m:rPr>
                          <m:t xml:space="preserve">ВС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см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СМ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медиана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rPr>
                            <m:lit/>
                            <m:nor/>
                          </m:rPr>
                          <m:t xml:space="preserve">СК</m:t>
                        </m:r>
                        <m:r>
                          <m:t xml:space="preserve">⊥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АВС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СК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см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Найти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КМ</m:t>
                        </m:r>
                        <m:r>
                          <m:t xml:space="preserve">−</m:t>
                        </m:r>
                        <m:r>
                          <m:t xml:space="preserve">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6553080" cy="30765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65b5d1"/>
            </a:outerShdw>
          </a:effectLst>
        </p:spPr>
      </p:pic>
      <mc:AlternateContent>
        <mc:Choice xmlns:a14="http://schemas.microsoft.com/office/drawing/2010/main" Requires="a14">
          <p:sp>
            <p:nvSpPr>
              <p:cNvPr id="99" name="Object 5"/>
              <p:cNvSpPr txBox="1"/>
              <p:nvPr/>
            </p:nvSpPr>
            <p:spPr>
              <a:xfrm>
                <a:off x="468360" y="3220920"/>
                <a:ext cx="8207280" cy="24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Решение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гипотенуза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АС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ВС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см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см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см</m:t>
                        </m:r>
                      </m:e>
                      <m:e>
                        <m:r>
                          <m:t xml:space="preserve">Т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к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СМ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медиана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то</m:t>
                        </m:r>
                        <m:r>
                          <m:rPr>
                            <m:lit/>
                            <m:nor/>
                          </m:rPr>
                          <m:t xml:space="preserve">СМ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см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КМ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5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см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см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9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см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см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5b5d1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1c1c1c"/>
                </a:solidFill>
                <a:latin typeface="Garamond"/>
              </a:rPr>
              <a:t>Повторение</a:t>
            </a:r>
            <a:endParaRPr b="0" lang="en-US" sz="4400" spc="-1" strike="noStrike">
              <a:solidFill>
                <a:srgbClr val="336699"/>
              </a:solidFill>
              <a:latin typeface="Garamond"/>
            </a:endParaRPr>
          </a:p>
        </p:txBody>
      </p:sp>
      <p:pic>
        <p:nvPicPr>
          <p:cNvPr id="101" name="Picture 7" descr=""/>
          <p:cNvPicPr/>
          <p:nvPr/>
        </p:nvPicPr>
        <p:blipFill>
          <a:blip r:embed="rId1"/>
          <a:stretch/>
        </p:blipFill>
        <p:spPr>
          <a:xfrm>
            <a:off x="2916360" y="1413000"/>
            <a:ext cx="3311280" cy="3012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"/>
          <p:cNvPicPr/>
          <p:nvPr/>
        </p:nvPicPr>
        <p:blipFill>
          <a:blip r:embed="rId2"/>
          <a:stretch/>
        </p:blipFill>
        <p:spPr>
          <a:xfrm>
            <a:off x="179280" y="4581360"/>
            <a:ext cx="878544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5b5d1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1c1c1c"/>
                </a:solidFill>
                <a:latin typeface="Garamond"/>
              </a:rPr>
              <a:t>Новый материал</a:t>
            </a:r>
            <a:endParaRPr b="0" lang="en-US" sz="4400" spc="-1" strike="noStrike">
              <a:solidFill>
                <a:srgbClr val="336699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0920" y="1790280"/>
            <a:ext cx="830412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3366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c1c1c"/>
                </a:solidFill>
                <a:latin typeface="Arial"/>
              </a:rPr>
              <a:t>Через любую точку пространства проходит прямая, перпендикулярная к данной плоскости, и при том только одна.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5b5d1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1c1c1c"/>
                </a:solidFill>
                <a:latin typeface="Garamond"/>
              </a:rPr>
              <a:t>Закрепление</a:t>
            </a:r>
            <a:endParaRPr b="0" lang="en-US" sz="4400" spc="-1" strike="noStrike">
              <a:solidFill>
                <a:srgbClr val="336699"/>
              </a:solidFill>
              <a:latin typeface="Garamond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3151080" cy="3816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7" name="Object 6"/>
              <p:cNvSpPr txBox="1"/>
              <p:nvPr/>
            </p:nvSpPr>
            <p:spPr>
              <a:xfrm>
                <a:off x="3851280" y="1844640"/>
                <a:ext cx="4968720" cy="18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Дано</m:t>
                        </m:r>
                        <m:r>
                          <m:t xml:space="preserve">: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АВСДА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С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Д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прямоугольный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rPr>
                            <m:lit/>
                            <m:nor/>
                          </m:rPr>
                          <m:t xml:space="preserve">параллелепипед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АД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дм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rPr>
                            <m:lit/>
                            <m:nor/>
                          </m:rPr>
                          <m:t xml:space="preserve">ДС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дм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Д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rPr>
                            <m:lit/>
                            <m:nor/>
                          </m:rPr>
                          <m:t xml:space="preserve">дм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Найти</m:t>
                        </m:r>
                        <m:r>
                          <m:t xml:space="preserve">: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5b5d1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1c1c1c"/>
                </a:solidFill>
                <a:latin typeface="Garamond"/>
              </a:rPr>
              <a:t>№ </a:t>
            </a:r>
            <a:r>
              <a:rPr b="1" i="1" lang="ru-RU" sz="4400" spc="-1" strike="noStrike">
                <a:solidFill>
                  <a:srgbClr val="1c1c1c"/>
                </a:solidFill>
                <a:latin typeface="Garamond"/>
              </a:rPr>
              <a:t>125</a:t>
            </a:r>
            <a:endParaRPr b="0" lang="en-US" sz="4400" spc="-1" strike="noStrike">
              <a:solidFill>
                <a:srgbClr val="336699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525780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5b5d1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1c1c1c"/>
                </a:solidFill>
                <a:latin typeface="Garamond"/>
              </a:rPr>
              <a:t>Дома</a:t>
            </a:r>
            <a:endParaRPr b="0" lang="en-US" sz="4400" spc="-1" strike="noStrike">
              <a:solidFill>
                <a:srgbClr val="336699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c1c1c"/>
                </a:solidFill>
                <a:latin typeface="Arial"/>
              </a:rPr>
              <a:t>П. 16 – 18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c1c1c"/>
                </a:solidFill>
                <a:latin typeface="Arial"/>
              </a:rPr>
              <a:t>№ </a:t>
            </a:r>
            <a:r>
              <a:rPr b="1" i="1" lang="ru-RU" sz="3200" spc="-1" strike="noStrike">
                <a:solidFill>
                  <a:srgbClr val="1c1c1c"/>
                </a:solidFill>
                <a:latin typeface="Arial"/>
              </a:rPr>
              <a:t>127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9T15:14:43Z</dcterms:created>
  <dc:creator>школа №1</dc:creator>
  <dc:description/>
  <dc:language>en-US</dc:language>
  <cp:lastModifiedBy>Admin</cp:lastModifiedBy>
  <dcterms:modified xsi:type="dcterms:W3CDTF">2012-06-28T18:06:47Z</dcterms:modified>
  <cp:revision>10</cp:revision>
  <dc:subject/>
  <dc:title>Теорема о прямой, перпендикулярной к плоскости</dc:title>
</cp:coreProperties>
</file>