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467-453C-45DB-A1B8-BBAAC3B7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5C2-3487-410B-BAA4-97390E80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055-4E93-477A-B28B-78EF0745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C58-A26A-499A-80E6-4A938F4B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71D-E379-4D6E-B1A5-493E72BB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6E3-003A-4125-BF53-915A8F23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FA6-D7AE-45DD-AE8E-8C02CEB7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7E61-4E64-4306-942E-19F98CED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86B-5CF3-41F0-B075-5A472EDF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562-E439-49F1-8C76-C1C17158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806-9C35-459F-B9BA-2B74B80C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2EAE-1CBB-4382-B23B-856E6A6B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78A7-065A-427A-A741-BA34C23D73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283007095_313e42303d383a30-17"/>
          <p:cNvPicPr/>
          <p:nvPr/>
        </p:nvPicPr>
        <p:blipFill>
          <a:blip r:embed="rId1"/>
          <a:stretch/>
        </p:blipFill>
        <p:spPr>
          <a:xfrm>
            <a:off x="121932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828800" y="3200400"/>
            <a:ext cx="548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Строение растения кукуру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981080" y="3276720"/>
            <a:ext cx="7162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ение растения кукуруз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orn4"/>
          <p:cNvPicPr/>
          <p:nvPr/>
        </p:nvPicPr>
        <p:blipFill>
          <a:blip r:embed="rId1"/>
          <a:stretch/>
        </p:blipFill>
        <p:spPr>
          <a:xfrm>
            <a:off x="533520" y="304920"/>
            <a:ext cx="8153280" cy="640080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>
            <a:off x="1814400" y="6095880"/>
            <a:ext cx="551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готовка почвы к посев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img1274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81" name="WordArt 5"/>
          <p:cNvSpPr txBox="1"/>
          <p:nvPr/>
        </p:nvSpPr>
        <p:spPr>
          <a:xfrm>
            <a:off x="2133720" y="3143160"/>
            <a:ext cx="4876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хемы посева кукуруз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DX_Programm_rdax_170x275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tochn-vysev-16"/>
          <p:cNvPicPr/>
          <p:nvPr/>
        </p:nvPicPr>
        <p:blipFill>
          <a:blip r:embed="rId1"/>
          <a:stretch/>
        </p:blipFill>
        <p:spPr>
          <a:xfrm>
            <a:off x="2071800" y="1604880"/>
            <a:ext cx="50004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01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pnevmat_seyalki_dlia_poseva_kukur_i_svekly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image067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default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0199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>
            <a:off x="2781360" y="380880"/>
            <a:ext cx="3581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ходы кукуруз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image042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5"/>
          <p:cNvSpPr txBox="1"/>
          <p:nvPr/>
        </p:nvSpPr>
        <p:spPr>
          <a:xfrm>
            <a:off x="380880" y="0"/>
            <a:ext cx="8610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работка посевов против вредителей и болезн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image002_2"/>
          <p:cNvPicPr/>
          <p:nvPr/>
        </p:nvPicPr>
        <p:blipFill>
          <a:blip r:embed="rId1"/>
          <a:stretch/>
        </p:blipFill>
        <p:spPr>
          <a:xfrm>
            <a:off x="457200" y="228600"/>
            <a:ext cx="8077320" cy="6262560"/>
          </a:xfrm>
          <a:prstGeom prst="rect">
            <a:avLst/>
          </a:prstGeom>
          <a:ln w="0">
            <a:noFill/>
          </a:ln>
        </p:spPr>
      </p:pic>
      <p:sp>
        <p:nvSpPr>
          <p:cNvPr id="108" name="WordArt 5"/>
          <p:cNvSpPr txBox="1"/>
          <p:nvPr/>
        </p:nvSpPr>
        <p:spPr>
          <a:xfrm>
            <a:off x="457200" y="228600"/>
            <a:ext cx="4800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борка кукурузы на сило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300px-SweetcornFlower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632448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457200" y="457200"/>
            <a:ext cx="4572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жское соцвет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2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1126_425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33692010-11-1480992018"/>
          <p:cNvPicPr/>
          <p:nvPr/>
        </p:nvPicPr>
        <p:blipFill>
          <a:blip r:embed="rId1"/>
          <a:stretch/>
        </p:blipFill>
        <p:spPr>
          <a:xfrm>
            <a:off x="457200" y="228600"/>
            <a:ext cx="81532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50px-Maiskolben_auf_dem_Feld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647712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4495680" y="5715000"/>
            <a:ext cx="4114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нское соцвет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283007247_313e42303d383a30-15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400800"/>
          </a:xfrm>
          <a:prstGeom prst="rect">
            <a:avLst/>
          </a:prstGeom>
          <a:ln w="0">
            <a:noFill/>
          </a:ln>
        </p:spPr>
      </p:pic>
      <p:sp>
        <p:nvSpPr>
          <p:cNvPr id="57" name="WordArt 5"/>
          <p:cNvSpPr txBox="1"/>
          <p:nvPr/>
        </p:nvSpPr>
        <p:spPr>
          <a:xfrm>
            <a:off x="1143000" y="22860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даточные (воздушные корни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283007278_313e42303d383a30-16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4-100323-kukuruza-1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ages"/>
          <p:cNvPicPr/>
          <p:nvPr/>
        </p:nvPicPr>
        <p:blipFill>
          <a:blip r:embed="rId1"/>
          <a:stretch/>
        </p:blipFill>
        <p:spPr>
          <a:xfrm>
            <a:off x="304920" y="304920"/>
            <a:ext cx="8305560" cy="6248160"/>
          </a:xfrm>
          <a:prstGeom prst="rect">
            <a:avLst/>
          </a:prstGeom>
          <a:ln w="0">
            <a:noFill/>
          </a:ln>
        </p:spPr>
      </p:pic>
      <p:sp>
        <p:nvSpPr>
          <p:cNvPr id="67" name="WordArt 5"/>
          <p:cNvSpPr txBox="1"/>
          <p:nvPr/>
        </p:nvSpPr>
        <p:spPr>
          <a:xfrm>
            <a:off x="2833560" y="5181480"/>
            <a:ext cx="4633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лубая кукуру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1233010311_255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92962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kukuruza"/>
          <p:cNvPicPr/>
          <p:nvPr/>
        </p:nvPicPr>
        <p:blipFill>
          <a:blip r:embed="rId1"/>
          <a:stretch/>
        </p:blipFill>
        <p:spPr>
          <a:xfrm>
            <a:off x="-771480" y="-352440"/>
            <a:ext cx="10688760" cy="75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</dc:creator>
  <dc:description/>
  <dc:language>en-US</dc:language>
  <cp:lastModifiedBy>R</cp:lastModifiedBy>
  <dcterms:modified xsi:type="dcterms:W3CDTF">2014-04-09T07:07:1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