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12.png" ContentType="image/png"/>
  <Override PartName="/ppt/media/image22.gif" ContentType="image/gif"/>
  <Override PartName="/ppt/media/image21.jpeg" ContentType="image/jpeg"/>
  <Override PartName="/ppt/media/image16.jpeg" ContentType="image/jpeg"/>
  <Override PartName="/ppt/media/image20.png" ContentType="image/png"/>
  <Override PartName="/ppt/media/image18.gif" ContentType="image/gif"/>
  <Override PartName="/ppt/media/image17.jpeg" ContentType="image/jpeg"/>
  <Override PartName="/ppt/media/image23.gif" ContentType="image/gif"/>
  <Override PartName="/ppt/media/image15.jpeg" ContentType="image/jpeg"/>
  <Override PartName="/ppt/media/image14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865-B77B-4D4C-8A77-DB898CCD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BB4-FE4A-4657-9843-C69EF1D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47D-AF2F-425D-B2FD-261B9196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DBC-ABF0-45C9-BF4B-AC7797D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0CD-65F2-494F-8B53-44D0243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01A-EFA5-4E54-AEA9-4590801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8C5-9FD7-4E28-A49C-0C398E0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02B-F0FB-4A0A-BA0D-F325A2D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900-E29A-42E5-986F-682E02F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E43-4B6F-4D85-B5FC-7F1908F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22D-E315-4142-ADB2-D759569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1A2-541E-4C6E-9836-4FA0838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592-5611-4F1B-B7D7-06A14A168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Животные.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 4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«Строение и деятельность внутренних органов земновод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ь изучение класса Земновод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способления к наземной и водной средам об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ать формировать умения работать с учебником, схемой, рисун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frog2-9[1]"/>
          <p:cNvPicPr/>
          <p:nvPr/>
        </p:nvPicPr>
        <p:blipFill>
          <a:blip r:embed="rId2"/>
          <a:stretch/>
        </p:blipFill>
        <p:spPr>
          <a:xfrm>
            <a:off x="7380360" y="4005360"/>
            <a:ext cx="15606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8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пишите , как осуществляется кровообращение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9" descr="frog4-11"/>
          <p:cNvPicPr/>
          <p:nvPr/>
        </p:nvPicPr>
        <p:blipFill>
          <a:blip r:embed="rId3"/>
          <a:stretch/>
        </p:blipFill>
        <p:spPr>
          <a:xfrm>
            <a:off x="2340000" y="3786120"/>
            <a:ext cx="374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1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Нервная система и органы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Безымянный"/>
          <p:cNvPicPr/>
          <p:nvPr/>
        </p:nvPicPr>
        <p:blipFill>
          <a:blip r:embed="rId2"/>
          <a:stretch/>
        </p:blipFill>
        <p:spPr>
          <a:xfrm>
            <a:off x="971640" y="785880"/>
            <a:ext cx="7272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362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стоит из центрального и периферического отде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Сольно развит передний мозг, который разделён на два полуша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Плохо развит мозжеч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entury Schoolbook"/>
              </a:rPr>
              <a:t>Условные рефлексы вырабатываются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е 10"/>
          <p:cNvSpPr/>
          <p:nvPr/>
        </p:nvSpPr>
        <p:spPr>
          <a:xfrm>
            <a:off x="332748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ищеварительная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08000" y="765000"/>
            <a:ext cx="5400720" cy="5953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35280" y="189000"/>
            <a:ext cx="3600360" cy="648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1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Зарисуйте и подпишите в тетради строение пищеваритель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2) Найдите в учебнике (</a:t>
            </a: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&amp; 37)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 прочитайте и запишите механизм  пищеварения у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green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одготовить домашнее задание в виде короткого сообщения о строении, функциях и особенностях, связанных с образом жизни, внутренних систем Земноводных (сообщения сопровождаются рисунк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an13[1]"/>
          <p:cNvPicPr/>
          <p:nvPr/>
        </p:nvPicPr>
        <p:blipFill>
          <a:blip r:embed="rId2"/>
          <a:stretch/>
        </p:blipFill>
        <p:spPr>
          <a:xfrm>
            <a:off x="684360" y="5661000"/>
            <a:ext cx="777528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frog5-11[1]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limon55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работа с рисунком «внешнее строение лягушки», работа с терминами, проверка домашней таблица «Скелет и мускулату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новой тем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, дыхательная система, кровеносная система, выделительная система, нервная система,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бедить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что Земноводные получили своё название заслуж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WordArt 5"/>
          <p:cNvSpPr txBox="1"/>
          <p:nvPr/>
        </p:nvSpPr>
        <p:spPr>
          <a:xfrm>
            <a:off x="1547640" y="189000"/>
            <a:ext cx="604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урок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Рисунок 7" descr="133"/>
          <p:cNvPicPr/>
          <p:nvPr/>
        </p:nvPicPr>
        <p:blipFill>
          <a:blip r:embed="rId2"/>
          <a:stretch/>
        </p:blipFill>
        <p:spPr>
          <a:xfrm>
            <a:off x="6897600" y="4581360"/>
            <a:ext cx="2246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зовите части тела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еречислите внешние органы лягушки, расположенные на го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азовите части передней конечности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зовите части задней конечности лягушки. Почему задние конечности длиннее перед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паа"/>
          <p:cNvPicPr/>
          <p:nvPr/>
        </p:nvPicPr>
        <p:blipFill>
          <a:blip r:embed="rId2"/>
          <a:stretch/>
        </p:blipFill>
        <p:spPr>
          <a:xfrm>
            <a:off x="900000" y="3325680"/>
            <a:ext cx="69836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Работа с терм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Дайте пояс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лавательная перепон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лёгочное дых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кожные желез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резонато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пояс конечнос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мускул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Century Schoolbook"/>
              </a:rPr>
              <a:t>барабанная перепонка</a:t>
            </a:r>
            <a:r>
              <a:rPr b="0" i="1" lang="ru-RU" sz="3200" spc="-1" strike="noStrike">
                <a:solidFill>
                  <a:srgbClr val="d60093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frog5-6"/>
          <p:cNvPicPr/>
          <p:nvPr/>
        </p:nvPicPr>
        <p:blipFill>
          <a:blip r:embed="rId9"/>
          <a:stretch/>
        </p:blipFill>
        <p:spPr>
          <a:xfrm>
            <a:off x="6421320" y="3933720"/>
            <a:ext cx="243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елет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Безымянный"/>
          <p:cNvPicPr/>
          <p:nvPr/>
        </p:nvPicPr>
        <p:blipFill>
          <a:blip r:embed="rId2"/>
          <a:stretch/>
        </p:blipFill>
        <p:spPr>
          <a:xfrm>
            <a:off x="539640" y="809640"/>
            <a:ext cx="8064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хема внутреннего строения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нутреннее строение связано с водно-наземной средой обитания. Земноводные по сравнению с рыбами имеют более сложное внутреннее строение. Усложнение касается дыхательной и кровеносной систем в связи с появлением легких и двух кругов кровообращения. Более сложное строение, чем у рыб, имеют нервная система и органы чув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н"/>
          <p:cNvPicPr/>
          <p:nvPr/>
        </p:nvPicPr>
        <p:blipFill>
          <a:blip r:embed="rId2"/>
          <a:stretch/>
        </p:blipFill>
        <p:spPr>
          <a:xfrm>
            <a:off x="250920" y="620640"/>
            <a:ext cx="8599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40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Дыхатель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Безымянный"/>
          <p:cNvPicPr/>
          <p:nvPr/>
        </p:nvPicPr>
        <p:blipFill>
          <a:blip r:embed="rId2"/>
          <a:stretch/>
        </p:blipFill>
        <p:spPr>
          <a:xfrm>
            <a:off x="179280" y="3860640"/>
            <a:ext cx="5934240" cy="283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Безымянный"/>
          <p:cNvPicPr/>
          <p:nvPr/>
        </p:nvPicPr>
        <p:blipFill>
          <a:blip r:embed="rId3"/>
          <a:stretch/>
        </p:blipFill>
        <p:spPr>
          <a:xfrm>
            <a:off x="179280" y="1052640"/>
            <a:ext cx="5977080" cy="2190600"/>
          </a:xfrm>
          <a:prstGeom prst="rect">
            <a:avLst/>
          </a:prstGeom>
          <a:ln w="0">
            <a:noFill/>
          </a:ln>
        </p:spPr>
      </p:pic>
      <p:sp>
        <p:nvSpPr>
          <p:cNvPr id="68" name="Поле 8"/>
          <p:cNvSpPr/>
          <p:nvPr/>
        </p:nvSpPr>
        <p:spPr>
          <a:xfrm>
            <a:off x="179280" y="620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троение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е 9"/>
          <p:cNvSpPr/>
          <p:nvPr/>
        </p:nvSpPr>
        <p:spPr>
          <a:xfrm>
            <a:off x="179280" y="3500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еханизм дыхания земновод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56000" y="692280"/>
            <a:ext cx="287964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Легкие -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редставляют собой небольшие вытянутые мешочки с тонкими эластичными стен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е 10"/>
          <p:cNvSpPr/>
          <p:nvPr/>
        </p:nvSpPr>
        <p:spPr>
          <a:xfrm>
            <a:off x="6156360" y="3573360"/>
            <a:ext cx="287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ыхание происходит за счет опускания и подъема дна ротовой пол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11"/>
          <p:cNvSpPr/>
          <p:nvPr/>
        </p:nvSpPr>
        <p:spPr>
          <a:xfrm>
            <a:off x="6156360" y="5013360"/>
            <a:ext cx="2879640" cy="167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у земноводных примитивны, Поэтому важное значение в газообмене име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entury Schoolbook"/>
              </a:rPr>
              <a:t>кожа.</a:t>
            </a:r>
            <a:r>
              <a:rPr b="0" lang="ru-RU" sz="2000" spc="-1" strike="noStrike">
                <a:solidFill>
                  <a:srgbClr val="660033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green03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стоятельная работа с учебни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&amp; 37)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айдите в тексте и выпишите особенности дыхательной системы и механизма дыхания у земноводных связанные с наземной средой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" descr="frog3-10[1]"/>
          <p:cNvPicPr/>
          <p:nvPr/>
        </p:nvPicPr>
        <p:blipFill>
          <a:blip r:embed="rId3"/>
          <a:stretch/>
        </p:blipFill>
        <p:spPr>
          <a:xfrm>
            <a:off x="6227640" y="4221000"/>
            <a:ext cx="2189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5" descr="siren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Кровеносная система земновод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3280" y="620280"/>
            <a:ext cx="4032360" cy="331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язи с развитием легких у земноводных по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втор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мал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bc0000"/>
                </a:solidFill>
                <a:latin typeface="Century Schoolbook"/>
              </a:rPr>
              <a:t>легочный</a:t>
            </a:r>
            <a:r>
              <a:rPr b="0" lang="ru-RU" sz="2800" spc="-1" strike="noStrike">
                <a:solidFill>
                  <a:srgbClr val="bc0000"/>
                </a:solidFill>
                <a:latin typeface="Century Schoolbook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 кровообращ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н"/>
          <p:cNvPicPr/>
          <p:nvPr/>
        </p:nvPicPr>
        <p:blipFill>
          <a:blip r:embed="rId2"/>
          <a:stretch/>
        </p:blipFill>
        <p:spPr>
          <a:xfrm>
            <a:off x="108000" y="620640"/>
            <a:ext cx="4824360" cy="3745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Безымянный"/>
          <p:cNvPicPr/>
          <p:nvPr/>
        </p:nvPicPr>
        <p:blipFill>
          <a:blip r:embed="rId3"/>
          <a:stretch/>
        </p:blipFill>
        <p:spPr>
          <a:xfrm>
            <a:off x="4932360" y="4025880"/>
            <a:ext cx="4105440" cy="2692440"/>
          </a:xfrm>
          <a:prstGeom prst="rect">
            <a:avLst/>
          </a:prstGeom>
          <a:ln w="0">
            <a:noFill/>
          </a:ln>
        </p:spPr>
      </p:pic>
      <p:sp>
        <p:nvSpPr>
          <p:cNvPr id="82" name="Поле 9"/>
          <p:cNvSpPr/>
          <p:nvPr/>
        </p:nvSpPr>
        <p:spPr>
          <a:xfrm>
            <a:off x="108000" y="4437000"/>
            <a:ext cx="475128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ердц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трёхкамерн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предсерд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дин желудочек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овь – смеша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19:54Z</dcterms:created>
  <dc:creator>1</dc:creator>
  <dc:description/>
  <dc:language>en-US</dc:language>
  <cp:lastModifiedBy>Николай</cp:lastModifiedBy>
  <dcterms:modified xsi:type="dcterms:W3CDTF">2013-01-16T11:14:51Z</dcterms:modified>
  <cp:revision>14</cp:revision>
  <dc:subject/>
  <dc:title>Слайд 1</dc:title>
</cp:coreProperties>
</file>