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A82-0150-41BB-8974-9F09D308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A60-DC4C-4791-8CA5-6380309A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82A-DB65-47EA-87A4-32636E40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C30-12C3-4861-96EF-005E5734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E878-20E0-4413-9622-27448A85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DB38-F577-4F9F-8DEC-8CB2F78F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E46-C5E4-4942-9FC8-4BCB1520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6220-C1EE-494E-8937-99804F25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0250-C8FB-4E36-B1CA-8A325B33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FFC9-7ACC-4E46-9222-CB61593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DF9D-B106-4461-BD7E-F013381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DDC-FA49-4720-AC64-83723E6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896A-62DF-4B92-B1DB-DA9B05E4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B90D-E039-4465-9CBE-20B681E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619E-0066-400F-9890-9257D3A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A49F-DF57-470A-812A-73E598C3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478A-005B-45EA-9ABC-FB012BF3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D54-84FB-4E65-A9DB-2DFD958C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56E-E1D1-4ED7-989C-900CAE1C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6C8-82C9-4D22-AF51-651BB4BC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673-686E-452F-99EC-A1262F6D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C83-7897-416A-9FD8-ECECF59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F7C-F42C-4630-9611-97A46404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4C9-178E-4F06-AF29-347CB6B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5772-494E-4F3F-A3AE-BE38FEB1C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5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26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27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28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37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38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39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40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41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42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3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44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45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46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47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D8F8-3F9B-4797-9B8A-6576A5AA56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979640" y="2289240"/>
            <a:ext cx="6769080" cy="32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йны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ные явления,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: 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удин Денис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Скругленный прямоугольник 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53964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угрожает человеку вблизи действующего вулк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16000" y="1844640"/>
            <a:ext cx="8028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бросы тепла и бомб из жерла, пепла толщиной несколько 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ежающие лаву оползни и обвалы (которые мчатся со скоростью курьерного поезда и погребают все на своем пу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температурные потоки пепла и газов – настоящий бич окрестностей вулкана (несущиеся вниз со скоростью 350 км/ч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енее опасны ядовитые газы – извер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0"/>
            <a:ext cx="8964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ОЛЗ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зящее смещение масс горных пород вниз по склону под влиянием силы тяжести. Возникают вследствие подмыва склона, переувлажнения (особенно при наличии чередования водоупорных и водоносных пород), сейсмических толчк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6191280" cy="4294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348000" y="60786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хема образования ополз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79280" y="0"/>
            <a:ext cx="8964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ушительные оползни, движущиеся в виде беспорядочной груды обломков, называют камнепадами; если блок перемещается по некоторой ранее существовавшей поверхности как единое целое, то оползень считается обва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06728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val.avi" descr=""/>
          <p:cNvPicPr/>
          <p:nvPr/>
        </p:nvPicPr>
        <p:blipFill>
          <a:blip r:embed="rId1"/>
          <a:stretch/>
        </p:blipFill>
        <p:spPr>
          <a:xfrm>
            <a:off x="2411280" y="1898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1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042920" y="0"/>
            <a:ext cx="8101080" cy="6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лзни наносят большой ущерб сельскохозяйственным угодьям, промышленным предприятиям, населенным пунктам. Иногда оползни сопровождаются гибелью людей и живот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меры по защите от оползней вы знае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реп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лзневых склонов берегов морей, рек и озер подпорными и волноотбойными стенками, набереж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лзающие грунты укрепляют сваями, расположенными в шахм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аживают растительность на склон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пные оползни можно предотвратить дренажными сооружениями, перекрывающими путь поверхностным и подземным водам к оползневому материал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рхностные воды отводятся канавами, подземные — штольнями или горизонтальными скважин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859280" y="260280"/>
            <a:ext cx="410544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 араб. сайль — бурный поток), грязевые или грязекаменные потоки, внезапно возникающие в руслах горных рек вследствие резкого паводка, вызванного интенсивными ливнями, бурным снеготаянием и др. причинами. Могут производить огромные разрушения. Борьба с селями ведется преимущественно путем закрепления почвенного и растительного покрова, строительства специальных гидротехнических сооружений (напр., плотин 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el.avi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1258920" y="45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0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187280" y="1801800"/>
            <a:ext cx="5256360" cy="5056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900000" y="393840"/>
            <a:ext cx="7632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никальный комплекс противоселевых мероприятий был проведен в 1966 году по защите Алма-Аты, часто страдавшей от этого бедствия. На р. Алмаатинке направленным взрывом была создана не имеющая аналогов в мире плотина высотой 150 м, надежно защищающая гор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877080" y="551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, затопленный селевым пото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516720" y="558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0" y="0"/>
            <a:ext cx="889308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А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 ср.-век. лат. labina — оползень) (снежный обвал), масса снега, падающая или соскальзывающая с крутых склонов гор, аналогично обвалу. Скорость движения в среднем 20-30 м/с. Падение лавины сопровождается образованием воздушной предлавинной волны, производящей наибольшие разруш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орных районах, где снежные лавины возникают ежегодно, созданы специальные службы, своевременно предупреждающие население о грозящей опасности. Осуществляется искусственный сброс лавин путем их обстрела, отвод лавин дамбами и лавинорезами, проводится укрепление склонов опорными сооруже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lavina.avi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3311280" cy="2484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5724360" y="6524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24000" y="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годня на уроке мы вспомнили о стихийных природных явлениях, происходящих в литосфере. Узнали насколько они опасны для человека и какие серьезные разрушения и последствия могут повлечь за собой. И давайте рассмотрим, каковы подобных случаях  должны быть действия человека при эвакуации и оказании медицинской помощ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042920" y="1471680"/>
            <a:ext cx="79218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обнаружения пострадавших, придавленных обломками, особенно, если человек длительное время находится под завалом, - необходимо вызвать спасателей и врача (в этом случае человек может погибнуть от синдрома длительного сдавливания – поэтому нужны врач и спасател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помощь пострадавшим оказывается в два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первая медицинская помощь непосредственно в очаге поражения: остановка кровотечения при ранении, искусственное дыхание, массаж серд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специализированная медицинская помощь и стационарное ле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321080" cy="2198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755640" y="3357720"/>
            <a:ext cx="7272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слабых землетряс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55640" y="3500280"/>
            <a:ext cx="21600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55640" y="386064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55640" y="4724280"/>
            <a:ext cx="216000" cy="216000"/>
          </a:xfrm>
          <a:prstGeom prst="rect">
            <a:avLst/>
          </a:prstGeom>
          <a:solidFill>
            <a:srgbClr val="ff7c8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755640" y="4292640"/>
            <a:ext cx="216000" cy="2174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755640" y="5157720"/>
            <a:ext cx="216000" cy="216000"/>
          </a:xfrm>
          <a:prstGeom prst="rect">
            <a:avLst/>
          </a:prstGeom>
          <a:solidFill>
            <a:srgbClr val="ff7c8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0" y="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йоны распространения землетрясений в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5364000" y="3933720"/>
            <a:ext cx="345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нести на контурную карту районы России, в которых стихийные природные явления в литосфере происходят наиболее час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5516640"/>
            <a:ext cx="414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дарные волны распространяются в разные стороны от эпицентра. Сила землетрясения оценивается в баллах от 1 до 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5516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5003640" y="177840"/>
            <a:ext cx="4140360" cy="75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ЕМЛЕТРЯС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одземные толчки и колебания земной поверхности, возникающие в результате внезапных смещений и разрывов в земной коре и верхней мантии и передающиеся на большие расстоя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ожение и место начала перемещения масс (гипоцентр) определяют путем регистрации сейсмических волн, возникающих при землетрясениях (у слабых землетрясений очаг и гипоцентр совпадают). Проекция гипоцентра на земную поверхность именуется эпицентром. Вокруг него располагается область наибольших разруш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2808360" y="18900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огромного числа происходящих ежегодно землетрясений, только одно имеет магнитуду равную или более 8, десять — 7-7,9, сто — 6-6,9. Всякое землетрясение с магнитудой св. 7 может стать крупной катастроф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armenia.avi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74920" cy="3130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4643280" y="3297240"/>
            <a:ext cx="450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 декабря 1988 года в Армении произошло землетрясение силой 6,9 баллов по шкале Рихтера. Находившийся в эпицентре город Спитак был полностью разрушен. Общее число жертв достигло 25 тыся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116000" y="5589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755640" y="32220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 из курса ОБЖ, вспомн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следует поступать при землетрясен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58920" y="1471680"/>
            <a:ext cx="78850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ервые толчки застали вас дома (1 этаж), надо немедленно взять детей и как можно скорее выбежать на улицу (15-20 секун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оказался на 2 этаже и выше – встать в дверных проемах, распахнув двери. Можно воспользоваться углами, образованными капитальными стенами, узкими коридорами внутри здания, эти места более проч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не пораниться кусками стекол – закрыть лицо р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только толчки прекратятся, немедленно выйти на улицу, подальше от здания, на свободную площад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403280" y="3938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 чего во время землетрясения делать нельзя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16000" y="1654200"/>
            <a:ext cx="7777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ьзоваться лифтом. В любой момент он может остановиться и люди застрянут, а это очень опас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 в коем случае прыгать из окон и с балко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иближаться к предприятиям, имеющим воспламеняющиеся, взрывчатые и сильнодействующие ве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тойте на мос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икасайтесь к проводам – они могут быть под то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79280" y="0"/>
            <a:ext cx="8640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УЛК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т лат. vulcanus — огонь, пламя), геологическое образование, возникающее над каналами и трещинами в земной коре, по которым на земную поверхность извергаются лава, пепел, горячие газы, пары воды и обломки горных пор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vulkan.avi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5832360" cy="4375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203640" y="630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1484280"/>
            <a:ext cx="5724360" cy="5373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3348000" y="654516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ение вулка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796000" y="333360"/>
            <a:ext cx="3348000" cy="71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матический очаг (в земной коре или верхней мантии); жерло — выводной канал, по которому магма поднимается к поверхности; конус — возвышенность на поверхности Земли из продуктов выброса вулкана; кратер — углубление на поверхности конуса вулк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0" y="40464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части вулканического аппара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751280" y="0"/>
            <a:ext cx="4392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ые действующие вулканы: Ключевская Сопка и Авачинская Сопка (Камчатка, Российская Федерация), Везувий (Италия), Исалько (Сальвадор), Мауна-Лоа (Гавайские о-ва)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457360" cy="2735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0" y="2852640"/>
            <a:ext cx="252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очное извержение вулкана Ключевская сопка. Камчат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190600" y="3429000"/>
            <a:ext cx="2586240" cy="2879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843280" y="6237360"/>
            <a:ext cx="2449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ин из действующих вулканов Камчат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7164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нова вопросы по  ОБ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редсказать извержение вулк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187280" y="2565360"/>
            <a:ext cx="748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ые-вулканологи ведут наблюдения за спящими вулканами. Существует несколько мет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йсмографический (прибор сейсмограф – толч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 состояния воздуха вокруг вулк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магмы (в кратера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0:29:23Z</dcterms:created>
  <dc:creator>Administrator</dc:creator>
  <dc:description/>
  <dc:language>en-US</dc:language>
  <cp:lastModifiedBy>Owner</cp:lastModifiedBy>
  <dcterms:modified xsi:type="dcterms:W3CDTF">2012-06-06T11:55:43Z</dcterms:modified>
  <cp:revision>9</cp:revision>
  <dc:subject/>
  <dc:title>Слайд 1</dc:title>
</cp:coreProperties>
</file>