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EA1-1739-44DC-8903-FB7C5419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353-6BB4-49EE-BAFE-08190804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AD9-1783-4883-9CFA-7E89EF1A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135-7750-41E3-B1E6-D5B09906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7CAB-F4D4-4404-9AC6-974F35A9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1A25-AA6E-4816-B3C4-75F5C26C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9FCA-A968-4C36-B40F-D894031B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D8B2-EF79-4283-ACCB-95D0AFF2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D829-604A-4DAA-8EDB-B1913A06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6196-3071-40DF-878C-2105BA94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A2A7-C95D-4D16-95AA-3181C13D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C64-B69E-42E7-84E3-B91F203C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2D7D-7663-4310-A2D6-DD7A9D5F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EFDE-878D-4B0A-8C90-C932362A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2D43-9B0C-44FD-86A5-E09EE456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8F91-6C11-4130-8760-6A99620F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59E4-BCD0-4AA4-9694-869D8A36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013-1102-4C2C-8AF7-2FF2401E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A26-D712-432B-ABB8-45947C10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AF4-7563-424F-906C-0444B56B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49B-7223-4975-8304-20A41B0B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3FE-63AB-49C9-9C79-F701B59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109-274B-40D3-926C-E8363B0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443-E551-4CAB-BBC4-17F2D8B3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2F39-E38B-40E9-90A2-01F3712568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25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26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27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28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29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30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31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32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33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34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35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37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38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39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40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41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42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3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44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45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46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47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9037-7356-4582-8A1F-E6FD78AF92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979640" y="2289240"/>
            <a:ext cx="6769080" cy="32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ийные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ные явления,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полнил: 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удин Денис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Скругленный прямоугольник 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539640" y="5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угрожает человеку вблизи действующего вулка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16000" y="1844640"/>
            <a:ext cx="8028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бросы тепла и бомб из жерла, пепла толщиной несколько 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ежающие лаву оползни и обвалы (которые мчатся со скоростью курьерного поезда и погребают все на своем пу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отемпературные потоки пепла и газов – настоящий бич окрестностей вулкана (несущиеся вниз со скоростью 350 км/ч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менее опасны ядовитые газы – извер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0"/>
            <a:ext cx="89647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ОЛЗ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льзящее смещение масс горных пород вниз по склону под влиянием силы тяжести. Возникают вследствие подмыва склона, переувлажнения (особенно при наличии чередования водоупорных и водоносных пород), сейсмических толчков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6191280" cy="4294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3348000" y="607860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хема образования ополз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179280" y="0"/>
            <a:ext cx="8964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рушительные оползни, движущиеся в виде беспорядочной груды обломков, называют камнепадами; если блок перемещается по некоторой ранее существовавшей поверхности как единое целое, то оползень считается обвал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067280" y="602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val.avi" descr=""/>
          <p:cNvPicPr/>
          <p:nvPr/>
        </p:nvPicPr>
        <p:blipFill>
          <a:blip r:embed="rId1"/>
          <a:stretch/>
        </p:blipFill>
        <p:spPr>
          <a:xfrm>
            <a:off x="2411280" y="1898640"/>
            <a:ext cx="5545440" cy="4159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1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042920" y="0"/>
            <a:ext cx="8101080" cy="67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олзни наносят большой ущерб сельскохозяйственным угодьям, промышленным предприятиям, населенным пунктам. Иногда оползни сопровождаются гибелью людей и живот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меры по защите от оползней вы знае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креп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олзневых склонов берегов морей, рек и озер подпорными и волноотбойными стенками, набережн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лзающие грунты укрепляют сваями, расположенными в шахм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аживают растительность на склон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упные оползни можно предотвратить дренажными сооружениями, перекрывающими путь поверхностным и подземным водам к оползневому материал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ерхностные воды отводятся канавами, подземные — штольнями или горизонтальными скважин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859280" y="260280"/>
            <a:ext cx="4105440" cy="68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от араб. сайль — бурный поток), грязевые или грязекаменные потоки, внезапно возникающие в руслах горных рек вследствие резкого паводка, вызванного интенсивными ливнями, бурным снеготаянием и др. причинами. Могут производить огромные разрушения. Борьба с селями ведется преимущественно путем закрепления почвенного и растительного покрова, строительства специальных гидротехнических сооружений (напр., плотин 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sel.avi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1258920" y="45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0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187280" y="1801800"/>
            <a:ext cx="5256360" cy="50562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900000" y="393840"/>
            <a:ext cx="7632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никальный комплекс противоселевых мероприятий был проведен в 1966 году по защите Алма-Аты, часто страдавшей от этого бедствия. На р. Алмаатинке направленным взрывом была создана не имеющая аналогов в мире плотина высотой 150 м, надежно защищающая горо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877080" y="5516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д, затопленный селевым пото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6516720" y="5589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0" y="0"/>
            <a:ext cx="889308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А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от ср.-век. лат. labina — оползень) (снежный обвал), масса снега, падающая или соскальзывающая с крутых склонов гор, аналогично обвалу. Скорость движения в среднем 20-30 м/с. Падение лавины сопровождается образованием воздушной предлавинной волны, производящей наибольшие разруш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горных районах, где снежные лавины возникают ежегодно, созданы специальные службы, своевременно предупреждающие население о грозящей опасности. Осуществляется искусственный сброс лавин путем их обстрела, отвод лавин дамбами и лавинорезами, проводится укрепление склонов опорными сооружен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lavina.avi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3311280" cy="2484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5724360" y="6524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324000" y="0"/>
            <a:ext cx="86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годня на уроке мы вспомнили о стихийных природных явлениях, происходящих в литосфере. Узнали насколько они опасны для человека и какие серьезные разрушения и последствия могут повлечь за собой. И давайте рассмотрим, каковы подобных случаях  должны быть действия человека при эвакуации и оказании медицинской помощ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042920" y="1471680"/>
            <a:ext cx="79218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учае обнаружения пострадавших, придавленных обломками, особенно, если человек длительное время находится под завалом, - необходимо вызвать спасателей и врача (в этом случае человек может погибнуть от синдрома длительного сдавливания – поэтому нужны врач и спасатель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помощь пострадавшим оказывается в два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первая медицинская помощь непосредственно в очаге поражения: остановка кровотечения при ранении, искусственное дыхание, массаж серд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специализированная медицинская помощь и стационарное ле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321080" cy="21988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755640" y="3357720"/>
            <a:ext cx="727236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слабых землетрясе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55640" y="3500280"/>
            <a:ext cx="21600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55640" y="386064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755640" y="4724280"/>
            <a:ext cx="216000" cy="216000"/>
          </a:xfrm>
          <a:prstGeom prst="rect">
            <a:avLst/>
          </a:prstGeom>
          <a:solidFill>
            <a:srgbClr val="ff7c8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755640" y="4292640"/>
            <a:ext cx="216000" cy="2174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755640" y="5157720"/>
            <a:ext cx="216000" cy="216000"/>
          </a:xfrm>
          <a:prstGeom prst="rect">
            <a:avLst/>
          </a:prstGeom>
          <a:solidFill>
            <a:srgbClr val="ff7c8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0" y="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йоны распространения землетрясений в 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5364000" y="3933720"/>
            <a:ext cx="3457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нести на контурную карту районы России, в которых стихийные природные явления в литосфере происходят наиболее част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0" y="5516640"/>
            <a:ext cx="414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дарные волны распространяются в разные стороны от эпицентра. Сила землетрясения оценивается в баллах от 1 до 1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998960" cy="5516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5003640" y="177840"/>
            <a:ext cx="4140360" cy="75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ЕМЛЕТРЯС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подземные толчки и колебания земной поверхности, возникающие в результате внезапных смещений и разрывов в земной коре и верхней мантии и передающиеся на большие расстоя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ожение и место начала перемещения масс (гипоцентр) определяют путем регистрации сейсмических волн, возникающих при землетрясениях (у слабых землетрясений очаг и гипоцентр совпадают). Проекция гипоцентра на земную поверхность именуется эпицентром. Вокруг него располагается область наибольших разруш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2808360" y="189000"/>
            <a:ext cx="63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огромного числа происходящих ежегодно землетрясений, только одно имеет магнитуду равную или более 8, десять — 7-7,9, сто — 6-6,9. Всякое землетрясение с магнитудой св. 7 может стать крупной катастроф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armenia.avi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174920" cy="3130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4643280" y="3297240"/>
            <a:ext cx="4500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 декабря 1988 года в Армении произошло землетрясение силой 6,9 баллов по шкале Рихтера. Находившийся в эпицентре город Спитак был полностью разрушен. Общее число жертв достигло 25 тыся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116000" y="5589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755640" y="32220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, из курса ОБЖ, вспомни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следует поступать при землетрясен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258920" y="1471680"/>
            <a:ext cx="788508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ервые толчки застали вас дома (1 этаж), надо немедленно взять детей и как можно скорее выбежать на улицу (15-20 секунд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оказался на 2 этаже и выше – встать в дверных проемах, распахнув двери. Можно воспользоваться углами, образованными капитальными стенами, узкими коридорами внутри здания, эти места более проч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не пораниться кусками стекол – закрыть лицо ру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только толчки прекратятся, немедленно выйти на улицу, подальше от здания, на свободную площад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403280" y="3938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, чего во время землетрясения делать нельзя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16000" y="1654200"/>
            <a:ext cx="7777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ьзоваться лифтом. В любой момент он может остановиться и люди застрянут, а это очень опас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 в коем случае прыгать из окон и с балко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риближаться к предприятиям, имеющим воспламеняющиеся, взрывчатые и сильнодействующие ве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стойте на мос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рикасайтесь к проводам – они могут быть под то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79280" y="0"/>
            <a:ext cx="86407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УЛК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т лат. vulcanus — огонь, пламя), геологическое образование, возникающее над каналами и трещинами в земной коре, по которым на земную поверхность извергаются лава, пепел, горячие газы, пары воды и обломки горных пор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vulkan.avi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5832360" cy="4375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203640" y="6308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1484280"/>
            <a:ext cx="5724360" cy="5373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3348000" y="6545160"/>
            <a:ext cx="22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ение вулка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796000" y="333360"/>
            <a:ext cx="3348000" cy="71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гматический очаг (в земной коре или верхней мантии); жерло — выводной канал, по которому магма поднимается к поверхности; конус — возвышенность на поверхности Земли из продуктов выброса вулкана; кратер — углубление на поверхности конуса вулк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0" y="40464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части вулканического аппара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751280" y="0"/>
            <a:ext cx="43927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ивные действующие вулканы: Ключевская Сопка и Авачинская Сопка (Камчатка, Российская Федерация), Везувий (Италия), Исалько (Сальвадор), Мауна-Лоа (Гавайские о-ва)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457360" cy="27352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0" y="2852640"/>
            <a:ext cx="2521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бочное извержение вулкана Ключевская сопка. Камчат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2190600" y="3429000"/>
            <a:ext cx="2586240" cy="2879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2843280" y="6237360"/>
            <a:ext cx="2449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ин из действующих вулканов Камчат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97164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нова вопросы по  ОБЖ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предсказать извержение вулка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187280" y="2565360"/>
            <a:ext cx="7488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ые-вулканологи ведут наблюдения за спящими вулканами. Существует несколько мет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йсмографический (прибор сейсмограф – толч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е состояния воздуха вокруг вулк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ение магмы (в кратера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0:29:23Z</dcterms:created>
  <dc:creator>Administrator</dc:creator>
  <dc:description/>
  <dc:language>en-US</dc:language>
  <cp:lastModifiedBy>Owner</cp:lastModifiedBy>
  <dcterms:modified xsi:type="dcterms:W3CDTF">2012-06-06T11:55:43Z</dcterms:modified>
  <cp:revision>9</cp:revision>
  <dc:subject/>
  <dc:title>Слайд 1</dc:title>
</cp:coreProperties>
</file>