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593-A96F-4E37-AF71-D893E059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8DF-30A2-4EEA-87C5-F077D44E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7E7-8E9A-4F14-871A-31AD47E8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659-43BF-45CF-9A1F-49E15174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70D1-0B92-437E-9A17-807636BC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B913-B95F-4AC4-B672-629238E6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1315-2B06-4FF9-815F-8A1C8CEB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BA69-ADEF-4410-9165-AC1B190F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3D53-B45D-425A-B7F4-E176AE36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7231-C0F3-4AFA-8BF6-4C3AF4A3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667D-3B2D-4DDB-9171-5E958F5D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22DA-046E-400C-9A1D-3FB90B98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152E-F706-4BD1-AFD0-727E03EF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3601-A102-43C9-9629-302F33A8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4A81-BE06-40A0-B5E4-5F0B1D47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A982-D164-44B2-BE96-AA6DC1DB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080B-4CBF-466B-8042-26B27B23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7C91C-31FA-40E4-941B-B654011D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8FD6-4D4A-418D-846C-F4E85E27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92D8-F7C3-4687-B9F3-46CD4248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CC43-099C-4E8F-97A3-17985104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044D-FA26-4DF0-AA2E-8560E685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378-CE8B-4D41-B3F4-CAE95D5F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8ACDB-1E45-426C-A9FD-B23F1DBE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2F92-80C3-45F4-BAED-4CEDCF00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6C593-6B44-413E-8B31-102B63D9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BCED-8E15-4EA6-B679-931F431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0729-2F40-48CC-B459-E45106E1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0F21-CDF8-4A13-80C3-C118F187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EB0A3-C721-4251-AD71-2A202101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EDF6-21F1-43EA-B0FB-20335269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0C00-DB52-4FF6-BB60-57719FF6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1C8C-D762-4ADF-BB4A-430CDC57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600-12BF-4FF7-ABA1-0F19A559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683D5-09FE-47ED-A8C9-0C7AD8EE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74731-C1AF-402C-B9FE-7E264000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DB964-C32B-45F7-ABAB-3C4CDEBD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CC9EF-7F92-40FC-A947-7281E648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39234-B9EC-4799-BCDC-A6E926F6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E2C3-3427-4C8A-900F-99DE90A4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4531A-D597-4871-B549-ECDC765E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6B145-39C5-4136-BD2E-0FAC9A01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E0E05-93FF-4F85-B576-90A90AC3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BF453-7889-4C9E-8E95-3A49DB44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A9B-3F7C-4908-9E07-A839A24E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5AEB0-0231-4307-8339-945BF0D4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E0293-4911-4FCF-BFAD-84142A94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A6615-C8DD-424A-8E72-36D7AA4C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448A-2A5A-413E-88F3-CD011268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0CCD4-9800-4E46-A6E9-51EE0A1D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7DA2E-FA3B-4427-8DF6-514AECE9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A3C76-9C07-46F1-81AA-B614263E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0DF1F-D25F-486B-8DE0-16ACFD56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69379-9E10-4FB7-9C0F-2322EF25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B3A83-EF23-4B8C-BAF3-110CB528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417-5D20-489A-A05F-25F85AFD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97167-2123-4A58-983D-C5E9AEE0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F32D1-4A4F-4732-A3F5-D5D64691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5B514-1041-48F8-93B4-6300126B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4E6A6-9F1D-404E-A6A4-035BA0E5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F381C-D05F-487F-9EB2-C0BA99B2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C45BA-170B-40D4-9114-264714CE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A39D1-4AF8-45CF-A7AC-5BE36D1D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55ECA-BC66-46AC-878E-6CE3A53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62263-39C0-48A5-A239-0E55A86E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41751-D3AA-408B-8489-E093774D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B83-0ABB-4E3B-B938-DE9B736A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8651F-928B-400F-9C7C-5A42AF4C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27693-874A-4689-BA5A-D1761A4E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F27C5-FEAF-4C1E-AFB2-3A11AF62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3D7D5-EF87-4E0D-B543-27B88359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01160-7194-4456-8EF0-A1574F13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EBB8-E783-4D9F-ADCF-3046D2D5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DED2B-D5C6-49D4-AAFC-A4C7EBBC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ADF00-8BC9-42AE-9850-BF1945C4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09DBC-622C-4127-850C-0F12DE66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C0634-F77B-4D71-8204-896675E7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339-0198-45F6-88D7-A3325D11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D0CC4-41E2-44EB-AF15-FC3887BF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5EC60-30F2-4589-B33F-7D945E2D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07F9C-BF91-4A44-AA78-60E51946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092BF-43FC-440A-AD43-885A0336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89B12-06C1-407F-A737-A395FCEF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63750-5BF8-4AC4-BBC6-A9DCAD83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8FBEA-42FF-40C8-9DE6-AE417A24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4FCC9-AACD-4D3F-81D1-9344543D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CF413-0AE7-4DEF-847B-C65FF902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4BB16-624D-4EFB-AF98-17A55062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68B-55B8-4581-90B5-87FC154E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B9468-C561-4220-AC86-9FA5769C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DC5EC-4242-44D2-8EA5-328E2562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B92CE-72DE-4CE6-AC0A-C4D13953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075ED-4472-4E94-89A4-4364CCE2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0B454-8D93-4D63-A169-A596C2E4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B5C1B-4761-4A09-9BB7-7C7359C1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0CB94-E16D-4E64-A93B-115D48A6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EF4B-D808-483D-BA99-03E29DFD29E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6359-20D5-43A7-BF94-E88E7AE56F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7B0C-B79C-4FBE-87AD-0BCF95845DB7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5579-64B9-441A-A9BF-C8572D1C22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6DC3-1F91-4D95-BB0C-8FCE14F269FE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1E15-4069-4536-B55E-6CDBDA8973B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83FE-7AEA-43ED-A136-C9BE12300808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997F-9241-4DCE-B3C2-EC0535AC22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22E5-6CE1-433C-887F-CF8C629FC77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9549-318C-4D40-A5CF-E657541B2A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13F8-0B24-4736-916C-5DE1F125F611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1374-9A68-4A5B-AE2F-AF02E0C94E7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E119-262B-4537-BB5E-6CC91E6CDC9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BEDF-B848-41D1-A47F-43C57E50F6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CF0E-76B9-43FC-9D63-2AE1A61AD35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33DF-DEB1-481C-9813-B74664824DB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33240" y="920880"/>
            <a:ext cx="8089920" cy="18460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Century Gothic"/>
              </a:rPr>
              <a:t>Математика 1 класс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Century Gothic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В 1 классе Б учится 13 мальчиков и 12 девочек. Нам нужно узнать кого в классе больше и на сколько человек?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3" descr="мал.jpg"/>
          <p:cNvPicPr/>
          <p:nvPr/>
        </p:nvPicPr>
        <p:blipFill>
          <a:blip r:embed="rId2"/>
          <a:stretch/>
        </p:blipFill>
        <p:spPr>
          <a:xfrm>
            <a:off x="1143000" y="4286160"/>
            <a:ext cx="1730520" cy="125748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4" descr="мал2.jpg"/>
          <p:cNvPicPr/>
          <p:nvPr/>
        </p:nvPicPr>
        <p:blipFill>
          <a:blip r:embed="rId3"/>
          <a:stretch/>
        </p:blipFill>
        <p:spPr>
          <a:xfrm>
            <a:off x="6429240" y="3929040"/>
            <a:ext cx="1571760" cy="114300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5" descr="дев.jpg"/>
          <p:cNvPicPr/>
          <p:nvPr/>
        </p:nvPicPr>
        <p:blipFill>
          <a:blip r:embed="rId4"/>
          <a:stretch/>
        </p:blipFill>
        <p:spPr>
          <a:xfrm>
            <a:off x="3857760" y="3357720"/>
            <a:ext cx="1611000" cy="1500120"/>
          </a:xfrm>
          <a:prstGeom prst="rect">
            <a:avLst/>
          </a:prstGeom>
          <a:ln w="0">
            <a:noFill/>
          </a:ln>
        </p:spPr>
      </p:pic>
      <p:sp>
        <p:nvSpPr>
          <p:cNvPr id="378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икова Ирина Юрьевн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Сколько в классе девочек?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Сколько в классе мальчиков?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Кого в классе больше? Объясни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Проверь: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Девочек        - 12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Мальчиков    - 13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Мальчиков, потому что 13 при счёте стоит после 12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3"/>
          <p:cNvSpPr/>
          <p:nvPr/>
        </p:nvSpPr>
        <p:spPr>
          <a:xfrm>
            <a:off x="714240" y="3214800"/>
            <a:ext cx="8072640" cy="26431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ОВЕРЯЕ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икова Ирина Юрьевна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Нарисуем кружками разного цвета количество девочек и мальчиков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    1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ем на сколько больше мальчико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из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ьшего числа вычесть меньше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     ЗАПОМНИ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195120" y="152280"/>
            <a:ext cx="8498160" cy="854280"/>
          </a:xfrm>
          <a:prstGeom prst="rect">
            <a:avLst/>
          </a:prstGeom>
          <a:ln w="0">
            <a:noFill/>
          </a:ln>
        </p:spPr>
      </p:pic>
      <p:sp>
        <p:nvSpPr>
          <p:cNvPr id="385" name="Овал 3"/>
          <p:cNvSpPr/>
          <p:nvPr/>
        </p:nvSpPr>
        <p:spPr>
          <a:xfrm>
            <a:off x="100008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Овал 4"/>
          <p:cNvSpPr/>
          <p:nvPr/>
        </p:nvSpPr>
        <p:spPr>
          <a:xfrm>
            <a:off x="135720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Овал 5"/>
          <p:cNvSpPr/>
          <p:nvPr/>
        </p:nvSpPr>
        <p:spPr>
          <a:xfrm>
            <a:off x="64296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Овал 6"/>
          <p:cNvSpPr/>
          <p:nvPr/>
        </p:nvSpPr>
        <p:spPr>
          <a:xfrm>
            <a:off x="1714680" y="2428920"/>
            <a:ext cx="28548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Овал 7"/>
          <p:cNvSpPr/>
          <p:nvPr/>
        </p:nvSpPr>
        <p:spPr>
          <a:xfrm>
            <a:off x="478620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Овал 8"/>
          <p:cNvSpPr/>
          <p:nvPr/>
        </p:nvSpPr>
        <p:spPr>
          <a:xfrm>
            <a:off x="442908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Овал 9"/>
          <p:cNvSpPr/>
          <p:nvPr/>
        </p:nvSpPr>
        <p:spPr>
          <a:xfrm>
            <a:off x="4000680" y="2428920"/>
            <a:ext cx="28548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Овал 10"/>
          <p:cNvSpPr/>
          <p:nvPr/>
        </p:nvSpPr>
        <p:spPr>
          <a:xfrm>
            <a:off x="2071800" y="2428920"/>
            <a:ext cx="28548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Овал 11"/>
          <p:cNvSpPr/>
          <p:nvPr/>
        </p:nvSpPr>
        <p:spPr>
          <a:xfrm>
            <a:off x="242892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Овал 12"/>
          <p:cNvSpPr/>
          <p:nvPr/>
        </p:nvSpPr>
        <p:spPr>
          <a:xfrm>
            <a:off x="278604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Овал 13"/>
          <p:cNvSpPr/>
          <p:nvPr/>
        </p:nvSpPr>
        <p:spPr>
          <a:xfrm>
            <a:off x="3214800" y="2428920"/>
            <a:ext cx="28548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Овал 14"/>
          <p:cNvSpPr/>
          <p:nvPr/>
        </p:nvSpPr>
        <p:spPr>
          <a:xfrm>
            <a:off x="364320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Овал 15"/>
          <p:cNvSpPr/>
          <p:nvPr/>
        </p:nvSpPr>
        <p:spPr>
          <a:xfrm>
            <a:off x="64296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Овал 16"/>
          <p:cNvSpPr/>
          <p:nvPr/>
        </p:nvSpPr>
        <p:spPr>
          <a:xfrm>
            <a:off x="100008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Овал 18"/>
          <p:cNvSpPr/>
          <p:nvPr/>
        </p:nvSpPr>
        <p:spPr>
          <a:xfrm>
            <a:off x="135720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Овал 19"/>
          <p:cNvSpPr/>
          <p:nvPr/>
        </p:nvSpPr>
        <p:spPr>
          <a:xfrm>
            <a:off x="171468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Овал 20"/>
          <p:cNvSpPr/>
          <p:nvPr/>
        </p:nvSpPr>
        <p:spPr>
          <a:xfrm>
            <a:off x="207180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Овал 21"/>
          <p:cNvSpPr/>
          <p:nvPr/>
        </p:nvSpPr>
        <p:spPr>
          <a:xfrm>
            <a:off x="514368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Овал 22"/>
          <p:cNvSpPr/>
          <p:nvPr/>
        </p:nvSpPr>
        <p:spPr>
          <a:xfrm>
            <a:off x="478620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Овал 23"/>
          <p:cNvSpPr/>
          <p:nvPr/>
        </p:nvSpPr>
        <p:spPr>
          <a:xfrm>
            <a:off x="442908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Овал 24"/>
          <p:cNvSpPr/>
          <p:nvPr/>
        </p:nvSpPr>
        <p:spPr>
          <a:xfrm>
            <a:off x="400068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Овал 25"/>
          <p:cNvSpPr/>
          <p:nvPr/>
        </p:nvSpPr>
        <p:spPr>
          <a:xfrm>
            <a:off x="364320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Овал 26"/>
          <p:cNvSpPr/>
          <p:nvPr/>
        </p:nvSpPr>
        <p:spPr>
          <a:xfrm>
            <a:off x="321480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Овал 27"/>
          <p:cNvSpPr/>
          <p:nvPr/>
        </p:nvSpPr>
        <p:spPr>
          <a:xfrm>
            <a:off x="278604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Овал 28"/>
          <p:cNvSpPr/>
          <p:nvPr/>
        </p:nvSpPr>
        <p:spPr>
          <a:xfrm>
            <a:off x="242892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357200" y="5357880"/>
            <a:ext cx="714600" cy="5713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2643120" y="5500800"/>
            <a:ext cx="428760" cy="3571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Прямая соединительная линия 32"/>
          <p:cNvSpPr/>
          <p:nvPr/>
        </p:nvSpPr>
        <p:spPr>
          <a:xfrm>
            <a:off x="857160" y="3643200"/>
            <a:ext cx="4143600" cy="1800"/>
          </a:xfrm>
          <a:prstGeom prst="line">
            <a:avLst/>
          </a:prstGeom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Прямая соединительная линия 33"/>
          <p:cNvSpPr/>
          <p:nvPr/>
        </p:nvSpPr>
        <p:spPr>
          <a:xfrm>
            <a:off x="857160" y="4071960"/>
            <a:ext cx="4786560" cy="1440"/>
          </a:xfrm>
          <a:prstGeom prst="line">
            <a:avLst/>
          </a:prstGeom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Прямая соединительная линия 36"/>
          <p:cNvSpPr/>
          <p:nvPr/>
        </p:nvSpPr>
        <p:spPr>
          <a:xfrm flipH="1">
            <a:off x="856800" y="3571920"/>
            <a:ext cx="1800" cy="142920"/>
          </a:xfrm>
          <a:prstGeom prst="line">
            <a:avLst/>
          </a:prstGeom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Прямая соединительная линия 38"/>
          <p:cNvSpPr/>
          <p:nvPr/>
        </p:nvSpPr>
        <p:spPr>
          <a:xfrm flipH="1">
            <a:off x="5000760" y="3571920"/>
            <a:ext cx="1440" cy="142920"/>
          </a:xfrm>
          <a:prstGeom prst="line">
            <a:avLst/>
          </a:prstGeom>
          <a:ln w="633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Прямая соединительная линия 40"/>
          <p:cNvSpPr/>
          <p:nvPr/>
        </p:nvSpPr>
        <p:spPr>
          <a:xfrm>
            <a:off x="857160" y="4000680"/>
            <a:ext cx="0" cy="142560"/>
          </a:xfrm>
          <a:prstGeom prst="line">
            <a:avLst/>
          </a:prstGeom>
          <a:ln w="633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Прямая соединительная линия 43"/>
          <p:cNvSpPr/>
          <p:nvPr/>
        </p:nvSpPr>
        <p:spPr>
          <a:xfrm flipH="1">
            <a:off x="5643720" y="3929040"/>
            <a:ext cx="1440" cy="214200"/>
          </a:xfrm>
          <a:prstGeom prst="line">
            <a:avLst/>
          </a:prstGeom>
          <a:ln w="633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Прямая соединительная линия 45"/>
          <p:cNvSpPr/>
          <p:nvPr/>
        </p:nvSpPr>
        <p:spPr>
          <a:xfrm flipH="1">
            <a:off x="4928760" y="4000680"/>
            <a:ext cx="1800" cy="142560"/>
          </a:xfrm>
          <a:prstGeom prst="line">
            <a:avLst/>
          </a:prstGeom>
          <a:ln w="633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Прямая соединительная линия 49"/>
          <p:cNvSpPr/>
          <p:nvPr/>
        </p:nvSpPr>
        <p:spPr>
          <a:xfrm>
            <a:off x="5000760" y="4143240"/>
            <a:ext cx="571320" cy="1800"/>
          </a:xfrm>
          <a:prstGeom prst="line">
            <a:avLst/>
          </a:prstGeom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Нижний колонтитул 5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икова Ирина Юрьевна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Прямоугольник 52"/>
          <p:cNvSpPr/>
          <p:nvPr/>
        </p:nvSpPr>
        <p:spPr>
          <a:xfrm>
            <a:off x="428760" y="2357280"/>
            <a:ext cx="621504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веряе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Прямоугольник 53"/>
          <p:cNvSpPr/>
          <p:nvPr/>
        </p:nvSpPr>
        <p:spPr>
          <a:xfrm>
            <a:off x="428760" y="3357720"/>
            <a:ext cx="6215040" cy="10000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веряе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Прямоугольник 54"/>
          <p:cNvSpPr/>
          <p:nvPr/>
        </p:nvSpPr>
        <p:spPr>
          <a:xfrm>
            <a:off x="428760" y="4500720"/>
            <a:ext cx="6215040" cy="3571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опрос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Прямоугольник 55"/>
          <p:cNvSpPr/>
          <p:nvPr/>
        </p:nvSpPr>
        <p:spPr>
          <a:xfrm>
            <a:off x="428760" y="5000760"/>
            <a:ext cx="6286320" cy="1071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Записать можно еще так: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Девочек  - 12 чел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Мальчиков – 13 чел.        На ? </a:t>
            </a:r>
            <a:r>
              <a:rPr b="0" lang="en-US" sz="2700" spc="-1" strike="noStrike">
                <a:solidFill>
                  <a:srgbClr val="7030a0"/>
                </a:solidFill>
                <a:latin typeface="Century Gothic"/>
              </a:rPr>
              <a:t>&gt;</a:t>
            </a: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           - 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Century Gothic"/>
              </a:rPr>
              <a:t>УСЛОВИЕ                        ТРЕБОВАНИЕ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Century Gothic"/>
              </a:rPr>
              <a:t>РЕШЕНИЕ           </a:t>
            </a: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13 – 12 = 1 (ЧЕЛ.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Century Gothic"/>
              </a:rPr>
              <a:t>ОТВЕТ: </a:t>
            </a: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на 1 мальчика больше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27" name="Дуга 3"/>
          <p:cNvSpPr/>
          <p:nvPr/>
        </p:nvSpPr>
        <p:spPr>
          <a:xfrm rot="2966400">
            <a:off x="3423240" y="2375280"/>
            <a:ext cx="1154160" cy="11782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Прямая соединительная линия 7"/>
          <p:cNvSpPr/>
          <p:nvPr/>
        </p:nvSpPr>
        <p:spPr>
          <a:xfrm flipH="1">
            <a:off x="4428720" y="2583000"/>
            <a:ext cx="19080" cy="1317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Прямая соединительная линия 9"/>
          <p:cNvSpPr/>
          <p:nvPr/>
        </p:nvSpPr>
        <p:spPr>
          <a:xfrm>
            <a:off x="4448160" y="2583000"/>
            <a:ext cx="123840" cy="60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Прямая соединительная линия 11"/>
          <p:cNvSpPr/>
          <p:nvPr/>
        </p:nvSpPr>
        <p:spPr>
          <a:xfrm flipH="1" flipV="1">
            <a:off x="4357440" y="3286080"/>
            <a:ext cx="19080" cy="1173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Прямая соединительная линия 13"/>
          <p:cNvSpPr/>
          <p:nvPr/>
        </p:nvSpPr>
        <p:spPr>
          <a:xfrm flipV="1">
            <a:off x="4376880" y="3357360"/>
            <a:ext cx="123840" cy="45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Стрелка вверх 14"/>
          <p:cNvSpPr/>
          <p:nvPr/>
        </p:nvSpPr>
        <p:spPr>
          <a:xfrm>
            <a:off x="1428840" y="3429000"/>
            <a:ext cx="71280" cy="42876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Стрелка вверх 15"/>
          <p:cNvSpPr/>
          <p:nvPr/>
        </p:nvSpPr>
        <p:spPr>
          <a:xfrm>
            <a:off x="5429160" y="3429000"/>
            <a:ext cx="71640" cy="42876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Стрелка вправо 16"/>
          <p:cNvSpPr/>
          <p:nvPr/>
        </p:nvSpPr>
        <p:spPr>
          <a:xfrm>
            <a:off x="2500200" y="4929120"/>
            <a:ext cx="571680" cy="7164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Овал 17"/>
          <p:cNvSpPr/>
          <p:nvPr/>
        </p:nvSpPr>
        <p:spPr>
          <a:xfrm>
            <a:off x="6000840" y="2786040"/>
            <a:ext cx="642960" cy="5716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Овал 18"/>
          <p:cNvSpPr/>
          <p:nvPr/>
        </p:nvSpPr>
        <p:spPr>
          <a:xfrm>
            <a:off x="7215120" y="2928960"/>
            <a:ext cx="357120" cy="3571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Нижний колонтитул 19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икова Ирина Юрьевна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Прямоугольник 20"/>
          <p:cNvSpPr/>
          <p:nvPr/>
        </p:nvSpPr>
        <p:spPr>
          <a:xfrm>
            <a:off x="4286160" y="2500200"/>
            <a:ext cx="3500640" cy="8575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Прямоугольник 21"/>
          <p:cNvSpPr/>
          <p:nvPr/>
        </p:nvSpPr>
        <p:spPr>
          <a:xfrm>
            <a:off x="500040" y="3429000"/>
            <a:ext cx="228600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Прямоугольник 22"/>
          <p:cNvSpPr/>
          <p:nvPr/>
        </p:nvSpPr>
        <p:spPr>
          <a:xfrm>
            <a:off x="4286160" y="3429000"/>
            <a:ext cx="350064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Прямоугольник 23"/>
          <p:cNvSpPr/>
          <p:nvPr/>
        </p:nvSpPr>
        <p:spPr>
          <a:xfrm>
            <a:off x="500040" y="4572000"/>
            <a:ext cx="578664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Прямоугольник 24"/>
          <p:cNvSpPr/>
          <p:nvPr/>
        </p:nvSpPr>
        <p:spPr>
          <a:xfrm>
            <a:off x="500040" y="5286240"/>
            <a:ext cx="5715000" cy="3574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37:20Z</dcterms:created>
  <dc:creator>1</dc:creator>
  <dc:description/>
  <dc:language>en-US</dc:language>
  <cp:lastModifiedBy>1</cp:lastModifiedBy>
  <dcterms:modified xsi:type="dcterms:W3CDTF">2011-04-13T17:03:43Z</dcterms:modified>
  <cp:revision>9</cp:revision>
  <dc:subject/>
  <dc:title>Сравнение предметов</dc:title>
</cp:coreProperties>
</file>