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BDC-4799-420B-8992-3BC192EB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593-79A3-4737-805E-07B0BC1D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953-D951-48EB-9328-3C72B23A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310-121B-42C5-AC1C-DA767109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8811-EFD0-422B-9ABF-65E4FDE8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BFE4-ACAB-4842-A6A5-745F03C6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DD74-A4B3-42AE-B3C8-C901FDCF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438A-CFAC-4DB4-81D6-0E44D3FB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867C-7387-43AF-AA64-26CCA278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F9F3-5CB3-4559-9DA6-155C17E9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3606-6370-4B61-8543-B01CACD0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232-3877-4D48-A426-66B34809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AB2F-739B-4201-8206-E9E255A4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227F-3277-4A48-A3E5-299B4D8D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9C8B-C334-484A-B96F-18C86E03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0532-1A59-487A-8334-1A2E2452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F27E-2481-4046-9A39-7865BE58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7C7D0-DBDA-4960-B9D9-860522CA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B5272-0D69-4AFC-9730-ACBF2C9C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1F7E-0455-408D-8DBE-F0BA1E86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8B93-6DD2-4647-AEE0-F2DAC4C3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339F-B720-48C2-BDCD-A821E21D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858-8A31-4CB5-BA4C-1F000D80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827C-05AA-423E-AFAB-37E6DE84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F4E0-5372-4433-B20C-A20A83B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0C3C-155E-4EAA-89CE-DC9F97CE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2D4AD-3D12-4151-BED6-D7E496E1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C2BD-FE69-4381-A304-FAA5664A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1B1D2-890B-4239-9D8B-652CCDFE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F765-A4C3-48D6-8630-D1454130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7D93A-5F89-4B19-A31B-575726C8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2F9C5-F735-4E79-AB68-9645F129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C952-C3ED-42DF-A62B-FE32F8BB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732-1F08-4889-87A8-DF7E04B1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86F08-8D55-4951-A925-6C2A22A2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1E00-2AF8-4D15-AAE9-9BBFC409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DD815-287F-4E8C-9FAA-A97DCA7B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0D3DA-D2BA-438B-8333-E3485C27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A0D3-024C-41D4-9863-35AC7E2B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65EBD-1328-47D1-A5FB-E02A9D7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F9D08-939F-4288-8D7B-E3D8CC5F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CFF18-854B-469F-82F9-A53A1C0E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7B1A-52BC-4F31-A2EE-45589687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B7B49-B60F-470D-A174-29EAAB61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5B8-849D-4153-9180-C6AAA4E6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D5AC1-54A7-4CB1-B250-68373178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11863-CBC2-4CA1-83B9-87AD81F9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895A0-F030-44FE-8924-CD2A0717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03307-833D-492A-8E4C-C919F6F4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48B61-3BC3-4333-B74D-38C88890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D22FF-D116-407D-97B5-0C41AC5A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FD4B9-74E4-4493-ACB5-9027F95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974ED-FF6C-4EB4-AD9C-ACC111F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ABD61-ACA5-4005-9691-7BE73F8F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05DC-D1E1-43CC-AA48-BFE35234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52B-8989-443D-A65F-7C7080D5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C2FC-FAC9-4497-A7E1-5AEF2708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C4B81-6340-4B5B-92BA-8A7F8EE6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99C97-C176-4FF9-A29F-F9E6A52B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588FC-58BF-4C1E-8A70-44551FE8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9976-C34F-4D4C-80B6-A3EA251B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D31CA-F6AC-4E3F-A8B6-EC0ECC87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99A18-4096-4EB8-BA46-18743C31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20153-CD3C-485E-8980-CAB21378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4993D-2815-42DA-9978-7B028E1A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E5053-152C-42ED-95C6-55FD6672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962-C30C-4A7A-A107-2CC0D43F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91737-88ED-4068-81D5-1A07B2DD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84B76-D7A8-426E-AE60-521D1ADF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0AE97-1C8C-42DF-BF4E-870D77FB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EECA1-2D02-4F68-9459-348ABAF5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A6F87-7EC9-4C6D-9E9C-8C0C7639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90539-09DD-45F5-B746-5B26A34B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27271-965C-401B-BCBB-7A6246A2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9FDA0-DD60-47B3-960E-8C28AA87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5E68E-BAC0-4A3F-97D9-74A6F259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57489-3A83-4839-8A14-7BA44AA5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C2E-4A6E-456B-BF0D-2B33A172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AAC5E-A33B-45D7-A541-E587BB56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C8911-A9A3-4DB4-BFFC-86E8F1F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B72D0-9DE1-4CC2-81B9-AC72D015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B94C7-E248-4252-84A3-23C31C81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8AE43-F99E-4166-A7B6-24743078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5C3D6-35C5-4532-86E6-9FFEA22D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9C0D9-6532-4AB0-A244-0EA7AEB5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A8F8E-E438-4E2D-ABD3-B164E98E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4B5B9-EF53-4D8A-901D-7C0289F1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B12C3-DFC5-4ECC-9201-F69CB5C3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F85-CE02-4077-BBF7-87E9AC8E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BB3F4-DDD6-4CA2-8D70-75E7AD80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D532E-7F9B-4F91-A699-4BA688CA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DE2EE-5A85-4BCD-AF87-3DE46B86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5C1FE-7E86-4DEF-976F-C12C619B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CA710-44C7-49AC-B003-C690D33B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448E7-065A-4FF0-8A19-E45E748B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B70C5-6B2C-480A-B8C0-E0BB8A3B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BC71-14DD-442F-B4B0-2A17E781AA5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13AD-249C-4F31-AFFF-6050F86C4F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44ED-EC4C-44AD-B0E0-5F05BA89FB0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0C77-B692-4E66-9D5E-FA93CBB484B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2907-F9C8-4E0C-BB6C-5B00A3FC8163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E923-3798-46B2-B8F8-8EB102157B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4541-B958-43A9-B075-978939D26DC3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2C84-03C5-47A6-87DE-2A609432342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8B35-EFD2-4708-8DEF-FD6F34A80A0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D496-1E11-46C0-99A3-758AE8F9A0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8D23-4410-47F0-A188-2F6D2C0619E2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3A9B-A74F-42D2-9A82-FCE86BE3508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8E16-0ECD-4FC8-A25A-26DCA9FD165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D847-840C-4C1D-9E3E-EFAAC7BD3B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B609-654A-4E5D-85CF-E56C0733A07B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3982-AC63-4ACB-B77A-3482CA6A54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33240" y="920880"/>
            <a:ext cx="8089920" cy="18460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entury Gothic"/>
              </a:rPr>
              <a:t>Математика 1 класс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Century Gothic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В 1 классе Б учится 13 мальчиков и 12 девочек. Нам нужно узнать кого в классе больше и на сколько человек?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3" descr="мал.jpg"/>
          <p:cNvPicPr/>
          <p:nvPr/>
        </p:nvPicPr>
        <p:blipFill>
          <a:blip r:embed="rId2"/>
          <a:stretch/>
        </p:blipFill>
        <p:spPr>
          <a:xfrm>
            <a:off x="1143000" y="4286160"/>
            <a:ext cx="1730520" cy="125748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мал2.jpg"/>
          <p:cNvPicPr/>
          <p:nvPr/>
        </p:nvPicPr>
        <p:blipFill>
          <a:blip r:embed="rId3"/>
          <a:stretch/>
        </p:blipFill>
        <p:spPr>
          <a:xfrm>
            <a:off x="6429240" y="3929040"/>
            <a:ext cx="1571760" cy="114300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дев.jpg"/>
          <p:cNvPicPr/>
          <p:nvPr/>
        </p:nvPicPr>
        <p:blipFill>
          <a:blip r:embed="rId4"/>
          <a:stretch/>
        </p:blipFill>
        <p:spPr>
          <a:xfrm>
            <a:off x="3857760" y="3357720"/>
            <a:ext cx="1611000" cy="1500120"/>
          </a:xfrm>
          <a:prstGeom prst="rect">
            <a:avLst/>
          </a:prstGeom>
          <a:ln w="0">
            <a:noFill/>
          </a:ln>
        </p:spPr>
      </p:pic>
      <p:sp>
        <p:nvSpPr>
          <p:cNvPr id="378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Сколько в классе девочек?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Сколько в классе мальчиков?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Кого в классе больше? Объясни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Проверь: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Девочек        - 12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Мальчиков    - 13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Мальчиков, потому что 13 при счёте стоит после 12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3"/>
          <p:cNvSpPr/>
          <p:nvPr/>
        </p:nvSpPr>
        <p:spPr>
          <a:xfrm>
            <a:off x="714240" y="3214800"/>
            <a:ext cx="8072640" cy="26431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ОВЕРЯЕ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Нарисуем кружками разного цвета количество девочек и мальчиков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    1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ем на сколько больше мальчик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из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ьшего числа вычесть меньше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     ЗАПОМНИ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195120" y="152280"/>
            <a:ext cx="8498160" cy="854280"/>
          </a:xfrm>
          <a:prstGeom prst="rect">
            <a:avLst/>
          </a:prstGeom>
          <a:ln w="0">
            <a:noFill/>
          </a:ln>
        </p:spPr>
      </p:pic>
      <p:sp>
        <p:nvSpPr>
          <p:cNvPr id="385" name="Овал 3"/>
          <p:cNvSpPr/>
          <p:nvPr/>
        </p:nvSpPr>
        <p:spPr>
          <a:xfrm>
            <a:off x="100008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Овал 4"/>
          <p:cNvSpPr/>
          <p:nvPr/>
        </p:nvSpPr>
        <p:spPr>
          <a:xfrm>
            <a:off x="135720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Овал 5"/>
          <p:cNvSpPr/>
          <p:nvPr/>
        </p:nvSpPr>
        <p:spPr>
          <a:xfrm>
            <a:off x="64296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Овал 6"/>
          <p:cNvSpPr/>
          <p:nvPr/>
        </p:nvSpPr>
        <p:spPr>
          <a:xfrm>
            <a:off x="171468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Овал 7"/>
          <p:cNvSpPr/>
          <p:nvPr/>
        </p:nvSpPr>
        <p:spPr>
          <a:xfrm>
            <a:off x="478620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Овал 8"/>
          <p:cNvSpPr/>
          <p:nvPr/>
        </p:nvSpPr>
        <p:spPr>
          <a:xfrm>
            <a:off x="442908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Овал 9"/>
          <p:cNvSpPr/>
          <p:nvPr/>
        </p:nvSpPr>
        <p:spPr>
          <a:xfrm>
            <a:off x="400068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Овал 10"/>
          <p:cNvSpPr/>
          <p:nvPr/>
        </p:nvSpPr>
        <p:spPr>
          <a:xfrm>
            <a:off x="207180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Овал 11"/>
          <p:cNvSpPr/>
          <p:nvPr/>
        </p:nvSpPr>
        <p:spPr>
          <a:xfrm>
            <a:off x="242892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Овал 12"/>
          <p:cNvSpPr/>
          <p:nvPr/>
        </p:nvSpPr>
        <p:spPr>
          <a:xfrm>
            <a:off x="278604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Овал 13"/>
          <p:cNvSpPr/>
          <p:nvPr/>
        </p:nvSpPr>
        <p:spPr>
          <a:xfrm>
            <a:off x="321480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Овал 14"/>
          <p:cNvSpPr/>
          <p:nvPr/>
        </p:nvSpPr>
        <p:spPr>
          <a:xfrm>
            <a:off x="364320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Овал 15"/>
          <p:cNvSpPr/>
          <p:nvPr/>
        </p:nvSpPr>
        <p:spPr>
          <a:xfrm>
            <a:off x="64296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Овал 16"/>
          <p:cNvSpPr/>
          <p:nvPr/>
        </p:nvSpPr>
        <p:spPr>
          <a:xfrm>
            <a:off x="100008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Овал 18"/>
          <p:cNvSpPr/>
          <p:nvPr/>
        </p:nvSpPr>
        <p:spPr>
          <a:xfrm>
            <a:off x="135720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Овал 19"/>
          <p:cNvSpPr/>
          <p:nvPr/>
        </p:nvSpPr>
        <p:spPr>
          <a:xfrm>
            <a:off x="171468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Овал 20"/>
          <p:cNvSpPr/>
          <p:nvPr/>
        </p:nvSpPr>
        <p:spPr>
          <a:xfrm>
            <a:off x="207180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Овал 21"/>
          <p:cNvSpPr/>
          <p:nvPr/>
        </p:nvSpPr>
        <p:spPr>
          <a:xfrm>
            <a:off x="514368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Овал 22"/>
          <p:cNvSpPr/>
          <p:nvPr/>
        </p:nvSpPr>
        <p:spPr>
          <a:xfrm>
            <a:off x="478620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Овал 23"/>
          <p:cNvSpPr/>
          <p:nvPr/>
        </p:nvSpPr>
        <p:spPr>
          <a:xfrm>
            <a:off x="442908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Овал 24"/>
          <p:cNvSpPr/>
          <p:nvPr/>
        </p:nvSpPr>
        <p:spPr>
          <a:xfrm>
            <a:off x="400068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Овал 25"/>
          <p:cNvSpPr/>
          <p:nvPr/>
        </p:nvSpPr>
        <p:spPr>
          <a:xfrm>
            <a:off x="364320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Овал 26"/>
          <p:cNvSpPr/>
          <p:nvPr/>
        </p:nvSpPr>
        <p:spPr>
          <a:xfrm>
            <a:off x="321480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Овал 27"/>
          <p:cNvSpPr/>
          <p:nvPr/>
        </p:nvSpPr>
        <p:spPr>
          <a:xfrm>
            <a:off x="278604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Овал 28"/>
          <p:cNvSpPr/>
          <p:nvPr/>
        </p:nvSpPr>
        <p:spPr>
          <a:xfrm>
            <a:off x="242892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357200" y="5357880"/>
            <a:ext cx="714600" cy="5713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2643120" y="5500800"/>
            <a:ext cx="428760" cy="3571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Прямая соединительная линия 32"/>
          <p:cNvSpPr/>
          <p:nvPr/>
        </p:nvSpPr>
        <p:spPr>
          <a:xfrm>
            <a:off x="857160" y="3643200"/>
            <a:ext cx="4143600" cy="1800"/>
          </a:xfrm>
          <a:prstGeom prst="line">
            <a:avLst/>
          </a:prstGeom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Прямая соединительная линия 33"/>
          <p:cNvSpPr/>
          <p:nvPr/>
        </p:nvSpPr>
        <p:spPr>
          <a:xfrm>
            <a:off x="857160" y="4071960"/>
            <a:ext cx="4786560" cy="1440"/>
          </a:xfrm>
          <a:prstGeom prst="line">
            <a:avLst/>
          </a:prstGeom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Прямая соединительная линия 36"/>
          <p:cNvSpPr/>
          <p:nvPr/>
        </p:nvSpPr>
        <p:spPr>
          <a:xfrm flipH="1">
            <a:off x="856800" y="3571920"/>
            <a:ext cx="1800" cy="142920"/>
          </a:xfrm>
          <a:prstGeom prst="line">
            <a:avLst/>
          </a:prstGeom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Прямая соединительная линия 38"/>
          <p:cNvSpPr/>
          <p:nvPr/>
        </p:nvSpPr>
        <p:spPr>
          <a:xfrm flipH="1">
            <a:off x="5000760" y="3571920"/>
            <a:ext cx="1440" cy="14292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Прямая соединительная линия 40"/>
          <p:cNvSpPr/>
          <p:nvPr/>
        </p:nvSpPr>
        <p:spPr>
          <a:xfrm>
            <a:off x="857160" y="4000680"/>
            <a:ext cx="0" cy="14256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Прямая соединительная линия 43"/>
          <p:cNvSpPr/>
          <p:nvPr/>
        </p:nvSpPr>
        <p:spPr>
          <a:xfrm flipH="1">
            <a:off x="5643720" y="3929040"/>
            <a:ext cx="1440" cy="21420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Прямая соединительная линия 45"/>
          <p:cNvSpPr/>
          <p:nvPr/>
        </p:nvSpPr>
        <p:spPr>
          <a:xfrm flipH="1">
            <a:off x="4928760" y="4000680"/>
            <a:ext cx="1800" cy="14256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Прямая соединительная линия 49"/>
          <p:cNvSpPr/>
          <p:nvPr/>
        </p:nvSpPr>
        <p:spPr>
          <a:xfrm>
            <a:off x="5000760" y="4143240"/>
            <a:ext cx="571320" cy="1800"/>
          </a:xfrm>
          <a:prstGeom prst="line">
            <a:avLst/>
          </a:prstGeom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Нижний колонтитул 5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Прямоугольник 52"/>
          <p:cNvSpPr/>
          <p:nvPr/>
        </p:nvSpPr>
        <p:spPr>
          <a:xfrm>
            <a:off x="428760" y="2357280"/>
            <a:ext cx="621504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веряе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Прямоугольник 53"/>
          <p:cNvSpPr/>
          <p:nvPr/>
        </p:nvSpPr>
        <p:spPr>
          <a:xfrm>
            <a:off x="428760" y="3357720"/>
            <a:ext cx="6215040" cy="1000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веряе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Прямоугольник 54"/>
          <p:cNvSpPr/>
          <p:nvPr/>
        </p:nvSpPr>
        <p:spPr>
          <a:xfrm>
            <a:off x="428760" y="4500720"/>
            <a:ext cx="6215040" cy="3571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опрос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Прямоугольник 55"/>
          <p:cNvSpPr/>
          <p:nvPr/>
        </p:nvSpPr>
        <p:spPr>
          <a:xfrm>
            <a:off x="428760" y="5000760"/>
            <a:ext cx="6286320" cy="1071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Записать можно еще так: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Девочек  - 12 чел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Мальчиков – 13 чел.        На ? </a:t>
            </a:r>
            <a:r>
              <a:rPr b="0" lang="en-US" sz="2700" spc="-1" strike="noStrike">
                <a:solidFill>
                  <a:srgbClr val="7030a0"/>
                </a:solidFill>
                <a:latin typeface="Century Gothic"/>
              </a:rPr>
              <a:t>&gt;</a:t>
            </a: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           - 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Century Gothic"/>
              </a:rPr>
              <a:t>УСЛОВИЕ                        ТРЕБОВАНИЕ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Century Gothic"/>
              </a:rPr>
              <a:t>РЕШЕНИЕ           </a:t>
            </a: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13 – 12 = 1 (ЧЕЛ.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Century Gothic"/>
              </a:rPr>
              <a:t>ОТВЕТ: </a:t>
            </a: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на 1 мальчика больше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27" name="Дуга 3"/>
          <p:cNvSpPr/>
          <p:nvPr/>
        </p:nvSpPr>
        <p:spPr>
          <a:xfrm rot="2966400">
            <a:off x="3423240" y="2375280"/>
            <a:ext cx="1154160" cy="11782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Прямая соединительная линия 7"/>
          <p:cNvSpPr/>
          <p:nvPr/>
        </p:nvSpPr>
        <p:spPr>
          <a:xfrm flipH="1">
            <a:off x="4428720" y="2583000"/>
            <a:ext cx="19080" cy="1317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Прямая соединительная линия 9"/>
          <p:cNvSpPr/>
          <p:nvPr/>
        </p:nvSpPr>
        <p:spPr>
          <a:xfrm>
            <a:off x="4448160" y="2583000"/>
            <a:ext cx="123840" cy="60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Прямая соединительная линия 11"/>
          <p:cNvSpPr/>
          <p:nvPr/>
        </p:nvSpPr>
        <p:spPr>
          <a:xfrm flipH="1" flipV="1">
            <a:off x="4357440" y="3286080"/>
            <a:ext cx="19080" cy="1173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Прямая соединительная линия 13"/>
          <p:cNvSpPr/>
          <p:nvPr/>
        </p:nvSpPr>
        <p:spPr>
          <a:xfrm flipV="1">
            <a:off x="4376880" y="3357360"/>
            <a:ext cx="123840" cy="45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Стрелка вверх 14"/>
          <p:cNvSpPr/>
          <p:nvPr/>
        </p:nvSpPr>
        <p:spPr>
          <a:xfrm>
            <a:off x="1428840" y="3429000"/>
            <a:ext cx="71280" cy="42876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Стрелка вверх 15"/>
          <p:cNvSpPr/>
          <p:nvPr/>
        </p:nvSpPr>
        <p:spPr>
          <a:xfrm>
            <a:off x="5429160" y="3429000"/>
            <a:ext cx="71640" cy="42876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Стрелка вправо 16"/>
          <p:cNvSpPr/>
          <p:nvPr/>
        </p:nvSpPr>
        <p:spPr>
          <a:xfrm>
            <a:off x="2500200" y="4929120"/>
            <a:ext cx="571680" cy="7164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Овал 17"/>
          <p:cNvSpPr/>
          <p:nvPr/>
        </p:nvSpPr>
        <p:spPr>
          <a:xfrm>
            <a:off x="6000840" y="2786040"/>
            <a:ext cx="642960" cy="5716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Овал 18"/>
          <p:cNvSpPr/>
          <p:nvPr/>
        </p:nvSpPr>
        <p:spPr>
          <a:xfrm>
            <a:off x="7215120" y="2928960"/>
            <a:ext cx="357120" cy="3571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Нижний колонтитул 19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Прямоугольник 20"/>
          <p:cNvSpPr/>
          <p:nvPr/>
        </p:nvSpPr>
        <p:spPr>
          <a:xfrm>
            <a:off x="4286160" y="2500200"/>
            <a:ext cx="3500640" cy="8575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Прямоугольник 21"/>
          <p:cNvSpPr/>
          <p:nvPr/>
        </p:nvSpPr>
        <p:spPr>
          <a:xfrm>
            <a:off x="500040" y="3429000"/>
            <a:ext cx="228600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Прямоугольник 22"/>
          <p:cNvSpPr/>
          <p:nvPr/>
        </p:nvSpPr>
        <p:spPr>
          <a:xfrm>
            <a:off x="4286160" y="3429000"/>
            <a:ext cx="350064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Прямоугольник 23"/>
          <p:cNvSpPr/>
          <p:nvPr/>
        </p:nvSpPr>
        <p:spPr>
          <a:xfrm>
            <a:off x="500040" y="4572000"/>
            <a:ext cx="578664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Прямоугольник 24"/>
          <p:cNvSpPr/>
          <p:nvPr/>
        </p:nvSpPr>
        <p:spPr>
          <a:xfrm>
            <a:off x="500040" y="5286240"/>
            <a:ext cx="5715000" cy="3574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37:20Z</dcterms:created>
  <dc:creator>1</dc:creator>
  <dc:description/>
  <dc:language>en-US</dc:language>
  <cp:lastModifiedBy>1</cp:lastModifiedBy>
  <dcterms:modified xsi:type="dcterms:W3CDTF">2011-04-13T17:03:43Z</dcterms:modified>
  <cp:revision>9</cp:revision>
  <dc:subject/>
  <dc:title>Сравнение предметов</dc:title>
</cp:coreProperties>
</file>