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9.jpeg" ContentType="image/jpeg"/>
  <Override PartName="/ppt/media/image11.jpeg" ContentType="image/jpeg"/>
  <Override PartName="/ppt/media/image13.png" ContentType="image/png"/>
  <Override PartName="/ppt/media/image7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80797-94F5-4AB2-8BF2-B36EBE80E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676FD-253F-4FE2-98A0-E82AD2AD3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72CCA-24D0-485D-BBAD-C1AEE2B4D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0A231-BC69-4189-890B-529949C63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DBB52-500B-4A5D-95B8-18E344C67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D0A1B-2B4E-4AF7-A3D0-B2D1C5ABE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1D655-8B85-412B-BC84-80D646B9B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C6C86-A91C-4973-9F17-BE1681D9E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2A2F1-C4A0-4670-9C33-31B05ECFA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AE75D-59BE-467A-A207-0CB400943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99556-4365-42C3-928A-03E758626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416CB-0552-40C3-9F9A-2FBED351C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F28CC-17FC-464A-AD53-6EB3356A3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20C62-0153-493A-BA1A-89DFF7A65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06B33-D1F0-42A0-A64E-3310CC862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DCCA6-2716-4588-9CE2-15F8291C8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E0C7B-FE65-4809-AC54-676BC5839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72FC97-98EC-4C86-99AA-FC8F4D713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73592C-1D59-4511-B47C-0BFE00CDA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ED75C3-90B5-46D8-AA94-8C58D2A2C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392A2D-5EC0-4D36-A1F6-6C7C603F5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089D48-EA7D-49CF-A7BE-BA7C6059F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BAD0C-AC81-4998-9263-B6D6FF8F9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B0AF47-015F-4F72-8724-47635BA6C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F01A3F-C79F-46C6-9B72-63AE0327E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71C73A-BED4-4CE9-BFE3-8CB43F239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CA6CA4-4E59-49C5-A149-583DC9AD8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15B5EF-CFB8-4E67-AC26-A5D958C2E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0ABBE2-B6C2-4783-AE76-519D54841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A8A13A-6279-43CC-A621-23523AC79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E582CA-E258-4207-9E5B-277B6C5E6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5A36EE-6F37-47B4-B546-9A47EBEE3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B1264B-4EE5-403C-8E55-C81883EEC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2C95E-DF94-48D2-BF74-121266B98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2EE089-CD5F-48E1-9F9D-BA09ED1E5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0B0006-DA01-4835-8C0C-DDF1B7B97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18FB78-7F72-4DE2-9554-2D44B2F1A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AA2C39-AF18-491E-8BC0-528498D4B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1AC21D-747F-42AB-AA78-720515B24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75A095-4495-44C6-B14A-DC23711B4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5F33F3-BA72-4196-B46A-6B86FFE8B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F8F350-2B8D-4044-982B-41ABA5AC1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7DDBFF-A810-4A62-9B59-F439E6996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E251D1-C8CC-4AC5-B9EA-536F60379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33075-63B9-4B8A-A896-8A2F66F59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B72617-9CB5-457B-AB7B-9C095C726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840F44-64BD-4F5E-8E0A-14970310F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7F9283-4AFE-40B7-9ABB-08FE5253C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28713D-A797-4025-B699-47E6595F1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6E9770-D23E-4121-A16C-CD28DC637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53C48A-F69D-442C-A523-1AFDFC09F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A88992-16B0-44BD-A9E1-FBF2535D1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738002-4841-4317-9646-BAF115F28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E16389-B7A6-475A-9853-58F656D4D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B2EDDE-484B-4BD8-969D-24FA51DA9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6B380-A531-43D4-B8B9-7E17C1580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50CD61-AAC5-4ABA-B5D5-0FA353A4A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3E5A2D-9B7E-4254-B332-2D1ABEB3F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148E08-F805-4B82-B818-53D482523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511B24-D80F-4F0D-B4A0-2B7D73589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FFF9ED-83EF-4D71-9F64-4BC73A117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951E2B-B96E-4DFF-AD02-A04B5F559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EC0E5B-30E2-4F0B-BC7F-62C5806ED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126CF3-6670-4182-963A-051A49BC1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F645AC-27A5-44FC-970E-B6B8FBF8D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04A0EC-9B75-444C-ADFA-65CCD8CEB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BBD51-B837-4AEC-86E0-035CB8751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8B4381-D03E-44EF-B8A6-3BF7B7B91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945C28-9DB4-4388-B3BC-E4EC2E6F1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7EB59E-A9CA-40F8-B316-0030ED44D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1EEADF-F939-407F-B365-22A4FCD1F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CA356F-3784-4BB4-9E37-E6FEA433A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FD4631-F28F-446B-B905-20CBD3543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B7DC1F-AF13-47C9-A4AD-4C4DE696E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23225F-3215-4C53-A98A-99CFD74D7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0F605B-CB25-4B59-A172-5691AF73C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CBA027-39E6-420E-8B47-4B4F793E3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777D7-6331-47A1-8E32-6E4F9B3F6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10F35D-C523-456E-B98D-E8BF85924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5A2C7F-A7C6-4DC5-BDD4-D2F3017EA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2B3A61-2424-47BB-8089-17ED56E83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4C0FF2-E4B5-4639-865C-B75DB0914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776D1F-EBDD-4E08-85CC-F4A922405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67AB0F-AC1A-4555-B22A-ADE9F53E2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6D3F63-D5FC-4926-B99F-5255AC3A9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FB877F-4538-4C6A-85CA-65AA545E7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BFF356-56F3-475E-BF67-78103E57A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778502-09F8-493A-89DA-1B99E55F7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EBC42-58F0-4E6C-B13B-8A59CE718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F9092A-E344-44A2-95EF-E14EBFAF6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FBF9EE-0823-47EE-B585-320715BB2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6D23A8-1A4B-405A-BFC9-CF181F1CE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553053-9EA5-4E04-98B9-032BA3011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F594CB-EAD2-4796-9DA7-A79AC9A34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77CA1E-C9FE-45A5-AB27-EC560E811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DC0A4F-B8D4-44D3-959B-A47CC4568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Century Gothic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F0FE8-B018-4A3E-BBD8-63E0916FDF49}" type="datetime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Куликова Ирина Юрьевна ГОУ СОШ №92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1212D-5F49-4202-B8F8-6BB6A02B2B34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16"/>
            <p:cNvSpPr/>
            <p:nvPr/>
          </p:nvSpPr>
          <p:spPr>
            <a:xfrm>
              <a:off x="1693440" y="4952880"/>
              <a:ext cx="7444440" cy="48672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4280" y="5236560"/>
              <a:ext cx="9093600" cy="786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grpSp>
          <p:nvGrpSpPr>
            <p:cNvPr id="51" name="Полилиния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Полилиния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828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pic>
          <p:nvPicPr>
            <p:cNvPr id="54" name="Прямая соединительная линия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Century Gothic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99057-3F6C-4BEC-940F-B9390B3A694B}" type="datetime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e8f0f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e8f0f4"/>
                </a:solidFill>
                <a:latin typeface="Times New Roman"/>
              </a:rPr>
              <a:t>Куликова Ирина Юрьевна ГОУ СОШ №92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B7065-24AC-4B59-BEC6-526E042929ED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3" name="Нашивка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Century Gothic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E50DE-B64A-4C37-AFEC-79B9130B5459}" type="datetime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Куликова Ирина Юрьевна ГОУ СОШ №929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E13E4-8EDF-403D-B959-ABC5E47B5941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6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147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pic>
        <p:nvPicPr>
          <p:cNvPr id="150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Century Gothic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20A9F-36A7-4E25-813D-D5C7727619DD}" type="datetime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Куликова Ирина Юрьевна ГОУ СОШ №929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2E087-17BA-435C-8E35-1BF8A69A6D49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Century Gothic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7FC91-91A7-4663-AAE1-21E23A59553B}" type="datetime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Куликова Ирина Юрьевна ГОУ СОШ №92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5F0F3-5A6D-42F5-A934-011BE1AFB6BD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4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235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pic>
        <p:nvPicPr>
          <p:cNvPr id="238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Century Gothic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DEFDC-39BB-4C8E-823F-4DF9732B0139}" type="datetime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Куликова Ирина Юрьевна ГОУ СОШ №929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FEE18-4046-4C5A-8830-5A690F251A66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Century Gothic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33901-6EE3-401B-9466-3A9F99C96AA1}" type="datetime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Куликова Ирина Юрьевна ГОУ СОШ №92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5D696-535B-4227-950F-4DE4AE066ECA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олилиния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2" name="Полилиния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323" name="Прямоугольный треугольник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Прямоугольный треугольник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pic>
        <p:nvPicPr>
          <p:cNvPr id="326" name="Прямая соединительная линия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Нашивка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8" name="Нашивка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Century Gothic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Century Gothic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305CF-DDF1-4797-A606-395356F75794}" type="datetime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Куликова Ирина Юрьевна ГОУ СОШ №929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99582-DCB4-46E7-A7AE-850B41C96AA5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Заголовок 1" descr=""/>
          <p:cNvPicPr/>
          <p:nvPr/>
        </p:nvPicPr>
        <p:blipFill>
          <a:blip r:embed="rId1"/>
          <a:stretch/>
        </p:blipFill>
        <p:spPr>
          <a:xfrm>
            <a:off x="633240" y="920880"/>
            <a:ext cx="8089920" cy="184608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70c0"/>
                </a:solidFill>
                <a:latin typeface="Century Gothic"/>
              </a:rPr>
              <a:t>Математика 1 класс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2" name="Нижний колонтитул 3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e8f0f4"/>
                </a:solidFill>
                <a:latin typeface="Century Gothic"/>
              </a:rPr>
              <a:t>Куликова Ирина Юрьевна ГОУ СОШ №929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entury Gothic"/>
              </a:rPr>
              <a:t>В 1 классе Б учится 13 мальчиков и 12 девочек. Нам нужно узнать кого в классе больше и на сколько человек?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374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375" name="Рисунок 3" descr="мал.jpg"/>
          <p:cNvPicPr/>
          <p:nvPr/>
        </p:nvPicPr>
        <p:blipFill>
          <a:blip r:embed="rId2"/>
          <a:stretch/>
        </p:blipFill>
        <p:spPr>
          <a:xfrm>
            <a:off x="1143000" y="4286160"/>
            <a:ext cx="1730520" cy="1257480"/>
          </a:xfrm>
          <a:prstGeom prst="rect">
            <a:avLst/>
          </a:prstGeom>
          <a:ln w="0">
            <a:noFill/>
          </a:ln>
        </p:spPr>
      </p:pic>
      <p:pic>
        <p:nvPicPr>
          <p:cNvPr id="376" name="Рисунок 4" descr="мал2.jpg"/>
          <p:cNvPicPr/>
          <p:nvPr/>
        </p:nvPicPr>
        <p:blipFill>
          <a:blip r:embed="rId3"/>
          <a:stretch/>
        </p:blipFill>
        <p:spPr>
          <a:xfrm>
            <a:off x="6429240" y="3929040"/>
            <a:ext cx="1571760" cy="1143000"/>
          </a:xfrm>
          <a:prstGeom prst="rect">
            <a:avLst/>
          </a:prstGeom>
          <a:ln w="0">
            <a:noFill/>
          </a:ln>
        </p:spPr>
      </p:pic>
      <p:pic>
        <p:nvPicPr>
          <p:cNvPr id="377" name="Рисунок 5" descr="дев.jpg"/>
          <p:cNvPicPr/>
          <p:nvPr/>
        </p:nvPicPr>
        <p:blipFill>
          <a:blip r:embed="rId4"/>
          <a:stretch/>
        </p:blipFill>
        <p:spPr>
          <a:xfrm>
            <a:off x="3857760" y="3357720"/>
            <a:ext cx="1611000" cy="1500120"/>
          </a:xfrm>
          <a:prstGeom prst="rect">
            <a:avLst/>
          </a:prstGeom>
          <a:ln w="0">
            <a:noFill/>
          </a:ln>
        </p:spPr>
      </p:pic>
      <p:sp>
        <p:nvSpPr>
          <p:cNvPr id="378" name="Нижний колонтитул 6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Куликова Ирина Юрьевна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ГОУ СОШ №929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entury Gothic"/>
              </a:rPr>
              <a:t>Сколько в классе девочек?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entury Gothic"/>
              </a:rPr>
              <a:t>Сколько в классе мальчиков?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entury Gothic"/>
              </a:rPr>
              <a:t>Кого в классе больше? Объясни.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entury Gothic"/>
              </a:rPr>
              <a:t>Проверь: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entury Gothic"/>
              </a:rPr>
              <a:t>Девочек        - 12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entury Gothic"/>
              </a:rPr>
              <a:t>Мальчиков    - 13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entury Gothic"/>
              </a:rPr>
              <a:t>Мальчиков, потому что 13 при счёте стоит после 12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380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381" name="Прямоугольник 3"/>
          <p:cNvSpPr/>
          <p:nvPr/>
        </p:nvSpPr>
        <p:spPr>
          <a:xfrm>
            <a:off x="714240" y="3214800"/>
            <a:ext cx="8072640" cy="2643120"/>
          </a:xfrm>
          <a:prstGeom prst="rect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entury Gothic"/>
              </a:rPr>
              <a:t>ПРОВЕРЯЕМ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2" name="Нижний колонтитул 4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Куликова Ирина Юрьевна 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ГОУ СОШ №929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2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entury Gothic"/>
              </a:rPr>
              <a:t>Нарисуем кружками разного цвета количество девочек и мальчиков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     13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знаем на сколько больше мальчиков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ужно из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большего числа вычесть меньше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         ЗАПОМНИ!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384" name="Заголовок 2" descr=""/>
          <p:cNvPicPr/>
          <p:nvPr/>
        </p:nvPicPr>
        <p:blipFill>
          <a:blip r:embed="rId1"/>
          <a:stretch/>
        </p:blipFill>
        <p:spPr>
          <a:xfrm>
            <a:off x="195120" y="152280"/>
            <a:ext cx="8498160" cy="854280"/>
          </a:xfrm>
          <a:prstGeom prst="rect">
            <a:avLst/>
          </a:prstGeom>
          <a:ln w="0">
            <a:noFill/>
          </a:ln>
        </p:spPr>
      </p:pic>
      <p:sp>
        <p:nvSpPr>
          <p:cNvPr id="385" name="Овал 3"/>
          <p:cNvSpPr/>
          <p:nvPr/>
        </p:nvSpPr>
        <p:spPr>
          <a:xfrm>
            <a:off x="1000080" y="2428920"/>
            <a:ext cx="285840" cy="285840"/>
          </a:xfrm>
          <a:prstGeom prst="ellipse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6" name="Овал 4"/>
          <p:cNvSpPr/>
          <p:nvPr/>
        </p:nvSpPr>
        <p:spPr>
          <a:xfrm>
            <a:off x="1357200" y="2428920"/>
            <a:ext cx="285840" cy="285840"/>
          </a:xfrm>
          <a:prstGeom prst="ellipse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7" name="Овал 5"/>
          <p:cNvSpPr/>
          <p:nvPr/>
        </p:nvSpPr>
        <p:spPr>
          <a:xfrm>
            <a:off x="642960" y="2428920"/>
            <a:ext cx="285840" cy="285840"/>
          </a:xfrm>
          <a:prstGeom prst="ellipse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8" name="Овал 6"/>
          <p:cNvSpPr/>
          <p:nvPr/>
        </p:nvSpPr>
        <p:spPr>
          <a:xfrm>
            <a:off x="1714680" y="2428920"/>
            <a:ext cx="285480" cy="285840"/>
          </a:xfrm>
          <a:prstGeom prst="ellipse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9" name="Овал 7"/>
          <p:cNvSpPr/>
          <p:nvPr/>
        </p:nvSpPr>
        <p:spPr>
          <a:xfrm>
            <a:off x="4786200" y="2428920"/>
            <a:ext cx="285840" cy="285840"/>
          </a:xfrm>
          <a:prstGeom prst="ellipse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0" name="Овал 8"/>
          <p:cNvSpPr/>
          <p:nvPr/>
        </p:nvSpPr>
        <p:spPr>
          <a:xfrm>
            <a:off x="4429080" y="2428920"/>
            <a:ext cx="285840" cy="285840"/>
          </a:xfrm>
          <a:prstGeom prst="ellipse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1" name="Овал 9"/>
          <p:cNvSpPr/>
          <p:nvPr/>
        </p:nvSpPr>
        <p:spPr>
          <a:xfrm>
            <a:off x="4000680" y="2428920"/>
            <a:ext cx="285480" cy="285840"/>
          </a:xfrm>
          <a:prstGeom prst="ellipse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2" name="Овал 10"/>
          <p:cNvSpPr/>
          <p:nvPr/>
        </p:nvSpPr>
        <p:spPr>
          <a:xfrm>
            <a:off x="2071800" y="2428920"/>
            <a:ext cx="285480" cy="285840"/>
          </a:xfrm>
          <a:prstGeom prst="ellipse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3" name="Овал 11"/>
          <p:cNvSpPr/>
          <p:nvPr/>
        </p:nvSpPr>
        <p:spPr>
          <a:xfrm>
            <a:off x="2428920" y="2428920"/>
            <a:ext cx="285840" cy="285840"/>
          </a:xfrm>
          <a:prstGeom prst="ellipse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4" name="Овал 12"/>
          <p:cNvSpPr/>
          <p:nvPr/>
        </p:nvSpPr>
        <p:spPr>
          <a:xfrm>
            <a:off x="2786040" y="2428920"/>
            <a:ext cx="285840" cy="285840"/>
          </a:xfrm>
          <a:prstGeom prst="ellipse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5" name="Овал 13"/>
          <p:cNvSpPr/>
          <p:nvPr/>
        </p:nvSpPr>
        <p:spPr>
          <a:xfrm>
            <a:off x="3214800" y="2428920"/>
            <a:ext cx="285480" cy="285840"/>
          </a:xfrm>
          <a:prstGeom prst="ellipse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6" name="Овал 14"/>
          <p:cNvSpPr/>
          <p:nvPr/>
        </p:nvSpPr>
        <p:spPr>
          <a:xfrm>
            <a:off x="3643200" y="2428920"/>
            <a:ext cx="285840" cy="285840"/>
          </a:xfrm>
          <a:prstGeom prst="ellipse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7" name="Овал 15"/>
          <p:cNvSpPr/>
          <p:nvPr/>
        </p:nvSpPr>
        <p:spPr>
          <a:xfrm>
            <a:off x="642960" y="2857680"/>
            <a:ext cx="285840" cy="285480"/>
          </a:xfrm>
          <a:prstGeom prst="ellipse">
            <a:avLst/>
          </a:prstGeom>
          <a:solidFill>
            <a:srgbClr val="f2a4a7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8" name="Овал 16"/>
          <p:cNvSpPr/>
          <p:nvPr/>
        </p:nvSpPr>
        <p:spPr>
          <a:xfrm>
            <a:off x="1000080" y="2857680"/>
            <a:ext cx="285840" cy="285480"/>
          </a:xfrm>
          <a:prstGeom prst="ellipse">
            <a:avLst/>
          </a:prstGeom>
          <a:solidFill>
            <a:srgbClr val="f2a4a7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9" name="Овал 18"/>
          <p:cNvSpPr/>
          <p:nvPr/>
        </p:nvSpPr>
        <p:spPr>
          <a:xfrm>
            <a:off x="1357200" y="2857680"/>
            <a:ext cx="285840" cy="285480"/>
          </a:xfrm>
          <a:prstGeom prst="ellipse">
            <a:avLst/>
          </a:prstGeom>
          <a:solidFill>
            <a:srgbClr val="f2a4a7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0" name="Овал 19"/>
          <p:cNvSpPr/>
          <p:nvPr/>
        </p:nvSpPr>
        <p:spPr>
          <a:xfrm>
            <a:off x="1714680" y="2857680"/>
            <a:ext cx="285480" cy="285480"/>
          </a:xfrm>
          <a:prstGeom prst="ellipse">
            <a:avLst/>
          </a:prstGeom>
          <a:solidFill>
            <a:srgbClr val="f2a4a7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1" name="Овал 20"/>
          <p:cNvSpPr/>
          <p:nvPr/>
        </p:nvSpPr>
        <p:spPr>
          <a:xfrm>
            <a:off x="2071800" y="2857680"/>
            <a:ext cx="285480" cy="285480"/>
          </a:xfrm>
          <a:prstGeom prst="ellipse">
            <a:avLst/>
          </a:prstGeom>
          <a:solidFill>
            <a:srgbClr val="f2a4a7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2" name="Овал 21"/>
          <p:cNvSpPr/>
          <p:nvPr/>
        </p:nvSpPr>
        <p:spPr>
          <a:xfrm>
            <a:off x="5143680" y="2857680"/>
            <a:ext cx="285480" cy="285480"/>
          </a:xfrm>
          <a:prstGeom prst="ellipse">
            <a:avLst/>
          </a:prstGeom>
          <a:solidFill>
            <a:srgbClr val="f2a4a7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3" name="Овал 22"/>
          <p:cNvSpPr/>
          <p:nvPr/>
        </p:nvSpPr>
        <p:spPr>
          <a:xfrm>
            <a:off x="4786200" y="2857680"/>
            <a:ext cx="285840" cy="285480"/>
          </a:xfrm>
          <a:prstGeom prst="ellipse">
            <a:avLst/>
          </a:prstGeom>
          <a:solidFill>
            <a:srgbClr val="f2a4a7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4" name="Овал 23"/>
          <p:cNvSpPr/>
          <p:nvPr/>
        </p:nvSpPr>
        <p:spPr>
          <a:xfrm>
            <a:off x="4429080" y="2857680"/>
            <a:ext cx="285840" cy="285480"/>
          </a:xfrm>
          <a:prstGeom prst="ellipse">
            <a:avLst/>
          </a:prstGeom>
          <a:solidFill>
            <a:srgbClr val="f2a4a7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5" name="Овал 24"/>
          <p:cNvSpPr/>
          <p:nvPr/>
        </p:nvSpPr>
        <p:spPr>
          <a:xfrm>
            <a:off x="4000680" y="2857680"/>
            <a:ext cx="285480" cy="285480"/>
          </a:xfrm>
          <a:prstGeom prst="ellipse">
            <a:avLst/>
          </a:prstGeom>
          <a:solidFill>
            <a:srgbClr val="f2a4a7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6" name="Овал 25"/>
          <p:cNvSpPr/>
          <p:nvPr/>
        </p:nvSpPr>
        <p:spPr>
          <a:xfrm>
            <a:off x="3643200" y="2857680"/>
            <a:ext cx="285840" cy="285480"/>
          </a:xfrm>
          <a:prstGeom prst="ellipse">
            <a:avLst/>
          </a:prstGeom>
          <a:solidFill>
            <a:srgbClr val="f2a4a7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7" name="Овал 26"/>
          <p:cNvSpPr/>
          <p:nvPr/>
        </p:nvSpPr>
        <p:spPr>
          <a:xfrm>
            <a:off x="3214800" y="2857680"/>
            <a:ext cx="285480" cy="285480"/>
          </a:xfrm>
          <a:prstGeom prst="ellipse">
            <a:avLst/>
          </a:prstGeom>
          <a:solidFill>
            <a:srgbClr val="f2a4a7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8" name="Овал 27"/>
          <p:cNvSpPr/>
          <p:nvPr/>
        </p:nvSpPr>
        <p:spPr>
          <a:xfrm>
            <a:off x="2786040" y="2857680"/>
            <a:ext cx="285840" cy="285480"/>
          </a:xfrm>
          <a:prstGeom prst="ellipse">
            <a:avLst/>
          </a:prstGeom>
          <a:solidFill>
            <a:srgbClr val="f2a4a7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9" name="Овал 28"/>
          <p:cNvSpPr/>
          <p:nvPr/>
        </p:nvSpPr>
        <p:spPr>
          <a:xfrm>
            <a:off x="2428920" y="2857680"/>
            <a:ext cx="285840" cy="285480"/>
          </a:xfrm>
          <a:prstGeom prst="ellipse">
            <a:avLst/>
          </a:prstGeom>
          <a:solidFill>
            <a:srgbClr val="f2a4a7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0" name="Овал 29"/>
          <p:cNvSpPr/>
          <p:nvPr/>
        </p:nvSpPr>
        <p:spPr>
          <a:xfrm>
            <a:off x="1357200" y="5357880"/>
            <a:ext cx="714600" cy="571320"/>
          </a:xfrm>
          <a:prstGeom prst="ellipse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1" name="Овал 30"/>
          <p:cNvSpPr/>
          <p:nvPr/>
        </p:nvSpPr>
        <p:spPr>
          <a:xfrm>
            <a:off x="2643120" y="5500800"/>
            <a:ext cx="428760" cy="357120"/>
          </a:xfrm>
          <a:prstGeom prst="ellipse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2" name="Прямая соединительная линия 32"/>
          <p:cNvSpPr/>
          <p:nvPr/>
        </p:nvSpPr>
        <p:spPr>
          <a:xfrm>
            <a:off x="857160" y="3643200"/>
            <a:ext cx="4143600" cy="1800"/>
          </a:xfrm>
          <a:prstGeom prst="line">
            <a:avLst/>
          </a:prstGeom>
          <a:ln w="55080">
            <a:solidFill>
              <a:srgbClr val="3963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3" name="Прямая соединительная линия 33"/>
          <p:cNvSpPr/>
          <p:nvPr/>
        </p:nvSpPr>
        <p:spPr>
          <a:xfrm>
            <a:off x="857160" y="4071960"/>
            <a:ext cx="4786560" cy="1440"/>
          </a:xfrm>
          <a:prstGeom prst="line">
            <a:avLst/>
          </a:prstGeom>
          <a:ln w="55080">
            <a:solidFill>
              <a:srgbClr val="3963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4" name="Прямая соединительная линия 36"/>
          <p:cNvSpPr/>
          <p:nvPr/>
        </p:nvSpPr>
        <p:spPr>
          <a:xfrm flipH="1">
            <a:off x="856800" y="3571920"/>
            <a:ext cx="1800" cy="142920"/>
          </a:xfrm>
          <a:prstGeom prst="line">
            <a:avLst/>
          </a:prstGeom>
          <a:ln w="55080">
            <a:solidFill>
              <a:srgbClr val="3963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5" name="Прямая соединительная линия 38"/>
          <p:cNvSpPr/>
          <p:nvPr/>
        </p:nvSpPr>
        <p:spPr>
          <a:xfrm flipH="1">
            <a:off x="5000760" y="3571920"/>
            <a:ext cx="1440" cy="142920"/>
          </a:xfrm>
          <a:prstGeom prst="line">
            <a:avLst/>
          </a:prstGeom>
          <a:ln w="63360">
            <a:solidFill>
              <a:srgbClr val="3963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6" name="Прямая соединительная линия 40"/>
          <p:cNvSpPr/>
          <p:nvPr/>
        </p:nvSpPr>
        <p:spPr>
          <a:xfrm>
            <a:off x="857160" y="4000680"/>
            <a:ext cx="0" cy="142560"/>
          </a:xfrm>
          <a:prstGeom prst="line">
            <a:avLst/>
          </a:prstGeom>
          <a:ln w="63360">
            <a:solidFill>
              <a:srgbClr val="3963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7" name="Прямая соединительная линия 43"/>
          <p:cNvSpPr/>
          <p:nvPr/>
        </p:nvSpPr>
        <p:spPr>
          <a:xfrm flipH="1">
            <a:off x="5643720" y="3929040"/>
            <a:ext cx="1440" cy="214200"/>
          </a:xfrm>
          <a:prstGeom prst="line">
            <a:avLst/>
          </a:prstGeom>
          <a:ln w="63360">
            <a:solidFill>
              <a:srgbClr val="3963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8" name="Прямая соединительная линия 45"/>
          <p:cNvSpPr/>
          <p:nvPr/>
        </p:nvSpPr>
        <p:spPr>
          <a:xfrm flipH="1">
            <a:off x="4928760" y="4000680"/>
            <a:ext cx="1800" cy="142560"/>
          </a:xfrm>
          <a:prstGeom prst="line">
            <a:avLst/>
          </a:prstGeom>
          <a:ln w="63360">
            <a:solidFill>
              <a:srgbClr val="3963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9" name="Прямая соединительная линия 49"/>
          <p:cNvSpPr/>
          <p:nvPr/>
        </p:nvSpPr>
        <p:spPr>
          <a:xfrm>
            <a:off x="5000760" y="4143240"/>
            <a:ext cx="571320" cy="1800"/>
          </a:xfrm>
          <a:prstGeom prst="line">
            <a:avLst/>
          </a:prstGeom>
          <a:ln w="5508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0" name="Нижний колонтитул 51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Куликова Ирина Юрьевна 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ГОУ СОШ №929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1" name="Прямоугольник 52"/>
          <p:cNvSpPr/>
          <p:nvPr/>
        </p:nvSpPr>
        <p:spPr>
          <a:xfrm>
            <a:off x="428760" y="2357280"/>
            <a:ext cx="6215040" cy="928800"/>
          </a:xfrm>
          <a:prstGeom prst="rect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проверяем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2" name="Прямоугольник 53"/>
          <p:cNvSpPr/>
          <p:nvPr/>
        </p:nvSpPr>
        <p:spPr>
          <a:xfrm>
            <a:off x="428760" y="3357720"/>
            <a:ext cx="6215040" cy="1000080"/>
          </a:xfrm>
          <a:prstGeom prst="rect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проверяем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3" name="Прямоугольник 54"/>
          <p:cNvSpPr/>
          <p:nvPr/>
        </p:nvSpPr>
        <p:spPr>
          <a:xfrm>
            <a:off x="428760" y="4500720"/>
            <a:ext cx="6215040" cy="357120"/>
          </a:xfrm>
          <a:prstGeom prst="rect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вопрос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4" name="Прямоугольник 55"/>
          <p:cNvSpPr/>
          <p:nvPr/>
        </p:nvSpPr>
        <p:spPr>
          <a:xfrm>
            <a:off x="428760" y="5000760"/>
            <a:ext cx="6286320" cy="1071360"/>
          </a:xfrm>
          <a:prstGeom prst="rect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правило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wipe dir="d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" dur="2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" dur="2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" dur="2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" dur="2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entury Gothic"/>
              </a:rPr>
              <a:t>Записать можно еще так: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7030a0"/>
                </a:solidFill>
                <a:latin typeface="Century Gothic"/>
              </a:rPr>
              <a:t>Девочек  - 12 чел.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7030a0"/>
                </a:solidFill>
                <a:latin typeface="Century Gothic"/>
              </a:rPr>
              <a:t>Мальчиков – 13 чел.        На ? </a:t>
            </a:r>
            <a:r>
              <a:rPr b="0" lang="en-US" sz="2700" spc="-1" strike="noStrike">
                <a:solidFill>
                  <a:srgbClr val="7030a0"/>
                </a:solidFill>
                <a:latin typeface="Century Gothic"/>
              </a:rPr>
              <a:t>&gt;</a:t>
            </a:r>
            <a:r>
              <a:rPr b="0" lang="ru-RU" sz="2700" spc="-1" strike="noStrike">
                <a:solidFill>
                  <a:srgbClr val="7030a0"/>
                </a:solidFill>
                <a:latin typeface="Century Gothic"/>
              </a:rPr>
              <a:t>           -  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b050"/>
                </a:solidFill>
                <a:latin typeface="Century Gothic"/>
              </a:rPr>
              <a:t>УСЛОВИЕ                        ТРЕБОВАНИЕ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b050"/>
                </a:solidFill>
                <a:latin typeface="Century Gothic"/>
              </a:rPr>
              <a:t>РЕШЕНИЕ           </a:t>
            </a:r>
            <a:r>
              <a:rPr b="0" lang="ru-RU" sz="2700" spc="-1" strike="noStrike">
                <a:solidFill>
                  <a:srgbClr val="7030a0"/>
                </a:solidFill>
                <a:latin typeface="Century Gothic"/>
              </a:rPr>
              <a:t>13 – 12 = 1 (ЧЕЛ.)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b050"/>
                </a:solidFill>
                <a:latin typeface="Century Gothic"/>
              </a:rPr>
              <a:t>ОТВЕТ: </a:t>
            </a:r>
            <a:r>
              <a:rPr b="0" lang="ru-RU" sz="2700" spc="-1" strike="noStrike">
                <a:solidFill>
                  <a:srgbClr val="7030a0"/>
                </a:solidFill>
                <a:latin typeface="Century Gothic"/>
              </a:rPr>
              <a:t>на 1 мальчика больше.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426" name="Заголовок 2" descr=""/>
          <p:cNvPicPr/>
          <p:nvPr/>
        </p:nvPicPr>
        <p:blipFill>
          <a:blip r:embed="rId1"/>
          <a:stretch/>
        </p:blipFill>
        <p:spPr>
          <a:xfrm>
            <a:off x="225360" y="122400"/>
            <a:ext cx="8467920" cy="1341360"/>
          </a:xfrm>
          <a:prstGeom prst="rect">
            <a:avLst/>
          </a:prstGeom>
          <a:ln w="0">
            <a:noFill/>
          </a:ln>
        </p:spPr>
      </p:pic>
      <p:sp>
        <p:nvSpPr>
          <p:cNvPr id="427" name="Дуга 3"/>
          <p:cNvSpPr/>
          <p:nvPr/>
        </p:nvSpPr>
        <p:spPr>
          <a:xfrm rot="2966400">
            <a:off x="3423240" y="2375280"/>
            <a:ext cx="1154160" cy="1178280"/>
          </a:xfrm>
          <a:prstGeom prst="pie">
            <a:avLst/>
          </a:prstGeom>
          <a:noFill/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8" name="Прямая соединительная линия 7"/>
          <p:cNvSpPr/>
          <p:nvPr/>
        </p:nvSpPr>
        <p:spPr>
          <a:xfrm flipH="1">
            <a:off x="4428720" y="2583000"/>
            <a:ext cx="19080" cy="13176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9" name="Прямая соединительная линия 9"/>
          <p:cNvSpPr/>
          <p:nvPr/>
        </p:nvSpPr>
        <p:spPr>
          <a:xfrm>
            <a:off x="4448160" y="2583000"/>
            <a:ext cx="123840" cy="6012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0" name="Прямая соединительная линия 11"/>
          <p:cNvSpPr/>
          <p:nvPr/>
        </p:nvSpPr>
        <p:spPr>
          <a:xfrm flipH="1" flipV="1">
            <a:off x="4357440" y="3286080"/>
            <a:ext cx="19080" cy="11736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1" name="Прямая соединительная линия 13"/>
          <p:cNvSpPr/>
          <p:nvPr/>
        </p:nvSpPr>
        <p:spPr>
          <a:xfrm flipV="1">
            <a:off x="4376880" y="3357360"/>
            <a:ext cx="123840" cy="4572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2" name="Стрелка вверх 14"/>
          <p:cNvSpPr/>
          <p:nvPr/>
        </p:nvSpPr>
        <p:spPr>
          <a:xfrm>
            <a:off x="1428840" y="3429000"/>
            <a:ext cx="71280" cy="42876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3" name="Стрелка вверх 15"/>
          <p:cNvSpPr/>
          <p:nvPr/>
        </p:nvSpPr>
        <p:spPr>
          <a:xfrm>
            <a:off x="5429160" y="3429000"/>
            <a:ext cx="71640" cy="42876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4" name="Стрелка вправо 16"/>
          <p:cNvSpPr/>
          <p:nvPr/>
        </p:nvSpPr>
        <p:spPr>
          <a:xfrm>
            <a:off x="2500200" y="4929120"/>
            <a:ext cx="571680" cy="71640"/>
          </a:xfrm>
          <a:prstGeom prst="rightArrow">
            <a:avLst>
              <a:gd name="adj1" fmla="val 50000"/>
              <a:gd name="adj2" fmla="val 49874"/>
            </a:avLst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5" name="Овал 17"/>
          <p:cNvSpPr/>
          <p:nvPr/>
        </p:nvSpPr>
        <p:spPr>
          <a:xfrm>
            <a:off x="6000840" y="2786040"/>
            <a:ext cx="642960" cy="571680"/>
          </a:xfrm>
          <a:prstGeom prst="ellipse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6" name="Овал 18"/>
          <p:cNvSpPr/>
          <p:nvPr/>
        </p:nvSpPr>
        <p:spPr>
          <a:xfrm>
            <a:off x="7215120" y="2928960"/>
            <a:ext cx="357120" cy="357120"/>
          </a:xfrm>
          <a:prstGeom prst="ellipse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7" name="Нижний колонтитул 19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Куликова Ирина Юрьевна 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ГОУ СОШ №929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8" name="Прямоугольник 20"/>
          <p:cNvSpPr/>
          <p:nvPr/>
        </p:nvSpPr>
        <p:spPr>
          <a:xfrm>
            <a:off x="4286160" y="2500200"/>
            <a:ext cx="3500640" cy="857520"/>
          </a:xfrm>
          <a:prstGeom prst="rect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9" name="Прямоугольник 21"/>
          <p:cNvSpPr/>
          <p:nvPr/>
        </p:nvSpPr>
        <p:spPr>
          <a:xfrm>
            <a:off x="500040" y="3429000"/>
            <a:ext cx="2286000" cy="928800"/>
          </a:xfrm>
          <a:prstGeom prst="rect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0" name="Прямоугольник 22"/>
          <p:cNvSpPr/>
          <p:nvPr/>
        </p:nvSpPr>
        <p:spPr>
          <a:xfrm>
            <a:off x="4286160" y="3429000"/>
            <a:ext cx="3500640" cy="928800"/>
          </a:xfrm>
          <a:prstGeom prst="rect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1" name="Прямоугольник 23"/>
          <p:cNvSpPr/>
          <p:nvPr/>
        </p:nvSpPr>
        <p:spPr>
          <a:xfrm>
            <a:off x="500040" y="4572000"/>
            <a:ext cx="5786640" cy="642960"/>
          </a:xfrm>
          <a:prstGeom prst="rect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2" name="Прямоугольник 24"/>
          <p:cNvSpPr/>
          <p:nvPr/>
        </p:nvSpPr>
        <p:spPr>
          <a:xfrm>
            <a:off x="500040" y="5286240"/>
            <a:ext cx="5715000" cy="357480"/>
          </a:xfrm>
          <a:prstGeom prst="rect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wipe dir="d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" dur="2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" dur="2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" dur="2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" dur="2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" dur="2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3T15:37:20Z</dcterms:created>
  <dc:creator>1</dc:creator>
  <dc:description/>
  <dc:language>en-US</dc:language>
  <cp:lastModifiedBy>1</cp:lastModifiedBy>
  <dcterms:modified xsi:type="dcterms:W3CDTF">2011-04-13T17:03:43Z</dcterms:modified>
  <cp:revision>9</cp:revision>
  <dc:subject/>
  <dc:title>Сравнение предметов</dc:title>
</cp:coreProperties>
</file>