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9D1-622F-4F61-905B-A1A27E47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4F1-B95A-4B06-B717-35CA7F7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C63-785E-4A96-B847-06FB9F07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BA6-E818-44F2-B169-88FEA738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A9C-0C16-4744-BB45-14F1057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A53-FB60-4CA6-9E77-1504C14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F1C-990E-472A-9751-CCFB895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F81-829A-44CD-8180-0256259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40A-C7BF-4651-9A12-A75CEA2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CAD-035A-4D35-994E-8F7168B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258-923A-4B89-9074-BE48CFA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903-1B22-4E29-B720-D268A29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06E-68E8-4517-8B55-B8C71D429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62" name="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63" name="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66" name="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69" name="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72" name="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80" name="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81" name="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89" name="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99" name="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15" name="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16" name="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33" name="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53" name="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54" name="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73" name="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84" name="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86" name="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03" name="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05" name="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09" name="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23" name="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29" name="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46" name="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52" name="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67" name="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293" name="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Compaq</cp:lastModifiedBy>
  <dcterms:modified xsi:type="dcterms:W3CDTF">2008-10-16T10:20:02Z</dcterms:modified>
  <cp:revision>102</cp:revision>
  <dc:subject/>
  <dc:title>СПЕЦИФИЧНОСТЬ  ПАРАЗИТОВ</dc:title>
</cp:coreProperties>
</file>