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166-ECEB-4DDC-9188-C641B209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490-1D79-4216-835F-F0677A8A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EC9-72BE-41A3-A30F-EBA73135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FC9-2DE2-4A91-AD47-FB5CA383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0EB-00C8-42AB-8019-FD3A4CA8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3DF-22E1-4ED4-938D-9081701B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4CD-4298-425A-BA60-56A9F0F6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C46-4E4B-47DF-B17E-5436C77A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B70-D39A-4336-AAC4-5B323752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BD9-F99C-42C6-AD56-51D8379E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090-DA2B-4498-95DC-81AEF22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73A-A06D-4F24-ACB3-7437AAA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A9DD-9802-4006-A813-987AD6D80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62" name="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63" name="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66" name="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69" name="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72" name="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80" name="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81" name="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86" name="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89" name="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99" name="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00" name="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15" name="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16" name="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33" name="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34" name="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53" name="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54" name="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73" name="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75" name="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84" name="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86" name="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03" name="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05" name="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09" name="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23" name="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25" name="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29" name="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46" name="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47" name="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52" name="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67" name="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68" name="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293" name="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295" name="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16" name="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Compaq</cp:lastModifiedBy>
  <dcterms:modified xsi:type="dcterms:W3CDTF">2008-10-16T10:20:02Z</dcterms:modified>
  <cp:revision>102</cp:revision>
  <dc:subject/>
  <dc:title>СПЕЦИФИЧНОСТЬ  ПАРАЗИТОВ</dc:title>
</cp:coreProperties>
</file>