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74B-FF63-4B19-AF1F-2499402D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063-AF91-4B97-8610-0809B0F3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012-A717-4959-AEFE-F310F62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819-D547-4C52-8F06-C8973CEC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B0-0B6A-4EA4-8F4A-8B928853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E4D-99FF-4B63-AE2B-A9B1DBE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FCB-E6A0-47DF-A56E-11A14DD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168-B685-47D5-81AD-2F2EA1A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DA1-8F84-4429-A7C8-69F5FAA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4DB-59B7-4325-8745-43CD73F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A9B-75C7-4C7E-8180-0C3E0AF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7AC-96AA-4FFC-BF2D-E11F8C7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54B-D6F7-4AB4-94E6-73A71B4D7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62" name="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63" name="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66" name="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69" name="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72" name="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80" name="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81" name="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89" name="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99" name="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15" name="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16" name="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33" name="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53" name="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54" name="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73" name="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84" name="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86" name="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03" name="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05" name="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09" name="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23" name="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29" name="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46" name="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52" name="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67" name="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293" name="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16" name="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Compaq</cp:lastModifiedBy>
  <dcterms:modified xsi:type="dcterms:W3CDTF">2008-10-16T10:20:02Z</dcterms:modified>
  <cp:revision>102</cp:revision>
  <dc:subject/>
  <dc:title>СПЕЦИФИЧНОСТЬ  ПАРАЗИТОВ</dc:title>
</cp:coreProperties>
</file>