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76A-9A88-4724-B16B-B1DB8EE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13C-97FF-429E-9471-D20D4B1A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EAC-6444-4055-A90E-1037D2B3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0BD4-AF7A-4417-82D9-7E714807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371F8-4A77-46CD-8EDD-74E8C66C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903B9-D19D-4804-AD89-E4AB32A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552C6-0BD3-4A30-85D1-C2B966B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8303A-E3F3-40AD-A728-90FD09C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428E-BC6F-4F3C-AFE7-F687AD5E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EE8B8-2EF6-4117-BBCA-E2A5524A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0EE19-FC73-4823-8115-313E0B7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86B-7288-4B00-AEBB-5E3362F6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BB78-FCA7-4A99-A7A4-98C7595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C5F4-741C-4913-A09E-99E7D20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6DC2-AD62-496C-ABDC-3B2E2F49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1874B-99EC-4A91-83AD-C4EDC4F9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12DBD-45ED-4DE8-9CFA-89B1F783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C033-A698-472D-BDDE-506C0B0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909-FDA1-40F5-95AF-055225DD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3A7-F617-458A-8D19-56F2D77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88D-D9D7-4C0A-B0F9-BB7DF6BE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2CD-90D7-4FCD-8F78-FDA70F59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2CF-5EEC-4408-810B-A4C80BD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742-0774-44BF-8C91-9650791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78CF-D2BA-4832-9019-5BEE138DF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1A77-3190-435A-8F82-143D5DEB1F0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86;&#1073;&#1088;&#1080;&#1090;&#1072;&#1085;&#1080;&#1103;" TargetMode="External"/><Relationship Id="rId2" Type="http://schemas.openxmlformats.org/officeDocument/2006/relationships/hyperlink" Target="http://ru.wikipedia.org/wiki/&#1055;&#1072;&#1088;&#1086;&#1093;&#1086;&#1076;" TargetMode="External"/><Relationship Id="rId3" Type="http://schemas.openxmlformats.org/officeDocument/2006/relationships/hyperlink" Target="http://ru.wikipedia.org/wiki/White_Star_Line" TargetMode="External"/><Relationship Id="rId4" Type="http://schemas.openxmlformats.org/officeDocument/2006/relationships/hyperlink" Target="http://ru.wikipedia.org/wiki/&#1054;&#1083;&#1080;&#1084;&#1087;&#1080;&#1082;_%28&#1082;&#1083;&#1072;&#1089;&#1089;_&#1086;&#1082;&#1077;&#1072;&#1085;&#1089;&#1082;&#1080;&#1093;_&#1083;&#1072;&#1081;&#1085;&#1077;&#1088;&#1086;&#1074;%29" TargetMode="External"/><Relationship Id="rId5" Type="http://schemas.openxmlformats.org/officeDocument/2006/relationships/hyperlink" Target="http://ru.wikipedia.org/wiki/&#1051;&#1072;&#1081;&#1085;&#1077;&#1088;_%28&#1089;&#1091;&#1076;&#1085;&#1086;%29" TargetMode="External"/><Relationship Id="rId6" Type="http://schemas.openxmlformats.org/officeDocument/2006/relationships/hyperlink" Target="http://ru.wikipedia.org/wiki/14_&#1072;&#1087;&#1088;&#1077;&#1083;&#1103;" TargetMode="External"/><Relationship Id="rId7" Type="http://schemas.openxmlformats.org/officeDocument/2006/relationships/hyperlink" Target="http://ru.wikipedia.org/wiki/1912_&#1075;&#1086;&#1076;" TargetMode="External"/><Relationship Id="rId8" Type="http://schemas.openxmlformats.org/officeDocument/2006/relationships/hyperlink" Target="http://ru.wikipedia.org/wiki/&#1040;&#1081;&#1089;&#1073;&#1077;&#1088;&#1075;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94;&#1080;&#1086;&#1085;&#1085;&#1086;&#1077;_&#1087;&#1088;&#1086;&#1080;&#1089;&#1096;&#1077;&#1089;&#1090;&#1074;&#1080;&#1077;" TargetMode="External"/><Relationship Id="rId2" Type="http://schemas.openxmlformats.org/officeDocument/2006/relationships/hyperlink" Target="http://ru.wikipedia.org/wiki/&#1057;&#1084;&#1077;&#1088;&#1090;&#1100;" TargetMode="External"/><Relationship Id="rId3" Type="http://schemas.openxmlformats.org/officeDocument/2006/relationships/hyperlink" Target="http://ru.wikipedia.org/wiki/&#1042;&#1086;&#1079;&#1076;&#1091;&#1096;&#1085;&#1086;&#1077;_&#1089;&#1091;&#1076;&#1085;&#1086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74;&#1080;&#1072;&#1082;&#1072;&#1090;&#1072;&#1089;&#1090;&#1088;&#1086;&#1092;&#1072;" TargetMode="External"/><Relationship Id="rId2" Type="http://schemas.openxmlformats.org/officeDocument/2006/relationships/hyperlink" Target="http://ru.wikipedia.org/wiki/4_&#1072;&#1087;&#1088;&#1077;&#1083;&#1103;" TargetMode="External"/><Relationship Id="rId3" Type="http://schemas.openxmlformats.org/officeDocument/2006/relationships/hyperlink" Target="http://ru.wikipedia.org/wiki/1933" TargetMode="External"/><Relationship Id="rId4" Type="http://schemas.openxmlformats.org/officeDocument/2006/relationships/hyperlink" Target="http://ru.wikipedia.org/wiki/&#1040;&#1090;&#1083;&#1072;&#1085;&#1090;&#1080;&#1095;&#1077;&#1089;&#1082;&#1080;&#1081;_&#1086;&#1082;&#1077;&#1072;&#1085;" TargetMode="External"/><Relationship Id="rId5" Type="http://schemas.openxmlformats.org/officeDocument/2006/relationships/hyperlink" Target="http://ru.wikipedia.org/wiki/&#1046;&#1105;&#1089;&#1090;&#1082;&#1080;&#1081;_&#1076;&#1080;&#1088;&#1080;&#1078;&#1072;&#1073;&#1083;&#1100;" TargetMode="External"/><Relationship Id="rId6" Type="http://schemas.openxmlformats.org/officeDocument/2006/relationships/hyperlink" Target="http://ru.wikipedia.org/wiki/USS_Akron_%28ZRS-4%29" TargetMode="External"/><Relationship Id="rId7" Type="http://schemas.openxmlformats.org/officeDocument/2006/relationships/hyperlink" Target="http://ru.wikipedia.org/wiki/23_&#1080;&#1102;&#1085;&#1103;" TargetMode="External"/><Relationship Id="rId8" Type="http://schemas.openxmlformats.org/officeDocument/2006/relationships/hyperlink" Target="http://ru.wikipedia.org/wiki/1985" TargetMode="External"/><Relationship Id="rId9" Type="http://schemas.openxmlformats.org/officeDocument/2006/relationships/hyperlink" Target="http://ru.wikipedia.org/wiki/Boeing_747" TargetMode="External"/><Relationship Id="rId10" Type="http://schemas.openxmlformats.org/officeDocument/2006/relationships/hyperlink" Target="http://ru.wikipedia.org/wiki/&#1069;&#1081;&#1088;_&#1048;&#1085;&#1076;&#1080;&#1103;" TargetMode="External"/><Relationship Id="rId11" Type="http://schemas.openxmlformats.org/officeDocument/2006/relationships/hyperlink" Target="http://ru.wikipedia.org/w/index.php?title=&#1040;&#1074;&#1080;&#1072;&#1082;&#1072;&#1090;&#1072;&#1089;&#1090;&#1088;&#1086;&#1092;&#1072;_&#1085;&#1072;&#1076;_&#1040;&#1090;&#1083;&#1072;&#1085;&#1090;&#1080;&#1082;&#1086;&#1081;_23_&#1080;&#1102;&#1085;&#1103;_1985&amp;action=edit&amp;redlink=1" TargetMode="External"/><Relationship Id="rId12" Type="http://schemas.openxmlformats.org/officeDocument/2006/relationships/hyperlink" Target="http://ru.wikipedia.org/wiki/12_&#1072;&#1074;&#1075;&#1091;&#1089;&#1090;&#1072;" TargetMode="External"/><Relationship Id="rId13" Type="http://schemas.openxmlformats.org/officeDocument/2006/relationships/hyperlink" Target="http://ru.wikipedia.org/wiki/1985" TargetMode="External"/><Relationship Id="rId14" Type="http://schemas.openxmlformats.org/officeDocument/2006/relationships/hyperlink" Target="http://ru.wikipedia.org/wiki/Boeing_747" TargetMode="External"/><Relationship Id="rId15" Type="http://schemas.openxmlformats.org/officeDocument/2006/relationships/hyperlink" Target="http://ru.wikipedia.org/wiki/&#1040;&#1074;&#1080;&#1072;&#1082;&#1072;&#1090;&#1072;&#1089;&#1090;&#1088;&#1086;&#1092;&#1072;_&#1087;&#1086;&#1076;_&#1058;&#1086;&#1082;&#1080;&#1086;_12_&#1072;&#1074;&#1075;&#1091;&#1089;&#1090;&#1072;_1985_&#1075;&#1086;&#1076;&#1072;" TargetMode="External"/><Relationship Id="rId16" Type="http://schemas.openxmlformats.org/officeDocument/2006/relationships/hyperlink" Target="http://ru.wikipedia.org/wiki/3_&#1080;&#1102;&#1083;&#1103;" TargetMode="External"/><Relationship Id="rId17" Type="http://schemas.openxmlformats.org/officeDocument/2006/relationships/hyperlink" Target="http://ru.wikipedia.org/wiki/1988" TargetMode="External"/><Relationship Id="rId18" Type="http://schemas.openxmlformats.org/officeDocument/2006/relationships/hyperlink" Target="http://ru.wikipedia.org/wiki/A300" TargetMode="External"/><Relationship Id="rId19" Type="http://schemas.openxmlformats.org/officeDocument/2006/relationships/hyperlink" Target="http://ru.wikipedia.org/wiki/Iran_Air" TargetMode="External"/><Relationship Id="rId20" Type="http://schemas.openxmlformats.org/officeDocument/2006/relationships/hyperlink" Target="http://ru.wikipedia.org/wiki/&#1041;&#1077;&#1085;&#1076;&#1077;&#1088;-&#1040;&#1073;&#1073;&#1072;&#1089;" TargetMode="External"/><Relationship Id="rId21" Type="http://schemas.openxmlformats.org/officeDocument/2006/relationships/hyperlink" Target="http://ru.wikipedia.org/wiki/&#1044;&#1091;&#1073;&#1072;&#1081;_%28&#1075;&#1086;&#1088;&#1086;&#1076;%29" TargetMode="External"/><Relationship Id="rId22" Type="http://schemas.openxmlformats.org/officeDocument/2006/relationships/hyperlink" Target="http://ru.wikipedia.org/wiki/&#1054;&#1040;&#1069;" TargetMode="External"/><Relationship Id="rId23" Type="http://schemas.openxmlformats.org/officeDocument/2006/relationships/hyperlink" Target="http://ru.wikipedia.org/w/index.php?title=Vincennes&amp;action=edit&amp;redlink=1" TargetMode="External"/><Relationship Id="rId24" Type="http://schemas.openxmlformats.org/officeDocument/2006/relationships/hyperlink" Target="http://ru.wikipedia.org/wiki/&#1042;&#1052;&#1057;_&#1057;&#1064;&#1040;" TargetMode="External"/><Relationship Id="rId25" Type="http://schemas.openxmlformats.org/officeDocument/2006/relationships/hyperlink" Target="http://ru.wikipedia.org/wiki/&#1040;&#1074;&#1080;&#1072;&#1082;&#1072;&#1090;&#1072;&#1089;&#1090;&#1088;&#1086;&#1092;&#1072;_&#1085;&#1072;&#1076;_&#1055;&#1077;&#1088;&#1089;&#1080;&#1076;&#1089;&#1082;&#1080;&#1084;_&#1079;&#1072;&#1083;&#1080;&#1074;&#1086;&#1084;_3_&#1080;&#1102;&#1083;&#1103;_1988_&#1075;&#1086;&#1076;&#1072;" TargetMode="External"/><Relationship Id="rId26" Type="http://schemas.openxmlformats.org/officeDocument/2006/relationships/hyperlink" Target="http://ru.wikipedia.org/wiki/12_&#1085;&#1086;&#1103;&#1073;&#1088;&#1103;" TargetMode="External"/><Relationship Id="rId27" Type="http://schemas.openxmlformats.org/officeDocument/2006/relationships/hyperlink" Target="http://ru.wikipedia.org/wiki/1996" TargetMode="External"/><Relationship Id="rId28" Type="http://schemas.openxmlformats.org/officeDocument/2006/relationships/hyperlink" Target="http://ru.wikipedia.org/w/index.php?title=Charki_Dadri&amp;action=edit&amp;redlink=1" TargetMode="External"/><Relationship Id="rId29" Type="http://schemas.openxmlformats.org/officeDocument/2006/relationships/hyperlink" Target="http://ru.wikipedia.org/wiki/Boeing_747" TargetMode="External"/><Relationship Id="rId30" Type="http://schemas.openxmlformats.org/officeDocument/2006/relationships/hyperlink" Target="http://ru.wikipedia.org/wiki/Saudi_Arabian_Airlines" TargetMode="External"/><Relationship Id="rId31" Type="http://schemas.openxmlformats.org/officeDocument/2006/relationships/hyperlink" Target="http://ru.wikipedia.org/wiki/&#1048;&#1083;-76" TargetMode="External"/><Relationship Id="rId32" Type="http://schemas.openxmlformats.org/officeDocument/2006/relationships/hyperlink" Target="http://ru.wikipedia.org/wiki/&#1069;&#1081;&#1088;_&#1050;&#1072;&#1079;&#1072;&#1093;&#1089;&#1090;&#1072;&#1085;" TargetMode="External"/><Relationship Id="rId33" Type="http://schemas.openxmlformats.org/officeDocument/2006/relationships/hyperlink" Target="http://ru.wikipedia.org/wiki/&#1057;&#1090;&#1086;&#1083;&#1082;&#1085;&#1086;&#1074;&#1077;&#1085;&#1080;&#1077;_&#1076;&#1074;&#1091;&#1093;_&#1089;&#1072;&#1084;&#1086;&#1083;&#1105;&#1090;&#1086;&#1074;_&#1085;&#1072;&#1076;_&#1044;&#1077;&#1083;&#1080;_12_&#1085;&#1086;&#1103;&#1073;&#1088;&#1103;_1996_&#1075;&#1086;&#1076;&#1072;" TargetMode="External"/><Relationship Id="rId34" Type="http://schemas.openxmlformats.org/officeDocument/2006/relationships/image" Target="../media/image17.jpeg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80;&#1102;&#1083;&#1103;" TargetMode="External"/><Relationship Id="rId2" Type="http://schemas.openxmlformats.org/officeDocument/2006/relationships/hyperlink" Target="http://ru.wikipedia.org/wiki/2000_&#1075;&#1086;&#1076;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iki/&#1064;&#1072;&#1088;&#1083;&#1100;_&#1076;&#1077;_&#1043;&#1086;&#1083;&#1083;&#1100;_%28&#1072;&#1101;&#1088;&#1086;&#1087;&#1086;&#1088;&#1090;%29" TargetMode="External"/><Relationship Id="rId5" Type="http://schemas.openxmlformats.org/officeDocument/2006/relationships/hyperlink" Target="http://ru.wikipedia.org/wiki/&#1044;&#1057;-10" TargetMode="External"/><Relationship Id="rId6" Type="http://schemas.openxmlformats.org/officeDocument/2006/relationships/hyperlink" Target="http://ru.wikipedia.org/wiki/Continental_Airlines" TargetMode="External"/><Relationship Id="rId7" Type="http://schemas.openxmlformats.org/officeDocument/2006/relationships/hyperlink" Target="http://ru.wikipedia.org/wiki/&#1050;&#1086;&#1085;&#1082;&#1086;&#1088;&#1076;_%28&#1089;&#1072;&#1084;&#1086;&#1083;&#1105;&#1090;%29" TargetMode="External"/><Relationship Id="rId8" Type="http://schemas.openxmlformats.org/officeDocument/2006/relationships/hyperlink" Target="http://ru.wikipedia.org/wiki/&#1069;&#1081;&#1088;_&#1060;&#1088;&#1072;&#1085;&#1089;" TargetMode="External"/><Relationship Id="rId9" Type="http://schemas.openxmlformats.org/officeDocument/2006/relationships/hyperlink" Target="http://ru.wikipedia.org/wiki/&#1055;&#1072;&#1088;&#1080;&#1078;" TargetMode="External"/><Relationship Id="rId10" Type="http://schemas.openxmlformats.org/officeDocument/2006/relationships/hyperlink" Target="http://ru.wikipedia.org/wiki/&#1053;&#1100;&#1102;-&#1049;&#1086;&#1088;&#1082;" TargetMode="External"/><Relationship Id="rId11" Type="http://schemas.openxmlformats.org/officeDocument/2006/relationships/hyperlink" Target="http://ru.wikipedia.org/wiki/&#1050;&#1086;&#1088;&#1076;" TargetMode="External"/><Relationship Id="rId12" Type="http://schemas.openxmlformats.org/officeDocument/2006/relationships/hyperlink" Target="http://ru.wikipedia.org/wiki/&#1050;&#1072;&#1090;&#1072;&#1089;&#1090;&#1088;&#1086;&#1092;&#1072;_&#1050;&#1086;&#1085;&#1082;&#1086;&#1088;&#1076;&#1072;_&#1087;&#1086;&#1076;_&#1055;&#1072;&#1088;&#1080;&#1078;&#1077;&#1084;_25_&#1080;&#1102;&#1083;&#1103;_2000_&#1075;&#1086;&#1076;&#1072;" TargetMode="External"/><Relationship Id="rId13" Type="http://schemas.openxmlformats.org/officeDocument/2006/relationships/hyperlink" Target="http://ru.wikipedia.org/wiki/11_&#1089;&#1077;&#1085;&#1090;&#1103;&#1073;&#1088;&#1103;_2001_&#1075;&#1086;&#1076;&#1072;" TargetMode="External"/><Relationship Id="rId14" Type="http://schemas.openxmlformats.org/officeDocument/2006/relationships/hyperlink" Target="http://ru.wikipedia.org/wiki/&#1041;&#1086;&#1080;&#1085;&#1075;" TargetMode="External"/><Relationship Id="rId15" Type="http://schemas.openxmlformats.org/officeDocument/2006/relationships/hyperlink" Target="http://ru.wikipedia.org/wiki/&#1042;&#1058;&#1062;" TargetMode="External"/><Relationship Id="rId16" Type="http://schemas.openxmlformats.org/officeDocument/2006/relationships/hyperlink" Target="http://ru.wikipedia.org/wiki/&#1053;&#1100;&#1102;-&#1049;&#1086;&#1088;&#1082;" TargetMode="External"/><Relationship Id="rId17" Type="http://schemas.openxmlformats.org/officeDocument/2006/relationships/hyperlink" Target="http://ru.wikipedia.org/wiki/&#1055;&#1077;&#1085;&#1090;&#1072;&#1075;&#1086;&#1085;_%28&#1079;&#1076;&#1072;&#1085;&#1080;&#1077;%29" TargetMode="External"/><Relationship Id="rId18" Type="http://schemas.openxmlformats.org/officeDocument/2006/relationships/hyperlink" Target="http://ru.wikipedia.org/wiki/&#1058;&#1077;&#1088;&#1072;&#1082;&#1090;" TargetMode="External"/><Relationship Id="rId19" Type="http://schemas.openxmlformats.org/officeDocument/2006/relationships/hyperlink" Target="http://ru.wikipedia.org/wiki/&#1058;&#1077;&#1088;&#1088;&#1086;&#1088;&#1080;&#1089;&#1090;&#1080;&#1095;&#1077;&#1089;&#1082;&#1080;&#1077;_&#1072;&#1082;&#1090;&#1099;_11_&#1089;&#1077;&#1085;&#1090;&#1103;&#1073;&#1088;&#1103;_2001_&#1075;&#1086;&#1076;&#1072;" TargetMode="External"/><Relationship Id="rId20" Type="http://schemas.openxmlformats.org/officeDocument/2006/relationships/hyperlink" Target="http://ru.wikipedia.org/wiki/27_&#1080;&#1102;&#1083;&#1103;" TargetMode="External"/><Relationship Id="rId21" Type="http://schemas.openxmlformats.org/officeDocument/2006/relationships/hyperlink" Target="http://ru.wikipedia.org/wiki/2002" TargetMode="External"/><Relationship Id="rId22" Type="http://schemas.openxmlformats.org/officeDocument/2006/relationships/hyperlink" Target="http://ru.wikipedia.org/wiki/&#1051;&#1100;&#1074;&#1086;&#1074;" TargetMode="External"/><Relationship Id="rId23" Type="http://schemas.openxmlformats.org/officeDocument/2006/relationships/hyperlink" Target="http://ru.wikipedia.org/wiki/&#1057;&#1091;-27" TargetMode="External"/><Relationship Id="rId24" Type="http://schemas.openxmlformats.org/officeDocument/2006/relationships/hyperlink" Target="http://ru.wikipedia.org/wiki/&#1057;&#1082;&#1085;&#1080;&#1083;&#1086;&#1074;&#1089;&#1082;&#1072;&#1103;_&#1090;&#1088;&#1072;&#1075;&#1077;&#1076;&#1080;&#1103;_27_&#1080;&#1102;&#1083;&#1103;_2002_&#1075;&#1086;&#1076;&#1072;" TargetMode="External"/><Relationship Id="rId25" Type="http://schemas.openxmlformats.org/officeDocument/2006/relationships/hyperlink" Target="http://ru.wikipedia.org/wiki/19_&#1072;&#1074;&#1075;&#1091;&#1089;&#1090;&#1072;" TargetMode="External"/><Relationship Id="rId26" Type="http://schemas.openxmlformats.org/officeDocument/2006/relationships/hyperlink" Target="http://ru.wikipedia.org/wiki/2002" TargetMode="External"/><Relationship Id="rId27" Type="http://schemas.openxmlformats.org/officeDocument/2006/relationships/hyperlink" Target="http://ru.wikipedia.org/wiki/&#1061;&#1072;&#1085;&#1082;&#1072;&#1083;&#1072;" TargetMode="External"/><Relationship Id="rId28" Type="http://schemas.openxmlformats.org/officeDocument/2006/relationships/hyperlink" Target="http://ru.wikipedia.org/wiki/&#1063;&#1077;&#1095;&#1077;&#1085;&#1089;&#1082;&#1072;&#1103;_&#1088;&#1077;&#1089;&#1087;&#1091;&#1073;&#1083;&#1080;&#1082;&#1072;" TargetMode="External"/><Relationship Id="rId29" Type="http://schemas.openxmlformats.org/officeDocument/2006/relationships/hyperlink" Target="http://ru.wikipedia.org/wiki/&#1052;&#1080;-26" TargetMode="External"/><Relationship Id="rId30" Type="http://schemas.openxmlformats.org/officeDocument/2006/relationships/hyperlink" Target="http://ru.wikipedia.org/wiki/&#1050;&#1072;&#1090;&#1072;&#1089;&#1090;&#1088;&#1086;&#1092;&#1072;_&#1052;&#1080;-26_&#1074;_&#1063;&#1077;&#1095;&#1085;&#1077;_19_&#1072;&#1074;&#1075;&#1091;&#1089;&#1090;&#1072;_2002_&#1075;&#1086;&#1076;&#1072;" TargetMode="External"/><Relationship Id="rId31" Type="http://schemas.openxmlformats.org/officeDocument/2006/relationships/hyperlink" Target="http://ru.wikipedia.org/wiki/1_&#1080;&#1102;&#1085;&#1103;" TargetMode="External"/><Relationship Id="rId32" Type="http://schemas.openxmlformats.org/officeDocument/2006/relationships/hyperlink" Target="http://ru.wikipedia.org/wiki/2009" TargetMode="External"/><Relationship Id="rId33" Type="http://schemas.openxmlformats.org/officeDocument/2006/relationships/hyperlink" Target="http://ru.wikipedia.org/wiki/Air_France" TargetMode="External"/><Relationship Id="rId34" Type="http://schemas.openxmlformats.org/officeDocument/2006/relationships/hyperlink" Target="http://ru.wikipedia.org/wiki/1_&#1080;&#1102;&#1085;&#1103;" TargetMode="External"/><Relationship Id="rId35" Type="http://schemas.openxmlformats.org/officeDocument/2006/relationships/hyperlink" Target="http://ru.wikipedia.org/wiki/2009_&#1075;&#1086;&#1076;" TargetMode="External"/><Relationship Id="rId36" Type="http://schemas.openxmlformats.org/officeDocument/2006/relationships/hyperlink" Target="http://ru.wikipedia.org/wiki/&#1040;-330" TargetMode="External"/><Relationship Id="rId37" Type="http://schemas.openxmlformats.org/officeDocument/2006/relationships/hyperlink" Target="http://ru.wikipedia.org/wiki/&#1056;&#1080;&#1086;-&#1076;&#1077;-&#1046;&#1072;&#1085;&#1077;&#1081;&#1088;&#1086;" TargetMode="External"/><Relationship Id="rId38" Type="http://schemas.openxmlformats.org/officeDocument/2006/relationships/hyperlink" Target="http://ru.wikipedia.org/wiki/&#1055;&#1072;&#1088;&#1080;&#1078;" TargetMode="External"/><Relationship Id="rId39" Type="http://schemas.openxmlformats.org/officeDocument/2006/relationships/hyperlink" Target="http://ru.wikipedia.org/wiki/&#1040;&#1074;&#1080;&#1072;&#1082;&#1072;&#1090;&#1072;&#1089;&#1090;&#1088;&#1086;&#1092;&#1072;_&#1085;&#1072;&#1076;_&#1040;&#1090;&#1083;&#1072;&#1085;&#1090;&#1080;&#1095;&#1077;&#1089;&#1082;&#1080;&#1084;_&#1086;&#1082;&#1077;&#1072;&#1085;&#1086;&#1084;_1_&#1080;&#1102;&#1085;&#1103;_2009_&#1075;&#1086;&#1076;&#1072;" TargetMode="External"/><Relationship Id="rId40" Type="http://schemas.openxmlformats.org/officeDocument/2006/relationships/hyperlink" Target="http://ru.wikipedia.org/wiki/10_&#1072;&#1087;&#1088;&#1077;&#1083;&#1103;" TargetMode="External"/><Relationship Id="rId41" Type="http://schemas.openxmlformats.org/officeDocument/2006/relationships/hyperlink" Target="http://ru.wikipedia.org/wiki/2010" TargetMode="External"/><Relationship Id="rId42" Type="http://schemas.openxmlformats.org/officeDocument/2006/relationships/hyperlink" Target="http://ru.wikipedia.org/wiki/&#1042;&#1086;&#1077;&#1085;&#1085;&#1099;&#1081;_&#1072;&#1101;&#1088;&#1086;&#1076;&#1088;&#1086;&#1084;" TargetMode="External"/><Relationship Id="rId43" Type="http://schemas.openxmlformats.org/officeDocument/2006/relationships/hyperlink" Target="http://ru.wikipedia.org/wiki/&#1057;&#1084;&#1086;&#1083;&#1077;&#1085;&#1089;&#1082;-&#1057;&#1077;&#1074;&#1077;&#1088;&#1085;&#1099;&#1081;_%28&#1072;&#1101;&#1088;&#1086;&#1076;&#1088;&#1086;&#1084;%29" TargetMode="External"/><Relationship Id="rId44" Type="http://schemas.openxmlformats.org/officeDocument/2006/relationships/hyperlink" Target="http://ru.wikipedia.org/wiki/&#1058;&#1091;-154&#1052;" TargetMode="External"/><Relationship Id="rId45" Type="http://schemas.openxmlformats.org/officeDocument/2006/relationships/hyperlink" Target="http://ru.wikipedia.org/wiki/&#1051;&#1077;&#1093;_&#1050;&#1072;&#1095;&#1080;&#1085;&#1100;&#1089;&#1082;&#1080;&#1081;" TargetMode="External"/><Relationship Id="rId4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90;&#1072;&#1089;&#1090;&#1088;&#1086;&#1092;&#1072;" TargetMode="External"/><Relationship Id="rId2" Type="http://schemas.openxmlformats.org/officeDocument/2006/relationships/hyperlink" Target="http://ru.wikipedia.org/wiki/&#1057;&#1091;&#1076;&#1085;&#1086;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Спасател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МЧС Росс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Йоол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6 сентября 2002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негальский государственный паром, который опрокинулся у берегов Гамбии 26 сентября 2002. Катастрофа привела к гибели по меньшей мере 1863 человек. 26 сентября 2002 г., паром Йоола отплыл из Зигиншора в районе Казаманс  в одну из своих обычных поездок в столицу Сенегала Дакар. Во время рейса судно, предназначенное для перевозки около 580 пассажиров, вместило в себя около 2000 человек. По пути корабль перевернулся в результате сильного ветра у берегов Гамбии. Подробные отчеты показывают, что это произошло менее чем за пять минут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3"/>
          <p:cNvPicPr/>
          <p:nvPr/>
        </p:nvPicPr>
        <p:blipFill>
          <a:blip r:embed="rId1"/>
          <a:stretch/>
        </p:blipFill>
        <p:spPr>
          <a:xfrm>
            <a:off x="4648320" y="1828800"/>
            <a:ext cx="4343400" cy="3581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улта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7 апреля 186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оход «Султана», плававший по реке Миссисипи был уничтожен в результате взрыва один из четырёх котлов 27 апреля 1865 года. Это привело к величайшей морской катастрофе в истории Соединенных Штатов. Погибли примерно 1800 человек из находившихся на борту 2400 пассажиров. пароход затонул недалеко от города Мемфис, штат Теннес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4"/>
          <p:cNvPicPr/>
          <p:nvPr/>
        </p:nvPicPr>
        <p:blipFill>
          <a:blip r:embed="rId1"/>
          <a:stretch/>
        </p:blipFill>
        <p:spPr>
          <a:xfrm>
            <a:off x="4762440" y="1905120"/>
            <a:ext cx="4381560" cy="2914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Титани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Тита́ник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британск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арохо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омпании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Уайт Стар Лай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второй из трёх пароходов-близнецов типа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Олимп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Крупнейший пассажирский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айне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а на момент своей постройки. Во время первого рейса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4 апре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12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олкнулся с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айсберг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через 2 часа 40 минут затонул в 2 часа 30 минут ночи следующих суток. На борту находилось 1316 пассажиров и 908 членов экипажа, всего 2224 человека. Из них спаслись 710 человек, погибло 1514. Катастрофа «Титаника» стала легендарной, по её сюжету снято несколько художественных филь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1c"/>
          <p:cNvPicPr/>
          <p:nvPr/>
        </p:nvPicPr>
        <p:blipFill>
          <a:blip r:embed="rId9"/>
          <a:stretch/>
        </p:blipFill>
        <p:spPr>
          <a:xfrm>
            <a:off x="4495680" y="1905120"/>
            <a:ext cx="4496040" cy="295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мператрица Ирланд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8 мая 1914 года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я лайнера это было 96-е плавание. Маршрут известный - от берегов Канады в Англию, на борту - около 1500 пассажиров. В первом классе путешествовали известные британские актеры, аристократы и светские дамы. Во втором размещались офицеры Армии спасения. Едва отойдя от берега, ночью "Императрица Ирландии" столкнулась с норвежским сухогрузом "Сторстад". После взрыва машинных котлов судно стремительно ушло на дно. В катастрофе выжили всего 465 человек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6"/>
          <p:cNvPicPr/>
          <p:nvPr/>
        </p:nvPicPr>
        <p:blipFill>
          <a:blip r:embed="rId1"/>
          <a:stretch/>
        </p:blipFill>
        <p:spPr>
          <a:xfrm>
            <a:off x="4648320" y="2443320"/>
            <a:ext cx="4267080" cy="31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Эсто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Эсто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С 27 сентября на 28 сентября 1994</a:t>
            </a: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года.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 «Эстония» был построен в 1979 году в Германии на судоверфи «Meyer Werft» в городе Папенбург. «Эстония» затонула в ночь с 27 сентября на 28 сентября 1994 года. При этом погибло 852 человека из 1049 находившихся на борту. Паром был изначально построен для компании «Viking Line» и был назван «Viking Sally». Он должен был курсировать между Турку, Мариехамном и Стокгольмом. В 1986 году его продали компании «Silja Line» и переименовали в «Silja Star», оставив его на прежнем маршруте. В 1991 г. паромом стала управлять компания «Wasa Line», которая полностью находилась в собственности «Silja Line», и паром, теперь под именем «Wasa King», стал курсировать между финским городом Вааса и шведским городом Умео. В январе 1993 г. для обеспечения паромного сообщения между Таллином и Стокгольмом шведская компания «Nordström &amp; Thulin» и принадлежащая эстонскому государству «Estonian Shipping Company» («Эстонская судоходная компания», сокращённо — «ESCO») создали совместное предприятие «Эстлайн» («EstLine A/S»), которое приобрело паром «Wasa King», переименовав его в «Эстония» («Estonia»)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7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ланд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24 июля 1915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было пассажирское судно, базирующееся в Чикаго. Оно использовалось для экскурсий по Великим Озёрам. Судно затонуло 24 июля 1915 года в результате стихийного бедствия. Это стало самой большой катастрофой-кораблекрушением в районе Великих Озё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8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32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И их статистика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Авиакатастроф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иационное происшествие с человеческими жертвами (катастрофа) —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ционное происшеств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риведшее к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гибел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ли пропаже без вести одного или более человек, находящихся на борту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оздушного суд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пассажиров или членов экипажа). К катастрофам относятся также случаи гибели кого-либо из лиц, находившихся на борту, в процессе их аварийной эвакуации из воздушного су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Авиакатастрофа_Ту-154_в_Сургуте"/>
          <p:cNvPicPr/>
          <p:nvPr/>
        </p:nvPicPr>
        <p:blipFill>
          <a:blip r:embed="rId4"/>
          <a:stretch/>
        </p:blipFill>
        <p:spPr>
          <a:xfrm>
            <a:off x="4695840" y="1905120"/>
            <a:ext cx="4448160" cy="2876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рупнейшие </a:t>
            </a: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авиакатастрофы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 мировой истор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029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4 апре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3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о время шторма в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Атлантическом океан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потерпел катастрофу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жёсткий дирижабль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«Акрон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 принадлежавший Военно-морским силам США. Из 76 человек, находившихся на борту, погибли 73.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истории воздухоплаван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23 июн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у побережья Ирландии разбился (скорее всего, был взорван)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«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Эйр Инди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». Погибли 329 человек. На сегодняшний день это крупнейшая катастрофа одного самолёт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над море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Авиакатастрофа над Атлантикой 23 июня 198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2 авгус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985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 гору врезался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японской авиакомпании. Погибли 520 человек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ного самолё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Авиакатастрофа под Токио 12 августа 1985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3 ию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8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аэробус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A30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Iran Air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рейса IR655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Бендер-Аббас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Дубай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ОАЭ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 сбит над Персидским заливом зенитной ракетой, выпущенной с ракетного крейсер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Vincen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МС СШ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о 290 человек, включая 15 членов экипажа и 66 детей. Крупнейшее число жертв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 одном сбитом самолёт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Авиакатастрофа над Персидским заливом 3 июля 1988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2 ноябр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199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вблизи аэропорта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Charki Dadri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(Дели) в воздухе столкнулись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Boeing 747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Saudi Arabian Airlines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 грузовой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Ил-7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авиакомпании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Эйр Казахстан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Погибли 312 человек в Боинге и 37 в ИЛ. На сегодняшний день это крупнейшая катастрофа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вух самолётов в воздухе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Столкновение двух самолётов над Дели 12 ноября 1996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829181_3"/>
          <p:cNvPicPr/>
          <p:nvPr/>
        </p:nvPicPr>
        <p:blipFill>
          <a:blip r:embed="rId34"/>
          <a:stretch/>
        </p:blipFill>
        <p:spPr>
          <a:xfrm>
            <a:off x="5410080" y="152388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5493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5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000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взлёте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арижск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эропорту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Шарль де Голл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бломок с американского самолёта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ДС-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компан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Continental Airline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опал в покрышку взлетавше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он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Эйр Франс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начинавшего межконтинентальный рей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Нью-Йорк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Покрышка лопнула на взлёте, кусок армированного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кор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тлетел в двигатель и воспламенил сначала один, затем второй двигатель левого крыла. Тяги двух двигателей правого крыла не хватило, самолёт с полной заправкой — 119 тонн топлива — через три минуты после взлёта рухнул на землю. Погибли все на борту (109) и 4 человека в пригородной гостинице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верхзвуковог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а (и единственная катастрофа «Конкорда»).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атастрофа Конкорда под Парижем 25 июля 200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1 сентября 2001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Боинг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резался в северную башню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ТЦ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Нью-Йор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торой — в южную башню ВТЦ, третий —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Пентаго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четвёртый разбился. Только в двух зданиях ВТЦ по официальным данным погибли около трёх тысяч человек. Крупнейшее число катастроф пассажирских лайнеро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за один день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ее число жертв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одн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ы, крупнейшее в мире число жертв за один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теракт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Террористические акты 11 сентября 2001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27 ию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о время авиашоу на аэродроме Скнилов недалеко о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Льв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Су-2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упал в толпу зрителей. Погибли минимум 77 человек, в том числе 28 детей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 время авиашо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Скниловская трагедия 27 июля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19 авгус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20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 результате ракетной атаки чеченских боевиков над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Ханкало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Чеченская республик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был сбит транспортный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Ми-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ооружённых Сил РФ, спланировавший на минное поле. Погибло 127 человек. Крупнейшая катастрофа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ертолёт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рупнейшая катастрофа в истори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военной авиации РФ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Катастрофа Ми-26 в Чечне 19 августа 2002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200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крупнейшая в истори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Air France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авиакатастрофа, произошедшая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1 июн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2009 г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Аэробус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А-33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ыполнявший рейс из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Рио-де-Жанейр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Париж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упал в воды Атлантического океана. Погибли 228 человек.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9"/>
              </a:rPr>
              <a:t>Авиакатастрофа над Атлантическим океаном 1 июня 2009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0"/>
              </a:rPr>
              <a:t>10 апрел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1"/>
              </a:rPr>
              <a:t>2010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вблиз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2"/>
              </a:rPr>
              <a:t>военного аэродром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3"/>
              </a:rPr>
              <a:t>«Смоленск-Северный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при заходе на посадку потерпел катастрофу самолёт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4"/>
              </a:rPr>
              <a:t>Ту-154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В результате катастрофы погибли 88 пассажиров и 8 членов экипажа. Среди погибших — президент Польши 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5"/>
              </a:rPr>
              <a:t>Лех Качиньск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его жена Мария, известные польские политики, почти всё высшее военное командование, общественные, религиозные деятели. Это крупнейшая авиакатастрофа, в которой погибли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первые лица государст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Авиакатастрофа в Смоленске 10 апреля 2010 г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ь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сатель — гражданин, подготовленный и аттестованный на проведение аварийно-спасательных раб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15" descr="1289115208_spasateli20gotovy"/>
          <p:cNvPicPr/>
          <p:nvPr/>
        </p:nvPicPr>
        <p:blipFill>
          <a:blip r:embed="rId1"/>
          <a:stretch/>
        </p:blipFill>
        <p:spPr>
          <a:xfrm>
            <a:off x="609480" y="3048120"/>
            <a:ext cx="5334120" cy="355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16" descr="4280472335_31a71d7ed3_o"/>
          <p:cNvPicPr/>
          <p:nvPr/>
        </p:nvPicPr>
        <p:blipFill>
          <a:blip r:embed="rId2"/>
          <a:stretch/>
        </p:blipFill>
        <p:spPr>
          <a:xfrm>
            <a:off x="6095880" y="3048120"/>
            <a:ext cx="268452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Авиационные лайнеры которые потерпели круш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250px-Congo_plane"/>
          <p:cNvPicPr/>
          <p:nvPr/>
        </p:nvPicPr>
        <p:blipFill>
          <a:blip r:embed="rId1"/>
          <a:stretch/>
        </p:blipFill>
        <p:spPr>
          <a:xfrm>
            <a:off x="457200" y="18288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Picture 9" descr="2dbfdc255ace47502e5caf6fbf1ae963_news_photo_image_large_12524"/>
          <p:cNvPicPr/>
          <p:nvPr/>
        </p:nvPicPr>
        <p:blipFill>
          <a:blip r:embed="rId2"/>
          <a:stretch/>
        </p:blipFill>
        <p:spPr>
          <a:xfrm>
            <a:off x="5105520" y="1828800"/>
            <a:ext cx="3581280" cy="228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0" descr="250px-RusAir_Flight_9605"/>
          <p:cNvPicPr/>
          <p:nvPr/>
        </p:nvPicPr>
        <p:blipFill>
          <a:blip r:embed="rId3"/>
          <a:stretch/>
        </p:blipFill>
        <p:spPr>
          <a:xfrm>
            <a:off x="457200" y="4343400"/>
            <a:ext cx="342900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1" name="Picture 13" descr="130_x_large"/>
          <p:cNvPicPr/>
          <p:nvPr/>
        </p:nvPicPr>
        <p:blipFill>
          <a:blip r:embed="rId4"/>
          <a:stretch/>
        </p:blipFill>
        <p:spPr>
          <a:xfrm>
            <a:off x="5105520" y="4343400"/>
            <a:ext cx="3581280" cy="220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авиакатастроф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01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4495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атистика погибших в авиакатастрофах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02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4343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сновные обязанности      спасател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ать людей во время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ть первую медицинскую помощь пострадавшим от несчастных случа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ять работы по ликвидации авар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одить разведку, поиск пострадав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nw sawz"/>
          <p:cNvPicPr/>
          <p:nvPr/>
        </p:nvPicPr>
        <p:blipFill>
          <a:blip r:embed="rId1"/>
          <a:stretch/>
        </p:blipFill>
        <p:spPr>
          <a:xfrm>
            <a:off x="609480" y="3271680"/>
            <a:ext cx="5029200" cy="33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6" descr="spasatieli"/>
          <p:cNvPicPr/>
          <p:nvPr/>
        </p:nvPicPr>
        <p:blipFill>
          <a:blip r:embed="rId2"/>
          <a:stretch/>
        </p:blipFill>
        <p:spPr>
          <a:xfrm>
            <a:off x="5943600" y="3276720"/>
            <a:ext cx="2244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Спасатели обязаны: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ть в готовности к участию в проведении работ по ликвидации чрезвычайных ситуаций, совершенствовать свою физическую, специальную, медицинскую, психологическую подго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ршенствовать навыки действий в составе аварийно-спасательных формиров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соблюдать технологию проведения аварийно-спасатель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но вести поиск пострадавших, принимать меры по их спасению, оказывать им первую медицинскую и другие виды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коснительно выполнять приказы, отдаваемые в ходе проведения работ по ликвидации чрезвычайных ситуаций руководителями аварийно-спасательных служб, аварийно-спасательных формирований, в составе которых спасатели принимают участие в проведении указанных раб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ъяснять гражданам правила безопасного поведения в целях недопущения чрезвычайных ситуаций и порядок действий в случае их возникнов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МЧС В России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фессиональным спасателем может стать гражданин, достигший 18 лет, подготовленный и аттестованный на проведение аварийно-спасательных рабо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2006 году министр РФ по чрезвычайным ситуациям Сергей Шойгу учредил нагрудные знаки МЧС России «Спасатель» международного, первого, второго и третьего класс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учение профессии «Спасатель» производится в Москве: в Академии МЧС и в Учебном центре Московской службы спасения. Также в Санкт-Петербурге: в Центре подготовки спасателей или, иначе, — Пожарно-спасательном колледже (бывшем ПТУ-97) и на базе ОДС Экстрем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d2918bfda38c"/>
          <p:cNvPicPr/>
          <p:nvPr/>
        </p:nvPicPr>
        <p:blipFill>
          <a:blip r:embed="rId1"/>
          <a:stretch/>
        </p:blipFill>
        <p:spPr>
          <a:xfrm>
            <a:off x="4971960" y="1447920"/>
            <a:ext cx="38862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ffff"/>
                </a:solidFill>
                <a:uFillTx/>
                <a:latin typeface="Tahoma"/>
              </a:rPr>
              <a:t>Кораблекруш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ahoma"/>
              </a:rPr>
              <a:t>8 самых крупных кораблекрушений в истории человечеств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ораблекруш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раблекрушен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катастроф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роизошедшая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судн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обычно приводящая к его сильному разрушению или гибели. Под кораблекрушением понимают полное или частичное затопление судна, повреждение значимых частей судна или нарушение плавучести, которые произошли в результате воздействия внешних и внутренних факторов или объек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езультате кораблекрушения судно не может использоваться по назначению без существенных ремонтных рабо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ОН приводит статистику о более чем трех миллионах кораблекрушений, произошедших в течение истории развития нашей цивилиз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zenobia_wreck_front1"/>
          <p:cNvPicPr/>
          <p:nvPr/>
        </p:nvPicPr>
        <p:blipFill>
          <a:blip r:embed="rId3"/>
          <a:stretch/>
        </p:blipFill>
        <p:spPr>
          <a:xfrm>
            <a:off x="4648320" y="1866960"/>
            <a:ext cx="434340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нья 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20 декабря 1987 го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ссажирский паром, зарегистрированный на Филиппинах. Затонул 20 декабря 1987 года после столкновения с танкером «Вектор». При этом погибло примерно 4 375 человек, что делает эту морскую катастрофу крупнейшей в мирное время. Паром был построен в 1963 году на японской верфи «Ономити Дзосэн», Ономити, и назывался «Химэури Мару». «Химэури Мару» принадлежал компании «Рюкю Каиун Каиса», курсировал по японским водам, вмещая 608 пассажиров. В 1975 году судно было продано «Sulpicio Lines», филиппинскому оператору пассажирских паромных перевозок, и получило название «Don Sulphico», а позднее «Doña Paz». За месяц до столкновения паром ремонтировался в доках. Во время столкновения Дона Паз дважды в неделю выполнял пассажирские перевозки по маршруту Манила—Таклобан—Катбалоган—Манила—Катбалоган—Таклобан—Манил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1"/>
          <p:cNvPicPr/>
          <p:nvPr/>
        </p:nvPicPr>
        <p:blipFill>
          <a:blip r:embed="rId1"/>
          <a:stretch/>
        </p:blipFill>
        <p:spPr>
          <a:xfrm>
            <a:off x="4952880" y="2057400"/>
            <a:ext cx="4038840" cy="307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зрыв в Галифакс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6 декабря 1917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зрыв в Галифаксе — взрыв, произошедший в четверг, 6 декабря 1917 года в гавани города Галифакс. В результате сильного взрыва французского военного транспорта «Монблан», загруженного взрывчаткой, произошедшего в результате столкновения «Монблана» с норвежским кораблем «Имо», порт и значительная часть города были полностью разрушены. Около 2 тыс. человек погибли в результате взрыва, под обломками зданий, и из-за возникших после взрыва пожаров. Приблизительно 9 тыс. человек получили ране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2"/>
          <p:cNvPicPr/>
          <p:nvPr/>
        </p:nvPicPr>
        <p:blipFill>
          <a:blip r:embed="rId1"/>
          <a:stretch/>
        </p:blipFill>
        <p:spPr>
          <a:xfrm>
            <a:off x="4762440" y="1828800"/>
            <a:ext cx="438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10T07:42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