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1EF-D885-45CE-BD50-562A646B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4B2-A0CF-4831-86C2-346A983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3D6-584B-4777-A9A1-FF73BE26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6F-1F03-4035-BBA1-AD24EBC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D99-245A-476B-9F0A-21B11C35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F8B4-5F64-4BA6-8015-6387A5E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B69B-F3E3-490D-BD45-B778EE07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CBB0-B1DE-41ED-8F88-735EBF18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E01-A124-46EB-A7C5-2514A9D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6CF3-8A3C-4BA1-BFCF-856E3CF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074-8964-42BB-BAAE-C2286FA6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147-E40E-4F8E-AB0C-54440FC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793-1B32-409B-851A-30CE3EC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13AF-0AF9-4EFA-B7F6-BD9A6D7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2A3-40CE-44B7-A443-3A1BFC6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6BBE-A149-4A23-B638-71F467D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26CB-55FB-4EEF-B3F2-1F581698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CF0A-31B2-43FA-AA85-899C8E7F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A409-0E18-46F9-A5B2-48066C5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C305-51A9-4F6C-BD2C-FA5428E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7D95-6555-433F-920E-ADCE853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608D-99F8-4016-865A-CC1C86B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DB1-29B8-44D5-9043-31E6743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ACBB-D511-4E81-909D-EFC4DF69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A3E1-80CC-40BA-85E3-AF9154A4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58A5-0DF4-4D6E-8C6E-C246CBE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D897-8705-442F-BA81-AE8FFE7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BB55-6F9D-4ACF-9C7B-D1F6F65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1AA3-59A5-4E96-A69E-C7DDEA5D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55FB-8EAA-4DDB-8627-2A31A298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7C66-E202-4BEF-BC47-6B119865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6F08-958F-4312-AB7F-AEA74838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FFC0-050F-443A-8547-07B65977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AAB-83F6-4965-A2C2-5DB173E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E3CB-162C-46FD-B0A9-662DAA89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57F0-3296-4702-95F8-EE0DC9C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30AA-59AA-4EDC-99D4-7191948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886D-6BB2-4F62-8314-F9745BA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E057-2C1A-4056-8F80-164D7AE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5159-A412-417F-B96E-7B4A29A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FAD9-05E5-4CEC-B3F7-A58B01A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EA52-A602-4B13-BC91-96685258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C09E-1872-4DCC-BD11-BB9FCDE4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78F6-2D97-4351-81D2-2EC4EB90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2B9-841A-469B-AA44-C8CC752B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02D6-D9D5-4C62-A31E-5555DF4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8095-6629-41A0-98A1-850EB9A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381A-B39D-4C07-8030-904880D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C03D-9F87-417F-8266-4495083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3C1A1-4F90-470C-A0E0-CD226CA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C89D-C01A-4A3F-A2A0-75B2C8E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CEDB-FA24-4967-94F5-CD5E899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1AB8-1624-4778-9CBB-EC291397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634F-AA72-47F1-8CD6-7593D3F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D985-DA1E-4AD1-9AF2-1A37D524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118-C86C-4FF1-9986-2246F231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3DBA-9F5B-49D8-A344-93337AD2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73B0-F87A-41A4-B187-5234CE6C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3F78-DB68-42C3-9A08-94E2B8BD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2B4D-1A93-4813-9392-B9F416D6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8F59-689A-481D-94D4-FF9DE12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DDC4-3DB4-4235-9A4D-D22BA72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68BC-068A-48C6-8D90-9135432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AEE5-0972-44A7-94E3-1DD6B27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ECB5-7F3D-41E8-A611-CFA068E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5D70-C84C-4F50-9DC2-6BC94CB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539-09AF-4A93-AB60-11D048D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E44D-42B1-4BE2-BC23-7963D6F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9B60-6792-42DD-B0E5-904472E2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AD39-0BCA-4862-9414-4A2A670D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2EC7-010C-41C4-B207-9366067F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BFB8-C817-41D5-8DEB-55D40BD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CB6D-9610-49E7-86DC-837A90C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64A2-2A6A-4C9B-963D-70FD26D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0BA81-7E3E-4469-A64D-C32834F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058F-0CF2-498A-B752-20FFD45E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51F8-BDCC-43D1-8B00-35CA97A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C24-826D-47E7-AE26-B093F0C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20AE9-258B-4BB5-AFA3-5B802B0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B4F8-CE3D-484B-8CB6-310FACA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FA4D-3B2B-4407-B124-78E89F8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707A-FDE8-4132-B839-A71D205D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6E66C-50C2-4C57-8AE3-6B5CC39A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0C7-14D7-4B6B-9CEA-DB21FFD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5B59-CAB3-4BF1-A69A-C3123E113B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4563-E0E5-4D13-A6E4-8285A282ED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E24-5A1B-4EFF-9219-5455CAADAD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6C5-B4FC-468B-9EA3-704F490AE5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602-DD12-4CBD-9213-ECE889C85C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83C-433C-4EBA-9425-D6B326F41A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8A72-AA04-4835-B0CD-540433A76E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extures1.beon.ru/9139-923-14.zhtml" TargetMode="External"/><Relationship Id="rId2" Type="http://schemas.openxmlformats.org/officeDocument/2006/relationships/hyperlink" Target="http://s60.radikal.ru/i170/0808/0d/e808812e7ac5.png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>
            <a:off x="590040" y="1628640"/>
            <a:ext cx="79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Скорость сближения 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и удаления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11280" y="3151080"/>
            <a:ext cx="3097080" cy="370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6300720" y="3803760"/>
            <a:ext cx="2217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Волна 2"/>
          <p:cNvSpPr/>
          <p:nvPr/>
        </p:nvSpPr>
        <p:spPr>
          <a:xfrm>
            <a:off x="4681440" y="1208160"/>
            <a:ext cx="322200" cy="457200"/>
          </a:xfrm>
          <a:custGeom>
            <a:avLst/>
            <a:gdLst>
              <a:gd name="textAreaLeft" fmla="*/ 0 w 322200"/>
              <a:gd name="textAreaRight" fmla="*/ 322560 w 322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Прямая соединительная линия 4"/>
          <p:cNvSpPr/>
          <p:nvPr/>
        </p:nvSpPr>
        <p:spPr>
          <a:xfrm>
            <a:off x="4680000" y="836640"/>
            <a:ext cx="0" cy="14209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1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4800" y="773280"/>
            <a:ext cx="1452600" cy="1742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7740720" y="1138320"/>
            <a:ext cx="934920" cy="9982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3"/>
          <p:cNvSpPr/>
          <p:nvPr/>
        </p:nvSpPr>
        <p:spPr>
          <a:xfrm>
            <a:off x="703440" y="299736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навстречу друг другу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617840" y="386064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сближения -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405160" y="486900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=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884240" y="7732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5630760" y="7732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2845800" y="225756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сбл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3309 -0.00231 E">
                                      <p:cBhvr>
                                        <p:cTn id="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35035 -0.00116 E">
                                      <p:cBhvr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войная стрелка влево/вправо 1"/>
          <p:cNvSpPr/>
          <p:nvPr/>
        </p:nvSpPr>
        <p:spPr>
          <a:xfrm>
            <a:off x="684360" y="1893960"/>
            <a:ext cx="7991280" cy="4842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Прямая соединительная линия 4"/>
          <p:cNvSpPr/>
          <p:nvPr/>
        </p:nvSpPr>
        <p:spPr>
          <a:xfrm>
            <a:off x="4680000" y="836640"/>
            <a:ext cx="1440" cy="18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Прямая соединительная линия 6"/>
          <p:cNvSpPr/>
          <p:nvPr/>
        </p:nvSpPr>
        <p:spPr>
          <a:xfrm>
            <a:off x="684360" y="1736640"/>
            <a:ext cx="0" cy="90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>
            <a:off x="8675640" y="1557360"/>
            <a:ext cx="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684600" y="1011240"/>
            <a:ext cx="996840" cy="106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500720" y="746280"/>
            <a:ext cx="1439640" cy="172692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9"/>
          <p:cNvSpPr/>
          <p:nvPr/>
        </p:nvSpPr>
        <p:spPr>
          <a:xfrm>
            <a:off x="4535640" y="608040"/>
            <a:ext cx="288720" cy="4572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468720" y="2995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Движение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в противоположных направлениях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2293920" y="4327560"/>
            <a:ext cx="48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Скорость удаления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2323800" y="5013360"/>
            <a:ext cx="459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andara"/>
              </a:rPr>
              <a:t>= 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Candara"/>
              </a:rPr>
              <a:t> + V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TextBox 15"/>
          <p:cNvSpPr/>
          <p:nvPr/>
        </p:nvSpPr>
        <p:spPr>
          <a:xfrm>
            <a:off x="5517360" y="6080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1892160" y="60804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 км 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ч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TextBox 17"/>
          <p:cNvSpPr/>
          <p:nvPr/>
        </p:nvSpPr>
        <p:spPr>
          <a:xfrm>
            <a:off x="3165480" y="231300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V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д. </a:t>
            </a: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= ?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км </a:t>
            </a:r>
            <a:r>
              <a:rPr b="1" lang="en-US" sz="28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-0.35903 0.00231 E">
                                      <p:cBhvr>
                                        <p:cTn id="3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34861 0.00278 E">
                                      <p:cBhvr>
                                        <p:cTn id="4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0"/>
          <p:cNvSpPr/>
          <p:nvPr/>
        </p:nvSpPr>
        <p:spPr>
          <a:xfrm>
            <a:off x="396720" y="119700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60480" y="1916280"/>
            <a:ext cx="583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Бараш: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textures1.beon.ru/9139-923-14.zhtml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-3240" y="2465280"/>
            <a:ext cx="679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юша: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http://s60.radikal.ru/i170/0808/0d/e808812e7ac5.p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9:02:14Z</dcterms:created>
  <dc:creator>Владимир</dc:creator>
  <dc:description/>
  <dc:language>en-US</dc:language>
  <cp:lastModifiedBy>Владимир</cp:lastModifiedBy>
  <dcterms:modified xsi:type="dcterms:W3CDTF">2012-02-10T10:00:02Z</dcterms:modified>
  <cp:revision>8</cp:revision>
  <dc:subject/>
  <dc:title>Презентация PowerPoint</dc:title>
</cp:coreProperties>
</file>