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CC5-FEFF-49DF-8D8D-2580E96A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B31-1265-4D15-9DE3-4E7F5F00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F08-C0A5-4A83-B785-AE0A7114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A81-3468-46DC-B167-7466BBB7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C911-FDA8-4F47-8D83-DD42B2A9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036B-7B0B-4D80-9158-C4579831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BD85-7EAE-40BB-AD30-2714AE9D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8641-51AA-40FC-B9F3-A2E2980E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B206-4E49-4A4A-973D-B6F80447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C054-6DFB-4A91-99DD-B15575BA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F82C-097E-4C3C-AD8E-9FE84EEF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C7F-B8BD-45B8-AFF7-73A7C66E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CB37-B696-419E-AB42-EAE2C55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648D-E3B7-4E64-9703-2E5DF09E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ED2-304D-4634-A911-A1BCCB1B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F58F-250B-48CE-8679-A28E4F95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B4B7-F6C4-402D-BB4E-1B7AECC4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9A93-648C-417E-8F8A-DA08C488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B1F4E-3BA8-42F3-B5DC-8CCEAA6B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3176-48D2-48F1-BFA1-0742F51B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557E-767A-45AE-AD56-118136C2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3325-2B00-402F-8C12-2D358A99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364-83AF-4168-B496-1D77C12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707B-20C7-450F-BCDB-FDC1A33C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0637-A1C1-432D-8D46-EC34268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326C-6923-496E-8D62-1677547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0E7FC-4596-4303-9B37-D2665874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58AA-C4A2-4488-8F90-217EC65D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A7BE-01B4-4319-8F54-7E38F97E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2F03-BE20-4E90-B00A-BAD8096F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16808-AF0C-4E9D-8DA2-90305E29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7283-F44A-4B05-B0DB-C21ED059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E5DC-3EDB-41B2-A687-3715EDF0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10F-7225-47EA-8A0C-C27ECBA7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9643-6D28-4ED2-A495-D0592A85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1F2A-F224-4A92-808F-4B3D4885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3F24-1044-42D3-8592-C2D28B9B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E7993-6387-47F4-9049-F3D5D38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EF1B-425B-4243-9BA7-2DD337E6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FBE38-8F04-4715-81A2-392231F5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A770-208B-4969-8475-26B13713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57DA-F05E-4B2B-9BDF-D23242C1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6AC7-777B-4FDF-AE71-F9C73540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8FCEF-1FAB-4B9F-9583-1FB4B646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784-F436-40F8-96C1-5641B37A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58F8-38E9-4F43-A899-ED8A7A99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DE58D-1EEF-4FCA-A50F-6029C000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769AE-163A-44C1-98D1-A90D8BD4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ADCBB-ADDB-400C-8B4F-C31F53A5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536BF-72F2-4798-90E9-CA98CFFC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A88D6-1543-4860-ACA3-3349A97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9A65E-B623-41C7-8EFB-A9931E0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BC03-31DC-47E5-BE7A-C3E5211C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9550F-2767-4A7A-9FE4-A0E58A1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FA2CA-938D-4458-9A54-DB26B6ED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52B-304E-4391-95ED-E1198D1A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DBC1-65FE-4BD4-83D0-BBB3E20A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E640-7CA5-4100-9283-D8D60B6A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DCFCA-8EB9-4C7C-86E6-011632D0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4A96-0737-4F70-BDC6-07227AB4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4E16A-DF84-46FA-8679-61FADD5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F89AE-0EE9-4AD2-98A1-96EDC7F1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11865-9947-4D59-9071-A60AD24E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1387E-49C0-4D93-8BF8-69143FBE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B278-FB87-4051-98BF-3A432732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3B98C-BF11-47B1-B28D-CE91E1DC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893-662D-40A1-8BCD-B6E8E6AC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B7B70-59C6-41B7-9F90-F407190E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AD11A-D503-4B9B-A884-1E3841E6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F61D-0B8F-4163-8DB4-70AC120A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69CD2-C4C7-4357-86C0-970CC823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DEBAA-9CC9-4CB2-8CED-5FCC1D51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FEEE2-6E4E-420A-BF94-62259F48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9F4EF-8702-4645-A23A-8E50A832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2F8C-C100-4008-AA51-B9A6E13F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1FDE-D949-4715-AA97-79DD5CC3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2ECF0-3366-49B7-9814-7958744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BD2-AEE9-4EE0-9B1B-78152E8B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4BCA-ADAB-4977-B0B5-D08BBA23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B0B5F-9112-41C4-9A39-AA922E4C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A8A7-9D36-45DB-9976-7959BE56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02D23-43CC-4EC1-A4C3-2A58F36E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FED6A-F9E9-4142-A82E-DF7C11A0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FCF-9E79-423A-B6AF-073D518B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271-95BA-44B9-8A47-7E1E8B2872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11A5-16D3-4BEB-8815-6294216F5A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56F4-C9FF-4D0D-8175-7E2BA52C81C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F439-C206-41D7-9CA7-6B4BA0BE36F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9894-E13D-4932-A5C6-B7430CF61D3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C28-0FB4-4B8D-ADF1-8D18D515A6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3645-32FE-46CA-B3BE-0A692D1326A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extures1.beon.ru/9139-923-14.zhtml" TargetMode="External"/><Relationship Id="rId2" Type="http://schemas.openxmlformats.org/officeDocument/2006/relationships/hyperlink" Target="http://s60.radikal.ru/i170/0808/0d/e808812e7ac5.png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1"/>
          <p:cNvSpPr/>
          <p:nvPr/>
        </p:nvSpPr>
        <p:spPr>
          <a:xfrm>
            <a:off x="590040" y="1628640"/>
            <a:ext cx="79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</a:rPr>
              <a:t>Скорость сближения </a:t>
            </a:r>
            <a:endParaRPr b="0" lang="en-US" sz="5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</a:rPr>
              <a:t>и удаления</a:t>
            </a:r>
            <a:endParaRPr b="0" lang="en-US" sz="5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611280" y="3151080"/>
            <a:ext cx="3097080" cy="3703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6300720" y="3803760"/>
            <a:ext cx="2217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войная стрелка влево/вправо 1"/>
          <p:cNvSpPr/>
          <p:nvPr/>
        </p:nvSpPr>
        <p:spPr>
          <a:xfrm>
            <a:off x="684360" y="1893960"/>
            <a:ext cx="7991280" cy="484200"/>
          </a:xfrm>
          <a:prstGeom prst="leftRightArrow">
            <a:avLst>
              <a:gd name="adj1" fmla="val 50000"/>
              <a:gd name="adj2" fmla="val 49971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9" name="Волна 2"/>
          <p:cNvSpPr/>
          <p:nvPr/>
        </p:nvSpPr>
        <p:spPr>
          <a:xfrm>
            <a:off x="4681440" y="1208160"/>
            <a:ext cx="322200" cy="457200"/>
          </a:xfrm>
          <a:custGeom>
            <a:avLst/>
            <a:gdLst>
              <a:gd name="textAreaLeft" fmla="*/ 0 w 322200"/>
              <a:gd name="textAreaRight" fmla="*/ 322560 w 322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0" name="Прямая соединительная линия 4"/>
          <p:cNvSpPr/>
          <p:nvPr/>
        </p:nvSpPr>
        <p:spPr>
          <a:xfrm>
            <a:off x="4680000" y="836640"/>
            <a:ext cx="0" cy="142092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1" name="Прямая соединительная линия 6"/>
          <p:cNvSpPr/>
          <p:nvPr/>
        </p:nvSpPr>
        <p:spPr>
          <a:xfrm>
            <a:off x="684360" y="1736640"/>
            <a:ext cx="0" cy="90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2" name="Прямая соединительная линия 8"/>
          <p:cNvSpPr/>
          <p:nvPr/>
        </p:nvSpPr>
        <p:spPr>
          <a:xfrm>
            <a:off x="8675640" y="1557360"/>
            <a:ext cx="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04800" y="773280"/>
            <a:ext cx="1452600" cy="1742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7740720" y="1138320"/>
            <a:ext cx="934920" cy="9982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3"/>
          <p:cNvSpPr/>
          <p:nvPr/>
        </p:nvSpPr>
        <p:spPr>
          <a:xfrm>
            <a:off x="703440" y="299736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Движение навстречу друг другу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1617840" y="386064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Скорость сближения -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405160" y="4869000"/>
            <a:ext cx="47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V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сбл.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= 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+ 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884240" y="77328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5630760" y="77328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4 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TextBox 11"/>
          <p:cNvSpPr/>
          <p:nvPr/>
        </p:nvSpPr>
        <p:spPr>
          <a:xfrm>
            <a:off x="2845800" y="225756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ndara"/>
              </a:rPr>
              <a:t>V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сбл. </a:t>
            </a: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= ?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км 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3309 -0.00231 E">
                                      <p:cBhvr>
                                        <p:cTn id="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35035 -0.00116 E">
                                      <p:cBhvr>
                                        <p:cTn id="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войная стрелка влево/вправо 1"/>
          <p:cNvSpPr/>
          <p:nvPr/>
        </p:nvSpPr>
        <p:spPr>
          <a:xfrm>
            <a:off x="684360" y="1893960"/>
            <a:ext cx="7991280" cy="484200"/>
          </a:xfrm>
          <a:prstGeom prst="leftRightArrow">
            <a:avLst>
              <a:gd name="adj1" fmla="val 50000"/>
              <a:gd name="adj2" fmla="val 49971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2" name="Прямая соединительная линия 4"/>
          <p:cNvSpPr/>
          <p:nvPr/>
        </p:nvSpPr>
        <p:spPr>
          <a:xfrm>
            <a:off x="4680000" y="836640"/>
            <a:ext cx="1440" cy="180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Прямая соединительная линия 6"/>
          <p:cNvSpPr/>
          <p:nvPr/>
        </p:nvSpPr>
        <p:spPr>
          <a:xfrm>
            <a:off x="684360" y="1736640"/>
            <a:ext cx="0" cy="90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>
            <a:off x="8675640" y="1557360"/>
            <a:ext cx="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3684600" y="1011240"/>
            <a:ext cx="996840" cy="1062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500720" y="746280"/>
            <a:ext cx="1439640" cy="1726920"/>
          </a:xfrm>
          <a:prstGeom prst="rect">
            <a:avLst/>
          </a:prstGeom>
          <a:ln w="0">
            <a:noFill/>
          </a:ln>
        </p:spPr>
      </p:pic>
      <p:sp>
        <p:nvSpPr>
          <p:cNvPr id="357" name="Овал 9"/>
          <p:cNvSpPr/>
          <p:nvPr/>
        </p:nvSpPr>
        <p:spPr>
          <a:xfrm>
            <a:off x="4535640" y="608040"/>
            <a:ext cx="288720" cy="45720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468720" y="2995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Движение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в противоположных направлениях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TextBox 11"/>
          <p:cNvSpPr/>
          <p:nvPr/>
        </p:nvSpPr>
        <p:spPr>
          <a:xfrm>
            <a:off x="2293920" y="4327560"/>
            <a:ext cx="48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Скорость удаления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TextBox 12"/>
          <p:cNvSpPr/>
          <p:nvPr/>
        </p:nvSpPr>
        <p:spPr>
          <a:xfrm>
            <a:off x="2323800" y="5013360"/>
            <a:ext cx="459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V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уд.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Candara"/>
              </a:rPr>
              <a:t>= 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+ 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TextBox 15"/>
          <p:cNvSpPr/>
          <p:nvPr/>
        </p:nvSpPr>
        <p:spPr>
          <a:xfrm>
            <a:off x="5517360" y="60804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2" name="TextBox 16"/>
          <p:cNvSpPr/>
          <p:nvPr/>
        </p:nvSpPr>
        <p:spPr>
          <a:xfrm>
            <a:off x="1892160" y="60804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4 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TextBox 17"/>
          <p:cNvSpPr/>
          <p:nvPr/>
        </p:nvSpPr>
        <p:spPr>
          <a:xfrm>
            <a:off x="3165480" y="231300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ndara"/>
              </a:rPr>
              <a:t>V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уд. </a:t>
            </a: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= ?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км 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-0.35903 0.00231 E">
                                      <p:cBhvr>
                                        <p:cTn id="3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34861 0.00278 E">
                                      <p:cBhvr>
                                        <p:cTn id="40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0"/>
          <p:cNvSpPr/>
          <p:nvPr/>
        </p:nvSpPr>
        <p:spPr>
          <a:xfrm>
            <a:off x="396720" y="1197000"/>
            <a:ext cx="42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Интернет ресурсы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60480" y="1916280"/>
            <a:ext cx="583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Бараш: </a:t>
            </a:r>
            <a:r>
              <a:rPr b="0" lang="ru-RU" sz="18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textures1.beon.ru/9139-923-14.zhtml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-3240" y="2465280"/>
            <a:ext cx="679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юша: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http://s60.radikal.ru/i170/0808/0d/e808812e7ac5.p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9:02:14Z</dcterms:created>
  <dc:creator>Владимир</dc:creator>
  <dc:description/>
  <dc:language>en-US</dc:language>
  <cp:lastModifiedBy>Владимир</cp:lastModifiedBy>
  <dcterms:modified xsi:type="dcterms:W3CDTF">2012-02-10T10:00:02Z</dcterms:modified>
  <cp:revision>8</cp:revision>
  <dc:subject/>
  <dc:title>Презентация PowerPoint</dc:title>
</cp:coreProperties>
</file>