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1A5-BB9A-494B-8467-EB70A4D5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45A-83FF-496F-821A-54B01209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DA1-2D6A-41C1-A0A9-8756E404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262-1745-4DC4-856F-704F4B16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48C-BAA2-473F-88CC-16F6D84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9C0-5BDF-4CD6-9709-89DDE10B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D70-50A6-418A-9C70-7157032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E21-2569-4699-9EA4-4C80A78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470-701D-46C9-92AA-EAA2247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06C-2AEB-42B5-8180-9B5AF97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3DE-2573-4974-94CF-DE5F5AF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28E-42F0-46EC-87EB-B179BCC1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D394-9E1A-4D47-91CC-C41C3990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51;&#1080;&#1083;&#1077;&#1081;&#1085;&#1099;&#1077;.xls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&#1069;&#1082;&#1086;&#1083;&#1086;&#1075;&#1080;&#1103;%20&#1050;&#1088;&#1072;&#1089;&#1085;&#1086;&#1103;&#1088;&#1089;&#1082;&#1086;&#1075;&#1086;%20&#1082;&#1088;&#1072;&#1103;/&#1061;&#1088;&#1077;&#1089;&#1090;&#1086;&#1084;&#1072;&#1090;&#1080;&#1103;%206%20&#1082;&#1083;&#1072;&#1089;&#1089;/body/redbook/er_pink.ht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9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емейство </a:t>
            </a:r>
            <a:br>
              <a:rPr sz="3200"/>
            </a:br>
            <a:br>
              <a:rPr sz="32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ЛИЛЕЙ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Толстова Светлана Викенть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Канск, Красноя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504880" cy="428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5840" y="1406520"/>
            <a:ext cx="54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растение высотой до 30 см, с ползучим корневищем. Цветет в мае-июне, плоды созревают в июне-начале июля. Размно­жается преимущественно вегетативным путем: корневища способ­ны к интенсивному разрастанию, и часто клоны ландыша занимают обширную площадь; возможно и семенное размножение. Встреча­ется почти по всей Европейской России. Растет в широколиственных, сосновых и смешанных лесах, на опушках, полянах и вырубка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упена лекарст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высотой 15—70 см, с горизон­тальным корневищем. Цветет в мае, плоды созревают с начала июля. Распространена в Европейской России, Сибири и на Дальнем Вос­токе. В Средней России встречается во всех областях. Растет в широ­колиственных, хвойных и хвойно-широколиственных лесах, в свет­лых березняках, зарослях кустар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расоднев жё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ный, до 10 см в диам., с отогнутыми назад долями и длинной труб­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874960" cy="403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Рябчик 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16200" y="1550880"/>
            <a:ext cx="505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небольшой сплюснутой луко­вицей и прямостоячим стеблем высотой 15—50 см. Цветет в апреле-мае, плодоносит в конце мая или начале июня и вскоре заканчивает вегетацию, т. е. развивается как эфемероид. Размножается семенами и вегетативно. В России встречается в черноземных районах Европей­ской части (северная граница распространения проходит по р. Оке) и в Западной Сибири. Растет на луговых и остепненных склонах ба­лок и речных долин, в зарослях кустарников и негусты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Лилия кудрева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27240" cy="446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1268280"/>
            <a:ext cx="513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Защитные покровы отсутствуют. Стебли прямые, густо облиственные, зеленые, темно-пурпуровые или с темно-коричневыми штрихами на стеблях. В пазухах листьев развиваются воздушные луковички — бульбочки, которые используют для размножения лилий. Цветки одиночные. Плод — коробочка. Семена плоские, неправильной треугольной формы, с пленчатым кр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Кандык сибир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47640" y="1628640"/>
            <a:ext cx="534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летнее луковичное растение. Луковица белая,- яйцевид­но-цилиндрическая, с пленчатой оболочкой, хрупкая, 3—8 см дл. и 1—1,5 см в диам. Стебель 15—35 см вые. с 2 супротивными листьями посредине. Листья зеленые с красновато-коричневыми пятнами,, эллиптические, заостренные, 8—15 см дл. и 1,5—6 см шир., со стеблеобъемлющим черешком. Цветок одиночный, поникающий, лилово-розовый, реже белый, с отогнутыми в стороны и вверх листочками околоцветника, продолговатыми, тупыми, в основании светло-желтыми с крапинками, с поперечной складкой и продолговатыми ушками. Пыльники золотисто-желтые плод — трехгнездная коробочка. Цветет ранней весной 2—3 недели, прорастает во время таяния сне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— Южная Сибир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27972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Пролеска сиб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овичное многолетнее травянистое растение с несколькими гра-нистыми цветоносами высотой 10—20 см и 2—4 широколинейными прикорневыми листьями. Цветет в марте-апреле, плодоносит и за­канчивает вегетацию в мае, т. е. развивается как эфемероид. Рас­пространяется семенами. В России встречается в черноземных районах Европейской части. Севернее часто разводится в цветниках и иногда дичает. Растение широколиственных лесов, выходящее на опушки и в кустарники; часто во время цветения образует асп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152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, достигающее высоты 1,5 м, с толстым густо олиственным стеблем и коротким утолщенным кор­невищем, от которого отходят многочисленные шнуровидные кор­ни. Цветет в июне-июле, плоды созревают в конце августа и сен­тябре. Основной способ размножения — семенами. Распространена в России почти повсеместно, но спорадически. Растет на влажных лугах, преимущественно в долинах крупных рек, а также в разре­женных сырых лиственных лесах и на полянах, чаще в черноземной полосе. Ядовитое растение, засоряющее сенокосы и пастбища и требующее специальных мер бор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4592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05160" cy="386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5640" y="148428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длинным чешуйчатым корневи­щем. Цветет в мае, семена созревают в июле-августе. В России встре­чается в лесной полосе Европейской части (кроме северных районов) и в Сибири. Растет преимущественно в широколиственных лесах, обычно в затененных местах, а также в хвойных и смешанных насаж­дениях, но хорошего развития там не достигает. Ядовитое рас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Тюльпан Бибершт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-ный, до 10 см в диам., с отогнутыми назад долями и длинной труб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67480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Лилей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Это одно из крупных семейств в классе однодоль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Лилейные, произрастающие в Красноярском крае, - это многолетние травы с подземными запасающими орг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Некоторые из них нуждаются в охране и занесены в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ови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ая, и народная медицина практически не используют вороний глаз, зато его и сейчас еще ценит гомеопатия.  Из свежих растений готовят гомеопатическое средство Paris quadrifolia и дают его при невралгических болях в области головы и лица, а также при часто повторяющихся воспалениях гортани. Это средство помогает и при конъюнктивите с подергиванием век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бочные дей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части растения, особенно ягоды ядовиты. При отравлении отмечали понос, колики, приступы головокружения; поэтому самолечение запрещено. Из истории растения. В средние века верили, что "заколдованных" людей можно "расколдовать" с помощью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Ягоды носили на теле или зашивали в одежду, чтобы уберечься от чумы и других заразных болезней, для чего собирали их от 15 августа до 8 сентября. Но, в общем,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асались и потому применяли редко. У Маттиолуса, например, можно прочитать: "Некоторые говорят, что эти ягоды могут усыпить, если их съесть. Я бы не хотел их пробовать: можно и не проснуться"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ядовитое растение, и его ни в коем случае нельзя применять самостоятельно! Для информации следует сказать, что в народной медицине употребляют чай из листье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мочегонное при отеках и в меньшей степени - для очищения крови. В свое время бытовало мнение, буд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лечить все болезни. В народной медицине это мнение все еще сохраняется. Особенно часто пытаются лечи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дей, страдающих параличом и эпилепсией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бочные 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потреблении назначенных врачом препаратов из этого растения и правильной дозировке побочных действий не бывает. Но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йствующие вещ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одержащиеся во всех частях растения, ядовиты. И все же следует сказать, что ядовит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льно преувеличена. Небылицы, что якобы умер ребенок, выпивший воды из вазы, где сто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 подтверждаются. Серьезные отравл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два ли возможны, даже при поедании ягод. Однако следует соблюдать осторожность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части раст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овит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лечебной целью используются корни и корневища чемерицы, в которых к осени накапливается наибольшее количество алкало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учной медицине спектр применения препаратов чемерицы из-за высокой токсичности очень огранич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родной медицине чемерицу в виде водного настоя или настойке на спирте используют наружно против вшей, при чесотке, ревматизме, невралгии, внутрь принимают по капле при болях в жи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Чемерица Лобеля"/>
          <p:cNvPicPr/>
          <p:nvPr/>
        </p:nvPicPr>
        <p:blipFill>
          <a:blip r:embed="rId2"/>
          <a:stretch/>
        </p:blipFill>
        <p:spPr>
          <a:xfrm>
            <a:off x="395280" y="1125360"/>
            <a:ext cx="28386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222876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224820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80000" y="333360"/>
            <a:ext cx="222876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39640" y="4365720"/>
            <a:ext cx="2229120" cy="221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672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880" y="234936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Безврем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68920" y="435924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Лилия королевская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4000" y="3881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Тюль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640" y="39528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Про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95280" y="333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5600" y="2662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Гиац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Проверь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ЛИЯ КУДРЕ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7640" y="560520"/>
            <a:ext cx="47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АНДЫК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БИ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4267080" y="136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4268880" y="2004840"/>
          <a:ext cx="4946760" cy="2470320"/>
        </p:xfrm>
        <a:graphic>
          <a:graphicData uri="http://schemas.openxmlformats.org/drawingml/2006/table">
            <a:tbl>
              <a:tblPr/>
              <a:tblGrid>
                <a:gridCol w="4946760"/>
              </a:tblGrid>
              <a:tr h="429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 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5280" y="351504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ндемик, уязвимый вид, внесен в Красную книгу России. Многолетнее растение. Цветок одиночный, поникающий. Характерно подземное корневище. Встречается в темнохвойных лесах, на лесных опушках. Необходимы запретительные меры в отношении продажи и контроль за их исполнением в крупных населенных пунктах. Охраняется в Саяно-Шушенском биосферном заповедн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er_pink.jpg - 68248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197000"/>
            <a:ext cx="2238480" cy="219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370320"/>
            <a:ext cx="79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й вид. Растение с вертикальным, укороченным корневищем с многочисленными корневыми мочками. Стебель заканчивается двумя-пятью ярко-желтыми душистыми цветками. Распространяется во всех районах юга края. Растет в березово-сосновых лесах, кустарниковых зарослях, луговых степях. Наблюдается снижение численности популяции из-за нарушения местообитаний и сбора населением. Охраняется в Саяно-Шущенском биосферном заповеднике и госзаповеднике "Столб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6160" y="208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О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644920" cy="244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Лилейные Красноярско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Лилия кудреватая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асод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анд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ябчик рус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Ландыш ма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олеска сиби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ериц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об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роний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Тюльпан Бибершт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упена лекар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Общи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Значе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Многие лилейные введены в культуру ка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екоративные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Есть среди лилейных и ядовитые растения, например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роний глаз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андыш майский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чемерица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которые используются и как лек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Редкие виды, например, лилия кудреватая,  кандык сибирский, красоднев, занесены в Красную книгу и нуждаются в ох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Пл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600280" cy="3219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Коробочка                      Я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679640" cy="31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67652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441180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122400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2666880" cy="41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04400" y="5248440"/>
            <a:ext cx="65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Луковица                               Корне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Майник двули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6287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84560" y="1289160"/>
            <a:ext cx="541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Это небольшое, очень изящное многолетнее растение с белыми, источающими легкий аромат цветками, собранными в рыхлые кисти, может быть использовано вами как почвопокровное растение вблизи деревьев и кустарников в тенистых местах сада. Кстати, это единственный представитель семейства ландышевых, венчик цветка которого состоит из четырех лепестков, а не из шести, как у всех остальных. Соцветие майника располагается на конце стебля, надземная часть которого состоит из двух-трех звеньев и имеет высоту 15-18 см. В узлах стебля на маленьких черенках располагаются поочередно всего два листа сердцевидно-удлиненной формы. Цветет в первой половине лета. К осени созревают маленькие красные бусинки-плоды, которые любят дрозды и мурав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6:52:02Z</dcterms:created>
  <dc:creator>Home</dc:creator>
  <dc:description/>
  <dc:language>en-US</dc:language>
  <cp:lastModifiedBy>Home</cp:lastModifiedBy>
  <dcterms:modified xsi:type="dcterms:W3CDTF">2008-12-29T09:10:25Z</dcterms:modified>
  <cp:revision>54</cp:revision>
  <dc:subject/>
  <dc:title>Семейство   ЛИЛЕЙНЫЕ</dc:title>
</cp:coreProperties>
</file>