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1.gif" ContentType="image/gif"/>
  <Override PartName="/ppt/media/image16.gif" ContentType="image/gif"/>
  <Override PartName="/ppt/media/image14.gif" ContentType="image/gif"/>
  <Override PartName="/ppt/media/image15.gif" ContentType="image/gif"/>
  <Override PartName="/ppt/media/image7.jpeg" ContentType="image/jpeg"/>
  <Override PartName="/ppt/media/image10.jpeg" ContentType="image/jpeg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chimes.wav" ContentType="audio/x-wav"/>
  <Override PartName="/ppt/media/image13.gif" ContentType="image/gif"/>
  <Override PartName="/ppt/media/image8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A4A-1A78-420D-B59D-3D9C187F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151-2F8F-409B-ACF6-3163F801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B1E-0533-4769-8BA1-CD4B7C5E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D3E-F23C-48BE-9C4E-C90DA0D5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3B1-EF75-4306-9989-7A9B4135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437-51A0-4CBA-81AB-F9273DA3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FAD-D0A5-44F2-9C34-C33E4007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468-EBAF-4861-A839-F743074D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37B-9221-46B3-B502-A78BE80F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03D-EF10-40E9-9BE8-DC2BF4B3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C64-7243-4999-8227-01AC180A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A47-2A78-4591-9C01-0087B78B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F127-68F1-4BE6-8308-7B6AC708B6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to-name.ru/historical-events/francia.ht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иобретать знания- храбрость,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иумножать их – мудрость,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 умело приумножать- великое искусств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1f1"/>
          <p:cNvPicPr/>
          <p:nvPr/>
        </p:nvPicPr>
        <p:blipFill>
          <a:blip r:embed="rId1"/>
          <a:stretch/>
        </p:blipFill>
        <p:spPr>
          <a:xfrm>
            <a:off x="7812000" y="620640"/>
            <a:ext cx="1143000" cy="10857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6148440" y="1270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:\Users\NASTYA\Desktop\0_85500_32531758_XL.gif"/>
          <p:cNvPicPr/>
          <p:nvPr/>
        </p:nvPicPr>
        <p:blipFill>
          <a:blip r:embed="rId2"/>
          <a:stretch/>
        </p:blipFill>
        <p:spPr>
          <a:xfrm>
            <a:off x="2556000" y="2565360"/>
            <a:ext cx="3200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Если хотите научиться плавать, </a:t>
            </a:r>
            <a:br>
              <a:rPr sz="3200"/>
            </a:b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то смело входите в воду, а если </a:t>
            </a:r>
            <a:br>
              <a:rPr sz="3200"/>
            </a:b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хотите научиться решать задачи,</a:t>
            </a:r>
            <a:br>
              <a:rPr sz="3200"/>
            </a:b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то решай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Дж. Пой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895968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professor01"/>
          <p:cNvPicPr/>
          <p:nvPr/>
        </p:nvPicPr>
        <p:blipFill>
          <a:blip r:embed="rId1"/>
          <a:stretch/>
        </p:blipFill>
        <p:spPr>
          <a:xfrm>
            <a:off x="7380360" y="0"/>
            <a:ext cx="16556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Решите задач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Из пункта А в пункт В, расстояние между которыми 30 км, одновременно выехали автомобилист и велосипедист. Известно, что в час автомобилист проезжает на 40 км больше, чем велосипедист. Определите скорость велосипедиста, если известно, что он прибыл в пункт В на 2 часа 24 минуты позже автомобилиста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Решите самостоятель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Тестов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2" descr="улыбкаРАДУГИ.gif"/>
          <p:cNvPicPr/>
          <p:nvPr/>
        </p:nvPicPr>
        <p:blipFill>
          <a:blip r:embed="rId1"/>
          <a:stretch/>
        </p:blipFill>
        <p:spPr>
          <a:xfrm>
            <a:off x="2987640" y="2924280"/>
            <a:ext cx="3097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549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Подведение ит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Рефлексия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Информация о д/з.: вариант 27- подготовка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:\Users\NASTYA\Desktop\789216554.gif"/>
          <p:cNvPicPr/>
          <p:nvPr/>
        </p:nvPicPr>
        <p:blipFill>
          <a:blip r:embed="rId1"/>
          <a:stretch/>
        </p:blipFill>
        <p:spPr>
          <a:xfrm>
            <a:off x="2916360" y="3357720"/>
            <a:ext cx="30240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  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«То, что вы были  вынуждены открыть сами, оставляет в вашем уме дорожку, которой вы можете снова воспользоваться, когда в этом возникнет необходимос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(немецкий учёный физик 18-го века Лихтенберг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AG00488_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451640" y="189000"/>
            <a:ext cx="1692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ag00630_"/>
          <p:cNvPicPr/>
          <p:nvPr/>
        </p:nvPicPr>
        <p:blipFill>
          <a:blip r:embed="rId1"/>
          <a:stretch/>
        </p:blipFill>
        <p:spPr>
          <a:xfrm>
            <a:off x="4716360" y="1916280"/>
            <a:ext cx="4032360" cy="417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Копает "/>
          <p:cNvPicPr/>
          <p:nvPr/>
        </p:nvPicPr>
        <p:blipFill>
          <a:blip r:embed="rId2"/>
          <a:stretch/>
        </p:blipFill>
        <p:spPr>
          <a:xfrm>
            <a:off x="1692360" y="3860640"/>
            <a:ext cx="2448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Теоретическ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1f1"/>
          <p:cNvPicPr/>
          <p:nvPr/>
        </p:nvPicPr>
        <p:blipFill>
          <a:blip r:embed="rId1"/>
          <a:stretch/>
        </p:blipFill>
        <p:spPr>
          <a:xfrm>
            <a:off x="7812000" y="620640"/>
            <a:ext cx="1143000" cy="1085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6148440" y="1270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C:\Users\NASTYA\Desktop\34c4e3995ac6.gif"/>
          <p:cNvPicPr/>
          <p:nvPr/>
        </p:nvPicPr>
        <p:blipFill>
          <a:blip r:embed="rId2"/>
          <a:stretch/>
        </p:blipFill>
        <p:spPr>
          <a:xfrm>
            <a:off x="1476360" y="1484280"/>
            <a:ext cx="655488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Муниципальное общеобразовательное учреждение «Средняя общеобразовательная школа № 56 с углубленным изучением отдельных предмет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148440" y="1270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4067280" y="378936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Arial"/>
              </a:rPr>
              <a:t>9 «А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Arial"/>
              </a:rPr>
              <a:t>учитель Швецова  Надежд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286000" y="4865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Arial"/>
              </a:rPr>
              <a:t>г.Саратов,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people1.gif"/>
          <p:cNvPicPr/>
          <p:nvPr/>
        </p:nvPicPr>
        <p:blipFill>
          <a:blip r:embed="rId1"/>
          <a:stretch/>
        </p:blipFill>
        <p:spPr>
          <a:xfrm>
            <a:off x="1187280" y="3500280"/>
            <a:ext cx="2880000" cy="22323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0"/>
          <p:cNvSpPr/>
          <p:nvPr/>
        </p:nvSpPr>
        <p:spPr>
          <a:xfrm>
            <a:off x="1476360" y="206064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Решение уравнений, приводимых к  квадрат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1f1"/>
          <p:cNvPicPr/>
          <p:nvPr/>
        </p:nvPicPr>
        <p:blipFill>
          <a:blip r:embed="rId2"/>
          <a:stretch/>
        </p:blipFill>
        <p:spPr>
          <a:xfrm>
            <a:off x="7812000" y="549360"/>
            <a:ext cx="11430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Обобщить, систематизировать и углубить учебный материал с целью подготовки к ГИ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Развивать внимание, память, речь, логическое мышление, самостоятельность.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Воспитать стремление достигнуть поставленную цель, чувство ответственности, уверенности в себе, умение работать в коллектив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doc17"/>
          <p:cNvPicPr/>
          <p:nvPr/>
        </p:nvPicPr>
        <p:blipFill>
          <a:blip r:embed="rId1"/>
          <a:stretch/>
        </p:blipFill>
        <p:spPr>
          <a:xfrm>
            <a:off x="7451640" y="476280"/>
            <a:ext cx="1465200" cy="137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NASTYA\Desktop\0081812165.jpg"/>
          <p:cNvPicPr/>
          <p:nvPr/>
        </p:nvPicPr>
        <p:blipFill>
          <a:blip r:embed="rId2"/>
          <a:stretch/>
        </p:blipFill>
        <p:spPr>
          <a:xfrm>
            <a:off x="7164360" y="4724280"/>
            <a:ext cx="165564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viet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240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914400" y="3049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Франсуа Ви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6588000" y="476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(1540-16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4284720" y="1484280"/>
            <a:ext cx="4535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ранцузский</a:t>
            </a: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 математик, положивший начало алгебре как науке о преобразовании выражений, о решении уравнений в общем виде, создатель буквенного и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4400" spc="-1" strike="noStrike">
                <a:solidFill>
                  <a:srgbClr val="262673"/>
                </a:solidFill>
                <a:latin typeface="Arial"/>
              </a:rPr>
              <a:t>Решите уравнения </a:t>
            </a:r>
            <a:r>
              <a:rPr b="1" i="1" lang="ru-RU" sz="2800" spc="-1" strike="noStrike">
                <a:solidFill>
                  <a:srgbClr val="262673"/>
                </a:solidFill>
                <a:latin typeface="Arial"/>
              </a:rPr>
              <a:t>(устно)</a:t>
            </a:r>
            <a:r>
              <a:rPr b="1" i="1" lang="ru-RU" sz="4400" spc="-1" strike="noStrike">
                <a:solidFill>
                  <a:srgbClr val="262673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 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ОТВЕ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решени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4x²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3. 3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+12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4. 7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x²-3x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5. -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7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±√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6.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+6x-7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                       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7.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-10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.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=0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NASTYA\Desktop\10355.jpg"/>
          <p:cNvPicPr/>
          <p:nvPr/>
        </p:nvPicPr>
        <p:blipFill>
          <a:blip r:embed="rId1"/>
          <a:stretch/>
        </p:blipFill>
        <p:spPr>
          <a:xfrm>
            <a:off x="3276720" y="4149720"/>
            <a:ext cx="2232000" cy="244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Сар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NASTYA\Desktop\ponte-fra-saratov-e-engels.jpg"/>
          <p:cNvPicPr/>
          <p:nvPr/>
        </p:nvPicPr>
        <p:blipFill>
          <a:blip r:embed="rId1"/>
          <a:stretch/>
        </p:blipFill>
        <p:spPr>
          <a:xfrm>
            <a:off x="1262160" y="1766880"/>
            <a:ext cx="6619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Решит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 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+ 2 (х+3)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 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 ²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 + 2 (Х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² 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+6х + 9)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 -81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Пусть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  x²+6x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,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 ²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+2 (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+9)-81=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 ²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+2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-63=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9 или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Получи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9   или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+9 =0         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-7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3                   х </a:t>
            </a:r>
            <a:r>
              <a:rPr b="1" lang="en-US" sz="10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7, х </a:t>
            </a:r>
            <a:r>
              <a:rPr b="1" lang="ru-RU" sz="1000" spc="-1" strike="noStrike">
                <a:solidFill>
                  <a:srgbClr val="262673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Ответ: -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7; -3;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Решит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684360" y="836640"/>
                <a:ext cx="6408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Прямоугольник 5"/>
          <p:cNvSpPr/>
          <p:nvPr/>
        </p:nvSpPr>
        <p:spPr>
          <a:xfrm>
            <a:off x="3492360" y="177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1403280" y="263700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0"/>
          <p:cNvSpPr/>
          <p:nvPr/>
        </p:nvSpPr>
        <p:spPr>
          <a:xfrm>
            <a:off x="1476360" y="3068640"/>
            <a:ext cx="1582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"/>
          <p:cNvSpPr/>
          <p:nvPr/>
        </p:nvSpPr>
        <p:spPr>
          <a:xfrm>
            <a:off x="971640" y="4076640"/>
            <a:ext cx="4073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042920" y="2205000"/>
            <a:ext cx="432000" cy="1800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2"/>
          <p:cNvSpPr/>
          <p:nvPr/>
        </p:nvSpPr>
        <p:spPr>
          <a:xfrm>
            <a:off x="1989000" y="220176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3"/>
          <p:cNvSpPr/>
          <p:nvPr/>
        </p:nvSpPr>
        <p:spPr>
          <a:xfrm>
            <a:off x="2142360" y="22399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3"/>
              <p:cNvSpPr txBox="1"/>
              <p:nvPr/>
            </p:nvSpPr>
            <p:spPr>
              <a:xfrm>
                <a:off x="1547640" y="2349360"/>
                <a:ext cx="2664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5"/>
              <p:cNvSpPr txBox="1"/>
              <p:nvPr/>
            </p:nvSpPr>
            <p:spPr>
              <a:xfrm>
                <a:off x="1476360" y="3068640"/>
                <a:ext cx="2808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1:16:12Z</dcterms:created>
  <dc:creator>швецова</dc:creator>
  <dc:description/>
  <dc:language>en-US</dc:language>
  <cp:lastModifiedBy>NASTYA</cp:lastModifiedBy>
  <dcterms:modified xsi:type="dcterms:W3CDTF">2013-12-24T06:34:22Z</dcterms:modified>
  <cp:revision>63</cp:revision>
  <dc:subject/>
  <dc:title>Алгебра 9 класс.</dc:title>
</cp:coreProperties>
</file>