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5D2-8117-44C5-988F-3C76F0AA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9FD-47C0-4A09-B226-CBF0ECA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5DC-F731-47F3-A4BA-BA61D10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4AD-B6D3-424F-929C-8A135359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E9E-DC06-4E05-8AF0-3061AE79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AFB-8B76-40D7-A222-DDE8A18A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7E2-EC42-4A87-9A1F-547F276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12C-CA52-4C36-A3F7-88E28AF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4DF-0FBA-4276-BBE3-6F83F9D6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C5F-C4A0-4361-8148-61A9E2B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C0F-0F54-483C-8AD9-BF158EA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3A8-5E17-465C-A215-5C7800F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EEA-9026-4A81-8418-6D4805518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o-name.ru/historical-events/francia.ht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обретать знания- храбрость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умножать их – мудрость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умело приумножать- великое искус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NASTYA\Desktop\0_85500_32531758_XL.gif"/>
          <p:cNvPicPr/>
          <p:nvPr/>
        </p:nvPicPr>
        <p:blipFill>
          <a:blip r:embed="rId2"/>
          <a:stretch/>
        </p:blipFill>
        <p:spPr>
          <a:xfrm>
            <a:off x="2556000" y="2565360"/>
            <a:ext cx="320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Если хотите научиться плавать,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смело входите в воду, а если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хотите научиться решать задачи,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решай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ж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professor01"/>
          <p:cNvPicPr/>
          <p:nvPr/>
        </p:nvPicPr>
        <p:blipFill>
          <a:blip r:embed="rId1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з пункта А в пункт В, расстояние между которыми 30 км, одновременно выехали автомобилист и велосипедист. Известно, что в час автомобилист проезжает на 40 км больше, чем велосипедист. Определите скорость велосипедиста, если известно, что он прибыл в пункт В на 2 часа 24 минуты позже автомобилис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шит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улыбкаРАДУГИ.gif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ефлексия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Информация о д/з.: вариант 27- 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NASTYA\Desktop\789216554.gif"/>
          <p:cNvPicPr/>
          <p:nvPr/>
        </p:nvPicPr>
        <p:blipFill>
          <a:blip r:embed="rId1"/>
          <a:stretch/>
        </p:blipFill>
        <p:spPr>
          <a:xfrm>
            <a:off x="2916360" y="3357720"/>
            <a:ext cx="302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о, что вы были  вынуждены открыть сами, оставляет в вашем уме дорожку, которой вы можете снова воспользоваться, когда в этом возникнет необходим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немецкий учёный физик 18-го века Лихтенбер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ag00630_"/>
          <p:cNvPicPr/>
          <p:nvPr/>
        </p:nvPicPr>
        <p:blipFill>
          <a:blip r:embed="rId1"/>
          <a:stretch/>
        </p:blipFill>
        <p:spPr>
          <a:xfrm>
            <a:off x="4716360" y="191628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Копает "/>
          <p:cNvPicPr/>
          <p:nvPr/>
        </p:nvPicPr>
        <p:blipFill>
          <a:blip r:embed="rId2"/>
          <a:stretch/>
        </p:blipFill>
        <p:spPr>
          <a:xfrm>
            <a:off x="169236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NASTYA\Desktop\34c4e3995ac6.gif"/>
          <p:cNvPicPr/>
          <p:nvPr/>
        </p:nvPicPr>
        <p:blipFill>
          <a:blip r:embed="rId2"/>
          <a:stretch/>
        </p:blipFill>
        <p:spPr>
          <a:xfrm>
            <a:off x="1476360" y="1484280"/>
            <a:ext cx="65548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Муниципальное общеобразовательное учреждение «Средняя общеобразовательная школа № 56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9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учитель Швецова  Надежд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86000" y="4865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г.Саратов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eople1.gif"/>
          <p:cNvPicPr/>
          <p:nvPr/>
        </p:nvPicPr>
        <p:blipFill>
          <a:blip r:embed="rId1"/>
          <a:stretch/>
        </p:blipFill>
        <p:spPr>
          <a:xfrm>
            <a:off x="1187280" y="3500280"/>
            <a:ext cx="288000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0"/>
          <p:cNvSpPr/>
          <p:nvPr/>
        </p:nvSpPr>
        <p:spPr>
          <a:xfrm>
            <a:off x="1476360" y="20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шение уравнений, приводимых к  квадра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f1"/>
          <p:cNvPicPr/>
          <p:nvPr/>
        </p:nvPicPr>
        <p:blipFill>
          <a:blip r:embed="rId2"/>
          <a:stretch/>
        </p:blipFill>
        <p:spPr>
          <a:xfrm>
            <a:off x="7812000" y="549360"/>
            <a:ext cx="11430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Обобщить, систематизировать и углубить учебный материал с целью подготовки к ГИ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Развивать внимание, память, речь, логическое мышление, самостоятельность.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Воспитать стремление достигнуть поставленную цель, чувство ответственности, уверенности в себе, умение работать в коллекти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doc17"/>
          <p:cNvPicPr/>
          <p:nvPr/>
        </p:nvPicPr>
        <p:blipFill>
          <a:blip r:embed="rId1"/>
          <a:stretch/>
        </p:blipFill>
        <p:spPr>
          <a:xfrm>
            <a:off x="7451640" y="476280"/>
            <a:ext cx="1465200" cy="137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ASTYA\Desktop\0081812165.jpg"/>
          <p:cNvPicPr/>
          <p:nvPr/>
        </p:nvPicPr>
        <p:blipFill>
          <a:blip r:embed="rId2"/>
          <a:stretch/>
        </p:blipFill>
        <p:spPr>
          <a:xfrm>
            <a:off x="7164360" y="4724280"/>
            <a:ext cx="16556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iet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588000" y="47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1540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148428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узский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 математик, положивший начало алгебре как науке о преобразовании выражений, о решении уравнений в общем виде, создатель буквенного и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Решите уравнения </a:t>
            </a: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(устно)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ОТ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еш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4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3. 3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12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. 7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-3x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5. -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±√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-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.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NASTYA\Desktop\10355.jpg"/>
          <p:cNvPicPr/>
          <p:nvPr/>
        </p:nvPicPr>
        <p:blipFill>
          <a:blip r:embed="rId1"/>
          <a:stretch/>
        </p:blipFill>
        <p:spPr>
          <a:xfrm>
            <a:off x="3276720" y="414972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ар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NASTYA\Desktop\ponte-fra-saratov-e-engels.jpg"/>
          <p:cNvPicPr/>
          <p:nvPr/>
        </p:nvPicPr>
        <p:blipFill>
          <a:blip r:embed="rId1"/>
          <a:stretch/>
        </p:blipFill>
        <p:spPr>
          <a:xfrm>
            <a:off x="1262160" y="1766880"/>
            <a:ext cx="661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+ 2 (х+3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+ 2 (Х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²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+6х + 9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-81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усть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 x²+6x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(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9)-81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-63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л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 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+9 =0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-7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3                   х </a:t>
            </a: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7, х </a:t>
            </a:r>
            <a:r>
              <a:rPr b="1" lang="ru-RU" sz="1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: -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7; -3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84360" y="836640"/>
                <a:ext cx="640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оугольник 5"/>
          <p:cNvSpPr/>
          <p:nvPr/>
        </p:nvSpPr>
        <p:spPr>
          <a:xfrm>
            <a:off x="349236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403280" y="2637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476360" y="3068640"/>
            <a:ext cx="158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971640" y="4076640"/>
            <a:ext cx="407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042920" y="2205000"/>
            <a:ext cx="432000" cy="1800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989000" y="22017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142360" y="2239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1547640" y="2349360"/>
                <a:ext cx="26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1476360" y="3068640"/>
                <a:ext cx="280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швецова</dc:creator>
  <dc:description/>
  <dc:language>en-US</dc:language>
  <cp:lastModifiedBy>NASTYA</cp:lastModifiedBy>
  <dcterms:modified xsi:type="dcterms:W3CDTF">2013-12-24T06:34:22Z</dcterms:modified>
  <cp:revision>63</cp:revision>
  <dc:subject/>
  <dc:title>Алгебра 9 класс.</dc:title>
</cp:coreProperties>
</file>