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46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17D-47CA-4CE8-8DD1-8AE65FCB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6C1-96C5-4FCF-A9B1-3C7D8709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A22-4E7A-4D56-B0E2-4E4A070D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938-713E-408F-BB0A-D09EF661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6AA-B007-476B-BE70-AD9AB366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CC1-31A3-4652-ACFA-43F72165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967-D9B5-44B8-A0FE-99514421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824-F8FE-49C4-BD53-EE02941E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41D-21CD-4A72-B81C-C786C8B3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357-B981-4BE6-9DF9-07184556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046-4D80-426E-8159-2AA80DBE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6CD-1FAA-41BD-81CB-3F52FCE2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6B9A-5B03-4A6A-9F55-8CF6B5C44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8;&#1072;&#1073;&#1083;&#1080;&#1094;&#1072;%201.doc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8;&#1072;&#1073;&#1083;&#1080;&#1094;&#1072;%202.doc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8;&#1072;&#1073;&#1083;&#1080;&#1094;&#1072;%203.doc" TargetMode="External"/><Relationship Id="rId3" Type="http://schemas.openxmlformats.org/officeDocument/2006/relationships/hyperlink" Target="file:///&#1058;&#1072;&#1073;&#1083;&#1080;&#1094;&#1072;%203.doc" TargetMode="External"/><Relationship Id="rId4" Type="http://schemas.openxmlformats.org/officeDocument/2006/relationships/hyperlink" Target="file:///&#1058;&#1072;&#1073;&#1083;&#1080;&#1094;&#1072;%203.doc" TargetMode="External"/><Relationship Id="rId5" Type="http://schemas.openxmlformats.org/officeDocument/2006/relationships/hyperlink" Target="file:///&#1058;&#1072;&#1073;&#1083;&#1080;&#1094;&#1072;%203.doc" TargetMode="Externa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685800"/>
            <a:ext cx="693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ациональное пит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94360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05120" y="762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14479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752480"/>
            <a:ext cx="67816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ахара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глюкоза, фруктоза, лактоза   -  сладкие на вкус):  в меде,  во фруктах,  молоке, сахаре, конфе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рахма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 в картофеле, муке, крупах, макаронных издел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летчат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пищевые волокна): в отрубях, в  сырых овощах  - капусте, моркови, баклажанах и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629080" cy="2146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1" name="i-main-pic" descr="Картинка 283 из 405"/>
          <p:cNvPicPr/>
          <p:nvPr/>
        </p:nvPicPr>
        <p:blipFill>
          <a:blip r:embed="rId3"/>
          <a:stretch/>
        </p:blipFill>
        <p:spPr>
          <a:xfrm>
            <a:off x="6248520" y="228600"/>
            <a:ext cx="1828800" cy="1508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172200" y="4800600"/>
            <a:ext cx="2057400" cy="15177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800600" y="4267080"/>
            <a:ext cx="1770120" cy="2276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467480" y="1676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4419720" y="152280"/>
            <a:ext cx="1447560" cy="16765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6934320" y="3733920"/>
            <a:ext cx="1942920" cy="1304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4572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леводы  быв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1080" y="2286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6858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источник энергии, предохраняющий организм от охла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1828800"/>
            <a:ext cx="5410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своему происхождению жиры быв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тительные: подсолнечное масло, облепиховое масло, оливковое масло, соевое масло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вотные: сливочное масло, свиной жир, куриный жир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0574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-main-pic" descr="Картинка 3 из 9207"/>
          <p:cNvPicPr/>
          <p:nvPr/>
        </p:nvPicPr>
        <p:blipFill>
          <a:blip r:embed="rId2"/>
          <a:stretch/>
        </p:blipFill>
        <p:spPr>
          <a:xfrm>
            <a:off x="6324480" y="4876920"/>
            <a:ext cx="1430280" cy="163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47920" y="480060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467480" y="304920"/>
            <a:ext cx="1455840" cy="601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04920" y="380880"/>
            <a:ext cx="1474560" cy="60199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304920"/>
            <a:ext cx="8458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12952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Хорошие» легкие жиры: растительные, молочный жир, рыбий ж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4419720"/>
            <a:ext cx="533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вотные жиры, особенно свиной, говяжий, бараний - состоят в основном из тугоплавких, «плохих»  жиров. Они тяжело усваиваются организм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943600" y="4724280"/>
            <a:ext cx="2467080" cy="1857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1225440" cy="1838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1319400" cy="1981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3124080"/>
            <a:ext cx="7696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гкие жиры необходимо употреблять в пищу даже тем, кто стремится похуд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380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ХОРОШИЕ»  и «ПЛОХИЕ»  жи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3049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219320"/>
            <a:ext cx="5867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повышают сопротивление организма заболе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регулируют работу орг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1240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статок витаминов  -ГИПОВИТАМИ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962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ок витаминов -ГИПЕРВИТАМИ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876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е отсутствие витаминов - АВИТАМИ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18120" y="380880"/>
            <a:ext cx="2722680" cy="27432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315200" y="4267080"/>
            <a:ext cx="1590840" cy="2381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90720" y="76212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воим физическим свойствам витамины деля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20574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воримые в жир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,   D,    E,   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воримые в вод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, PP,  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5867280"/>
            <a:ext cx="3581280" cy="457200"/>
          </a:xfrm>
          <a:prstGeom prst="wedgeRectCallout">
            <a:avLst>
              <a:gd name="adj1" fmla="val -43518"/>
              <a:gd name="adj2" fmla="val -136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943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я  5 класс стр.1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1733400" cy="2590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629400" y="27432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514600" y="3657600"/>
            <a:ext cx="1895400" cy="2857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724280" y="3581280"/>
            <a:ext cx="20574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57400" y="228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ЕРАЛЬНЫЕ 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600200"/>
            <a:ext cx="67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914400"/>
            <a:ext cx="3048120" cy="44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ро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елезо- входит в состав гемоглоб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лий   -   выводит в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трий -   задержива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в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льций -  участвуют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сфор   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стной и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зубной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тка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350532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1600200"/>
            <a:ext cx="2743200" cy="43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од –    регулиру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желудоч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й жел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тор –  участвует 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гний – участву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синтез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1149480" cy="4457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343400" y="2057400"/>
            <a:ext cx="1023840" cy="44956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848720" y="304920"/>
            <a:ext cx="1117440" cy="4419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91440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входит в состав всех органов и тк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помогает усвоению всех питатель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590920"/>
            <a:ext cx="6553080" cy="825480"/>
          </a:xfrm>
          <a:prstGeom prst="rect">
            <a:avLst/>
          </a:prstGeom>
          <a:solidFill>
            <a:srgbClr val="ffcc66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видуальная норма воды – 40 г на 1 кг вес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3733920"/>
            <a:ext cx="4724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точная норма потребления воды 2…2,5 л. Из общего количества потребляемой жидкости на долю чистой воды приходится около 1 л, она поступает с питьевой водой, напитками. Остальное количество (1,5 л) поступает с пищей и образуется в самом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304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2752560" cy="2014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086600" y="3276720"/>
            <a:ext cx="1838160" cy="2447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361960" cy="1874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3880" y="228600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209680"/>
            <a:ext cx="8305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Рациональное  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это разумное (от лат.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razio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– разум),     правильное пит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990720"/>
            <a:ext cx="6782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циональное питание предполагает соблюдение трех основных принцип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етическое равновес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Режим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1371600"/>
            <a:ext cx="85341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а, усвоенная и переработанная организмом, является источником энергии, необходимой для работы мышц, для поддержания постоянной температуры тела и обновления клеток, из которых состоят ткани и органы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ждый из нас должен получать столько энергии, сколько затрачивает ее в течение дня, т. е. в организме должно соблюдаться энергетическое равновес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случае, когда человек не получает калорий, возмещающих энергетические затраты, он худ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иток энергии с пищей превышает энергозатраты организма, неизбежно отложение ж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5335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Энергетическое равновес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762120"/>
            <a:ext cx="746748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Мы живем не для того, чтобы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а едим для того, чтобы ж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К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2666880" cy="20397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152280" y="3886200"/>
            <a:ext cx="289584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Л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сихическое состояние, характеризующееся мучительными    приступами внезапного    повышения аппет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705720" y="685800"/>
            <a:ext cx="2108160" cy="3048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114800" y="380880"/>
            <a:ext cx="2209680" cy="1905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39625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СТР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ЖИ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3048120" y="4495680"/>
            <a:ext cx="2352600" cy="1771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486400" y="3809880"/>
            <a:ext cx="36576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ОРЕК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ическое  расстройство, выраженное  нежеланием есть,  когда   на   самом   деле  орга-низму    необходимо  питание (отвращение к пище).   Сопровождается  физическим   истощ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ергию, доставляемую организму с пищей, измеряют калор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04812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Калория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( от лат. с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lo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– тепло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единица  измерения энергетической ценности проду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304920"/>
            <a:ext cx="777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я вид  деятельности, количество часов работы и вес тела человека, можно, пользуясь данными, приведенными в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аблице 1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«Энергетические затраты человека в среднем за 1 час на 1 кг веса тела в ккал») , определить его суточные   энергетические затр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828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нергетические затраты ученика (при массе тела 50 к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90720" y="2286000"/>
          <a:ext cx="7086600" cy="4016520"/>
        </p:xfrm>
        <a:graphic>
          <a:graphicData uri="http://schemas.openxmlformats.org/drawingml/2006/table">
            <a:tbl>
              <a:tblPr/>
              <a:tblGrid>
                <a:gridCol w="4078080"/>
                <a:gridCol w="1490760"/>
                <a:gridCol w="1517760"/>
              </a:tblGrid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н 9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,8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пищи   2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,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о  4 +1 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,7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вслух  1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,5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метание пола  0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,4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тье посуды 1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,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стоя 2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х 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,15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 по ровной дороге 2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х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,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а (бег трусцой) 0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х 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за 24 часа (сут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8,5 К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0" y="492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1143000"/>
            <a:ext cx="74674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ют специальные таблицы химического состава основных пищевых продуктов, по которым можно подсчитать калорийность отдельного  блюда, всего  меню, ди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аблице 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водится калорийность (энергетическая ценность) некоторых продуктов (обычно она выражается в килокалориях на  100 г продук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20574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4648320"/>
            <a:ext cx="6705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54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Разнообразие 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590920"/>
            <a:ext cx="754380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ище содержатся все необходимые человеку элементы: белки, жиры, углеводы, минеральные вещества, витамины. Все они одинаково важ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ко в природе нет универсального продукта, в котором содержались бы абсолютно все питательные вещества. Поэтому только разнообразная пища может поддержать здоровье человека, и наоборот, однообразная — привести к функциональным расстройст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37160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довлетворение  потребности  организма  в  определенном  количестве  и  соотношении  пищевых  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2120" y="685800"/>
            <a:ext cx="746748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лучшими соотношениями  питательных веществ являются со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часть бел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часть ж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части углевод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. е. количество граммов жира должно быть таким же, как и количество белка, а углеводов должно быть в четыре раза бо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38080" y="83808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адемией медицинских наук разработаны наборы продуктов для детей школьного возраста, которые  включают все необходимые детям группы проду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441972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а 3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«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екомендуемые среднесуточные наборы продуктов для питания детей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7-11 и 11-18 л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6019920"/>
            <a:ext cx="2438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 слайду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3657600"/>
            <a:ext cx="7467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ем пищи в одни и те же часы способствует более интенсивному отделению желудочного сока; при этом пища, попадая в желудок, сразу же находит в нем определенное количество пищеварительного с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оборот, нерегулярный прием пищи, т. е. беспорядочная еда в разные часы, вредит здоровью и может привести к заболеваниям желудка и кишеч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533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Режим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3520" y="1295280"/>
            <a:ext cx="4876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ределение приемов пищи (   время   приема  пищи   и   ее количество  )    в  течение  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9907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есообразно принимать пищу 3 - 4 раза в день, в определенные ча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3429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комендуется делить дневной рацион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30481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95280" y="838080"/>
            <a:ext cx="7010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трехразовом пита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трак     - 30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д      - примерно 50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жин (не позднее чем за 1,5 -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а до сна)     -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990720"/>
            <a:ext cx="701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ая пища нам нуж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колько нам нужно пищ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гда  нужно принимать пищ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90720" y="1371600"/>
            <a:ext cx="69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3657600"/>
            <a:ext cx="69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990720"/>
            <a:ext cx="640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600200"/>
            <a:ext cx="3733920" cy="4307760"/>
          </a:xfrm>
          <a:prstGeom prst="rect">
            <a:avLst/>
          </a:prstGeom>
          <a:solidFill>
            <a:srgbClr val="ff99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завтрак -25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торой завтрак - 10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бед - 45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ин -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1295280"/>
            <a:ext cx="3200400" cy="394200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трак -30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бед - 40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дник – 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ин -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57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четырехкратном пита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594360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дний прием пищи – за 2 часа до 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2438280"/>
            <a:ext cx="838224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рач диетолог, диетическая медицинская сест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  спeциaлисты в области лeчeбнoгo и профилактического питa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oстaвляют рационы лечебного питa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го  paсчитывaют  объем  суточного  paциoнa  или  отдельных   paзoвыx   порций,  определяют  мeтoды  кулинарной  обработки  пpoдуктoв,  состав  пищи , ee  консистенцию  и  т.д.  Поэтому  они должны  хорошо  знать  сoстaв  основных  пищевых пpoдуктoв, их воздействие  на   здоровый   и   бoльнoй  организм,  биологичекую цeннoсть составляющих компонентов и изменение ее пoд влиянием сочетания   пpoдуктoв   или   особенностей   иx  технологической обработки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495680" y="304920"/>
            <a:ext cx="3714840" cy="18032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380880" y="4572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304920"/>
            <a:ext cx="3124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АЧ   ДИЕТ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ЕТИЧЕСКАЯ МЕДСЕС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66680" y="457200"/>
            <a:ext cx="7010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  </a:t>
            </a: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еде не будь до всякой пищи па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Знай точно время, место и поря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Питайся, если голод ощути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Еда нужна для поддержанья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Зубами пищу измельчай всег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Полезней будет, впрок пойдет 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В  компании приятной честь по ч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Есть следует в уютном чистом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Тому на пользу мой совет пойд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Кто ест и пьет достойно, в свой чер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                                                      </a:t>
            </a:r>
            <a:r>
              <a:rPr b="1" i="1" lang="en-US" sz="2400" spc="-1" strike="noStrike">
                <a:solidFill>
                  <a:srgbClr val="993300"/>
                </a:solidFill>
                <a:latin typeface="Vladimir Script"/>
              </a:rPr>
              <a:t>ИБН   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0880" y="0"/>
            <a:ext cx="685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600200" y="1523880"/>
            <a:ext cx="3538440" cy="15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П А С И Б 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 rot="10800000">
            <a:off x="7887240" y="4511520"/>
            <a:ext cx="445932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 А     В Н И М А Н И 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57600" y="2895480"/>
            <a:ext cx="1752480" cy="8384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5866920" y="1676160"/>
            <a:ext cx="2971800" cy="990360"/>
          </a:xfrm>
          <a:prstGeom prst="wedgeRectCallout">
            <a:avLst>
              <a:gd name="adj1" fmla="val 78361"/>
              <a:gd name="adj2" fmla="val -6202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3809880"/>
            <a:ext cx="2971800" cy="990720"/>
          </a:xfrm>
          <a:prstGeom prst="wedgeRectCallout">
            <a:avLst>
              <a:gd name="adj1" fmla="val -80023"/>
              <a:gd name="adj2" fmla="val -60898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5410080"/>
            <a:ext cx="2971800" cy="990720"/>
          </a:xfrm>
          <a:prstGeom prst="wedgeRectCallout">
            <a:avLst>
              <a:gd name="adj1" fmla="val -162"/>
              <a:gd name="adj2" fmla="val -183495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9880"/>
            <a:ext cx="2971800" cy="990720"/>
          </a:xfrm>
          <a:prstGeom prst="wedgeRectCallout">
            <a:avLst>
              <a:gd name="adj1" fmla="val 71527"/>
              <a:gd name="adj2" fmla="val -59453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2971800" cy="990720"/>
          </a:xfrm>
          <a:prstGeom prst="wedgeRectCallout">
            <a:avLst>
              <a:gd name="adj1" fmla="val 72435"/>
              <a:gd name="adj2" fmla="val 63138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228600"/>
            <a:ext cx="2971800" cy="990720"/>
          </a:xfrm>
          <a:prstGeom prst="wedgeRectCallout">
            <a:avLst>
              <a:gd name="adj1" fmla="val 12124"/>
              <a:gd name="adj2" fmla="val 198236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3048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 О 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80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ческая культура, движение, зака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9051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ожительные эмо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038480"/>
            <a:ext cx="2514600" cy="6426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аз от вредных привы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57913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чная гиги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38862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ологическое сознание и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1981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циональное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52280"/>
            <a:ext cx="2133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лемент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 О 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5943600"/>
            <a:ext cx="2438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6095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 слайду 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7920" y="1447920"/>
            <a:ext cx="723888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 процесс  усвоения   организмом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итательных вещест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необходимых для поддержания жизни, здоровья и работоспособ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30492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ща подвергается в организме сложной переработ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76520" y="1109520"/>
            <a:ext cx="5486400" cy="5099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943600" y="5181480"/>
            <a:ext cx="2133720" cy="609840"/>
          </a:xfrm>
          <a:prstGeom prst="borderCallout1">
            <a:avLst>
              <a:gd name="adj1" fmla="val 18750"/>
              <a:gd name="adj2" fmla="val -8333"/>
              <a:gd name="adj3" fmla="val -645574"/>
              <a:gd name="adj4" fmla="val -58333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2133720"/>
            <a:ext cx="1981440" cy="609480"/>
          </a:xfrm>
          <a:prstGeom prst="borderCallout1">
            <a:avLst>
              <a:gd name="adj1" fmla="val 18750"/>
              <a:gd name="adj2" fmla="val -8333"/>
              <a:gd name="adj3" fmla="val -160939"/>
              <a:gd name="adj4" fmla="val 133092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094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Питательные   веще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2209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л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410080"/>
            <a:ext cx="3652920" cy="609840"/>
          </a:xfrm>
          <a:prstGeom prst="borderCallout1">
            <a:avLst>
              <a:gd name="adj1" fmla="val 18750"/>
              <a:gd name="adj2" fmla="val -8333"/>
              <a:gd name="adj3" fmla="val -688800"/>
              <a:gd name="adj4" fmla="val 102087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4038480"/>
            <a:ext cx="1981080" cy="609840"/>
          </a:xfrm>
          <a:prstGeom prst="borderCallout1">
            <a:avLst>
              <a:gd name="adj1" fmla="val 18750"/>
              <a:gd name="adj2" fmla="val -8333"/>
              <a:gd name="adj3" fmla="val -463282"/>
              <a:gd name="adj4" fmla="val 146314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1828800"/>
            <a:ext cx="1981080" cy="609480"/>
          </a:xfrm>
          <a:prstGeom prst="borderCallout1">
            <a:avLst>
              <a:gd name="adj1" fmla="val 18750"/>
              <a:gd name="adj2" fmla="val -8333"/>
              <a:gd name="adj3" fmla="val -124740"/>
              <a:gd name="adj4" fmla="val -53685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429000"/>
            <a:ext cx="1981440" cy="609480"/>
          </a:xfrm>
          <a:prstGeom prst="borderCallout1">
            <a:avLst>
              <a:gd name="adj1" fmla="val 18750"/>
              <a:gd name="adj2" fmla="val -8333"/>
              <a:gd name="adj3" fmla="val -373439"/>
              <a:gd name="adj4" fmla="val -78606"/>
            </a:avLst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4038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5257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1905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54864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еральные 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17524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152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609480"/>
            <a:ext cx="6553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строительный материал клеток жив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ферменты, влияющие на усвоение други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438280"/>
            <a:ext cx="6933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своему происхождению белки бываю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аститель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рис, соя, горох, бобы, крупа, хлеб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Живот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  мясо,  рыба, молоко, яйца  и 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419720"/>
            <a:ext cx="769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34320" y="304920"/>
            <a:ext cx="1904760" cy="1393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238880" y="1523880"/>
            <a:ext cx="1752840" cy="1314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33520" y="3962520"/>
            <a:ext cx="2209680" cy="21002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248520" y="4419720"/>
            <a:ext cx="2438280" cy="1828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495680" y="4114800"/>
            <a:ext cx="1981440" cy="1486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315200" y="2666880"/>
            <a:ext cx="1619280" cy="22669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362320" y="4724280"/>
            <a:ext cx="2266920" cy="18669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19320" y="1600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источник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85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-main-pic" descr="Картинка 61 из 20191"/>
          <p:cNvPicPr/>
          <p:nvPr/>
        </p:nvPicPr>
        <p:blipFill>
          <a:blip r:embed="rId2"/>
          <a:stretch/>
        </p:blipFill>
        <p:spPr>
          <a:xfrm>
            <a:off x="990720" y="3886200"/>
            <a:ext cx="3133440" cy="2085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952880" y="3809880"/>
            <a:ext cx="2714760" cy="2714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257800" y="304920"/>
            <a:ext cx="2138400" cy="3219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6T04:35:4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