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239-5551-492F-AB66-D9727F2C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676-7D88-44C9-B6ED-D8A3F74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680-EE8D-49B6-979B-95ED0108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C85-43E9-4898-AA5D-26B43C71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614-896A-4BA2-9C35-00C861D6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00A-A3EE-418F-9E05-DBC906F4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D91-D560-4B5B-93AC-84DD38E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B18-77F4-4927-9065-1F1A718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9E2-B71E-498F-BA65-856D1AC5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5C5-F702-4655-ACD5-D6452C4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7ED-70DC-43CF-8611-D82C441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8B4-A699-4C59-9020-DD02D34A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57C1-8670-4117-9069-9146ECF8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1.doc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2.doc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3.doc" TargetMode="External"/><Relationship Id="rId3" Type="http://schemas.openxmlformats.org/officeDocument/2006/relationships/hyperlink" Target="file:///&#1058;&#1072;&#1073;&#1083;&#1080;&#1094;&#1072;%203.doc" TargetMode="External"/><Relationship Id="rId4" Type="http://schemas.openxmlformats.org/officeDocument/2006/relationships/hyperlink" Target="file:///&#1058;&#1072;&#1073;&#1083;&#1080;&#1094;&#1072;%203.doc" TargetMode="External"/><Relationship Id="rId5" Type="http://schemas.openxmlformats.org/officeDocument/2006/relationships/hyperlink" Target="file:///&#1058;&#1072;&#1073;&#1083;&#1080;&#1094;&#1072;%203.doc" TargetMode="Externa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68580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циональное п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94360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4479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67816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ахар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глюкоза, фруктоза, лактоза   -  сладкие на вкус):  в меде,  во фруктах,  молоке, сахаре, конфе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рахма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 в картофеле, муке, крупах, макаронных издел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летчат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пищевые волокна): в отрубях, в  сырых овощах  - капусте, моркови, баклажанах и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629080" cy="2146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1" name="i-main-pic" descr="Картинка 283 из 405"/>
          <p:cNvPicPr/>
          <p:nvPr/>
        </p:nvPicPr>
        <p:blipFill>
          <a:blip r:embed="rId3"/>
          <a:stretch/>
        </p:blipFill>
        <p:spPr>
          <a:xfrm>
            <a:off x="6248520" y="228600"/>
            <a:ext cx="1828800" cy="1508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72200" y="4800600"/>
            <a:ext cx="2057400" cy="151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800600" y="4267080"/>
            <a:ext cx="1770120" cy="2276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467480" y="1676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419720" y="152280"/>
            <a:ext cx="1447560" cy="167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6934320" y="3733920"/>
            <a:ext cx="1942920" cy="1304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572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воды  б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228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6858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сточник энергии, предохраняющий организм от охл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1828800"/>
            <a:ext cx="5410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своему происхождению жиры 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ительные: подсолнечное масло, облепиховое масло, оливковое масло, соевое масло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отные: сливочное масло, свиной жир, куриный жир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057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-main-pic" descr="Картинка 3 из 9207"/>
          <p:cNvPicPr/>
          <p:nvPr/>
        </p:nvPicPr>
        <p:blipFill>
          <a:blip r:embed="rId2"/>
          <a:stretch/>
        </p:blipFill>
        <p:spPr>
          <a:xfrm>
            <a:off x="6324480" y="4876920"/>
            <a:ext cx="1430280" cy="163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47920" y="48006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467480" y="304920"/>
            <a:ext cx="1455840" cy="601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1474560" cy="6019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30492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295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Хорошие» легкие жиры: растительные, молочный жир, рыбий ж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197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отные жиры, особенно свиной, говяжий, бараний - состоят в основном из тугоплавких, «плохих»  жиров. Они тяжело усваиваются организ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467080" cy="1857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1225440" cy="1838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31940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312408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ие жиры необходимо употреблять в пищу даже тем, кто стремится поху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ХОРОШИЕ»  и «ПЛОХИЕ»  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304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219320"/>
            <a:ext cx="5867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повышают сопротивление организма заболе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регулируют работу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124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ок витаминов  -ГИПО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к витаминов -ГИПЕР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876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е отсутствие витаминов - А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8120" y="380880"/>
            <a:ext cx="2722680" cy="2743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15200" y="4267080"/>
            <a:ext cx="1590840" cy="2381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7621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воим физическим свойствам витамины деля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0574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ые в жир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,   D,    E,   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ые в вод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, PP,  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867280"/>
            <a:ext cx="3581280" cy="457200"/>
          </a:xfrm>
          <a:prstGeom prst="wedgeRectCallout">
            <a:avLst>
              <a:gd name="adj1" fmla="val -43518"/>
              <a:gd name="adj2" fmla="val -136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943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  5 класс стр.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173340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629400" y="2743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14600" y="3657600"/>
            <a:ext cx="189540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724280" y="358128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740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ЕРАЛЬНЫЕ 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914400"/>
            <a:ext cx="304812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ро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езо- входит в состав гемогл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ий   -   выводит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трий -   задержив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ьций -  участвую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   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ной и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зубной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35053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1600200"/>
            <a:ext cx="274320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од –    регулиру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желудоч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тор –  участвует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й – участву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синте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149480" cy="4457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1023840" cy="4495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848720" y="304920"/>
            <a:ext cx="1117440" cy="4419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91440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входит в состав всех органов и 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омогает усвоению всех питатель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590920"/>
            <a:ext cx="655308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ая норма воды – 40 г на 1 кг вес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733920"/>
            <a:ext cx="4724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точная норма потребления воды 2…2,5 л. Из общего количества потребляемой жидкости на долю чистой воды приходится около 1 л, она поступает с питьевой водой, напитками. Остальное количество (1,5 л) поступает с пищей и образуется в самом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304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52560" cy="2014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086600" y="3276720"/>
            <a:ext cx="1838160" cy="2447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361960" cy="1874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228600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0968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Рациональное 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это разумное (от лат.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azio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– разум),     правильное пи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990720"/>
            <a:ext cx="6782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циональное питание предполагает соблюдение трех основных принцип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етическое равновес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ежим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1371600"/>
            <a:ext cx="8534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а, усвоенная и переработанная организмом, является источником энергии, необходимой для работы мышц, для поддержания постоянной температуры тела и обновления клеток, из которых состоят ткани и органы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ждый из нас должен получать столько энергии, сколько затрачивает ее в течение дня, т. е. в организме должно соблюдаться энергетическое равновес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случае, когда человек не получает калорий, возмещающих энергетические затраты, он худ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ток энергии с пищей превышает энергозатраты организма, неизбежно отложение ж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Энергетическое равновес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762120"/>
            <a:ext cx="74674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Мы живем не для того, чтобы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а едим для того, чтобы ж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666880" cy="2039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52280" y="3886200"/>
            <a:ext cx="289584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Л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ическое состояние, характеризующееся мучительными    приступами внезапного    повышения аппет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705720" y="685800"/>
            <a:ext cx="2108160" cy="3048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2209680" cy="1905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9625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Р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ЖИ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048120" y="4495680"/>
            <a:ext cx="2352600" cy="1771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86400" y="3809880"/>
            <a:ext cx="36576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ОР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ическое  расстройство, выраженное  нежеланием есть,  когда   на   самом   деле  орга-низму    необходимо  питание (отвращение к пище).   Сопровождается  физическим   истощ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ергию, доставляемую организму с пищей, измеряют калор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04812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алория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( от лат. 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o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– тепло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единица  измерения энергетической ценности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30492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я вид  деятельности, количество часов работы и вес тела человека, можно, пользуясь данными, приведенными в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блице 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«Энергетические затраты человека в среднем за 1 час на 1 кг веса тела в ккал») , определить его суточные   энергетические затр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828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етические затраты ученика (при массе тела 50 к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0720" y="2286000"/>
          <a:ext cx="7086600" cy="4016520"/>
        </p:xfrm>
        <a:graphic>
          <a:graphicData uri="http://schemas.openxmlformats.org/drawingml/2006/table">
            <a:tbl>
              <a:tblPr/>
              <a:tblGrid>
                <a:gridCol w="4078080"/>
                <a:gridCol w="1490760"/>
                <a:gridCol w="151776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 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8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пищи   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  4 +1 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7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вслух  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етание пола  0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тье посуды 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тоя 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х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1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 по ровной дороге 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(бег трусцой) 0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х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за 24 часа (сут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,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0" y="492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1143000"/>
            <a:ext cx="7467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ют специальные таблицы химического состава основных пищевых продуктов, по которым можно подсчитать калорийность отдельного  блюда, всего  меню, ди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блице 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водится калорийность (энергетическая ценность) некоторых продуктов (обычно она выражается в килокалориях на  100 г продук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20574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6483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54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азнообразие 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90920"/>
            <a:ext cx="754380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ище содержатся все необходимые человеку элементы: белки, жиры, углеводы, минеральные вещества, витамины. Все они одинаково важ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ко в природе нет универсального продукта, в котором содержались бы абсолютно все питательные вещества. Поэтому только разнообразная пища может поддержать здоровье человека, и наоборот, однообразная — привести к функциональным расстрой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37160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овлетворение  потребности  организма  в  определенном  количестве  и  соотношении  пищевых  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685800"/>
            <a:ext cx="74674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лучшими соотношениями  питательных веществ являются со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часть бел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часть ж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части углевод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. е. количество граммов жира должно быть таким же, как и количество белка, а углеводов должно быть в четыре раза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8380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адемией медицинских наук разработаны наборы продуктов для детей школьного возраста, которые  включают все необходимые детям группы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4197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3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«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екомендуемые среднесуточные наборы продуктов для питания детей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7-11 и 11-18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601992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 слайду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3657600"/>
            <a:ext cx="7467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ем пищи в одни и те же часы способствует более интенсивному отделению желудочного сока; при этом пища, попадая в желудок, сразу же находит в нем определенное количество пищеварительного с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оборот, нерегулярный прием пищи, т. е. беспорядочная еда в разные часы, вредит здоровью и может привести к заболеваниям желудка и кише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33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ежим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1295280"/>
            <a:ext cx="4876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приемов пищи (   время   приема  пищи   и   ее количество  )    в  течение  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990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сообразно принимать пищу 3 - 4 раза в день, в определенные ч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429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омендуется делить дневной рацион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0481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95280" y="838080"/>
            <a:ext cx="7010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трехразовом пи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трак     - 3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д      - примерно 5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жин (не позднее чем за 1,5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а до сна)     -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99072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ая пища нам нуж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олько нам нужно пищ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 нужно принимать пищ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137160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65760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9907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3733920" cy="4307760"/>
          </a:xfrm>
          <a:prstGeom prst="rect">
            <a:avLst/>
          </a:prstGeom>
          <a:solidFill>
            <a:srgbClr val="ff99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завтрак -2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торой завтрак - 1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бед - 4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295280"/>
            <a:ext cx="3200400" cy="3942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-3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бед - 4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дник – 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57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четырехкратном пи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5943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ний прием пищи – за 2 часа д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2438280"/>
            <a:ext cx="838224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рач диетолог, диетическая медицинская сест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  спeциaлисты в области лeчeбнoгo и профилактического питa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oстaвляют рационы лечебного питa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го  paсчитывaют  объем  суточного  paциoнa  или  отдельных   paзoвыx   порций,  определяют  мeтoды  кулинарной  обработки  пpoдуктoв,  состав  пищи , ee  консистенцию  и  т.д.  Поэтому  они должны  хорошо  знать  сoстaв  основных  пищевых пpoдуктoв, их воздействие  на   здоровый   и   бoльнoй  организм,  биологичекую цeннoсть составляющих компонентов и изменение ее пoд влиянием сочетания   пpoдуктoв   или   особенностей   иx  технологической обработки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3714840" cy="1803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380880" y="4572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0492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Ч   ДИ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ЕТИЧЕСКАЯ МЕД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66680" y="457200"/>
            <a:ext cx="7010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  </a:t>
            </a: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де не будь до всякой пищи п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Знай точно время, место и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Питайся, если голод ощути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да нужна для поддержанья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Зубами пищу измельчай всег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Полезней будет, впрок пойдет 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В  компании приятной честь по ч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сть следует в уютном чисто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Тому на пользу мой совет пойд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Кто ест и пьет достойно, в свой ч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                                                      </a:t>
            </a: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ИБН   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600200" y="1523880"/>
            <a:ext cx="353844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 А С И Б 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 rot="10800000">
            <a:off x="7887240" y="4511520"/>
            <a:ext cx="44593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А     В Н И М А Н И 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57600" y="2895480"/>
            <a:ext cx="1752480" cy="838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866920" y="1676160"/>
            <a:ext cx="2971800" cy="990360"/>
          </a:xfrm>
          <a:prstGeom prst="wedgeRectCallout">
            <a:avLst>
              <a:gd name="adj1" fmla="val 78361"/>
              <a:gd name="adj2" fmla="val -6202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3809880"/>
            <a:ext cx="2971800" cy="990720"/>
          </a:xfrm>
          <a:prstGeom prst="wedgeRectCallout">
            <a:avLst>
              <a:gd name="adj1" fmla="val -80023"/>
              <a:gd name="adj2" fmla="val -6089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5410080"/>
            <a:ext cx="2971800" cy="990720"/>
          </a:xfrm>
          <a:prstGeom prst="wedgeRectCallout">
            <a:avLst>
              <a:gd name="adj1" fmla="val -162"/>
              <a:gd name="adj2" fmla="val -183495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9880"/>
            <a:ext cx="2971800" cy="990720"/>
          </a:xfrm>
          <a:prstGeom prst="wedgeRectCallout">
            <a:avLst>
              <a:gd name="adj1" fmla="val 71527"/>
              <a:gd name="adj2" fmla="val -5945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2971800" cy="990720"/>
          </a:xfrm>
          <a:prstGeom prst="wedgeRectCallout">
            <a:avLst>
              <a:gd name="adj1" fmla="val 72435"/>
              <a:gd name="adj2" fmla="val 6313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28600"/>
            <a:ext cx="2971800" cy="990720"/>
          </a:xfrm>
          <a:prstGeom prst="wedgeRectCallout">
            <a:avLst>
              <a:gd name="adj1" fmla="val 12124"/>
              <a:gd name="adj2" fmla="val 19823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048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 О 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 культура, движение, зака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905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ительные э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038480"/>
            <a:ext cx="251460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791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ая ги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8862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ологическое сознание и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1981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циональн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52280"/>
            <a:ext cx="2133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 О 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594360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 слайду 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1447920"/>
            <a:ext cx="723888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 процесс  усвоения   организмом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итательных веще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обходимых для поддержания жизни, здоровья и работоспособ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04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ща подвергается в организме сложной переработ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1109520"/>
            <a:ext cx="5486400" cy="5099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43600" y="5181480"/>
            <a:ext cx="2133720" cy="609840"/>
          </a:xfrm>
          <a:prstGeom prst="borderCallout1">
            <a:avLst>
              <a:gd name="adj1" fmla="val 18750"/>
              <a:gd name="adj2" fmla="val -8333"/>
              <a:gd name="adj3" fmla="val -645574"/>
              <a:gd name="adj4" fmla="val -58333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133720"/>
            <a:ext cx="1981440" cy="609480"/>
          </a:xfrm>
          <a:prstGeom prst="borderCallout1">
            <a:avLst>
              <a:gd name="adj1" fmla="val 18750"/>
              <a:gd name="adj2" fmla="val -8333"/>
              <a:gd name="adj3" fmla="val -160939"/>
              <a:gd name="adj4" fmla="val 133092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Питательные   ве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209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10080"/>
            <a:ext cx="3652920" cy="609840"/>
          </a:xfrm>
          <a:prstGeom prst="borderCallout1">
            <a:avLst>
              <a:gd name="adj1" fmla="val 18750"/>
              <a:gd name="adj2" fmla="val -8333"/>
              <a:gd name="adj3" fmla="val -688800"/>
              <a:gd name="adj4" fmla="val 102087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4038480"/>
            <a:ext cx="1981080" cy="609840"/>
          </a:xfrm>
          <a:prstGeom prst="borderCallout1">
            <a:avLst>
              <a:gd name="adj1" fmla="val 18750"/>
              <a:gd name="adj2" fmla="val -8333"/>
              <a:gd name="adj3" fmla="val -463282"/>
              <a:gd name="adj4" fmla="val 146314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1828800"/>
            <a:ext cx="1981080" cy="609480"/>
          </a:xfrm>
          <a:prstGeom prst="borderCallout1">
            <a:avLst>
              <a:gd name="adj1" fmla="val 18750"/>
              <a:gd name="adj2" fmla="val -8333"/>
              <a:gd name="adj3" fmla="val -124740"/>
              <a:gd name="adj4" fmla="val -53685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429000"/>
            <a:ext cx="1981440" cy="609480"/>
          </a:xfrm>
          <a:prstGeom prst="borderCallout1">
            <a:avLst>
              <a:gd name="adj1" fmla="val 18750"/>
              <a:gd name="adj2" fmla="val -8333"/>
              <a:gd name="adj3" fmla="val -373439"/>
              <a:gd name="adj4" fmla="val -78606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038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5257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1905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5486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еральные 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752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52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609480"/>
            <a:ext cx="6553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троительный материал клеток жи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ерменты, влияющие на усвоение друг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438280"/>
            <a:ext cx="6933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своему происхождению белки быв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ститель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рис, соя, горох, бобы, крупа, хлеб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Живо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 мясо,  рыба, молоко, яйца  и 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4197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904760" cy="1393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238880" y="1523880"/>
            <a:ext cx="1752840" cy="1314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2209680" cy="2100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48520" y="4419720"/>
            <a:ext cx="2438280" cy="1828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95680" y="4114800"/>
            <a:ext cx="1981440" cy="1486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315200" y="2666880"/>
            <a:ext cx="1619280" cy="2266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362320" y="4724280"/>
            <a:ext cx="2266920" cy="18669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9320" y="1600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85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-main-pic" descr="Картинка 61 из 20191"/>
          <p:cNvPicPr/>
          <p:nvPr/>
        </p:nvPicPr>
        <p:blipFill>
          <a:blip r:embed="rId2"/>
          <a:stretch/>
        </p:blipFill>
        <p:spPr>
          <a:xfrm>
            <a:off x="990720" y="3886200"/>
            <a:ext cx="3133440" cy="208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2714760" cy="27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257800" y="304920"/>
            <a:ext cx="2138400" cy="3219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6T04:35:4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