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F9E8-168A-46DD-A1C6-810B3FCDC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F2AA-AAB6-49C2-8CF4-820E5DA9A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8010-ABFB-486C-BCD7-A14195173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B50A-1719-4485-ABEA-38E2552E9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D326-D2A1-4824-B549-EEE8E4B44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8753-6564-4F58-93B3-771AC47B3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22F1-2C48-4850-96FD-0544E1188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D71E-DF95-4E95-A856-388D6C2A7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FEE4-5F5B-43D4-BC4E-81C88E6E8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E986-93F2-458B-B229-396C35D4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9323-C1F7-465D-A51D-BDA48CFE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9F82-C026-4D4E-A612-832407DF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183EE-187A-44B1-86E0-962AD5C8B19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6DE28-B8CD-42EB-8A7C-689F63F5D0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Профилактика ВИЧ/СПИ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рофилактические програм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I Central Asia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A99F-ABF6-438C-AA0C-C92605BCE1F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Что такое профилактика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ffffff"/>
                </a:solidFill>
                <a:latin typeface="Arial"/>
              </a:rPr>
              <a:t>Система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мер по предупреждению болезней, сохранению здоровья и продлению жизни челове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I Central Asia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CB0B-A3FF-4A08-A660-C69345865A0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Задача профилак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Убедить людей добровольно и на длительный срок изменить свое поведение, сделав его более безопасны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I Central Asia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CBAF-3033-432D-AE96-0CBF2E0F045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Принцип  профилак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редоставление  людям достаточно широкого  выбора безопасного поведе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I Central Asia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E7D3-34D3-4C5F-B8F5-70218427DA0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Что делат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09392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А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оздерживаться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Быть верны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Использовать презервати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I Central Asia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4FF7-2A60-4F98-A3DE-34F352FDF98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340000" y="2852640"/>
            <a:ext cx="2736720" cy="1800360"/>
          </a:xfrm>
          <a:prstGeom prst="ellipse">
            <a:avLst/>
          </a:prstGeom>
          <a:solidFill>
            <a:srgbClr val="33cc3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Использование презервати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43640" y="4724280"/>
            <a:ext cx="2556000" cy="1152720"/>
          </a:xfrm>
          <a:prstGeom prst="ellipse">
            <a:avLst/>
          </a:prstGeom>
          <a:solidFill>
            <a:srgbClr val="00cc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Осведомлен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236000" y="3141720"/>
            <a:ext cx="1765080" cy="1295280"/>
          </a:xfrm>
          <a:prstGeom prst="ellipse">
            <a:avLst/>
          </a:prstGeom>
          <a:solidFill>
            <a:srgbClr val="00cc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Понимание путей  передач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77080" y="1773360"/>
            <a:ext cx="2135160" cy="1251000"/>
          </a:xfrm>
          <a:prstGeom prst="ellipse">
            <a:avLst/>
          </a:prstGeom>
          <a:solidFill>
            <a:srgbClr val="00cc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Оценка серьез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4869000"/>
            <a:ext cx="1873080" cy="1368360"/>
          </a:xfrm>
          <a:prstGeom prst="ellipse">
            <a:avLst/>
          </a:prstGeom>
          <a:solidFill>
            <a:srgbClr val="00cc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Способность принимать реш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2360" y="5013360"/>
            <a:ext cx="2519280" cy="1295280"/>
          </a:xfrm>
          <a:prstGeom prst="ellipse">
            <a:avLst/>
          </a:prstGeom>
          <a:solidFill>
            <a:srgbClr val="00cc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Arial"/>
              </a:rPr>
              <a:t>Самоэффектив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59280" y="1341360"/>
            <a:ext cx="2016000" cy="115272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9900"/>
              </a:gs>
            </a:gsLst>
            <a:lin ang="5400000"/>
          </a:gra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Социальная поддерж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08000" y="3141720"/>
            <a:ext cx="576360" cy="216000"/>
          </a:xfrm>
          <a:prstGeom prst="line">
            <a:avLst/>
          </a:prstGeom>
          <a:ln w="255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692360" y="4005000"/>
            <a:ext cx="718920" cy="401400"/>
          </a:xfrm>
          <a:prstGeom prst="line">
            <a:avLst/>
          </a:prstGeom>
          <a:ln w="255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916360" y="4581360"/>
            <a:ext cx="215640" cy="457200"/>
          </a:xfrm>
          <a:prstGeom prst="line">
            <a:avLst/>
          </a:prstGeom>
          <a:ln w="255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7956720" y="4437000"/>
            <a:ext cx="0" cy="287280"/>
          </a:xfrm>
          <a:prstGeom prst="line">
            <a:avLst/>
          </a:prstGeom>
          <a:ln w="255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6443640" y="2565360"/>
            <a:ext cx="471600" cy="647640"/>
          </a:xfrm>
          <a:prstGeom prst="line">
            <a:avLst/>
          </a:prstGeom>
          <a:ln w="255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40000" y="2349360"/>
            <a:ext cx="684360" cy="630360"/>
          </a:xfrm>
          <a:prstGeom prst="line">
            <a:avLst/>
          </a:prstGeom>
          <a:ln w="255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24360" y="2492280"/>
            <a:ext cx="0" cy="360360"/>
          </a:xfrm>
          <a:prstGeom prst="line">
            <a:avLst/>
          </a:prstGeom>
          <a:ln w="255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4427280" y="4508640"/>
            <a:ext cx="360360" cy="504720"/>
          </a:xfrm>
          <a:prstGeom prst="line">
            <a:avLst/>
          </a:prstGeom>
          <a:ln w="255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5076720" y="3789360"/>
            <a:ext cx="216000" cy="0"/>
          </a:xfrm>
          <a:prstGeom prst="line">
            <a:avLst/>
          </a:prstGeom>
          <a:ln w="255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7092720" y="3789360"/>
            <a:ext cx="144360" cy="0"/>
          </a:xfrm>
          <a:prstGeom prst="line">
            <a:avLst/>
          </a:prstGeom>
          <a:ln w="255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00000" y="1197000"/>
            <a:ext cx="2087640" cy="1224000"/>
          </a:xfrm>
          <a:prstGeom prst="ellipse">
            <a:avLst/>
          </a:prstGeom>
          <a:solidFill>
            <a:srgbClr val="ff990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Доступность по це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0920" y="2421000"/>
            <a:ext cx="1700280" cy="1295280"/>
          </a:xfrm>
          <a:prstGeom prst="ellipse">
            <a:avLst/>
          </a:prstGeom>
          <a:solidFill>
            <a:srgbClr val="ff990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Наличие в продаж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4005360"/>
            <a:ext cx="1770120" cy="1442880"/>
          </a:xfrm>
          <a:prstGeom prst="ellipse">
            <a:avLst/>
          </a:prstGeom>
          <a:solidFill>
            <a:srgbClr val="ff990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Мар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7956720" y="2997000"/>
            <a:ext cx="0" cy="144360"/>
          </a:xfrm>
          <a:prstGeom prst="line">
            <a:avLst/>
          </a:prstGeom>
          <a:ln w="255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292720" y="3213000"/>
            <a:ext cx="1800360" cy="1368360"/>
          </a:xfrm>
          <a:prstGeom prst="ellipse">
            <a:avLst/>
          </a:prstGeom>
          <a:solidFill>
            <a:srgbClr val="ff99cc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33"/>
                </a:solidFill>
                <a:latin typeface="Arial"/>
              </a:rPr>
              <a:t>Восприятие собственного ри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260280"/>
            <a:ext cx="6265800" cy="72072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зменение пове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I Central Asia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3AA3-E91B-45A9-8FE8-7CEECF9240D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50920" y="4508640"/>
            <a:ext cx="2233440" cy="86508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 задумыв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8000" y="3645000"/>
            <a:ext cx="2232360" cy="86508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думыв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04000" y="1052640"/>
            <a:ext cx="2160720" cy="86508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стойчи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219640" y="1916280"/>
            <a:ext cx="2232000" cy="86508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ейству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64000" y="2781360"/>
            <a:ext cx="2232000" cy="86508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отов действо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404640"/>
            <a:ext cx="6553080" cy="72072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зменение рискованного пове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11280" y="5589720"/>
            <a:ext cx="1655640" cy="11239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влеч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ним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56000" y="5300640"/>
            <a:ext cx="1655640" cy="11239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достав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формаци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427640" y="4797360"/>
            <a:ext cx="1655640" cy="11239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вит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вы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227640" y="4005360"/>
            <a:ext cx="1656000" cy="11239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исте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ддерж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852640"/>
            <a:ext cx="1656000" cy="11239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ув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орд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I Central Asia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2D18-F05C-4C27-8A16-C841B69B233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Этапы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507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.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Незнание и страх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I.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тветственное освещение и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росвещ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II.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Научные и политические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развит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I Central Asia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872C-4674-4F02-B35F-D2736CD8A53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4T13:51:06Z</dcterms:created>
  <dc:creator>Galina Li, Peer Education Manager, PSI Central Asia</dc:creator>
  <dc:description/>
  <dc:language>en-US</dc:language>
  <cp:lastModifiedBy>Сергей</cp:lastModifiedBy>
  <dcterms:modified xsi:type="dcterms:W3CDTF">2006-01-31T14:56:30Z</dcterms:modified>
  <cp:revision>46</cp:revision>
  <dc:subject/>
  <dc:title>PSI </dc:title>
</cp:coreProperties>
</file>