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384E9-A6D1-4068-B4C6-555BE493E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27BA2-4B93-47FC-A9B9-F819143EA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093F3-C886-4C95-94E0-2EF14F550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7E290-E1B3-4D06-B0C9-3F971BA0E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64BB6-B330-46AB-BC70-5F5A9042D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D3F7E-DDEC-44EB-B1A5-A8A0297F9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696DF-49CF-4102-98A2-64169B330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D4D4F-799A-497B-B6F3-234127EF7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BB766-9942-4A47-9B36-862A100B3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8182B-8CB3-4C8B-A941-560D7B0B1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AA4A6-4785-43E8-BB6E-1F8EA7CD8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DF843-A4DB-47E2-B6EB-1BBCF5C6B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311C2-1D22-455D-AA11-2D6766FBA71F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2D1ED-D440-4040-B652-D310138FFBE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Профилактика ВИЧ/СПИ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2556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Профилактические програм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SI Central Asia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07E69-5CA2-444E-AAA8-95D60DDB9B2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Что такое профилактика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?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2556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400" spc="-1" strike="noStrike">
                <a:solidFill>
                  <a:srgbClr val="ffffff"/>
                </a:solidFill>
                <a:latin typeface="Arial"/>
              </a:rPr>
              <a:t>Система 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мер по предупреждению болезней, сохранению здоровья и продлению жизни человек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SI Central Asia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14906-A15B-4908-96FE-260F0F88957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Задача профилакти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2556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Убедить людей добровольно и на длительный срок изменить свое поведение, сделав его более безопасным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SI Central Asia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15F86-E3C8-41A4-8A63-B5C3D411202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Принцип  профилакти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2556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Предоставление  людям достаточно широкого  выбора безопасного поведения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SI Central Asia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13DB4-7CAD-4426-8711-6EE391C4D4D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Что делать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093920"/>
          </a:xfrm>
          <a:prstGeom prst="rect">
            <a:avLst/>
          </a:prstGeom>
          <a:noFill/>
          <a:ln w="2556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00"/>
                </a:solidFill>
                <a:latin typeface="Arial"/>
              </a:rPr>
              <a:t>А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Воздерживаться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Быть верны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Использовать презервати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SI Central Asia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0FBA8-3B6B-4F54-A40C-6214BD6D045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340000" y="2852640"/>
            <a:ext cx="2736720" cy="1800360"/>
          </a:xfrm>
          <a:prstGeom prst="ellipse">
            <a:avLst/>
          </a:prstGeom>
          <a:solidFill>
            <a:srgbClr val="33cc3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Использование презервати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43640" y="4724280"/>
            <a:ext cx="2556000" cy="1152720"/>
          </a:xfrm>
          <a:prstGeom prst="ellipse">
            <a:avLst/>
          </a:prstGeom>
          <a:solidFill>
            <a:srgbClr val="00ccff"/>
          </a:solidFill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Arial"/>
              </a:rPr>
              <a:t>Осведомленн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236000" y="3141720"/>
            <a:ext cx="1765080" cy="1295280"/>
          </a:xfrm>
          <a:prstGeom prst="ellipse">
            <a:avLst/>
          </a:prstGeom>
          <a:solidFill>
            <a:srgbClr val="00ccff"/>
          </a:solidFill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Arial"/>
              </a:rPr>
              <a:t>Понимание путей  передач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77080" y="1773360"/>
            <a:ext cx="2135160" cy="1251000"/>
          </a:xfrm>
          <a:prstGeom prst="ellipse">
            <a:avLst/>
          </a:prstGeom>
          <a:solidFill>
            <a:srgbClr val="00ccff"/>
          </a:solidFill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Arial"/>
              </a:rPr>
              <a:t>Оценка серьез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27640" y="4869000"/>
            <a:ext cx="1873080" cy="1368360"/>
          </a:xfrm>
          <a:prstGeom prst="ellipse">
            <a:avLst/>
          </a:prstGeom>
          <a:solidFill>
            <a:srgbClr val="00ccff"/>
          </a:solidFill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Arial"/>
              </a:rPr>
              <a:t>Способность принимать реш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2360" y="5013360"/>
            <a:ext cx="2519280" cy="1295280"/>
          </a:xfrm>
          <a:prstGeom prst="ellipse">
            <a:avLst/>
          </a:prstGeom>
          <a:solidFill>
            <a:srgbClr val="00ccff"/>
          </a:solidFill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Arial"/>
              </a:rPr>
              <a:t>Самоэффектив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59280" y="1341360"/>
            <a:ext cx="2016000" cy="115272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ff9900"/>
              </a:gs>
            </a:gsLst>
            <a:lin ang="5400000"/>
          </a:gradFill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Arial"/>
              </a:rPr>
              <a:t>Социальная поддерж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908000" y="3141720"/>
            <a:ext cx="576360" cy="216000"/>
          </a:xfrm>
          <a:prstGeom prst="line">
            <a:avLst/>
          </a:prstGeom>
          <a:ln w="2556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1692360" y="4005000"/>
            <a:ext cx="718920" cy="401400"/>
          </a:xfrm>
          <a:prstGeom prst="line">
            <a:avLst/>
          </a:prstGeom>
          <a:ln w="2556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2916360" y="4581360"/>
            <a:ext cx="215640" cy="457200"/>
          </a:xfrm>
          <a:prstGeom prst="line">
            <a:avLst/>
          </a:prstGeom>
          <a:ln w="2556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7956720" y="4437000"/>
            <a:ext cx="0" cy="287280"/>
          </a:xfrm>
          <a:prstGeom prst="line">
            <a:avLst/>
          </a:prstGeom>
          <a:ln w="2556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6443640" y="2565360"/>
            <a:ext cx="471600" cy="647640"/>
          </a:xfrm>
          <a:prstGeom prst="line">
            <a:avLst/>
          </a:prstGeom>
          <a:ln w="2556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340000" y="2349360"/>
            <a:ext cx="684360" cy="630360"/>
          </a:xfrm>
          <a:prstGeom prst="line">
            <a:avLst/>
          </a:prstGeom>
          <a:ln w="2556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24360" y="2492280"/>
            <a:ext cx="0" cy="360360"/>
          </a:xfrm>
          <a:prstGeom prst="line">
            <a:avLst/>
          </a:prstGeom>
          <a:ln w="2556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 flipV="1">
            <a:off x="4427280" y="4508640"/>
            <a:ext cx="360360" cy="504720"/>
          </a:xfrm>
          <a:prstGeom prst="line">
            <a:avLst/>
          </a:prstGeom>
          <a:ln w="2556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5076720" y="3789360"/>
            <a:ext cx="216000" cy="0"/>
          </a:xfrm>
          <a:prstGeom prst="line">
            <a:avLst/>
          </a:prstGeom>
          <a:ln w="2556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7092720" y="3789360"/>
            <a:ext cx="144360" cy="0"/>
          </a:xfrm>
          <a:prstGeom prst="line">
            <a:avLst/>
          </a:prstGeom>
          <a:ln w="2556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900000" y="1197000"/>
            <a:ext cx="2087640" cy="1224000"/>
          </a:xfrm>
          <a:prstGeom prst="ellipse">
            <a:avLst/>
          </a:prstGeom>
          <a:solidFill>
            <a:srgbClr val="ff9900"/>
          </a:solidFill>
          <a:ln w="255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Доступность по цен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50920" y="2421000"/>
            <a:ext cx="1700280" cy="1295280"/>
          </a:xfrm>
          <a:prstGeom prst="ellipse">
            <a:avLst/>
          </a:prstGeom>
          <a:solidFill>
            <a:srgbClr val="ff9900"/>
          </a:solidFill>
          <a:ln w="255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Наличие в продаж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0" y="4005360"/>
            <a:ext cx="1770120" cy="1442880"/>
          </a:xfrm>
          <a:prstGeom prst="ellipse">
            <a:avLst/>
          </a:prstGeom>
          <a:solidFill>
            <a:srgbClr val="ff9900"/>
          </a:solidFill>
          <a:ln w="255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Мар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7956720" y="2997000"/>
            <a:ext cx="0" cy="144360"/>
          </a:xfrm>
          <a:prstGeom prst="line">
            <a:avLst/>
          </a:prstGeom>
          <a:ln w="2556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292720" y="3213000"/>
            <a:ext cx="1800360" cy="1368360"/>
          </a:xfrm>
          <a:prstGeom prst="ellipse">
            <a:avLst/>
          </a:prstGeom>
          <a:solidFill>
            <a:srgbClr val="ff99cc"/>
          </a:solidFill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0033"/>
                </a:solidFill>
                <a:latin typeface="Arial"/>
              </a:rPr>
              <a:t>Восприятие собственного рис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95280" y="260280"/>
            <a:ext cx="6265800" cy="720720"/>
          </a:xfrm>
          <a:prstGeom prst="rect">
            <a:avLst/>
          </a:pr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Изменение повед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SI Central Asia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05D05-D0FF-4F4E-BD51-18AF20E3121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3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6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50920" y="4508640"/>
            <a:ext cx="2233440" cy="865080"/>
          </a:xfrm>
          <a:prstGeom prst="rect">
            <a:avLst/>
          </a:pr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е задумывает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8000" y="3645000"/>
            <a:ext cx="2232360" cy="865080"/>
          </a:xfrm>
          <a:prstGeom prst="rect">
            <a:avLst/>
          </a:pr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Задумывает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804000" y="1052640"/>
            <a:ext cx="2160720" cy="865080"/>
          </a:xfrm>
          <a:prstGeom prst="rect">
            <a:avLst/>
          </a:pr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Устойчив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результа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219640" y="1916280"/>
            <a:ext cx="2232000" cy="865080"/>
          </a:xfrm>
          <a:prstGeom prst="rect">
            <a:avLst/>
          </a:pr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ействуе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564000" y="2781360"/>
            <a:ext cx="2232000" cy="865080"/>
          </a:xfrm>
          <a:prstGeom prst="rect">
            <a:avLst/>
          </a:pr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Готов действова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0" y="404640"/>
            <a:ext cx="6553080" cy="720720"/>
          </a:xfrm>
          <a:prstGeom prst="rect">
            <a:avLst/>
          </a:pr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Изменение рискованного повед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11280" y="5589720"/>
            <a:ext cx="1655640" cy="112392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0000ff"/>
              </a:gs>
            </a:gsLst>
            <a:lin ang="5400000"/>
          </a:gra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ивлеч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ним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556000" y="5300640"/>
            <a:ext cx="1655640" cy="112392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0000ff"/>
              </a:gs>
            </a:gsLst>
            <a:lin ang="5400000"/>
          </a:gra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едостави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нформацию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427640" y="4797360"/>
            <a:ext cx="1655640" cy="112392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0000ff"/>
              </a:gs>
            </a:gsLst>
            <a:lin ang="5400000"/>
          </a:gra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азвит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вы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227640" y="4005360"/>
            <a:ext cx="1656000" cy="112392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0000ff"/>
              </a:gs>
            </a:gsLst>
            <a:lin ang="5400000"/>
          </a:gra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истем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ддерж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852640"/>
            <a:ext cx="1656000" cy="112392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0000ff"/>
              </a:gs>
            </a:gsLst>
            <a:lin ang="5400000"/>
          </a:gra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Чувств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ордос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SI Central Asia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87AAE-5FED-42EA-896D-7729F43A403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Этапы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5076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I.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Незнание и страх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II.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Ответственное освещение и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просвещ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III.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Научные и политические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развит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SI Central Asia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2A8D7-E78B-4627-90E2-EEF820E9484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24T13:51:06Z</dcterms:created>
  <dc:creator>Galina Li, Peer Education Manager, PSI Central Asia</dc:creator>
  <dc:description/>
  <dc:language>en-US</dc:language>
  <cp:lastModifiedBy>Сергей</cp:lastModifiedBy>
  <dcterms:modified xsi:type="dcterms:W3CDTF">2006-01-31T14:56:30Z</dcterms:modified>
  <cp:revision>46</cp:revision>
  <dc:subject/>
  <dc:title>PSI </dc:title>
</cp:coreProperties>
</file>