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7DA-7532-407E-8A11-8ABD5666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59E-DEFA-478B-A30F-D43DE7F5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700-B078-41AC-985B-1C4F1DFB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74E-012C-4C75-8D5B-618ED855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1CE-99C5-4114-ABE7-DBECBE22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4AC-B844-41B2-B830-366E490D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FF0-0098-48D7-BDF7-772C9A55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C74-3DE9-4685-978E-5791CE88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511-3EFF-4D81-B6D1-766136A7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209-F8FC-400C-93AB-34E90013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49F-D271-4A32-91B5-6FA64F5E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C9D-A4F7-4D0C-B64D-B029D0CC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BD31-75D9-4E01-AC46-6AB5599843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8874-01E4-4281-9121-9D04628B2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рофилактика ВИЧ/СП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филактические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917-5B7F-42B1-98AC-E3A9EC33B1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Что такое профилактика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Arial"/>
              </a:rPr>
              <a:t>Система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мер по предупреждению болезней, сохранению здоровья и продлению жизни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30D-6A84-4F03-AC99-08DAE98F0A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Задача профилак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бедить людей добровольно и на длительный срок изменить свое поведение, сделав его более безопас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880-70BC-470A-80F4-EF9E2FF35A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ринцип  профилак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едоставление  людям достаточно широкого  выбора безопасного повед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436-BEA8-4CB4-A548-06671740E0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Что 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093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держиватьс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ыть вер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ользовать презервати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70A-DF11-4726-A926-AC122E2676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40000" y="2852640"/>
            <a:ext cx="2736720" cy="180036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Использование презерва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4724280"/>
            <a:ext cx="2556000" cy="115272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Осведомл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6000" y="3141720"/>
            <a:ext cx="1765080" cy="129528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Понимание путей  пере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77080" y="1773360"/>
            <a:ext cx="2135160" cy="125100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Оценка серьез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4869000"/>
            <a:ext cx="1873080" cy="136836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Способность принимать 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5013360"/>
            <a:ext cx="2519280" cy="129528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Самоэффе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1341360"/>
            <a:ext cx="2016000" cy="115272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Социальная поддерж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3141720"/>
            <a:ext cx="576360" cy="2160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92360" y="4005000"/>
            <a:ext cx="718920" cy="4014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916360" y="4581360"/>
            <a:ext cx="215640" cy="45720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956720" y="4437000"/>
            <a:ext cx="0" cy="28728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443640" y="2565360"/>
            <a:ext cx="471600" cy="64764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2349360"/>
            <a:ext cx="684360" cy="63036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2492280"/>
            <a:ext cx="0" cy="36036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427280" y="4508640"/>
            <a:ext cx="360360" cy="50472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076720" y="3789360"/>
            <a:ext cx="21600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092720" y="3789360"/>
            <a:ext cx="144360" cy="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197000"/>
            <a:ext cx="2087640" cy="122400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Доступность по ц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421000"/>
            <a:ext cx="1700280" cy="12952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Наличие в прода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005360"/>
            <a:ext cx="1770120" cy="144288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М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956720" y="2997000"/>
            <a:ext cx="0" cy="14436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3213000"/>
            <a:ext cx="1800360" cy="1368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Arial"/>
              </a:rPr>
              <a:t>Восприятие собственного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60280"/>
            <a:ext cx="6265800" cy="720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менение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1D2-85B6-465C-A1C1-F640100918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508640"/>
            <a:ext cx="223344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задум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3645000"/>
            <a:ext cx="223236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ум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4000" y="1052640"/>
            <a:ext cx="216072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той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1916280"/>
            <a:ext cx="223200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й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2781360"/>
            <a:ext cx="2232000" cy="865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тов действ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04640"/>
            <a:ext cx="6553080" cy="720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менение рискованн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5589720"/>
            <a:ext cx="165564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6000" y="5300640"/>
            <a:ext cx="165564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ост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27640" y="4797360"/>
            <a:ext cx="165564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4005360"/>
            <a:ext cx="165600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852640"/>
            <a:ext cx="1656000" cy="1123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в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д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FC6-CFC1-485B-B850-A8CBF400D1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Этап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знание и стр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ветственное освещение и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свещ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I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учные и политические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I Central Asia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5D9-79B6-4106-944C-D2D980E465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3:51:06Z</dcterms:created>
  <dc:creator>Galina Li, Peer Education Manager, PSI Central Asia</dc:creator>
  <dc:description/>
  <dc:language>en-US</dc:language>
  <cp:lastModifiedBy>Сергей</cp:lastModifiedBy>
  <dcterms:modified xsi:type="dcterms:W3CDTF">2006-01-31T14:56:30Z</dcterms:modified>
  <cp:revision>46</cp:revision>
  <dc:subject/>
  <dc:title>PSI </dc:title>
</cp:coreProperties>
</file>