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BB88-1A5B-4988-8C5B-E246DD02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D34C-A52C-48ED-B07D-634D2335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6E14-6C47-4E63-9170-0CA4B06E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157A-DBAD-4640-92CE-0509D05C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92BF-B9FF-4322-969A-43B3D8EB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D7EA-E6D5-47AC-BB40-C2B9C94A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7B5-1D74-44D1-9312-FB9AC12F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F2F5-F16B-4B70-A9F3-674C506E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729F-F78E-44A7-935A-69F89A94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DDB-18EC-409D-ABDD-0287B346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1748-B10F-44E7-88C8-7F4C3B6B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3E68-0896-44B0-85BD-82DDEFB5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06BE-AD6E-40B1-931F-3723DFA838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2303640"/>
            <a:ext cx="748980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знаки 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обия треугольников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826920" y="4208400"/>
            <a:ext cx="2519640" cy="1835280"/>
          </a:xfrm>
          <a:prstGeom prst="rtTriangle">
            <a:avLst/>
          </a:prstGeom>
          <a:solidFill>
            <a:srgbClr val="ffffff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3924360" y="4491000"/>
            <a:ext cx="2089080" cy="1978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 rot="5400000">
            <a:off x="367920" y="1005120"/>
            <a:ext cx="2232000" cy="847440"/>
          </a:xfrm>
          <a:prstGeom prst="rtTriangle">
            <a:avLst/>
          </a:prstGeom>
          <a:solidFill>
            <a:srgbClr val="ffffff"/>
          </a:solidFill>
          <a:ln w="4752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300720" y="4068720"/>
            <a:ext cx="2305080" cy="1057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442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book_prygov1"/>
          <p:cNvPicPr/>
          <p:nvPr/>
        </p:nvPicPr>
        <p:blipFill>
          <a:blip r:embed="rId1"/>
          <a:stretch/>
        </p:blipFill>
        <p:spPr>
          <a:xfrm>
            <a:off x="6156360" y="255600"/>
            <a:ext cx="2539800" cy="213372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0"/>
          <p:cNvSpPr/>
          <p:nvPr/>
        </p:nvSpPr>
        <p:spPr>
          <a:xfrm>
            <a:off x="6516720" y="4419720"/>
            <a:ext cx="2305080" cy="105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4643280" y="4632480"/>
            <a:ext cx="1584360" cy="148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187280" y="4138560"/>
            <a:ext cx="1872000" cy="1481040"/>
          </a:xfrm>
          <a:prstGeom prst="rtTriangl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4"/>
          <p:cNvSpPr/>
          <p:nvPr/>
        </p:nvSpPr>
        <p:spPr>
          <a:xfrm rot="5400000">
            <a:off x="1481760" y="1604160"/>
            <a:ext cx="1656000" cy="635040"/>
          </a:xfrm>
          <a:prstGeom prst="rtTriangle">
            <a:avLst/>
          </a:prstGeom>
          <a:solidFill>
            <a:srgbClr val="ffffff"/>
          </a:solidFill>
          <a:ln w="47520">
            <a:solidFill>
              <a:srgbClr val="33cc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395280" y="1052640"/>
            <a:ext cx="820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. Признак подобия треугольников по двум углам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539640" y="333360"/>
            <a:ext cx="640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уществует три признака подобия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684360" y="1916280"/>
            <a:ext cx="777708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сли два угла одно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еугольника равны двум углам друго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еугольника,то такие треугольника подобн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1116000" y="4581360"/>
            <a:ext cx="2089080" cy="2016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3132000" y="4221000"/>
            <a:ext cx="1584360" cy="1513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1258920" y="6308640"/>
            <a:ext cx="71280" cy="28908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3276720" y="5445000"/>
            <a:ext cx="142920" cy="289080"/>
          </a:xfrm>
          <a:prstGeom prst="line">
            <a:avLst/>
          </a:prstGeom>
          <a:ln w="22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378000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>
            <a:off x="1979640" y="4941720"/>
            <a:ext cx="35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5796000" y="4437000"/>
            <a:ext cx="2305080" cy="792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6877080" y="5516640"/>
            <a:ext cx="1584360" cy="503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6156360" y="5013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>
            <a:off x="7093080" y="587700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9"/>
          <p:cNvSpPr/>
          <p:nvPr/>
        </p:nvSpPr>
        <p:spPr>
          <a:xfrm flipH="1">
            <a:off x="7596000" y="5013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0"/>
          <p:cNvSpPr/>
          <p:nvPr/>
        </p:nvSpPr>
        <p:spPr>
          <a:xfrm flipH="1">
            <a:off x="8028000" y="5877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1"/>
          <p:cNvSpPr/>
          <p:nvPr/>
        </p:nvSpPr>
        <p:spPr>
          <a:xfrm>
            <a:off x="1979640" y="5013360"/>
            <a:ext cx="35892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3708360" y="4581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3"/>
          <p:cNvSpPr/>
          <p:nvPr/>
        </p:nvSpPr>
        <p:spPr>
          <a:xfrm>
            <a:off x="6156360" y="4941720"/>
            <a:ext cx="2872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7164360" y="587700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2"/>
          <p:cNvSpPr/>
          <p:nvPr/>
        </p:nvSpPr>
        <p:spPr>
          <a:xfrm rot="19824000">
            <a:off x="3131640" y="4508640"/>
            <a:ext cx="1295640" cy="136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395280" y="476280"/>
            <a:ext cx="84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. Признак подобия треугольников по двум сторонам 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углу между ними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539640" y="1700280"/>
            <a:ext cx="8136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сли две стороны одного треугольни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порциональны двум сторонам друго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еугольника и углы, образованные этим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оронами, равны, то треугольники подобн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WordArt 8"/>
          <p:cNvSpPr txBox="1"/>
          <p:nvPr/>
        </p:nvSpPr>
        <p:spPr>
          <a:xfrm>
            <a:off x="971640" y="6237360"/>
            <a:ext cx="21564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4" name="WordArt 9"/>
          <p:cNvSpPr txBox="1"/>
          <p:nvPr/>
        </p:nvSpPr>
        <p:spPr>
          <a:xfrm>
            <a:off x="3203640" y="616572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" name="WordArt 10"/>
          <p:cNvSpPr txBox="1"/>
          <p:nvPr/>
        </p:nvSpPr>
        <p:spPr>
          <a:xfrm>
            <a:off x="900000" y="378936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WordArt 11"/>
          <p:cNvSpPr txBox="1"/>
          <p:nvPr/>
        </p:nvSpPr>
        <p:spPr>
          <a:xfrm>
            <a:off x="2843280" y="494172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" name="WordArt 12"/>
          <p:cNvSpPr txBox="1"/>
          <p:nvPr/>
        </p:nvSpPr>
        <p:spPr>
          <a:xfrm>
            <a:off x="3276720" y="4221000"/>
            <a:ext cx="21564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8" name="WordArt 13"/>
          <p:cNvSpPr txBox="1"/>
          <p:nvPr/>
        </p:nvSpPr>
        <p:spPr>
          <a:xfrm>
            <a:off x="4859280" y="537372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9" name="Line 15"/>
          <p:cNvSpPr/>
          <p:nvPr/>
        </p:nvSpPr>
        <p:spPr>
          <a:xfrm flipV="1">
            <a:off x="3492360" y="4724280"/>
            <a:ext cx="216000" cy="216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16"/>
          <p:cNvSpPr txBox="1"/>
          <p:nvPr/>
        </p:nvSpPr>
        <p:spPr>
          <a:xfrm>
            <a:off x="5292720" y="4508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1В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5219640" y="48690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18"/>
          <p:cNvSpPr txBox="1"/>
          <p:nvPr/>
        </p:nvSpPr>
        <p:spPr>
          <a:xfrm>
            <a:off x="6372360" y="4797360"/>
            <a:ext cx="2872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3" name="WordArt 19"/>
          <p:cNvSpPr txBox="1"/>
          <p:nvPr/>
        </p:nvSpPr>
        <p:spPr>
          <a:xfrm>
            <a:off x="6877080" y="4508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1С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6804000" y="48690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1"/>
          <p:cNvSpPr/>
          <p:nvPr/>
        </p:nvSpPr>
        <p:spPr>
          <a:xfrm rot="19824000">
            <a:off x="539280" y="4076280"/>
            <a:ext cx="1871640" cy="1657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"/>
          <p:cNvSpPr/>
          <p:nvPr/>
        </p:nvSpPr>
        <p:spPr>
          <a:xfrm flipV="1">
            <a:off x="1042920" y="4365360"/>
            <a:ext cx="289080" cy="2156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250920" y="476280"/>
            <a:ext cx="8497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. Признак подобия треугольников по трем сторонам 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539640" y="1341360"/>
            <a:ext cx="828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сли стороны одного треугольника пропорциональн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оронам другого треугольника, то такие треугольники подобн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900000" y="3645000"/>
            <a:ext cx="2160720" cy="2376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3780000" y="3429000"/>
            <a:ext cx="1512720" cy="158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611280" y="6165720"/>
            <a:ext cx="21564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WordArt 9"/>
          <p:cNvSpPr txBox="1"/>
          <p:nvPr/>
        </p:nvSpPr>
        <p:spPr>
          <a:xfrm>
            <a:off x="1908000" y="321300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" name="WordArt 10"/>
          <p:cNvSpPr txBox="1"/>
          <p:nvPr/>
        </p:nvSpPr>
        <p:spPr>
          <a:xfrm>
            <a:off x="3276720" y="5950080"/>
            <a:ext cx="21564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4" name="WordArt 11"/>
          <p:cNvSpPr txBox="1"/>
          <p:nvPr/>
        </p:nvSpPr>
        <p:spPr>
          <a:xfrm>
            <a:off x="3564000" y="508464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5" name="WordArt 12"/>
          <p:cNvSpPr txBox="1"/>
          <p:nvPr/>
        </p:nvSpPr>
        <p:spPr>
          <a:xfrm>
            <a:off x="4500720" y="2997360"/>
            <a:ext cx="21564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6" name="WordArt 14"/>
          <p:cNvSpPr txBox="1"/>
          <p:nvPr/>
        </p:nvSpPr>
        <p:spPr>
          <a:xfrm>
            <a:off x="5364000" y="494172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" name="WordArt 15"/>
          <p:cNvSpPr txBox="1"/>
          <p:nvPr/>
        </p:nvSpPr>
        <p:spPr>
          <a:xfrm>
            <a:off x="4572000" y="573408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1В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8" name="Line 16"/>
          <p:cNvSpPr/>
          <p:nvPr/>
        </p:nvSpPr>
        <p:spPr>
          <a:xfrm>
            <a:off x="4500720" y="60930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17"/>
          <p:cNvSpPr txBox="1"/>
          <p:nvPr/>
        </p:nvSpPr>
        <p:spPr>
          <a:xfrm>
            <a:off x="5651640" y="6021360"/>
            <a:ext cx="2872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WordArt 18"/>
          <p:cNvSpPr txBox="1"/>
          <p:nvPr/>
        </p:nvSpPr>
        <p:spPr>
          <a:xfrm>
            <a:off x="6156360" y="573408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1С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6084720" y="6093000"/>
            <a:ext cx="100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21"/>
          <p:cNvSpPr txBox="1"/>
          <p:nvPr/>
        </p:nvSpPr>
        <p:spPr>
          <a:xfrm>
            <a:off x="7236000" y="6021360"/>
            <a:ext cx="2872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WordArt 22"/>
          <p:cNvSpPr txBox="1"/>
          <p:nvPr/>
        </p:nvSpPr>
        <p:spPr>
          <a:xfrm>
            <a:off x="7667640" y="573408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1С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Line 23"/>
          <p:cNvSpPr/>
          <p:nvPr/>
        </p:nvSpPr>
        <p:spPr>
          <a:xfrm>
            <a:off x="7596360" y="60930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250920" y="476280"/>
            <a:ext cx="85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обие прямоугольных треугольников</a:t>
            </a:r>
            <a:endParaRPr b="0" lang="en-US" sz="18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611280" y="2924280"/>
            <a:ext cx="2016000" cy="2303280"/>
          </a:xfrm>
          <a:prstGeom prst="rtTriangle">
            <a:avLst/>
          </a:prstGeom>
          <a:solidFill>
            <a:srgbClr val="ffffff"/>
          </a:solidFill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3203640" y="5013360"/>
            <a:ext cx="863640" cy="1512720"/>
          </a:xfrm>
          <a:prstGeom prst="rtTriangle">
            <a:avLst/>
          </a:prstGeom>
          <a:solidFill>
            <a:srgbClr val="ffffff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611280" y="5013360"/>
            <a:ext cx="21564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826920" y="5013360"/>
            <a:ext cx="0" cy="2160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3203640" y="6381720"/>
            <a:ext cx="144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3348000" y="6381360"/>
            <a:ext cx="0" cy="144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11"/>
          <p:cNvSpPr txBox="1"/>
          <p:nvPr/>
        </p:nvSpPr>
        <p:spPr>
          <a:xfrm>
            <a:off x="468360" y="1268280"/>
            <a:ext cx="8424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ля подобия двух прямоугольных треугольнико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статочно, чтобы у них было п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вному острому угл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4"/>
          <p:cNvSpPr/>
          <p:nvPr/>
        </p:nvSpPr>
        <p:spPr>
          <a:xfrm>
            <a:off x="539640" y="476280"/>
            <a:ext cx="2087640" cy="2808360"/>
          </a:xfrm>
          <a:prstGeom prst="rtTriangle">
            <a:avLst/>
          </a:prstGeom>
          <a:solidFill>
            <a:srgbClr val="ffffff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539640" y="3068640"/>
            <a:ext cx="21600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755640" y="3068640"/>
            <a:ext cx="0" cy="21600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 flipV="1">
            <a:off x="539640" y="2133360"/>
            <a:ext cx="1224000" cy="115092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1619280" y="2276640"/>
            <a:ext cx="142920" cy="14436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1763280" y="2276640"/>
            <a:ext cx="144360" cy="144360"/>
          </a:xfrm>
          <a:prstGeom prst="line">
            <a:avLst/>
          </a:prstGeom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10"/>
          <p:cNvSpPr txBox="1"/>
          <p:nvPr/>
        </p:nvSpPr>
        <p:spPr>
          <a:xfrm>
            <a:off x="250200" y="189000"/>
            <a:ext cx="215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" name="WordArt 11"/>
          <p:cNvSpPr txBox="1"/>
          <p:nvPr/>
        </p:nvSpPr>
        <p:spPr>
          <a:xfrm>
            <a:off x="2700360" y="314172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1" name="WordArt 12"/>
          <p:cNvSpPr txBox="1"/>
          <p:nvPr/>
        </p:nvSpPr>
        <p:spPr>
          <a:xfrm>
            <a:off x="250920" y="3357720"/>
            <a:ext cx="21564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1908000" y="1844640"/>
            <a:ext cx="216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WordArt 14"/>
          <p:cNvSpPr txBox="1"/>
          <p:nvPr/>
        </p:nvSpPr>
        <p:spPr>
          <a:xfrm>
            <a:off x="395280" y="4005360"/>
            <a:ext cx="828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тет прямоугольного треугольника е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реднее пропорциональное межд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ипотенузой и проекцией это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тета на гипотенуз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4" name="WordArt 16"/>
          <p:cNvSpPr txBox="1"/>
          <p:nvPr/>
        </p:nvSpPr>
        <p:spPr>
          <a:xfrm>
            <a:off x="3924360" y="620640"/>
            <a:ext cx="8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5" name="WordArt 17"/>
          <p:cNvSpPr txBox="1"/>
          <p:nvPr/>
        </p:nvSpPr>
        <p:spPr>
          <a:xfrm>
            <a:off x="5148360" y="620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3995640" y="981000"/>
            <a:ext cx="863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5219640" y="981000"/>
            <a:ext cx="863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20"/>
          <p:cNvSpPr txBox="1"/>
          <p:nvPr/>
        </p:nvSpPr>
        <p:spPr>
          <a:xfrm>
            <a:off x="4932360" y="907920"/>
            <a:ext cx="28908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250920" y="333360"/>
            <a:ext cx="828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ысота прямоугольного треугольника, проведенная из верши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ямого угла, есть среднее пропорциональное между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екциями катетов на гипотенуз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684360" y="2276640"/>
            <a:ext cx="100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6"/>
          <p:cNvSpPr txBox="1"/>
          <p:nvPr/>
        </p:nvSpPr>
        <p:spPr>
          <a:xfrm>
            <a:off x="2050920" y="2276640"/>
            <a:ext cx="792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826920" y="2637000"/>
            <a:ext cx="863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124000" y="2637000"/>
            <a:ext cx="863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9"/>
          <p:cNvSpPr txBox="1"/>
          <p:nvPr/>
        </p:nvSpPr>
        <p:spPr>
          <a:xfrm>
            <a:off x="1835280" y="2565360"/>
            <a:ext cx="288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WordArt 10"/>
          <p:cNvSpPr txBox="1"/>
          <p:nvPr/>
        </p:nvSpPr>
        <p:spPr>
          <a:xfrm>
            <a:off x="539640" y="3645000"/>
            <a:ext cx="8136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иссектриса треугольника делит противолежащую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орону на отрезки,пропорциональные двум другим сторонам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6" name="WordArt 11"/>
          <p:cNvSpPr txBox="1"/>
          <p:nvPr/>
        </p:nvSpPr>
        <p:spPr>
          <a:xfrm>
            <a:off x="755640" y="4941720"/>
            <a:ext cx="100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WordArt 12"/>
          <p:cNvSpPr txBox="1"/>
          <p:nvPr/>
        </p:nvSpPr>
        <p:spPr>
          <a:xfrm>
            <a:off x="2411280" y="4941720"/>
            <a:ext cx="7923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900000" y="5300640"/>
            <a:ext cx="863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2484360" y="5300640"/>
            <a:ext cx="863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15"/>
          <p:cNvSpPr txBox="1"/>
          <p:nvPr/>
        </p:nvSpPr>
        <p:spPr>
          <a:xfrm>
            <a:off x="2050920" y="5229360"/>
            <a:ext cx="2890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зентацию выполнила ученица 9а класса Сараева Евг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616572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3:00:47Z</dcterms:created>
  <dc:creator>Евгений</dc:creator>
  <dc:description/>
  <dc:language>en-US</dc:language>
  <cp:lastModifiedBy>Коля</cp:lastModifiedBy>
  <dcterms:modified xsi:type="dcterms:W3CDTF">2013-03-30T21:57:48Z</dcterms:modified>
  <cp:revision>6</cp:revision>
  <dc:subject/>
  <dc:title>Слайд 1</dc:title>
</cp:coreProperties>
</file>