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893-8F87-49DE-B78E-ED99F48F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470-53E2-417A-9573-0B45161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5EA-E7CB-49A2-8139-C969D64D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C0D-4918-4CD6-B933-681F14A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60A-BE22-4F2E-997A-A5647E2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69E-D5AD-49D6-923C-8B103AA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FD6-CF4E-4EF9-BE33-140B8FC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D62-28E8-4233-A389-9D7EBF6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A1A-0DC4-4267-BA63-242986E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E46-F5D9-430F-A5C2-CDA979B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64E-9EE9-4B22-B846-B093894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2EE-7157-4511-B049-7736AF0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DF1-CED2-4879-8F55-AFD1250F8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2303640"/>
            <a:ext cx="748980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826920" y="4208400"/>
            <a:ext cx="2519640" cy="183528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24360" y="4491000"/>
            <a:ext cx="2089080" cy="1978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 rot="5400000">
            <a:off x="367920" y="1005120"/>
            <a:ext cx="2232000" cy="8474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300720" y="4068720"/>
            <a:ext cx="2305080" cy="105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book_prygov1"/>
          <p:cNvPicPr/>
          <p:nvPr/>
        </p:nvPicPr>
        <p:blipFill>
          <a:blip r:embed="rId1"/>
          <a:stretch/>
        </p:blipFill>
        <p:spPr>
          <a:xfrm>
            <a:off x="6156360" y="255600"/>
            <a:ext cx="25398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516720" y="4419720"/>
            <a:ext cx="2305080" cy="10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4643280" y="4632480"/>
            <a:ext cx="1584360" cy="148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187280" y="4138560"/>
            <a:ext cx="1872000" cy="1481040"/>
          </a:xfrm>
          <a:prstGeom prst="rtTriangl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rot="5400000">
            <a:off x="1481760" y="1604160"/>
            <a:ext cx="1656000" cy="6350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95280" y="105264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Признак подобия треугольников по двум углам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39640" y="33336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ществует три признака подобия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684360" y="1916280"/>
            <a:ext cx="7777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а угла од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равны двум угл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,то такие треугольника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116000" y="4581360"/>
            <a:ext cx="2089080" cy="20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3132000" y="4221000"/>
            <a:ext cx="1584360" cy="151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258920" y="6308640"/>
            <a:ext cx="71280" cy="2890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3276720" y="5445000"/>
            <a:ext cx="142920" cy="28908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780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1979640" y="494172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5796000" y="4437000"/>
            <a:ext cx="2305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877080" y="5516640"/>
            <a:ext cx="1584360" cy="50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156360" y="501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709308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 flipH="1">
            <a:off x="7596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8028000" y="587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1979640" y="5013360"/>
            <a:ext cx="3589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370836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6156360" y="494172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716436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2"/>
          <p:cNvSpPr/>
          <p:nvPr/>
        </p:nvSpPr>
        <p:spPr>
          <a:xfrm rot="19824000">
            <a:off x="3131640" y="4508640"/>
            <a:ext cx="129564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95280" y="47628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Признак подобия треугольников по дву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углу между ними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539640" y="170028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е стороны одного треугольн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орциональны двум сторон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и углы, образованные эти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и, равны, то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71640" y="623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203640" y="6165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900000" y="378936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284328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2"/>
          <p:cNvSpPr txBox="1"/>
          <p:nvPr/>
        </p:nvSpPr>
        <p:spPr>
          <a:xfrm>
            <a:off x="3276720" y="422100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3"/>
          <p:cNvSpPr txBox="1"/>
          <p:nvPr/>
        </p:nvSpPr>
        <p:spPr>
          <a:xfrm>
            <a:off x="4859280" y="5373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3492360" y="4724280"/>
            <a:ext cx="216000" cy="216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529272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21964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6372360" y="4797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687708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680400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 rot="19824000">
            <a:off x="539280" y="4076280"/>
            <a:ext cx="1871640" cy="165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042920" y="4365360"/>
            <a:ext cx="289080" cy="215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50920" y="47628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Признак подобия треугольников по тре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39640" y="134136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тороны одного треугольника пропорциональ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 другого треугольника, то такие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00000" y="3645000"/>
            <a:ext cx="216072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780000" y="3429000"/>
            <a:ext cx="1512720" cy="158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611280" y="6165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1908000" y="321300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3276720" y="595008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3564000" y="508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4500720" y="299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536400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457200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50072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565164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615636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6084720" y="609300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723600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22"/>
          <p:cNvSpPr txBox="1"/>
          <p:nvPr/>
        </p:nvSpPr>
        <p:spPr>
          <a:xfrm>
            <a:off x="766764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759636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50920" y="476280"/>
            <a:ext cx="85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е прямоугольных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2924280"/>
            <a:ext cx="2016000" cy="230328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203640" y="5013360"/>
            <a:ext cx="863640" cy="151272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11280" y="5013360"/>
            <a:ext cx="215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826920" y="5013360"/>
            <a:ext cx="0" cy="21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203640" y="6381720"/>
            <a:ext cx="14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3348000" y="6381360"/>
            <a:ext cx="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468360" y="1268280"/>
            <a:ext cx="84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подобия двух прямоугольных треугольни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статочно, чтобы у них было 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ому острому уг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39640" y="476280"/>
            <a:ext cx="2087640" cy="280836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39640" y="3068640"/>
            <a:ext cx="21600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755640" y="3068640"/>
            <a:ext cx="0" cy="2160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539640" y="2133360"/>
            <a:ext cx="1224000" cy="1150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619280" y="2276640"/>
            <a:ext cx="142920" cy="1443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1763280" y="2276640"/>
            <a:ext cx="144360" cy="144360"/>
          </a:xfrm>
          <a:prstGeom prst="line">
            <a:avLst/>
          </a:prstGeom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250200" y="18900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2700360" y="31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250920" y="3357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1908000" y="184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95280" y="4005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 прямоугольного треугольника 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еднее пропорциональное меж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ипотенузой и проекцией эт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а на гипотенуз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3924360" y="62064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5148360" y="62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3995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219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0"/>
          <p:cNvSpPr txBox="1"/>
          <p:nvPr/>
        </p:nvSpPr>
        <p:spPr>
          <a:xfrm>
            <a:off x="4932360" y="907920"/>
            <a:ext cx="289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50920" y="333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 прямоугольного треугольника, проведенная из верш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ямого угла, есть среднее пропорциональное меж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циями катетов на гипотенуз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84360" y="227664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050920" y="22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82692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12400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1835280" y="2565360"/>
            <a:ext cx="288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539640" y="3645000"/>
            <a:ext cx="813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ссектриса треугольника делит противолежащ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у на отрезки,пропорциональные двум другим сторонам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755640" y="4941720"/>
            <a:ext cx="100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2"/>
          <p:cNvSpPr txBox="1"/>
          <p:nvPr/>
        </p:nvSpPr>
        <p:spPr>
          <a:xfrm>
            <a:off x="2411280" y="4941720"/>
            <a:ext cx="7923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90000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248436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5"/>
          <p:cNvSpPr txBox="1"/>
          <p:nvPr/>
        </p:nvSpPr>
        <p:spPr>
          <a:xfrm>
            <a:off x="2050920" y="5229360"/>
            <a:ext cx="289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9а класса Сараева Евг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6165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00:47Z</dcterms:created>
  <dc:creator>Евгений</dc:creator>
  <dc:description/>
  <dc:language>en-US</dc:language>
  <cp:lastModifiedBy>Коля</cp:lastModifiedBy>
  <dcterms:modified xsi:type="dcterms:W3CDTF">2013-03-30T21:57:48Z</dcterms:modified>
  <cp:revision>6</cp:revision>
  <dc:subject/>
  <dc:title>Слайд 1</dc:title>
</cp:coreProperties>
</file>