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B21-FD1B-4C87-8A0E-C23274AC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408-5D71-41B0-9DFE-EBD1B124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94D-1FB3-4704-81F5-4467802E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758-CE69-4A90-ABAE-CFC0767B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FDF-281C-4720-977A-977C001A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CF1-5714-4CC8-B570-5F493CB4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962-D70D-4D1F-A9C7-E9DEE881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611-4075-481D-8E6B-D5ACEFBC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30A-D353-40DF-B604-070C838B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9BC-4A3A-49E0-8896-FFBD08E8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89F-BB3C-427E-A461-46387FA6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5BF-17D2-441B-8391-DE3D998A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460E-DD4E-43E5-9FE7-38D39E22B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2303640"/>
            <a:ext cx="748980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обия треугольников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826920" y="4208400"/>
            <a:ext cx="2519640" cy="1835280"/>
          </a:xfrm>
          <a:prstGeom prst="rtTriangle">
            <a:avLst/>
          </a:prstGeom>
          <a:solidFill>
            <a:srgbClr val="ffffff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924360" y="4491000"/>
            <a:ext cx="2089080" cy="1978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 rot="5400000">
            <a:off x="367920" y="1005120"/>
            <a:ext cx="2232000" cy="847440"/>
          </a:xfrm>
          <a:prstGeom prst="rtTriangle">
            <a:avLst/>
          </a:prstGeom>
          <a:solidFill>
            <a:srgbClr val="ffffff"/>
          </a:solidFill>
          <a:ln w="4752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300720" y="4068720"/>
            <a:ext cx="2305080" cy="1057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book_prygov1"/>
          <p:cNvPicPr/>
          <p:nvPr/>
        </p:nvPicPr>
        <p:blipFill>
          <a:blip r:embed="rId1"/>
          <a:stretch/>
        </p:blipFill>
        <p:spPr>
          <a:xfrm>
            <a:off x="6156360" y="255600"/>
            <a:ext cx="253980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"/>
          <p:cNvSpPr/>
          <p:nvPr/>
        </p:nvSpPr>
        <p:spPr>
          <a:xfrm>
            <a:off x="6516720" y="4419720"/>
            <a:ext cx="2305080" cy="10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4643280" y="4632480"/>
            <a:ext cx="1584360" cy="148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187280" y="4138560"/>
            <a:ext cx="1872000" cy="1481040"/>
          </a:xfrm>
          <a:prstGeom prst="rtTriangl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 rot="5400000">
            <a:off x="1481760" y="1604160"/>
            <a:ext cx="1656000" cy="635040"/>
          </a:xfrm>
          <a:prstGeom prst="rtTriangle">
            <a:avLst/>
          </a:prstGeom>
          <a:solidFill>
            <a:srgbClr val="ffffff"/>
          </a:solidFill>
          <a:ln w="47520">
            <a:solidFill>
              <a:srgbClr val="33cc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395280" y="1052640"/>
            <a:ext cx="820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. Признак подобия треугольников по двум углам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539640" y="333360"/>
            <a:ext cx="64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уществует три признака подобия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684360" y="1916280"/>
            <a:ext cx="77770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два угла одн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еугольника равны двум углам друг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еугольника,то такие треугольника подоб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116000" y="4581360"/>
            <a:ext cx="2089080" cy="201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3132000" y="4221000"/>
            <a:ext cx="1584360" cy="151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1258920" y="6308640"/>
            <a:ext cx="71280" cy="2890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3276720" y="5445000"/>
            <a:ext cx="142920" cy="289080"/>
          </a:xfrm>
          <a:prstGeom prst="line">
            <a:avLst/>
          </a:prstGeom>
          <a:ln w="22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3780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1979640" y="494172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5796000" y="4437000"/>
            <a:ext cx="2305080" cy="79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6877080" y="5516640"/>
            <a:ext cx="1584360" cy="503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6156360" y="5013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7093080" y="587700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 flipH="1">
            <a:off x="7596000" y="501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0"/>
          <p:cNvSpPr/>
          <p:nvPr/>
        </p:nvSpPr>
        <p:spPr>
          <a:xfrm flipH="1">
            <a:off x="8028000" y="587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1979640" y="5013360"/>
            <a:ext cx="3589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370836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6156360" y="4941720"/>
            <a:ext cx="287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7164360" y="587700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2"/>
          <p:cNvSpPr/>
          <p:nvPr/>
        </p:nvSpPr>
        <p:spPr>
          <a:xfrm rot="19824000">
            <a:off x="3131640" y="4508640"/>
            <a:ext cx="129564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95280" y="47628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. Признак подобия треугольников по двум сторонам 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углу между ними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539640" y="1700280"/>
            <a:ext cx="813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две стороны одного треугольни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порциональны двум сторонам друг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еугольника и углы, образованные эти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ами, равны, то треугольники подоб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971640" y="623736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WordArt 9"/>
          <p:cNvSpPr txBox="1"/>
          <p:nvPr/>
        </p:nvSpPr>
        <p:spPr>
          <a:xfrm>
            <a:off x="3203640" y="6165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10"/>
          <p:cNvSpPr txBox="1"/>
          <p:nvPr/>
        </p:nvSpPr>
        <p:spPr>
          <a:xfrm>
            <a:off x="900000" y="378936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WordArt 11"/>
          <p:cNvSpPr txBox="1"/>
          <p:nvPr/>
        </p:nvSpPr>
        <p:spPr>
          <a:xfrm>
            <a:off x="2843280" y="4941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WordArt 12"/>
          <p:cNvSpPr txBox="1"/>
          <p:nvPr/>
        </p:nvSpPr>
        <p:spPr>
          <a:xfrm>
            <a:off x="3276720" y="422100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WordArt 13"/>
          <p:cNvSpPr txBox="1"/>
          <p:nvPr/>
        </p:nvSpPr>
        <p:spPr>
          <a:xfrm>
            <a:off x="4859280" y="5373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" name="Line 15"/>
          <p:cNvSpPr/>
          <p:nvPr/>
        </p:nvSpPr>
        <p:spPr>
          <a:xfrm flipV="1">
            <a:off x="3492360" y="4724280"/>
            <a:ext cx="216000" cy="216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6"/>
          <p:cNvSpPr txBox="1"/>
          <p:nvPr/>
        </p:nvSpPr>
        <p:spPr>
          <a:xfrm>
            <a:off x="5292720" y="4508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5219640" y="4869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8"/>
          <p:cNvSpPr txBox="1"/>
          <p:nvPr/>
        </p:nvSpPr>
        <p:spPr>
          <a:xfrm>
            <a:off x="6372360" y="4797360"/>
            <a:ext cx="287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19"/>
          <p:cNvSpPr txBox="1"/>
          <p:nvPr/>
        </p:nvSpPr>
        <p:spPr>
          <a:xfrm>
            <a:off x="6877080" y="4508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6804000" y="4869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 rot="19824000">
            <a:off x="539280" y="4076280"/>
            <a:ext cx="1871640" cy="165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1042920" y="4365360"/>
            <a:ext cx="289080" cy="2156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50920" y="476280"/>
            <a:ext cx="84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. Признак подобия треугольников по трем сторонам 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39640" y="1341360"/>
            <a:ext cx="828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стороны одного треугольника пропорциональ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ам другого треугольника, то такие треугольники подоб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00000" y="3645000"/>
            <a:ext cx="2160720" cy="237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3780000" y="3429000"/>
            <a:ext cx="1512720" cy="158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611280" y="616572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9"/>
          <p:cNvSpPr txBox="1"/>
          <p:nvPr/>
        </p:nvSpPr>
        <p:spPr>
          <a:xfrm>
            <a:off x="1908000" y="321300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3276720" y="595008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WordArt 11"/>
          <p:cNvSpPr txBox="1"/>
          <p:nvPr/>
        </p:nvSpPr>
        <p:spPr>
          <a:xfrm>
            <a:off x="3564000" y="508464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4500720" y="299736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5364000" y="4941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15"/>
          <p:cNvSpPr txBox="1"/>
          <p:nvPr/>
        </p:nvSpPr>
        <p:spPr>
          <a:xfrm>
            <a:off x="4572000" y="57340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4500720" y="6093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7"/>
          <p:cNvSpPr txBox="1"/>
          <p:nvPr/>
        </p:nvSpPr>
        <p:spPr>
          <a:xfrm>
            <a:off x="5651640" y="6021360"/>
            <a:ext cx="287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6156360" y="57340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6084720" y="6093000"/>
            <a:ext cx="10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7236000" y="6021360"/>
            <a:ext cx="287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22"/>
          <p:cNvSpPr txBox="1"/>
          <p:nvPr/>
        </p:nvSpPr>
        <p:spPr>
          <a:xfrm>
            <a:off x="7667640" y="57340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7596360" y="6093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250920" y="476280"/>
            <a:ext cx="85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обие прямоугольных треугольников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611280" y="2924280"/>
            <a:ext cx="2016000" cy="2303280"/>
          </a:xfrm>
          <a:prstGeom prst="rtTriangle">
            <a:avLst/>
          </a:prstGeom>
          <a:solidFill>
            <a:srgbClr val="ffffff"/>
          </a:solidFill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3203640" y="5013360"/>
            <a:ext cx="863640" cy="1512720"/>
          </a:xfrm>
          <a:prstGeom prst="rtTriangle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611280" y="5013360"/>
            <a:ext cx="21564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826920" y="5013360"/>
            <a:ext cx="0" cy="216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203640" y="6381720"/>
            <a:ext cx="144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3348000" y="6381360"/>
            <a:ext cx="0" cy="14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468360" y="1268280"/>
            <a:ext cx="842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подобия двух прямоугольных треугольник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статочно, чтобы у них было п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вному острому угл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539640" y="476280"/>
            <a:ext cx="2087640" cy="2808360"/>
          </a:xfrm>
          <a:prstGeom prst="rtTriangle">
            <a:avLst/>
          </a:prstGeom>
          <a:solidFill>
            <a:srgbClr val="ffffff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39640" y="3068640"/>
            <a:ext cx="21600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755640" y="3068640"/>
            <a:ext cx="0" cy="2160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 flipV="1">
            <a:off x="539640" y="2133360"/>
            <a:ext cx="1224000" cy="11509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1619280" y="2276640"/>
            <a:ext cx="142920" cy="14436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1763280" y="2276640"/>
            <a:ext cx="144360" cy="144360"/>
          </a:xfrm>
          <a:prstGeom prst="line">
            <a:avLst/>
          </a:prstGeom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250200" y="189000"/>
            <a:ext cx="21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2700360" y="3141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250920" y="335772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1908000" y="184464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395280" y="400536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тет прямоугольного треугольника е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реднее пропорциональное межд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ипотенузой и проекцией эт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тета на гипотенуз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4" name="WordArt 16"/>
          <p:cNvSpPr txBox="1"/>
          <p:nvPr/>
        </p:nvSpPr>
        <p:spPr>
          <a:xfrm>
            <a:off x="3924360" y="620640"/>
            <a:ext cx="8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WordArt 17"/>
          <p:cNvSpPr txBox="1"/>
          <p:nvPr/>
        </p:nvSpPr>
        <p:spPr>
          <a:xfrm>
            <a:off x="5148360" y="62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3995640" y="981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5219640" y="981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20"/>
          <p:cNvSpPr txBox="1"/>
          <p:nvPr/>
        </p:nvSpPr>
        <p:spPr>
          <a:xfrm>
            <a:off x="4932360" y="907920"/>
            <a:ext cx="289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250920" y="33336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сота прямоугольного треугольника, проведенная из верш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ямого угла, есть среднее пропорциональное межд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екциями катетов на гипотенуз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684360" y="2276640"/>
            <a:ext cx="100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2050920" y="22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826920" y="2637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124000" y="2637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9"/>
          <p:cNvSpPr txBox="1"/>
          <p:nvPr/>
        </p:nvSpPr>
        <p:spPr>
          <a:xfrm>
            <a:off x="1835280" y="2565360"/>
            <a:ext cx="288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WordArt 10"/>
          <p:cNvSpPr txBox="1"/>
          <p:nvPr/>
        </p:nvSpPr>
        <p:spPr>
          <a:xfrm>
            <a:off x="539640" y="3645000"/>
            <a:ext cx="813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иссектриса треугольника делит противолежащу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у на отрезки,пропорциональные двум другим сторонам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11"/>
          <p:cNvSpPr txBox="1"/>
          <p:nvPr/>
        </p:nvSpPr>
        <p:spPr>
          <a:xfrm>
            <a:off x="755640" y="4941720"/>
            <a:ext cx="100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WordArt 12"/>
          <p:cNvSpPr txBox="1"/>
          <p:nvPr/>
        </p:nvSpPr>
        <p:spPr>
          <a:xfrm>
            <a:off x="2411280" y="4941720"/>
            <a:ext cx="7923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900000" y="530064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2484360" y="530064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5"/>
          <p:cNvSpPr txBox="1"/>
          <p:nvPr/>
        </p:nvSpPr>
        <p:spPr>
          <a:xfrm>
            <a:off x="2050920" y="5229360"/>
            <a:ext cx="289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ю выполнила ученица 9а класса Сараева Евг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6165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00:47Z</dcterms:created>
  <dc:creator>Евгений</dc:creator>
  <dc:description/>
  <dc:language>en-US</dc:language>
  <cp:lastModifiedBy>Коля</cp:lastModifiedBy>
  <dcterms:modified xsi:type="dcterms:W3CDTF">2013-03-30T21:57:48Z</dcterms:modified>
  <cp:revision>6</cp:revision>
  <dc:subject/>
  <dc:title>Слайд 1</dc:title>
</cp:coreProperties>
</file>