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846-305C-4EF0-849B-06E96ABC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0BD9-C677-4E58-9E05-BBED12C7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CCBC-E471-4D02-B478-2059D7FA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621F-A8C9-4AA2-9358-F827DC46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465E-E43F-4ED0-B444-08A72EBA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8877-5F70-4768-94E3-9088C1DD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8936-057B-4788-9956-A17475DC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B54A-6B00-4D88-85B4-BEDFBB8D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A5EA-5DBD-45D5-93F2-FA59BA3B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89DC-9DF2-407A-A7AA-4E643C00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E267-D918-4CFB-9FE6-6E20EFFE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EB7D-3C56-48D2-9801-18F9B1A1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338A-3CB9-4473-BA2F-9AE7BA1F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C7BA-31C4-4CE3-BD75-25450DAA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18E9-D399-49A8-A9FE-E334FB79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DD56-307D-4801-96BA-A02CFC29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9EF0-E586-4095-8601-7B65AC8C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64E3-5315-4AC4-9CBA-8C653D56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CDD-68F4-42BE-9CEB-7802C593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349E-AADB-4C17-BB28-85769E35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87E0-F248-4721-909B-C0E21557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D4C-96BF-48CB-B473-D6339417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8AA6-9F71-4910-83A4-0FEB8F86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EF31-E48A-4713-BD16-2A0799C8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8AA8-6DD3-48D2-9181-6682ADAAA8D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E25F-3AA9-4982-99AF-325EC16A422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7777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еометрия 8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а: Признаки параллелограмм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итель  Токмаклинской ООШ                                     Филиппова В.Н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798372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4716360" y="1700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642920" y="220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21840" y="198900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- - - - -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88000" y="292428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59280" y="4437000"/>
            <a:ext cx="102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17760" y="2852280"/>
            <a:ext cx="2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81640" y="4507920"/>
            <a:ext cx="16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- - - - - - - - -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1844640"/>
            <a:ext cx="4067280" cy="2952720"/>
          </a:xfrm>
          <a:prstGeom prst="parallelogram">
            <a:avLst>
              <a:gd name="adj" fmla="val 3443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880" y="4797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3640" y="1557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59120" y="5157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6728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53720" y="486900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0" y="1844640"/>
            <a:ext cx="406728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42920" y="1844640"/>
            <a:ext cx="201636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0800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59640" y="142488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а)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АВ=СД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00720" y="263592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6877080" y="2781360"/>
                <a:ext cx="158436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СД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6732720" y="43185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7308720" y="4581360"/>
                <a:ext cx="1368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О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ОС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209480" y="3656520"/>
            <a:ext cx="41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88000" y="1989000"/>
            <a:ext cx="68580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932360" y="1988640"/>
            <a:ext cx="80172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367880" y="314172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- - - - - - - -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140000" y="3357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28436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4360" y="-459000"/>
            <a:ext cx="5176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. Призн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211280" y="2133360"/>
            <a:ext cx="43909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2276640"/>
            <a:ext cx="4608720" cy="3382920"/>
          </a:xfrm>
          <a:prstGeom prst="parallelogram">
            <a:avLst>
              <a:gd name="adj" fmla="val 340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442764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08720" y="2205000"/>
            <a:ext cx="244800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19640" y="198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748720" y="1773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86520" y="55897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742520" y="558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3744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004000" y="2275560"/>
            <a:ext cx="72000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 rot="10647600">
            <a:off x="7598880" y="5074560"/>
            <a:ext cx="86256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9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2980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488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50760" y="2013120"/>
            <a:ext cx="254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5960" y="1197000"/>
            <a:ext cx="87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.Если в четырехугольнике две стороны равны и параллель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о этот  четырехугольник – параллелограм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6200" y="2133720"/>
            <a:ext cx="333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СД – четырех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l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В= С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Доказать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СД - параллел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796360" y="1990800"/>
            <a:ext cx="28800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652000" y="1915560"/>
            <a:ext cx="2880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236000" y="5229360"/>
            <a:ext cx="86256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451640" y="5300640"/>
            <a:ext cx="57744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I.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изнак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148360" y="1828440"/>
            <a:ext cx="323352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5256360" y="1989000"/>
            <a:ext cx="3887640" cy="3313080"/>
          </a:xfrm>
          <a:prstGeom prst="parallelogram">
            <a:avLst>
              <a:gd name="adj" fmla="val 2933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227640" y="1989000"/>
            <a:ext cx="194472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509080" y="2491560"/>
            <a:ext cx="1005840" cy="14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229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 rot="11256000">
            <a:off x="7801200" y="4608720"/>
            <a:ext cx="86328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81416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40360" y="177336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005440" y="53737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758440" y="170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95852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43200" y="812880"/>
            <a:ext cx="983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.Если в четырехугольнике противоположные стороны попарно рав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то этот четырехугольник - параллел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6200" y="1870200"/>
            <a:ext cx="4267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СД – четырехуголь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=С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ВС=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СД - параллел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451640" y="479736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588000" y="213372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299640" y="1843920"/>
            <a:ext cx="28800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301080" y="1699560"/>
            <a:ext cx="4312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596360" y="4869000"/>
            <a:ext cx="72000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740720" y="5013360"/>
            <a:ext cx="4312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II.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изнак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4319640" y="1989000"/>
            <a:ext cx="4824360" cy="3961080"/>
          </a:xfrm>
          <a:prstGeom prst="parallelogram">
            <a:avLst>
              <a:gd name="adj" fmla="val 3044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356000" y="1989000"/>
            <a:ext cx="478800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08720" y="1989000"/>
            <a:ext cx="237636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rot="21064800">
            <a:off x="7685280" y="5196600"/>
            <a:ext cx="808560" cy="52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rot="12951600">
            <a:off x="4637160" y="1559160"/>
            <a:ext cx="1152000" cy="86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71" y="3738"/>
                </a:moveTo>
                <a:arcTo wR="10800" hR="10800" stAng="-2450251" swAng="2450251"/>
                <a:lnTo>
                  <a:pt x="10800" y="10800"/>
                </a:lnTo>
                <a:close/>
              </a:path>
              <a:path fill="none" w="21600" h="21600">
                <a:moveTo>
                  <a:pt x="18971" y="3738"/>
                </a:moveTo>
                <a:arcTo wR="10800" hR="10800" stAng="-2450251" swAng="245025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443640" y="33577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48360" y="170028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809200" y="170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68720" y="587700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742520" y="595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1052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1852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59816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532720" y="242100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692280"/>
            <a:ext cx="828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Если в четырехугольнике диагонали пересекаются и точ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есечения делятся пополам, то этот четырехугольник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араллело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5600" y="1965240"/>
            <a:ext cx="4547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СД – четырех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С и ВД – диагон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А=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ДО=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СД- параллел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33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знаки параллелограмм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1773360"/>
            <a:ext cx="2714400" cy="718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|| СД  и ВС|| С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55640" y="2781360"/>
            <a:ext cx="266400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||СД  и АВ= С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84360" y="3860640"/>
            <a:ext cx="2519280" cy="719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=СД ,АД= 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4360" y="5013360"/>
            <a:ext cx="259056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О=ОС,ВО=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635280" y="1989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564000" y="2852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92360" y="3933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564000" y="5157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19640" y="1844640"/>
            <a:ext cx="280836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859280" y="2852640"/>
            <a:ext cx="3529080" cy="505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2360" y="3933720"/>
            <a:ext cx="302436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03640" y="5084640"/>
            <a:ext cx="2953080" cy="72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68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68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68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68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верка домашней рабо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ешение устных задач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зложение нового материа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крепление изученного материа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ведение итог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) доказать, что в параллелограмме противоположные стороны равны и углы равны .(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свойство 1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доказать ,что  диагонали параллелограмма точкой пересечения делятся пополам.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( свойство 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войства Параллелограмм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2349360"/>
            <a:ext cx="3168720" cy="1366920"/>
          </a:xfrm>
          <a:prstGeom prst="parallelogram">
            <a:avLst>
              <a:gd name="adj" fmla="val 5795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2924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35640" y="4869000"/>
                <a:ext cx="93672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С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651640" y="3141720"/>
                <a:ext cx="10810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1989000"/>
            <a:ext cx="381636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 ||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 , ВС  ||  А 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 = СД , В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О = ОС     ,ВО= 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716360" y="3141720"/>
                <a:ext cx="10080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С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724360" y="3141720"/>
                <a:ext cx="1079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859280" y="3573360"/>
                <a:ext cx="1800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623160" y="3789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5280" y="206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78560" y="1989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98080" y="371628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620640"/>
            <a:ext cx="3814920" cy="2303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17733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1413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580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8928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6580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00" y="186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69280" y="1576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7280" y="2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08200" y="2924280"/>
            <a:ext cx="3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300720" y="981000"/>
                <a:ext cx="187164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85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вляется ли четырехугольник АВСД – параллелограммо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)  Докажите ,что четырехугольник АВСД – параллелограм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430440" y="2141280"/>
            <a:ext cx="4993560" cy="2079000"/>
            <a:chOff x="3430440" y="2141280"/>
            <a:chExt cx="4993560" cy="2079000"/>
          </a:xfrm>
        </p:grpSpPr>
        <p:sp>
          <p:nvSpPr>
            <p:cNvPr id="192" name=""/>
            <p:cNvSpPr/>
            <p:nvPr/>
          </p:nvSpPr>
          <p:spPr>
            <a:xfrm>
              <a:off x="3955680" y="2141280"/>
              <a:ext cx="1051560" cy="148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84400" y="2326680"/>
              <a:ext cx="1051920" cy="14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0440" y="2698200"/>
              <a:ext cx="394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55680" y="3441240"/>
              <a:ext cx="446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82080" y="2720880"/>
              <a:ext cx="78912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34000" y="3060360"/>
              <a:ext cx="787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60920" y="3060360"/>
              <a:ext cx="7894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44160" y="3478680"/>
              <a:ext cx="789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23720" y="3665160"/>
              <a:ext cx="78732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564000" y="21337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50160" y="198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0920" y="2276640"/>
                <a:ext cx="3085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split dir="in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) Является ли четырёхугольник АВСД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араллелограмм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211640" y="2349360"/>
            <a:ext cx="4824360" cy="2386080"/>
            <a:chOff x="4211640" y="2349360"/>
            <a:chExt cx="4824360" cy="2386080"/>
          </a:xfrm>
        </p:grpSpPr>
        <p:sp>
          <p:nvSpPr>
            <p:cNvPr id="207" name=""/>
            <p:cNvSpPr txBox="1"/>
            <p:nvPr/>
          </p:nvSpPr>
          <p:spPr>
            <a:xfrm>
              <a:off x="4211640" y="2349360"/>
              <a:ext cx="4824360" cy="238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4040" y="2349360"/>
              <a:ext cx="0" cy="209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61160" y="2559600"/>
              <a:ext cx="0" cy="18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53560" y="2977560"/>
              <a:ext cx="314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63080" y="4025880"/>
              <a:ext cx="272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11640" y="3058560"/>
              <a:ext cx="6282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41280" y="3687480"/>
              <a:ext cx="41904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09360" y="3606120"/>
              <a:ext cx="41904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28400" y="3606120"/>
              <a:ext cx="6296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11640" y="2349360"/>
              <a:ext cx="629640" cy="62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47440" y="2349360"/>
              <a:ext cx="4190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11640" y="4144320"/>
              <a:ext cx="6296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37560" y="4146120"/>
              <a:ext cx="630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84360" y="1989000"/>
                <a:ext cx="312552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476360" y="4221000"/>
                <a:ext cx="2087640" cy="10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t xml:space="preserve">≠</m:t>
                        </m:r>
                        <m:r>
                          <m:t xml:space="preserve">∠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864960" y="25516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1080" y="20599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4360" y="414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250920" y="189000"/>
          <a:ext cx="8893080" cy="5251320"/>
        </p:xfrm>
        <a:graphic>
          <a:graphicData uri="http://schemas.openxmlformats.org/drawingml/2006/table">
            <a:tbl>
              <a:tblPr/>
              <a:tblGrid>
                <a:gridCol w="1877760"/>
                <a:gridCol w="2724480"/>
                <a:gridCol w="2334960"/>
                <a:gridCol w="1955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звание фигур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предел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войств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зна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ралле-логра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етырехугольнику которого противополож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ые  стороны попар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раллельн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тивополож-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ороны и углы рав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 Диагонали точк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ресечения делят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пола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) Если в четырё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ольнике две стороны рав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 параллельны 2) Если в четы- рёхугольнике противополож-ные сторо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парно равн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) Если четырех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гольнике диагона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ресекаются и точкой пересече-ния делятся попол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324000" y="2924280"/>
            <a:ext cx="1439640" cy="1152360"/>
          </a:xfrm>
          <a:prstGeom prst="parallelogram">
            <a:avLst>
              <a:gd name="adj" fmla="val 3123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2924280"/>
            <a:ext cx="7189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4000" y="2923920"/>
            <a:ext cx="143964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293080" y="2027520"/>
            <a:ext cx="1223640" cy="1025280"/>
            <a:chOff x="5293080" y="2027520"/>
            <a:chExt cx="1223640" cy="1025280"/>
          </a:xfrm>
        </p:grpSpPr>
        <p:sp>
          <p:nvSpPr>
            <p:cNvPr id="230" name=""/>
            <p:cNvSpPr/>
            <p:nvPr/>
          </p:nvSpPr>
          <p:spPr>
            <a:xfrm>
              <a:off x="5293080" y="2178360"/>
              <a:ext cx="1223640" cy="699480"/>
            </a:xfrm>
            <a:prstGeom prst="parallelogram">
              <a:avLst>
                <a:gd name="adj" fmla="val 437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80560" y="252864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80560" y="2440800"/>
              <a:ext cx="26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42120" y="2528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42120" y="244080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42120" y="2528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42120" y="2528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54640" y="2528640"/>
              <a:ext cx="26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642280" y="2790720"/>
              <a:ext cx="8784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992200" y="2091240"/>
              <a:ext cx="871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079320" y="2703240"/>
              <a:ext cx="349200" cy="34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20520" y="2027520"/>
              <a:ext cx="262800" cy="37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05" y="8759"/>
                  </a:moveTo>
                  <a:arcTo wR="10800" hR="10800" stAng="-653496" swAng="6415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05" y="8759"/>
                  </a:moveTo>
                  <a:arcTo wR="10800" hR="10800" stAng="-653496" swAng="6415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859280" y="5055840"/>
            <a:ext cx="1943280" cy="914400"/>
            <a:chOff x="4859280" y="5055840"/>
            <a:chExt cx="1943280" cy="914400"/>
          </a:xfrm>
        </p:grpSpPr>
        <p:sp>
          <p:nvSpPr>
            <p:cNvPr id="243" name=""/>
            <p:cNvSpPr/>
            <p:nvPr/>
          </p:nvSpPr>
          <p:spPr>
            <a:xfrm>
              <a:off x="4859280" y="5056200"/>
              <a:ext cx="1943280" cy="914040"/>
            </a:xfrm>
            <a:prstGeom prst="parallelogram">
              <a:avLst>
                <a:gd name="adj" fmla="val 531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16840" y="5056200"/>
              <a:ext cx="10288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859280" y="5055840"/>
              <a:ext cx="19432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02360" y="574200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02360" y="574200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16840" y="5627880"/>
              <a:ext cx="11412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16760" y="5285160"/>
              <a:ext cx="11376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30880" y="5285160"/>
              <a:ext cx="11484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5430960" y="5169960"/>
              <a:ext cx="22824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6002640" y="5742000"/>
              <a:ext cx="22824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50920" y="115560"/>
            <a:ext cx="8642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а)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АВ=СД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900000" y="836640"/>
            <a:ext cx="3384720" cy="1871640"/>
          </a:xfrm>
          <a:prstGeom prst="parallelogram">
            <a:avLst>
              <a:gd name="adj" fmla="val 4521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57600" y="1221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)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435640" y="1268280"/>
                <a:ext cx="208908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СД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4500720" y="309456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219640" y="3213000"/>
                <a:ext cx="201780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О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ОС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685800" y="278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49440" y="476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42160" y="40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85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8160" y="270828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15:04:13Z</dcterms:created>
  <dc:creator>User</dc:creator>
  <dc:description/>
  <dc:language>en-US</dc:language>
  <cp:lastModifiedBy>AlexVera</cp:lastModifiedBy>
  <dcterms:modified xsi:type="dcterms:W3CDTF">2014-11-16T06:28:32Z</dcterms:modified>
  <cp:revision>31</cp:revision>
  <dc:subject/>
  <dc:title>Слайд 1</dc:title>
</cp:coreProperties>
</file>