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29D-BDCC-4D02-8D0D-3FB39308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839-9990-48AD-9632-5E7739C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69A-3841-44F2-B8E1-D2D1CB2B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6ED-4561-4851-9D7C-4BF3F1D5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8455-7018-4864-A00D-0D544B5E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F02-6167-49B8-BF33-CCEA65CB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A9D7-205A-493D-A326-A8E40A5B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0A97-D7A2-4DB6-A61C-7234913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FCB-162C-4E03-9BC3-7BC9F204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018B-67BF-48E7-B915-37B11E92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2B67-B65D-41CC-97BA-79DC1779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F9E-29AA-4F89-B632-68647310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0F8D-12C3-499F-8230-06236BE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B7BC-77FE-4DD0-81E1-30C6691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51F5-E4FA-4B83-9D3C-747F7C1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EA4-DF43-4F1E-A282-C70D3688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BAD7-E89A-4C99-8DF0-343608C6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26E-A376-43F4-9AC4-4C9D2EEC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E4F-CE4A-4F1A-A9CE-2BA3409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41D-92BB-425E-A490-BFFDC2C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575-74F8-4562-ACF5-6A011F06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3E8-98A5-4D9C-B569-8EE0C187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9D6-A309-4C47-84A8-0425F270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2A7-AD84-44B1-B9DB-C8804B96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349-E094-4A79-95BF-CCEB90B50E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1A9B-D78A-42AB-A252-7E5A391BEC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77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метрия 8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Признаки параллелограм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 Токмаклинской ООШ                                     Филиппова В.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983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17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42920" y="220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840" y="1989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9242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4437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7760" y="2852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81640" y="450792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44640"/>
            <a:ext cx="4067280" cy="2952720"/>
          </a:xfrm>
          <a:prstGeom prst="parallelogram">
            <a:avLst>
              <a:gd name="adj" fmla="val 344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80" y="479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3640" y="155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5912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53720" y="4869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0" y="1844640"/>
            <a:ext cx="406728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1844640"/>
            <a:ext cx="201636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1424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2635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2781360"/>
                <a:ext cx="1584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732720" y="43185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308720" y="4581360"/>
                <a:ext cx="13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209480" y="365652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1989000"/>
            <a:ext cx="685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32360" y="1988640"/>
            <a:ext cx="80172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67880" y="3141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4000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8436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7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При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390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276640"/>
            <a:ext cx="4608720" cy="3382920"/>
          </a:xfrm>
          <a:prstGeom prst="parallelogram">
            <a:avLst>
              <a:gd name="adj" fmla="val 34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2764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2205000"/>
            <a:ext cx="2448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748720" y="17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6520" y="5589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425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7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04000" y="227556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10647600">
            <a:off x="7598880" y="5074560"/>
            <a:ext cx="8625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980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488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50760" y="2013120"/>
            <a:ext cx="25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5960" y="1197000"/>
            <a:ext cx="87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Если в четырехугольнике две стороны равны и параллель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 этот  четырехугольник – параллелограм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6200" y="213372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В=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оказа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6360" y="1990800"/>
            <a:ext cx="2880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652000" y="191556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36000" y="522936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451640" y="5300640"/>
            <a:ext cx="577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8360" y="1828440"/>
            <a:ext cx="32335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256360" y="1989000"/>
            <a:ext cx="3887640" cy="3313080"/>
          </a:xfrm>
          <a:prstGeom prst="parallelogram">
            <a:avLst>
              <a:gd name="adj" fmla="val 29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1989000"/>
            <a:ext cx="194472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09080" y="2491560"/>
            <a:ext cx="10058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2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1256000">
            <a:off x="7801200" y="4608720"/>
            <a:ext cx="86328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4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1773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05440" y="5373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5844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5852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43200" y="812880"/>
            <a:ext cx="98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Если в четырехугольнике противоположные стороны попарно ра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то этот четырехугольник 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6200" y="1870200"/>
            <a:ext cx="426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С=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4797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2133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99640" y="184392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01080" y="16995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596360" y="486900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740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319640" y="1989000"/>
            <a:ext cx="4824360" cy="3961080"/>
          </a:xfrm>
          <a:prstGeom prst="parallelogram">
            <a:avLst>
              <a:gd name="adj" fmla="val 3044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56000" y="1989000"/>
            <a:ext cx="478800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1989000"/>
            <a:ext cx="237636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21064800">
            <a:off x="7685280" y="5196600"/>
            <a:ext cx="80856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2951600">
            <a:off x="4637160" y="1559160"/>
            <a:ext cx="1152000" cy="8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71" y="3738"/>
                </a:moveTo>
                <a:arcTo wR="10800" hR="10800" stAng="-2450251" swAng="2450251"/>
                <a:lnTo>
                  <a:pt x="10800" y="10800"/>
                </a:lnTo>
                <a:close/>
              </a:path>
              <a:path fill="none" w="21600" h="21600">
                <a:moveTo>
                  <a:pt x="18971" y="3738"/>
                </a:moveTo>
                <a:arcTo wR="10800" hR="10800" stAng="-2450251" swAng="2450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3357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1700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0920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8720" y="5877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252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852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8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53272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692280"/>
            <a:ext cx="82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Если в четырехугольнике диагонали пересекаются и т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сечения делятся пополам, то этот четырехугольни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" y="1965240"/>
            <a:ext cx="4547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С и ВД – диагон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А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О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3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знаки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773360"/>
            <a:ext cx="27144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 СД  и ВС|| С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2781360"/>
            <a:ext cx="266400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СД  и АВ= С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3860640"/>
            <a:ext cx="251928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=СД ,АД=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5013360"/>
            <a:ext cx="25905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=ОС,ВО=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236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1844640"/>
            <a:ext cx="2808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852640"/>
            <a:ext cx="352908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933720"/>
            <a:ext cx="3024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508464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 домашней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ение устных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лож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доказать, что в параллелограмме противоположные стороны равны и углы равны .(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войство 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доказать ,что  диагонали параллелограмма точкой пересечения делятся пополам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 свойство 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349360"/>
            <a:ext cx="3168720" cy="1366920"/>
          </a:xfrm>
          <a:prstGeom prst="parallelogram">
            <a:avLst>
              <a:gd name="adj" fmla="val 579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92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35640" y="4869000"/>
                <a:ext cx="936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51640" y="314172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989000"/>
            <a:ext cx="3816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, ВС  ||  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= СД , В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О = ОС     ,ВО=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16360" y="314172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24360" y="3141720"/>
                <a:ext cx="107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573360"/>
                <a:ext cx="18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23160" y="378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528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78560" y="1989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98080" y="3716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620640"/>
            <a:ext cx="381492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7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413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80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9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580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00" y="18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9280" y="15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7280" y="2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08200" y="2924280"/>
            <a:ext cx="3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300720" y="981000"/>
                <a:ext cx="1871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85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ли четырехугольник АВСД – параллелограмм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 Докажите ,что четырехугольник АВСД – параллелограм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30440" y="2141280"/>
            <a:ext cx="4993560" cy="2079000"/>
            <a:chOff x="3430440" y="2141280"/>
            <a:chExt cx="4993560" cy="2079000"/>
          </a:xfrm>
        </p:grpSpPr>
        <p:sp>
          <p:nvSpPr>
            <p:cNvPr id="192" name=""/>
            <p:cNvSpPr/>
            <p:nvPr/>
          </p:nvSpPr>
          <p:spPr>
            <a:xfrm>
              <a:off x="3955680" y="2141280"/>
              <a:ext cx="1051560" cy="14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4400" y="2326680"/>
              <a:ext cx="1051920" cy="14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0440" y="2698200"/>
              <a:ext cx="39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5680" y="3441240"/>
              <a:ext cx="44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2080" y="2720880"/>
              <a:ext cx="7891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4000" y="3060360"/>
              <a:ext cx="787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0920" y="3060360"/>
              <a:ext cx="789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4160" y="3478680"/>
              <a:ext cx="789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3720" y="3665160"/>
              <a:ext cx="787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564000" y="2133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016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2276640"/>
                <a:ext cx="3085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Является ли четырёхугольник АВСД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ллелограм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11640" y="2349360"/>
            <a:ext cx="4824360" cy="2386080"/>
            <a:chOff x="4211640" y="2349360"/>
            <a:chExt cx="4824360" cy="2386080"/>
          </a:xfrm>
        </p:grpSpPr>
        <p:sp>
          <p:nvSpPr>
            <p:cNvPr id="207" name=""/>
            <p:cNvSpPr txBox="1"/>
            <p:nvPr/>
          </p:nvSpPr>
          <p:spPr>
            <a:xfrm>
              <a:off x="4211640" y="2349360"/>
              <a:ext cx="4824360" cy="238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4040" y="2349360"/>
              <a:ext cx="0" cy="20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61160" y="2559600"/>
              <a:ext cx="0" cy="18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3560" y="2977560"/>
              <a:ext cx="314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3080" y="4025880"/>
              <a:ext cx="272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1640" y="3058560"/>
              <a:ext cx="6282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1280" y="3687480"/>
              <a:ext cx="41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9360" y="3606120"/>
              <a:ext cx="4190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8400" y="3606120"/>
              <a:ext cx="6296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1640" y="2349360"/>
              <a:ext cx="62964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7440" y="2349360"/>
              <a:ext cx="419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640" y="4144320"/>
              <a:ext cx="629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7560" y="4146120"/>
              <a:ext cx="63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84360" y="1989000"/>
                <a:ext cx="31255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6360" y="4221000"/>
                <a:ext cx="20876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≠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864960" y="2551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1080" y="205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14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89000"/>
          <a:ext cx="8893080" cy="5251320"/>
        </p:xfrm>
        <a:graphic>
          <a:graphicData uri="http://schemas.openxmlformats.org/drawingml/2006/table">
            <a:tbl>
              <a:tblPr/>
              <a:tblGrid>
                <a:gridCol w="1877760"/>
                <a:gridCol w="2724480"/>
                <a:gridCol w="2334960"/>
                <a:gridCol w="19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фигу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ой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-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ырехугольнику которого противополож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ые  стороны попар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ь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ивополож-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роны и углы рав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Диагонали точ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чения деля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ол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Если в четырё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ольнике две 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параллельны 2) Если в четы- рёхугольнике противополож-ные сторо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арно рав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Если четырех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гольнике диагона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каются и точкой пересече-ния делятся попол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2924280"/>
            <a:ext cx="1439640" cy="1152360"/>
          </a:xfrm>
          <a:prstGeom prst="parallelogram">
            <a:avLst>
              <a:gd name="adj" fmla="val 312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924280"/>
            <a:ext cx="718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292392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93080" y="2027520"/>
            <a:ext cx="1223640" cy="1025280"/>
            <a:chOff x="5293080" y="2027520"/>
            <a:chExt cx="1223640" cy="1025280"/>
          </a:xfrm>
        </p:grpSpPr>
        <p:sp>
          <p:nvSpPr>
            <p:cNvPr id="230" name=""/>
            <p:cNvSpPr/>
            <p:nvPr/>
          </p:nvSpPr>
          <p:spPr>
            <a:xfrm>
              <a:off x="5293080" y="2178360"/>
              <a:ext cx="1223640" cy="699480"/>
            </a:xfrm>
            <a:prstGeom prst="parallelogram">
              <a:avLst>
                <a:gd name="adj" fmla="val 437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560" y="252864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0560" y="24408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2120" y="24408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54640" y="2528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642280" y="2790720"/>
              <a:ext cx="8784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92200" y="2091240"/>
              <a:ext cx="871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079320" y="2703240"/>
              <a:ext cx="34920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0520" y="2027520"/>
              <a:ext cx="262800" cy="3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05" y="8759"/>
                  </a:moveTo>
                  <a:arcTo wR="10800" hR="10800" stAng="-653496" swAng="6415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05" y="8759"/>
                  </a:moveTo>
                  <a:arcTo wR="10800" hR="10800" stAng="-653496" swAng="6415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59280" y="5055840"/>
            <a:ext cx="1943280" cy="914400"/>
            <a:chOff x="4859280" y="5055840"/>
            <a:chExt cx="1943280" cy="914400"/>
          </a:xfrm>
        </p:grpSpPr>
        <p:sp>
          <p:nvSpPr>
            <p:cNvPr id="243" name=""/>
            <p:cNvSpPr/>
            <p:nvPr/>
          </p:nvSpPr>
          <p:spPr>
            <a:xfrm>
              <a:off x="4859280" y="5056200"/>
              <a:ext cx="1943280" cy="914040"/>
            </a:xfrm>
            <a:prstGeom prst="parallelogram">
              <a:avLst>
                <a:gd name="adj" fmla="val 531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6840" y="5056200"/>
              <a:ext cx="1028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859280" y="5055840"/>
              <a:ext cx="19432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16840" y="562788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6760" y="5285160"/>
              <a:ext cx="113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0880" y="5285160"/>
              <a:ext cx="114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430960" y="5169960"/>
              <a:ext cx="2282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02640" y="574200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АВ=СД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836640"/>
            <a:ext cx="3384720" cy="1871640"/>
          </a:xfrm>
          <a:prstGeom prst="parallelogram">
            <a:avLst>
              <a:gd name="adj" fmla="val 452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1221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1268280"/>
                <a:ext cx="20890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500720" y="3094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219640" y="3213000"/>
                <a:ext cx="2017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8580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7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2160" y="40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8160" y="2708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5:04:13Z</dcterms:created>
  <dc:creator>User</dc:creator>
  <dc:description/>
  <dc:language>en-US</dc:language>
  <cp:lastModifiedBy>AlexVera</cp:lastModifiedBy>
  <dcterms:modified xsi:type="dcterms:W3CDTF">2014-11-16T06:28:32Z</dcterms:modified>
  <cp:revision>31</cp:revision>
  <dc:subject/>
  <dc:title>Слайд 1</dc:title>
</cp:coreProperties>
</file>